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png" ContentType="image/png"/>
  <Override PartName="/ppt/media/image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49DD3-7F81-4E5C-84CC-34E3B2A58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D5E91-2C46-48B9-98AC-B79496BED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F67FE-B0C4-47B9-9824-0BC5FB911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0A046-22C1-4D4A-8D93-89703CDCF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4E6E6-748C-4C62-83B2-E583B8356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E21BC-61F2-4BE6-9E16-FC13C3135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39BBE-A76F-43E2-864D-4BA11AFF1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5E1B8-CE3B-4B32-BBCF-8E5B82FA3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98E8C-6731-48BF-A8D0-D81ED2A7D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322BF-56A4-4B3E-B364-BD6C7B64A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B9D67-AF2E-4A6A-A964-8394569E3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131E8-6098-4D6F-AC26-4D6E4B0CF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378080" indent="-46836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827360" indent="-43812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297160" indent="-46836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CCC66-9E89-4FAF-BB62-09107D3A5457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E910E-21E6-4041-ACBC-0E67640A491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Reviewer0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" name="" descr=""/>
          <p:cNvPicPr/>
          <p:nvPr/>
        </p:nvPicPr>
        <p:blipFill>
          <a:blip r:embed="rId2"/>
          <a:stretch/>
        </p:blipFill>
        <p:spPr>
          <a:xfrm>
            <a:off x="8123400" y="0"/>
            <a:ext cx="1020600" cy="1463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5640" y="1483920"/>
            <a:ext cx="75708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mbria"/>
              </a:rPr>
              <a:t>Global Drug Facility:</a:t>
            </a:r>
            <a:r>
              <a:rPr b="0" lang="en-US" sz="3600" spc="-1" strike="noStrike">
                <a:solidFill>
                  <a:srgbClr val="000000"/>
                </a:solidFill>
                <a:latin typeface="Cambria"/>
              </a:rPr>
              <a:t>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mbria"/>
              </a:rPr>
              <a:t>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mbria"/>
              </a:rPr>
              <a:t>Two Years after Berli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mbria"/>
              </a:rPr>
              <a:t>Progress, Challenges, Opportuni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68000" y="5013360"/>
            <a:ext cx="5040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Thomas Moore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4698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Geneva, 06 November 2009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7524720" y="4869000"/>
          <a:ext cx="804960" cy="109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24720" y="4869000"/>
                    <a:ext cx="804960" cy="109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324000" y="5084640"/>
            <a:ext cx="838080" cy="8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DF Value of Ord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179280" y="1735200"/>
          <a:ext cx="8964720" cy="48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735200"/>
                    <a:ext cx="8964720" cy="48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26560" y="659880"/>
            <a:ext cx="765684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sults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(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987640" y="1773360"/>
            <a:ext cx="5977080" cy="5084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DF Respo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Flow of dru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mbria"/>
              </a:rPr>
              <a:t>GDF/UNITAID established stockpile for 800 patients now ramping up to 5,800 pati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Stockpile used fo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8080" indent="-468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replacement of drugs when a manufacturer could not deliver on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8080" indent="-46836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stock out risk in coun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8080" indent="-46836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small country order or when only a small quantity was needed to complete an or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8080" indent="-46836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to speed up delivery to meet urgent order demands and emergenci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Cambria"/>
              </a:rPr>
              <a:t>(order lead time is about 30 days so fa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0920" y="1844640"/>
            <a:ext cx="2509920" cy="501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2440" indent="-29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Cambria"/>
              </a:rPr>
              <a:t>CB challe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2440" indent="-29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2440" indent="-298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Cambria"/>
              </a:rPr>
              <a:t>Short term paralysis in flow of dru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2440" indent="-29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50920" y="620280"/>
            <a:ext cx="765648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sults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(6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94920" y="1916280"/>
            <a:ext cx="2701800" cy="46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02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Cambria"/>
              </a:rPr>
              <a:t>CB challenge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02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302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Cambria"/>
              </a:rPr>
              <a:t>High level negotiation with WHO on staffing 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302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Cambria"/>
              </a:rPr>
              <a:t>and prequalification bottleneck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302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cc00"/>
                </a:solidFill>
                <a:latin typeface="Cambr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302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2" name=""/>
          <p:cNvSpPr/>
          <p:nvPr/>
        </p:nvSpPr>
        <p:spPr>
          <a:xfrm>
            <a:off x="3492360" y="1916280"/>
            <a:ext cx="5327640" cy="46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mbria"/>
              </a:rPr>
              <a:t>GDF Respo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mbria"/>
              </a:rPr>
              <a:t>GDF staffing has increased by 58%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mbria"/>
              </a:rPr>
              <a:t>MDR-TB current staff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1 MDR-TB senior team le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1 MDR-TB procurement offic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1 drug registration and 1 drug quality officer (for both MDR-TB and 1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ambria"/>
              </a:rPr>
              <a:t>st</a:t>
            </a: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 line dru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50920" y="620280"/>
            <a:ext cx="765648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sults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(7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492360" y="1989000"/>
            <a:ext cx="53276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mbria"/>
              </a:rPr>
              <a:t>GDF Respo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mbria"/>
              </a:rPr>
              <a:t>More suppliers prequalif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MDR-TB products (8 supplier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XDR-TB products (3 supplie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39640" y="1989000"/>
            <a:ext cx="273708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2440" indent="-29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Cambria"/>
              </a:rPr>
              <a:t>CB challe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2440" indent="-29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2440" indent="-298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Cambria"/>
              </a:rPr>
              <a:t>Short term paralysis in flow of dru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2440" indent="-29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50920" y="692280"/>
            <a:ext cx="7656480" cy="85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sults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(7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95280" y="2060280"/>
            <a:ext cx="2881440" cy="403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024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00"/>
                </a:solidFill>
                <a:uFillTx/>
                <a:latin typeface="Cambria"/>
              </a:rPr>
              <a:t>CB challenge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 marL="302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0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Cambria"/>
              </a:rPr>
              <a:t>Barriers, costs of entry, uncertain returns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302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cc00"/>
                </a:solidFill>
                <a:latin typeface="Cambri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02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"/>
          <p:cNvSpPr/>
          <p:nvPr/>
        </p:nvSpPr>
        <p:spPr>
          <a:xfrm>
            <a:off x="3492360" y="2060640"/>
            <a:ext cx="5183280" cy="403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mbria"/>
              </a:rPr>
              <a:t>GDF Respo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mbria"/>
              </a:rPr>
              <a:t>Drug foreca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Clinton Foundation with GDF/GLC developed 1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ambria"/>
              </a:rPr>
              <a:t>st</a:t>
            </a: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 phase forecasting too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mbria"/>
              </a:rPr>
              <a:t>GLC responsible for forecasting and provides to GDF for order plac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50920" y="620280"/>
            <a:ext cx="765648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sults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(8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492360" y="1989000"/>
            <a:ext cx="5327640" cy="4392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mbria"/>
              </a:rPr>
              <a:t>GDF Respo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mbria"/>
              </a:rPr>
              <a:t>Drug Pricing</a:t>
            </a:r>
            <a:r>
              <a:rPr b="0" lang="en-GB" sz="40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Price negotiation task force established (GDF/GL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Interviewing recently prequalified suppliers to understand batch size, reaction time for an ord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Will be completed March 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95280" y="1989000"/>
            <a:ext cx="2881440" cy="4392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024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00"/>
                </a:solidFill>
                <a:uFillTx/>
                <a:latin typeface="Cambria"/>
              </a:rPr>
              <a:t>CB challenge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 marL="302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0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Cambria"/>
              </a:rPr>
              <a:t>Barriers, costs of entry, uncertain returns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302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cc00"/>
                </a:solidFill>
                <a:latin typeface="Cambri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02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hallenges or Work in Progress</a:t>
            </a:r>
            <a:r>
              <a:rPr b="0" lang="en-GB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mbria"/>
              </a:rPr>
              <a:t>Lead time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mbria"/>
              </a:rPr>
              <a:t>Overall lead time is still problematic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mbria"/>
              </a:rPr>
              <a:t>Needs much work by all partners since lead time is partially outside the responsibility of GDF </a:t>
            </a:r>
            <a:r>
              <a:rPr b="1" lang="en-GB" sz="2000" spc="-1" strike="noStrike">
                <a:solidFill>
                  <a:srgbClr val="000000"/>
                </a:solidFill>
                <a:latin typeface="Cambria"/>
              </a:rPr>
              <a:t>(example: lag in approvals and poor quantification of drug needs from country TB programs)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469800" indent="-4698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mbria"/>
              </a:rPr>
              <a:t>Staffing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mbria"/>
              </a:rPr>
              <a:t>In 2010 GDF will recruit two more procurement officers and two administrative personnel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hallenges / Work in Progress</a:t>
            </a:r>
            <a:r>
              <a:rPr b="0" lang="en-GB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mbria"/>
              </a:rPr>
              <a:t>Forecasting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mbria"/>
              </a:rPr>
              <a:t>From country TB programs need much more work on: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2" marL="1378080" indent="-468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mbria"/>
              </a:rPr>
              <a:t>Real patient numbers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2" marL="1378080" indent="-468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mbria"/>
              </a:rPr>
              <a:t>Enrolment patient numbers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2" marL="1378080" indent="-468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mbria"/>
              </a:rPr>
              <a:t>Update forecasting tool with these data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mbria"/>
              </a:rPr>
              <a:t>Number of qualified suppliers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mbria"/>
              </a:rPr>
              <a:t>Need to repeat the Expression of Interest tender to encourage more suppliers in 2010 (process takes about 10 months)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hallenges / Work in Progress</a:t>
            </a:r>
            <a:r>
              <a:rPr b="0" lang="en-GB" sz="4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mbria"/>
              </a:rPr>
              <a:t>Developed Order Management System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Order data already entered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Some data validation still needed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Can generate lead time, costing reports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469800" indent="-4698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mbria"/>
              </a:rPr>
              <a:t>Supply of drugs for non-GLC projects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As appropriate, work with GLC, WHO-prequalification, national regulatory authorities to identify potential suppliers based on a quality risk analysis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9528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mbria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mbria"/>
              </a:rPr>
              <a:t>2007 Berlin Core Problems</a:t>
            </a:r>
            <a:r>
              <a:rPr b="0" lang="en-GB" sz="4400" spc="-1" strike="noStrike">
                <a:solidFill>
                  <a:srgbClr val="008000"/>
                </a:solidFill>
                <a:latin typeface="Cambria"/>
              </a:rPr>
              <a:t> *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8360" y="196200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mbria"/>
              </a:rPr>
              <a:t>Opaque MDR-TB drug marke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469800" indent="-469800">
              <a:spcBef>
                <a:spcPts val="159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mbria"/>
              </a:rPr>
              <a:t>Short term paralysis in flow of drugs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469800" indent="-469800">
              <a:spcBef>
                <a:spcPts val="159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mbria"/>
              </a:rPr>
              <a:t>Barriers, costs of entry, uncertain returns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469800" indent="-469800">
              <a:spcBef>
                <a:spcPts val="159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mbria"/>
              </a:rPr>
              <a:t>High level negotiation with WHO to resolve staffing and prequalification bottlenecks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Cambria"/>
              </a:rPr>
              <a:t>* Coordinating Board meeting, Berlin October 2007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andate of G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Increase access to high quality TB drugs 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Unique procurement mechanism: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Links demand for drugs to supply and monitoring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Outsources several services to partners on a competitive basis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Uses product packaging to simplify drug management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Links grants to TB programme performance 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95280" y="692280"/>
            <a:ext cx="7656480" cy="85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sults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1600" y="1860480"/>
            <a:ext cx="2798640" cy="423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Cambria"/>
              </a:rPr>
              <a:t>CB challenge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Cambria"/>
              </a:rPr>
              <a:t>Opaque MDR-TB drug market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0" name=""/>
          <p:cNvSpPr/>
          <p:nvPr/>
        </p:nvSpPr>
        <p:spPr>
          <a:xfrm>
            <a:off x="3780000" y="1844640"/>
            <a:ext cx="4968720" cy="4249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mbria"/>
              </a:rPr>
              <a:t>GDF Respo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Two regional supplier meetings to advocate for more suppl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Cambria"/>
              </a:rPr>
              <a:t>Mumbai 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Cambria"/>
              </a:rPr>
              <a:t>Rio de Janeiro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Sharing of forecasting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Price negotiation program with suppli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50920" y="549360"/>
            <a:ext cx="7656480" cy="85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sults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50920" y="1989000"/>
            <a:ext cx="27986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24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Cambria"/>
              </a:rPr>
              <a:t>CB challenge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824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82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Cambria"/>
              </a:rPr>
              <a:t>Short term paralysis in flow of drugs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824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3" name=""/>
          <p:cNvSpPr/>
          <p:nvPr/>
        </p:nvSpPr>
        <p:spPr>
          <a:xfrm>
            <a:off x="3492360" y="1989000"/>
            <a:ext cx="547236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64760" indent="-46476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DF Respo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4760" indent="-464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EOI tender process to bring more prequalified suppliers on boar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8560" indent="-431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2007 for MDR – 2 suppliers for all 11 produ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8560" indent="-431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8000"/>
                </a:solidFill>
                <a:latin typeface="Cambria"/>
              </a:rPr>
              <a:t>2009 for MDR – 8 suppliers for 11 products</a:t>
            </a:r>
            <a:r>
              <a:rPr b="0" lang="en-GB" sz="2400" spc="-1" strike="noStrike">
                <a:solidFill>
                  <a:srgbClr val="33cc33"/>
                </a:solidFill>
                <a:latin typeface="Cambr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8560" indent="-431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2007 for XDR  - 0 suppliers for 5 produc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8560" indent="-431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8000"/>
                </a:solidFill>
                <a:latin typeface="Cambria"/>
              </a:rPr>
              <a:t>2009 for XDR -  suppliers for 3 of 5 produ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4760" indent="-4647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4760" indent="-464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50920" y="692280"/>
            <a:ext cx="7656480" cy="85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sults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598920" y="2060640"/>
            <a:ext cx="5149800" cy="403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DF Respo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mbria"/>
              </a:rPr>
              <a:t>GDF/UNITAID/GF established the strategic revolving f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mbria"/>
              </a:rPr>
              <a:t>Enables a country to order while awaiting donor monies to arr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8000"/>
                </a:solidFill>
                <a:latin typeface="Cambria"/>
              </a:rPr>
              <a:t>(will be operational by December 200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39640" y="1989000"/>
            <a:ext cx="250992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2440" indent="-29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Cambria"/>
              </a:rPr>
              <a:t>CB challe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2440" indent="-29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2440" indent="-298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Cambria"/>
              </a:rPr>
              <a:t>Short term paralysis in flow of dru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2440" indent="-29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0920" y="620280"/>
            <a:ext cx="765648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sults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203640" y="1773360"/>
            <a:ext cx="5761080" cy="482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DF Respo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mbria"/>
              </a:rPr>
              <a:t>Lead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mbria"/>
              </a:rPr>
              <a:t>GDF responsibility: time from order placed with supplier until delivery to country (not responsible for lag in approvals by TB programs, etc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mbria"/>
              </a:rPr>
              <a:t>In 2009 to 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8080" indent="-468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mbria"/>
              </a:rPr>
              <a:t>95 orders were plac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8080" indent="-468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mbria"/>
              </a:rPr>
              <a:t>67 orders are deli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8080" indent="-468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mbria"/>
              </a:rPr>
              <a:t>24 orders still on track for Nov/De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8080" indent="-468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mbria"/>
              </a:rPr>
              <a:t>4 orders on hold because of country problems (eg. no money for drugs, no permission to import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50920" y="1773000"/>
            <a:ext cx="2798640" cy="482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24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Cambria"/>
              </a:rPr>
              <a:t>CB challenge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824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82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Cambria"/>
              </a:rPr>
              <a:t>Short term paralysis in flow of drugs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824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24000" y="533160"/>
            <a:ext cx="836280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Possible Lead Times Bottlenec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Cambria"/>
              </a:rPr>
              <a:t>Before country signs order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ambria"/>
              </a:rPr>
              <a:t>Responsibility of GLC and partners to forecast patients and rate of patient enrolment and provide to GDF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ambria"/>
              </a:rPr>
              <a:t>MoH protocol to sign GDF order is often long process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Cambria"/>
              </a:rPr>
              <a:t>After country signs order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ambria"/>
              </a:rPr>
              <a:t>Responsibility of GDF and its agents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ambria"/>
              </a:rPr>
              <a:t>GDF/procurement agent places order to suppliers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ambria"/>
              </a:rPr>
              <a:t>Suppliers order materials to manufacture medicine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ambria"/>
              </a:rPr>
              <a:t>An independent lab tests product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ambria"/>
              </a:rPr>
              <a:t>Product shipped to country program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Cambria"/>
              </a:rPr>
              <a:t>Drug arrives in country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ambria"/>
              </a:rPr>
              <a:t>Responsibility of country to clear customs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ambria"/>
              </a:rPr>
              <a:t>Import fees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ambria"/>
              </a:rPr>
              <a:t>Drug Registration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50920" y="692280"/>
            <a:ext cx="822960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DF Performance Indicato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1700280"/>
            <a:ext cx="9144000" cy="49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7T12:29:53Z</dcterms:created>
  <dc:creator>tmoore</dc:creator>
  <dc:description/>
  <dc:language>en-US</dc:language>
  <cp:lastModifiedBy>maggir</cp:lastModifiedBy>
  <dcterms:modified xsi:type="dcterms:W3CDTF">2009-11-05T15:50:01Z</dcterms:modified>
  <cp:revision>180</cp:revision>
  <dc:subject/>
  <dc:title>GDF progress challenges for Coord board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