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2740-7025-4697-9745-3CA198C12F5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B42C23BA-6A34-484A-9F4D-E15C324C37C7}" type="datetime3">
              <a:rPr b="1" lang="en-GB" sz="1400" spc="-1" strike="noStrike">
                <a:solidFill>
                  <a:srgbClr val="96ccee"/>
                </a:solidFill>
                <a:latin typeface="Arial Narrow"/>
                <a:ea typeface="Arial"/>
              </a:rPr>
              <a:t>29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870C907-D5F1-451B-AD28-8987C188C61D}"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