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A672-12DB-40F6-9FCB-ABCD85B499F6}"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13A21927-291F-4A04-9B82-C6412C472392}" type="datetime3">
              <a:rPr b="1" lang="en-GB" sz="1400" spc="-1" strike="noStrike">
                <a:solidFill>
                  <a:srgbClr val="96ccee"/>
                </a:solidFill>
                <a:latin typeface="Arial Narrow"/>
                <a:ea typeface="Arial"/>
              </a:rPr>
              <a:t>29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A2B1EC7-D7B6-42F2-9ACB-9698A8EDB12C}"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