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8835-47A9-4B73-BDA3-2B360D9AC7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n at maximum DOTS coverage, case detection seems to remain below the 70% target level in most settings (Dye et al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 we need innovative approaches to case det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WG is a mechanism to do whatever it needs to be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to ensure we make good 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2nd ad hoc Committee produced some recommendations for action, the DEWG is a tool to facilitate/implement som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78A2-6B8A-44F9-AD4A-7EB70982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34D-F856-406D-A2F6-5EC87060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32B-C4BA-4625-A56F-105F012B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DE7-DF8F-4F3A-895D-25B51105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869C-1524-4F93-A169-D8CCB3D9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663-53FB-4503-A903-CF7C0D28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6B5C-4320-4E95-B3E8-0690C2F5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60A-75C8-4096-82CE-8A6CDF43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65F7-5E36-467E-A02F-4F6B28DB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46A3-ADA0-4BAB-A353-6B414E7D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8DE6-DBAC-4BA1-9943-81FF9C8C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1198-31A9-46BE-BF18-AD5D2024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D51D-A428-4CA3-B9FD-0E0AE7E4D39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pdate of the Global Plan to Stop TB 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P Coordinating Board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va, 5 - 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istian Lienha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83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 (con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w Tools (drugs, vaccines and diagnost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oing on through communications within WGs – led by chairs and c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/input from health econom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orkshops to advance (Sept '09) and finalise (Jan '10) revis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asic Research and 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define the suitable research agenda and develop appropriate cost estim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-up (March – May '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the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05, and to be sustained or exceeded 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least 70% of people with infectious TB will be diagnosed (i.e. under the DOTS strategy) and at least 85% of those diagnosed will be c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burden of TB disease (disease prevalence and deaths) reduced by 50% relative to 1990 levels, i.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prevalence to 155 or fewer per 100 000 popu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deaths to 14 or fewer per 100 000 per year b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et the MDGs relevant to tuberculosis (goal 6, target 8)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to have halted and begun to reverse the incidence [of TB]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 of the Glob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mote wider and wiser use of existing strategies to interrupt TB transmiss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 DOTS implementation to achieve the global targets for TB control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availability, affordability and quality of anti-TB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event and manage multidrug-resistant TB, and to reduce the impact of HIV related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ccelerate the elimination of TB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research and development for new TB diagnostic tests, drugs and vacc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adoption of new and improved tools by ensuring appropriate use, access and afford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57280" y="2276640"/>
          <a:ext cx="279072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276640"/>
                    <a:ext cx="2790720" cy="39463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rcRect l="10960" t="1141" r="3272" b="0"/>
          <a:stretch/>
        </p:blipFill>
        <p:spPr>
          <a:xfrm>
            <a:off x="5560920" y="2276640"/>
            <a:ext cx="2897280" cy="3830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11240" y="1341360"/>
            <a:ext cx="36687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New challenges requ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Stop TB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1341360"/>
            <a:ext cx="40323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Global Plan 2006-20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defines direction and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0280"/>
            <a:ext cx="583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The vision tod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492280"/>
            <a:ext cx="194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2006-2015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56 billion US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ecessary to  control TB in endem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9 billion US$ necessary to develop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needs by Working Group area of responsibility,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52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Plan targets –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7432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57200" y="1600200"/>
          <a:ext cx="8229600" cy="495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ccines in phase 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andidates in phase II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2 vaccines in "proof of concept"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hase II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hase III trials carried ou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safe, effective vaccine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new compounds in the 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new drugs registered; treatment shortened to 3-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new drugs; treatment shortened to 1-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ulture for case detection and DST in demonstratio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care, rapid culture, improved microscopy, phage detection, simpl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ve test for LT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Global Plan Update is to look cri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objectives set at start and, on the basi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 so far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vise the objectives, ensuring feasibility and achiev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utline clearly the main activities to reach these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indicators to evaluate progr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targets to measure effectiven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dentify the costs of these activities, ensuring comparability between tools and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p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o ensure that achievable objectives are set, a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of constant evaluation of progress and funding is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 comparison with the Annual R&amp;D Funding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from TAG/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ew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Component of the GP was solely relying on the works to be carried out to develop new tools, i.e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w Diagnostics, Drugs and Vacc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uld take into account the specific aspects arising from research to be carried out within the areas of MDR-TB, TB/HIV and childhood T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research was considered only as part of the research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 research was imbedded in the implementation part with cost calculated at 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 frame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goal, objectives and proposed activities set in GP for new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al, objectives and activities based on progress 2006-2009, current status, major areas of work and related targets for 2010-201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ication of appropri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ndic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to measure activities and estimate co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revised age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with appropriate budget to impl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6:29:03Z</dcterms:created>
  <dc:creator>Christian Lienhardt</dc:creator>
  <dc:description/>
  <dc:language>en-US</dc:language>
  <cp:lastModifiedBy>Alan Esser</cp:lastModifiedBy>
  <dcterms:modified xsi:type="dcterms:W3CDTF">2009-11-06T10:14:28Z</dcterms:modified>
  <cp:revision>3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7045021</vt:r8>
  </property>
  <property fmtid="{D5CDD505-2E9C-101B-9397-08002B2CF9AE}" pid="3" name="_AuthorEmail">
    <vt:lpwstr>lienhardtc@who.int</vt:lpwstr>
  </property>
  <property fmtid="{D5CDD505-2E9C-101B-9397-08002B2CF9AE}" pid="4" name="_AuthorEmailDisplayName">
    <vt:lpwstr>Lienhardt, Christian</vt:lpwstr>
  </property>
  <property fmtid="{D5CDD505-2E9C-101B-9397-08002B2CF9AE}" pid="5" name="_EmailSubject">
    <vt:lpwstr>CB -- update of global 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