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8890-5FDC-4107-B282-072AFCDD58D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41BEB541-F1C8-42FA-8138-F65024F51222}" type="datetime3">
              <a:rPr b="1" lang="en-GB" sz="1400" spc="-1" strike="noStrike">
                <a:solidFill>
                  <a:srgbClr val="96ccee"/>
                </a:solidFill>
                <a:latin typeface="Arial Narrow"/>
                <a:ea typeface="Arial"/>
              </a:rPr>
              <a:t>29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AEAE996-B7D8-4AB0-9E8C-E72156C28E66}"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