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7241-9264-42D3-8016-151207A29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7D2ADDA-E498-430A-B563-4BC090147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provides a breakdown of the 32 recommended Rd 9 disease proposals.  This excludes the one instance where only the HSS request attached to a TB proposal was recommended and the 2 NSA recommended propos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provides a breakdown of the 32 recommended Rd 9 disease proposals.  This excludes the one instance where only the HSS request attached to a TB proposal was recommended and the 2 NSA recommended propos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provides a breakdown of the 32 recommended Rd 9 disease proposals.  This excludes the one instance where only the HSS request attached to a TB proposal was recommended and the 2 NSA recommended propos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-1809720" y="1200240"/>
            <a:ext cx="10590120" cy="79423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844560" y="345600"/>
            <a:ext cx="4781520" cy="30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every 6-12 month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87280" y="695160"/>
            <a:ext cx="4650120" cy="34880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rtion of TB grants from same start year with MDR-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eople on treatment for MDR-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51560" cy="34880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0200" y="4417920"/>
            <a:ext cx="561024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the Rounds 3s for Belarus and Serbia ends on 30/11/20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s are for all the grants in the 6 count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BEB8-4775-4D25-8C83-EE3CBD546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ccess rate of Health Systems Strengthening ‘parts’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50% (17 of 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NSA applicants submitted an HSS part but none were recommended for fund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7CF5-5A34-407D-AE44-138B9A1B7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8440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cess rates of the distinct HSS requests which were attached to the three diseases.  A slight decrease is evidenced for those requests attached to TB proposals from Round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68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96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40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68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96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4960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68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96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240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68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96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4960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968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696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240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968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696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4960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" name="AutoShape 3"/>
          <p:cNvCxnSpPr/>
          <p:nvPr/>
        </p:nvCxnSpPr>
        <p:spPr>
          <a:xfrm>
            <a:off x="8132760" y="914040"/>
            <a:ext cx="62100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2" name="Line 4"/>
          <p:cNvSpPr/>
          <p:nvPr/>
        </p:nvSpPr>
        <p:spPr>
          <a:xfrm flipV="1">
            <a:off x="324000" y="6308280"/>
            <a:ext cx="8424720" cy="73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" name="Picture 8" descr="multilanguage_banner"/>
          <p:cNvPicPr/>
          <p:nvPr/>
        </p:nvPicPr>
        <p:blipFill>
          <a:blip r:embed="rId2"/>
          <a:stretch/>
        </p:blipFill>
        <p:spPr>
          <a:xfrm>
            <a:off x="1332000" y="6485040"/>
            <a:ext cx="6335640" cy="372960"/>
          </a:xfrm>
          <a:prstGeom prst="rect">
            <a:avLst/>
          </a:prstGeom>
          <a:ln w="0">
            <a:noFill/>
          </a:ln>
        </p:spPr>
      </p:pic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"/>
          <p:cNvSpPr/>
          <p:nvPr/>
        </p:nvSpPr>
        <p:spPr>
          <a:xfrm>
            <a:off x="324000" y="6381720"/>
            <a:ext cx="85690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multilanguage_banner"/>
          <p:cNvPicPr/>
          <p:nvPr/>
        </p:nvPicPr>
        <p:blipFill>
          <a:blip r:embed="rId2"/>
          <a:stretch/>
        </p:blipFill>
        <p:spPr>
          <a:xfrm>
            <a:off x="826920" y="6485040"/>
            <a:ext cx="6336000" cy="372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3" name="AutoShape 3"/>
          <p:cNvCxnSpPr/>
          <p:nvPr/>
        </p:nvCxnSpPr>
        <p:spPr>
          <a:xfrm>
            <a:off x="8132760" y="914040"/>
            <a:ext cx="62100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84" name="Line 4"/>
          <p:cNvSpPr/>
          <p:nvPr/>
        </p:nvSpPr>
        <p:spPr>
          <a:xfrm flipV="1">
            <a:off x="324000" y="6308280"/>
            <a:ext cx="8424720" cy="73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multilanguage_banner"/>
          <p:cNvPicPr/>
          <p:nvPr/>
        </p:nvPicPr>
        <p:blipFill>
          <a:blip r:embed="rId2"/>
          <a:stretch/>
        </p:blipFill>
        <p:spPr>
          <a:xfrm>
            <a:off x="1332000" y="6485040"/>
            <a:ext cx="6335640" cy="372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42472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The Global Fund Update on Round 9 </a:t>
            </a: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and </a:t>
            </a: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Key Issues for Consideratio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STOP TB Coordinating Board Meeting </a:t>
            </a: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da-DK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 November 2009, Geneva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3" name="Picture 16" descr=""/>
          <p:cNvPicPr/>
          <p:nvPr/>
        </p:nvPicPr>
        <p:blipFill>
          <a:blip r:embed="rId1"/>
          <a:stretch/>
        </p:blipFill>
        <p:spPr>
          <a:xfrm>
            <a:off x="144360" y="106200"/>
            <a:ext cx="3564000" cy="11653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-189000" y="5538960"/>
            <a:ext cx="486576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fessor Rifat At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or, Strategy, Performance and Evaluation Clus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Global Fu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TB funding recommendations: by regio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403280" y="1271520"/>
            <a:ext cx="662472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und 9 TB 2-year upper ceilings: by reg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488160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und 9 TB 5-year upper ceilings: by reg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195640" y="1700280"/>
            <a:ext cx="459396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TRP recommendations: TB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All HIV and tuberculosis proposals should address TB/HIV collaborative activiti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4832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Secretariat should clearly communicate the Board decision to applicants as part of Round 10 application materi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International guidelines be communicated to applicants; as well as the TRP recommendation that both HIV and tuberculosis proposals should address TB/HIV collaborative activities unless compelling reasons exist not to do so – even if no funding is sought from the Global Fund for these activ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TRP recommendations: TB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noted that Round 9 proposals did not always clearly elaborate proposed strategies, or their subsequent monitoring and evaluation, for Advocacy, Communication and Social Mobilization (ACSM); Practical Approach to Lung Health (PAL); and Infection control (IC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noted that the rationale for, and demonstration of cost-effectiveness of, tuberculosis prevalence surveys in proposals is sometimes weak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832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recommends that partners and the Secretariat provide clear guidance to applicants in these a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recommends to partners and the Secretariat to provide clear guidance to applic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ooking ahead: achievements and challenge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6000" y="77400"/>
            <a:ext cx="872496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lobal Fund &amp; TB Control: US$2.5 billion approved in 105 countries by August 2009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8558280" y="668340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G/310308/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2901960" y="6021360"/>
            <a:ext cx="3254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HIV/TB gra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CountriesWithTBByYear2007"/>
          <p:cNvPicPr/>
          <p:nvPr/>
        </p:nvPicPr>
        <p:blipFill>
          <a:blip r:embed="rId1"/>
          <a:stretch/>
        </p:blipFill>
        <p:spPr>
          <a:xfrm>
            <a:off x="34920" y="1033560"/>
            <a:ext cx="9013680" cy="56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24000" y="20160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pproved Funding for Tuberculosis by Regio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8713800" cy="52927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3597840" y="464832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$350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712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umulative Funding by Region: Rounds 1-8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76360" y="1125360"/>
            <a:ext cx="8172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lobal Fund share in external (non-domestic) TB financing in high-burden countries*, 2002-2009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7" name="TextBox 6"/>
          <p:cNvSpPr/>
          <p:nvPr/>
        </p:nvSpPr>
        <p:spPr>
          <a:xfrm>
            <a:off x="428760" y="6000840"/>
            <a:ext cx="871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*Excluding South Afric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50920" y="1197000"/>
          <a:ext cx="8713800" cy="48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871380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and NSA Funding Recommendat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has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pper-ceiling amou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ed by the TRP for Round 9 and the First Learning Wave of National Strategy Applications (NSA) and AMF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Round 9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US $ 2.2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NSA FLW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US $ 434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Round 9 and NSA FLW recommended for funding: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US $ 2.6 bil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hase 1) and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US $ 7.2 (Lifetime budge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oard decision: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oard Meeting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8520" y="3357720"/>
            <a:ext cx="421020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142560"/>
            <a:ext cx="88200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.4 million new smear positive TB cases detected and treated by mid-2009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61" name="Picture 4" descr="DOTS-Mid2009"/>
          <p:cNvPicPr/>
          <p:nvPr/>
        </p:nvPicPr>
        <p:blipFill>
          <a:blip r:embed="rId1"/>
          <a:stretch/>
        </p:blipFill>
        <p:spPr>
          <a:xfrm>
            <a:off x="395280" y="1189080"/>
            <a:ext cx="8496360" cy="51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1920" y="115920"/>
            <a:ext cx="899172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3 million people reached with HIV/TB services by mid-2009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63" name="Picture 4" descr="HIV-TB-Mid2009"/>
          <p:cNvPicPr/>
          <p:nvPr/>
        </p:nvPicPr>
        <p:blipFill>
          <a:blip r:embed="rId1"/>
          <a:stretch/>
        </p:blipFill>
        <p:spPr>
          <a:xfrm>
            <a:off x="179280" y="836640"/>
            <a:ext cx="896472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5600" y="343080"/>
            <a:ext cx="8493120" cy="63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DR-TB control: number and proportion of countries with active TB with MDR-TB service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08000" y="1125360"/>
          <a:ext cx="8928000" cy="518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125360"/>
                    <a:ext cx="892800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pport to MDR-TB control: Patients enrolled on treatmen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68" name="Rectangle 2"/>
          <p:cNvGraphicFramePr/>
          <p:nvPr/>
        </p:nvGraphicFramePr>
        <p:xfrm>
          <a:off x="1116000" y="1504800"/>
          <a:ext cx="6335640" cy="473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Rectangl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504800"/>
                    <a:ext cx="6335640" cy="47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Text Box 3"/>
          <p:cNvSpPr/>
          <p:nvPr/>
        </p:nvSpPr>
        <p:spPr>
          <a:xfrm>
            <a:off x="5651640" y="4221000"/>
            <a:ext cx="32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udget for second-line TB drug is 12.2% of TB fund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pport to MDR-TB control in Europe and Central Asia: Patients enrolled on treatmen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72" name="Rectangle 2"/>
          <p:cNvGraphicFramePr/>
          <p:nvPr/>
        </p:nvGraphicFramePr>
        <p:xfrm>
          <a:off x="1332000" y="1197000"/>
          <a:ext cx="6049800" cy="529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3" name="Rectangl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197000"/>
                    <a:ext cx="6049800" cy="52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uropean Countries no longer eligible for funding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285840" y="1197000"/>
          <a:ext cx="5143320" cy="5040360"/>
        </p:xfrm>
        <a:graphic>
          <a:graphicData uri="http://schemas.openxmlformats.org/drawingml/2006/table">
            <a:tbl>
              <a:tblPr/>
              <a:tblGrid>
                <a:gridCol w="1714320"/>
                <a:gridCol w="1714680"/>
                <a:gridCol w="17143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TB gran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HIV gran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aru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lgar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ovo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enegro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man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b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: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gran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6" name="TextBox 5"/>
          <p:cNvSpPr/>
          <p:nvPr/>
        </p:nvSpPr>
        <p:spPr>
          <a:xfrm>
            <a:off x="5715000" y="1773360"/>
            <a:ext cx="3000240" cy="31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approve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0 millio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Committ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69 mill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Disburs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57 mill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hallenge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7640" y="1557000"/>
            <a:ext cx="889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optimal response in Africa and Europe: unlikely to reach MDG tar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ision of TB, MDRTB &amp; HIV epidemics in many settings with poor TB-HIV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ountries with high MDRTB not eligible for Global Fund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funding instrument to follow Global Fund inves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take of novel diagno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712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and NSA Funding Recommendat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 9 overall success rate: 53% (85 of 159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cludes HSS s4B/5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SA overall success rate: 71% (5 of 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new single country beneficiaries recommended: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Mexico 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urkmeni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- Number of proposals recommended and success rate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324000" y="1181160"/>
            <a:ext cx="8496000" cy="48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0" y="1197000"/>
            <a:ext cx="8964000" cy="5039640"/>
            <a:chOff x="0" y="1197000"/>
            <a:chExt cx="8964000" cy="5039640"/>
          </a:xfrm>
        </p:grpSpPr>
        <p:pic>
          <p:nvPicPr>
            <p:cNvPr id="143" name="Picture 6" descr=""/>
            <p:cNvPicPr/>
            <p:nvPr/>
          </p:nvPicPr>
          <p:blipFill>
            <a:blip r:embed="rId1"/>
            <a:stretch/>
          </p:blipFill>
          <p:spPr>
            <a:xfrm>
              <a:off x="355680" y="1908360"/>
              <a:ext cx="7873560" cy="432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4" name=""/>
            <p:cNvGrpSpPr/>
            <p:nvPr/>
          </p:nvGrpSpPr>
          <p:grpSpPr>
            <a:xfrm>
              <a:off x="0" y="1197000"/>
              <a:ext cx="8964000" cy="4986360"/>
              <a:chOff x="0" y="1197000"/>
              <a:chExt cx="8964000" cy="4986360"/>
            </a:xfrm>
          </p:grpSpPr>
          <p:sp>
            <p:nvSpPr>
              <p:cNvPr id="145" name="Text Box 7"/>
              <p:cNvSpPr/>
              <p:nvPr/>
            </p:nvSpPr>
            <p:spPr>
              <a:xfrm>
                <a:off x="0" y="5612760"/>
                <a:ext cx="8367840" cy="57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Success rate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41%                     59%                      55%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          50%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 Box 7"/>
              <p:cNvSpPr/>
              <p:nvPr/>
            </p:nvSpPr>
            <p:spPr>
              <a:xfrm>
                <a:off x="596520" y="1197000"/>
                <a:ext cx="8367480" cy="569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Round 9 success rates (excluding HSS s4B/5B)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 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20160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SA - Number of proposals recommended and success rate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971640" y="1173240"/>
          <a:ext cx="7561080" cy="46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173240"/>
                    <a:ext cx="7561080" cy="46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-135720" y="5789520"/>
            <a:ext cx="746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cess rate       33%              100%                   100%                      71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416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B success rates (excluding HSS parts)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Rectangle 2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95280" y="1268280"/>
          <a:ext cx="8424360" cy="4321080"/>
        </p:xfrm>
        <a:graphic>
          <a:graphicData uri="http://schemas.openxmlformats.org/drawingml/2006/table">
            <a:tbl>
              <a:tblPr/>
              <a:tblGrid>
                <a:gridCol w="1986480"/>
                <a:gridCol w="1929600"/>
                <a:gridCol w="2846520"/>
                <a:gridCol w="1661760"/>
              </a:tblGrid>
              <a:tr h="129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gible proposal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proposal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cess rat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</a:tr>
              <a:tr h="67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9 &amp; NSA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63720" y="5718240"/>
            <a:ext cx="880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Phase 1 funding approved: US$2.1 bill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s 5-9: success rates by disease area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rcRect l="0" t="5165" r="0" b="6364"/>
          <a:stretch/>
        </p:blipFill>
        <p:spPr>
          <a:xfrm>
            <a:off x="250920" y="1052640"/>
            <a:ext cx="8569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: HSS cross-cutting request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0" y="1557360"/>
            <a:ext cx="9143640" cy="4318920"/>
            <a:chOff x="0" y="1557360"/>
            <a:chExt cx="9143640" cy="4318920"/>
          </a:xfrm>
        </p:grpSpPr>
        <p:pic>
          <p:nvPicPr>
            <p:cNvPr id="159" name="Rectangle 2" descr=""/>
            <p:cNvPicPr/>
            <p:nvPr/>
          </p:nvPicPr>
          <p:blipFill>
            <a:blip r:embed="rId1"/>
            <a:stretch/>
          </p:blipFill>
          <p:spPr>
            <a:xfrm>
              <a:off x="1183320" y="1557360"/>
              <a:ext cx="6999480" cy="42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0" y="5385960"/>
              <a:ext cx="9143640" cy="49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Round 9 Success rate          52%</a:t>
              </a: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 43%                      50%                     50%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Round 8 Success rate          56% 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 50% 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              50% 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           53%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  <a:ea typeface="SimSun"/>
              </a:rPr>
              <a:t>Round 9: Disease parts by TRP recommendation category and by diseas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68480" y="2768760"/>
            <a:ext cx="5496120" cy="22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94560" y="1410480"/>
            <a:ext cx="8334000" cy="4320720"/>
            <a:chOff x="394560" y="1410480"/>
            <a:chExt cx="8334000" cy="4320720"/>
          </a:xfrm>
        </p:grpSpPr>
        <p:sp>
          <p:nvSpPr>
            <p:cNvPr id="164" name=""/>
            <p:cNvSpPr/>
            <p:nvPr/>
          </p:nvSpPr>
          <p:spPr>
            <a:xfrm>
              <a:off x="1719360" y="535500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19360" y="458496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19360" y="379404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19360" y="302400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19360" y="222912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19360" y="146304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50000" y="5089320"/>
              <a:ext cx="698400" cy="26532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12560" y="5065200"/>
              <a:ext cx="676800" cy="28944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55680" y="5223960"/>
              <a:ext cx="696240" cy="13068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18240" y="5116680"/>
              <a:ext cx="677160" cy="23796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50000" y="3051360"/>
              <a:ext cx="698400" cy="203760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12560" y="3766680"/>
              <a:ext cx="676800" cy="129852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55680" y="3607560"/>
              <a:ext cx="696240" cy="161640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518240" y="3393720"/>
              <a:ext cx="677160" cy="172296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50000" y="2574360"/>
              <a:ext cx="698400" cy="47664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12560" y="2547000"/>
              <a:ext cx="676800" cy="121932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55680" y="3103200"/>
              <a:ext cx="696240" cy="50436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18240" y="2654280"/>
              <a:ext cx="677160" cy="73908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50000" y="1566360"/>
              <a:ext cx="698400" cy="100764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12560" y="1542240"/>
              <a:ext cx="676800" cy="100476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55680" y="1701360"/>
              <a:ext cx="696240" cy="140184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18240" y="1594080"/>
              <a:ext cx="677160" cy="106020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50000" y="1463040"/>
              <a:ext cx="698400" cy="10332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12560" y="1463040"/>
              <a:ext cx="676800" cy="7884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755680" y="1463040"/>
              <a:ext cx="696240" cy="23796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18240" y="1463040"/>
              <a:ext cx="677160" cy="13068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6320" y="387396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86920" y="421524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49840" y="421524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392600" y="405648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0680" y="262692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86920" y="29725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04200" y="315864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92600" y="28375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46320" y="188460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86920" y="18601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49840" y="220176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92600" y="19393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78760" y="498204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02800" y="487872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63200" y="493344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63480" y="493344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0632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6320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8264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65932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10320" y="5593680"/>
              <a:ext cx="877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IV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26120" y="5593680"/>
              <a:ext cx="1340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uberculosis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49680" y="5593680"/>
              <a:ext cx="1063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alaria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88120" y="5593680"/>
              <a:ext cx="105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verall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6880" y="3262320"/>
              <a:ext cx="1212480" cy="2303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0480" y="3421080"/>
              <a:ext cx="90720" cy="13464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4560" y="334116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1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0480" y="3873960"/>
              <a:ext cx="90720" cy="13068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4560" y="379404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2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0480" y="4322520"/>
              <a:ext cx="90720" cy="13068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4560" y="4242600"/>
              <a:ext cx="1197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2B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0480" y="4771440"/>
              <a:ext cx="90720" cy="13140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4560" y="469548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3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0480" y="5223960"/>
              <a:ext cx="90720" cy="13068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4560" y="514116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4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92160" y="1449000"/>
              <a:ext cx="201240" cy="1536480"/>
            </a:xfrm>
            <a:custGeom>
              <a:avLst/>
              <a:gdLst/>
              <a:ahLst/>
              <a:rect l="l" t="t" r="r" b="b"/>
              <a:pathLst>
                <a:path w="176" h="928">
                  <a:moveTo>
                    <a:pt x="176" y="0"/>
                  </a:moveTo>
                  <a:cubicBezTo>
                    <a:pt x="128" y="0"/>
                    <a:pt x="88" y="35"/>
                    <a:pt x="88" y="78"/>
                  </a:cubicBezTo>
                  <a:lnTo>
                    <a:pt x="88" y="387"/>
                  </a:lnTo>
                  <a:cubicBezTo>
                    <a:pt x="88" y="430"/>
                    <a:pt x="49" y="464"/>
                    <a:pt x="0" y="464"/>
                  </a:cubicBezTo>
                  <a:cubicBezTo>
                    <a:pt x="49" y="464"/>
                    <a:pt x="88" y="499"/>
                    <a:pt x="88" y="542"/>
                  </a:cubicBezTo>
                  <a:lnTo>
                    <a:pt x="88" y="851"/>
                  </a:lnTo>
                  <a:cubicBezTo>
                    <a:pt x="88" y="894"/>
                    <a:pt x="128" y="928"/>
                    <a:pt x="176" y="928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654720" y="1449000"/>
              <a:ext cx="201240" cy="2354760"/>
            </a:xfrm>
            <a:custGeom>
              <a:avLst/>
              <a:gdLst/>
              <a:ahLst/>
              <a:rect l="l" t="t" r="r" b="b"/>
              <a:pathLst>
                <a:path w="176" h="1424">
                  <a:moveTo>
                    <a:pt x="176" y="0"/>
                  </a:moveTo>
                  <a:cubicBezTo>
                    <a:pt x="128" y="0"/>
                    <a:pt x="88" y="54"/>
                    <a:pt x="88" y="119"/>
                  </a:cubicBezTo>
                  <a:lnTo>
                    <a:pt x="88" y="594"/>
                  </a:lnTo>
                  <a:cubicBezTo>
                    <a:pt x="88" y="659"/>
                    <a:pt x="49" y="712"/>
                    <a:pt x="0" y="712"/>
                  </a:cubicBezTo>
                  <a:cubicBezTo>
                    <a:pt x="49" y="712"/>
                    <a:pt x="88" y="766"/>
                    <a:pt x="88" y="831"/>
                  </a:cubicBezTo>
                  <a:lnTo>
                    <a:pt x="88" y="1306"/>
                  </a:lnTo>
                  <a:cubicBezTo>
                    <a:pt x="88" y="1371"/>
                    <a:pt x="128" y="1424"/>
                    <a:pt x="176" y="1424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97840" y="1449000"/>
              <a:ext cx="201960" cy="2116800"/>
            </a:xfrm>
            <a:custGeom>
              <a:avLst/>
              <a:gdLst/>
              <a:ahLst/>
              <a:rect l="l" t="t" r="r" b="b"/>
              <a:pathLst>
                <a:path w="176" h="1280">
                  <a:moveTo>
                    <a:pt x="176" y="0"/>
                  </a:moveTo>
                  <a:cubicBezTo>
                    <a:pt x="128" y="0"/>
                    <a:pt x="88" y="48"/>
                    <a:pt x="88" y="107"/>
                  </a:cubicBezTo>
                  <a:lnTo>
                    <a:pt x="88" y="534"/>
                  </a:lnTo>
                  <a:cubicBezTo>
                    <a:pt x="88" y="593"/>
                    <a:pt x="49" y="640"/>
                    <a:pt x="0" y="640"/>
                  </a:cubicBezTo>
                  <a:cubicBezTo>
                    <a:pt x="49" y="640"/>
                    <a:pt x="88" y="688"/>
                    <a:pt x="88" y="747"/>
                  </a:cubicBezTo>
                  <a:lnTo>
                    <a:pt x="88" y="1174"/>
                  </a:lnTo>
                  <a:cubicBezTo>
                    <a:pt x="88" y="1233"/>
                    <a:pt x="128" y="1280"/>
                    <a:pt x="176" y="1280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196400" y="1449000"/>
              <a:ext cx="218160" cy="1985400"/>
            </a:xfrm>
            <a:custGeom>
              <a:avLst/>
              <a:gdLst/>
              <a:ahLst/>
              <a:rect l="l" t="t" r="r" b="b"/>
              <a:pathLst>
                <a:path w="192" h="1200">
                  <a:moveTo>
                    <a:pt x="192" y="0"/>
                  </a:moveTo>
                  <a:cubicBezTo>
                    <a:pt x="139" y="0"/>
                    <a:pt x="96" y="45"/>
                    <a:pt x="96" y="100"/>
                  </a:cubicBezTo>
                  <a:lnTo>
                    <a:pt x="96" y="500"/>
                  </a:lnTo>
                  <a:cubicBezTo>
                    <a:pt x="96" y="556"/>
                    <a:pt x="53" y="600"/>
                    <a:pt x="0" y="600"/>
                  </a:cubicBezTo>
                  <a:cubicBezTo>
                    <a:pt x="53" y="600"/>
                    <a:pt x="96" y="645"/>
                    <a:pt x="96" y="700"/>
                  </a:cubicBezTo>
                  <a:lnTo>
                    <a:pt x="96" y="1100"/>
                  </a:lnTo>
                  <a:cubicBezTo>
                    <a:pt x="96" y="1156"/>
                    <a:pt x="139" y="1200"/>
                    <a:pt x="192" y="1200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04760" y="204660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1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67320" y="236376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9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620960" y="236376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5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28440" y="220176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900000" y="2492280"/>
            <a:ext cx="102888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Recommend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for funding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5:14:25Z</dcterms:created>
  <dc:creator>aeberle</dc:creator>
  <dc:description/>
  <dc:language>en-US</dc:language>
  <cp:lastModifiedBy>maggir</cp:lastModifiedBy>
  <dcterms:modified xsi:type="dcterms:W3CDTF">2009-11-06T07:49:57Z</dcterms:modified>
  <cp:revision>30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60019768</vt:r8>
  </property>
  <property fmtid="{D5CDD505-2E9C-101B-9397-08002B2CF9AE}" pid="3" name="_AuthorEmail">
    <vt:lpwstr>Sarah.Churchill@TheGlobalFund.org</vt:lpwstr>
  </property>
  <property fmtid="{D5CDD505-2E9C-101B-9397-08002B2CF9AE}" pid="4" name="_AuthorEmailDisplayName">
    <vt:lpwstr>Sarah Churchill</vt:lpwstr>
  </property>
  <property fmtid="{D5CDD505-2E9C-101B-9397-08002B2CF9AE}" pid="5" name="_EmailSubject">
    <vt:lpwstr>Rd9/NSA slides on TB for the Stop TB Board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