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0622-39EF-42A0-8206-881E503F2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689F168-2E9E-4482-BDDD-0FB8F443B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-1809720" y="1200240"/>
            <a:ext cx="10590120" cy="79423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44560" y="345600"/>
            <a:ext cx="4781520" cy="3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every 6-12 mont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7280" y="695160"/>
            <a:ext cx="4650120" cy="3488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rtion of TB grants from same start year with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eople on treatment for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51560" cy="3488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0200" y="441792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Rounds 3s for Belarus and Serbia ends on 30/11/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s are for all the grants in the 6 count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EECA-2CBD-49BB-A233-636FFB831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cess rate of Health Systems Strengthening ‘parts’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0% (17 of 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NSA applicants submitted an HSS part but none were recommended for fund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D122-C730-4469-8417-AAFB1716A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440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 rates of the distinct HSS requests which were attached to the three diseases.  A slight decrease is evidenced for those requests attached to TB proposals from Round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324000" y="6381720"/>
            <a:ext cx="8569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ultilanguage_banner"/>
          <p:cNvPicPr/>
          <p:nvPr/>
        </p:nvPicPr>
        <p:blipFill>
          <a:blip r:embed="rId2"/>
          <a:stretch/>
        </p:blipFill>
        <p:spPr>
          <a:xfrm>
            <a:off x="826920" y="6485040"/>
            <a:ext cx="6336000" cy="372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3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84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The Global Fund Update on Round 9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and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Key Issues for Consideratio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STOP TB Coordinating Board Meeting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da-DK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 November 2009, Geneva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Picture 16" descr=""/>
          <p:cNvPicPr/>
          <p:nvPr/>
        </p:nvPicPr>
        <p:blipFill>
          <a:blip r:embed="rId1"/>
          <a:stretch/>
        </p:blipFill>
        <p:spPr>
          <a:xfrm>
            <a:off x="144360" y="106200"/>
            <a:ext cx="3564000" cy="1165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189000" y="5538960"/>
            <a:ext cx="48657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fessor Rifat At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, Strategy, Performance and Evaluation Clus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lobal Fu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B funding recommendations: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03280" y="1271520"/>
            <a:ext cx="66247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2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8816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5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5939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All HIV and tuberculosis proposals should address TB/HIV collaborative activiti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Secretariat should clearly communicate the Board decision to applicants as part of Round 10 application materi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ternational guidelines be communicated to applicants; as well as the TRP recommendation that both HIV and tuberculosis proposals should address TB/HIV collaborative activities unless compelling reasons exist not to do so – even if no funding is sought from the Global Fund for these activ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Round 9 proposals did not always clearly elaborate proposed strategies, or their subsequent monitoring and evaluation, for Advocacy, Communication and Social Mobilization (ACSM); Practical Approach to Lung Health (PAL); and Infection control (IC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the rationale for, and demonstration of cost-effectiveness of, tuberculosis prevalence surveys in proposals is sometimes wea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hat partners and the Secretariat provide clear guidance to applicants in these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o partners and the Secretariat to provide clear guidance to applic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ooking ahead: achievements and 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6000" y="77400"/>
            <a:ext cx="872496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lobal Fund &amp; TB Control: US$2.5 billion approved in 105 countries by August 2009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8558280" y="668340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G/310308/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901960" y="6021360"/>
            <a:ext cx="3254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HIV/TB gra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CountriesWithTBByYear2007"/>
          <p:cNvPicPr/>
          <p:nvPr/>
        </p:nvPicPr>
        <p:blipFill>
          <a:blip r:embed="rId1"/>
          <a:stretch/>
        </p:blipFill>
        <p:spPr>
          <a:xfrm>
            <a:off x="34920" y="1033560"/>
            <a:ext cx="9013680" cy="56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proved Funding for Tuberculosis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13800" cy="52927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597840" y="46483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350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mulative Funding by Region: Rounds 1-8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76360" y="1125360"/>
            <a:ext cx="817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obal Fund share in external (non-domestic) TB financing in high-burden countries*, 2002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428760" y="6000840"/>
            <a:ext cx="87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Excluding South Afr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50920" y="1197000"/>
          <a:ext cx="871380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as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per-ceiling amou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by the TRP for Round 9 and the First Learning Wave of National Strategy Applications (NSA) and AMF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Round 9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2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NSA FLW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43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Round 9 and NSA FLW recommended for funding: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2.6 b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ase 1) and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7.2 (Lifetime budge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oard decision: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ard Meet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8520" y="3357720"/>
            <a:ext cx="42102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820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.4 million new smear positive TB cases detected and treated by mid-2009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1" name="Picture 4" descr="DOTS-Mid2009"/>
          <p:cNvPicPr/>
          <p:nvPr/>
        </p:nvPicPr>
        <p:blipFill>
          <a:blip r:embed="rId1"/>
          <a:stretch/>
        </p:blipFill>
        <p:spPr>
          <a:xfrm>
            <a:off x="395280" y="1189080"/>
            <a:ext cx="849636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115920"/>
            <a:ext cx="899172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3 million people reached with HIV/TB services by mid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3" name="Picture 4" descr="HIV-TB-Mid2009"/>
          <p:cNvPicPr/>
          <p:nvPr/>
        </p:nvPicPr>
        <p:blipFill>
          <a:blip r:embed="rId1"/>
          <a:stretch/>
        </p:blipFill>
        <p:spPr>
          <a:xfrm>
            <a:off x="179280" y="836640"/>
            <a:ext cx="89647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5600" y="343080"/>
            <a:ext cx="849312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DR-TB control: number and proportion of countries with active TB with MDR-TB servic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8000" y="1125360"/>
          <a:ext cx="892800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25360"/>
                    <a:ext cx="89280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8" name="Rectangle 2"/>
          <p:cNvGraphicFramePr/>
          <p:nvPr/>
        </p:nvGraphicFramePr>
        <p:xfrm>
          <a:off x="1116000" y="1504800"/>
          <a:ext cx="6335640" cy="473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04800"/>
                    <a:ext cx="6335640" cy="47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3"/>
          <p:cNvSpPr/>
          <p:nvPr/>
        </p:nvSpPr>
        <p:spPr>
          <a:xfrm>
            <a:off x="5651640" y="4221000"/>
            <a:ext cx="32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udget for second-line TB drug is 12.2% of TB fun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 in Europe and Central Asia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2" name="Rectangle 2"/>
          <p:cNvGraphicFramePr/>
          <p:nvPr/>
        </p:nvGraphicFramePr>
        <p:xfrm>
          <a:off x="1332000" y="1197000"/>
          <a:ext cx="6049800" cy="529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97000"/>
                    <a:ext cx="6049800" cy="52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uropean Countries no longer eligible for funding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85840" y="1197000"/>
          <a:ext cx="5143320" cy="504036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TB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HIV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r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gar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enegr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n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b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6" name="TextBox 5"/>
          <p:cNvSpPr/>
          <p:nvPr/>
        </p:nvSpPr>
        <p:spPr>
          <a:xfrm>
            <a:off x="5715000" y="1773360"/>
            <a:ext cx="300024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approv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 mill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Commit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69 mill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Disburs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7 mill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7640" y="155700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optimal response in Africa and Europe: unlikely to reach MDG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 of TB, MDRTB &amp; HIV epidemics in many settings with poor TB-HIV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ountries with high MDRTB not eligible for Global Fund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unding instrument to follow Global Fund inve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take of novel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9 overall success rate: 53% (85 of 159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cludes HSS s4B/5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A overall success rate: 71% (5 of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new single country beneficiaries recommended: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exico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urkmen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24000" y="1181160"/>
            <a:ext cx="84960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1197000"/>
            <a:ext cx="8964000" cy="5039640"/>
            <a:chOff x="0" y="1197000"/>
            <a:chExt cx="8964000" cy="5039640"/>
          </a:xfrm>
        </p:grpSpPr>
        <p:pic>
          <p:nvPicPr>
            <p:cNvPr id="143" name="Picture 6" descr=""/>
            <p:cNvPicPr/>
            <p:nvPr/>
          </p:nvPicPr>
          <p:blipFill>
            <a:blip r:embed="rId1"/>
            <a:stretch/>
          </p:blipFill>
          <p:spPr>
            <a:xfrm>
              <a:off x="355680" y="1908360"/>
              <a:ext cx="7873560" cy="432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0" y="1197000"/>
              <a:ext cx="8964000" cy="4986360"/>
              <a:chOff x="0" y="1197000"/>
              <a:chExt cx="8964000" cy="4986360"/>
            </a:xfrm>
          </p:grpSpPr>
          <p:sp>
            <p:nvSpPr>
              <p:cNvPr id="145" name="Text Box 7"/>
              <p:cNvSpPr/>
              <p:nvPr/>
            </p:nvSpPr>
            <p:spPr>
              <a:xfrm>
                <a:off x="0" y="5612760"/>
                <a:ext cx="8367840" cy="57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Success rat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41%                     59%                      55%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          50%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7"/>
              <p:cNvSpPr/>
              <p:nvPr/>
            </p:nvSpPr>
            <p:spPr>
              <a:xfrm>
                <a:off x="596520" y="1197000"/>
                <a:ext cx="8367480" cy="56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ound 9 success rates (excluding HSS s4B/5B)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SA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71640" y="1173240"/>
          <a:ext cx="756108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73240"/>
                    <a:ext cx="756108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-135720" y="5789520"/>
            <a:ext cx="74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cess rate       33%              100%                   100%                      7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416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B success rates (excluding HSS parts)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Rectangle 2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95280" y="1268280"/>
          <a:ext cx="8424360" cy="4321080"/>
        </p:xfrm>
        <a:graphic>
          <a:graphicData uri="http://schemas.openxmlformats.org/drawingml/2006/table">
            <a:tbl>
              <a:tblPr/>
              <a:tblGrid>
                <a:gridCol w="1986480"/>
                <a:gridCol w="1929600"/>
                <a:gridCol w="2846520"/>
                <a:gridCol w="1661760"/>
              </a:tblGrid>
              <a:tr h="129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le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 r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 &amp; NS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63720" y="5718240"/>
            <a:ext cx="88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Phase 1 funding approved: US$2.1 bill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s 5-9: success rates by disease area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0" t="5165" r="0" b="6364"/>
          <a:stretch/>
        </p:blipFill>
        <p:spPr>
          <a:xfrm>
            <a:off x="250920" y="1052640"/>
            <a:ext cx="8569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: HSS cross-cutting reques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1557360"/>
            <a:ext cx="9143640" cy="4318920"/>
            <a:chOff x="0" y="1557360"/>
            <a:chExt cx="9143640" cy="4318920"/>
          </a:xfrm>
        </p:grpSpPr>
        <p:pic>
          <p:nvPicPr>
            <p:cNvPr id="159" name="Rectangle 2" descr=""/>
            <p:cNvPicPr/>
            <p:nvPr/>
          </p:nvPicPr>
          <p:blipFill>
            <a:blip r:embed="rId1"/>
            <a:stretch/>
          </p:blipFill>
          <p:spPr>
            <a:xfrm>
              <a:off x="1183320" y="1557360"/>
              <a:ext cx="6999480" cy="42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0" y="5385960"/>
              <a:ext cx="914364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Round 9 Success rate          52%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 43%                      50%                     50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Round 8 Success rate          56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  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53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  <a:ea typeface="SimSun"/>
              </a:rPr>
              <a:t>Round 9: Disease parts by TRP recommendation category and by diseas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68480" y="2768760"/>
            <a:ext cx="549612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94560" y="1410480"/>
            <a:ext cx="8334000" cy="4320720"/>
            <a:chOff x="394560" y="1410480"/>
            <a:chExt cx="8334000" cy="4320720"/>
          </a:xfrm>
        </p:grpSpPr>
        <p:sp>
          <p:nvSpPr>
            <p:cNvPr id="164" name=""/>
            <p:cNvSpPr/>
            <p:nvPr/>
          </p:nvSpPr>
          <p:spPr>
            <a:xfrm>
              <a:off x="1719360" y="5355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9360" y="458496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19360" y="3794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9360" y="3024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19360" y="222912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19360" y="1463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50000" y="5089320"/>
              <a:ext cx="698400" cy="26532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12560" y="5065200"/>
              <a:ext cx="676800" cy="28944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55680" y="5223960"/>
              <a:ext cx="69624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18240" y="5116680"/>
              <a:ext cx="677160" cy="23796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50000" y="3051360"/>
              <a:ext cx="698400" cy="20376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12560" y="3766680"/>
              <a:ext cx="676800" cy="129852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55680" y="3607560"/>
              <a:ext cx="696240" cy="1616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18240" y="3393720"/>
              <a:ext cx="677160" cy="172296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50000" y="2574360"/>
              <a:ext cx="698400" cy="47664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12560" y="2547000"/>
              <a:ext cx="676800" cy="121932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55680" y="3103200"/>
              <a:ext cx="696240" cy="5043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18240" y="2654280"/>
              <a:ext cx="677160" cy="7390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50000" y="1566360"/>
              <a:ext cx="698400" cy="10076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12560" y="1542240"/>
              <a:ext cx="676800" cy="100476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55680" y="1701360"/>
              <a:ext cx="696240" cy="14018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18240" y="1594080"/>
              <a:ext cx="677160" cy="106020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50000" y="1463040"/>
              <a:ext cx="698400" cy="10332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12560" y="1463040"/>
              <a:ext cx="676800" cy="788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55680" y="1463040"/>
              <a:ext cx="696240" cy="23796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18240" y="1463040"/>
              <a:ext cx="677160" cy="13068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6320" y="38739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92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4984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92600" y="405648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0680" y="26269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86920" y="2972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04200" y="31586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2600" y="2837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46320" y="188460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86920" y="18601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49840" y="22017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2600" y="19393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78760" y="49820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02800" y="48787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63200" y="49334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3480" y="49334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06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6320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8264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59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10320" y="5593680"/>
              <a:ext cx="87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IV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26120" y="5593680"/>
              <a:ext cx="134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berculosi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49680" y="5593680"/>
              <a:ext cx="106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laria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8120" y="5593680"/>
              <a:ext cx="105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verall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6880" y="3262320"/>
              <a:ext cx="1212480" cy="2303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0480" y="3421080"/>
              <a:ext cx="90720" cy="1346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4560" y="33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1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0480" y="3873960"/>
              <a:ext cx="90720" cy="13068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4560" y="379404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0480" y="4322520"/>
              <a:ext cx="90720" cy="1306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4560" y="4242600"/>
              <a:ext cx="1197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B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0480" y="4771440"/>
              <a:ext cx="90720" cy="131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4560" y="469548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3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480" y="5223960"/>
              <a:ext cx="9072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" y="51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4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92160" y="1449000"/>
              <a:ext cx="201240" cy="1536480"/>
            </a:xfrm>
            <a:custGeom>
              <a:avLst/>
              <a:gdLst/>
              <a:ahLst/>
              <a:rect l="l" t="t" r="r" b="b"/>
              <a:pathLst>
                <a:path w="176" h="928">
                  <a:moveTo>
                    <a:pt x="176" y="0"/>
                  </a:moveTo>
                  <a:cubicBezTo>
                    <a:pt x="128" y="0"/>
                    <a:pt x="88" y="35"/>
                    <a:pt x="88" y="78"/>
                  </a:cubicBezTo>
                  <a:lnTo>
                    <a:pt x="88" y="387"/>
                  </a:lnTo>
                  <a:cubicBezTo>
                    <a:pt x="88" y="430"/>
                    <a:pt x="49" y="464"/>
                    <a:pt x="0" y="464"/>
                  </a:cubicBezTo>
                  <a:cubicBezTo>
                    <a:pt x="49" y="464"/>
                    <a:pt x="88" y="499"/>
                    <a:pt x="88" y="542"/>
                  </a:cubicBezTo>
                  <a:lnTo>
                    <a:pt x="88" y="851"/>
                  </a:lnTo>
                  <a:cubicBezTo>
                    <a:pt x="88" y="894"/>
                    <a:pt x="128" y="928"/>
                    <a:pt x="176" y="928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54720" y="1449000"/>
              <a:ext cx="201240" cy="2354760"/>
            </a:xfrm>
            <a:custGeom>
              <a:avLst/>
              <a:gdLst/>
              <a:ahLst/>
              <a:rect l="l" t="t" r="r" b="b"/>
              <a:pathLst>
                <a:path w="176" h="1424">
                  <a:moveTo>
                    <a:pt x="176" y="0"/>
                  </a:moveTo>
                  <a:cubicBezTo>
                    <a:pt x="128" y="0"/>
                    <a:pt x="88" y="54"/>
                    <a:pt x="88" y="119"/>
                  </a:cubicBezTo>
                  <a:lnTo>
                    <a:pt x="88" y="594"/>
                  </a:lnTo>
                  <a:cubicBezTo>
                    <a:pt x="88" y="659"/>
                    <a:pt x="49" y="712"/>
                    <a:pt x="0" y="712"/>
                  </a:cubicBezTo>
                  <a:cubicBezTo>
                    <a:pt x="49" y="712"/>
                    <a:pt x="88" y="766"/>
                    <a:pt x="88" y="831"/>
                  </a:cubicBezTo>
                  <a:lnTo>
                    <a:pt x="88" y="1306"/>
                  </a:lnTo>
                  <a:cubicBezTo>
                    <a:pt x="88" y="1371"/>
                    <a:pt x="128" y="1424"/>
                    <a:pt x="176" y="1424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97840" y="1449000"/>
              <a:ext cx="201960" cy="2116800"/>
            </a:xfrm>
            <a:custGeom>
              <a:avLst/>
              <a:gdLst/>
              <a:ahLst/>
              <a:rect l="l" t="t" r="r" b="b"/>
              <a:pathLst>
                <a:path w="176" h="1280">
                  <a:moveTo>
                    <a:pt x="176" y="0"/>
                  </a:moveTo>
                  <a:cubicBezTo>
                    <a:pt x="128" y="0"/>
                    <a:pt x="88" y="48"/>
                    <a:pt x="88" y="107"/>
                  </a:cubicBezTo>
                  <a:lnTo>
                    <a:pt x="88" y="534"/>
                  </a:lnTo>
                  <a:cubicBezTo>
                    <a:pt x="88" y="593"/>
                    <a:pt x="49" y="640"/>
                    <a:pt x="0" y="640"/>
                  </a:cubicBezTo>
                  <a:cubicBezTo>
                    <a:pt x="49" y="640"/>
                    <a:pt x="88" y="688"/>
                    <a:pt x="88" y="747"/>
                  </a:cubicBezTo>
                  <a:lnTo>
                    <a:pt x="88" y="1174"/>
                  </a:lnTo>
                  <a:cubicBezTo>
                    <a:pt x="88" y="1233"/>
                    <a:pt x="128" y="1280"/>
                    <a:pt x="176" y="128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96400" y="1449000"/>
              <a:ext cx="218160" cy="1985400"/>
            </a:xfrm>
            <a:custGeom>
              <a:avLst/>
              <a:gdLst/>
              <a:ahLst/>
              <a:rect l="l" t="t" r="r" b="b"/>
              <a:pathLst>
                <a:path w="192" h="1200">
                  <a:moveTo>
                    <a:pt x="192" y="0"/>
                  </a:moveTo>
                  <a:cubicBezTo>
                    <a:pt x="139" y="0"/>
                    <a:pt x="96" y="45"/>
                    <a:pt x="96" y="100"/>
                  </a:cubicBezTo>
                  <a:lnTo>
                    <a:pt x="96" y="500"/>
                  </a:lnTo>
                  <a:cubicBezTo>
                    <a:pt x="96" y="556"/>
                    <a:pt x="53" y="600"/>
                    <a:pt x="0" y="600"/>
                  </a:cubicBezTo>
                  <a:cubicBezTo>
                    <a:pt x="53" y="600"/>
                    <a:pt x="96" y="645"/>
                    <a:pt x="96" y="700"/>
                  </a:cubicBezTo>
                  <a:lnTo>
                    <a:pt x="96" y="1100"/>
                  </a:lnTo>
                  <a:cubicBezTo>
                    <a:pt x="96" y="1156"/>
                    <a:pt x="139" y="1200"/>
                    <a:pt x="192" y="120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04760" y="204660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1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6732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9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2096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28440" y="2201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2492280"/>
            <a:ext cx="10288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Recommend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for fund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5:14:25Z</dcterms:created>
  <dc:creator>aeberle</dc:creator>
  <dc:description/>
  <dc:language>en-US</dc:language>
  <cp:lastModifiedBy>maggir</cp:lastModifiedBy>
  <dcterms:modified xsi:type="dcterms:W3CDTF">2009-11-06T07:49:57Z</dcterms:modified>
  <cp:revision>30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60019768</vt:r8>
  </property>
  <property fmtid="{D5CDD505-2E9C-101B-9397-08002B2CF9AE}" pid="3" name="_AuthorEmail">
    <vt:lpwstr>Sarah.Churchill@TheGlobalFund.org</vt:lpwstr>
  </property>
  <property fmtid="{D5CDD505-2E9C-101B-9397-08002B2CF9AE}" pid="4" name="_AuthorEmailDisplayName">
    <vt:lpwstr>Sarah Churchill</vt:lpwstr>
  </property>
  <property fmtid="{D5CDD505-2E9C-101B-9397-08002B2CF9AE}" pid="5" name="_EmailSubject">
    <vt:lpwstr>Rd9/NSA slides on TB for the Stop TB Board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