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23FD3-CFA3-41D1-B0B3-0CE494979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DAF0E-DB4C-40C8-8AA1-99DFDF15C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41C45-5B80-4164-B2FA-2B1BD9929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C89CF-C745-497B-A23C-B45B2312D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63342-E125-402B-8B4C-D4CD5E6FC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1C28A-C717-4C16-8C1E-14409C934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6B621-899C-4234-883D-0276674D7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657E2-1B8B-42F8-AB3A-D6F699193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3567A-122D-49EE-AC24-ECF47F150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75795-0361-49E2-AA4A-E56FA2DF5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DB665-660D-41FD-92CB-49A72A15C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E1559-2C62-49BB-ACE0-51114D537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0415-0334-49D2-8670-6C3E977C86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EA47-AD8B-47FF-93CA-DED6132625F0}" type="datetime3">
              <a:rPr b="1" lang="en-GB" sz="800" spc="-1" strike="noStrike">
                <a:solidFill>
                  <a:srgbClr val="000000"/>
                </a:solidFill>
                <a:latin typeface="Tahoma"/>
                <a:ea typeface="Tahoma"/>
              </a:rPr>
              <a:t>31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E5759088-9081-4F28-BB86-2D2073FD6D74}"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