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3414D-BB44-4766-A2B6-0D080C789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6BAEE-C112-47FC-94A3-B3A5C517E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12115-2028-4EB5-889D-80552B5E7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5EB71-61C3-42E3-8113-CE4F12F8D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DC00D-7CFF-4B2B-BE59-52B9E6777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B022A-427B-473E-9714-E2695ABC8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8CD52-754B-4351-A60E-053683DAF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8D3F8-503D-44EA-8160-2C64DF97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3D906-BC5E-45CE-840C-578FBB369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5D1C2-B0DF-4ED6-BA22-2A5ABCF22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E2CB5-CC9F-4DBE-9E8E-72E3E3DB4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25475-3736-4C53-894D-E3D9F27BD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370B-5470-4D3B-B1BD-F6E5567963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77C0-57C1-41AB-B7BC-CF133E498EC0}" type="datetime3">
              <a:rPr b="1" lang="en-GB" sz="800" spc="-1" strike="noStrike">
                <a:solidFill>
                  <a:srgbClr val="000000"/>
                </a:solidFill>
                <a:latin typeface="Tahoma"/>
                <a:ea typeface="Tahoma"/>
              </a:rPr>
              <a:t>29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A41FFE9A-706D-4751-87A8-7EE8FB46F14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