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640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42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640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980F158-F4DE-4E39-B0D7-4DA09B36D23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776760" y="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7676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F0B1-492D-4B7A-B10E-858ED3DD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B3B1-09E6-453E-94E2-45C36BEB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5688-3B04-49D8-B745-F59E84821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3924-E54A-413B-9652-4918FF9D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F38C-1C7D-4957-9131-BCF23B133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D703-A395-4FFE-9FA9-34C9E156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9DFE-1DAF-422B-947C-AF46BB3C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5A30-4352-4759-867A-358BC643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8127-961E-4CFA-9F15-70C08372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42AC-3078-494F-90BB-93AE5C00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E53F-BBCB-4046-B947-22848190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1B09-76F0-4EA4-B645-18136605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8448-2425-4D81-B397-DEBC354D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20FA-F021-4293-8BC9-12163A7E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07F3-83DA-4E20-85F4-94FBDFA2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ACCF-850A-4DDD-9EA8-A08F6656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E3C8-9E80-49D0-A38C-CEAB47E3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1DF7-0ABF-4E08-A68F-9819188D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3AC9-1BBA-443B-9DF6-E2FAA414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F6FB-D029-495A-82DE-236B98F7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4A23-633A-4376-BB59-2641C46A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0264-7303-451E-84E8-0699D60F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D2C9-F6E6-454B-B0F9-9C10041E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F399-0C3B-4D56-B41C-F12CF687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C7F6-3C24-46DC-A025-40C2AD7FC17F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25F8-89FA-4E1E-8C3A-BDF19B79C8B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ANNUAL REPORT 2006</a:t>
            </a:r>
            <a:endParaRPr b="1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Tahoma"/>
              </a:rPr>
              <a:t>Principal Highlight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217000" y="4869000"/>
            <a:ext cx="458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3409200" y="1065600"/>
            <a:ext cx="1904400" cy="73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arcos Esp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xecutive Secre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38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come an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penditure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905120"/>
            <a:ext cx="8142120" cy="44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   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COM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34,350     58,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PENDITUR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36,660     52,9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CREASE IN INCOME OVER 2005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6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CREASE IN EXPENDITURE OVER 2005 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39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com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1700280"/>
            <a:ext cx="8763120" cy="24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HI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5,472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3,97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DF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 28,878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4,07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4,350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58,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450864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INCREASE IN GDF INCOME             </a:t>
            </a: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	</a:t>
            </a: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53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INCREASE IN PARTNERSHIP INCOME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155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xpenditures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01600" y="1341360"/>
            <a:ext cx="8763120" cy="49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 Suppor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,211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5,79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dvocacy &amp; Communication            929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9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DF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  30,196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43,34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eneral Management &amp; ADM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324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74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36,660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52,97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ransferred to reserve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Surplus/(deficit) of incom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fter reserves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(2,310)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,08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0320" y="1341360"/>
            <a:ext cx="8762760" cy="48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National partnershi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54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hip building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606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6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A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312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44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overnance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47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72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Working Group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52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77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echnical Assistance to India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_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0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24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,211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5,7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720" y="11556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Partn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upport Expenditure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DF Expenditure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30320" y="1341360"/>
            <a:ext cx="8762760" cy="36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rocurement of TB Drug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8,367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41,34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QA &amp; pre-qualification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2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8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A, monitoring and salar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1,649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87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dvocacy &amp; communication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57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_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0,196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43,3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otal income for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years 2000 to 2006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138320" y="1460520"/>
          <a:ext cx="6505560" cy="438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38320" y="1460520"/>
                    <a:ext cx="6505560" cy="43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116000" y="55166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OMPOUND ANNUAL GROWTH RATE OF 43.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24760" y="3933720"/>
            <a:ext cx="541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4.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02240" y="2743200"/>
            <a:ext cx="473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95280" y="1409760"/>
          <a:ext cx="3824280" cy="53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09760"/>
                    <a:ext cx="3824280" cy="5332320"/>
                  </a:xfrm>
                  <a:prstGeom prst="rect">
                    <a:avLst/>
                  </a:prstGeom>
                  <a:ln w="324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920" y="1249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aunch of the Global Plan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43280" y="2349360"/>
            <a:ext cx="417672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ointment of the first ever UN Secretary General Special Envoy to Stop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1628640"/>
            <a:ext cx="8964720" cy="475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4392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igher profile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360" y="1196640"/>
            <a:ext cx="9216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all to Stop TB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C, G8, UNGASS, Ibero-American Summit, African Union Summit, AIDS Int Conf, Clinton Summit, World TB Day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uropean Regional Partnership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ountry Partnerships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High Level Missions to Brazil, Nigeria, India, Indonesia 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ngagement of world leaders (Annan, Arroyo, Brown, Gates, Kaunda, Obasanjo, Sampaio, Tutu, and others)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Kochon Award 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Parliamentarian Groups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oordinating Board  – Nigeria and Indonesia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256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21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ing Groups Highlights I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nnual meetin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Drug development (Paris), Diagnostics (Paris), Vaccines (Vienna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ven drugs in clinical develop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pen Forum on regulatory hurdl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athway to patients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GATB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ew phage-based test for detection of RIF resi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iagnosis for TB: Global Demand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FIND/TDR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wo vaccines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Oxford, Aeras/Crucell)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in clinical tri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hase III trials sites in Ethiopia, India, and Uganda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AERAS/EDCTP/TBVAC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ing Groups Highlights II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360" y="1484280"/>
            <a:ext cx="9288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ual meeting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OTS Expansion (Paris), MDR-TB (Atlanta), TB/HIV (Toronto), ACSM (Milan/Par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0% Case Detection – 84% Treatment Succes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B TEAM – Global F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national Standards for TB Ca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DR-TB Global 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LC – 53 project – 25 000 pati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ection control sub-group under TB/HIV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SM at country level – US$ 30 m – Sixth GF ro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-273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top TB Partnership Global Coalition on Technical Assistance (TBTEAM) – Global Fun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8360" y="1414440"/>
          <a:ext cx="849636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14440"/>
                    <a:ext cx="849636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7308720" y="981000"/>
            <a:ext cx="1150920" cy="647640"/>
          </a:xfrm>
          <a:prstGeom prst="wedgeRoundRectCallout">
            <a:avLst>
              <a:gd name="adj1" fmla="val -43791"/>
              <a:gd name="adj2" fmla="val 56370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64% incl. Pakistan 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8160" y="4510080"/>
            <a:ext cx="1150920" cy="647640"/>
          </a:xfrm>
          <a:prstGeom prst="wedgeRoundRectCallout">
            <a:avLst>
              <a:gd name="adj1" fmla="val -77722"/>
              <a:gd name="adj2" fmla="val 44361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35 incl. Pakistan 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1413000"/>
            <a:ext cx="4105080" cy="792000"/>
          </a:xfrm>
          <a:prstGeom prst="wedgeRoundRectCallout">
            <a:avLst>
              <a:gd name="adj1" fmla="val -4407"/>
              <a:gd name="adj2" fmla="val 36972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Tahoma"/>
              </a:rPr>
              <a:t>2004 Beij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CB approves the concept of country TA on GFATM grants through DOTS Expansion W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42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DF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1471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proval of 3.3 million anti-TB drug treatments reaching 10 m patient treatm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ced new drug orders worth US$29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 range expanded to include second line anti-TB dru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hnical assistance to 58 countries by drug management and TB exper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bvisitor</cp:lastModifiedBy>
  <cp:lastPrinted>2004-03-15T16:24:32Z</cp:lastPrinted>
  <dcterms:modified xsi:type="dcterms:W3CDTF">2007-04-19T13:20:21Z</dcterms:modified>
  <cp:revision>179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