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FECF-C0AB-4838-82AA-0EEAEA22D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24000" y="396432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66FA-7FBA-4E15-AD54-2D2372CB1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8712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7C51-A440-47E6-9C69-FEC97AF97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4304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172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2400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4304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172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5C30-FFF4-4AA2-B9EB-DB98B4BD0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8EF3-C760-4090-A32B-F78DD9C41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D81D-FA06-430C-9E15-83B704BAC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D178-EB82-4EEB-8E0B-A10F1C5FF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47EB-8A92-4ABA-9703-60C650FE0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24000" y="274320"/>
            <a:ext cx="656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15DE-C120-4AB7-834C-9BD780BBB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6C22-72E9-438A-B207-4B9E6ED4A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8712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1866-28D2-409B-9600-4B6E3E3CB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0309-4F95-42B7-B652-5862E3CF1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4BEE5-40C1-4145-BFC3-5DC9825AC1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76000" y="1341000"/>
            <a:ext cx="6767640" cy="22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5000"/>
              </a:lnSpc>
              <a:spcBef>
                <a:spcPts val="6001"/>
              </a:spcBef>
              <a:spcAft>
                <a:spcPts val="6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GDF Business Advisory Committee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ecommendation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Stop TB Partnership</a:t>
            </a:r>
            <a:br>
              <a:rPr sz="2800"/>
            </a:b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Coordinating Board Meeting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8-19 April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476000" y="1412640"/>
            <a:ext cx="7488360" cy="49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>
              <a:lnSpc>
                <a:spcPct val="8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 providing advice to the GDF on meeting its strategic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Helping GDF to effectively execute its broad ranging operations in a complex business environmen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lnSpc>
                <a:spcPct val="8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ven members with wide-ranging expertise, selected through competitive nomination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raw material manufacturing, pharmac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roduct formulation for drugs and diagnostic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regulatory law, contract l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usiness develop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ompetitive procurement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ricing and distributio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ocus of 1</a:t>
            </a:r>
            <a:r>
              <a:rPr b="0" lang="en-GB" sz="4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BAC Me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6360" y="1600200"/>
            <a:ext cx="741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Insufficient number of prequalified suppliers of anti-TB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Strategies for effective introduction of additional TB products to the GDF catalo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Evolution of GDF service 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47640" y="2743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Increasing number of prequalified suppli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618920" y="1600200"/>
            <a:ext cx="727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and biased supplier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 pre-qualifica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ile inventory of drug finished product and API manufacturers, including, local industries, analysis of volume and target mar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and address bottlenecks in the pre-qualifica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ate the process of pre-qualification by providing process and technical assistance to manufactur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47640" y="2743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ffectively introducing new items to GDF product 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7210440" cy="49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ediatric formulations: Lack of PQ suppl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ply and demand of 2nd line products not alig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agnostics: Lack  of international quality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ggressive approach required to pre-qualify suppliers of paediatric products and to identify low cost quality form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ll convergence of GDF and GLC should be expedi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view respective roles, ensure integrated service ch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t analysis on supply capability (including API), true demand, and local regulatory obstacles to proc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DF to advocate quality standards for current diagno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so prepare supply strategy upon adoption of new diagno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Strategic approach to developing GDF servic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7417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staining/Increasing grant service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trictive local drug licensing, procurement reg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DF’s perceived position in tender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neral lack of local drug management capabil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stomer experience – need for accurate feed-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gressively decrease dependence on grants and promote direct procu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k with donors, private sector, NGOs, principal grant recip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 innovative approaches to procurement service provision in context of government or donor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rsue a targeted approach for TA on drug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celerate steps to hire a TA manager in GDF 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utinely collect, analyze and adopt lessons learned from customer feedback – act effectively on critic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124000" y="1599840"/>
            <a:ext cx="6562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DF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early advocate its strategic position relative to the Global Fund, WHO and other donors and technical ag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ek to increase the number of manufacturers prequalified by WHO to supply anti-TB drugs, and increase the number of programmes that order strictly from such suppl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versify its donor base,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sure GDF sustain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stain support for existing GDF gr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re field experiences on service needs, perceptions and obstacles with the three New Tools working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bjective is better, affordable, accessible interventions to serve patient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1T09:34:26Z</dcterms:created>
  <dc:creator>ryant</dc:creator>
  <dc:description/>
  <dc:language>en-US</dc:language>
  <cp:lastModifiedBy>Bernard</cp:lastModifiedBy>
  <dcterms:modified xsi:type="dcterms:W3CDTF">2007-04-19T06:20:01Z</dcterms:modified>
  <cp:revision>36</cp:revision>
  <dc:subject/>
  <dc:title>Managing Adult and Paediatric Gra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