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758-70C2-41C5-B1DE-4CBAC609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29B-B71C-4F5D-95C5-2198573C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031-EA56-40A7-A810-E0FFFEA2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C49-B196-449D-9DC1-9540FCF5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549-27F7-4B2F-9413-4120FAE6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76F-2387-4551-A455-941359E6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55B-EB16-4E0A-8BAB-D5BCF052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9630-3F56-4D24-B2AF-FB3B1BD3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7DC-7E3F-4E94-99BA-EBB3CDB2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6D26-404A-4D42-8AA2-33BF7A24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8E6-5C25-4AF2-B60B-EFA0D9B2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317A-3D32-4C22-96AF-0668DF74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9BB5-8AD0-4FF1-A2A2-B0AAED869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DF Grant Evolu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 of Consul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3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We must remember the fundamental purpose of GDF: to help patients access drug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nt service has made a difference in people's lives, and must 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lbeit at a reduce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must continue to use grants to leverage improved national procurement and drug managemen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DF Grant Service must evolve with the efforts of others to create a seamless net of support to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seek new donors, and more long-term commitments from existing donors, if it is to meet its projected target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communicate closely with other donors and their secretariats to ensure they take consistent approaches with countri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Stop TB Partnership must promote GDF, its function and its services better, demonstrating that GDF supports countries to move from Grants to Direct Procurement to procuring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1600200"/>
            <a:ext cx="70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and Stop TB Partnership Secretariat identify, without delay, a strategy through which the resources required by GDF to serve its grant beneficiaries in 2007 can be sec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for prioritizing countries or focusing GDF Grant Service on high priority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and the Board give priority to expanding/diversifying its donor base to enable GDF to meet its targets for 2008-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068720" y="189000"/>
          <a:ext cx="5040360" cy="27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8720" y="189000"/>
                    <a:ext cx="504036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68720" y="3068640"/>
          <a:ext cx="5040360" cy="339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068640"/>
                    <a:ext cx="5040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200" y="2997360"/>
            <a:ext cx="40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GDF Grant Service funding needed and resources – including all firm commitment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00" y="4941720"/>
            <a:ext cx="388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.2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299736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GDF Grant Service funding needed and resources – including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irm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45831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5.0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067280" y="189000"/>
          <a:ext cx="5076720" cy="28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9000"/>
                    <a:ext cx="5076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67280" y="3068640"/>
          <a:ext cx="5087880" cy="345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068640"/>
                    <a:ext cx="50878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whereby technical assistance is subsidized as a component of grant funding from donors and delivered to countries as part of the GDF Grant Serv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Advocacy, Communication and Social Mobilization Working Group and the Stop TB Partnership Secretariat plan and vigorously pursue a campaign to raise the profile of GDF services among countries, donors, partners and technical ag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engage the Global Fund in discussions on aligning policies related to additionality, sustainability, accelerated fund transfers and quality assu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request that the Global Fund and its beneficiaries use GDF more proactively to meet their needs for increased and improved 1st line anti-TB drug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349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Lucida Handwriting"/>
                <a:ea typeface="宋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ryant</cp:lastModifiedBy>
  <dcterms:modified xsi:type="dcterms:W3CDTF">2007-04-19T09:26:25Z</dcterms:modified>
  <cp:revision>31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2807430</vt:r8>
  </property>
  <property fmtid="{D5CDD505-2E9C-101B-9397-08002B2CF9AE}" pid="3" name="_AuthorEmail">
    <vt:lpwstr>ryant@who.int</vt:lpwstr>
  </property>
  <property fmtid="{D5CDD505-2E9C-101B-9397-08002B2CF9AE}" pid="4" name="_AuthorEmailDisplayName">
    <vt:lpwstr>Ryan, Timothy</vt:lpwstr>
  </property>
  <property fmtid="{D5CDD505-2E9C-101B-9397-08002B2CF9AE}" pid="5" name="_EmailSubject">
    <vt:lpwstr>BAC_presentation_to_CB_2007.ppt</vt:lpwstr>
  </property>
  <property fmtid="{D5CDD505-2E9C-101B-9397-08002B2CF9AE}" pid="6" name="_NewReviewCycle">
    <vt:lpwstr/>
  </property>
</Properties>
</file>