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74E-260B-4F0F-9DEE-41F294D6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E41-8CCA-4C3F-8883-9A6409AB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6B4-B2D9-4B51-AC0F-F6A0CC7B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F127-8ECB-4DED-AB82-DD1C60A7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694-36DA-4F12-936D-04FBF3EE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183-4C9C-4496-8C4C-44376548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CAC6-1421-4C47-9FD6-789E2737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0AEE-A9C6-485A-8757-F56A6D14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77CC-9203-4754-AF10-8D933E5F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C89-7D8F-4618-A5A4-36FC65FA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729-D36A-48D6-9953-A5F81C3F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D5C-9845-46B1-9C16-19D861A3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C57C-D85B-4A72-AA4A-8106994C2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DF Grant Evoluti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 of Consul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33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We must remember the fundamental purpose of GDF: to help patients access drug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grant service has made a difference in people's lives, and must 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albeit at a reduced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must continue to use grants to leverage improved national procurement and drug management syst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GDF Grant Service must evolve with the efforts of others to create a seamless net of support to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seek new donors, and more long-term commitments from existing donors, if it is to meet its projected target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communicate closely with other donors and their secretariats to ensure they take consistent approaches with countri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Stop TB Partnership must promote GDF, its function and its services better, demonstrating that GDF supports countries to move from Grants to Direct Procurement to procuring independ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920" y="1600200"/>
            <a:ext cx="70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and Stop TB Partnership Secretariat identify, without delay, a strategy through which the resources required by GDF to serve its grant beneficiaries in 2007 can be secu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for prioritizing countries or focusing GDF Grant Service on high priority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and the Board give priority to expanding/diversifying its donor base to enable GDF to meet its targets for 2008-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068720" y="189000"/>
          <a:ext cx="5040360" cy="277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8720" y="189000"/>
                    <a:ext cx="504036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068720" y="3068640"/>
          <a:ext cx="5040360" cy="3390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068640"/>
                    <a:ext cx="5040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200" y="2997360"/>
            <a:ext cx="40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GDF Grant Service funding needed and resources – including all firm commitment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cipa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200" y="4941720"/>
            <a:ext cx="388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0.2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299736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2: GDF Grant Service funding needed and resources – including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irm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45831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5.0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067280" y="189000"/>
          <a:ext cx="5076720" cy="280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89000"/>
                    <a:ext cx="5076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067280" y="3068640"/>
          <a:ext cx="5087880" cy="345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068640"/>
                    <a:ext cx="50878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whereby technical assistance is subsidized as a component of grant funding from donors and delivered to countries as part of the GDF Grant Serv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Advocacy, Communication and Social Mobilization Working Group and the Stop TB Partnership Secretariat plan and vigorously pursue a campaign to raise the profile of GDF services among countries, donors, partners and technical ag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engage the Global Fund in discussions on aligning policies related to additionality, sustainability, accelerated fund transfers and quality assur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request that the Global Fund and its beneficiaries use GDF more proactively to meet their needs for increased and improved 1st line anti-TB drug a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349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Lucida Handwriting"/>
                <a:ea typeface="宋体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ryant</cp:lastModifiedBy>
  <dcterms:modified xsi:type="dcterms:W3CDTF">2007-04-19T09:26:25Z</dcterms:modified>
  <cp:revision>31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2807430</vt:r8>
  </property>
  <property fmtid="{D5CDD505-2E9C-101B-9397-08002B2CF9AE}" pid="3" name="_AuthorEmail">
    <vt:lpwstr>ryant@who.int</vt:lpwstr>
  </property>
  <property fmtid="{D5CDD505-2E9C-101B-9397-08002B2CF9AE}" pid="4" name="_AuthorEmailDisplayName">
    <vt:lpwstr>Ryan, Timothy</vt:lpwstr>
  </property>
  <property fmtid="{D5CDD505-2E9C-101B-9397-08002B2CF9AE}" pid="5" name="_EmailSubject">
    <vt:lpwstr>BAC_presentation_to_CB_2007.ppt</vt:lpwstr>
  </property>
  <property fmtid="{D5CDD505-2E9C-101B-9397-08002B2CF9AE}" pid="6" name="_NewReviewCycle">
    <vt:lpwstr/>
  </property>
</Properties>
</file>