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BD80-C8F5-4FE6-B208-B538CD5D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82F0-934D-45F5-9417-ABD6E6C5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7465-EFE1-4903-8A6F-7C89C1535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A856-07D4-49B1-A96D-CB7FA8F33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A2C7-90D8-4498-A74E-3A11C772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905C-0983-4267-837C-35B407CF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AB35-C6D9-4405-9710-B8514ED3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AA48-B4B8-408B-8881-E0B5D098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DF6F-9013-4676-8576-0166B0D6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9549-F8C4-43F1-BD54-5AE85607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DDA3-3F79-4152-A60E-6F74FF9A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C4B0-DB46-43C4-AB17-7D3C8342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4A94-6ADF-40DC-87DD-22FBCFA92C82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optb.org/researchmovement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92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The global Stop TB Research Movemen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 Narrow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ationale for a Research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What is the global Research Movement to Stop TB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Developments to da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lanned activities &amp; 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oard's endors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2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Global TB research agendas</a:t>
            </a: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 develo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Global TB research agenda (TDR Scientific Working Group Oct 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MDR-TB research priorities (Int J TB &amp; Lung Dis 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TB/HIV research priorities (WHO/HTM/TB/2005.35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Childhood TB (WHO/HTM/TB/2007.38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and in progress, e.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MDR-TB Working Group updating the research 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NIH  (MDR-T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European Commission (new drug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3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aising awareness of Research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Website launched in March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200" spc="-1" strike="noStrike" u="sng">
                <a:solidFill>
                  <a:srgbClr val="66ccff"/>
                </a:solidFill>
                <a:uFillTx/>
                <a:latin typeface="Arial Narrow"/>
                <a:hlinkClick r:id="rId1"/>
              </a:rPr>
              <a:t>www.stoptb.org/research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esearch featured prominently in World TB day events 2007, e.g. New York, Brussels, Berlin, 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4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artnership secretariat and WHO actively engaged with key research partners, includ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NGOs, e.g. MSF, TA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esearch funding institutions, e.g. UK MRC. European Commission Directorate-General for Research and South Africa MR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Academic instit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Other institutions, e.g. Rockefeller Foun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Planned activities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Mobilising increased global funding for TB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uilding consensus on Research Movement's strategic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Mobilising increased global funding for TB research 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Planned activit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Assessing research needs, priorities and gaps (building on TDR's relative advantage in developing a global TB research agenda and enlisting input of other agenci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Analysis of factors influencing research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Development of arguments for increased research funding based 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i) assessment of funding trends through mechanism for global tracking of research funding (building on survey by TAG and work by Max Planck Institu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ii) assessment of expected benefits of increased investment in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Developing plans for how research partners and the Partnership collectively can present  these arguments through the Research Movement to research funders and the "funders of funders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Building consensus on the Research Movement's strategic approac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y engaging key research part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ossible Bellagio meeting towards end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Forum at the IUATLD conference on lung health, 8-12 November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ummary indicative GANT char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9280" y="987480"/>
          <a:ext cx="8713800" cy="5781600"/>
        </p:xfrm>
        <a:graphic>
          <a:graphicData uri="http://schemas.openxmlformats.org/drawingml/2006/table">
            <a:tbl>
              <a:tblPr/>
              <a:tblGrid>
                <a:gridCol w="2808360"/>
                <a:gridCol w="863640"/>
                <a:gridCol w="936720"/>
                <a:gridCol w="863640"/>
                <a:gridCol w="865080"/>
                <a:gridCol w="863640"/>
                <a:gridCol w="792000"/>
                <a:gridCol w="7207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3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4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1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3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4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der for analysis of factors influencing research environ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der for development of research funding tracking syste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ess expected benefits of increased investment in resear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rdinate development of consolidated research age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sible Bellagio meet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um at IUATLD meeting, Cape Tow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 plan for targeted approaches to key research fund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Action by Boar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Endorsement of key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Endorsement of development of timeline for action and budgetary im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80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106640"/>
            <a:ext cx="83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de spectrum of health resea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ic laboratory resea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duct R &amp; 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ssessment of efficacy, effectiveness, co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alth systems, policy and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pidemiology and model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cial science and behavioural research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Rationale for the Research Movemen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195200"/>
            <a:ext cx="9144000" cy="53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 Narrow"/>
              </a:rPr>
              <a:t>The success of implementing the DOTS strategy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Is a testament to what committed people can (and need to) do with old and inadequate technolog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00"/>
                </a:solidFill>
                <a:latin typeface="Arial Narrow"/>
              </a:rPr>
              <a:t>Research can: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Now – improve the use of current to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Soon – develop new tools for better TB contr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Eventually – enable the global elimination of TB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Howeve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The current focus and scale of TB research is inadequ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929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What is the global Research Movement to Stop TB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4720" y="1196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The </a:t>
            </a: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Research Movement 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represents a broad alliance of TB researchers to promote TB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The aim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 is to promote and create an environment that fosters greater momentum on TB research &amp;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Initial activit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Understand the current landscape of activities, needs and opportun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 Narrow"/>
              </a:rPr>
              <a:t>Research fo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 Narrow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Next step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elop and articulate an overall coordinated research agen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elop and articulate the arguments for increased fu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ise and execute a plan for 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1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Analysis of current funding and recent funding tr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TAG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Kaufman and Parida, Nature Medicine March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52360"/>
            <a:ext cx="7702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Global expenditures on health R&amp;D</a:t>
            </a:r>
            <a:br>
              <a:rPr sz="3200"/>
            </a:b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cience 2006, 311, 162-167)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 rot="5400000">
            <a:off x="2045160" y="986040"/>
            <a:ext cx="50529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025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Global expenditures on health R&amp;D</a:t>
            </a:r>
            <a:br>
              <a:rPr sz="3200"/>
            </a:b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cience 2006, 311, 162-167)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 rot="5400000">
            <a:off x="2592360" y="441000"/>
            <a:ext cx="439272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NIH 2005 Research Expenditures (US$ billions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38080" y="1600200"/>
          <a:ext cx="32767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32767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447920" y="1371600"/>
          <a:ext cx="5727600" cy="46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371600"/>
                    <a:ext cx="5727600" cy="46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600200" y="3276720"/>
            <a:ext cx="1143000" cy="380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R &amp; D needs for new TB tools in Global Pla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838080" y="1600200"/>
          <a:ext cx="32767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32767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450800" y="1371600"/>
          <a:ext cx="5727960" cy="467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0800" y="1371600"/>
                    <a:ext cx="5727960" cy="46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0:55:57Z</dcterms:created>
  <dc:creator>maherd</dc:creator>
  <dc:description/>
  <dc:language>en-US</dc:language>
  <cp:lastModifiedBy>maherd</cp:lastModifiedBy>
  <dcterms:modified xsi:type="dcterms:W3CDTF">2007-04-18T13:33:55Z</dcterms:modified>
  <cp:revision>22</cp:revision>
  <dc:subject/>
  <dc:title>Stop TB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