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E559-41EB-4BCF-A56D-71E48240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9AE9-F02D-4B31-A67E-9058F95B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12D4-B057-44AD-816C-4D0B8DF6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E5D-435C-43C3-8FFD-F7DBAF1E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8BEA-50C7-4A71-9779-95C73E36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08E5-DA71-41B7-9848-E57DBEA7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1170-77EB-4D93-B45E-A74D3CB8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523-6AD3-4940-9646-0C554630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87B-2EA3-4A59-BDDB-28DF7342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DAE-32DD-4D6F-91CF-57FD02DB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D97-A1B4-4676-B802-74A143A8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877-DD9B-4C5B-8544-6B30F3FB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F1DC-EF2E-4A10-8A3E-7CC6A8CE7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Financing TB control: 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Recent trends and the role of a new tool for planning and budgeting at country level </a:t>
            </a:r>
            <a:br>
              <a:rPr sz="38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erine Floyd, Andrea Pantoj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Coordinating Board Mee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v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Part 2: WHO planning and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budgeting t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Plans for individual countries for 2006 onwards not always in line with Global Plan, especially for newer components of Stop TB Strategy (country plans tend to be less ambitious)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TB "planning and budgeting" tool developed to assist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line with Global Plan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, as well as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alled a "planning and budgeting" tool to highl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lans should include a budget, but sometimes do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Budgets should be based on and in line with plan goals, objectives and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ment pro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125360"/>
          <a:ext cx="8209080" cy="5204160"/>
        </p:xfrm>
        <a:graphic>
          <a:graphicData uri="http://schemas.openxmlformats.org/drawingml/2006/table">
            <a:tbl>
              <a:tblPr/>
              <a:tblGrid>
                <a:gridCol w="1728720"/>
                <a:gridCol w="64803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developed and submitted to USAID via TBC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0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approved by USA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Ma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version of tool developed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planning frameworks developed for Global Plan and STB workshops for Global Fund proposal develop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-testing + practical application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, Indonesia, Kenya, Somalia, South Africa, regional planning workshop for 10 priority countries in Latin Amer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s and finalization based on field-tes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anying documentation + sharepoint site prepar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 into French, Spanish, Russi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of sharepoint s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74920" y="239400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62280" y="317016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21160" y="2921040"/>
          <a:ext cx="511200" cy="517320"/>
        </p:xfrm>
        <a:graphic>
          <a:graphicData uri="http://schemas.openxmlformats.org/drawingml/2006/table">
            <a:tbl>
              <a:tblPr/>
              <a:tblGrid>
                <a:gridCol w="511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704960" y="-1477800"/>
          <a:ext cx="523800" cy="51732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2421000"/>
            <a:ext cx="698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Guided tour of the t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General benefits of using th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Should improve quality of plans and budgets and save time once initial effort to understand/use tool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asy to revise or update plans/budgets whe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lans and budgets for TB control set out comprehensively in one place, in standardize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Much of plan document itself can be produced by writing written text description of what is set out i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solid foundation for resource mobilization including applications to Global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framework for monitoring and evaluation of plan implementation as well as comparisons among and withi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utomatically produces financial information requested on annual WHO data colle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Promotion, practical application, next ste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1268280"/>
          <a:ext cx="8136000" cy="4937400"/>
        </p:xfrm>
        <a:graphic>
          <a:graphicData uri="http://schemas.openxmlformats.org/drawingml/2006/table">
            <a:tbl>
              <a:tblPr/>
              <a:tblGrid>
                <a:gridCol w="1295640"/>
                <a:gridCol w="6840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06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to WHO EURO regional and country office staff followed by training in how to use the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s with Global Fund r.e. use of tool in Rd 6 and Rd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workshops for countries with Round 6 gr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 inter-regional planning and budgeting workshop for 10 countries, Ca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ch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nning and budgeting 5-day  workshop for priority African countries in Brazzaville, 19 countries represen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-May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Global Fund Round 7 workshops in Nepal (SEAR, EMR), Cairo (EMR, AFR), Harare and Dakar (AF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 support to countries that have used the to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planning and budgeting workshop for African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ssues for the Coordinating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985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dorse and help to support planning and budgeting in line with the Global Plan at country level, including promotion and practical application of the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pport resource mobilization efforts based on the foundation of robust and country-owned plans and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559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. Too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rea Pantoja (S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ilippe Veltsos (IT support t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. Funding: U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sharepoint.who.int/sites/TBbudge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User name: ads\TB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assword: 2Budget4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64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1: Financing TB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Recent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omparisons with the Glob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2: WHO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Guided tour to illustrate main features (practical demon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ractical application to date and 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NTP budgets by source of funding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7640" y="1600200"/>
          <a:ext cx="798048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600200"/>
                    <a:ext cx="79804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otal TB control costs by funding source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16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anning and funding: The Global Plan vs. current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Global Plan sets 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Range and scale at which interventions need to be implemented in 7 regions to achieve MDG and Stop TB Partnership targets globally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uccessful implementation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untry plans in line with regional plans in 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obilization of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mplementation of planned activities/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755640" y="1989000"/>
            <a:ext cx="3355920" cy="3849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16520" y="1052640"/>
          <a:ext cx="357012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6520" y="1052640"/>
                    <a:ext cx="357012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01640" y="3938760"/>
          <a:ext cx="3409920" cy="265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3938760"/>
                    <a:ext cx="34099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056200" y="3938760"/>
          <a:ext cx="3289320" cy="265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6200" y="3938760"/>
                    <a:ext cx="32893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9640" y="992160"/>
          <a:ext cx="3654360" cy="2793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992160"/>
                    <a:ext cx="36543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3640" y="907920"/>
          <a:ext cx="3313440" cy="29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7920"/>
                    <a:ext cx="331344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003640" y="3684600"/>
          <a:ext cx="3384720" cy="301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3684600"/>
                    <a:ext cx="33847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4360" y="836640"/>
          <a:ext cx="3325680" cy="2833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836640"/>
                    <a:ext cx="33256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84360" y="3645000"/>
          <a:ext cx="3384360" cy="308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3645000"/>
                    <a:ext cx="338436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60600" y="4481640"/>
            <a:ext cx="1152720" cy="143028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92640" y="4411800"/>
            <a:ext cx="1190520" cy="150012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60600" y="4202280"/>
            <a:ext cx="1152720" cy="27936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2640" y="4340160"/>
            <a:ext cx="1190520" cy="7164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60600" y="4027320"/>
            <a:ext cx="1152720" cy="17496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92640" y="4097160"/>
            <a:ext cx="1190520" cy="243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3760920"/>
            <a:ext cx="1152720" cy="2664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92640" y="4005360"/>
            <a:ext cx="1190520" cy="918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2640" y="3970440"/>
            <a:ext cx="1190520" cy="3492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2640" y="3760920"/>
            <a:ext cx="1190520" cy="209520"/>
          </a:xfrm>
          <a:prstGeom prst="rect">
            <a:avLst/>
          </a:prstGeom>
          <a:solidFill>
            <a:srgbClr val="ff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60600" y="2898720"/>
            <a:ext cx="1152720" cy="862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2640" y="3679920"/>
            <a:ext cx="1190520" cy="810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60600" y="1714680"/>
            <a:ext cx="1152720" cy="1184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2640" y="2795760"/>
            <a:ext cx="1190520" cy="884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214800"/>
            <a:ext cx="1150920" cy="2697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7880" y="1146240"/>
            <a:ext cx="6120" cy="476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49400" y="591192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9400" y="5224320"/>
            <a:ext cx="168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49400" y="454968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9400" y="386568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9400" y="31910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9400" y="250344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1830240"/>
            <a:ext cx="16848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9400" y="11462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17880" y="5911920"/>
            <a:ext cx="5541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117880" y="5911920"/>
            <a:ext cx="61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481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827680" y="5911920"/>
            <a:ext cx="97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597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60600" y="5934240"/>
            <a:ext cx="1487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obal Plan to Stop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92640" y="5927760"/>
            <a:ext cx="1125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untry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5927760"/>
            <a:ext cx="1279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vailabl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720" y="3143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720" y="2432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720" y="17589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720" y="1074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720" y="44784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720" y="515304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720" y="3841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3360" y="124920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3360" y="2031840"/>
            <a:ext cx="103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257652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312264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387972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SM/CT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4425840"/>
            <a:ext cx="128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360" y="4970520"/>
            <a:ext cx="19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M/PAL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360" y="551664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3360" y="5392800"/>
            <a:ext cx="298440" cy="12384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4818240"/>
            <a:ext cx="298440" cy="12348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292640"/>
            <a:ext cx="298440" cy="1238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360" y="3736800"/>
            <a:ext cx="298440" cy="12384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" y="2997360"/>
            <a:ext cx="298440" cy="123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2441520"/>
            <a:ext cx="298440" cy="12384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360" y="1865160"/>
            <a:ext cx="298440" cy="1238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360" y="1125360"/>
            <a:ext cx="298440" cy="1238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and funding of TB control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879480" cy="898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81040" y="112536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3.1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0880" y="215568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3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6520" y="260820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0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2205000"/>
            <a:ext cx="1333440" cy="2533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unding gap for the Global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$1.1 billion in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98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ased on 84 countries with 90% global TB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07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 of country reports with Global Plan in Africa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463760"/>
            <a:ext cx="87012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0:44:55Z</dcterms:created>
  <dc:creator>steenbergeng</dc:creator>
  <dc:description/>
  <dc:language>en-US</dc:language>
  <cp:lastModifiedBy>floydk</cp:lastModifiedBy>
  <dcterms:modified xsi:type="dcterms:W3CDTF">2007-04-18T08:52:01Z</dcterms:modified>
  <cp:revision>173</cp:revision>
  <dc:subject/>
  <dc:title>Slide 1</dc:title>
</cp:coreProperties>
</file>