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02FA-C439-4756-87FE-7EBE5994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4287-19A6-4347-918B-8E0C285E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9525-17E3-4777-9A5F-4EFDBE65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B538-E6D9-4BFE-A57F-8D7FF573C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7573-1953-4C2D-A336-AA9DCB91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B698-77F2-4970-8AE8-1E763FCE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2D04-BBBF-4D57-A00E-95F6EB18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E2EE-0A9D-4AAC-975E-710505A8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8779-FC2C-427E-A07C-46B11F43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CD62-E5D4-4244-9753-C2590E83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AAAF-A3A1-4F0C-900F-3000A42E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E056-D1EC-462B-8DC4-182539C1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EA50-D9BD-4E6E-8953-959F2F06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24E2-1167-42D1-BD74-FD80E9BD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D1FB-69FB-455E-86B4-AFDC1353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DA40-AB55-4418-93B3-EA6E3808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E3A4-EE51-48C6-9874-84F674B8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C2E1-DC16-499E-989D-083EDA2A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2F2E-938E-40EF-9251-E374291A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3F8A-B10D-44ED-8FA2-162115D8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0395-F22F-4E14-BE0E-79F70EC2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402F-B963-447A-8899-EA4967FC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BBB-8655-4EC3-87B7-A976AE5B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A457-F30F-490A-97D6-4369A28A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6B5B-B850-461F-AC9D-4B82A7671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7B2D-6B5D-42A2-8972-F5C20BEB2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13000"/>
            <a:ext cx="9144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2360" y="278100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artners’ Forum 200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48360" y="14130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2060640"/>
            <a:ext cx="8640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1, 1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’ Forum, Washington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“branding” of the Partnershi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first Global Plan and the GDF launched;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cognize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s global movemen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estige press and media cover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4, 2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 Forum, New Del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overnment of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atient activist movement for TB established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control in several countries boos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20000" y="1844640"/>
            <a:ext cx="212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916360" y="1413000"/>
            <a:ext cx="62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key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468360" y="2665440"/>
            <a:ext cx="961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leverage of political commitment and fu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trends of th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control policy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influence on participating endemic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hip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foster the implementation of the outcomes of the external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enhancement of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1844640"/>
            <a:ext cx="6084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13372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dentification of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 Process led by Member States and/or partner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lection based on pre-established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"Host City" Committee to manage selec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posed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Commitment –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opportunities (local/regional/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ation Infrastructure &amp; Acces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enu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ccommo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porate Sector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sa and other “access” 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portunity to host a major high profile/conference even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venue generated from hotel booking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attention to showcase the c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litical advocacy and social mobilization within the count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14972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Partners'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sure equal opportunities to all potential host c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reate excitement and momentum in the run up to the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13372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1: Consultation and Dialogue with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ening Cerem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Constituencies for a Stronger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2: Ministerial and Representatives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mplifying the Partnership &amp; Leveraging Impact at Country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uture Potential and 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Financing Summ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 &amp; Advocacy Ev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dditional Proposed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-forums, prior to the Partners Forum, on the key topics to be discussed in the breakout ses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tch-making system for partners to easily identify potential counter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place and exhibition to encourage connections with the local business community, NGOs and the affected commu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eakers Corner” to facilitate open and transparent discus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retariat to facilitate training sessions on key iss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4:32:53Z</dcterms:created>
  <dc:creator>CammarotaV</dc:creator>
  <dc:description/>
  <dc:language>en-US</dc:language>
  <cp:lastModifiedBy>CammarotaV</cp:lastModifiedBy>
  <dcterms:modified xsi:type="dcterms:W3CDTF">2007-04-17T10:13:43Z</dcterms:modified>
  <cp:revision>6</cp:revision>
  <dc:subject/>
  <dc:title>Slide 1</dc:title>
</cp:coreProperties>
</file>