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B3FE5-B822-44C2-B280-C65D7DF23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656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124000" y="3964320"/>
            <a:ext cx="656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8EC62-C215-4FE6-8E0E-31CE2B529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87120" y="160020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124000" y="396432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87120" y="396432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688F1-BAC9-46A1-9F2C-982C2A327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2112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43040" y="1600200"/>
            <a:ext cx="2112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61720" y="1600200"/>
            <a:ext cx="2112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124000" y="3964320"/>
            <a:ext cx="2112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43040" y="3964320"/>
            <a:ext cx="2112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61720" y="3964320"/>
            <a:ext cx="2112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473FC-B44A-4DAE-951E-8AA57DF74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124000" y="1600200"/>
            <a:ext cx="656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80DD2-618F-45CC-BF88-7CF4C832A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65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EF55A-426C-47DE-A682-D8B4A863A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320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87120" y="1600200"/>
            <a:ext cx="320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ABB81-3DF6-44A6-B21E-EF08EC9FC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BD598-25C7-4878-A8EE-5A4AAAC78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124000" y="274320"/>
            <a:ext cx="656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45078-B46C-4BFC-8E8B-8A56EDB12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87120" y="1600200"/>
            <a:ext cx="320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124000" y="396432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660E8-89B8-405E-BBB4-43E8DB6E8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320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87120" y="160020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87120" y="396432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1BB26-CD67-4187-8114-1DAA34100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87120" y="160020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124000" y="3964320"/>
            <a:ext cx="656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E0D4E-903A-4DA8-864A-BBCE244CE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124000" y="1600200"/>
            <a:ext cx="65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42C62-5791-4E23-9DF3-0B4291A365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0" t="0" r="8605" b="66607"/>
          <a:stretch/>
        </p:blipFill>
        <p:spPr>
          <a:xfrm>
            <a:off x="0" y="0"/>
            <a:ext cx="5668920" cy="33512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476000" y="1341000"/>
            <a:ext cx="6767640" cy="22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5000"/>
              </a:lnSpc>
              <a:spcBef>
                <a:spcPts val="6001"/>
              </a:spcBef>
              <a:spcAft>
                <a:spcPts val="6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GDF Business Advisory Committee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Recommendation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Stop TB Partnership</a:t>
            </a:r>
            <a:br>
              <a:rPr sz="2800"/>
            </a:b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Coordinating Board Meeting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8-19 April 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rcRect l="0" t="0" r="8605" b="66607"/>
          <a:stretch/>
        </p:blipFill>
        <p:spPr>
          <a:xfrm>
            <a:off x="0" y="0"/>
            <a:ext cx="5668920" cy="33512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476000" y="1412640"/>
            <a:ext cx="7488360" cy="49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>
              <a:lnSpc>
                <a:spcPct val="80000"/>
              </a:lnSpc>
              <a:spcBef>
                <a:spcPts val="700"/>
              </a:spcBef>
              <a:spcAft>
                <a:spcPts val="8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AC providing advice to the GDF on meeting its strategic 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 algn="r">
              <a:lnSpc>
                <a:spcPct val="80000"/>
              </a:lnSpc>
              <a:spcBef>
                <a:spcPts val="451"/>
              </a:spcBef>
              <a:spcAft>
                <a:spcPts val="56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Helping GDF to effectively execute its broad ranging operations in a complex business environment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r">
              <a:lnSpc>
                <a:spcPct val="80000"/>
              </a:lnSpc>
              <a:spcBef>
                <a:spcPts val="700"/>
              </a:spcBef>
              <a:spcAft>
                <a:spcPts val="8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ven members with wide-ranging expertise, selected through competitive nomination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 algn="r">
              <a:lnSpc>
                <a:spcPct val="80000"/>
              </a:lnSpc>
              <a:spcBef>
                <a:spcPts val="451"/>
              </a:spcBef>
              <a:spcAft>
                <a:spcPts val="56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raw material manufacturing, pharmac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 algn="r">
              <a:lnSpc>
                <a:spcPct val="80000"/>
              </a:lnSpc>
              <a:spcBef>
                <a:spcPts val="451"/>
              </a:spcBef>
              <a:spcAft>
                <a:spcPts val="56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product formulation for drugs and diagnostic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 algn="r">
              <a:lnSpc>
                <a:spcPct val="80000"/>
              </a:lnSpc>
              <a:spcBef>
                <a:spcPts val="451"/>
              </a:spcBef>
              <a:spcAft>
                <a:spcPts val="56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quality assur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 algn="r">
              <a:lnSpc>
                <a:spcPct val="80000"/>
              </a:lnSpc>
              <a:spcBef>
                <a:spcPts val="451"/>
              </a:spcBef>
              <a:spcAft>
                <a:spcPts val="56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regulatory law, contract la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 algn="r">
              <a:lnSpc>
                <a:spcPct val="80000"/>
              </a:lnSpc>
              <a:spcBef>
                <a:spcPts val="451"/>
              </a:spcBef>
              <a:spcAft>
                <a:spcPts val="56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business develop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 algn="r">
              <a:lnSpc>
                <a:spcPct val="80000"/>
              </a:lnSpc>
              <a:spcBef>
                <a:spcPts val="451"/>
              </a:spcBef>
              <a:spcAft>
                <a:spcPts val="56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competitive procurement proc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 algn="r">
              <a:lnSpc>
                <a:spcPct val="80000"/>
              </a:lnSpc>
              <a:spcBef>
                <a:spcPts val="451"/>
              </a:spcBef>
              <a:spcAft>
                <a:spcPts val="56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pricing and distribution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rcRect l="0" t="0" r="8605" b="66607"/>
          <a:stretch/>
        </p:blipFill>
        <p:spPr>
          <a:xfrm>
            <a:off x="0" y="0"/>
            <a:ext cx="5668920" cy="33512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2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ocus of 1</a:t>
            </a:r>
            <a:r>
              <a:rPr b="0" lang="en-GB" sz="4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BAC Mee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76360" y="1600200"/>
            <a:ext cx="7416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宋体"/>
              </a:rPr>
              <a:t>Insufficient number of prequalified suppliers of anti-TB dru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宋体"/>
              </a:rPr>
              <a:t>Strategies for effective introduction of additional TB products to the GDF catalog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宋体"/>
              </a:rPr>
              <a:t>Evolution of GDF service l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rcRect l="0" t="0" r="8605" b="66607"/>
          <a:stretch/>
        </p:blipFill>
        <p:spPr>
          <a:xfrm>
            <a:off x="0" y="0"/>
            <a:ext cx="5668920" cy="335124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47640" y="274320"/>
            <a:ext cx="73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-838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宋体"/>
              </a:rPr>
              <a:t>Increasing number of prequalified suppli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618920" y="1600200"/>
            <a:ext cx="727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mited and biased supplier 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ow pre-qualification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mmend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ile inventory of drug finished product and API manufacturers, including, local industries, analysis of volume and target mark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and address bottlenecks in the pre-qualification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ilitate the process of pre-qualification by providing process and technical assistance to manufactur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0" r="8605" b="66607"/>
          <a:stretch/>
        </p:blipFill>
        <p:spPr>
          <a:xfrm>
            <a:off x="0" y="0"/>
            <a:ext cx="5668920" cy="33512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47640" y="274320"/>
            <a:ext cx="73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-838080"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Effectively introducing new items to GDF product 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476000" y="1700280"/>
            <a:ext cx="7210440" cy="49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ediatric formulations: Lack of PQ suppl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upply and demand of 2nd line products not alig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agnostics: Lack  of international quality standa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commend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ggressive approach required to pre-qualify suppliers of paediatric products and to identify low cost quality form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ull convergence of GDF and GLC should be expedi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view respective roles, ensure integrated service ch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xpert analysis on supply capability (including API), true demand, and local regulatory obstacles to procur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DF to advocate quality standards for current diagnos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lso prepare supply strategy upon adoption of new diagnos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0" t="0" r="8605" b="66607"/>
          <a:stretch/>
        </p:blipFill>
        <p:spPr>
          <a:xfrm>
            <a:off x="0" y="0"/>
            <a:ext cx="5668920" cy="335124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2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-838080"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宋体"/>
              </a:rPr>
              <a:t>Strategic approach to developing GDF service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47280" y="1557000"/>
            <a:ext cx="74170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ustaining/Increasing grant service 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strictive local drug licensing, procurement reg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DF’s perceived position in tender mark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eneral lack of local drug management capabilit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ustomer experience – need for accurate feed-b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commend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gressively decrease dependence on grants and promote direct procur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ork with donors, private sector, NGOs, principal grant recip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velop innovative approaches to procurement service provision in context of government or donor requir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ursue a targeted approach for TA on drug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ccelerate steps to hire a TA manager in GDF secretari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outinely collect, analyze and adopt lessons learned from customer feedback – act effectively on critici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rcRect l="0" t="0" r="8605" b="66607"/>
          <a:stretch/>
        </p:blipFill>
        <p:spPr>
          <a:xfrm>
            <a:off x="0" y="0"/>
            <a:ext cx="5668920" cy="335124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124000" y="1599840"/>
            <a:ext cx="65628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DF 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learly advocate its strategic position relative to the Global Fund, WHO and other donors and technical agenc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ek to increase the number of manufacturers prequalified by WHO to supply anti-TB drugs, and increase the number of programmes that order strictly from such suppl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versify its donor base, t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nsure GDF sustain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stain support for existing GDF gr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hare field experiences on service needs, perceptions and obstacles with the three New Tools working grou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bjective is better, affordable, accessible interventions to serve patient nee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1T09:34:26Z</dcterms:created>
  <dc:creator>ryant</dc:creator>
  <dc:description/>
  <dc:language>en-US</dc:language>
  <cp:lastModifiedBy>Bernard</cp:lastModifiedBy>
  <dcterms:modified xsi:type="dcterms:W3CDTF">2007-04-19T06:20:01Z</dcterms:modified>
  <cp:revision>36</cp:revision>
  <dc:subject/>
  <dc:title>Managing Adult and Paediatric Grant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