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comments/comment5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691813" cy="7559675"/>
  <p:notesSz cx="6796088" cy="9928225"/>
</p:presentation>
</file>

<file path=ppt/commentAuthors.xml><?xml version="1.0" encoding="utf-8"?>
<p:cmAuthorLst xmlns:p="http://schemas.openxmlformats.org/presentationml/2006/main">
  <p:cmAuthor id="0" name="SPU" initials="S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<Relationship Id="rId12" Type="http://schemas.openxmlformats.org/officeDocument/2006/relationships/commentAuthors" Target="commentAuthors.xml"/>
</Relationships>
</file>

<file path=ppt/comments/comment5.xml><?xml version="1.0" encoding="utf-8"?>
<p:cmLst xmlns:p="http://schemas.openxmlformats.org/presentationml/2006/main">
  <p:cm authorId="0" dt="2007-04-17T19:54:31.609000000" idx="1">
    <p:pos x="10" y="10"/>
    <p:text>Do we want to enlist Recommendations for companies on how to get engaged or for the Stop TB partnership ona strategy to engage the private sector? These seem to be a mix of both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1880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45344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78416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61880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45344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800360" y="574560"/>
            <a:ext cx="6316560" cy="42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1880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745344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78416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61880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745344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800360" y="574560"/>
            <a:ext cx="6316560" cy="42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017800" y="7035840"/>
            <a:ext cx="320760" cy="3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91160" y="3127320"/>
            <a:ext cx="10693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989000" y="7105680"/>
            <a:ext cx="4780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8CD9A78C-2C8F-4854-BF52-1C84F0BBA72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2400480" y="4379760"/>
            <a:ext cx="1706400" cy="933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3363840" y="-3240"/>
            <a:ext cx="5262480" cy="30114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563840" indent="-2606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2039760" indent="-2584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800360" y="1225440"/>
            <a:ext cx="8275680" cy="0"/>
          </a:xfrm>
          <a:prstGeom prst="line">
            <a:avLst/>
          </a:prstGeom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10" name="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" name="" descr=""/>
            <p:cNvPicPr/>
            <p:nvPr/>
          </p:nvPicPr>
          <p:blipFill>
            <a:blip r:embed="rId5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7035840"/>
            <a:ext cx="1557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-1804680" y="4199040"/>
            <a:ext cx="5253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spAutoFit/>
          </a:bodyPr>
          <a:p>
            <a:pPr algn="ctr">
              <a:lnSpc>
                <a:spcPct val="110000"/>
              </a:lnSpc>
              <a:spcBef>
                <a:spcPts val="1687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World Economic Foru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722600" y="1881360"/>
            <a:ext cx="897084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53" name="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" descr=""/>
            <p:cNvPicPr/>
            <p:nvPr/>
          </p:nvPicPr>
          <p:blipFill>
            <a:blip r:embed="rId3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0" algn="ctr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26028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3840" indent="21744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85840" indent="17316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85840" indent="1731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85840" indent="1731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724040" y="873000"/>
            <a:ext cx="8721720" cy="50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Building A Stronger Corporate Sector Response </a:t>
            </a:r>
            <a:r>
              <a:rPr b="1" lang="en-GB" sz="31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2100"/>
            </a:br>
            <a:br>
              <a:rPr sz="1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eneva, 19 April 2007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Jean-François de Lavison,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Mérieux Alli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Stefaan van der Borght, Heinek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François Bonnici, World Economic For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00000" y="4950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What is the corporate sector’s role in the Partnership?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84160" y="1428840"/>
            <a:ext cx="838332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orporate Sector Board seat since Oct 200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Board seat on European Partnership since 2006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onstituency of  &gt; 50 companies engag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lections of board representatives every 2 yea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Bring business perspectives, input, expertise, resources to Partnershi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Advocate for collaborative approach to all elements of TB contro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00000" y="526680"/>
            <a:ext cx="889308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Key actors in corporate sector engagement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987560" y="3351240"/>
            <a:ext cx="2153880" cy="916920"/>
            <a:chOff x="1987560" y="3351240"/>
            <a:chExt cx="2153880" cy="916920"/>
          </a:xfrm>
        </p:grpSpPr>
        <p:sp>
          <p:nvSpPr>
            <p:cNvPr id="98" name=""/>
            <p:cNvSpPr/>
            <p:nvPr/>
          </p:nvSpPr>
          <p:spPr>
            <a:xfrm>
              <a:off x="1987560" y="3352680"/>
              <a:ext cx="2133360" cy="914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991880" y="3351240"/>
              <a:ext cx="2149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ivil socie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Organiz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Local gover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5071320" y="5713560"/>
            <a:ext cx="155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 Bu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21400" y="5591160"/>
            <a:ext cx="2207880" cy="961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07080" y="3048120"/>
            <a:ext cx="2209680" cy="1752480"/>
          </a:xfrm>
          <a:prstGeom prst="hexagon">
            <a:avLst>
              <a:gd name="adj" fmla="val 31522"/>
              <a:gd name="vf" fmla="val 11547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997520" y="3219480"/>
            <a:ext cx="185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conom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778880" y="3276720"/>
            <a:ext cx="2500200" cy="1565280"/>
          </a:xfrm>
          <a:prstGeom prst="diamond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094240" y="365616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velop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nd aid ag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730760" y="1447920"/>
            <a:ext cx="2286000" cy="838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885920" y="164448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ivate enterpr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597040" y="2057040"/>
            <a:ext cx="2057400" cy="11430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16760" y="2057400"/>
            <a:ext cx="1600200" cy="12952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30560" y="441972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7016400" y="4724280"/>
            <a:ext cx="1600200" cy="12193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00000" y="685440"/>
            <a:ext cx="889308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There have been some valuable corporate sector actions 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                                     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28360" y="1300320"/>
            <a:ext cx="8744040" cy="62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stablished Private Sector Constituency – building momentu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Held elections of representatives for the Boar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articipation in Working Groups &amp; Task Forces – ACSM, DOTS Expansion PPM, Retooling TF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Launch of Global Plan in Davos January 2006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reation of Business Advisory Committee for GDF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stablishing Business Engagement Task Force ASCM W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MOU signed with World Economic Forum 2006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2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Coming next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Stop TB Private Sector Constituency Meeting  Friday 20 April (Genev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lans : USA, China, German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00000" y="54252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Roles the corporate sector can play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50960" y="1428840"/>
            <a:ext cx="904248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vest and collaborate in appropriate research and development  and supply of TB care commodities and new t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velop and implement workplace and community TB control programmes (including awareness, diagnosis, treatment, ca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ntribute ‘core competencies’ in strategy development, (eg. consulting), in implementation (eg. manufacturing, distribution, supply) and in advocacy (eg. communications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vide platforms for education on TB control methods (eg. lab train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nsure appropriate sales where no process in pl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vocate for sound TB polic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800000" y="542520"/>
            <a:ext cx="889308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Suggested Strategies for Corporate Sector Engagement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62040" y="1409760"/>
            <a:ext cx="912816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uild a community of companies with a commitment to TB contr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ncourage active engagement in Working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hare information within Partnership to stimulate collaboration (including STP activities and data such as forecasting informa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ocument and share best corporate sector practices in TB control (eg. Eli Lilly Technology Transfer, India Business Alliance to StopTB)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dentify companies whose expertise can specifically contribute to overall TB efforts: media, PR, consulting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ork with professional societies and business associations on TB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imulate collaboration between MNC and developing country companies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(eg. t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chnology and knowledge transfer to emerging compani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nsider companies that provide health care services as early adopters or distributors of new t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00000" y="574560"/>
            <a:ext cx="857700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A strategic approach is key to active engagement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9089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5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he Board’s advice and endorsement is sought on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2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Developing a private sector strategy for deeper engagement in the Partnershi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roviding a platform for private sector dialogue with Partnership constitu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Hosting high level meeting with CEOs with Boar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reating links with Business Schools for Working Grou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16:18:08Z</dcterms:created>
  <dc:creator>Marie-France Roger</dc:creator>
  <dc:description/>
  <cp:keywords/>
  <dc:language>en-US</dc:language>
  <cp:lastModifiedBy>François Bonnici</cp:lastModifiedBy>
  <dcterms:modified xsi:type="dcterms:W3CDTF">2007-04-19T07:09:51Z</dcterms:modified>
  <cp:revision>70</cp:revision>
  <dc:subject/>
  <dc:title>Slide 1</dc:title>
</cp:coreProperties>
</file>