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95D6-5370-4AC4-AAAF-DE8EF3DC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6988-7D52-44CD-9490-54E72704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A9D1-4DFE-43A6-9F6D-0A1EA611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0810-27D7-4AC4-990D-C788E771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824C-7738-445D-942F-A2C8FA2C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9B24-55F8-4C5D-BACB-DA280F87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5C9A-1361-4B31-B296-780ECA95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71EC-957A-4A1E-85A2-08A48449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52BB-8860-4CA2-9B6B-1B7CFA0B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7343-7324-415A-BFAE-F057015E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A813-C2B9-401A-951B-3C83CA6D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B0D5-7BA7-4803-B2F1-2638C430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6A4C-09E1-4CE4-8EB5-A00EF0D4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7059-73C0-48B8-BE36-E4590EF2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2102-EB3E-4B71-86B9-63AB28A9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74B2-5959-46FA-91C8-6820AA5E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F544-9DCD-4850-AAFA-0F8B98FB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AFE2-2AB4-4ED3-B643-F3210F50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B951-A15C-496B-B77A-0FA254E8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7BB-72FA-4ACE-902B-EE1475F9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7862-3C81-4A2A-8652-26DB65E7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9721-05EB-4D9F-AC5B-30311AFC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9578-715B-4EFD-8C90-980783C5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E763-8D89-4757-B4C0-16812758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1AA1-7E20-431B-B0C6-647400F6870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C4F6-696A-47F7-A9D4-09AD49BF4F5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 perspective of the community evolution in TB control (2005-2007), by a living legend. 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ion of the UCCATM for the Civil Society to engage in Political advocacy in Kenya.( this was after TB grant Round 2, Phase 2 was suspended in Kenya 200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ting of the suspension on R2 P2,its sign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ing of Round 5 and money disburs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ocacy for TB representation on the C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civil society engagement in TB activ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drawal of the Industrial property bill from parliament-Bill to ensure use of brand drugs only for HIV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media coverage on TB and TB/HI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sing of the political profile of TB in Keny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lanned activ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sive effort campaign on TB in Kenya-(gazzetement of TB and HIV as emergenc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os engagement of civil societies to think and do TB work at grass root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HA conference April 2007 “Impact of TB among PLH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tly I stay committed to TB advocacy and be assured that you cant count on me for your support in all TB work= TB free wor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knowledg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ard members for all their unwavering support  for patient empower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munity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l the community representatives at the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 Jeremiah Chaka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Educational f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I referral Hospi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vil Society in Ken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ntry Point in TB &amp;TB/HIV advocac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B/HIV co-inf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viving the dual epidem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pite an immune reconstit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all started after open confession of living with HIV  being the first HCW to openly acknowledge having th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tion in TB/HIV advocacy organized by WH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national advocac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ation by Results educational fund to participate in media work prior to G 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nvolved media interviews on Good morning Scotland and BBC English and Kiswahili program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on one meetings with Parliamentarians in UK to sensitise them of the TB situation i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very of TB letter to Tony Blair’s office prior to G8 to advocate for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ever board member to represent communities affected on the Stop TB C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esentative on the TB/HIV working group and core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to the Open Society Institute Community advisory Committee on TB/HIV monitoring and advocacy project –Project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gass Global Task force 2006 to represent TB/HIV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achievements 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unity engagement within the Stop TB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representative on the C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moting TB/HIV advisor in UNAI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dition of component 5 within the Stop TB strateg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cipation in HLM’s and Global plan 2 launch in Africa and Toronto AIDS conferen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G research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AG-OSI collaboration for TB, TB-HIV advocacy training and treatment literac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stablishment of a Community Task For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Leading the TB-HIV WG to endorse universal targets for TB-HIV collaborative ac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Global achievements I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Patients Char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obal media articles-Maputo, Toronto on TB and TB/HIV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Civil Society Challenge fu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greater collaboration among WHO HIV and TB Departments and UNAI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expanded diagnosis of smear negative of extra-pulmonary TB in high HIV prevalence ar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new TB drugs, better TB diagnostics and a new TB vacc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donors support for TB contro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rican emergency declaration on TB-South Africa, Nigeria, Tanzania and Malawi – Kenya ????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African Civil society on TB/HIV prior to the Abuja summit that resulted in the specific TB/HIV indicators in the common position paper (post Abuj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tion in the ACSO taskforce to represent TB/HIV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ilitation in the 2nd Training of TB/HIV advocates in Africa. And TAG’s workshop that brought together 70 participants from African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World Bank Pres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Finance during the recent UNECA meeting in Add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Health during the recent Jo Burg meeting April 2007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B Emergency- CSO advoc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raining of journalists on TB/HIV March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% campaign on Health by AC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enyan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/HIV steering committ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 I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MOI Referral Hospital TB/HIV committee that resulted in one stop clinic for TB/HI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United Civil society Coalition on AIDS,TB and Malaria representing T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literacy on TB and TB/HIV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ask force on TB/HIV for training journa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5:39:40Z</dcterms:created>
  <dc:creator>  </dc:creator>
  <dc:description/>
  <dc:language>en-US</dc:language>
  <cp:lastModifiedBy>Ezio T. Santos Filho</cp:lastModifiedBy>
  <dcterms:modified xsi:type="dcterms:W3CDTF">2007-04-18T17:05:47Z</dcterms:modified>
  <cp:revision>15</cp:revision>
  <dc:subject/>
  <dc:title>2004-2006 Patient Empowerment</dc:title>
</cp:coreProperties>
</file>