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9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7.wmf" ContentType="image/x-wmf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2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wmf" ContentType="image/x-wmf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DDE8-C094-4DB3-969E-80C9CA88C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AF21-4B65-46A8-8764-37E749B0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DE34-633A-49F9-B6D2-61263DE42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8D8E-0CA7-45C7-8ED2-232076944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C303-A43A-401F-A144-083994B9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B48D-404F-4419-9BD1-66D35CEA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3060-2EF0-4E1A-ACD2-0B2D50F6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17D0-0664-4F81-AF59-BD02EB3F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44A9-7E4C-402B-827B-DA770C24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406B-D243-4DB4-BCE3-A36FF952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4A13-FC1F-4BC4-ABAF-C32E687D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A379-3CDB-4671-832C-CA83081C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6E20-6E5B-4AFF-9800-D22EE4988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hyperlink" Target="http://images.google.ch/imgres?imgurl=http://www.telescope.bg/bg_skywatcher/img/skp25012eq6-sb.jpg&amp;imgrefurl=http://www.telescope.bg/bg/skywatcher.html&amp;h=656&amp;w=360&amp;sz=41&amp;hl=en&amp;start=12&amp;tbnid=JGLvl2dDRxXooM:&amp;tbnh=138&amp;tbnw=76&amp;prev=/images%3Fq%3Dtelescope%26gbv%3D2%26svnum%3D10%26hl%3Den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dTB</a:t>
            </a:r>
            <a:br>
              <a:rPr sz="48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B determinants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B meeting 18 April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nut Lönnr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op TB Department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 of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38600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Quantify epidemiological patterns associated with the apparent failure to reduce incidence in some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Quantify the population level impact on the TB epidemic of various risk factors – Population Attributable Fraction (PA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Explore possible intervention areas not fully covered in the Stop TB Strategy, model potential impact on the epide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Contribute to the evolution of the Stop TB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ibute to Commission on Social Determinants of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pulation Attributable Fr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selected risk fa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tative selection of risk factors with reasonably high prevalence:  HIV, smoking, malnutrition, diabetes, indoor air 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tative relative risk estimates (TB disease) from systematic reviews and consultations with exp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alence estimates for 22 HBCs, from various global databa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ion of preliminary population attributable fraction for the risk factors in 22 HB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569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liminary fin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68360" y="1989000"/>
          <a:ext cx="8229600" cy="4575240"/>
        </p:xfrm>
        <a:graphic>
          <a:graphicData uri="http://schemas.openxmlformats.org/drawingml/2006/table">
            <a:tbl>
              <a:tblPr/>
              <a:tblGrid>
                <a:gridCol w="1873080"/>
                <a:gridCol w="2117880"/>
                <a:gridCol w="2119320"/>
                <a:gridCol w="2119320"/>
              </a:tblGrid>
              <a:tr h="11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lative risk for active TB dis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Weighted preval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opulation Attributable Fr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HIV inf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alnutr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7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iabe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o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8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ndoor Air Pol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1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6084720" y="260280"/>
            <a:ext cx="288144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heoretical relative TB decrease if risk factor is eli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524720" y="1483920"/>
            <a:ext cx="0" cy="576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ed next 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ine and extend risk factor analysis (Crowding, alcohol, occupational exposure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country case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 impact on TB epide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these "downstream" risk factors to "upstream" determin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interventions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within and outside the health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define roles for NTPs and Stop TB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intervention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Programmatic,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within TB programmes and across public health programmes, to reduce HIV, smoking, malnutrition, diabe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9900"/>
                </a:solidFill>
                <a:uFillTx/>
                <a:latin typeface="Arial"/>
              </a:rPr>
              <a:t>HSS and PHC strengthening</a:t>
            </a:r>
            <a:r>
              <a:rPr b="0" lang="en-US" sz="2800" spc="-1" strike="noStrike" u="sng">
                <a:solidFill>
                  <a:srgbClr val="009900"/>
                </a:solidFill>
                <a:uFillTx/>
                <a:latin typeface="Arial"/>
              </a:rPr>
              <a:t>: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improve capacity to address all above risk f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Outside health care: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address malnutrition, indoor air pollution, crowding, and "upstream" social determinants through social, economic and environmental poli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 aspects of the presen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the Stop TB Partnership contribute to the proj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tentative suggested broad intervention areas  appropriate and feas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ould be the role of WHO and the Stop TB Partnership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ur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vocating need to address social determinants outside the health se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city planners, sociologists, architects, engineers and nutritionists in Stop TB Partnershi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785440" cy="540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causing TB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>
            <a:lum bright="2000"/>
          </a:blip>
          <a:stretch/>
        </p:blipFill>
        <p:spPr>
          <a:xfrm>
            <a:off x="4356000" y="1268280"/>
            <a:ext cx="4788000" cy="5589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4500720" cy="5589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79280" y="0"/>
            <a:ext cx="113832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797960" y="189000"/>
            <a:ext cx="882360" cy="1601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35280" y="3284640"/>
            <a:ext cx="1656000" cy="1296720"/>
          </a:xfrm>
          <a:prstGeom prst="leftArrow">
            <a:avLst>
              <a:gd name="adj1" fmla="val 50000"/>
              <a:gd name="adj2" fmla="val 319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95640" y="3573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geographical vari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0" y="1246320"/>
            <a:ext cx="9144000" cy="5638680"/>
            <a:chOff x="0" y="1246320"/>
            <a:chExt cx="9144000" cy="5638680"/>
          </a:xfrm>
        </p:grpSpPr>
        <p:graphicFrame>
          <p:nvGraphicFramePr>
            <p:cNvPr id="52" name=""/>
            <p:cNvGraphicFramePr/>
            <p:nvPr/>
          </p:nvGraphicFramePr>
          <p:xfrm>
            <a:off x="0" y="1246320"/>
            <a:ext cx="9144000" cy="5638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246320"/>
                      <a:ext cx="9144000" cy="563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4" name=""/>
            <p:cNvGrpSpPr/>
            <p:nvPr/>
          </p:nvGrpSpPr>
          <p:grpSpPr>
            <a:xfrm>
              <a:off x="0" y="3151080"/>
              <a:ext cx="2438280" cy="1770480"/>
              <a:chOff x="0" y="3151080"/>
              <a:chExt cx="2438280" cy="1770480"/>
            </a:xfrm>
          </p:grpSpPr>
          <p:sp>
            <p:nvSpPr>
              <p:cNvPr id="55" name=""/>
              <p:cNvSpPr/>
              <p:nvPr/>
            </p:nvSpPr>
            <p:spPr>
              <a:xfrm>
                <a:off x="304920" y="3881520"/>
                <a:ext cx="179280" cy="108000"/>
              </a:xfrm>
              <a:prstGeom prst="rect">
                <a:avLst/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57200" y="3813120"/>
                <a:ext cx="137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5 to 4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04920" y="4098960"/>
                <a:ext cx="179280" cy="10800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7200" y="403056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0 to 9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04920" y="4314960"/>
                <a:ext cx="179280" cy="108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57200" y="424656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0 to 29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04920" y="3448080"/>
                <a:ext cx="179280" cy="1080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57200" y="3379680"/>
                <a:ext cx="137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&lt; 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04920" y="3665520"/>
                <a:ext cx="179280" cy="10800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57200" y="3597120"/>
                <a:ext cx="1905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 to 2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04920" y="4530600"/>
                <a:ext cx="179280" cy="10800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57200" y="446256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00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or mor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04920" y="4743360"/>
                <a:ext cx="179280" cy="108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57200" y="467532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o Estimat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3151080"/>
                <a:ext cx="1828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er 100 000 popul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are men at higher ris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2060640"/>
          <a:ext cx="51483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60640"/>
                    <a:ext cx="5148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003640" y="2060640"/>
          <a:ext cx="3816360" cy="454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2060640"/>
                    <a:ext cx="3816360" cy="45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468360" y="148428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number notified new smear positive cases globally i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0360" y="1484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number of daily smokers glob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re the poor at higher ris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1461960"/>
            <a:ext cx="9144000" cy="5254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564000" y="2560680"/>
            <a:ext cx="2016000" cy="1373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788000" y="3537000"/>
            <a:ext cx="2077920" cy="1555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804000" y="3900600"/>
            <a:ext cx="2160720" cy="1512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4" name="" descr="Die Ärtze werden von den Bewohnern bereits erwartet"/>
          <p:cNvPicPr/>
          <p:nvPr/>
        </p:nvPicPr>
        <p:blipFill>
          <a:blip r:embed="rId5"/>
          <a:stretch/>
        </p:blipFill>
        <p:spPr>
          <a:xfrm>
            <a:off x="2502000" y="692280"/>
            <a:ext cx="1674720" cy="2232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03640" y="115560"/>
            <a:ext cx="5494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ants of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627280" y="4340160"/>
            <a:ext cx="3888000" cy="2517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630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ill infect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64000" y="3789360"/>
            <a:ext cx="216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ituations leading to high exp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16720" y="616572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or host def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5373720"/>
            <a:ext cx="2376720" cy="785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/no diagn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effective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414520" cy="331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79280" y="3645000"/>
            <a:ext cx="2376720" cy="153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10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erfec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health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88000" y="3789360"/>
            <a:ext cx="2305080" cy="1894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 treatment and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vacc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56000" y="2276640"/>
            <a:ext cx="4032000" cy="20160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5157720"/>
            <a:ext cx="0" cy="216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32000" y="6237360"/>
            <a:ext cx="0" cy="216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32000" y="3357720"/>
            <a:ext cx="0" cy="358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19640" y="1341360"/>
            <a:ext cx="223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788000" y="2708280"/>
            <a:ext cx="1224000" cy="10810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72360" y="2781360"/>
            <a:ext cx="1295280" cy="3311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B deaths in England and W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39640" y="2276640"/>
            <a:ext cx="7696440" cy="4270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732720" y="4149720"/>
            <a:ext cx="1439640" cy="189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80360" y="407664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 "/>
          <p:cNvPicPr/>
          <p:nvPr/>
        </p:nvPicPr>
        <p:blipFill>
          <a:blip r:embed="rId3"/>
          <a:stretch/>
        </p:blipFill>
        <p:spPr>
          <a:xfrm>
            <a:off x="2843280" y="1844640"/>
            <a:ext cx="1349280" cy="1513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696000" y="414972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ontributed 3% of reduction in TB death 1848-19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03640" y="115560"/>
            <a:ext cx="5494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ants of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627280" y="4340160"/>
            <a:ext cx="3888000" cy="2517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50920" y="630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ill infect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3789360"/>
            <a:ext cx="216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ituations leading to high exp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16720" y="616572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or host def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16720" y="2924280"/>
            <a:ext cx="2376360" cy="27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"Downstream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isk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nutr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b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oor air pol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16720" y="1197000"/>
            <a:ext cx="237636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"Upstream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cial, economic and environmental determin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67640" y="5661000"/>
            <a:ext cx="0" cy="504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67640" y="2421000"/>
            <a:ext cx="0" cy="504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13:08:24Z</dcterms:created>
  <dc:creator>Knut Lonnroth</dc:creator>
  <dc:description/>
  <dc:language>en-US</dc:language>
  <cp:lastModifiedBy>Knut Lonnroth</cp:lastModifiedBy>
  <dcterms:modified xsi:type="dcterms:W3CDTF">2007-04-18T05:39:56Z</dcterms:modified>
  <cp:revision>44</cp:revision>
  <dc:subject/>
  <dc:title>Slide 1</dc:title>
</cp:coreProperties>
</file>