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4303-9CBD-4308-9D98-672FA0EA5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5F18-EB80-41EA-9BBC-EB67ACD9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AD22-9E77-4E01-BEED-3D3AC6C10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D678-4525-4EB4-976A-03DA843C1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FC03-6E93-4DEC-B58F-3ECF71F6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45AA-2D97-4EF4-AA43-350615B8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6147-1217-4D28-BA4B-B4B427F9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D063-5DB6-4A65-8581-9EA70046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A906-6FD7-4E15-8320-A08EB6CE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3698-12C6-4CFB-B6A5-DC9AF886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C925-8B0A-4BA1-909F-421D7FA7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216D-99A1-4563-BF45-234BC12D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199F-E30B-4DF8-9DA9-4749993D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A43A-4410-4D86-8A21-9AD24010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2287-2BD1-4284-8DDA-9DF6B60F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5DEF-1A90-4BD1-A969-D13DE293E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C8B3-9B7E-4BCB-8FDD-D18EED4E1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D63C-A3EC-4A76-81B0-C368105D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A51D-943A-430D-AA4D-39258DFA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DFA1-22CA-4669-B0F5-B9413738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3C85-2DB4-4874-8AE2-CB154FE8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D87E-8609-4EB7-B268-F61CCF6F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6DD4-D0E5-4585-AF13-89F442D6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F8D0-B57C-4784-A151-4996E168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2CB2-0738-44C9-B89A-82CD8E30EB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9AFD-A757-492A-83E1-56BC61C067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stoptb.org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201600"/>
            <a:ext cx="3095640" cy="92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619280" y="2565360"/>
            <a:ext cx="604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LAN OF ACTION 2008-09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IMPLEMENTING"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KING GROUPS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95280" y="1628640"/>
          <a:ext cx="8424720" cy="4392360"/>
        </p:xfrm>
        <a:graphic>
          <a:graphicData uri="http://schemas.openxmlformats.org/drawingml/2006/table">
            <a:tbl>
              <a:tblPr/>
              <a:tblGrid>
                <a:gridCol w="4024440"/>
                <a:gridCol w="1257120"/>
                <a:gridCol w="376200"/>
                <a:gridCol w="1509840"/>
                <a:gridCol w="1257120"/>
              </a:tblGrid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ing Grou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G Chairmanshi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DR-TB WG Secretaria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ctivities of core group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d subgroup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eeting of the WG (two meeting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,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7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395280" y="404640"/>
            <a:ext cx="838980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operations of the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 and sub-groups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205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6093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021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92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73360" y="44139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6200" y="4686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320" y="5869800"/>
            <a:ext cx="84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his does not include pledges received by partners of the WG other than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704960"/>
          <a:ext cx="8642160" cy="4100400"/>
        </p:xfrm>
        <a:graphic>
          <a:graphicData uri="http://schemas.openxmlformats.org/drawingml/2006/table">
            <a:tbl>
              <a:tblPr/>
              <a:tblGrid>
                <a:gridCol w="4000320"/>
                <a:gridCol w="216000"/>
                <a:gridCol w="1880640"/>
                <a:gridCol w="1333080"/>
                <a:gridCol w="121212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and GLC </a:t>
                      </a:r>
                      <a:r>
                        <a:rPr b="1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LC (according to business pl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,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other than GLC (including laboratory strengthening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5,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4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6,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1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3,5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50920" y="436680"/>
            <a:ext cx="864216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technical assistance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27664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877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5805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414000"/>
            <a:ext cx="856908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1: Catalyse I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mplementatio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f HIV/TB activities through: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Regional TB/HIV implementation meet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sia Pacific  and Africa regional meet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raining and Engagement of  NAP and NTP manag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Introduce TB/HIV components (including TB infection control) into Global Fund proposa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dvocate for TB/HIV impleme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Joint UN teams on AIDS and partners at country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Harmonized TB/HIV 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Facilitate a freely accessible web-based collection and sharing of data and information on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6597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Stop TB Partnership Website"/>
          <p:cNvPicPr/>
          <p:nvPr/>
        </p:nvPicPr>
        <p:blipFill>
          <a:blip r:embed="rId1"/>
          <a:stretch/>
        </p:blipFill>
        <p:spPr>
          <a:xfrm>
            <a:off x="7164360" y="105264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2: Promote TB/HIV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search activities and their funding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93320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B/HIV  Research Meetings linked to major HIV meetings  (CROI and IAS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o enhance ongoing efforts to increase  HIV/TB research issues into the mainstream of HIV treatment and prevention research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o engage funders to increase research suppo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support optimal TB prevention, treatment and infection control  within HIV research network activities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37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65300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84464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77156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65959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340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3: Engage leading NGOs i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B/HIV and community mobiliz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2000" y="19782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ngage leading HIV/AIDS NGOs in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mphasis on TB screening and provision of preventive therapy for PLHIV and TB infection control, including in PMTCT serv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xpand and strengthen community mobilization for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Technical assistance to community groups and networks to catalyse national level implementation of collaborative TB/HIV activities, including TB infection control and prevention of MDR and XDR T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62388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6165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4: Communication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nd Guidelines on key HIV/TB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claration of Importance of INH Preventive Therapy in HIV progra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semination of revised infection control guideli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onogram on monitoring of HIV/TB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Funding TB/HIV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all needs at global level to implement TB/HIV activities in count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eeds identified in GP 2008-09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1.153 b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ap estimated for 2008-09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700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unding the working group operations 2008-0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 1.5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712880"/>
            <a:ext cx="8713800" cy="2288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TS Expansion Working Group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Laboratory Capacity Strengthening (SL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Public Private Mix (P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childhood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TB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807000"/>
            <a:ext cx="8713800" cy="19227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Group on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advocacy and resource mob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 group o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drug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reen Light Committee (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3816360" cy="1138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5910120"/>
            <a:ext cx="8713800" cy="8254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/HIV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40920"/>
            <a:ext cx="856908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(DEWG) plan of action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9400" y="184644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reas of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service coverage, Strengthening quality of DOTS implementation and increase access to services for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rengthening to expand quality assured microscopy, culture and D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sources development plan including mapping of existing resources from different health care providers with a focus on the services to the po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existing health care providers to NTP including promotion of international standard for TB care (IS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including impact measu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7715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74064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for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2360" y="1701360"/>
            <a:ext cx="86407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ing support to countries and its coordination: TB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Global Plan implementation and technical suppo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countries accessing funding for TB control (GF, WB and oth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apacity strengthening (strategic plan in prep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addressing Health System Strengthening issues and to implement 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2008-09 (cont)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2360" y="170172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to develop HRD plans including mapping of existing resources from different health care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s to involve community and patients in TB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to enhance equitable access to TB diagnosis and 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incorporating childhood TB in strategic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up and expand PPM activities including promotion of I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research groups within and outside  countries to develop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1150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an of action 2008-2009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349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of countries for DOTS Expansion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3 b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for all countri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250 million in 2007 for HBC onl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for support to countries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65 m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(without laborator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35 million in 2007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osts of operations of the DEWG in 2008-09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2.2 million for 2 year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1.6 million for the period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844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16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1280" y="5589720"/>
            <a:ext cx="1657440" cy="49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Stop TB Partnership Websit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WG plan of action 2008-2009 </a:t>
            </a:r>
            <a:br>
              <a:rPr sz="32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ordination work of WG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-group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1701720"/>
            <a:ext cx="8351640" cy="504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80000" y="170028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 US$ thous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Stop TB Partnership Website"/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6000" y="188640"/>
            <a:ext cx="8604000" cy="936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lobal MDR/XDR-TB Response Plan: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operational plan of the MDR-TB WG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511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basic TB and HIV/AIDS control, to avoid creation of MDR-TB and XDR-T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up programmatic management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laboratory services for adequate and timely diagnosis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 MDR-TB and XDR-TB surveillanc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infection control, especially in high HIV prevalence setting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advocacy, communication and social mobilization (e.g., Response Pla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sue resource mobilization at global, regional and country leve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e research and development into new diagnostics, drugs and vacci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80000" y="1771560"/>
            <a:ext cx="3021120" cy="4249800"/>
          </a:xfrm>
          <a:prstGeom prst="rect">
            <a:avLst/>
          </a:prstGeom>
          <a:ln w="28440">
            <a:solidFill>
              <a:srgbClr val="d2d543"/>
            </a:solidFill>
            <a:miter/>
          </a:ln>
          <a:effectLst>
            <a:outerShdw dist="107932" dir="18900000" blurRad="0" rotWithShape="0">
              <a:srgbClr val="ffcf01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38160">
            <a:solidFill>
              <a:srgbClr val="ffcf01"/>
            </a:solidFill>
            <a:miter/>
          </a:ln>
          <a:effectLst>
            <a:outerShdw dist="107932" dir="18900000" blurRad="0" rotWithShape="0">
              <a:srgbClr val="d2d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Stop TB Partnership Website"/>
          <p:cNvPicPr/>
          <p:nvPr/>
        </p:nvPicPr>
        <p:blipFill>
          <a:blip r:embed="rId2"/>
          <a:stretch/>
        </p:blipFill>
        <p:spPr>
          <a:xfrm>
            <a:off x="7093080" y="404640"/>
            <a:ext cx="165708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24000" y="1569960"/>
          <a:ext cx="8496000" cy="4756320"/>
        </p:xfrm>
        <a:graphic>
          <a:graphicData uri="http://schemas.openxmlformats.org/drawingml/2006/table">
            <a:tbl>
              <a:tblPr/>
              <a:tblGrid>
                <a:gridCol w="2282760"/>
                <a:gridCol w="6213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gro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vocacy and resource mobi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business plan of the GLC; resource mobilization plan; advocacy products on MDR-TB, including quarterly 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research agenda published; promotion of operational research; assistance to WHO in updating guidelines; two in-person meetings to assess progress and strategize 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rug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lan of action to tackle the drug procurement crisis; six regional meetings to promote WHO Prequalification of second-line anti-TB drugs; four in-person meetings of the sub-group to assess progress and strategize next steps as per 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r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onitoring report on progress in implementing response plan; strategic guidance to WG and subgroup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50920" y="260280"/>
            <a:ext cx="8642160" cy="10159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1. Products of the sub-group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ing Group on MDR-TB (2008-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476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BlancL</cp:lastModifiedBy>
  <dcterms:modified xsi:type="dcterms:W3CDTF">2007-10-20T15:51:46Z</dcterms:modified>
  <cp:revision>173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0680260</vt:r8>
  </property>
  <property fmtid="{D5CDD505-2E9C-101B-9397-08002B2CF9AE}" pid="3" name="_AuthorEmail">
    <vt:lpwstr>blancl@who.int</vt:lpwstr>
  </property>
  <property fmtid="{D5CDD505-2E9C-101B-9397-08002B2CF9AE}" pid="4" name="_AuthorEmailDisplayName">
    <vt:lpwstr>Blanc, Leopold Joseph</vt:lpwstr>
  </property>
  <property fmtid="{D5CDD505-2E9C-101B-9397-08002B2CF9AE}" pid="5" name="_EmailSubject">
    <vt:lpwstr>WGs for CB Oc 2007-th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