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040-0D68-4AF4-83D0-7A43024A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1C9-932E-4994-8F73-5001EFD0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32C-006B-4546-8BB2-58557D63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A74-D0E5-4A6C-BF42-5E9F8F7B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E6D3-2556-48F1-B0E8-46DD6110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995C-6788-48CE-996F-33791484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A422-465F-4B2E-A174-EDF19B48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3CEE-F99A-4117-ABEF-D28D075F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7DF2-6F0D-4F75-81CC-69BF7F08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68D0-F952-48DE-9A72-65E85512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EC63-15BE-45F8-A68D-8515D253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01B-A4FC-4BC7-863F-BA2E9412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448A-023A-44B3-8B41-18C067E5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92B2-C3CF-4595-9784-C317A398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44A3-C5B1-4319-B757-6E67A268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AF7E-14D6-4F09-8717-953D239F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7FC2-DEED-418D-9035-F737856E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BCC7-B167-496C-928F-EABEC10B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ABB-8653-4274-8915-E665CD96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C675-EFAF-4375-B1CE-F88DD301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3EA0-565A-4C96-A292-9B0BA704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BA0B-B752-40DA-8E45-DEE112A7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3C8B-79DB-43AE-9680-7E0D39F7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3DD-94C0-499A-9BF9-0007E692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E8F8-3CF3-476E-9AF2-FF7127B6892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9797-CD48-4E5C-ABAE-7C0122732BA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2205000"/>
            <a:ext cx="756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ORKPLANS 2008-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SEARCH WORKING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Vaccines WG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1: Keep the Pipeline fill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workshop on innovative approaches to TB vaccine development and provide report and follow-up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2: Build capacity at vaccine trial sit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d convene a “clinical trialists network”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in strengthening of regulatory and ethical capacity in TB endemic countries where trials are being perform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y 3: Perform clinical tria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 annual workshop on laboratory assay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international collaborative study on development of a functional assa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nual meeting on diagnostics paradigms and clinical endpoi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“white book” on clinical evaluation of TB vaccin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4: Provide an enabling infrastructure &amp;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n economics and product profi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 study on economic impac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meeting on advocacy, communications and social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advocacy mate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ommunity outreach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nd support 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f Working Grou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dget Reques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2 Objectiv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udget requested ($U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and improve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G vaccination program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y &amp; translational rese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apacity at vaccine tri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7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clinical tri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33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n enabling infra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55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9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&amp;D Working groups are on track on the deliverables as expressed i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uilding upon early success to strenghten and expand activiti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equest Partnership to continue its support and commitment and scale up activities on resource mobilization for New Tool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ork Plan WG on Diagnostics 2008-2009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1: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Intensify collaboration within the WG on New Diagnostics and with  other WGs of the Stop TB Partnership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nlarge Core Group of the New Diagnostics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stablish Sub-groups within the New Diagnostics Working Group and facilitate sub-group members to take an active role in developing the Sub-group and working towards their goal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Annual all-day meeting of Working Group on New Diagnostics during the Union’s World Conference on Lung Health, plus 2 "Meet the Experts" Workshops in the main programme of the conference 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Part-time personnel support for secretariat in preparation of New Diagnostics WG materials, and development and maintenance of  website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 Area 2: Develop clear criteria for describing intended setting for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candidate diagnostic test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be conducted at the same time as Activity A in Priority Thre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 3: Describe an expanded diagnostics pipeline that reflects the explosion in activity aimed at developing new diagnostics for tuberculosi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conduct one workshop in 2008 to describe the expanded pipeline of T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diagnostics under development or evaluation and develop clear criteria for describing the intended setting for candidate diagnostic test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Update the pipeline in 2009.  This will be mainly achieved through e-mail and teleconference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4: Develop a Scientific Blueprint for the development of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Diagnost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Workshop, consultations, writing, publishing and distributing a Scientific Blueprint for TB Diagnostics Development.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5: Develop criteria to place developing technologies at particular stages of the “value chain” of development and evaluation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6: Work with the STP Retooling Task Force and the Subgroup on Laboratory Capacity Strengthening to promote and facilitate the implementation of new diagnostic technologie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Participation of WG members in Retooling Task Force and SCLS meeting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Develop guidelines for the introduction and sustainable implementation of new diagnostics in partnership with the RTF and SLC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osed biennial budge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0400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47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47840" y="69480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35120" y="1495440"/>
            <a:ext cx="80517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1: Support Global R&amp;D for New TB Drug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research coordination to advance the global TB drug pipeline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Symposia at IUATLD on TB drug development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sh R&amp;D activity mapping projec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Support development of clinical trial site capacity.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Assess funding needs for clinical trial site capacity building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development of biomarkers, surrogate endpoints, animal models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tract and publish a review on the state of the art of biomarkers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/co-sponsor a symposium on these top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Identify strategies to evaluate new drugs for MDR- and XDR-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and help organize meetings of the MDR/XDR Task Forc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publication of MDR/XDR Task Force document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other activities of the MDR/XDR Task Force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47840" y="67644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960" y="1793520"/>
            <a:ext cx="810576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2: Promote harmonized regulatory guidelines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for TB and MDR-TB Drug Development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 and co-sponsor annual Open Fora on key regulatory issu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3: Promote engagement with affected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community representatives (ACRs)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travel to WGND annual meetings, symposia and Open Fora; 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rovide support and training to facilitate ACR participation in meetings and WGND activitie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4: Maintain communication and collabora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WGND</a:t>
            </a: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 meetings; participate in Partnership meeting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Update the Strategic Plan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 core group to oversee implementation of the Strategic Plan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the activities of the Retooling Task Force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cations: e.g. brochure, newsletter, annual reports, websit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Retain the services of a full-time Secretaria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7840" y="68580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72600" y="144936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Minimum Two Year Budget, b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1984320"/>
          <a:ext cx="7629480" cy="4551480"/>
        </p:xfrm>
        <a:graphic>
          <a:graphicData uri="http://schemas.openxmlformats.org/drawingml/2006/table">
            <a:tbl>
              <a:tblPr/>
              <a:tblGrid>
                <a:gridCol w="741960"/>
                <a:gridCol w="2702160"/>
                <a:gridCol w="1572840"/>
                <a:gridCol w="1553760"/>
                <a:gridCol w="1058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Partnership</a:t>
                      </a: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AXIMU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TB Alli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a at IUAT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&amp;D activity mapping projec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ssess funds for clinical trial s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um on Biomark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DR Taskforce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pen For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CR Travel and train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trategic Plan Up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GND Publica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Support sta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Annual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ravel to Partnership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nvene a core grou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$3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User</cp:lastModifiedBy>
  <dcterms:modified xsi:type="dcterms:W3CDTF">2007-10-24T06:20:15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