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BC7-18B0-46E1-8D21-75BA15CD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BA3F-B093-49D0-8766-4090F646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A05-E4AB-4A37-AF56-D1669557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9549-C087-4405-A549-97F8A134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1259-8A4D-4D28-8827-10ACC349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3432-9F2A-40C4-8C7D-0A74D623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40C0-4C0A-452F-B89D-B011AA6F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6221-9365-4709-B396-F0574BAE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C0D8-A363-4A5A-9BCC-FBED0401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E149-BFDC-4DE8-BD32-1CD868C5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FFAB-107B-4237-AD87-FE63AE2F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21ED-B900-4B88-BB26-C5BAF7C1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04B3-32C4-412F-B91E-BD1F9C9E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FED0-125B-4010-99A2-71AD20DA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AC4E-CE72-4BE8-B401-E196856F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11D6-78FD-4EE5-842A-D1AC9D55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0A85-19F0-4A1D-8BD9-25A89632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444-A567-41C7-ABE4-49578344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9F7-CD50-461C-9356-60A46770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F8C-05D7-4C1C-91A2-B978A21E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1D6F-2A53-4273-A4B6-BDE6F6F4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AA3-8624-4D9F-B306-40E206DF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4D21-8698-450B-809A-22A98D62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10A-5384-410E-917B-ED115CD7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95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515D-F92B-4264-8C79-D7ADC8924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A695-4E3F-44C1-A004-726F27C94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695a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695a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695a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Aligning and Harmonising GHIs to </a:t>
            </a: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Strengthen Health System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Francis Omas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B 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rlin, 23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Structure of the </a:t>
            </a:r>
            <a:br>
              <a:rPr sz="3600"/>
            </a:b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Global Health Workforce Alliance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27664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GH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Members’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384280"/>
            <a:ext cx="2286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5084640"/>
            <a:ext cx="13464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ol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5084640"/>
            <a:ext cx="1287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7640" y="5084640"/>
            <a:ext cx="13111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5084640"/>
            <a:ext cx="13302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le up 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0"/>
            <a:endCxn id="209" idx="2"/>
          </p:cNvCxnSpPr>
          <p:nvPr/>
        </p:nvCxnSpPr>
        <p:spPr>
          <a:xfrm flipH="1" flipV="1" rot="5400000">
            <a:off x="4207680" y="3712320"/>
            <a:ext cx="1033560" cy="1712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0" name=""/>
          <p:cNvCxnSpPr>
            <a:stCxn id="204" idx="0"/>
            <a:endCxn id="209" idx="2"/>
          </p:cNvCxnSpPr>
          <p:nvPr/>
        </p:nvCxnSpPr>
        <p:spPr>
          <a:xfrm flipH="1" flipV="1" rot="5400000">
            <a:off x="4968000" y="4472640"/>
            <a:ext cx="1033560" cy="191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1" name=""/>
          <p:cNvCxnSpPr>
            <a:stCxn id="205" idx="0"/>
            <a:endCxn id="209" idx="2"/>
          </p:cNvCxnSpPr>
          <p:nvPr/>
        </p:nvCxnSpPr>
        <p:spPr>
          <a:xfrm flipV="1" rot="16200000">
            <a:off x="5709240" y="3921480"/>
            <a:ext cx="1033560" cy="12931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2" name=""/>
          <p:cNvCxnSpPr>
            <a:stCxn id="203" idx="2"/>
            <a:endCxn id="209" idx="0"/>
          </p:cNvCxnSpPr>
          <p:nvPr/>
        </p:nvCxnSpPr>
        <p:spPr>
          <a:xfrm>
            <a:off x="5570640" y="2820600"/>
            <a:ext cx="10080" cy="60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6" idx="0"/>
            <a:endCxn id="209" idx="2"/>
          </p:cNvCxnSpPr>
          <p:nvPr/>
        </p:nvCxnSpPr>
        <p:spPr>
          <a:xfrm flipV="1" rot="16200000">
            <a:off x="6434640" y="3196080"/>
            <a:ext cx="1033560" cy="27439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4" name=""/>
          <p:cNvSpPr/>
          <p:nvPr/>
        </p:nvSpPr>
        <p:spPr>
          <a:xfrm>
            <a:off x="7245360" y="1628640"/>
            <a:ext cx="15350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45360" y="3068640"/>
            <a:ext cx="1535040" cy="53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ominat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45360" y="2279520"/>
            <a:ext cx="153504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ogram / Polic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1"/>
            <a:endCxn id="203" idx="3"/>
          </p:cNvCxnSpPr>
          <p:nvPr/>
        </p:nvCxnSpPr>
        <p:spPr>
          <a:xfrm flipV="1" rot="10800000">
            <a:off x="6712920" y="1881360"/>
            <a:ext cx="532440" cy="72252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6" idx="1"/>
            <a:endCxn id="203" idx="3"/>
          </p:cNvCxnSpPr>
          <p:nvPr/>
        </p:nvCxnSpPr>
        <p:spPr>
          <a:xfrm rot="10800000">
            <a:off x="6712920" y="2602800"/>
            <a:ext cx="532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1"/>
            <a:endCxn id="203" idx="3"/>
          </p:cNvCxnSpPr>
          <p:nvPr/>
        </p:nvCxnSpPr>
        <p:spPr>
          <a:xfrm rot="10800000">
            <a:off x="6712920" y="2602800"/>
            <a:ext cx="532440" cy="73080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427640" y="3429000"/>
            <a:ext cx="230508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5084640"/>
            <a:ext cx="12240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84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581360"/>
            <a:ext cx="741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00000" y="465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084640"/>
            <a:ext cx="1431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.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HIV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653000"/>
            <a:ext cx="662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s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Task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695aa"/>
                </a:solidFill>
                <a:latin typeface="Arial"/>
              </a:rPr>
              <a:t>Scale-up framework</a:t>
            </a:r>
            <a:endParaRPr b="0" lang="en-US" sz="29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4560" y="1411920"/>
            <a:ext cx="37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GOAL: HEALTH OUTCOM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61440" y="184464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DICATOR: 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2556000" y="220356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ASIC PACKAGE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2923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KILL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72280"/>
            <a:ext cx="92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LOSE-TO-CLIENT HEALTH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fined within country contex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432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xisting capaci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new capa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2800" y="4869000"/>
          <a:ext cx="8291520" cy="199224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27637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LITIC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INA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stitu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frastru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nnec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Supportiv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adershi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mmit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gis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oli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Resour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centi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flipV="1">
            <a:off x="457200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360" y="4221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48690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80000" y="422100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illars of Country HRH Program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-sector Country Ac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Sector Strategic Plan (Multi-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hensive HRH Plan in line with HS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H Observatory with Annual Reporting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, Regional, global, links/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 for Health and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732720" y="2781360"/>
            <a:ext cx="1496880" cy="1079280"/>
          </a:xfrm>
          <a:custGeom>
            <a:avLst/>
            <a:gdLst>
              <a:gd name="textAreaLeft" fmla="*/ 0 w 1496880"/>
              <a:gd name="textAreaRight" fmla="*/ 1497240 w 1496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03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TRONGER 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9760" y="2708280"/>
            <a:ext cx="2082960" cy="119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Adequate / avail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Compe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Motiv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Suppor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9280" y="2276640"/>
            <a:ext cx="1512720" cy="2086920"/>
            <a:chOff x="179280" y="2276640"/>
            <a:chExt cx="1512720" cy="2086920"/>
          </a:xfrm>
        </p:grpSpPr>
        <p:sp>
          <p:nvSpPr>
            <p:cNvPr id="249" name=""/>
            <p:cNvSpPr/>
            <p:nvPr/>
          </p:nvSpPr>
          <p:spPr>
            <a:xfrm>
              <a:off x="179280" y="2276640"/>
              <a:ext cx="1512720" cy="208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Visi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9880" y="2519280"/>
              <a:ext cx="1255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64328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EALTH</a:t>
            </a: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 W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006680" y="30153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3b00"/>
                </a:solidFill>
                <a:latin typeface="Arial"/>
              </a:rPr>
              <a:t>Better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19880" y="2208240"/>
            <a:ext cx="2597400" cy="1769400"/>
            <a:chOff x="1919880" y="2208240"/>
            <a:chExt cx="2597400" cy="1769400"/>
          </a:xfrm>
        </p:grpSpPr>
        <p:sp>
          <p:nvSpPr>
            <p:cNvPr id="254" name=""/>
            <p:cNvSpPr/>
            <p:nvPr/>
          </p:nvSpPr>
          <p:spPr>
            <a:xfrm>
              <a:off x="1919880" y="2587680"/>
              <a:ext cx="2597400" cy="13899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Leadership / manag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Education &amp; 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cruitment  / deploy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Incentives / reten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gional sup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240" y="2208240"/>
              <a:ext cx="205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C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OUNTRY</a:t>
              </a: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 A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340000" y="3933360"/>
            <a:ext cx="0" cy="86220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1773360"/>
            <a:ext cx="0" cy="86364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781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8080"/>
                </a:solidFill>
                <a:uFillTx/>
                <a:latin typeface="Franklin Gothic Medium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979640" y="476280"/>
            <a:ext cx="3168000" cy="1726920"/>
            <a:chOff x="1979640" y="476280"/>
            <a:chExt cx="3168000" cy="1726920"/>
          </a:xfrm>
        </p:grpSpPr>
        <p:sp>
          <p:nvSpPr>
            <p:cNvPr id="262" name=""/>
            <p:cNvSpPr/>
            <p:nvPr/>
          </p:nvSpPr>
          <p:spPr>
            <a:xfrm>
              <a:off x="1979640" y="476280"/>
              <a:ext cx="3168000" cy="172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is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lign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4280" y="57600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ADDRESSING </a:t>
              </a:r>
              <a:br>
                <a:rPr sz="1800"/>
              </a:b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GLOBAL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2764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4221000"/>
            <a:ext cx="3384000" cy="1871640"/>
            <a:chOff x="2050920" y="4221000"/>
            <a:chExt cx="3384000" cy="1871640"/>
          </a:xfrm>
        </p:grpSpPr>
        <p:sp>
          <p:nvSpPr>
            <p:cNvPr id="266" name=""/>
            <p:cNvSpPr/>
            <p:nvPr/>
          </p:nvSpPr>
          <p:spPr>
            <a:xfrm>
              <a:off x="2050920" y="4221000"/>
              <a:ext cx="3384000" cy="187164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Observatories: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national, regional, glob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Shar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2960" y="428076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808080"/>
                  </a:solidFill>
                  <a:uFillTx/>
                  <a:latin typeface="Franklin Gothic Medium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64000" y="189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trategy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Deliverables: Ten year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trategies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numbers of superior per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awareness an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and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r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est to plan and imple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kling key glob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olitical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cy an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ction Plan (Road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orld now moving: IHP, GBP, PFH,  AU, Asia, PEPF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Forum 2 -7 March 2008,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olitical and Economic Background of </a:t>
            </a:r>
            <a:br>
              <a:rPr sz="2800"/>
            </a:b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Alignment and Harmonisation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t pre and post independence h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, weakened governance,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oney, dependence on donors: addressing visible problems for accountability to v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struments key to vertical interventions: need to demonstrate results for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forw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chored in strong country leadership i.e. comprehensive count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onor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monst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Health System Component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ies, Leadership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: equipment, buildings,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692960"/>
            <a:ext cx="5148360" cy="785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ousehold &amp;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002480"/>
            <a:ext cx="4465440" cy="785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ub-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281760"/>
            <a:ext cx="3816360" cy="785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istrict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495880"/>
            <a:ext cx="2449440" cy="78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921240"/>
            <a:ext cx="2014560" cy="1620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600000">
            <a:off x="1408680" y="2453400"/>
            <a:ext cx="54608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7200000">
            <a:off x="-1900440" y="2566800"/>
            <a:ext cx="535932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695aa"/>
                </a:solidFill>
                <a:latin typeface="Arial"/>
              </a:rPr>
              <a:t>Heath System Pyramid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64000" y="1052280"/>
            <a:ext cx="332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-specia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2720" y="191628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5200" y="4149720"/>
            <a:ext cx="1487520" cy="504720"/>
          </a:xfrm>
          <a:prstGeom prst="leftArrow">
            <a:avLst>
              <a:gd name="adj1" fmla="val 50000"/>
              <a:gd name="adj2" fmla="val 7368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7800" y="4941720"/>
            <a:ext cx="1474920" cy="505080"/>
          </a:xfrm>
          <a:prstGeom prst="leftArrow">
            <a:avLst>
              <a:gd name="adj1" fmla="val 50000"/>
              <a:gd name="adj2" fmla="val 73004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72200" y="4129200"/>
            <a:ext cx="417600" cy="1292040"/>
          </a:xfrm>
          <a:custGeom>
            <a:avLst/>
            <a:gdLst>
              <a:gd name="textAreaLeft" fmla="*/ 0 w 417600"/>
              <a:gd name="textAreaRight" fmla="*/ 150840 w 417600"/>
              <a:gd name="textAreaTop" fmla="*/ 33480 h 1292040"/>
              <a:gd name="textAreaBottom" fmla="*/ 125856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5440" y="301464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5000" y="3940200"/>
            <a:ext cx="496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5400" y="3898800"/>
            <a:ext cx="725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84720" y="2565360"/>
            <a:ext cx="417240" cy="1467000"/>
          </a:xfrm>
          <a:custGeom>
            <a:avLst/>
            <a:gdLst>
              <a:gd name="textAreaLeft" fmla="*/ 0 w 417240"/>
              <a:gd name="textAreaRight" fmla="*/ 150480 w 41724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75040" y="3792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695aa"/>
                </a:solidFill>
                <a:latin typeface="Arial"/>
              </a:rPr>
              <a:t>Common Interventions Across GHIs</a:t>
            </a:r>
            <a:endParaRPr b="0" lang="en-US" sz="32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ocacy for heal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nacceptable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ject “God has called him/her” “His/her day has come” Treat as societal and health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mobilis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rguments for increased resources and the exceptionality case for health, fiscal space di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“Dying for economic growth” is there no middl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lerable inequa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lobalized world replete with wealth, knowledg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Power of civil society, NGOs, politics: better working conditions, stronger heal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338280" y="2114640"/>
            <a:ext cx="48337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o ensure access to a motivated, skilled &amp; supported health worker by every person, in every village, everywh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1101600"/>
            <a:ext cx="2676600" cy="267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76720" y="4005360"/>
            <a:ext cx="263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r LEE Jong-wook, 1945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WHO Director-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 : Context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s living longer in developed countries, demanding extended care for pain fre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ease burden in low income countries especially SSA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Shortage estimated 4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history of neglect: complexity, wrong policies, professionalism in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Health Ministers outcry at three consecutiv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 in Sub-Sahara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equalities in the midst of plenty: wealth, knowledge, technology in a connected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5680" y="3752640"/>
            <a:ext cx="4092840" cy="546120"/>
          </a:xfrm>
          <a:prstGeom prst="rect">
            <a:avLst/>
          </a:prstGeom>
          <a:solidFill>
            <a:srgbClr val="c9e8ed">
              <a:alpha val="35000"/>
            </a:srgbClr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1116" r="0" b="4293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Tahoma"/>
              </a:rPr>
              <a:t>57</a:t>
            </a:r>
            <a:r>
              <a:rPr b="0" lang="en-GB" sz="3600" spc="-1" strike="noStrike">
                <a:solidFill>
                  <a:srgbClr val="009999"/>
                </a:solidFill>
                <a:latin typeface="Tahoma"/>
              </a:rPr>
              <a:t> critical shortage countries </a:t>
            </a:r>
            <a:r>
              <a:rPr b="1" lang="en-GB" sz="2000" spc="-1" strike="noStrike">
                <a:solidFill>
                  <a:srgbClr val="009999"/>
                </a:solidFill>
                <a:latin typeface="Arial Narrow"/>
              </a:rPr>
              <a:t>(doctors, nurses, midw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ource: World Health Repor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Changes in life expectancy in selected African countries </a:t>
            </a:r>
            <a:br>
              <a:rPr sz="1500"/>
            </a:b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with high and low HIV prevalence: 1950 - 2005</a:t>
            </a:r>
            <a:endParaRPr b="0" lang="en-US" sz="15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21560" y="2286000"/>
            <a:ext cx="18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high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2583000"/>
            <a:ext cx="181080" cy="144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3840" y="250812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5960" y="2805120"/>
            <a:ext cx="181080" cy="144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55200" y="273060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3029040"/>
            <a:ext cx="181080" cy="144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4920" y="29541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ff"/>
                </a:solidFill>
                <a:latin typeface="Arial"/>
              </a:rPr>
              <a:t>Bots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25160" y="391968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low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8680" y="4216320"/>
            <a:ext cx="182520" cy="180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3760" y="41418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cc"/>
                </a:solidFill>
                <a:latin typeface="Arial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25960" y="4363920"/>
            <a:ext cx="749880" cy="182880"/>
            <a:chOff x="5925960" y="4363920"/>
            <a:chExt cx="749880" cy="182880"/>
          </a:xfrm>
        </p:grpSpPr>
        <p:sp>
          <p:nvSpPr>
            <p:cNvPr id="107" name=""/>
            <p:cNvSpPr/>
            <p:nvPr/>
          </p:nvSpPr>
          <p:spPr>
            <a:xfrm>
              <a:off x="5925960" y="4437720"/>
              <a:ext cx="181440" cy="1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43639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Arial"/>
                </a:rPr>
                <a:t>Sen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25960" y="4660920"/>
            <a:ext cx="181080" cy="14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587840"/>
            <a:ext cx="30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ff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760" y="6021360"/>
            <a:ext cx="483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UN Department of Economic and Social Affairs (200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World Population Prospects, the 2000 Revis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966960" y="393804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8480" y="5217840"/>
            <a:ext cx="4654080" cy="502920"/>
            <a:chOff x="1068480" y="5217840"/>
            <a:chExt cx="4654080" cy="502920"/>
          </a:xfrm>
        </p:grpSpPr>
        <p:sp>
          <p:nvSpPr>
            <p:cNvPr id="114" name=""/>
            <p:cNvSpPr/>
            <p:nvPr/>
          </p:nvSpPr>
          <p:spPr>
            <a:xfrm flipV="1">
              <a:off x="1068480" y="5217840"/>
              <a:ext cx="1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4943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148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10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586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845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050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312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488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87512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2952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20040" y="5217840"/>
              <a:ext cx="252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960" y="1752480"/>
            <a:ext cx="5348160" cy="3577320"/>
            <a:chOff x="372960" y="1752480"/>
            <a:chExt cx="5348160" cy="3577320"/>
          </a:xfrm>
        </p:grpSpPr>
        <p:sp>
          <p:nvSpPr>
            <p:cNvPr id="127" name=""/>
            <p:cNvSpPr/>
            <p:nvPr/>
          </p:nvSpPr>
          <p:spPr>
            <a:xfrm>
              <a:off x="1068480" y="4731120"/>
              <a:ext cx="4652640" cy="36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8480" y="424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8480" y="3771360"/>
              <a:ext cx="4652640" cy="14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8480" y="328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480" y="280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8480" y="231948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68480" y="184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480" y="1843200"/>
              <a:ext cx="1440" cy="336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977760" y="5208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977760" y="4731120"/>
              <a:ext cx="88920" cy="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977760" y="424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977760" y="3771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77760" y="3282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977760" y="280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977760" y="23191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977040" y="1842840"/>
              <a:ext cx="8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480" y="5209200"/>
              <a:ext cx="4652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8720" y="2382120"/>
              <a:ext cx="4233240" cy="1587960"/>
            </a:xfrm>
            <a:custGeom>
              <a:avLst/>
              <a:gdLst/>
              <a:ahLst/>
              <a:rect l="l" t="t" r="r" b="b"/>
              <a:pathLst>
                <a:path w="546" h="150">
                  <a:moveTo>
                    <a:pt x="0" y="109"/>
                  </a:moveTo>
                  <a:lnTo>
                    <a:pt x="55" y="89"/>
                  </a:lnTo>
                  <a:lnTo>
                    <a:pt x="109" y="70"/>
                  </a:lnTo>
                  <a:lnTo>
                    <a:pt x="164" y="50"/>
                  </a:lnTo>
                  <a:lnTo>
                    <a:pt x="218" y="31"/>
                  </a:lnTo>
                  <a:lnTo>
                    <a:pt x="273" y="13"/>
                  </a:lnTo>
                  <a:lnTo>
                    <a:pt x="328" y="0"/>
                  </a:lnTo>
                  <a:lnTo>
                    <a:pt x="382" y="18"/>
                  </a:lnTo>
                  <a:lnTo>
                    <a:pt x="437" y="94"/>
                  </a:lnTo>
                  <a:lnTo>
                    <a:pt x="491" y="150"/>
                  </a:lnTo>
                  <a:lnTo>
                    <a:pt x="546" y="15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8720" y="2945520"/>
              <a:ext cx="4233240" cy="1616400"/>
            </a:xfrm>
            <a:custGeom>
              <a:avLst/>
              <a:gdLst/>
              <a:ahLst/>
              <a:rect l="l" t="t" r="r" b="b"/>
              <a:pathLst>
                <a:path w="546" h="153">
                  <a:moveTo>
                    <a:pt x="0" y="153"/>
                  </a:moveTo>
                  <a:lnTo>
                    <a:pt x="55" y="133"/>
                  </a:lnTo>
                  <a:lnTo>
                    <a:pt x="109" y="115"/>
                  </a:lnTo>
                  <a:lnTo>
                    <a:pt x="164" y="97"/>
                  </a:lnTo>
                  <a:lnTo>
                    <a:pt x="218" y="79"/>
                  </a:lnTo>
                  <a:lnTo>
                    <a:pt x="273" y="60"/>
                  </a:lnTo>
                  <a:lnTo>
                    <a:pt x="328" y="50"/>
                  </a:lnTo>
                  <a:lnTo>
                    <a:pt x="382" y="49"/>
                  </a:lnTo>
                  <a:lnTo>
                    <a:pt x="437" y="34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8720" y="2298600"/>
              <a:ext cx="4233240" cy="1472400"/>
            </a:xfrm>
            <a:custGeom>
              <a:avLst/>
              <a:gdLst/>
              <a:ahLst/>
              <a:rect l="l" t="t" r="r" b="b"/>
              <a:pathLst>
                <a:path w="546" h="139">
                  <a:moveTo>
                    <a:pt x="0" y="139"/>
                  </a:moveTo>
                  <a:lnTo>
                    <a:pt x="55" y="111"/>
                  </a:lnTo>
                  <a:lnTo>
                    <a:pt x="109" y="93"/>
                  </a:lnTo>
                  <a:lnTo>
                    <a:pt x="164" y="76"/>
                  </a:lnTo>
                  <a:lnTo>
                    <a:pt x="218" y="60"/>
                  </a:lnTo>
                  <a:lnTo>
                    <a:pt x="273" y="47"/>
                  </a:lnTo>
                  <a:lnTo>
                    <a:pt x="328" y="34"/>
                  </a:lnTo>
                  <a:lnTo>
                    <a:pt x="382" y="18"/>
                  </a:lnTo>
                  <a:lnTo>
                    <a:pt x="437" y="0"/>
                  </a:lnTo>
                  <a:lnTo>
                    <a:pt x="491" y="32"/>
                  </a:lnTo>
                  <a:lnTo>
                    <a:pt x="546" y="117"/>
                  </a:lnTo>
                </a:path>
              </a:pathLst>
            </a:custGeom>
            <a:noFill/>
            <a:ln cap="rnd" w="5076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8720" y="287136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53"/>
                  </a:lnTo>
                  <a:lnTo>
                    <a:pt x="109" y="146"/>
                  </a:lnTo>
                  <a:lnTo>
                    <a:pt x="164" y="134"/>
                  </a:lnTo>
                  <a:lnTo>
                    <a:pt x="218" y="114"/>
                  </a:lnTo>
                  <a:lnTo>
                    <a:pt x="273" y="93"/>
                  </a:lnTo>
                  <a:lnTo>
                    <a:pt x="328" y="73"/>
                  </a:lnTo>
                  <a:lnTo>
                    <a:pt x="382" y="55"/>
                  </a:lnTo>
                  <a:lnTo>
                    <a:pt x="437" y="36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720" y="2099520"/>
              <a:ext cx="4233240" cy="2526840"/>
            </a:xfrm>
            <a:custGeom>
              <a:avLst/>
              <a:gdLst/>
              <a:ahLst/>
              <a:rect l="l" t="t" r="r" b="b"/>
              <a:pathLst>
                <a:path w="546" h="239">
                  <a:moveTo>
                    <a:pt x="0" y="180"/>
                  </a:moveTo>
                  <a:lnTo>
                    <a:pt x="55" y="153"/>
                  </a:lnTo>
                  <a:lnTo>
                    <a:pt x="109" y="135"/>
                  </a:lnTo>
                  <a:lnTo>
                    <a:pt x="164" y="111"/>
                  </a:lnTo>
                  <a:lnTo>
                    <a:pt x="218" y="83"/>
                  </a:lnTo>
                  <a:lnTo>
                    <a:pt x="273" y="54"/>
                  </a:lnTo>
                  <a:lnTo>
                    <a:pt x="328" y="25"/>
                  </a:lnTo>
                  <a:lnTo>
                    <a:pt x="382" y="0"/>
                  </a:lnTo>
                  <a:lnTo>
                    <a:pt x="437" y="20"/>
                  </a:lnTo>
                  <a:lnTo>
                    <a:pt x="491" y="163"/>
                  </a:lnTo>
                  <a:lnTo>
                    <a:pt x="546" y="239"/>
                  </a:lnTo>
                </a:path>
              </a:pathLst>
            </a:custGeom>
            <a:noFill/>
            <a:ln cap="rnd" w="50760">
              <a:solidFill>
                <a:srgbClr val="3366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78720" y="308232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44"/>
                  </a:lnTo>
                  <a:lnTo>
                    <a:pt x="109" y="126"/>
                  </a:lnTo>
                  <a:lnTo>
                    <a:pt x="164" y="103"/>
                  </a:lnTo>
                  <a:lnTo>
                    <a:pt x="218" y="84"/>
                  </a:lnTo>
                  <a:lnTo>
                    <a:pt x="273" y="66"/>
                  </a:lnTo>
                  <a:lnTo>
                    <a:pt x="328" y="55"/>
                  </a:lnTo>
                  <a:lnTo>
                    <a:pt x="382" y="37"/>
                  </a:lnTo>
                  <a:lnTo>
                    <a:pt x="437" y="26"/>
                  </a:lnTo>
                  <a:lnTo>
                    <a:pt x="491" y="11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9840" y="511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9840" y="4640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840" y="4152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840" y="367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840" y="319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840" y="2712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9840" y="222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8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-506520" y="3642840"/>
              <a:ext cx="197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ife expectancy (ye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5960" y="5294160"/>
            <a:ext cx="47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0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720" y="5294160"/>
            <a:ext cx="43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14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2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140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53085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8348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449360" y="1461960"/>
            <a:ext cx="5667480" cy="3934080"/>
            <a:chOff x="1449360" y="1461960"/>
            <a:chExt cx="5667480" cy="3934080"/>
          </a:xfrm>
        </p:grpSpPr>
        <p:sp>
          <p:nvSpPr>
            <p:cNvPr id="173" name=""/>
            <p:cNvSpPr txBox="1"/>
            <p:nvPr/>
          </p:nvSpPr>
          <p:spPr>
            <a:xfrm>
              <a:off x="1449360" y="1461960"/>
              <a:ext cx="5667480" cy="393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1187280" y="1709640"/>
          <a:ext cx="338328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9640"/>
                    <a:ext cx="338328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8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64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773360"/>
          <a:ext cx="6696360" cy="3384360"/>
        </p:xfrm>
        <a:graphic>
          <a:graphicData uri="http://schemas.openxmlformats.org/drawingml/2006/table">
            <a:tbl>
              <a:tblPr/>
              <a:tblGrid>
                <a:gridCol w="3240360"/>
                <a:gridCol w="34560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27640" y="1920960"/>
          <a:ext cx="3600360" cy="26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920960"/>
                    <a:ext cx="360036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8251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overwhelming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929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global disease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916280"/>
            <a:ext cx="316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orld's health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Things may get worse in the future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for care in industrialised world will continue to grow; even if demand per person were constant, demographic changes – ageing - would demand more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show that if the industrialised world wants to maintain present levels of care, this will require an extra 8.5M health workers by 2025: an increase of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Europe has problem wit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increased demand, increases in HRH requirements will impact global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95aa"/>
                </a:solidFill>
                <a:latin typeface="Arial"/>
              </a:rPr>
              <a:t>1.3 Comprehensive Development Framework, “Vision  20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verty Eradication Action Plan (PEAP/PR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 for Economic Growth and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constraints to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table and efficient collection and use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ing Good Governance and Security: effective and functioning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ing public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corruption, promoting transparency an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ing law and order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6165720"/>
            <a:ext cx="470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ctor-Wide Approaches, Uganda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796000" y="6021360"/>
          <a:ext cx="88596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6021360"/>
                    <a:ext cx="885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 capacity for Health Services (centre and distri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resources – recruitment, retention and de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 of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Health System Delivery of Minimum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sectoral collabo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 partnership and 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 Paris Declaration on Aid Effectiv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ing level of commitment and mutual resp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 health sector public resource enve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ro-economics and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: Milestones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oint Learning Initiative 2002 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Commonwealth Health Ministers 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Ministers at thre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Health Report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Level Forum on Health MD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lo 1, Os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6:30:22Z</dcterms:created>
  <dc:creator>fouquet</dc:creator>
  <dc:description/>
  <dc:language>en-US</dc:language>
  <cp:lastModifiedBy> </cp:lastModifiedBy>
  <dcterms:modified xsi:type="dcterms:W3CDTF">2007-10-23T10:39:24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4523036</vt:r8>
  </property>
  <property fmtid="{D5CDD505-2E9C-101B-9397-08002B2CF9AE}" pid="3" name="_AuthorEmail">
    <vt:lpwstr>FouquetP@who.int</vt:lpwstr>
  </property>
  <property fmtid="{D5CDD505-2E9C-101B-9397-08002B2CF9AE}" pid="4" name="_AuthorEmailDisplayName">
    <vt:lpwstr>Fouquet, Pierre Benjamin</vt:lpwstr>
  </property>
  <property fmtid="{D5CDD505-2E9C-101B-9397-08002B2CF9AE}" pid="5" name="_EmailSubject">
    <vt:lpwstr>STB_berlin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