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18C4-44D8-4A6D-A0B3-36A740158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FCEE-BD2C-4C75-B928-794930A6A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1529-D4EC-4D16-B6A0-259AA50EF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A533-D092-4E55-B9A9-C69F4D3A4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811BD-8A35-49F9-9F23-C82E90232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C9EDA-C616-44C7-9BB7-7E09293EF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4148C-9EA3-4FA3-892C-6A1ECA27B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D3C37-1A57-41D4-9964-A0E9D41E0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B6DCF-D477-4FC1-88FB-15588BA3D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62F8A-3850-4904-8660-2BE360A22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0DC14-849E-4EED-A491-40D68947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B301-2085-4745-A980-B30D3E0CA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A1030-A3C7-471A-AEF2-AD63115E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4B667-C22B-4128-892F-4B5B5043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A0439-F1FA-4379-AFF7-84293E8D3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4B4E8-B419-4AAE-8B1C-97E09F463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51968-839C-4E59-9F45-3E3708B52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4CF4-DEA5-4B70-9CAE-4969E52AC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F54E-177A-4211-AAEB-A47D69FCF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DED3-6E0A-4515-B4A4-D75551C20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328F-A649-408A-AF3F-0BD17CD8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4381-34C6-4F2E-84B5-8AD35782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1A11-2E5E-4AAC-8174-221217CB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5DED-0FC7-496C-9229-FFB89336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DC81A-03FB-46FD-A025-67BA16FA6321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3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4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7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7ED5-2501-4156-8346-496D437123E8}" type="slidenum">
              <a:rPr b="0" lang="en-GB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www.stoptb.org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stoptb.org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16360" y="201600"/>
            <a:ext cx="3095640" cy="9237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619280" y="2565360"/>
            <a:ext cx="60483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PLAN OF ACTION 2008-09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IMPLEMENTING"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WORKING GROUPS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395280" y="1628640"/>
          <a:ext cx="8424720" cy="4392360"/>
        </p:xfrm>
        <a:graphic>
          <a:graphicData uri="http://schemas.openxmlformats.org/drawingml/2006/table">
            <a:tbl>
              <a:tblPr/>
              <a:tblGrid>
                <a:gridCol w="4024440"/>
                <a:gridCol w="1257120"/>
                <a:gridCol w="376200"/>
                <a:gridCol w="1509840"/>
                <a:gridCol w="1257120"/>
              </a:tblGrid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quir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ailab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orking Grou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G Chairmanshi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DR-TB WG Secretariat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ctivities of core group     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d subgroup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nual meeting of the WG (two meetings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,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,7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395280" y="404640"/>
            <a:ext cx="8389800" cy="10159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2. Costs of operations of the M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G and sub-groups for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40360" y="2205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US$ thous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609300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6021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9228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773360" y="441396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16200" y="468684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6320" y="5869800"/>
            <a:ext cx="847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This does not include pledges received by partners of the WG other than 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50920" y="1704960"/>
          <a:ext cx="8642160" cy="4100400"/>
        </p:xfrm>
        <a:graphic>
          <a:graphicData uri="http://schemas.openxmlformats.org/drawingml/2006/table">
            <a:tbl>
              <a:tblPr/>
              <a:tblGrid>
                <a:gridCol w="4000320"/>
                <a:gridCol w="216000"/>
                <a:gridCol w="1880640"/>
                <a:gridCol w="1333080"/>
                <a:gridCol w="1212120"/>
              </a:tblGrid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qui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ai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echnical assistance and GLC </a:t>
                      </a:r>
                      <a:r>
                        <a:rPr b="1" lang="en-US" sz="1800" spc="-1" strike="noStrike" baseline="40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LC (according to business pla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1,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,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7,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echnical assistance other than GLC (including laboratory strengthening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5,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,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4,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ub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6,9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,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1,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9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,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3,5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40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50920" y="436680"/>
            <a:ext cx="8642160" cy="10159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2. Costs of technical assistance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DR-TB management for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56000" y="2276640"/>
            <a:ext cx="165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 US$ thousa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0920" y="587700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0920" y="5805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560" y="414000"/>
            <a:ext cx="856908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 1: Catalyse I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mplementation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f HIV/TB activities through: 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84358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Regional TB/HIV implementation meet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Asia Pacific  and Africa regional meetin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Training and Engagement of  NAP and NTP manag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Introduce TB/HIV components (including TB infection control) into Global Fund proposal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Advocate for TB/HIV implement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Joint UN teams on AIDS and partners at country lev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Harmonized TB/HIV data coll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Facilitate a freely accessible web-based collection and sharing of data and information on implem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395280" y="177336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0920" y="170028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0920" y="66690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5280" y="65977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Stop TB Partnership Website"/>
          <p:cNvPicPr/>
          <p:nvPr/>
        </p:nvPicPr>
        <p:blipFill>
          <a:blip r:embed="rId1"/>
          <a:stretch/>
        </p:blipFill>
        <p:spPr>
          <a:xfrm>
            <a:off x="7164360" y="105264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42472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 2: Promote TB/HIV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research activities and their funding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933200"/>
            <a:ext cx="82915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TB/HIV  Research Meetings linked to major HIV meetings  (CROI and IAS)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To enhance ongoing efforts to increase  HIV/TB research issues into the mainstream of HIV treatment and prevention research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To engage funders to increase research suppo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support optimal TB prevention, treatment and infection control  within HIV research network activities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395280" y="371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4653000"/>
            <a:ext cx="822960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5280" y="184464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0920" y="177156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0920" y="66690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65959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920" y="340920"/>
            <a:ext cx="842472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3: Engage leading NGOs in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B/HIV and community mobiliz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2000" y="197820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ngage leading HIV/AIDS NGOs in TB/HI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mphasis on TB screening and provision of preventive therapy for PLHIV and TB infection control, including in PMTCT servic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xpand and strengthen community mobilization for TB/HI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Technical assistance to community groups and networks to catalyse national level implementation of collaborative TB/HIV activities, including TB infection control and prevention of MDR and XDR T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177336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0920" y="170028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0920" y="62388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61657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0560" y="485280"/>
            <a:ext cx="84978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 4: Communications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and Guidelines on key HIV/TB Activities 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4000" y="197820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eclaration of Importance of INH Preventive Therapy in HIV program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issemination of revised infection control guidelin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onogram on monitoring of HIV/TB activiti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395280" y="191628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184464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0920" y="652464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5280" y="645336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50560" y="485280"/>
            <a:ext cx="84978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Funding TB/HIV activities 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4000" y="197820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verall needs at global level to implement TB/HIV activities in count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Needs identified in GP 2008-09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$1.153 b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Gap estimated for 2008-09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$700 m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unding the working group operations 2008-09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 1.5 m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395280" y="191628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0920" y="184464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0920" y="652464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645336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0920" y="1712880"/>
            <a:ext cx="8713800" cy="22885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TS Expansion Working Group (DE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Laboratory Capacity Strengthening (SL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Public Private Mix (PP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childhood 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TB and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3807000"/>
            <a:ext cx="8713800" cy="19227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ing Group on M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-group on advocacy and resource mobi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 group on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-group on drug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Green Light Committee (GL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89000"/>
            <a:ext cx="3816360" cy="1138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50920" y="5910120"/>
            <a:ext cx="8713800" cy="825480"/>
          </a:xfrm>
          <a:prstGeom prst="rec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B/HIV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infec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340920"/>
            <a:ext cx="856908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(DEWG) plan of action 2008-2009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39400" y="1846440"/>
            <a:ext cx="8435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 areas of 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ing service coverage, Strengthening quality of DOTS implementation and increase access to services for child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strengthening to expand quality assured microscopy, culture and D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resources development plan including mapping of existing resources from different health care providers with a focus on the services to the po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ing existing health care providers to NTP including promotion of international standard for TB care (IST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and evaluation including impact measu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17715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674064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9780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Activities planned for 2008-2009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2360" y="1701360"/>
            <a:ext cx="864072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nforcing support to countries and its coordination: TB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Global Plan implementation and technical suppo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countries accessing funding for TB control (GF, WB and othe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capacity strengthening (strategic plan in prepar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in addressing Health System Strengthening issues and to implement P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14860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54936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9780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Activities planned 2008-09 (cont)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2360" y="170172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to develop HRD plans including mapping of existing resources from different health care provi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sms to involve community and patients in TB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es to enhance equitable access to TB diagnosis and c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in incorporating childhood TB in strategic p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e up and expand PPM activities including promotion of I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ing research groups within and outside  countries to develop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14860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54936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424720" cy="1150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lan of action 2008-2009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2349000"/>
            <a:ext cx="843588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otal needs of countries for DOTS Expansion (2008-09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3 billion/year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for all countrie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250 million in 2007 for HBC only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otal needs for support to countries (2008-09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 65 million/year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(without laboratory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 35 million in 2007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Costs of operations of the DEWG in 2008-09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 2.2 million for 2 year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 1.6 million for the period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1844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191628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638172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91280" y="5589720"/>
            <a:ext cx="1657440" cy="493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Stop TB Partnership Websit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569080" cy="1368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EWG plan of action 2008-2009 </a:t>
            </a:r>
            <a:br>
              <a:rPr sz="32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ordination work of WG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nd sub-group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24000" y="1701720"/>
            <a:ext cx="8351640" cy="50403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780000" y="1700280"/>
            <a:ext cx="20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 US$ thous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Stop TB Partnership Websit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6000" y="188640"/>
            <a:ext cx="8604000" cy="93636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Global MDR/XDR-TB Response Plan: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e operational plan of the MDR-TB WG</a:t>
            </a:r>
            <a:endParaRPr b="0" lang="en-US" sz="2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51130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basic TB and HIV/AIDS control, to avoid creation of MDR-TB and XDR-T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up programmatic management of MDR-TB and XDR-TB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laboratory services for adequate and timely diagnosis of MDR-TB and XDR-TB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and MDR-TB and XDR-TB surveillance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infection control, especially in high HIV prevalence setting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advocacy, communication and social mobilization (e.g., Response Plan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rsue resource mobilization at global, regional and country leve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mote research and development into new diagnostics, drugs and vaccin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580000" y="1771560"/>
            <a:ext cx="3021120" cy="4249800"/>
          </a:xfrm>
          <a:prstGeom prst="rect">
            <a:avLst/>
          </a:prstGeom>
          <a:ln w="28440">
            <a:solidFill>
              <a:srgbClr val="d2d543"/>
            </a:solidFill>
            <a:miter/>
          </a:ln>
          <a:effectLst>
            <a:outerShdw dist="107932" dir="18900000" blurRad="0" rotWithShape="0">
              <a:srgbClr val="ffcf01">
                <a:alpha val="50000"/>
              </a:srgbClr>
            </a:outerShdw>
          </a:effectLst>
        </p:spPr>
      </p:pic>
      <p:sp>
        <p:nvSpPr>
          <p:cNvPr id="139" name=""/>
          <p:cNvSpPr/>
          <p:nvPr/>
        </p:nvSpPr>
        <p:spPr>
          <a:xfrm>
            <a:off x="250920" y="1268280"/>
            <a:ext cx="8642160" cy="5400720"/>
          </a:xfrm>
          <a:prstGeom prst="rect">
            <a:avLst/>
          </a:prstGeom>
          <a:noFill/>
          <a:ln w="38160">
            <a:solidFill>
              <a:srgbClr val="ffcf01"/>
            </a:solidFill>
            <a:miter/>
          </a:ln>
          <a:effectLst>
            <a:outerShdw dist="107932" dir="18900000" blurRad="0" rotWithShape="0">
              <a:srgbClr val="d2d54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Stop TB Partnership Website"/>
          <p:cNvPicPr/>
          <p:nvPr/>
        </p:nvPicPr>
        <p:blipFill>
          <a:blip r:embed="rId2"/>
          <a:stretch/>
        </p:blipFill>
        <p:spPr>
          <a:xfrm>
            <a:off x="7093080" y="404640"/>
            <a:ext cx="165708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324000" y="1569960"/>
          <a:ext cx="8496000" cy="4756320"/>
        </p:xfrm>
        <a:graphic>
          <a:graphicData uri="http://schemas.openxmlformats.org/drawingml/2006/table">
            <a:tbl>
              <a:tblPr/>
              <a:tblGrid>
                <a:gridCol w="2282760"/>
                <a:gridCol w="6213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ubgro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rodu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dvocacy and resource mobiliz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pdated business plan of the GLC; resource mobilization plan; advocacy products on MDR-TB, including quarterly newsle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sear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pdated research agenda published; promotion of operational research; assistance to WHO in updating guidelines; two in-person meetings to assess progress and strategize next ste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rug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lan of action to tackle the drug procurement crisis; six regional meetings to promote WHO Prequalification of second-line anti-TB drugs; four in-person meetings of the sub-group to assess progress and strategize next steps as per 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re Gro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nual monitoring report on progress in implementing response plan; strategic guidance to WG and subgroup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250920" y="260280"/>
            <a:ext cx="8642160" cy="10159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1. Products of the sub-group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orking Group on MDR-TB (2008-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0920" y="148428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638172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47628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8T18:19:53Z</dcterms:created>
  <dc:creator>nunnp</dc:creator>
  <dc:description/>
  <dc:language>en-US</dc:language>
  <cp:lastModifiedBy>k.kolbe</cp:lastModifiedBy>
  <dcterms:modified xsi:type="dcterms:W3CDTF">2007-10-23T04:49:03Z</dcterms:modified>
  <cp:revision>173</cp:revision>
  <dc:subject/>
  <dc:title>14th Conference on Retroviruses and Opportunistic Infections     Urgent Issues in the Developing World  Transmission of Extreme Drug Resistant TB in South Africa: Discussion of the Global Impl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51497786</vt:r8>
  </property>
  <property fmtid="{D5CDD505-2E9C-101B-9397-08002B2CF9AE}" pid="3" name="_AuthorEmail">
    <vt:lpwstr>blancl@who.int</vt:lpwstr>
  </property>
  <property fmtid="{D5CDD505-2E9C-101B-9397-08002B2CF9AE}" pid="4" name="_AuthorEmailDisplayName">
    <vt:lpwstr>Blanc, Leopold Joseph</vt:lpwstr>
  </property>
  <property fmtid="{D5CDD505-2E9C-101B-9397-08002B2CF9AE}" pid="5" name="_EmailSubject">
    <vt:lpwstr>WGs for CB 20 Oct 2007.ppt</vt:lpwstr>
  </property>
  <property fmtid="{D5CDD505-2E9C-101B-9397-08002B2CF9AE}" pid="6" name="_NewReviewCycle">
    <vt:lpwstr/>
  </property>
  <property fmtid="{D5CDD505-2E9C-101B-9397-08002B2CF9AE}" pid="7" name="_PreviousAdHocReviewCycleID">
    <vt:r8>80680260</vt:r8>
  </property>
  <property fmtid="{D5CDD505-2E9C-101B-9397-08002B2CF9AE}" pid="8" name="_ReviewingToolsShownOnce">
    <vt:lpwstr/>
  </property>
</Properties>
</file>