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6CA7-83EF-4153-9294-D09229492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9BBA-67D8-420C-B402-7AFB6A7FE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B87F-EA68-426D-95BB-80EF7A0A8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8F18-B6AF-43BF-956B-D4432BBE8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69EE9-AAE8-474C-9B8E-3AB87D8F6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685B6-2FBB-4B16-9F23-DFD62CBB0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0E1C5-8C9B-4235-BF82-0CFDAF780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D13E3-99E9-4DC4-94FF-2113A559D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8D84A-43C1-4B5C-9AAF-848AEAD0B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008E8-B88C-442B-8D8B-F1C8A8A22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65020-2026-4FA5-94F5-37AB6F31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F3AC-895D-4A8A-ACB8-D2B413E9C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2DC9B-C522-43F2-A40A-28AA1E65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5473A-156D-4B4B-BC9E-A74BC2F3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400D4-ABEA-4763-8D1A-20F480D23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9740F-6619-418E-A262-9B4CDC31D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52A34-FBCC-439E-84D9-74A124B3B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7D3E-6951-473D-AE38-4AF68D05D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C688-5A09-452D-8834-53C3CDCF1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CC7E-8340-49F3-8DEB-9972F7B67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CF4A-87F9-43BC-A7B0-7DFFE93C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F857-41DE-474F-A7A3-19BA14A3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DD95-0CAB-4C2D-A9D3-C99AC5B2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4B5D-4874-4FF0-8227-25116092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00300-F7AC-4E54-8307-F7DE09D990E4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ACBF2-3D25-4D4C-A71A-4BD08C21236A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71640" y="2205000"/>
            <a:ext cx="7561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WORKPLANS 2008-200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RESEARCH WORKING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3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rk Plan Vaccines WG 2008-2009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ty 1: Keep the Pipeline fille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e an annual workshop on innovative approaches to TB vaccine development and provide report and follow-up activit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ty 2: Build capacity at vaccine trial sit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 and convene a “clinical trialists network”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st in strengthening of regulatory and ethical capacity in TB endemic countries where trials are being performe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ork Plan 2008-2009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ity 3: Perform clinical trial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e an annual workshop on laboratory assay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uct international collaborative study on development of a functional assa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e annual meeting on diagnostics paradigms and clinical endpoi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a “white book” on clinical evaluation of TB vaccin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ork Plan 2008-2009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ty 4: Provide an enabling infrastructure &amp; environ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e annual meeting on economics and product profil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 a study on economic impac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e an annual meeting on advocacy, communications and social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 advocacy material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community outreach activit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te in and support Retooling Task For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e annual meeting of Working Grou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udget Request 2008-2009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P2 Objective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Budget requested ($US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tain and improve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CG vaccination programm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8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covery &amp; translational rese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8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 capacity at vaccine trial sit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17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 clinical tria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33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 an enabling infrastruct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55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,29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R&amp;D Working groups are on track on the deliverables as expressed in the Global Pla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Building upon early success to strenghten and expand activities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Request Partnership to continue its support and commitment and scale up activities on resource mobilization for New Tool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ork Plan WG on Diagnostics 2008-2009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Priority Area 1: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  <a:ea typeface="SimSu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Intensify collaboration within the WG on New Diagnostics and with  other WGs of the Stop TB Partnership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A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: Enlarge Core Group of the New Diagnostics Working Group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B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: Establish Sub-groups within the New Diagnostics Working Group and facilitate sub-group members to take an active role in developing the Sub-group and working towards their goals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C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: Annual all-day meeting of Working Group on New Diagnostics during the Union’s World Conference on Lung Health, plus 2 "Meet the Experts" Workshops in the main programme of the conference 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D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: Part-time personnel support for secretariat in preparation of New Diagnostics WG materials, and development and maintenance of  website.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rk Plan 2008-2009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Priority  Area 2: Develop clear criteria for describing intended setting for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candidate diagnostic tests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To be conducted at the same time as Activity A in Priority Three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Priority Area  3: Describe an expanded diagnostics pipeline that reflects the explosion in activity aimed at developing new diagnostics for tuberculosis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A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To conduct one workshop in 2008 to describe the expanded pipeline of TB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diagnostics under development or evaluation and develop clear criteria for describing the intended setting for candidate diagnostic tests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B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: Update the pipeline in 2009.  This will be mainly achieved through e-mail and teleconferences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rk Plan 2008-2009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Priority Area 4: Develop a Scientific Blueprint for the development of TB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Diagnostics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Workshop, consultations, writing, publishing and distributing a Scientific Blueprint for TB Diagnostics Development.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Priority Area 5: Develop criteria to place developing technologies at particular stages of the “value chain” of development and evaluation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Priority Area 6: Work with the STP Retooling Task Force and the Subgroup on Laboratory Capacity Strengthening to promote and facilitate the implementation of new diagnostic technologies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A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Participation of WG members in Retooling Task Force and SCLS meetings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B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Develop guidelines for the introduction and sustainable implementation of new diagnostics in partnership with the RTF and SLCS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oposed biennial budget 2008-2009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8604000" cy="45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71520" y="535140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06600" y="553392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33760" y="1676160"/>
            <a:ext cx="3352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-475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47840" y="694800"/>
            <a:ext cx="7619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posed Biennial Work Plan 2008-2009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735120" y="1495440"/>
            <a:ext cx="80517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Priority Area 1: Support Global R&amp;D for New TB Drugs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20000"/>
                </a:solidFill>
                <a:uFillTx/>
                <a:latin typeface="Tahoma"/>
                <a:ea typeface="SimSun"/>
              </a:rPr>
              <a:t>Promote research coordination to advance the global TB drug pipeline</a:t>
            </a: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Convene Annual Symposia at IUATLD on TB drug development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Publish R&amp;D activity mapping project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20000"/>
                </a:solidFill>
                <a:uFillTx/>
                <a:latin typeface="Tahoma"/>
                <a:ea typeface="SimSun"/>
              </a:rPr>
              <a:t>Support development of clinical trial site capacity.</a:t>
            </a: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Assess funding needs for clinical trial site capacity building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20000"/>
                </a:solidFill>
                <a:uFillTx/>
                <a:latin typeface="Tahoma"/>
                <a:ea typeface="SimSun"/>
              </a:rPr>
              <a:t>Promote development of biomarkers, surrogate endpoints, animal models</a:t>
            </a: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Contract and publish a review on the state of the art of biomarkers;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Organize/co-sponsor a symposium on these topics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20000"/>
                </a:solidFill>
                <a:uFillTx/>
                <a:latin typeface="Tahoma"/>
                <a:ea typeface="SimSun"/>
              </a:rPr>
              <a:t>Identify strategies to evaluate new drugs for MDR- and XDR-TB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Sponsor and help organize meetings of the MDR/XDR Task Force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Sponsor publication of MDR/XDR Task Force documents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Support other activities of the MDR/XDR Task Force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271520" y="535140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06600" y="553392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33760" y="1676160"/>
            <a:ext cx="3352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47840" y="676440"/>
            <a:ext cx="76197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posed Biennial Work Plan 2008-2009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9960" y="1793520"/>
            <a:ext cx="8105760" cy="49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Priority Area 2: Promote harmonized regulatory guidelines 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         for TB and MDR-TB Drug Development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Organize and co-sponsor annual Open Fora on key regulatory issues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Priority Area 3: Promote engagement with affected 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         community representatives (ACRs)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Sponsor travel to WGND annual meetings, symposia and Open Fora; 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Provide support and training to facilitate ACR participation in meetings and WGND activities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Priority Area 4: Maintain communication and collaboration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Tahoma"/>
                <a:ea typeface="SimSun"/>
              </a:rPr>
              <a:t>Convene annual </a:t>
            </a: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WGND</a:t>
            </a:r>
            <a:r>
              <a:rPr b="0" lang="en-GB" sz="1600" spc="-1" strike="noStrike">
                <a:solidFill>
                  <a:srgbClr val="720000"/>
                </a:solidFill>
                <a:latin typeface="Tahoma"/>
                <a:ea typeface="SimSun"/>
              </a:rPr>
              <a:t> meetings; participate in Partnership meetings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Tahoma"/>
                <a:ea typeface="SimSun"/>
              </a:rPr>
              <a:t>Update the Strategic Plan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Tahoma"/>
                <a:ea typeface="SimSun"/>
              </a:rPr>
              <a:t>Convene a core group to oversee implementation of the Strategic Plan;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Support the activities of the Retooling Task Force;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Publications: e.g. brochure, newsletter, annual reports, website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Tahoma"/>
                <a:ea typeface="SimSun"/>
              </a:rPr>
              <a:t>Retain the services of a full-time Secretariat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71520" y="535140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06600" y="553392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47840" y="685800"/>
            <a:ext cx="7619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posed Biennial Work Plan 2008-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72600" y="1449360"/>
            <a:ext cx="48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SimSun"/>
              </a:rPr>
              <a:t>Minimum Two Year Budget, by Ac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4360" y="1984320"/>
          <a:ext cx="7629480" cy="4551480"/>
        </p:xfrm>
        <a:graphic>
          <a:graphicData uri="http://schemas.openxmlformats.org/drawingml/2006/table">
            <a:tbl>
              <a:tblPr/>
              <a:tblGrid>
                <a:gridCol w="741960"/>
                <a:gridCol w="2702160"/>
                <a:gridCol w="1572840"/>
                <a:gridCol w="1553760"/>
                <a:gridCol w="105876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Priorit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Activit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MINIMU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From Partnership</a:t>
                      </a:r>
                      <a:r>
                        <a:rPr b="1" lang="en-US" sz="14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MAXIMUM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From TB Alli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Symposia at IUATL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4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5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R&amp;D activity mapping projec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Assess funds for clinical trial sit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Symposium on Biomarker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DR Taskforce activit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6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6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Open Foru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ACR Travel and train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3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3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Strategic Plan Upda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7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7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WGND Publication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4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4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Working Group Support staff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4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04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44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Working Group Annual Meeting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5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4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ravel to Partnership Meeting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3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Convene a core grou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0,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98,5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$398,5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14:34:56Z</dcterms:created>
  <dc:creator>bauquerezr</dc:creator>
  <dc:description/>
  <dc:language>en-US</dc:language>
  <cp:lastModifiedBy>User</cp:lastModifiedBy>
  <dcterms:modified xsi:type="dcterms:W3CDTF">2007-10-24T06:20:15Z</dcterms:modified>
  <cp:revision>1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