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3A6-92D2-45E5-A91D-BFAD3C6C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789-8E46-4683-A41F-533D17C0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B334-573E-43BB-9C62-74DF4D97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6DC1-D547-409F-8186-003D55EB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B7F-E736-4A49-9512-2CA68E0E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E97-6B80-4C1B-A334-C9D20D77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435-67FA-4551-ADB7-447A5310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AE9-FC47-4D3A-A21D-6DF077C2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3CC-74BE-47B5-865F-48304EA2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69E-FB35-41E4-88B1-F083B6AD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399-4E62-4FBD-BB95-07E2ECC5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475C-0F13-440A-B6C3-9543DEED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67B8-286E-4FE4-95B4-22F88E39E5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26828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698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Research Movement of the Stop TB Partnershi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 meeting, 23-24 October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presentation to Coordinating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feedback to the Coordinating Board from STAG on WHO's role in, and contribution to, the Research Movem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proposed strategic plan of action which is, for the moment, based on STAG's endorsement and calls for full ownership by all Stop TB partn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verall scope under the Stop TB Partnershi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TB resear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www.stoptb.org/researchm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earch featured prominently in World TB day events 2007, e.g. New York, Brussels, Berlin, Rome, P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results of analysis of current funding and recent funding trends, e.g. TAG report, Kaufman and Parida (Nature Medicine, March 2007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secretariat is working closely with the ACSM WG to provide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ve engagement of key research partners, inclu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&amp;D WGs, including FIND, Global Alliance and Ae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funding institutions, e.g. NIH, European Commission, UK MRC, South Africa M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laterals, e.g. USAID, DF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s, e.g. Gates, Rockefe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Os, e.g. MSF,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cted benefits of investment in new diagnostics, drugs and vaccines set out in long-term strategic plans of R&amp;D WGs (Global Plan to Stop TB, 2006-201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s develop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&amp;D Working Group strategic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agendas developed by other WGs/subgroups and partn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DR-TB research priorities (Int J TB &amp; Lung Dis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B/HIV research priorities (WHO/HTM/TB/2005.3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ldhood TB (WHO/HTM/TB/2007.38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 (TDR Scientific Working Group Oct 200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IAID, NIH  - Research Agenda for M(X)DR-TB, June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www.niaid.nih.go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mmission (new dru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00" y="2638080"/>
            <a:ext cx="903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racking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funding for operational research (linked to global M&amp;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TB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profile of TB research, e.g. 2008 Global Ministerial Forum on Research for Health, Bamak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f Research Movement at Bellagio conference (or simi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ontd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tion of expected benefits of increased investment in research, in basic and implementation research as well as in R&amp;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the ACSM W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InterGovernmental Working Group on Public Health, Innovation and Intellectu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plans to engage and persuade key don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-level missions to main research funding agencies to advance arguments for increased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984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2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key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 and widen engagement with key research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consultation, e.g. forum at the IUATLD conference, Cape Town, 8-12 November 2007; public-private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global TB research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ing the research agendas that have been developed so far, and ultimately contributing to the development of a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341360"/>
          <a:ext cx="896472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1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leadership and advocacy to mobilise increased resources to support a coherent and comprehensive global TB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TB research fu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op. res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awareness of need to boost TB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follow-up to World Health Assembly resolution; b) contribution to development of WHO's overall health research agenda to be approved by the WHA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information for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profile of need for research, including on M(X)DR-T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to development of innovative financing mech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governmental Working Group on Public Health, Innovation and Intellectual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with Stop TB Partnership secretar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ng plans to engage and persuade key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networking with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1280" y="1657440"/>
          <a:ext cx="8964720" cy="237636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8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2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a forum for funders and implementers of TB research to coordinate plans and actions, with the result of ensuring that research needs are addressed, opportunities prioritised, and gaps fill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lobal TB research agen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to development of research agendas of implementation WGs and subgroups, representing expressed needs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key research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stakeholders in line with WHO man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ents of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– continuum of health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of developing the TB Research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ive rol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al, objectives an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 to Coordinating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 indicative ch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920" y="987480"/>
          <a:ext cx="8964720" cy="5703840"/>
        </p:xfrm>
        <a:graphic>
          <a:graphicData uri="http://schemas.openxmlformats.org/drawingml/2006/table">
            <a:tbl>
              <a:tblPr/>
              <a:tblGrid>
                <a:gridCol w="2889360"/>
                <a:gridCol w="888840"/>
                <a:gridCol w="963720"/>
                <a:gridCol w="887400"/>
                <a:gridCol w="890640"/>
                <a:gridCol w="888840"/>
                <a:gridCol w="814320"/>
                <a:gridCol w="741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funding for operational research through global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lagio meeting (or simi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lan for targeted approaches to key research funders (high-level miss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s to Coordinating Boar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773360"/>
            <a:ext cx="8569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with the Research Movement's strategic approach emerging from the process of consultation, under the auspices of the Stop TB Partner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that the specific activities proposed will serve to meet the Research Movement's goal and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inuum of TB research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eds funding at all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137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 research for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iagnostic tests, drugs, vacc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/operation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health policy, systems and service delive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cial science and behaviour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of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mod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ogress in process of consultation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48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148428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 Bd mtg, Geneva, April 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14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Bd mt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l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3-24 Octobe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9144000" cy="865080"/>
          </a:xfrm>
          <a:prstGeom prst="rightArrow">
            <a:avLst>
              <a:gd name="adj1" fmla="val 50093"/>
              <a:gd name="adj2" fmla="val 9635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EARCH MOV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4292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781164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94160" y="5589720"/>
            <a:ext cx="28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approval of WHO'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5866920" y="2637000"/>
            <a:ext cx="1080" cy="100872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5866920" y="4508280"/>
            <a:ext cx="1080" cy="93708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99564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42728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843280" y="558972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est "to enhance WHO's role in TB researc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4427280" y="4508280"/>
            <a:ext cx="1080" cy="937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8000" y="14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d  Bd mtg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uja April 200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arta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04256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Partnershi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and WHO (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artnershi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ve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wide range of TB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including the end-users of TB research, e.g. NTP managers, and community groups), in addition to researchers and stakeholders in related research (including health systems and policy research, HIV researc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sifying engagement with funders of research to mobilize increased fund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vocating for TB research, contributing to public awareness of TB research and promoting community mobilization for research activities through the ACSM Working Group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omoting the development of a wide range of technologies through the Partnership's Working Groups on new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the Partnership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is playing a lead role in establishing the Research Movem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ce the goal and objectives are fully consistent with WHO's man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romote TB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advantages of WHO's contribution include 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s with countries and representation of country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mandate and associated opportunities to identify research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le in technical collaboratio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 role in global TB M&amp;E;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ional commitment to promote research as articulated by the Director-General and expressed in the 2007 WHA resolution (WHA 60.19) "TB control: progress and long-term planning"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goal and obj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timulate, support and expand research to ensure the global elimination of TB by 2050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bjectives are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leadership and advocacy to mobilise increased resources in support of a coherent and comprehensive global TB research agenda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1): to provide leadership and advocacy to mobilise increased resources in support of a coherent and comprehensive global TB research agen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1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 mechanism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ordinate plans to engage and persuade key fund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2): to 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2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ngage key research stakeholder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urther promote the research agendas of the WGs on new diagnostics, drugs and vaccin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evelop global TB research agendas in specific are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acilitate interaction between research funding agenc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9:11:51Z</dcterms:created>
  <dc:creator>lamyquiques</dc:creator>
  <dc:description/>
  <cp:keywords/>
  <dc:language>en-US</dc:language>
  <cp:lastModifiedBy>User</cp:lastModifiedBy>
  <dcterms:modified xsi:type="dcterms:W3CDTF">2007-10-24T06:26:25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4941164</vt:r8>
  </property>
  <property fmtid="{D5CDD505-2E9C-101B-9397-08002B2CF9AE}" pid="3" name="_AuthorEmail">
    <vt:lpwstr>maherd@who.int</vt:lpwstr>
  </property>
  <property fmtid="{D5CDD505-2E9C-101B-9397-08002B2CF9AE}" pid="4" name="_AuthorEmailDisplayName">
    <vt:lpwstr>Maher, Dermot</vt:lpwstr>
  </property>
  <property fmtid="{D5CDD505-2E9C-101B-9397-08002B2CF9AE}" pid="5" name="_EmailSubject">
    <vt:lpwstr>slides for Roberto Tapia's presentation</vt:lpwstr>
  </property>
  <property fmtid="{D5CDD505-2E9C-101B-9397-08002B2CF9AE}" pid="6" name="_NewReviewCycle">
    <vt:lpwstr/>
  </property>
  <property fmtid="{D5CDD505-2E9C-101B-9397-08002B2CF9AE}" pid="7" name="_PreviousAdHocReviewCycleID">
    <vt:r8>-472832796</vt:r8>
  </property>
  <property fmtid="{D5CDD505-2E9C-101B-9397-08002B2CF9AE}" pid="8" name="_ReviewingToolsShownOnce">
    <vt:lpwstr/>
  </property>
  <property fmtid="{D5CDD505-2E9C-101B-9397-08002B2CF9AE}" pid="9" name="_TemplateID">
    <vt:lpwstr>TC011811911033</vt:lpwstr>
  </property>
</Properties>
</file>