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2CED-5F90-49F8-B9F4-DF6ACEB3D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CC50-6BC3-427C-BC82-0D4ECDC8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ECA8-7B2F-4AD1-AA44-4014D0149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1960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08392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564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1960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08392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90D8-CA68-4E24-94EA-4966F0DE3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CE6F-FED2-4BBF-9238-45B81244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1960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8392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5564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1960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08392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90BC-7B0B-40C6-B79B-8B3CE68A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3D3C-28EE-4AC8-89BD-21A662A9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68DC-6040-4C09-9601-D8B39E2D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20A3-C421-4340-BF50-8307A99B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B6A7-C151-4427-ADC9-DF18A2A0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49A6-AAA4-4E14-A63C-C5BBA3CE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CE9F-1B75-4FBD-AD0F-7C57058E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B8FC-C557-40B2-921E-91BB9A49D6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126828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optb.org/researchmovement" TargetMode="External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698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The Research Movement of the Stop TB Partnership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Board meeting, 23-24 October 200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55640" y="1989000"/>
            <a:ext cx="763272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urpose of presentation to Coordinating Bo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provide feedback to the Coordinating Board from STAG on WHO's role in, and contribution to, the Research Movemen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presen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proposed strategic plan of action which is, for the moment, based on STAG's endorsement and calls for full ownership by all Stop TB partner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 -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overall scope under the Stop TB Partnershi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632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Developments to dat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68000" y="1483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TB research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Websit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 u="sng">
                <a:solidFill>
                  <a:srgbClr val="99ccff"/>
                </a:solidFill>
                <a:uFillTx/>
                <a:latin typeface="Arial"/>
                <a:ea typeface="Arial"/>
                <a:hlinkClick r:id="rId1"/>
              </a:rPr>
              <a:t>www.stoptb.org/researchmov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esearch featured prominently in World TB day events 2007, e.g. New York, Brussels, Berlin, Rome, Par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Dissemination of results of analysis of current funding and recent funding trends, e.g. TAG report, Kaufman and Parida (Nature Medicine, March 2007)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 secretariat is working closely with the ACSM WG to provide information for advoca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9280" y="148392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tive engagement of key research partners, includ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&amp;D WGs, including FIND, Global Alliance and Ae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search funding institutions, e.g. NIH, European Commission, UK MRC, South Africa MR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ilaterals, e.g. USAID, DFI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undations, e.g. Gates, Rockefell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GOs, e.g. MSF, T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ademic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D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xpected benefits of investment in new diagnostics, drugs and vaccines set out in long-term strategic plans of R&amp;D WGs (Global Plan to Stop TB, 2006-2015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3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748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B research agendas developed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&amp;D Working Group strategic pl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search agendas developed by other WGs/subgroups and partn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DR-TB research priorities (Int J TB &amp; Lung Dis 200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B/HIV research priorities (WHO/HTM/TB/2005.35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ildhood TB (WHO/HTM/TB/2007.38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B research agenda (TDR Scientific Working Group Oct 2005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IAID, NIH  - Research Agenda for M(X)DR-TB, June 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www.niaid.nih.go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ork in progress, e.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Commission (new drug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8000" y="2638080"/>
            <a:ext cx="9036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roposed activities of Partnership and WH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03280" y="1412640"/>
            <a:ext cx="8640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1)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leadership and advocacy to mobilise increased resources to support a coherent and comprehensive global TB research age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TB research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racking of TB research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funding for operational research (linked to global M&amp;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need to boost TB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aising profile of TB research, e.g. 2008 Global Ministerial Forum on Research for Health, Bamak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aunch of Research Movement at Bellagio conference (or simil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3280" y="1412640"/>
            <a:ext cx="8640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1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contd.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leadership and advocacy to mobilise increased resources to support a coherent and comprehensive global TB research age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expected benefits of increased investment i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rticulation of expected benefits of increased investment in research, in basic and implementation research as well as in R&amp;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rough the ACSM W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ntributing to development of innovative financing mechanis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llaboration with InterGovernmental Working Group on Public Health, Innovation and Intellectual Proper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plans to engage and persuade key don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igh-level missions to main research funding agencies to advance arguments for increased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3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29840" y="1530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2)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e a forum for funders and implementers of TB research to coordinate plans and actions, with the result of ensuring that research needs are addressed, opportunities prioritised, and gaps fi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ngaging key research stakeh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ntinue and widen engagement with key research partn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pportunities for consultation, e.g. forum at the IUATLD conference, Cape Town, 8-12 November 2007; public-private dialog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veloping global TB research agen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pdating the research agendas that have been developed so far, and ultimately contributing to the development of a comprehensive global TB research age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's role in Research Movement: proposed activities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39280" y="162828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1280" y="1341360"/>
          <a:ext cx="8964720" cy="5334120"/>
        </p:xfrm>
        <a:graphic>
          <a:graphicData uri="http://schemas.openxmlformats.org/drawingml/2006/table">
            <a:tbl>
              <a:tblPr/>
              <a:tblGrid>
                <a:gridCol w="4114800"/>
                <a:gridCol w="4849920"/>
              </a:tblGrid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 1):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ovide leadership and advocacy to mobilise increased resources to support a coherent and comprehensive global TB research age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Movement proposed 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of TB research fund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or op. res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 of M&amp;E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ing awareness of need to boost TB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follow-up to World Health Assembly resolution; b) contribution to development of WHO's overall health research agenda to be approved by the WHA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ing information for advoca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ing profile of need for research, including on M(X)DR-TB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ng to development of innovative financing mechanis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governmental Working Group on Public Health, Innovation and Intellectual Prope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ing expected benefits of increased investment in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boration with Stop TB Partnership secretari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ng plans to engage and persuade key fun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 networking with fun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's role in Research Movement: proposed activities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1280" y="1657440"/>
          <a:ext cx="8964720" cy="2376360"/>
        </p:xfrm>
        <a:graphic>
          <a:graphicData uri="http://schemas.openxmlformats.org/drawingml/2006/table">
            <a:tbl>
              <a:tblPr/>
              <a:tblGrid>
                <a:gridCol w="4114800"/>
                <a:gridCol w="4849920"/>
              </a:tblGrid>
              <a:tr h="823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 2):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ovide a forum for funders and implementers of TB research to coordinate plans and actions, with the result of ensuring that research needs are addressed, opportunities prioritised, and gaps fill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Movement proposed 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global TB research agen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on to development of research agendas of implementation WGs and subgroups, representing expressed needs of count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aging key research stakehol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aging stakeholders in line with WHO man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Contents of present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0560" y="1989000"/>
            <a:ext cx="856908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ackground – continuum of health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cess of developing the TB Research M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Relative roles of Partnership and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Goal, objectives and activ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elopments to da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posed activities of Partnership and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Questions to Coordinating 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mmary indicative char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4920" y="987480"/>
          <a:ext cx="8964720" cy="5703840"/>
        </p:xfrm>
        <a:graphic>
          <a:graphicData uri="http://schemas.openxmlformats.org/drawingml/2006/table">
            <a:tbl>
              <a:tblPr/>
              <a:tblGrid>
                <a:gridCol w="2889360"/>
                <a:gridCol w="888840"/>
                <a:gridCol w="963720"/>
                <a:gridCol w="887400"/>
                <a:gridCol w="890640"/>
                <a:gridCol w="888840"/>
                <a:gridCol w="814320"/>
                <a:gridCol w="741600"/>
              </a:tblGrid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4 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1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2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3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4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1 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2 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er for development of research funding tracking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 funding for operational research through global M&amp;E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 expected benefits of increased investment in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e development of consolidated research age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um at IUATLD meeting, Cape T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lagio meeting (or simila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plan for targeted approaches to key research funders (high-level missio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Questions to Coordinating Boar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39280" y="162828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773360"/>
            <a:ext cx="8569080" cy="77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es the Board agree with the Research Movement's strategic approach emerging from the process of consultation, under the auspices of the Stop TB Partnershi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es the Board agree that the specific activities proposed will serve to meet the Research Movement's goal and objectiv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Continuum of TB research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– needs funding at all level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5280" y="1989000"/>
            <a:ext cx="813744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asic research for dis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velopment of new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diagnostic tests, drugs, vaccin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ation/operational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health policy, systems and service deliver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ocial science and behavioural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onitoring and evaluation of imp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pidemiology and model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56000" y="3502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4941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progress in process of consultation </a:t>
            </a:r>
            <a:br>
              <a:rPr sz="2800"/>
            </a:b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5292720" y="1484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June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17800" y="1484280"/>
            <a:ext cx="219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GB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Cd  Bd mtg, Geneva, April 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88000" y="141300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GB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Cd Bd mt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erli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23-24 October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645000"/>
            <a:ext cx="9144000" cy="865080"/>
          </a:xfrm>
          <a:prstGeom prst="rightArrow">
            <a:avLst>
              <a:gd name="adj1" fmla="val 50093"/>
              <a:gd name="adj2" fmla="val 96354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ESEARCH MOVEMENT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284292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781164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5294160" y="5589720"/>
            <a:ext cx="280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Times New Roman"/>
              </a:rPr>
              <a:t>approval of WHO's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5866920" y="2637000"/>
            <a:ext cx="1080" cy="1008720"/>
          </a:xfrm>
          <a:prstGeom prst="straightConnector1">
            <a:avLst/>
          </a:prstGeom>
          <a:ln w="54000">
            <a:solidFill>
              <a:srgbClr val="3366cc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5866920" y="4508280"/>
            <a:ext cx="1080" cy="937080"/>
          </a:xfrm>
          <a:prstGeom prst="straightConnector1">
            <a:avLst/>
          </a:prstGeom>
          <a:ln w="54000">
            <a:solidFill>
              <a:srgbClr val="3366cc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3995640" y="148428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ay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/>
          <p:nvPr/>
        </p:nvCxnSpPr>
        <p:spPr>
          <a:xfrm>
            <a:off x="442728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2843280" y="5589720"/>
            <a:ext cx="244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quest "to enhance WHO's role in TB researc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/>
          <p:nvPr/>
        </p:nvCxnSpPr>
        <p:spPr>
          <a:xfrm>
            <a:off x="4427280" y="4508280"/>
            <a:ext cx="1080" cy="93708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108000" y="1484280"/>
            <a:ext cx="194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d  Bd mtg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buja April 2006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Jakarta Nov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/>
          <p:nvPr/>
        </p:nvCxnSpPr>
        <p:spPr>
          <a:xfrm>
            <a:off x="104256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relative roles of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Partnership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and WHO (1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le of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Partnership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vening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 wide range of TB research stakeh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(including the end-users of TB research, e.g. NTP managers, and community groups), in addition to researchers and stakeholders in related research (including health systems and policy research, HIV research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nsifying engagement with funders of research to mobilize increased funding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dvocating for TB research, contributing to public awareness of TB research and promoting community mobilization for research activities through the ACSM Working Group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promoting the development of a wide range of technologies through the Partnership's Working Groups on new tool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lative roles of the Partnership and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208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HO is playing a lead role in establishing the Research Movement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ince the goal and objectives are fully consistent with WHO's mand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 promote TB re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ve advantages of WHO's contribution include i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s with countries and representation of country need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licy mandate and associated opportunities to identify research need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le in technical collaboration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ad role in global TB M&amp;E; 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titutional commitment to promote research as articulated by the Director-General and expressed in the 2007 WHA resolution (WHA 60.19) "TB control: progress and long-term planning"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goal and objectiv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95280" y="1557360"/>
            <a:ext cx="8569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he goal is to stimulate, support and expand research to ensure the global elimination of TB by 2050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he objectives are to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rovide leadership and advocacy to mobilise increased resources in support of a coherent and comprehensive global TB research agenda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rovide a forum for funders and implementers of TB research to coordinate plans and actions, with the result of ensuring that research needs are addressed, opportunities prioritised, and gaps filled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ctivities to achieve objective 1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539640" y="1483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Objective 1): to provide leadership and advocacy to mobilise increased resources in support of a coherent and comprehensive global TB research agend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ctivities proposed to achieve objective 1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ssessment of TB research funding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need to boost research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ssessment of expected benefits of increased investment in research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ntributing to development of innovative financing  mechanism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ordinate plans to engage and persuade key fund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ctivities to achieve objective 2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Objective 2): to provide a forum for funders and implementers of TB research to coordinate plans and actions, with the result of ensuring that research needs are addressed, opportunities prioritised, and gaps fi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ctivities proposed to achieve objective 2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engage key research stakeholder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further promote the research agendas of the WGs on new diagnostics, drugs and vaccin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develop global TB research agendas in specific area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facilitate interaction between research funding agenc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09:11:51Z</dcterms:created>
  <dc:creator>lamyquiques</dc:creator>
  <dc:description/>
  <cp:keywords/>
  <dc:language>en-US</dc:language>
  <cp:lastModifiedBy>User</cp:lastModifiedBy>
  <dcterms:modified xsi:type="dcterms:W3CDTF">2007-10-24T06:26:25Z</dcterms:modified>
  <cp:revision>3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64941164</vt:r8>
  </property>
  <property fmtid="{D5CDD505-2E9C-101B-9397-08002B2CF9AE}" pid="3" name="_AuthorEmail">
    <vt:lpwstr>maherd@who.int</vt:lpwstr>
  </property>
  <property fmtid="{D5CDD505-2E9C-101B-9397-08002B2CF9AE}" pid="4" name="_AuthorEmailDisplayName">
    <vt:lpwstr>Maher, Dermot</vt:lpwstr>
  </property>
  <property fmtid="{D5CDD505-2E9C-101B-9397-08002B2CF9AE}" pid="5" name="_EmailSubject">
    <vt:lpwstr>slides for Roberto Tapia's presentation</vt:lpwstr>
  </property>
  <property fmtid="{D5CDD505-2E9C-101B-9397-08002B2CF9AE}" pid="6" name="_NewReviewCycle">
    <vt:lpwstr/>
  </property>
  <property fmtid="{D5CDD505-2E9C-101B-9397-08002B2CF9AE}" pid="7" name="_PreviousAdHocReviewCycleID">
    <vt:r8>-472832796</vt:r8>
  </property>
  <property fmtid="{D5CDD505-2E9C-101B-9397-08002B2CF9AE}" pid="8" name="_ReviewingToolsShownOnce">
    <vt:lpwstr/>
  </property>
  <property fmtid="{D5CDD505-2E9C-101B-9397-08002B2CF9AE}" pid="9" name="_TemplateID">
    <vt:lpwstr>TC011811911033</vt:lpwstr>
  </property>
</Properties>
</file>