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C4DA-CA30-41AF-A4A0-3FA7CD06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BE7B-4A4D-45F2-AE3F-DCF58E53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575-25A5-4F2D-B14D-34107595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A86E-9770-4ACE-8275-572D67FD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8D4-862E-42A1-A8C3-1B0F115D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C66-9976-4D7E-BD9E-4C030FF2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F6A-BA3B-4C8F-866E-B23AB24F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6465-5F36-44AB-B4AD-F7AF9A0D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803-4BBD-48D7-AED8-BBE62419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8C1-9C3C-4876-9079-6E0C23FA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C1B-CBEA-4FE5-8D69-86D6183C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9623-5264-44B2-AAA6-AC5C2915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FD52-5747-4ECC-8542-75097C11E5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64360" y="5950080"/>
            <a:ext cx="1684440" cy="68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Isoniazid preventive therapy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Intensified case finding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Infection control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3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V Department, April 2-4, 2008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ive and Resul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cide ways HIV community could scale up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larify/develop policy in all 3 area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Develop indicator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Advocate from top: create demand from bottom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Raise resources through UNITAID etc for isoniazid and infection contro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19317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ternational AIDS Socie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verning council committed to TB/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AS is standing member of the TB/HIV Core Group and the President, Pedro Cahn attend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ndorsed the IPT consensus statement of the WG and disseminating i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ainstreamed TB infection control in their work on health workers safety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S 2008, Mexico City, August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B/HIV Activiti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nary Session (August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. Chakay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Driven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ral session (TB and ART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oster driven session (TB and HIV, a deadly partnership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sympo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TB Shack" in commercial exhibi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AG and IAS on infection contro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WHO guidelines on TB and HIV services in drug users: launch 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ily visibility of TB/HIV in the daily newsletter of the conference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noscop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 TB/HIV logo with 2-4 pag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of journalists from the south on TB/HIV to report on the conference and later in their respectiv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9:54:42Z</dcterms:created>
  <dc:creator>nunnp</dc:creator>
  <dc:description/>
  <dc:language>en-US</dc:language>
  <cp:lastModifiedBy>hendersons</cp:lastModifiedBy>
  <dcterms:modified xsi:type="dcterms:W3CDTF">2008-05-13T08:32:24Z</dcterms:modified>
  <cp:revision>3</cp:revision>
  <dc:subject/>
  <dc:title>  Isoniazid preventive therapy +Intensified case finding +Infection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127637</vt:r8>
  </property>
  <property fmtid="{D5CDD505-2E9C-101B-9397-08002B2CF9AE}" pid="3" name="_AuthorEmail">
    <vt:lpwstr>nunnp@who.int</vt:lpwstr>
  </property>
  <property fmtid="{D5CDD505-2E9C-101B-9397-08002B2CF9AE}" pid="4" name="_AuthorEmailDisplayName">
    <vt:lpwstr>Nunn, Paul P.</vt:lpwstr>
  </property>
  <property fmtid="{D5CDD505-2E9C-101B-9397-08002B2CF9AE}" pid="5" name="_EmailSubject">
    <vt:lpwstr>Cairo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