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55F4-6231-4086-8DD8-4E687AD26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the participants of the first HIV TB Global Leaders' Forum, meeting at the United Nations in New York on 9 June 2008,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alling the General Assembly Political Resolution on AIDS (2006) emphasizing the need for accelerated scale-up of collaborative activities on tuberculosis and HIV, the Millennium Development Goal targets for TB, and the World Health Assembly Resolution (2007), requesting countries to immediately address extensively drug-resistant TB and HIV-related TB as the highest health priorities, in line with the Global Plan to Stop TB 2006–2015;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cerned that every three minutes a person living with HIV dies of TB;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ing that HIV and TB are major constraints for socio-economic development and that investing in joint TB and HIV/AIDS interventions, will contribute positively to the achievement of the Millennium Development Goals on poverty reduction by keeping people healthy and productive;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gnizing the importance of investments in a strong domestic health system in the delivery of universal TB and HIV prevention, treatment, care and support service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ndful of global security issues and the new challenges associated with the emergence of drug resistant strains of TB that are particularly lethal in populations with high rates of HIV infection;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ware of the urgent need for new drugs, diagnostics and vaccines that are appropriate for people with HIV TB co-infect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nowledging there is an urgent need for community influencers and leaders to understand the critical aspects of TB prevention and care in communities, to fight stigma and discrimination, and to provide an enabling environment for patients to access and utilize treatment services with human dignity;</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rming that saving lives among people living with HIV and cutting mortality associated with TB requires bold leadership at all level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A52B4-DD0D-41F1-8315-507BAA8D8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532C5-34D0-436F-9623-B7364C328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227A6-92A1-4F32-8AF5-D3FD2FEE1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54919-D4B2-476C-A921-E2074514F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82ED8-073F-4820-8039-40387A8DD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EA3E8-94F1-4680-B394-E61F07D34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8271A-254E-4260-B6BB-35D89C3A1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AC464-AA6D-4EB8-AB7C-68113A5E0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13F97-F695-40CF-9050-1BACB276F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3AF0E-A711-4153-B466-E19E2967B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6FEC5-4D99-4021-B638-8D65949B8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B812F-5A0F-4960-9CF7-2AE45B841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B6ED2-8DE1-4194-8663-EA97F3F2A6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52680" y="2438280"/>
            <a:ext cx="2438640" cy="2438640"/>
          </a:xfrm>
          <a:prstGeom prst="rect">
            <a:avLst/>
          </a:prstGeom>
          <a:ln w="0">
            <a:noFill/>
          </a:ln>
        </p:spPr>
      </p:pic>
      <p:pic>
        <p:nvPicPr>
          <p:cNvPr id="49" name="" descr=""/>
          <p:cNvPicPr/>
          <p:nvPr/>
        </p:nvPicPr>
        <p:blipFill>
          <a:blip r:embed="rId2"/>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URPOSE AND RATION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is a massive challenge to TB – particularly in the face of drug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ld leadership is required – at all political leve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342800"/>
            <a:ext cx="8229600" cy="74520"/>
          </a:xfrm>
          <a:prstGeom prst="rect">
            <a:avLst/>
          </a:prstGeom>
          <a:noFill/>
          <a:ln w="0">
            <a:noFill/>
          </a:ln>
        </p:spPr>
        <p:txBody>
          <a:bodyPr lIns="90000" rIns="90000" tIns="27720" bIns="27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Arial"/>
              </a:rPr>
              <a:t>ORGANISER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Sampaio (endorsed by Secretary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Partnership, WHO, Global Fund, World Bank, UNAIDS and the European Commissio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 of State and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Heal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lateral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S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52280"/>
          <a:ext cx="6095880" cy="6400800"/>
        </p:xfrm>
        <a:graphic>
          <a:graphicData uri="http://schemas.openxmlformats.org/presentationml/2006/ole">
            <p:oleObj r:id="rId1" spid="">
              <p:embed/>
              <p:pic>
                <p:nvPicPr>
                  <p:cNvPr id="58" name="" descr=""/>
                  <p:cNvPicPr/>
                  <p:nvPr/>
                </p:nvPicPr>
                <p:blipFill>
                  <a:blip r:embed="rId2"/>
                  <a:stretch/>
                </p:blipFill>
                <p:spPr>
                  <a:xfrm>
                    <a:off x="1371600" y="152280"/>
                    <a:ext cx="60958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LL FOR ACTION</a:t>
            </a:r>
            <a:endParaRPr b="0" lang="en-US" sz="2400" spc="-1" strike="noStrike">
              <a:solidFill>
                <a:srgbClr val="000000"/>
              </a:solidFill>
              <a:latin typeface="Arial"/>
            </a:endParaRPr>
          </a:p>
        </p:txBody>
      </p:sp>
      <p:sp>
        <p:nvSpPr>
          <p:cNvPr id="60" name="PlaceHolder 2"/>
          <p:cNvSpPr>
            <a:spLocks noGrp="1"/>
          </p:cNvSpPr>
          <p:nvPr>
            <p:ph/>
          </p:nvPr>
        </p:nvSpPr>
        <p:spPr>
          <a:xfrm>
            <a:off x="457200" y="1980720"/>
            <a:ext cx="8229600" cy="391644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ources </a:t>
            </a:r>
            <a:r>
              <a:rPr b="0" lang="en-GB" sz="2400" spc="-1" strike="noStrike">
                <a:solidFill>
                  <a:srgbClr val="000000"/>
                </a:solidFill>
                <a:latin typeface="Arial"/>
              </a:rPr>
              <a:t>necessary to </a:t>
            </a:r>
            <a:r>
              <a:rPr b="1" lang="en-GB" sz="2400" spc="-1" strike="noStrike">
                <a:solidFill>
                  <a:srgbClr val="000000"/>
                </a:solidFill>
                <a:latin typeface="Arial"/>
              </a:rPr>
              <a:t>halve</a:t>
            </a:r>
            <a:r>
              <a:rPr b="0" lang="en-GB" sz="2400" spc="-1" strike="noStrike">
                <a:solidFill>
                  <a:srgbClr val="000000"/>
                </a:solidFill>
                <a:latin typeface="Arial"/>
              </a:rPr>
              <a:t> the number of people living with HIV who die unnecessarily of TB annually by 2015;</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B prevention diagnosis, and treatment within the context of universal access and include TB prevention, diagnostics, treatment and adherence in all national HIV action frameworks and strategies </a:t>
            </a:r>
            <a:r>
              <a:rPr b="1" lang="en-US" sz="2400" spc="-1" strike="noStrike">
                <a:solidFill>
                  <a:srgbClr val="000000"/>
                </a:solidFill>
                <a:latin typeface="Arial"/>
              </a:rPr>
              <a:t>(3 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target setting (accountability)</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one life - two disease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communities and wider </a:t>
            </a:r>
            <a:r>
              <a:rPr b="1" lang="en-US" sz="2400" spc="-1" strike="noStrike">
                <a:solidFill>
                  <a:srgbClr val="000000"/>
                </a:solidFill>
                <a:latin typeface="Arial"/>
              </a:rPr>
              <a:t>civil society</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and poverty reduction strategies</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 </a:t>
            </a:r>
            <a:r>
              <a:rPr b="1" lang="en-US" sz="2400" spc="-1" strike="noStrike">
                <a:solidFill>
                  <a:srgbClr val="000000"/>
                </a:solidFill>
                <a:latin typeface="Arial"/>
              </a:rPr>
              <a:t>research</a:t>
            </a:r>
            <a:endParaRPr b="0" lang="en-US" sz="2400" spc="-1" strike="noStrike">
              <a:solidFill>
                <a:srgbClr val="000000"/>
              </a:solidFill>
              <a:latin typeface="Arial"/>
            </a:endParaRPr>
          </a:p>
        </p:txBody>
      </p:sp>
      <p:pic>
        <p:nvPicPr>
          <p:cNvPr id="61"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62120" y="914400"/>
          <a:ext cx="7467480" cy="4971960"/>
        </p:xfrm>
        <a:graphic>
          <a:graphicData uri="http://schemas.openxmlformats.org/presentationml/2006/ole">
            <p:oleObj r:id="rId1" spid="">
              <p:embed/>
              <p:pic>
                <p:nvPicPr>
                  <p:cNvPr id="63" name="" descr=""/>
                  <p:cNvPicPr/>
                  <p:nvPr/>
                </p:nvPicPr>
                <p:blipFill>
                  <a:blip r:embed="rId2"/>
                  <a:stretch/>
                </p:blipFill>
                <p:spPr>
                  <a:xfrm>
                    <a:off x="762120" y="914400"/>
                    <a:ext cx="7467480" cy="49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ard is requested:</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dvise on the agenda</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ment and endorse the “Call for Action”</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national leadership in the HIV TB Global Leaders Forum and in national target setting</a:t>
            </a:r>
            <a:endParaRPr b="0" lang="en-US" sz="3200" spc="-1" strike="noStrike">
              <a:solidFill>
                <a:srgbClr val="000000"/>
              </a:solidFill>
              <a:latin typeface="Arial"/>
            </a:endParaRPr>
          </a:p>
        </p:txBody>
      </p:sp>
      <p:pic>
        <p:nvPicPr>
          <p:cNvPr id="65"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08-05-05T15:48:3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