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C724-C700-4B44-8610-82F5337D6F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Justification for WGND here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TB alliance cannot operate in a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Need for working with the Partnership clear from our strategic imper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Dependence on network for knowledge, tools, biology and lead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Integration with other WGS critical (diagnostics and surrogate markers mentioned as examp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AAA: need to work with partners to ensure 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Define, in light of the mckinsey report, how we can improve the WGND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1. Ensure adequate representation of all stakeholder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(call for agenda items 2 wks prior to meetings; Teleconferences every 6 weeks between face to face meetings, to track all project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Objectives setting every year; of the WGND and of each individual member’s contribu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Re-assess the role of the Chair – rather than setting meeting agendas, act to ensure appropriate timing of agenda items, organize agenda and perform performance manageme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Establish the need for, definition of and organization of a core group, obliged to attend every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(decision on core group, chair’s role etc based on consensu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Update the WGND Strategic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olunteer writing committee to meet by teleconferenc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nduct member survey to ascertain goals and objectiv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clude MDR/XDR strategy and budget adjustmen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draft of updated Strategic Plan at Annual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. Perform thorough census of member activ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Voluntary submissions will be collated and distributed as information-sharing exercis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Breadth of membership can be analyzed and outreach perform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3. Special Annual Meeting: using materials developed in (1) and (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Discuss goals, objectives, activities, performance management, structure, funding and administra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F32-17A4-40AC-8250-8B865DB0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0D2-8997-4993-BEC9-F10B6EA4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AB21-5E19-4E67-BE23-49943DFB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7DEC-B6A5-483B-8514-333B3274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F858-6CCE-455C-BE57-B193B607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0AD0-4D9F-4A5C-B9C7-5FB0CAE4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43E3-D2E5-4936-9A24-5894B78A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9041-183F-4E15-9D54-B3F1CDCF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E7ED-C659-43A7-B6F0-61552C18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B400-AAA1-46B6-9E99-CCBE7465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CD66-4438-42E3-A9EE-D07E5792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A82A-CFC8-4E09-8123-22268D71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149A-CEEC-4EF4-BFC9-D17022D9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FED3-4E55-41F0-9D0F-4F6F18BF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576E-8C64-4478-B072-78872194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87E5-F4C4-4719-965A-E92397EA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6A30-CACB-4AA2-BB57-3731B411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4753C-2B99-4439-A000-CFA79529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79F67-157C-4412-A7C6-991CCD94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35AAE-E43E-466C-8A03-654154A3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B02F9-F2BE-4DA1-AC2F-3F92F258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8F6E4-5537-434F-B0D1-BF36552A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AFC8-8114-43A3-90B5-0D10983D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2B477-6F4F-4A21-B430-D8B57DC2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A7FB-1F0B-4F24-8306-5F8AA67E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1278F-7D37-4F87-A0C3-2BD38EAD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3B5CE-0065-4331-AC0C-46FEC7E4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945D8-1785-4CAF-B764-2DC683BF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32681-4BE6-4CF0-98C0-B525FEAD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932DC-BAEA-4877-9996-BB528CD4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6C44-6995-4134-913F-BBFA02C6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6A4-B4C1-439F-8B54-3B67DD94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591-D07E-41CC-9807-833FD133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32F-97A4-445F-AAA0-D40A63CF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020-3552-4E11-AD1F-40AABAC9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05D2-DC5F-4471-BE17-700C3968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7842-DB2E-4C56-A653-8E1AD6220F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6B82-72C8-46FB-A871-5A4B2558B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3159-2BC0-4872-92DF-8189CFB004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9EE6-1C04-4508-87B2-7D386F594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200400" y="6095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E60F-9D06-46CC-90D9-464D9EBF44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0CDF-5A15-414C-90EA-5A9D578CF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4.png"/><Relationship Id="rId2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Working with the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Stop TB Partnership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for a TB-free Worl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rome Premmereur, M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04920" y="1554120"/>
            <a:ext cx="7772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5. Ensure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 closely with WHO and the Stop TB Partnersh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sion of new TB treatment strategies in all necessary guide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28600" y="3367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6. Ensure industrial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nership with industrial operators must ensure successful translation into industrial production and an affordable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304920" y="152388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7. Develop a strategy for product deli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aborate with the Stop TB Partnership, the pharmaceutical industry, countries and other partners to ensure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28600" y="3429000"/>
            <a:ext cx="77724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8. Ensure that sufficient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nd Mone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artnership is Ess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28600" y="1523880"/>
            <a:ext cx="77724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Collaborate with WGND, other WGs and partne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understanding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develop tools for lead gener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tools (surrogate markers) and networks to speed clinical tri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adoption and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228600" y="1522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hat might be the Future of the WGN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80880" y="1219320"/>
            <a:ext cx="82296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re-visit strategic and operat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meeting agendas in advance via open call to members (rather than by 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specific measurable objectives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ctionable work and funding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scope of work on a frequent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304920" y="3505320"/>
            <a:ext cx="82296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ensure representation of all stakehol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a member survey to gain consensu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for, definition, obligations and use of cor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and process for electing th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ligations of members: meeting frequency,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he TB Alliance needs you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Do you need 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Backu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E9F4-835D-4D5B-9F83-72EA95730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get more LO product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more people with the following expertise: Pharmacologist, Pharmaceutical Development Specialist, Toxicologist, PK/PD Experts, Phase 1 and 2 (Proof of concept) Expe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to clarify if we have already explored all possibilities of existing products in the pharmaceutical industry (TB drug repurpo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 drug discovery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ision on lead generation and lead optimization as internal evidence based Go/No-Go (library of Rifamycin analogu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for a network of phase 2 centers that can rapidly evaluate products (EBA dose ranging at 2 wee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A478-16EC-40D0-8508-CF0BB26C4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speed up product realization develop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phase 3 centers: Quality and quantity in endemic countries not familiar with GCPs, e.g., French Government network in Africa (HCP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regulatory network in order to speed up the approval process of studies (8 to 12 months in Chi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CROs (people) for high performa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2798-0935-41A0-96B7-788F3DBC7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Vi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09480" y="14731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op TB  Partnership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B Alliance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 is impossible without new drugs and new drug regim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09480" y="13716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op TB  Partnership’s 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every TB patient has access to effective diagnosis, treatment and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op transmission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the inequitable social and economic toll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and implement new preventive, diagnostic and therapeutic tools and strategies to stop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609480" y="121932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B Alliance’s Mis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velop new TB dru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horter and simpler treatment that are affordable, available and widely adopt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offer a better risk-benefit ratio compared to existing treat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improve treatment of every form of TB: drug sensitive,  MDR and XDR, HIV/TB, latent TB pa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981080" y="434340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666880" y="4343400"/>
            <a:ext cx="6324840" cy="22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981080" y="1390680"/>
            <a:ext cx="129564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981080" y="487692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286000" y="4876920"/>
            <a:ext cx="6705720" cy="2286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981080" y="4076640"/>
            <a:ext cx="990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71800" y="4076640"/>
            <a:ext cx="6019920" cy="22860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352680" y="1390680"/>
            <a:ext cx="99072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41972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981080" y="38098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3581280" y="3809880"/>
            <a:ext cx="5410440" cy="2286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981080" y="3276720"/>
            <a:ext cx="19051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886200" y="3276720"/>
            <a:ext cx="5105520" cy="2286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48640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655308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7620120" y="1390680"/>
            <a:ext cx="137160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1981080" y="3009960"/>
            <a:ext cx="20574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038480" y="3009960"/>
            <a:ext cx="4953240" cy="2286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152280" y="48769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152280" y="40766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152280" y="43434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152280" y="38098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152280" y="32767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152280" y="30099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152280" y="27432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152280" y="24764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152280" y="35434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152280" y="22096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152280" y="19432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1981080" y="2743200"/>
            <a:ext cx="2133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114800" y="2743200"/>
            <a:ext cx="4876920" cy="22860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1981080" y="2476440"/>
            <a:ext cx="2438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4648320" y="2476440"/>
            <a:ext cx="4343400" cy="2286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1981080" y="2209680"/>
            <a:ext cx="4800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6781680" y="2209680"/>
            <a:ext cx="2210040" cy="22860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1981080" y="1943280"/>
            <a:ext cx="5867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7848720" y="1943280"/>
            <a:ext cx="1143000" cy="22860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3352680" y="3543480"/>
            <a:ext cx="5639040" cy="2286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419720" y="2476440"/>
            <a:ext cx="228600" cy="228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3352680" y="3809880"/>
            <a:ext cx="228600" cy="228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1981080" y="35434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0" y="343080"/>
            <a:ext cx="945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152280" y="1076400"/>
            <a:ext cx="1752840" cy="82872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5"/>
          <p:cNvSpPr/>
          <p:nvPr/>
        </p:nvSpPr>
        <p:spPr>
          <a:xfrm>
            <a:off x="1981080" y="107640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5486400" y="106668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352680" y="3543480"/>
            <a:ext cx="228600" cy="228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1981080" y="461016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2666880" y="4610160"/>
            <a:ext cx="6324840" cy="2286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152280" y="46101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7666200" y="658332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9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142920" y="51436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1971720" y="51436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2276640" y="5143680"/>
            <a:ext cx="6705360" cy="22860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142920" y="54100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1971720" y="54100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2276640" y="5410080"/>
            <a:ext cx="6705360" cy="2286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028960" y="4362480"/>
            <a:ext cx="9334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962440" y="4362480"/>
            <a:ext cx="5976720" cy="1332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009880" y="1076400"/>
            <a:ext cx="1295280" cy="32364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028960" y="5029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324160" y="5029200"/>
            <a:ext cx="6600600" cy="1332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028960" y="4038480"/>
            <a:ext cx="1301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324240" y="4038480"/>
            <a:ext cx="5619600" cy="15264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381480" y="1076400"/>
            <a:ext cx="99036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444816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028960" y="3714840"/>
            <a:ext cx="15922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3619440" y="3714840"/>
            <a:ext cx="5330880" cy="1332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028960" y="3067200"/>
            <a:ext cx="18810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914640" y="3067200"/>
            <a:ext cx="5040360" cy="1332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551484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58188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7648560" y="1076400"/>
            <a:ext cx="137160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2028960" y="2743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4067280" y="2743200"/>
            <a:ext cx="4889520" cy="1332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181080" y="501984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181080" y="404820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181080" y="4371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81080" y="372420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190440" y="3076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5"/>
          <p:cNvSpPr/>
          <p:nvPr/>
        </p:nvSpPr>
        <p:spPr>
          <a:xfrm>
            <a:off x="190440" y="2752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90440" y="2428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190440" y="210492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181080" y="340056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190440" y="178128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190440" y="145728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2028960" y="2428920"/>
            <a:ext cx="290664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4943520" y="2428920"/>
            <a:ext cx="4005360" cy="12384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2028960" y="2104920"/>
            <a:ext cx="4425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4"/>
          <p:cNvSpPr/>
          <p:nvPr/>
        </p:nvSpPr>
        <p:spPr>
          <a:xfrm>
            <a:off x="6458040" y="2114640"/>
            <a:ext cx="2496960" cy="1332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5"/>
          <p:cNvSpPr/>
          <p:nvPr/>
        </p:nvSpPr>
        <p:spPr>
          <a:xfrm>
            <a:off x="2028960" y="1771560"/>
            <a:ext cx="55674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7601040" y="1771560"/>
            <a:ext cx="1371600" cy="14292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7"/>
          <p:cNvSpPr/>
          <p:nvPr/>
        </p:nvSpPr>
        <p:spPr>
          <a:xfrm>
            <a:off x="2028960" y="1438200"/>
            <a:ext cx="6954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8"/>
          <p:cNvSpPr/>
          <p:nvPr/>
        </p:nvSpPr>
        <p:spPr>
          <a:xfrm>
            <a:off x="3876840" y="3390840"/>
            <a:ext cx="5072040" cy="13356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9"/>
          <p:cNvSpPr/>
          <p:nvPr/>
        </p:nvSpPr>
        <p:spPr>
          <a:xfrm>
            <a:off x="2028960" y="3390840"/>
            <a:ext cx="18586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0"/>
          <p:cNvSpPr/>
          <p:nvPr/>
        </p:nvSpPr>
        <p:spPr>
          <a:xfrm>
            <a:off x="0" y="276120"/>
            <a:ext cx="945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152280" y="762120"/>
            <a:ext cx="1752840" cy="61884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009880" y="76212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5514840" y="75240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4"/>
          <p:cNvSpPr/>
          <p:nvPr/>
        </p:nvSpPr>
        <p:spPr>
          <a:xfrm>
            <a:off x="2028960" y="4695840"/>
            <a:ext cx="46656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5"/>
          <p:cNvSpPr/>
          <p:nvPr/>
        </p:nvSpPr>
        <p:spPr>
          <a:xfrm>
            <a:off x="2495520" y="4695840"/>
            <a:ext cx="6434280" cy="1332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6"/>
          <p:cNvSpPr/>
          <p:nvPr/>
        </p:nvSpPr>
        <p:spPr>
          <a:xfrm>
            <a:off x="181080" y="4695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7"/>
          <p:cNvSpPr/>
          <p:nvPr/>
        </p:nvSpPr>
        <p:spPr>
          <a:xfrm>
            <a:off x="181080" y="534348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8"/>
          <p:cNvSpPr/>
          <p:nvPr/>
        </p:nvSpPr>
        <p:spPr>
          <a:xfrm>
            <a:off x="2028960" y="5353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9"/>
          <p:cNvSpPr/>
          <p:nvPr/>
        </p:nvSpPr>
        <p:spPr>
          <a:xfrm>
            <a:off x="2333520" y="5353200"/>
            <a:ext cx="6600960" cy="133200"/>
          </a:xfrm>
          <a:prstGeom prst="rect">
            <a:avLst/>
          </a:prstGeom>
          <a:blipFill rotWithShape="0">
            <a:blip r:embed="rId1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181080" y="566748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2038320" y="5676840"/>
            <a:ext cx="3002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2"/>
          <p:cNvSpPr/>
          <p:nvPr/>
        </p:nvSpPr>
        <p:spPr>
          <a:xfrm>
            <a:off x="2333520" y="5676840"/>
            <a:ext cx="6600960" cy="133560"/>
          </a:xfrm>
          <a:prstGeom prst="rect">
            <a:avLst/>
          </a:prstGeom>
          <a:blipFill rotWithShape="0">
            <a:blip r:embed="rId1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3"/>
          <p:cNvSpPr/>
          <p:nvPr/>
        </p:nvSpPr>
        <p:spPr>
          <a:xfrm>
            <a:off x="2028960" y="4533840"/>
            <a:ext cx="6760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4"/>
          <p:cNvSpPr/>
          <p:nvPr/>
        </p:nvSpPr>
        <p:spPr>
          <a:xfrm>
            <a:off x="2714760" y="4533840"/>
            <a:ext cx="6243480" cy="133560"/>
          </a:xfrm>
          <a:prstGeom prst="rect">
            <a:avLst/>
          </a:prstGeom>
          <a:blipFill rotWithShape="0">
            <a:blip r:embed="rId1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5"/>
          <p:cNvSpPr/>
          <p:nvPr/>
        </p:nvSpPr>
        <p:spPr>
          <a:xfrm>
            <a:off x="2028960" y="5191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2324160" y="5191200"/>
            <a:ext cx="6600600" cy="1332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7"/>
          <p:cNvSpPr/>
          <p:nvPr/>
        </p:nvSpPr>
        <p:spPr>
          <a:xfrm>
            <a:off x="2028960" y="4200480"/>
            <a:ext cx="977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8"/>
          <p:cNvSpPr/>
          <p:nvPr/>
        </p:nvSpPr>
        <p:spPr>
          <a:xfrm>
            <a:off x="3000240" y="4200480"/>
            <a:ext cx="5943600" cy="13356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9"/>
          <p:cNvSpPr/>
          <p:nvPr/>
        </p:nvSpPr>
        <p:spPr>
          <a:xfrm>
            <a:off x="2028960" y="3867120"/>
            <a:ext cx="158256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0"/>
          <p:cNvSpPr/>
          <p:nvPr/>
        </p:nvSpPr>
        <p:spPr>
          <a:xfrm>
            <a:off x="3610080" y="3876840"/>
            <a:ext cx="5340240" cy="1332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2028960" y="3228840"/>
            <a:ext cx="18810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2"/>
          <p:cNvSpPr/>
          <p:nvPr/>
        </p:nvSpPr>
        <p:spPr>
          <a:xfrm>
            <a:off x="3905280" y="3228840"/>
            <a:ext cx="5040360" cy="133560"/>
          </a:xfrm>
          <a:prstGeom prst="rect">
            <a:avLst/>
          </a:prstGeom>
          <a:blipFill rotWithShape="0">
            <a:blip r:embed="rId1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3"/>
          <p:cNvSpPr/>
          <p:nvPr/>
        </p:nvSpPr>
        <p:spPr>
          <a:xfrm>
            <a:off x="2028960" y="2905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4"/>
          <p:cNvSpPr/>
          <p:nvPr/>
        </p:nvSpPr>
        <p:spPr>
          <a:xfrm>
            <a:off x="4067280" y="2905200"/>
            <a:ext cx="4889520" cy="133200"/>
          </a:xfrm>
          <a:prstGeom prst="rect">
            <a:avLst/>
          </a:prstGeom>
          <a:blipFill rotWithShape="0">
            <a:blip r:embed="rId1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5"/>
          <p:cNvSpPr/>
          <p:nvPr/>
        </p:nvSpPr>
        <p:spPr>
          <a:xfrm>
            <a:off x="181080" y="5181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6"/>
          <p:cNvSpPr/>
          <p:nvPr/>
        </p:nvSpPr>
        <p:spPr>
          <a:xfrm>
            <a:off x="181080" y="421020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7"/>
          <p:cNvSpPr/>
          <p:nvPr/>
        </p:nvSpPr>
        <p:spPr>
          <a:xfrm>
            <a:off x="181080" y="453384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8"/>
          <p:cNvSpPr/>
          <p:nvPr/>
        </p:nvSpPr>
        <p:spPr>
          <a:xfrm>
            <a:off x="181080" y="3886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9"/>
          <p:cNvSpPr/>
          <p:nvPr/>
        </p:nvSpPr>
        <p:spPr>
          <a:xfrm>
            <a:off x="181080" y="323856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LO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0"/>
          <p:cNvSpPr/>
          <p:nvPr/>
        </p:nvSpPr>
        <p:spPr>
          <a:xfrm>
            <a:off x="190440" y="2914560"/>
            <a:ext cx="174636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1"/>
          <p:cNvSpPr/>
          <p:nvPr/>
        </p:nvSpPr>
        <p:spPr>
          <a:xfrm>
            <a:off x="190440" y="259092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2"/>
          <p:cNvSpPr/>
          <p:nvPr/>
        </p:nvSpPr>
        <p:spPr>
          <a:xfrm>
            <a:off x="190440" y="2266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3"/>
          <p:cNvSpPr/>
          <p:nvPr/>
        </p:nvSpPr>
        <p:spPr>
          <a:xfrm>
            <a:off x="181080" y="3562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4"/>
          <p:cNvSpPr/>
          <p:nvPr/>
        </p:nvSpPr>
        <p:spPr>
          <a:xfrm>
            <a:off x="190440" y="1943280"/>
            <a:ext cx="1746360" cy="145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5"/>
          <p:cNvSpPr/>
          <p:nvPr/>
        </p:nvSpPr>
        <p:spPr>
          <a:xfrm>
            <a:off x="190440" y="161928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6"/>
          <p:cNvSpPr/>
          <p:nvPr/>
        </p:nvSpPr>
        <p:spPr>
          <a:xfrm>
            <a:off x="2028960" y="2581200"/>
            <a:ext cx="23828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7"/>
          <p:cNvSpPr/>
          <p:nvPr/>
        </p:nvSpPr>
        <p:spPr>
          <a:xfrm>
            <a:off x="4410000" y="2590920"/>
            <a:ext cx="4557960" cy="114120"/>
          </a:xfrm>
          <a:prstGeom prst="rect">
            <a:avLst/>
          </a:prstGeom>
          <a:blipFill rotWithShape="0">
            <a:blip r:embed="rId2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8"/>
          <p:cNvSpPr/>
          <p:nvPr/>
        </p:nvSpPr>
        <p:spPr>
          <a:xfrm>
            <a:off x="2028960" y="2276640"/>
            <a:ext cx="34066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9"/>
          <p:cNvSpPr/>
          <p:nvPr/>
        </p:nvSpPr>
        <p:spPr>
          <a:xfrm>
            <a:off x="5427720" y="2266920"/>
            <a:ext cx="3525840" cy="133560"/>
          </a:xfrm>
          <a:prstGeom prst="rect">
            <a:avLst/>
          </a:prstGeom>
          <a:blipFill rotWithShape="0">
            <a:blip r:embed="rId2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0"/>
          <p:cNvSpPr/>
          <p:nvPr/>
        </p:nvSpPr>
        <p:spPr>
          <a:xfrm>
            <a:off x="2028960" y="1933560"/>
            <a:ext cx="51670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1"/>
          <p:cNvSpPr/>
          <p:nvPr/>
        </p:nvSpPr>
        <p:spPr>
          <a:xfrm>
            <a:off x="7201080" y="1943280"/>
            <a:ext cx="1752480" cy="133200"/>
          </a:xfrm>
          <a:prstGeom prst="rect">
            <a:avLst/>
          </a:prstGeom>
          <a:blipFill rotWithShape="0">
            <a:blip r:embed="rId2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2"/>
          <p:cNvSpPr/>
          <p:nvPr/>
        </p:nvSpPr>
        <p:spPr>
          <a:xfrm>
            <a:off x="2028960" y="1609560"/>
            <a:ext cx="63738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3"/>
          <p:cNvSpPr/>
          <p:nvPr/>
        </p:nvSpPr>
        <p:spPr>
          <a:xfrm>
            <a:off x="8400960" y="1609560"/>
            <a:ext cx="567000" cy="142920"/>
          </a:xfrm>
          <a:prstGeom prst="rect">
            <a:avLst/>
          </a:prstGeom>
          <a:blipFill rotWithShape="0">
            <a:blip r:embed="rId2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3848040" y="3552840"/>
            <a:ext cx="5100840" cy="133200"/>
          </a:xfrm>
          <a:prstGeom prst="rect">
            <a:avLst/>
          </a:prstGeom>
          <a:blipFill rotWithShape="0">
            <a:blip r:embed="rId2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5"/>
          <p:cNvSpPr/>
          <p:nvPr/>
        </p:nvSpPr>
        <p:spPr>
          <a:xfrm>
            <a:off x="2028960" y="3552840"/>
            <a:ext cx="183024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6"/>
          <p:cNvSpPr/>
          <p:nvPr/>
        </p:nvSpPr>
        <p:spPr>
          <a:xfrm>
            <a:off x="2028960" y="4857840"/>
            <a:ext cx="45720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7"/>
          <p:cNvSpPr/>
          <p:nvPr/>
        </p:nvSpPr>
        <p:spPr>
          <a:xfrm>
            <a:off x="2495520" y="4857840"/>
            <a:ext cx="6434280" cy="142920"/>
          </a:xfrm>
          <a:prstGeom prst="rect">
            <a:avLst/>
          </a:prstGeom>
          <a:blipFill rotWithShape="0">
            <a:blip r:embed="rId2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8"/>
          <p:cNvSpPr/>
          <p:nvPr/>
        </p:nvSpPr>
        <p:spPr>
          <a:xfrm>
            <a:off x="181080" y="485784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9"/>
          <p:cNvSpPr/>
          <p:nvPr/>
        </p:nvSpPr>
        <p:spPr>
          <a:xfrm>
            <a:off x="181080" y="5505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0"/>
          <p:cNvSpPr/>
          <p:nvPr/>
        </p:nvSpPr>
        <p:spPr>
          <a:xfrm>
            <a:off x="2028960" y="5514840"/>
            <a:ext cx="2998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1"/>
          <p:cNvSpPr/>
          <p:nvPr/>
        </p:nvSpPr>
        <p:spPr>
          <a:xfrm>
            <a:off x="2333520" y="5514840"/>
            <a:ext cx="6600960" cy="133560"/>
          </a:xfrm>
          <a:prstGeom prst="rect">
            <a:avLst/>
          </a:prstGeom>
          <a:blipFill rotWithShape="0">
            <a:blip r:embed="rId2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2"/>
          <p:cNvSpPr/>
          <p:nvPr/>
        </p:nvSpPr>
        <p:spPr>
          <a:xfrm>
            <a:off x="171360" y="5829480"/>
            <a:ext cx="174636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G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3"/>
          <p:cNvSpPr/>
          <p:nvPr/>
        </p:nvSpPr>
        <p:spPr>
          <a:xfrm>
            <a:off x="2028960" y="583884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4"/>
          <p:cNvSpPr/>
          <p:nvPr/>
        </p:nvSpPr>
        <p:spPr>
          <a:xfrm>
            <a:off x="2333520" y="5838840"/>
            <a:ext cx="6600960" cy="133200"/>
          </a:xfrm>
          <a:prstGeom prst="rect">
            <a:avLst/>
          </a:prstGeom>
          <a:blipFill rotWithShape="0">
            <a:blip r:embed="rId2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Rectangle 64" descr=""/>
          <p:cNvPicPr/>
          <p:nvPr/>
        </p:nvPicPr>
        <p:blipFill>
          <a:blip r:embed="rId28"/>
          <a:stretch/>
        </p:blipFill>
        <p:spPr>
          <a:xfrm>
            <a:off x="2097000" y="1620720"/>
            <a:ext cx="66819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Generating more L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 Priorit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106920" y="2057400"/>
            <a:ext cx="8249040" cy="3705480"/>
            <a:chOff x="106920" y="2057400"/>
            <a:chExt cx="8249040" cy="3705480"/>
          </a:xfrm>
        </p:grpSpPr>
        <p:sp>
          <p:nvSpPr>
            <p:cNvPr id="298" name="Rectangle 4"/>
            <p:cNvSpPr/>
            <p:nvPr/>
          </p:nvSpPr>
          <p:spPr>
            <a:xfrm>
              <a:off x="3353040" y="20574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ncluding reassessment of what we “know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"/>
            <p:cNvSpPr/>
            <p:nvPr/>
          </p:nvSpPr>
          <p:spPr>
            <a:xfrm>
              <a:off x="3353040" y="4876920"/>
              <a:ext cx="2286000" cy="761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maging M.tb </a:t>
              </a:r>
              <a:r>
                <a:rPr b="1" i="1" lang="en-US" sz="1100" spc="-1" strike="noStrike">
                  <a:solidFill>
                    <a:srgbClr val="ffffff"/>
                  </a:solidFill>
                  <a:latin typeface="Calibri"/>
                </a:rPr>
                <a:t>in situ</a:t>
              </a: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, biomark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76212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Bi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Understanding persistence and laten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594360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Lea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Chemical genom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Down Arrow 8"/>
            <p:cNvSpPr/>
            <p:nvPr/>
          </p:nvSpPr>
          <p:spPr>
            <a:xfrm rot="2653800">
              <a:off x="2849400" y="275400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Down Arrow 9"/>
            <p:cNvSpPr/>
            <p:nvPr/>
          </p:nvSpPr>
          <p:spPr>
            <a:xfrm rot="18870000">
              <a:off x="5823000" y="275076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Down Arrow 12"/>
            <p:cNvSpPr/>
            <p:nvPr/>
          </p:nvSpPr>
          <p:spPr>
            <a:xfrm rot="13404600">
              <a:off x="5972400" y="427968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Down Arrow 13"/>
            <p:cNvSpPr/>
            <p:nvPr/>
          </p:nvSpPr>
          <p:spPr>
            <a:xfrm rot="8084400">
              <a:off x="2850480" y="427464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ight Arrow 14"/>
            <p:cNvSpPr/>
            <p:nvPr/>
          </p:nvSpPr>
          <p:spPr>
            <a:xfrm>
              <a:off x="3505320" y="3429000"/>
              <a:ext cx="2057400" cy="685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5"/>
            <p:cNvSpPr/>
            <p:nvPr/>
          </p:nvSpPr>
          <p:spPr>
            <a:xfrm>
              <a:off x="106920" y="5486400"/>
              <a:ext cx="282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rom BMG Foundation Meeting April 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7"/>
            <p:cNvSpPr/>
            <p:nvPr/>
          </p:nvSpPr>
          <p:spPr>
            <a:xfrm>
              <a:off x="1218240" y="2743200"/>
              <a:ext cx="16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xisting sterilizing dru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18"/>
            <p:cNvSpPr/>
            <p:nvPr/>
          </p:nvSpPr>
          <p:spPr>
            <a:xfrm>
              <a:off x="6285600" y="2743200"/>
              <a:ext cx="207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ptimal PK/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otential scale-up /COG iss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9"/>
            <p:cNvSpPr/>
            <p:nvPr/>
          </p:nvSpPr>
          <p:spPr>
            <a:xfrm>
              <a:off x="6291360" y="4724280"/>
              <a:ext cx="196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ssess activity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alibri"/>
                </a:rPr>
                <a:t>in vivo,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al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d in comb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0"/>
            <p:cNvSpPr/>
            <p:nvPr/>
          </p:nvSpPr>
          <p:spPr>
            <a:xfrm>
              <a:off x="1276200" y="4724280"/>
              <a:ext cx="168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bserve persistent M.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228600" y="1523880"/>
            <a:ext cx="87631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1. Generate more new lead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discovery ac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B drug repurposing (existing leads and products now abandoned but which can be optimized for T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228600" y="3429000"/>
            <a:ext cx="84582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2. Develop a network of clinical trial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nters of excellence will allow high quality and rapid clinical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304920" y="1539720"/>
            <a:ext cx="845820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3. Ensure close collaboration with TB diagnostic and biomarker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implementation of drug development (need for better surrogate mark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04920" y="3398760"/>
            <a:ext cx="84582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4. Ensure registration by major regulator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e coordination and accelerated plans (e.g. FDA priority review vouch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8:57:12Z</dcterms:created>
  <dc:creator>jpremmereur</dc:creator>
  <dc:description/>
  <dc:language>en-US</dc:language>
  <cp:lastModifiedBy>jpremmereur</cp:lastModifiedBy>
  <dcterms:modified xsi:type="dcterms:W3CDTF">2008-05-02T23:18:20Z</dcterms:modified>
  <cp:revision>242</cp:revision>
  <dc:subject/>
  <dc:title>Board Meeting 24th and 25th of April 2008 NY</dc:title>
</cp:coreProperties>
</file>