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1FE-F260-4FF6-8CB6-AFDABA9E79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Identify and assess the relative importance of risk factors for drug-resistant TB, in particular to explain variation in MDR and XDR prevalence between sett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Clinical trials of the efficacy of several individual drugs and drug combinations in preventive treatment of persons infected with drug-resistant 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954-335C-4041-8605-E7C1B435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819C-0F29-4ACE-AA61-CF7340B8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902-4596-4E42-9E9F-2D6A924E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5C7-D05C-4665-B668-C2502858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9BC-6DF6-4F89-AE9D-155CF53D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DFC-4598-401E-BF02-A150E981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72B-B3D8-41A1-890B-82799DCC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24B-06E0-48E2-A2AE-39D2D6C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037-BA30-4037-916B-ECD2D7BE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117-F578-481B-92E4-F1B11C63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2AC-634F-40DD-8E75-DA618935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232-ED83-43CB-8887-701C696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015F-FBC7-4564-A9D4-24086ACC0EF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F85-80ED-465B-8AAD-A94775189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700280"/>
            <a:ext cx="856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189000"/>
            <a:ext cx="735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 Meeting of the WHO Task Force on XDR-TB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9-10 April 2008, Geneva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09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  <a:ea typeface="Tahoma"/>
              </a:rPr>
              <a:t>Acknowledgements</a:t>
            </a:r>
            <a:endParaRPr b="0" lang="en-US" sz="3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1165320"/>
            <a:ext cx="266544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ynne Harr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cos Espin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a Sarquell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io Ravigl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rtins Pavels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atteo Zigno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Mukund Uplek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loma Ler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tricia La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ette Asho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Paul Nun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bert Mati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Rosalie Ed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Tom Hiat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1268280"/>
            <a:ext cx="33847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bigail W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Andrea Panto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Charlie Gil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Eugenia Becerr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abio Scan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Fuad Mirzaye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eneviève Pi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Glen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Irina Sahaky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anet Cout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John Loeb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rin We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erine Floy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Kathrin Thom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</a:rPr>
              <a:t>Lina Abrah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781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rticipants at the meeting of the WHO Task Force on XDR-TB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36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1125360"/>
            <a:ext cx="882036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001a3"/>
                </a:solidFill>
                <a:latin typeface="Arial"/>
                <a:ea typeface="SimSun"/>
              </a:rPr>
              <a:t>Areas of significant progr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WHO Guidelines for DR-TB managemen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eru, first low resource setting reporting universal access to MDR-TB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R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lobal Laboratory Initiative leading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Dx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evaluation of line probe assays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36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151452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making progress in addressing drug procurement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or TB control and infection control 1994-200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→ nosocomial spread most likely explai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-TB outbreak in Tugela Ferr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aZulu N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 that MDR-TB can be managed in very difficult circumsta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raises major ethical and leg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econd WHO XDR-TB Task Force meeting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9-10 April, Geneva, Switzerla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628640"/>
            <a:ext cx="8353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1214280"/>
            <a:ext cx="896472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001a3"/>
                </a:solidFill>
                <a:latin typeface="Arial"/>
                <a:ea typeface="SimSun"/>
              </a:rPr>
              <a:t>Progress in 27 high priority MDR-TB countries* shows enormous gaps, patients on treatment well below targ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9/22 (40.9%) countries have drug resistance surveys &gt; 5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/22 (27.3%) countries have external quality-assured dru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ceptibility testing for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0/22 (45.4%) countries have DST capacity for 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lin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-TB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8/22 (36.4%) countries have national guidelines for MDR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1/22 (50.0%) countries do not have a MDR-TB focal poin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the N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6/22 (72.7%) countries have wide availability of S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9000" y="637524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800" spc="-1" strike="noStrike">
                <a:solidFill>
                  <a:srgbClr val="2001a3"/>
                </a:solidFill>
                <a:latin typeface="Arial"/>
              </a:rPr>
              <a:t>Countries with 95% of MDR TB burden, and small countries w/ &gt;10% M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ntries to involve all health care providers in the global response to MDR-TB and XDR-TB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DR-TB Working Group to further develop framework of Centers of Excellence for promoting development of human resources in MDR-TB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to produce training modules for programmatic management of drug resistant TB and make them available AS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de35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to provide guidance on implementation of line probe assays for MDR-TB within specific country settin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to produce and disseminate practical guidance on ethical and legal issues to support patient-centered TB care, including community-based MDR-TB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27 priority countries to produce comprehensive national response plans to MDR-TB/XDR-TB, with support of WHO and Stop TB Partnershi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24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WHO and Stop TB Partnership to convene meeting with ALL 27 high priority countries early in 200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  <a:ea typeface="Tahoma"/>
              </a:rPr>
              <a:t>Main Recommend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4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cc33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Aims of WHO and Stop TB Partnership meeting with ALL 27 high priority countries in early 200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 political commitment at the highest country leve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assess progress achieved in these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y and agree on actions to tackle main factor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51560" y="333360"/>
            <a:ext cx="1684440" cy="6890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19:53Z</dcterms:created>
  <dc:creator>nunnp</dc:creator>
  <dc:description/>
  <dc:language>en-US</dc:language>
  <cp:lastModifiedBy>kgc1</cp:lastModifiedBy>
  <dcterms:modified xsi:type="dcterms:W3CDTF">2008-05-07T09:59:23Z</dcterms:modified>
  <cp:revision>279</cp:revision>
  <dc:subject/>
  <dc:title>14th Conference on Retroviruses and Opportunistic Infections     Urgent Issues in the Developing World  Transmission of Extreme Drug Resistant TB in South Africa: Discussion of the Global Im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