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5F9B9-5180-4328-92C2-B7093CA888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47DDC-4F21-4F4B-99FA-BF20F98BAC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216F5-A097-4859-890F-08CB693165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4F1EDE3-0C25-41D5-A987-162B4D8C12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4A42C745-FB7B-404B-9A9B-FD83008C96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4D3DC22-981D-46BF-9B90-8762B265AB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8336FD2-4BD8-4C13-8159-2C2B97E88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560BCCC-1595-499F-8057-5A95D6D5F0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AFE2B30-6073-4600-8DDA-5299C35F34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9917A9F-C5C4-4264-87D3-C829E3FD0A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162319F3-15C6-4747-A88C-3855D8CEBA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65D1EADF-3447-4989-BE57-A0151B3A668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F2D2-6A33-423D-8353-0370D7C941AE}"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6440-7E72-42E6-AAA1-E77AE047ABD4}" type="datetime3">
              <a:rPr b="0" lang="en-US" sz="1200" spc="-1" strike="noStrike">
                <a:solidFill>
                  <a:srgbClr val="ffffff"/>
                </a:solidFill>
                <a:latin typeface="Times New Roman"/>
              </a:rPr>
              <a:t>July 28,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