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95FF4-6FC1-491D-A570-7EA569F46F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AB5D7-0152-407F-B93B-236AB291C6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B864F-75DE-46AC-9959-4179E8713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67A3C3C-F5FD-4728-817B-D3E2F1FB41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D1310B78-BBFB-439A-A422-E78BE15C5F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487924B-ACE7-4BB3-9830-0A92C63D2E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1F3EA7D-24ED-4B40-B37C-3D7FD8C26D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FF23E5A-0E9C-42CD-A051-18D144A99F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4B3FAE6-E469-4EAA-A788-942E7243BE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D08BBB6-11C9-490F-BED4-AE46A59025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7580BF7-E71D-49EF-902F-88AEDA0A8B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5B7F4D7-8712-460B-B5D6-8E0D93BBC93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1749-0DC9-4965-B502-A81719D792F3}"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A5D7-7F2F-4880-AC8D-B25D85FB1783}" type="datetime3">
              <a:rPr b="0" lang="en-US" sz="1200" spc="-1" strike="noStrike">
                <a:solidFill>
                  <a:srgbClr val="ffffff"/>
                </a:solidFill>
                <a:latin typeface="Times New Roman"/>
              </a:rPr>
              <a:t>July 28,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