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FF64-53E8-4F56-A131-801965325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Justification for WGND here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TB alliance cannot operate in a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Need for working with the Partnership clear from our strategic imper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Dependence on network for knowledge, tools, biology and lead gen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Integration with other WGS critical (diagnostics and surrogate markers mentioned as examp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AAA: need to work with partners to ensure 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Define, in light of the mckinsey report, how we can improve the WGND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1. Ensure adequate representation of all stakeholders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(call for agenda items 2 wks prior to meetings; Teleconferences every 6 weeks between face to face meetings, to track all project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Objectives setting every year; of the WGND and of each individual member’s contribu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Re-assess the role of the Chair – rather than setting meeting agendas, act to ensure appropriate timing of agenda items, organize agenda and perform performance manag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-Establish the need for, definition of and organization of a core group, obliged to attend every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(decision on core group, chair’s role etc based on consensu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Update the WGND Strategic Pl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olunteer writing committee to meet by teleconferenc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onduct member survey to ascertain goals and objectiv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clude MDR/XDR strategy and budget adjustmen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draft of updated Strategic Plan at Annual Mee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. Perform thorough census of member activ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Voluntary submissions will be collated and distributed as information-sharing exercis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 Breadth of membership can be analyzed and outreach performe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. Special Annual Meeting: using materials developed in (1) and (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   Discuss goals, objectives, activities, performance management, structure, funding and administr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u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D0E-73A7-4995-8811-F965E731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CE1-9A33-4E65-AD87-E069B191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273-C4BC-4A0A-B757-7EF954FD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5A6-5C16-4D99-A5F2-84D5BB80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CD02-BA96-48BC-87FA-22177A0B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3792-9048-4453-8DF6-B581B88E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C5E3-71F7-40F9-884F-39386F03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94D2-F744-4E24-88CF-7E4241A1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82AB-0868-465A-9793-001B894F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DD0C-D847-4931-AEF5-B60743A5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0ED9-E7EC-47D7-8802-59FBCAB1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F89-96DB-4A60-BB82-3C6A2E3A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975D-9604-479D-8EA1-8D4C5974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19E3-316C-41A4-B5B6-E8A2AEAE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49A7-4997-4B20-A09A-E6AD953C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ABB2-2E87-4615-83BA-1FE5B931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ADF5-992E-4A3F-8DCC-7337FD89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1D88-6141-49F5-B2B3-9DEFD835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48775-1D1A-4B5D-B5F8-45C2BA0D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AD9E-C082-4715-A8A3-2000CC36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30ABE-6B77-4F89-8082-8318DF3A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0C248-2EF4-4576-8C95-6BA50344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270-2CD7-44C8-9B71-D09FF66A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4D912-B4E0-4F9A-9F88-A46155FD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FCE45-A81A-4A63-859F-2B3F1435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000BA-D01A-4FE5-BABA-4C5AFF0A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C0B66-F704-4670-918A-3C893206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37BE-06B8-421C-B020-615E6780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2169B-3D42-456D-B91F-744194B3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32881-8F82-4424-AFBF-2E29920A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F98-BC20-47D1-8460-502BA1AA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096-8FCE-42EA-8362-04BF6FAD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4593-6AE7-4C0C-8084-2FF9B320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10D-226F-4F4E-BCF1-B613BA3C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ACCF-7DDC-4334-97D8-1B68FFA2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53F-09E6-4CDA-9B59-747A6A36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95C6-EEBD-40BB-92C4-BAA13A65CE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D9DA-9F79-4C72-85E8-54A0CFE65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9170-B4F8-4329-97DF-870264D0D2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3B0F-BE2C-48A1-A5A3-6031B9BF2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5a2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TBAlliance Logo white_purple background"/>
          <p:cNvPicPr/>
          <p:nvPr/>
        </p:nvPicPr>
        <p:blipFill>
          <a:blip r:embed="rId2"/>
          <a:stretch/>
        </p:blipFill>
        <p:spPr>
          <a:xfrm>
            <a:off x="0" y="6184800"/>
            <a:ext cx="4038480" cy="6732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265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200400" y="60958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A27D-08E0-4C21-8DAB-503FC8D236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85FD-9B8A-4272-9ECA-5E461D48F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Working with the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Stop TB Partnership </a:t>
            </a:r>
            <a:br>
              <a:rPr sz="5400"/>
            </a:br>
            <a:r>
              <a:rPr b="1" lang="en-US" sz="5400" spc="-1" strike="noStrike">
                <a:solidFill>
                  <a:srgbClr val="7030a0"/>
                </a:solidFill>
                <a:latin typeface="Calibri"/>
              </a:rPr>
              <a:t>for a TB-free Worl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ome Premmereur, M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304920" y="1554120"/>
            <a:ext cx="7772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5. Ensure ad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 closely with WHO and the Stop TB Partnersh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sion of new TB treatment strategies in all necessary guide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228600" y="3367080"/>
            <a:ext cx="7772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6. Ensure industrial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nership with industrial operators must ensure successful translation into industrial production and an affordable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304920" y="15238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7. Develop a strategy for product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laborate with the Stop TB Partnership, the pharmaceutical industry, countries and other partners to ensure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228600" y="3429000"/>
            <a:ext cx="77724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8. Ensure that sufficient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and Mone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Partnership is Essent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228600" y="1523880"/>
            <a:ext cx="77724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Collaborate with WGND, other WGs and partne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understanding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develop tools for lead gener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tools (surrogate markers) and networks to speed clinical tria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adoption and avail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itle 1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2120" y="14479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itle 1"/>
          <p:cNvSpPr/>
          <p:nvPr/>
        </p:nvSpPr>
        <p:spPr>
          <a:xfrm>
            <a:off x="2286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What might be the Future of the WGND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80880" y="1219320"/>
            <a:ext cx="8229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re-visit strategic and operating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meeting agendas in advance via open call to members (rather than by Ch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specific measurable objectives of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ctionable work and funding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scope of work on a frequent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304920" y="3505320"/>
            <a:ext cx="82296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eed to ensure representation of all stakehol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a member survey to gain consensus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for, definition, obligations and use of cor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 of and process for electing th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ligations of members: meeting frequency,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The TB Alliance needs you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Do you need 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Backup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Board Meeting 24 &amp; 25 April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BD92-FAF0-439E-9581-14EC83049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get more LO product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more people with the following expertise: Pharmacologist, Pharmaceutical Development Specialist, Toxicologist, PK/PD Experts, Phase 1 and 2 (Proof of concept) Expe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to clarify if we have already explored all possibilities of existing products in the pharmaceutical industry (TB drug repurposin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 drug discovery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cision on lead generation and lead optimization as internal evidence based Go/No-Go (library of Rifamycin analogu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for a network of phase 2 centers that can rapidly evaluate products (EBA dose ranging at 2 wee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BB73-199D-438E-A362-BC07B553F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ventory: Product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continued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to speed up product realization develop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phase 3 centers: Quality and quantity in endemic countries not familiar with GCPs, e.g., French Government network in Africa (HC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regulatory network in order to speed up the approval process of studies (8 to 12 months in Chi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good network of CROs (people) for high perform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57E1-D01D-4016-93C3-4BB717ECE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Vi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609480" y="147312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top TB  Partnership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B Alliance’s Vis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TB-free world is impossible without new drugs and new drug regi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9480" y="137160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op TB  Partnership’s 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sure that every TB patient has access to effective diagnosis, treatment and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op transmission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the inequitable social and economic toll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and implement new preventive, diagnostic and therapeutic tools and strategies to stop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609480" y="1219320"/>
            <a:ext cx="8305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B Alliance’s Mis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develop new TB dr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horter and simpler treatment that are affordable, available and widely adopt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offer a better risk-benefit ratio compared to existing treat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improve treatment of every form of TB: drug sensitive,  MDR and XDR, HIV/TB, latent TB pat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81080" y="434340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666880" y="4343400"/>
            <a:ext cx="6324840" cy="2286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981080" y="1390680"/>
            <a:ext cx="129564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981080" y="487692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0" y="4876920"/>
            <a:ext cx="6705720" cy="2286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981080" y="4076640"/>
            <a:ext cx="990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71800" y="4076640"/>
            <a:ext cx="6019920" cy="22860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352680" y="1390680"/>
            <a:ext cx="99072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1972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38098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3581280" y="3809880"/>
            <a:ext cx="5410440" cy="2286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981080" y="3276720"/>
            <a:ext cx="19051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3886200" y="3276720"/>
            <a:ext cx="5105520" cy="2286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48640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553080" y="1390680"/>
            <a:ext cx="98748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7620120" y="1390680"/>
            <a:ext cx="1371600" cy="52380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1981080" y="3009960"/>
            <a:ext cx="20574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4038480" y="3009960"/>
            <a:ext cx="4953240" cy="2286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52280" y="48769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152280" y="40766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152280" y="43434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152280" y="38098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152280" y="327672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152280" y="30099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152280" y="274320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152280" y="247644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152280" y="35434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152280" y="22096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52280" y="194328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1981080" y="2743200"/>
            <a:ext cx="21337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114800" y="2743200"/>
            <a:ext cx="4876920" cy="22860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1981080" y="2476440"/>
            <a:ext cx="2438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48320" y="2476440"/>
            <a:ext cx="4343400" cy="2286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1981080" y="2209680"/>
            <a:ext cx="4800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6781680" y="2209680"/>
            <a:ext cx="2210040" cy="22860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1981080" y="1943280"/>
            <a:ext cx="586764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7848720" y="1943280"/>
            <a:ext cx="1143000" cy="22860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3352680" y="3543480"/>
            <a:ext cx="5639040" cy="2286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419720" y="2476440"/>
            <a:ext cx="228600" cy="2286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3352680" y="3809880"/>
            <a:ext cx="228600" cy="2286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1981080" y="3543480"/>
            <a:ext cx="13716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0" y="343080"/>
            <a:ext cx="9458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4"/>
          <p:cNvSpPr/>
          <p:nvPr/>
        </p:nvSpPr>
        <p:spPr>
          <a:xfrm>
            <a:off x="152280" y="1076400"/>
            <a:ext cx="1752840" cy="82872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5"/>
          <p:cNvSpPr/>
          <p:nvPr/>
        </p:nvSpPr>
        <p:spPr>
          <a:xfrm>
            <a:off x="1981080" y="107640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6"/>
          <p:cNvSpPr/>
          <p:nvPr/>
        </p:nvSpPr>
        <p:spPr>
          <a:xfrm>
            <a:off x="5486400" y="106668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352680" y="3543480"/>
            <a:ext cx="228600" cy="2286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1981080" y="4610160"/>
            <a:ext cx="68580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2666880" y="4610160"/>
            <a:ext cx="6324840" cy="2286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152280" y="4610160"/>
            <a:ext cx="175284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1"/>
          <p:cNvSpPr/>
          <p:nvPr/>
        </p:nvSpPr>
        <p:spPr>
          <a:xfrm>
            <a:off x="7666200" y="658332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29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142920" y="51436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1971720" y="51436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276640" y="5143680"/>
            <a:ext cx="6705360" cy="22860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142920" y="5410080"/>
            <a:ext cx="1752480" cy="2286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1971720" y="5410080"/>
            <a:ext cx="304920" cy="2286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2276640" y="5410080"/>
            <a:ext cx="6705360" cy="2286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2028960" y="4362480"/>
            <a:ext cx="9334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962440" y="4362480"/>
            <a:ext cx="5976720" cy="133200"/>
          </a:xfrm>
          <a:prstGeom prst="rect">
            <a:avLst/>
          </a:prstGeom>
          <a:blipFill rotWithShape="0">
            <a:blip r:embed="rId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009880" y="1076400"/>
            <a:ext cx="1295280" cy="32364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2028960" y="5029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324160" y="5029200"/>
            <a:ext cx="6600600" cy="133200"/>
          </a:xfrm>
          <a:prstGeom prst="rect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028960" y="4038480"/>
            <a:ext cx="1301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3324240" y="4038480"/>
            <a:ext cx="5619600" cy="152640"/>
          </a:xfrm>
          <a:prstGeom prst="rect">
            <a:avLst/>
          </a:prstGeom>
          <a:blipFill rotWithShape="0">
            <a:blip r:embed="rId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3381480" y="1076400"/>
            <a:ext cx="99036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Lead Optim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444816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reclin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028960" y="3714840"/>
            <a:ext cx="15922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3619440" y="3714840"/>
            <a:ext cx="5330880" cy="133200"/>
          </a:xfrm>
          <a:prstGeom prst="rect">
            <a:avLst/>
          </a:prstGeom>
          <a:blipFill rotWithShape="0">
            <a:blip r:embed="rId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028960" y="3067200"/>
            <a:ext cx="18810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914640" y="3067200"/>
            <a:ext cx="5040360" cy="133200"/>
          </a:xfrm>
          <a:prstGeom prst="rect">
            <a:avLst/>
          </a:prstGeom>
          <a:blipFill rotWithShape="0">
            <a:blip r:embed="rId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51484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581880" y="1076400"/>
            <a:ext cx="98748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7648560" y="1076400"/>
            <a:ext cx="1371600" cy="333360"/>
          </a:xfrm>
          <a:prstGeom prst="rect">
            <a:avLst/>
          </a:prstGeom>
          <a:solidFill>
            <a:srgbClr val="586d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Univers"/>
              </a:rPr>
              <a:t>Phase I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2028960" y="2743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4067280" y="2743200"/>
            <a:ext cx="4889520" cy="133200"/>
          </a:xfrm>
          <a:prstGeom prst="rect">
            <a:avLst/>
          </a:prstGeom>
          <a:blipFill rotWithShape="0">
            <a:blip r:embed="rId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0"/>
          <p:cNvSpPr/>
          <p:nvPr/>
        </p:nvSpPr>
        <p:spPr>
          <a:xfrm>
            <a:off x="181080" y="501984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alate Synth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1"/>
          <p:cNvSpPr/>
          <p:nvPr/>
        </p:nvSpPr>
        <p:spPr>
          <a:xfrm>
            <a:off x="181080" y="404820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Riminophenaz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2"/>
          <p:cNvSpPr/>
          <p:nvPr/>
        </p:nvSpPr>
        <p:spPr>
          <a:xfrm>
            <a:off x="181080" y="4371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GSK Focused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3"/>
          <p:cNvSpPr/>
          <p:nvPr/>
        </p:nvSpPr>
        <p:spPr>
          <a:xfrm>
            <a:off x="181080" y="372420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ultifunctional Molec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190440" y="3076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Mycobacterial Gyrase Inhibi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5"/>
          <p:cNvSpPr/>
          <p:nvPr/>
        </p:nvSpPr>
        <p:spPr>
          <a:xfrm>
            <a:off x="190440" y="275256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leuromutil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6"/>
          <p:cNvSpPr/>
          <p:nvPr/>
        </p:nvSpPr>
        <p:spPr>
          <a:xfrm>
            <a:off x="190440" y="2428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190440" y="210492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Quinol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181080" y="340056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InhA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9"/>
          <p:cNvSpPr/>
          <p:nvPr/>
        </p:nvSpPr>
        <p:spPr>
          <a:xfrm>
            <a:off x="190440" y="178128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A-8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90440" y="1457280"/>
            <a:ext cx="174636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Moxifloxac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2028960" y="2428920"/>
            <a:ext cx="290664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4943520" y="2428920"/>
            <a:ext cx="4005360" cy="123840"/>
          </a:xfrm>
          <a:prstGeom prst="rect">
            <a:avLst/>
          </a:prstGeom>
          <a:blipFill rotWithShape="0">
            <a:blip r:embed="rId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3"/>
          <p:cNvSpPr/>
          <p:nvPr/>
        </p:nvSpPr>
        <p:spPr>
          <a:xfrm>
            <a:off x="2028960" y="2104920"/>
            <a:ext cx="4425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4"/>
          <p:cNvSpPr/>
          <p:nvPr/>
        </p:nvSpPr>
        <p:spPr>
          <a:xfrm>
            <a:off x="6458040" y="2114640"/>
            <a:ext cx="2496960" cy="133200"/>
          </a:xfrm>
          <a:prstGeom prst="rect">
            <a:avLst/>
          </a:prstGeom>
          <a:blipFill rotWithShape="0">
            <a:blip r:embed="rId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5"/>
          <p:cNvSpPr/>
          <p:nvPr/>
        </p:nvSpPr>
        <p:spPr>
          <a:xfrm>
            <a:off x="2028960" y="1771560"/>
            <a:ext cx="55674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6"/>
          <p:cNvSpPr/>
          <p:nvPr/>
        </p:nvSpPr>
        <p:spPr>
          <a:xfrm>
            <a:off x="7601040" y="1771560"/>
            <a:ext cx="1371600" cy="142920"/>
          </a:xfrm>
          <a:prstGeom prst="rect">
            <a:avLst/>
          </a:prstGeom>
          <a:blipFill rotWithShape="0">
            <a:blip r:embed="rId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7"/>
          <p:cNvSpPr/>
          <p:nvPr/>
        </p:nvSpPr>
        <p:spPr>
          <a:xfrm>
            <a:off x="2028960" y="1438200"/>
            <a:ext cx="695484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8"/>
          <p:cNvSpPr/>
          <p:nvPr/>
        </p:nvSpPr>
        <p:spPr>
          <a:xfrm>
            <a:off x="3876840" y="3390840"/>
            <a:ext cx="5072040" cy="133560"/>
          </a:xfrm>
          <a:prstGeom prst="rect">
            <a:avLst/>
          </a:prstGeom>
          <a:blipFill rotWithShape="0">
            <a:blip r:embed="rId1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9"/>
          <p:cNvSpPr/>
          <p:nvPr/>
        </p:nvSpPr>
        <p:spPr>
          <a:xfrm>
            <a:off x="2028960" y="3390840"/>
            <a:ext cx="18586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0"/>
          <p:cNvSpPr/>
          <p:nvPr/>
        </p:nvSpPr>
        <p:spPr>
          <a:xfrm>
            <a:off x="0" y="276120"/>
            <a:ext cx="945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2d5f"/>
                </a:solidFill>
                <a:latin typeface="Calibri"/>
              </a:rPr>
              <a:t>TB Alliance Portfolio (expec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1"/>
          <p:cNvSpPr/>
          <p:nvPr/>
        </p:nvSpPr>
        <p:spPr>
          <a:xfrm>
            <a:off x="152280" y="762120"/>
            <a:ext cx="1752840" cy="618840"/>
          </a:xfrm>
          <a:prstGeom prst="rect">
            <a:avLst/>
          </a:prstGeom>
          <a:solidFill>
            <a:srgbClr val="827a76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TB ALLIANCE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009880" y="762120"/>
            <a:ext cx="342900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3"/>
          <p:cNvSpPr/>
          <p:nvPr/>
        </p:nvSpPr>
        <p:spPr>
          <a:xfrm>
            <a:off x="5514840" y="752400"/>
            <a:ext cx="3505320" cy="307080"/>
          </a:xfrm>
          <a:prstGeom prst="rect">
            <a:avLst/>
          </a:prstGeom>
          <a:solidFill>
            <a:srgbClr val="827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CLINICAL</a:t>
            </a:r>
            <a:r>
              <a:rPr b="1" lang="en-US" sz="1200" spc="-1" strike="noStrike">
                <a:solidFill>
                  <a:srgbClr val="ffffff"/>
                </a:solidFill>
                <a:latin typeface="Univers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Univers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4"/>
          <p:cNvSpPr/>
          <p:nvPr/>
        </p:nvSpPr>
        <p:spPr>
          <a:xfrm>
            <a:off x="2028960" y="4695840"/>
            <a:ext cx="46656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5"/>
          <p:cNvSpPr/>
          <p:nvPr/>
        </p:nvSpPr>
        <p:spPr>
          <a:xfrm>
            <a:off x="2495520" y="4695840"/>
            <a:ext cx="6434280" cy="133200"/>
          </a:xfrm>
          <a:prstGeom prst="rect">
            <a:avLst/>
          </a:prstGeom>
          <a:blipFill rotWithShape="0">
            <a:blip r:embed="rId1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6"/>
          <p:cNvSpPr/>
          <p:nvPr/>
        </p:nvSpPr>
        <p:spPr>
          <a:xfrm>
            <a:off x="181080" y="469584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henotypic Scre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7"/>
          <p:cNvSpPr/>
          <p:nvPr/>
        </p:nvSpPr>
        <p:spPr>
          <a:xfrm>
            <a:off x="181080" y="5343480"/>
            <a:ext cx="1746000" cy="14616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tease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8"/>
          <p:cNvSpPr/>
          <p:nvPr/>
        </p:nvSpPr>
        <p:spPr>
          <a:xfrm>
            <a:off x="2028960" y="5353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9"/>
          <p:cNvSpPr/>
          <p:nvPr/>
        </p:nvSpPr>
        <p:spPr>
          <a:xfrm>
            <a:off x="2333520" y="5353200"/>
            <a:ext cx="6600960" cy="133200"/>
          </a:xfrm>
          <a:prstGeom prst="rect">
            <a:avLst/>
          </a:prstGeom>
          <a:blipFill rotWithShape="0">
            <a:blip r:embed="rId1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0"/>
          <p:cNvSpPr/>
          <p:nvPr/>
        </p:nvSpPr>
        <p:spPr>
          <a:xfrm>
            <a:off x="181080" y="5667480"/>
            <a:ext cx="174600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ergy Metabolism Inhibi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1"/>
          <p:cNvSpPr/>
          <p:nvPr/>
        </p:nvSpPr>
        <p:spPr>
          <a:xfrm>
            <a:off x="2038320" y="5676840"/>
            <a:ext cx="3002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2"/>
          <p:cNvSpPr/>
          <p:nvPr/>
        </p:nvSpPr>
        <p:spPr>
          <a:xfrm>
            <a:off x="2333520" y="5676840"/>
            <a:ext cx="6600960" cy="133560"/>
          </a:xfrm>
          <a:prstGeom prst="rect">
            <a:avLst/>
          </a:prstGeom>
          <a:blipFill rotWithShape="0">
            <a:blip r:embed="rId1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3"/>
          <p:cNvSpPr/>
          <p:nvPr/>
        </p:nvSpPr>
        <p:spPr>
          <a:xfrm>
            <a:off x="2028960" y="4533840"/>
            <a:ext cx="6760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4"/>
          <p:cNvSpPr/>
          <p:nvPr/>
        </p:nvSpPr>
        <p:spPr>
          <a:xfrm>
            <a:off x="2714760" y="4533840"/>
            <a:ext cx="6243480" cy="133560"/>
          </a:xfrm>
          <a:prstGeom prst="rect">
            <a:avLst/>
          </a:prstGeom>
          <a:blipFill rotWithShape="0">
            <a:blip r:embed="rId1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5"/>
          <p:cNvSpPr/>
          <p:nvPr/>
        </p:nvSpPr>
        <p:spPr>
          <a:xfrm>
            <a:off x="2028960" y="519120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6"/>
          <p:cNvSpPr/>
          <p:nvPr/>
        </p:nvSpPr>
        <p:spPr>
          <a:xfrm>
            <a:off x="2324160" y="5191200"/>
            <a:ext cx="6600600" cy="133200"/>
          </a:xfrm>
          <a:prstGeom prst="rect">
            <a:avLst/>
          </a:prstGeom>
          <a:blipFill rotWithShape="0">
            <a:blip r:embed="rId1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7"/>
          <p:cNvSpPr/>
          <p:nvPr/>
        </p:nvSpPr>
        <p:spPr>
          <a:xfrm>
            <a:off x="2028960" y="4200480"/>
            <a:ext cx="97776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8"/>
          <p:cNvSpPr/>
          <p:nvPr/>
        </p:nvSpPr>
        <p:spPr>
          <a:xfrm>
            <a:off x="3000240" y="4200480"/>
            <a:ext cx="5943600" cy="133560"/>
          </a:xfrm>
          <a:prstGeom prst="rect">
            <a:avLst/>
          </a:prstGeom>
          <a:blipFill rotWithShape="0">
            <a:blip r:embed="rId1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9"/>
          <p:cNvSpPr/>
          <p:nvPr/>
        </p:nvSpPr>
        <p:spPr>
          <a:xfrm>
            <a:off x="2028960" y="3867120"/>
            <a:ext cx="158256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0"/>
          <p:cNvSpPr/>
          <p:nvPr/>
        </p:nvSpPr>
        <p:spPr>
          <a:xfrm>
            <a:off x="3610080" y="3876840"/>
            <a:ext cx="5340240" cy="133200"/>
          </a:xfrm>
          <a:prstGeom prst="rect">
            <a:avLst/>
          </a:prstGeom>
          <a:blipFill rotWithShape="0">
            <a:blip r:embed="rId1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2028960" y="3228840"/>
            <a:ext cx="18810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2"/>
          <p:cNvSpPr/>
          <p:nvPr/>
        </p:nvSpPr>
        <p:spPr>
          <a:xfrm>
            <a:off x="3905280" y="3228840"/>
            <a:ext cx="5040360" cy="133560"/>
          </a:xfrm>
          <a:prstGeom prst="rect">
            <a:avLst/>
          </a:prstGeom>
          <a:blipFill rotWithShape="0">
            <a:blip r:embed="rId18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3"/>
          <p:cNvSpPr/>
          <p:nvPr/>
        </p:nvSpPr>
        <p:spPr>
          <a:xfrm>
            <a:off x="2028960" y="2905200"/>
            <a:ext cx="203040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4"/>
          <p:cNvSpPr/>
          <p:nvPr/>
        </p:nvSpPr>
        <p:spPr>
          <a:xfrm>
            <a:off x="4067280" y="2905200"/>
            <a:ext cx="4889520" cy="133200"/>
          </a:xfrm>
          <a:prstGeom prst="rect">
            <a:avLst/>
          </a:prstGeom>
          <a:blipFill rotWithShape="0">
            <a:blip r:embed="rId19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5"/>
          <p:cNvSpPr/>
          <p:nvPr/>
        </p:nvSpPr>
        <p:spPr>
          <a:xfrm>
            <a:off x="181080" y="5181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6"/>
          <p:cNvSpPr/>
          <p:nvPr/>
        </p:nvSpPr>
        <p:spPr>
          <a:xfrm>
            <a:off x="181080" y="421020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7"/>
          <p:cNvSpPr/>
          <p:nvPr/>
        </p:nvSpPr>
        <p:spPr>
          <a:xfrm>
            <a:off x="181080" y="453384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8"/>
          <p:cNvSpPr/>
          <p:nvPr/>
        </p:nvSpPr>
        <p:spPr>
          <a:xfrm>
            <a:off x="181080" y="3886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9"/>
          <p:cNvSpPr/>
          <p:nvPr/>
        </p:nvSpPr>
        <p:spPr>
          <a:xfrm>
            <a:off x="181080" y="323856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Univers"/>
              </a:rPr>
              <a:t>LO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0"/>
          <p:cNvSpPr/>
          <p:nvPr/>
        </p:nvSpPr>
        <p:spPr>
          <a:xfrm>
            <a:off x="190440" y="2914560"/>
            <a:ext cx="174636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1"/>
          <p:cNvSpPr/>
          <p:nvPr/>
        </p:nvSpPr>
        <p:spPr>
          <a:xfrm>
            <a:off x="190440" y="2590920"/>
            <a:ext cx="1746360" cy="145800"/>
          </a:xfrm>
          <a:prstGeom prst="rect">
            <a:avLst/>
          </a:prstGeom>
          <a:solidFill>
            <a:srgbClr val="e0d0b2"/>
          </a:solidFill>
          <a:ln w="9360">
            <a:solidFill>
              <a:srgbClr val="827a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troimidaz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2"/>
          <p:cNvSpPr/>
          <p:nvPr/>
        </p:nvSpPr>
        <p:spPr>
          <a:xfrm>
            <a:off x="190440" y="226692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3"/>
          <p:cNvSpPr/>
          <p:nvPr/>
        </p:nvSpPr>
        <p:spPr>
          <a:xfrm>
            <a:off x="181080" y="3562200"/>
            <a:ext cx="1746000" cy="146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O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4"/>
          <p:cNvSpPr/>
          <p:nvPr/>
        </p:nvSpPr>
        <p:spPr>
          <a:xfrm>
            <a:off x="190440" y="1943280"/>
            <a:ext cx="1746360" cy="145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5"/>
          <p:cNvSpPr/>
          <p:nvPr/>
        </p:nvSpPr>
        <p:spPr>
          <a:xfrm>
            <a:off x="190440" y="1619280"/>
            <a:ext cx="1746360" cy="146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Produc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6"/>
          <p:cNvSpPr/>
          <p:nvPr/>
        </p:nvSpPr>
        <p:spPr>
          <a:xfrm>
            <a:off x="2028960" y="2581200"/>
            <a:ext cx="238284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7"/>
          <p:cNvSpPr/>
          <p:nvPr/>
        </p:nvSpPr>
        <p:spPr>
          <a:xfrm>
            <a:off x="4410000" y="2590920"/>
            <a:ext cx="4557960" cy="114120"/>
          </a:xfrm>
          <a:prstGeom prst="rect">
            <a:avLst/>
          </a:prstGeom>
          <a:blipFill rotWithShape="0">
            <a:blip r:embed="rId20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8"/>
          <p:cNvSpPr/>
          <p:nvPr/>
        </p:nvSpPr>
        <p:spPr>
          <a:xfrm>
            <a:off x="2028960" y="2276640"/>
            <a:ext cx="3406680" cy="12384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9"/>
          <p:cNvSpPr/>
          <p:nvPr/>
        </p:nvSpPr>
        <p:spPr>
          <a:xfrm>
            <a:off x="5427720" y="2266920"/>
            <a:ext cx="3525840" cy="133560"/>
          </a:xfrm>
          <a:prstGeom prst="rect">
            <a:avLst/>
          </a:prstGeom>
          <a:blipFill rotWithShape="0">
            <a:blip r:embed="rId21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0"/>
          <p:cNvSpPr/>
          <p:nvPr/>
        </p:nvSpPr>
        <p:spPr>
          <a:xfrm>
            <a:off x="2028960" y="1933560"/>
            <a:ext cx="516708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1"/>
          <p:cNvSpPr/>
          <p:nvPr/>
        </p:nvSpPr>
        <p:spPr>
          <a:xfrm>
            <a:off x="7201080" y="1943280"/>
            <a:ext cx="1752480" cy="133200"/>
          </a:xfrm>
          <a:prstGeom prst="rect">
            <a:avLst/>
          </a:prstGeom>
          <a:blipFill rotWithShape="0">
            <a:blip r:embed="rId2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2"/>
          <p:cNvSpPr/>
          <p:nvPr/>
        </p:nvSpPr>
        <p:spPr>
          <a:xfrm>
            <a:off x="2028960" y="1609560"/>
            <a:ext cx="637380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3"/>
          <p:cNvSpPr/>
          <p:nvPr/>
        </p:nvSpPr>
        <p:spPr>
          <a:xfrm>
            <a:off x="8400960" y="1609560"/>
            <a:ext cx="567000" cy="142920"/>
          </a:xfrm>
          <a:prstGeom prst="rect">
            <a:avLst/>
          </a:prstGeom>
          <a:blipFill rotWithShape="0">
            <a:blip r:embed="rId23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3848040" y="3552840"/>
            <a:ext cx="5100840" cy="133200"/>
          </a:xfrm>
          <a:prstGeom prst="rect">
            <a:avLst/>
          </a:prstGeom>
          <a:blipFill rotWithShape="0">
            <a:blip r:embed="rId24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5"/>
          <p:cNvSpPr/>
          <p:nvPr/>
        </p:nvSpPr>
        <p:spPr>
          <a:xfrm>
            <a:off x="2028960" y="3552840"/>
            <a:ext cx="183024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6"/>
          <p:cNvSpPr/>
          <p:nvPr/>
        </p:nvSpPr>
        <p:spPr>
          <a:xfrm>
            <a:off x="2028960" y="4857840"/>
            <a:ext cx="457200" cy="14292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7"/>
          <p:cNvSpPr/>
          <p:nvPr/>
        </p:nvSpPr>
        <p:spPr>
          <a:xfrm>
            <a:off x="2495520" y="4857840"/>
            <a:ext cx="6434280" cy="142920"/>
          </a:xfrm>
          <a:prstGeom prst="rect">
            <a:avLst/>
          </a:prstGeom>
          <a:blipFill rotWithShape="0">
            <a:blip r:embed="rId25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8"/>
          <p:cNvSpPr/>
          <p:nvPr/>
        </p:nvSpPr>
        <p:spPr>
          <a:xfrm>
            <a:off x="181080" y="4857840"/>
            <a:ext cx="174600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9"/>
          <p:cNvSpPr/>
          <p:nvPr/>
        </p:nvSpPr>
        <p:spPr>
          <a:xfrm>
            <a:off x="181080" y="5505480"/>
            <a:ext cx="1746000" cy="146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Univers"/>
              </a:rPr>
              <a:t>LG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0"/>
          <p:cNvSpPr/>
          <p:nvPr/>
        </p:nvSpPr>
        <p:spPr>
          <a:xfrm>
            <a:off x="2028960" y="5514840"/>
            <a:ext cx="299880" cy="13356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91"/>
          <p:cNvSpPr/>
          <p:nvPr/>
        </p:nvSpPr>
        <p:spPr>
          <a:xfrm>
            <a:off x="2333520" y="5514840"/>
            <a:ext cx="6600960" cy="133560"/>
          </a:xfrm>
          <a:prstGeom prst="rect">
            <a:avLst/>
          </a:prstGeom>
          <a:blipFill rotWithShape="0">
            <a:blip r:embed="rId26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92"/>
          <p:cNvSpPr/>
          <p:nvPr/>
        </p:nvSpPr>
        <p:spPr>
          <a:xfrm>
            <a:off x="171360" y="5829480"/>
            <a:ext cx="1746360" cy="145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G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3"/>
          <p:cNvSpPr/>
          <p:nvPr/>
        </p:nvSpPr>
        <p:spPr>
          <a:xfrm>
            <a:off x="2028960" y="5838840"/>
            <a:ext cx="299880" cy="133200"/>
          </a:xfrm>
          <a:prstGeom prst="rect">
            <a:avLst/>
          </a:prstGeom>
          <a:solidFill>
            <a:srgbClr val="5a2d5f"/>
          </a:solidFill>
          <a:ln w="9360">
            <a:solidFill>
              <a:srgbClr val="5a2d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94"/>
          <p:cNvSpPr/>
          <p:nvPr/>
        </p:nvSpPr>
        <p:spPr>
          <a:xfrm>
            <a:off x="2333520" y="5838840"/>
            <a:ext cx="6600960" cy="133200"/>
          </a:xfrm>
          <a:prstGeom prst="rect">
            <a:avLst/>
          </a:prstGeom>
          <a:blipFill rotWithShape="0">
            <a:blip r:embed="rId27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Rectangle 64" descr=""/>
          <p:cNvPicPr/>
          <p:nvPr/>
        </p:nvPicPr>
        <p:blipFill>
          <a:blip r:embed="rId28"/>
          <a:stretch/>
        </p:blipFill>
        <p:spPr>
          <a:xfrm>
            <a:off x="2097000" y="1620720"/>
            <a:ext cx="66819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Generating more L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ur Prior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106920" y="2057400"/>
            <a:ext cx="8249040" cy="3705480"/>
            <a:chOff x="106920" y="2057400"/>
            <a:chExt cx="8249040" cy="3705480"/>
          </a:xfrm>
        </p:grpSpPr>
        <p:sp>
          <p:nvSpPr>
            <p:cNvPr id="298" name="Rectangle 4"/>
            <p:cNvSpPr/>
            <p:nvPr/>
          </p:nvSpPr>
          <p:spPr>
            <a:xfrm>
              <a:off x="3353040" y="20574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Knowled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ncluding reassessment of what we “know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3353040" y="4876920"/>
              <a:ext cx="2286000" cy="761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Imaging M.tb </a:t>
              </a:r>
              <a:r>
                <a:rPr b="1" i="1" lang="en-US" sz="1100" spc="-1" strike="noStrike">
                  <a:solidFill>
                    <a:srgbClr val="ffffff"/>
                  </a:solidFill>
                  <a:latin typeface="Calibri"/>
                </a:rPr>
                <a:t>in situ</a:t>
              </a: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, biomar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76212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Bi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Understanding persistence and lat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7"/>
            <p:cNvSpPr/>
            <p:nvPr/>
          </p:nvSpPr>
          <p:spPr>
            <a:xfrm>
              <a:off x="5943600" y="3429000"/>
              <a:ext cx="2286000" cy="76212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Lea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libri"/>
                </a:rPr>
                <a:t>Chemical genom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Down Arrow 8"/>
            <p:cNvSpPr/>
            <p:nvPr/>
          </p:nvSpPr>
          <p:spPr>
            <a:xfrm rot="2653800">
              <a:off x="2849400" y="275400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Down Arrow 9"/>
            <p:cNvSpPr/>
            <p:nvPr/>
          </p:nvSpPr>
          <p:spPr>
            <a:xfrm rot="18870000">
              <a:off x="5823000" y="275076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Down Arrow 12"/>
            <p:cNvSpPr/>
            <p:nvPr/>
          </p:nvSpPr>
          <p:spPr>
            <a:xfrm rot="13404600">
              <a:off x="5972400" y="4279680"/>
              <a:ext cx="288720" cy="639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Down Arrow 13"/>
            <p:cNvSpPr/>
            <p:nvPr/>
          </p:nvSpPr>
          <p:spPr>
            <a:xfrm rot="8084400">
              <a:off x="2850480" y="4274640"/>
              <a:ext cx="290520" cy="639720"/>
            </a:xfrm>
            <a:prstGeom prst="down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ight Arrow 14"/>
            <p:cNvSpPr/>
            <p:nvPr/>
          </p:nvSpPr>
          <p:spPr>
            <a:xfrm>
              <a:off x="3505320" y="3429000"/>
              <a:ext cx="2057400" cy="6858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Box 15"/>
            <p:cNvSpPr/>
            <p:nvPr/>
          </p:nvSpPr>
          <p:spPr>
            <a:xfrm>
              <a:off x="106920" y="5486400"/>
              <a:ext cx="282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From BMG Foundation Meeting April 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17"/>
            <p:cNvSpPr/>
            <p:nvPr/>
          </p:nvSpPr>
          <p:spPr>
            <a:xfrm>
              <a:off x="1218240" y="2743200"/>
              <a:ext cx="16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xisting sterilizing dru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18"/>
            <p:cNvSpPr/>
            <p:nvPr/>
          </p:nvSpPr>
          <p:spPr>
            <a:xfrm>
              <a:off x="6285600" y="2743200"/>
              <a:ext cx="207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ptimal PK/P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otential scale-up /COG iss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19"/>
            <p:cNvSpPr/>
            <p:nvPr/>
          </p:nvSpPr>
          <p:spPr>
            <a:xfrm>
              <a:off x="6291360" y="4724280"/>
              <a:ext cx="19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ssess activity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alibri"/>
                </a:rPr>
                <a:t>in vivo,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al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nd in comb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20"/>
            <p:cNvSpPr/>
            <p:nvPr/>
          </p:nvSpPr>
          <p:spPr>
            <a:xfrm>
              <a:off x="1276200" y="4724280"/>
              <a:ext cx="168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Observe persistent M.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"/>
          <p:cNvSpPr/>
          <p:nvPr/>
        </p:nvSpPr>
        <p:spPr>
          <a:xfrm>
            <a:off x="228600" y="1523880"/>
            <a:ext cx="87631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1. Generate more new lead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discovery activity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B drug repurposing (existing leads and products now abandoned but which can be optimized for T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228600" y="3429000"/>
            <a:ext cx="845820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2. Develop a network of clinical trial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nters of excellence will allow high quality and rapid clinical develop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itle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8 Strategic Impera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304920" y="1539720"/>
            <a:ext cx="845820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3. Ensure close collaboration with TB diagnostic and biomarker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implementation of drug development (need for better surrogate mark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304920" y="3398760"/>
            <a:ext cx="845820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Calibri"/>
              </a:rPr>
              <a:t>4. Ensure registration by major regulatory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e coordination and accelerated plans (e.g. FDA priority review vouch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8:57:12Z</dcterms:created>
  <dc:creator>jpremmereur</dc:creator>
  <dc:description/>
  <dc:language>en-US</dc:language>
  <cp:lastModifiedBy>jpremmereur</cp:lastModifiedBy>
  <dcterms:modified xsi:type="dcterms:W3CDTF">2008-05-02T23:18:20Z</dcterms:modified>
  <cp:revision>242</cp:revision>
  <dc:subject/>
  <dc:title>Board Meeting 24th and 25th of April 2008 NY</dc:title>
</cp:coreProperties>
</file>