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D724-B20D-450C-9334-371D223E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A799-C9F0-4E72-8D1B-4B13000D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070B-3CDD-44E7-AE76-F5D92F59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6063-33DD-4316-B6CE-3942D719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FEDB-8A27-493E-B639-4412AA8C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B3D4-3D5B-4A8E-A0CC-0CD4E853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845D-4908-40A7-8507-7074962D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B9AF-818F-44F4-94E4-F3F0F5AE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9809-6211-4605-9F7E-01A78851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276C-0774-48B8-9BD9-DC68D71B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8E2D-384E-45D3-A248-920D161B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17A-5E19-428E-9EAB-E383C506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4E1A-9E4E-4B7B-857B-7D625C1AAC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64360" y="5950080"/>
            <a:ext cx="1684440" cy="68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Isoniazid preventive therapy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Intensified case finding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Infection control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64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3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V Department, April 2-4, 2008,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ive and Resul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cide ways HIV community could scale up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larify/develop policy in all 3 area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Develop indicator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Advocate from top: create demand from bottom 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Raise resources through UNITAID etc for isoniazid and infection contro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72360" y="1197000"/>
            <a:ext cx="2771640" cy="207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3357720"/>
            <a:ext cx="19317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International AIDS Societ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verning council committed to TB/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AS is standing member of the TB/HIV Core Group and the President, Pedro Cahn attend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Endorsed the IPT consensus statement of the WG and disseminating it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Mainstreamed TB infection control in their work on health workers safety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IDS 2008, Mexico City, August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B/HIV Activiti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nary Session (August 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. Chakay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 Driven 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Oral session (TB and ART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oster driven session (TB and HIV, a deadly partnership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te sympo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TB Shack" in commercial exhibi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AG and IAS on infection control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WHO guidelines on TB and HIV services in drug users: launch 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ily visibility of TB/HIV in the daily newsletter of the conference-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anoscop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e TB/HIV logo with 2-4 page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of journalists from the south on TB/HIV to report on the conference and later in their respectiv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9:54:42Z</dcterms:created>
  <dc:creator>nunnp</dc:creator>
  <dc:description/>
  <dc:language>en-US</dc:language>
  <cp:lastModifiedBy>hendersons</cp:lastModifiedBy>
  <dcterms:modified xsi:type="dcterms:W3CDTF">2008-05-13T08:32:24Z</dcterms:modified>
  <cp:revision>3</cp:revision>
  <dc:subject/>
  <dc:title>  Isoniazid preventive therapy +Intensified case finding +Infection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65127637</vt:r8>
  </property>
  <property fmtid="{D5CDD505-2E9C-101B-9397-08002B2CF9AE}" pid="3" name="_AuthorEmail">
    <vt:lpwstr>nunnp@who.int</vt:lpwstr>
  </property>
  <property fmtid="{D5CDD505-2E9C-101B-9397-08002B2CF9AE}" pid="4" name="_AuthorEmailDisplayName">
    <vt:lpwstr>Nunn, Paul P.</vt:lpwstr>
  </property>
  <property fmtid="{D5CDD505-2E9C-101B-9397-08002B2CF9AE}" pid="5" name="_EmailSubject">
    <vt:lpwstr>Cairo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