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2ABA-AAA4-4187-8B86-E6C1A437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0FB-490A-4BC3-B5AA-AF9BFBF2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7A6-4286-4F6F-9410-F356474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3AB-525A-45C4-A006-49F900141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FF06-96C3-4889-B952-E283026B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F63-104F-4093-A2D5-40C46952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90F-4D5D-4ED4-9504-B58F5BB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2A8-F0D2-4F98-BCC0-C82D0BDE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79D-BBF5-4D25-8550-F9F9DAEB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B20-692C-4E93-97F1-C54A0A60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24D-7C46-4058-8E6D-4CF2C555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85B-CE45-4C30-B6F9-A930011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A36F-79D9-437A-B4C1-E0BE426114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684440" cy="68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Isoniazid preventive therapy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Intensified case finding</a:t>
            </a:r>
            <a:br>
              <a:rPr sz="4000"/>
            </a:b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Infection contro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3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V Department, April 2-4, 2008,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bjective and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ide ways HIV community could scale up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larify/develop policy in all 3 area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Develop indicators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Advocate from top: create demand from bottom 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Raise resources through UNITAID etc for isoniazid and infection contro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3357720"/>
            <a:ext cx="19317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International AIDS Societ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verning council committed to TB/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AS is standing member of the TB/HIV Core Group and the President, Pedro Cahn attends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ndorsed the IPT consensus statement of the WG and disseminating it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Mainstreamed TB infection control in their work on health workers safety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IDS 2008, Mexico City, August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B/HIV Activiti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nary Session (August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. Chakay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Driven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ral session (TB and ART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oster driven session (TB and HIV, a deadly partnership)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sympo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TB Shack" in commercial exhibi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AG and IAS on infection contro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HO guidelines on TB and HIV services in drug users: launch 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ily visibility of TB/HIV in the daily newsletter of the conference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noscop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 TB/HIV logo with 2-4 page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of journalists from the south on TB/HIV to report on the conference and later in their respectiv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9:54:42Z</dcterms:created>
  <dc:creator>nunnp</dc:creator>
  <dc:description/>
  <dc:language>en-US</dc:language>
  <cp:lastModifiedBy>hendersons</cp:lastModifiedBy>
  <dcterms:modified xsi:type="dcterms:W3CDTF">2008-05-13T08:32:24Z</dcterms:modified>
  <cp:revision>3</cp:revision>
  <dc:subject/>
  <dc:title>  Isoniazid preventive therapy +Intensified case finding +Infection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127637</vt:r8>
  </property>
  <property fmtid="{D5CDD505-2E9C-101B-9397-08002B2CF9AE}" pid="3" name="_AuthorEmail">
    <vt:lpwstr>nunnp@who.int</vt:lpwstr>
  </property>
  <property fmtid="{D5CDD505-2E9C-101B-9397-08002B2CF9AE}" pid="4" name="_AuthorEmailDisplayName">
    <vt:lpwstr>Nunn, Paul P.</vt:lpwstr>
  </property>
  <property fmtid="{D5CDD505-2E9C-101B-9397-08002B2CF9AE}" pid="5" name="_EmailSubject">
    <vt:lpwstr>Cairo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