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8975-CC8D-46E5-8FAC-DB40CAACE4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Justification for WGND here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TB alliance cannot operate in a vacu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Need for working with the Partnership clear from our strategic imper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Dependence on network for knowledge, tools, biology and lead gen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Integration with other WGS critical (diagnostics and surrogate markers mentioned as examp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AAA: need to work with partners to ensure AA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Define, in light of the mckinsey report, how we can improve the WGND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1. Ensure adequate representation of all stakeholders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(call for agenda items 2 wks prior to meetings; Teleconferences every 6 weeks between face to face meetings, to track all project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Objectives setting every year; of the WGND and of each individual member’s contributio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Re-assess the role of the Chair – rather than setting meeting agendas, act to ensure appropriate timing of agenda items, organize agenda and perform performance managemen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Establish the need for, definition of and organization of a core group, obliged to attend every meetin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(decision on core group, chair’s role etc based on consensu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Update the WGND Strategic Pla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Volunteer writing committee to meet by teleconferenc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onduct member survey to ascertain goals and objectiv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Include MDR/XDR strategy and budget adjustmen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Discuss draft of updated Strategic Plan at Annual Meetin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2. Perform thorough census of member activ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-    Voluntary submissions will be collated and distributed as information-sharing exercis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-    Breadth of membership can be analyzed and outreach performe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3. Special Annual Meeting: using materials developed in (1) and (2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-   Discuss goals, objectives, activities, performance management, structure, funding and administratio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up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up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1BAD-A28B-496F-858B-DD99D6D9D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7EAA-6179-4BE0-AE3F-10C287E6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39F7-3C3B-4068-BE10-A722B7164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C582-3AE8-4ED0-91CF-A11A2E1F5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D94D-944F-4E63-9C68-72E578648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00F7-E715-4799-AF2D-39B9CFF7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565C-E178-4BD3-A083-F4124471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995D-D12B-4D73-A4E2-E56F6122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1370-1B09-4904-81C3-475BD7FE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A466-5539-488D-A508-683F4DAA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554C-1FB6-4931-B7E1-CD610FE0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7A30-272E-4524-AD7B-56000038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5CBB-1E1C-407D-88B1-BB7D21B6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6B75-AB08-4134-A7C8-FAED9501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5A07-8403-412B-BEA4-8AAC4A2A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437D2-106E-436E-8D50-8B5F46051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2183-09A9-4C3C-82BA-0F5B1621F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8B65B-85CC-4C5A-982A-C8F0C47BC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1F5B8-FA3F-4A93-A5D1-6D715894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A96E8-F47B-4A17-B505-AEB48CC5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D88B6-FAFA-4718-807C-E82C908D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49B2B-E263-417C-8FA6-DDD9C859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DE61-D735-4630-8295-9004FDC7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8EE2B-C3E9-4261-817C-EFC6E413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6D21E-D765-4D11-BD66-86FB64C8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6D01A-FD65-4F40-82B7-D5E27D42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DBB58-73F8-496E-82F8-C753C202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D451D-9253-4C51-8E78-93C01302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0A337-509B-4974-981D-66F1B262D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2D704-793A-49DF-AB86-AAC8D1098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9A3B-363D-41E5-8C76-3D0CA58D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5696-854F-49AE-8AC3-F19103C1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ED3D-839F-444A-A209-8B9099D4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D7F8-A738-409F-B2AA-67330E5F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6D08-677E-455D-B40D-616E32B4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DC6A-7068-455F-9929-852905E4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4ECE-EEE8-4093-9F27-E7088F9F4B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455A-4D9A-4523-8D40-07A32E054D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5a2d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TBAlliance Logo white_purple background"/>
          <p:cNvPicPr/>
          <p:nvPr/>
        </p:nvPicPr>
        <p:blipFill>
          <a:blip r:embed="rId2"/>
          <a:stretch/>
        </p:blipFill>
        <p:spPr>
          <a:xfrm>
            <a:off x="0" y="6184800"/>
            <a:ext cx="4038480" cy="6732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2656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CCB0-FED1-4DDC-918B-C18311E74D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1732-5AFC-4EB2-99E4-AC3A9A24D9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5a2d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TBAlliance Logo white_purple background"/>
          <p:cNvPicPr/>
          <p:nvPr/>
        </p:nvPicPr>
        <p:blipFill>
          <a:blip r:embed="rId2"/>
          <a:stretch/>
        </p:blipFill>
        <p:spPr>
          <a:xfrm>
            <a:off x="0" y="6184800"/>
            <a:ext cx="4038480" cy="6732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2656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3200400" y="609588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067A-7E8A-4F11-B33D-10B43EE0F8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E41B-4CF7-4989-A758-256A3DEC71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3.xml"/><Relationship Id="rId1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4.png"/><Relationship Id="rId2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Working with the </a:t>
            </a:r>
            <a:br>
              <a:rPr sz="5400"/>
            </a:b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Stop TB Partnership </a:t>
            </a:r>
            <a:br>
              <a:rPr sz="5400"/>
            </a:b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for a TB-free Worl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erome Premmereur, M.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304920" y="1554120"/>
            <a:ext cx="77724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5. Ensure ad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rk closely with WHO and the Stop TB Partnershi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sion of new TB treatment strategies in all necessary guidel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228600" y="3367080"/>
            <a:ext cx="77724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6. Ensure industrial scale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nership with industrial operators must ensure successful translation into industrial production and an affordable c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304920" y="1523880"/>
            <a:ext cx="7772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7. Develop a strategy for product deliv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llaborate with the Stop TB Partnership, the pharmaceutical industry, countries and other partners to ensure avail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228600" y="3429000"/>
            <a:ext cx="777240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8. Ensure that sufficient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ople and Mone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itle 1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Partnership is Essent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9"/>
          <p:cNvSpPr/>
          <p:nvPr/>
        </p:nvSpPr>
        <p:spPr>
          <a:xfrm>
            <a:off x="762120" y="14479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228600" y="1523880"/>
            <a:ext cx="77724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Collaborate with WGND, other WGs and partner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 understanding of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. tuberculos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develop tools for lead gener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tools (surrogate markers) and networks to speed clinical tria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sure adoption and avail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itle 1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762120" y="14479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itle 1"/>
          <p:cNvSpPr/>
          <p:nvPr/>
        </p:nvSpPr>
        <p:spPr>
          <a:xfrm>
            <a:off x="228600" y="15228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What might be the Future of the WGND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380880" y="1219320"/>
            <a:ext cx="822960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alibri"/>
              </a:rPr>
              <a:t>Need to re-visit strategic and operating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t meeting agendas in advance via open call to members (rather than by Ch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ine specific measurable objectives of th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actionable work and funding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date scope of work on a frequent ba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304920" y="3505320"/>
            <a:ext cx="822960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alibri"/>
              </a:rPr>
              <a:t>Need to ensure representation of all stakehold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form a member survey to gain consensus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ed for, definition, obligations and use of cor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le of and process for electing the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ligations of members: meeting frequency,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The TB Alliance needs you!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Do you need u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Backup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1EBB-E6C2-42D0-9B88-CA574F0E23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Inventory: Product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(continued 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ow to get more LO products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more people with the following expertise: Pharmacologist, Pharmaceutical Development Specialist, Toxicologist, PK/PD Experts, Phase 1 and 2 (Proof of concept) Expe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to clarify if we have already explored all possibilities of existing products in the pharmaceutical industry (TB drug repurposi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cilitate drug discovery a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cision on lead generation and lead optimization as internal evidence based Go/No-Go (library of Rifamycin analogu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for a network of phase 2 centers that can rapidly evaluate products (EBA dose ranging at 2 wee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539E-7160-4FA7-A100-FBD8E9BDAA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Inventory: Product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(continued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ow to speed up product realization developmen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good network of phase 3 centers: Quality and quantity in endemic countries not familiar with GCPs, e.g., French Government network in Africa (HCP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good regulatory network in order to speed up the approval process of studies (8 to 12 months in Chin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good network of CROs (people) for high performan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BA83-8702-47AD-A6C2-DD8E63C553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Vi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609480" y="147312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Stop TB  Partnership’s Visio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TB-free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TB Alliance’s Visio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TB-free world is impossible without new drugs and new drug regim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Mi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609480" y="1371600"/>
            <a:ext cx="8229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op TB  Partnership’s Mi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sure that every TB patient has access to effective diagnosis, treatment and c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top transmission of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duce the inequitable social and economic toll of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velop and implement new preventive, diagnostic and therapeutic tools and strategies to stop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Mi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609480" y="1219320"/>
            <a:ext cx="8305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B Alliance’s Miss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develop new TB dru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shorter and simpler treatment that are affordable, available and widely adopted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offer a better risk-benefit ratio compared to existing treatm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improve treatment of every form of TB: drug sensitive,  MDR and XDR, HIV/TB, latent TB pat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981080" y="4343400"/>
            <a:ext cx="6858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666880" y="4343400"/>
            <a:ext cx="6324840" cy="22860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981080" y="1390680"/>
            <a:ext cx="129564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Ident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981080" y="4876920"/>
            <a:ext cx="3049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2286000" y="4876920"/>
            <a:ext cx="6705720" cy="228600"/>
          </a:xfrm>
          <a:prstGeom prst="rect">
            <a:avLst/>
          </a:prstGeom>
          <a:blipFill rotWithShape="0">
            <a:blip r:embed="rId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981080" y="4076640"/>
            <a:ext cx="9907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2971800" y="4076640"/>
            <a:ext cx="6019920" cy="228600"/>
          </a:xfrm>
          <a:prstGeom prst="rect">
            <a:avLst/>
          </a:prstGeom>
          <a:blipFill rotWithShape="0">
            <a:blip r:embed="rId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3352680" y="1390680"/>
            <a:ext cx="99072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Optim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4419720" y="1390680"/>
            <a:ext cx="98748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reclin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1981080" y="3809880"/>
            <a:ext cx="13716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3581280" y="3809880"/>
            <a:ext cx="5410440" cy="228600"/>
          </a:xfrm>
          <a:prstGeom prst="rect">
            <a:avLst/>
          </a:prstGeom>
          <a:blipFill rotWithShape="0">
            <a:blip r:embed="rId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1981080" y="3276720"/>
            <a:ext cx="19051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3886200" y="3276720"/>
            <a:ext cx="5105520" cy="228600"/>
          </a:xfrm>
          <a:prstGeom prst="rect">
            <a:avLst/>
          </a:prstGeom>
          <a:blipFill rotWithShape="0">
            <a:blip r:embed="rId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5486400" y="1390680"/>
            <a:ext cx="98748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6553080" y="1390680"/>
            <a:ext cx="98748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7620120" y="1390680"/>
            <a:ext cx="137160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1981080" y="3009960"/>
            <a:ext cx="20574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4038480" y="3009960"/>
            <a:ext cx="4953240" cy="228600"/>
          </a:xfrm>
          <a:prstGeom prst="rect">
            <a:avLst/>
          </a:prstGeom>
          <a:blipFill rotWithShape="0">
            <a:blip r:embed="rId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152280" y="487692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alate Synth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152280" y="407664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Riminophenaz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2"/>
          <p:cNvSpPr/>
          <p:nvPr/>
        </p:nvSpPr>
        <p:spPr>
          <a:xfrm>
            <a:off x="152280" y="434340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GSK Focused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3"/>
          <p:cNvSpPr/>
          <p:nvPr/>
        </p:nvSpPr>
        <p:spPr>
          <a:xfrm>
            <a:off x="152280" y="38098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ultifunctional Molec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4"/>
          <p:cNvSpPr/>
          <p:nvPr/>
        </p:nvSpPr>
        <p:spPr>
          <a:xfrm>
            <a:off x="152280" y="327672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"/>
              </a:rPr>
              <a:t>Mycobacterial Gyrase Inhibi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5"/>
          <p:cNvSpPr/>
          <p:nvPr/>
        </p:nvSpPr>
        <p:spPr>
          <a:xfrm>
            <a:off x="152280" y="300996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leuromutil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6"/>
          <p:cNvSpPr/>
          <p:nvPr/>
        </p:nvSpPr>
        <p:spPr>
          <a:xfrm>
            <a:off x="152280" y="274320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Nitroimidaz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7"/>
          <p:cNvSpPr/>
          <p:nvPr/>
        </p:nvSpPr>
        <p:spPr>
          <a:xfrm>
            <a:off x="152280" y="247644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Quinol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8"/>
          <p:cNvSpPr/>
          <p:nvPr/>
        </p:nvSpPr>
        <p:spPr>
          <a:xfrm>
            <a:off x="152280" y="35434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InhA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9"/>
          <p:cNvSpPr/>
          <p:nvPr/>
        </p:nvSpPr>
        <p:spPr>
          <a:xfrm>
            <a:off x="152280" y="22096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A-8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0"/>
          <p:cNvSpPr/>
          <p:nvPr/>
        </p:nvSpPr>
        <p:spPr>
          <a:xfrm>
            <a:off x="152280" y="19432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oxifloxac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1"/>
          <p:cNvSpPr/>
          <p:nvPr/>
        </p:nvSpPr>
        <p:spPr>
          <a:xfrm>
            <a:off x="1981080" y="2743200"/>
            <a:ext cx="21337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2"/>
          <p:cNvSpPr/>
          <p:nvPr/>
        </p:nvSpPr>
        <p:spPr>
          <a:xfrm>
            <a:off x="4114800" y="2743200"/>
            <a:ext cx="4876920" cy="228600"/>
          </a:xfrm>
          <a:prstGeom prst="rect">
            <a:avLst/>
          </a:prstGeom>
          <a:blipFill rotWithShape="0">
            <a:blip r:embed="rId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3"/>
          <p:cNvSpPr/>
          <p:nvPr/>
        </p:nvSpPr>
        <p:spPr>
          <a:xfrm>
            <a:off x="1981080" y="2476440"/>
            <a:ext cx="243864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4"/>
          <p:cNvSpPr/>
          <p:nvPr/>
        </p:nvSpPr>
        <p:spPr>
          <a:xfrm>
            <a:off x="4648320" y="2476440"/>
            <a:ext cx="4343400" cy="228600"/>
          </a:xfrm>
          <a:prstGeom prst="rect">
            <a:avLst/>
          </a:prstGeom>
          <a:blipFill rotWithShape="0">
            <a:blip r:embed="rId8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5"/>
          <p:cNvSpPr/>
          <p:nvPr/>
        </p:nvSpPr>
        <p:spPr>
          <a:xfrm>
            <a:off x="1981080" y="2209680"/>
            <a:ext cx="48006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6"/>
          <p:cNvSpPr/>
          <p:nvPr/>
        </p:nvSpPr>
        <p:spPr>
          <a:xfrm>
            <a:off x="6781680" y="2209680"/>
            <a:ext cx="2210040" cy="228600"/>
          </a:xfrm>
          <a:prstGeom prst="rect">
            <a:avLst/>
          </a:prstGeom>
          <a:blipFill rotWithShape="0">
            <a:blip r:embed="rId9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7"/>
          <p:cNvSpPr/>
          <p:nvPr/>
        </p:nvSpPr>
        <p:spPr>
          <a:xfrm>
            <a:off x="1981080" y="1943280"/>
            <a:ext cx="586764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8"/>
          <p:cNvSpPr/>
          <p:nvPr/>
        </p:nvSpPr>
        <p:spPr>
          <a:xfrm>
            <a:off x="7848720" y="1943280"/>
            <a:ext cx="1143000" cy="228600"/>
          </a:xfrm>
          <a:prstGeom prst="rect">
            <a:avLst/>
          </a:prstGeom>
          <a:blipFill rotWithShape="0">
            <a:blip r:embed="rId10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9"/>
          <p:cNvSpPr/>
          <p:nvPr/>
        </p:nvSpPr>
        <p:spPr>
          <a:xfrm>
            <a:off x="3352680" y="3543480"/>
            <a:ext cx="5639040" cy="228600"/>
          </a:xfrm>
          <a:prstGeom prst="rect">
            <a:avLst/>
          </a:prstGeom>
          <a:blipFill rotWithShape="0">
            <a:blip r:embed="rId1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0"/>
          <p:cNvSpPr/>
          <p:nvPr/>
        </p:nvSpPr>
        <p:spPr>
          <a:xfrm>
            <a:off x="4419720" y="2476440"/>
            <a:ext cx="228600" cy="2286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1"/>
          <p:cNvSpPr/>
          <p:nvPr/>
        </p:nvSpPr>
        <p:spPr>
          <a:xfrm>
            <a:off x="3352680" y="3809880"/>
            <a:ext cx="228600" cy="2286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2"/>
          <p:cNvSpPr/>
          <p:nvPr/>
        </p:nvSpPr>
        <p:spPr>
          <a:xfrm>
            <a:off x="1981080" y="3543480"/>
            <a:ext cx="13716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3"/>
          <p:cNvSpPr/>
          <p:nvPr/>
        </p:nvSpPr>
        <p:spPr>
          <a:xfrm>
            <a:off x="0" y="343080"/>
            <a:ext cx="9458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d5f"/>
                </a:solidFill>
                <a:latin typeface="Calibri"/>
              </a:rPr>
              <a:t>TB Alliance Portfolio (No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4"/>
          <p:cNvSpPr/>
          <p:nvPr/>
        </p:nvSpPr>
        <p:spPr>
          <a:xfrm>
            <a:off x="152280" y="1076400"/>
            <a:ext cx="1752840" cy="828720"/>
          </a:xfrm>
          <a:prstGeom prst="rect">
            <a:avLst/>
          </a:prstGeom>
          <a:solidFill>
            <a:srgbClr val="827a76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TB ALLIANCE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5"/>
          <p:cNvSpPr/>
          <p:nvPr/>
        </p:nvSpPr>
        <p:spPr>
          <a:xfrm>
            <a:off x="1981080" y="1076400"/>
            <a:ext cx="342900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ISCO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6"/>
          <p:cNvSpPr/>
          <p:nvPr/>
        </p:nvSpPr>
        <p:spPr>
          <a:xfrm>
            <a:off x="5486400" y="1066680"/>
            <a:ext cx="350532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CLINICAL</a:t>
            </a:r>
            <a:r>
              <a:rPr b="1" lang="en-US" sz="12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7"/>
          <p:cNvSpPr/>
          <p:nvPr/>
        </p:nvSpPr>
        <p:spPr>
          <a:xfrm>
            <a:off x="3352680" y="3543480"/>
            <a:ext cx="228600" cy="2286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8"/>
          <p:cNvSpPr/>
          <p:nvPr/>
        </p:nvSpPr>
        <p:spPr>
          <a:xfrm>
            <a:off x="1981080" y="4610160"/>
            <a:ext cx="6858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9"/>
          <p:cNvSpPr/>
          <p:nvPr/>
        </p:nvSpPr>
        <p:spPr>
          <a:xfrm>
            <a:off x="2666880" y="4610160"/>
            <a:ext cx="6324840" cy="228600"/>
          </a:xfrm>
          <a:prstGeom prst="rect">
            <a:avLst/>
          </a:prstGeom>
          <a:blipFill rotWithShape="0">
            <a:blip r:embed="rId1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0"/>
          <p:cNvSpPr/>
          <p:nvPr/>
        </p:nvSpPr>
        <p:spPr>
          <a:xfrm>
            <a:off x="152280" y="461016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henotypic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1"/>
          <p:cNvSpPr/>
          <p:nvPr/>
        </p:nvSpPr>
        <p:spPr>
          <a:xfrm>
            <a:off x="7666200" y="6583320"/>
            <a:ext cx="116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ril 29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2"/>
          <p:cNvSpPr/>
          <p:nvPr/>
        </p:nvSpPr>
        <p:spPr>
          <a:xfrm>
            <a:off x="142920" y="5143680"/>
            <a:ext cx="175248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te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3"/>
          <p:cNvSpPr/>
          <p:nvPr/>
        </p:nvSpPr>
        <p:spPr>
          <a:xfrm>
            <a:off x="1971720" y="5143680"/>
            <a:ext cx="3049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4"/>
          <p:cNvSpPr/>
          <p:nvPr/>
        </p:nvSpPr>
        <p:spPr>
          <a:xfrm>
            <a:off x="2276640" y="5143680"/>
            <a:ext cx="6705360" cy="228600"/>
          </a:xfrm>
          <a:prstGeom prst="rect">
            <a:avLst/>
          </a:prstGeom>
          <a:blipFill rotWithShape="0">
            <a:blip r:embed="rId1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5"/>
          <p:cNvSpPr/>
          <p:nvPr/>
        </p:nvSpPr>
        <p:spPr>
          <a:xfrm>
            <a:off x="142920" y="5410080"/>
            <a:ext cx="175248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Energy Metabolism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6"/>
          <p:cNvSpPr/>
          <p:nvPr/>
        </p:nvSpPr>
        <p:spPr>
          <a:xfrm>
            <a:off x="1971720" y="5410080"/>
            <a:ext cx="3049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7"/>
          <p:cNvSpPr/>
          <p:nvPr/>
        </p:nvSpPr>
        <p:spPr>
          <a:xfrm>
            <a:off x="2276640" y="5410080"/>
            <a:ext cx="6705360" cy="228600"/>
          </a:xfrm>
          <a:prstGeom prst="rect">
            <a:avLst/>
          </a:prstGeom>
          <a:blipFill rotWithShape="0">
            <a:blip r:embed="rId1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2028960" y="4362480"/>
            <a:ext cx="93348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2962440" y="4362480"/>
            <a:ext cx="5976720" cy="13320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2009880" y="1076400"/>
            <a:ext cx="1295280" cy="32364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Ident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2028960" y="502920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324160" y="5029200"/>
            <a:ext cx="6600600" cy="133200"/>
          </a:xfrm>
          <a:prstGeom prst="rect">
            <a:avLst/>
          </a:prstGeom>
          <a:blipFill rotWithShape="0">
            <a:blip r:embed="rId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028960" y="4038480"/>
            <a:ext cx="130176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3324240" y="4038480"/>
            <a:ext cx="5619600" cy="152640"/>
          </a:xfrm>
          <a:prstGeom prst="rect">
            <a:avLst/>
          </a:prstGeom>
          <a:blipFill rotWithShape="0">
            <a:blip r:embed="rId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3381480" y="1076400"/>
            <a:ext cx="99036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Optim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4448160" y="1076400"/>
            <a:ext cx="98748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reclin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2028960" y="3714840"/>
            <a:ext cx="1592280" cy="12384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3619440" y="3714840"/>
            <a:ext cx="5330880" cy="133200"/>
          </a:xfrm>
          <a:prstGeom prst="rect">
            <a:avLst/>
          </a:prstGeom>
          <a:blipFill rotWithShape="0">
            <a:blip r:embed="rId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2028960" y="3067200"/>
            <a:ext cx="188100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4"/>
          <p:cNvSpPr/>
          <p:nvPr/>
        </p:nvSpPr>
        <p:spPr>
          <a:xfrm>
            <a:off x="3914640" y="3067200"/>
            <a:ext cx="5040360" cy="133200"/>
          </a:xfrm>
          <a:prstGeom prst="rect">
            <a:avLst/>
          </a:prstGeom>
          <a:blipFill rotWithShape="0">
            <a:blip r:embed="rId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5"/>
          <p:cNvSpPr/>
          <p:nvPr/>
        </p:nvSpPr>
        <p:spPr>
          <a:xfrm>
            <a:off x="5514840" y="1076400"/>
            <a:ext cx="98748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6581880" y="1076400"/>
            <a:ext cx="98748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7"/>
          <p:cNvSpPr/>
          <p:nvPr/>
        </p:nvSpPr>
        <p:spPr>
          <a:xfrm>
            <a:off x="7648560" y="1076400"/>
            <a:ext cx="137160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8"/>
          <p:cNvSpPr/>
          <p:nvPr/>
        </p:nvSpPr>
        <p:spPr>
          <a:xfrm>
            <a:off x="2028960" y="2743200"/>
            <a:ext cx="203040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9"/>
          <p:cNvSpPr/>
          <p:nvPr/>
        </p:nvSpPr>
        <p:spPr>
          <a:xfrm>
            <a:off x="4067280" y="2743200"/>
            <a:ext cx="4889520" cy="133200"/>
          </a:xfrm>
          <a:prstGeom prst="rect">
            <a:avLst/>
          </a:prstGeom>
          <a:blipFill rotWithShape="0">
            <a:blip r:embed="rId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0"/>
          <p:cNvSpPr/>
          <p:nvPr/>
        </p:nvSpPr>
        <p:spPr>
          <a:xfrm>
            <a:off x="181080" y="501984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alate Synth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1"/>
          <p:cNvSpPr/>
          <p:nvPr/>
        </p:nvSpPr>
        <p:spPr>
          <a:xfrm>
            <a:off x="181080" y="404820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Riminophenaz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2"/>
          <p:cNvSpPr/>
          <p:nvPr/>
        </p:nvSpPr>
        <p:spPr>
          <a:xfrm>
            <a:off x="181080" y="437184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GSK Focused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3"/>
          <p:cNvSpPr/>
          <p:nvPr/>
        </p:nvSpPr>
        <p:spPr>
          <a:xfrm>
            <a:off x="181080" y="372420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ultifunctional Molec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4"/>
          <p:cNvSpPr/>
          <p:nvPr/>
        </p:nvSpPr>
        <p:spPr>
          <a:xfrm>
            <a:off x="190440" y="307656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"/>
              </a:rPr>
              <a:t>Mycobacterial Gyrase Inhibi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5"/>
          <p:cNvSpPr/>
          <p:nvPr/>
        </p:nvSpPr>
        <p:spPr>
          <a:xfrm>
            <a:off x="190440" y="275256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leuromutil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6"/>
          <p:cNvSpPr/>
          <p:nvPr/>
        </p:nvSpPr>
        <p:spPr>
          <a:xfrm>
            <a:off x="190440" y="2428920"/>
            <a:ext cx="1746360" cy="146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190440" y="210492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Quinol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181080" y="340056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InhA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9"/>
          <p:cNvSpPr/>
          <p:nvPr/>
        </p:nvSpPr>
        <p:spPr>
          <a:xfrm>
            <a:off x="190440" y="1781280"/>
            <a:ext cx="174636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A-8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0"/>
          <p:cNvSpPr/>
          <p:nvPr/>
        </p:nvSpPr>
        <p:spPr>
          <a:xfrm>
            <a:off x="190440" y="145728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oxifloxac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1"/>
          <p:cNvSpPr/>
          <p:nvPr/>
        </p:nvSpPr>
        <p:spPr>
          <a:xfrm>
            <a:off x="2028960" y="2428920"/>
            <a:ext cx="2906640" cy="12384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2"/>
          <p:cNvSpPr/>
          <p:nvPr/>
        </p:nvSpPr>
        <p:spPr>
          <a:xfrm>
            <a:off x="4943520" y="2428920"/>
            <a:ext cx="4005360" cy="123840"/>
          </a:xfrm>
          <a:prstGeom prst="rect">
            <a:avLst/>
          </a:prstGeom>
          <a:blipFill rotWithShape="0">
            <a:blip r:embed="rId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3"/>
          <p:cNvSpPr/>
          <p:nvPr/>
        </p:nvSpPr>
        <p:spPr>
          <a:xfrm>
            <a:off x="2028960" y="2104920"/>
            <a:ext cx="442584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4"/>
          <p:cNvSpPr/>
          <p:nvPr/>
        </p:nvSpPr>
        <p:spPr>
          <a:xfrm>
            <a:off x="6458040" y="2114640"/>
            <a:ext cx="2496960" cy="133200"/>
          </a:xfrm>
          <a:prstGeom prst="rect">
            <a:avLst/>
          </a:prstGeom>
          <a:blipFill rotWithShape="0">
            <a:blip r:embed="rId8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5"/>
          <p:cNvSpPr/>
          <p:nvPr/>
        </p:nvSpPr>
        <p:spPr>
          <a:xfrm>
            <a:off x="2028960" y="1771560"/>
            <a:ext cx="556740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6"/>
          <p:cNvSpPr/>
          <p:nvPr/>
        </p:nvSpPr>
        <p:spPr>
          <a:xfrm>
            <a:off x="7601040" y="1771560"/>
            <a:ext cx="1371600" cy="142920"/>
          </a:xfrm>
          <a:prstGeom prst="rect">
            <a:avLst/>
          </a:prstGeom>
          <a:blipFill rotWithShape="0">
            <a:blip r:embed="rId9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7"/>
          <p:cNvSpPr/>
          <p:nvPr/>
        </p:nvSpPr>
        <p:spPr>
          <a:xfrm>
            <a:off x="2028960" y="1438200"/>
            <a:ext cx="695484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8"/>
          <p:cNvSpPr/>
          <p:nvPr/>
        </p:nvSpPr>
        <p:spPr>
          <a:xfrm>
            <a:off x="3876840" y="3390840"/>
            <a:ext cx="5072040" cy="133560"/>
          </a:xfrm>
          <a:prstGeom prst="rect">
            <a:avLst/>
          </a:prstGeom>
          <a:blipFill rotWithShape="0">
            <a:blip r:embed="rId10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9"/>
          <p:cNvSpPr/>
          <p:nvPr/>
        </p:nvSpPr>
        <p:spPr>
          <a:xfrm>
            <a:off x="2028960" y="3390840"/>
            <a:ext cx="185868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0"/>
          <p:cNvSpPr/>
          <p:nvPr/>
        </p:nvSpPr>
        <p:spPr>
          <a:xfrm>
            <a:off x="0" y="276120"/>
            <a:ext cx="945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d5f"/>
                </a:solidFill>
                <a:latin typeface="Calibri"/>
              </a:rPr>
              <a:t>TB Alliance Portfolio (expect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1"/>
          <p:cNvSpPr/>
          <p:nvPr/>
        </p:nvSpPr>
        <p:spPr>
          <a:xfrm>
            <a:off x="152280" y="762120"/>
            <a:ext cx="1752840" cy="618840"/>
          </a:xfrm>
          <a:prstGeom prst="rect">
            <a:avLst/>
          </a:prstGeom>
          <a:solidFill>
            <a:srgbClr val="827a76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TB ALLIANCE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009880" y="762120"/>
            <a:ext cx="342900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ISCO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3"/>
          <p:cNvSpPr/>
          <p:nvPr/>
        </p:nvSpPr>
        <p:spPr>
          <a:xfrm>
            <a:off x="5514840" y="752400"/>
            <a:ext cx="350532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CLINICAL</a:t>
            </a:r>
            <a:r>
              <a:rPr b="1" lang="en-US" sz="12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4"/>
          <p:cNvSpPr/>
          <p:nvPr/>
        </p:nvSpPr>
        <p:spPr>
          <a:xfrm>
            <a:off x="2028960" y="4695840"/>
            <a:ext cx="46656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5"/>
          <p:cNvSpPr/>
          <p:nvPr/>
        </p:nvSpPr>
        <p:spPr>
          <a:xfrm>
            <a:off x="2495520" y="4695840"/>
            <a:ext cx="6434280" cy="133200"/>
          </a:xfrm>
          <a:prstGeom prst="rect">
            <a:avLst/>
          </a:prstGeom>
          <a:blipFill rotWithShape="0">
            <a:blip r:embed="rId1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6"/>
          <p:cNvSpPr/>
          <p:nvPr/>
        </p:nvSpPr>
        <p:spPr>
          <a:xfrm>
            <a:off x="181080" y="469584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henotypic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7"/>
          <p:cNvSpPr/>
          <p:nvPr/>
        </p:nvSpPr>
        <p:spPr>
          <a:xfrm>
            <a:off x="181080" y="534348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te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8"/>
          <p:cNvSpPr/>
          <p:nvPr/>
        </p:nvSpPr>
        <p:spPr>
          <a:xfrm>
            <a:off x="2028960" y="535320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9"/>
          <p:cNvSpPr/>
          <p:nvPr/>
        </p:nvSpPr>
        <p:spPr>
          <a:xfrm>
            <a:off x="2333520" y="5353200"/>
            <a:ext cx="6600960" cy="133200"/>
          </a:xfrm>
          <a:prstGeom prst="rect">
            <a:avLst/>
          </a:prstGeom>
          <a:blipFill rotWithShape="0">
            <a:blip r:embed="rId1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0"/>
          <p:cNvSpPr/>
          <p:nvPr/>
        </p:nvSpPr>
        <p:spPr>
          <a:xfrm>
            <a:off x="181080" y="566748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ergy Metabolism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51"/>
          <p:cNvSpPr/>
          <p:nvPr/>
        </p:nvSpPr>
        <p:spPr>
          <a:xfrm>
            <a:off x="2038320" y="5676840"/>
            <a:ext cx="30024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2"/>
          <p:cNvSpPr/>
          <p:nvPr/>
        </p:nvSpPr>
        <p:spPr>
          <a:xfrm>
            <a:off x="2333520" y="5676840"/>
            <a:ext cx="6600960" cy="133560"/>
          </a:xfrm>
          <a:prstGeom prst="rect">
            <a:avLst/>
          </a:prstGeom>
          <a:blipFill rotWithShape="0">
            <a:blip r:embed="rId1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3"/>
          <p:cNvSpPr/>
          <p:nvPr/>
        </p:nvSpPr>
        <p:spPr>
          <a:xfrm>
            <a:off x="2028960" y="4533840"/>
            <a:ext cx="67608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4"/>
          <p:cNvSpPr/>
          <p:nvPr/>
        </p:nvSpPr>
        <p:spPr>
          <a:xfrm>
            <a:off x="2714760" y="4533840"/>
            <a:ext cx="6243480" cy="133560"/>
          </a:xfrm>
          <a:prstGeom prst="rect">
            <a:avLst/>
          </a:prstGeom>
          <a:blipFill rotWithShape="0">
            <a:blip r:embed="rId1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5"/>
          <p:cNvSpPr/>
          <p:nvPr/>
        </p:nvSpPr>
        <p:spPr>
          <a:xfrm>
            <a:off x="2028960" y="519120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6"/>
          <p:cNvSpPr/>
          <p:nvPr/>
        </p:nvSpPr>
        <p:spPr>
          <a:xfrm>
            <a:off x="2324160" y="5191200"/>
            <a:ext cx="6600600" cy="133200"/>
          </a:xfrm>
          <a:prstGeom prst="rect">
            <a:avLst/>
          </a:prstGeom>
          <a:blipFill rotWithShape="0">
            <a:blip r:embed="rId1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7"/>
          <p:cNvSpPr/>
          <p:nvPr/>
        </p:nvSpPr>
        <p:spPr>
          <a:xfrm>
            <a:off x="2028960" y="4200480"/>
            <a:ext cx="97776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8"/>
          <p:cNvSpPr/>
          <p:nvPr/>
        </p:nvSpPr>
        <p:spPr>
          <a:xfrm>
            <a:off x="3000240" y="4200480"/>
            <a:ext cx="5943600" cy="133560"/>
          </a:xfrm>
          <a:prstGeom prst="rect">
            <a:avLst/>
          </a:prstGeom>
          <a:blipFill rotWithShape="0">
            <a:blip r:embed="rId1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9"/>
          <p:cNvSpPr/>
          <p:nvPr/>
        </p:nvSpPr>
        <p:spPr>
          <a:xfrm>
            <a:off x="2028960" y="3867120"/>
            <a:ext cx="158256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60"/>
          <p:cNvSpPr/>
          <p:nvPr/>
        </p:nvSpPr>
        <p:spPr>
          <a:xfrm>
            <a:off x="3610080" y="3876840"/>
            <a:ext cx="5340240" cy="133200"/>
          </a:xfrm>
          <a:prstGeom prst="rect">
            <a:avLst/>
          </a:prstGeom>
          <a:blipFill rotWithShape="0">
            <a:blip r:embed="rId1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1"/>
          <p:cNvSpPr/>
          <p:nvPr/>
        </p:nvSpPr>
        <p:spPr>
          <a:xfrm>
            <a:off x="2028960" y="3228840"/>
            <a:ext cx="188100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2"/>
          <p:cNvSpPr/>
          <p:nvPr/>
        </p:nvSpPr>
        <p:spPr>
          <a:xfrm>
            <a:off x="3905280" y="3228840"/>
            <a:ext cx="5040360" cy="133560"/>
          </a:xfrm>
          <a:prstGeom prst="rect">
            <a:avLst/>
          </a:prstGeom>
          <a:blipFill rotWithShape="0">
            <a:blip r:embed="rId18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63"/>
          <p:cNvSpPr/>
          <p:nvPr/>
        </p:nvSpPr>
        <p:spPr>
          <a:xfrm>
            <a:off x="2028960" y="2905200"/>
            <a:ext cx="203040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4"/>
          <p:cNvSpPr/>
          <p:nvPr/>
        </p:nvSpPr>
        <p:spPr>
          <a:xfrm>
            <a:off x="4067280" y="2905200"/>
            <a:ext cx="4889520" cy="133200"/>
          </a:xfrm>
          <a:prstGeom prst="rect">
            <a:avLst/>
          </a:prstGeom>
          <a:blipFill rotWithShape="0">
            <a:blip r:embed="rId19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5"/>
          <p:cNvSpPr/>
          <p:nvPr/>
        </p:nvSpPr>
        <p:spPr>
          <a:xfrm>
            <a:off x="181080" y="5181480"/>
            <a:ext cx="1746000" cy="146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6"/>
          <p:cNvSpPr/>
          <p:nvPr/>
        </p:nvSpPr>
        <p:spPr>
          <a:xfrm>
            <a:off x="181080" y="4210200"/>
            <a:ext cx="1746000" cy="145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7"/>
          <p:cNvSpPr/>
          <p:nvPr/>
        </p:nvSpPr>
        <p:spPr>
          <a:xfrm>
            <a:off x="181080" y="4533840"/>
            <a:ext cx="1746000" cy="146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8"/>
          <p:cNvSpPr/>
          <p:nvPr/>
        </p:nvSpPr>
        <p:spPr>
          <a:xfrm>
            <a:off x="181080" y="3886200"/>
            <a:ext cx="174600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O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9"/>
          <p:cNvSpPr/>
          <p:nvPr/>
        </p:nvSpPr>
        <p:spPr>
          <a:xfrm>
            <a:off x="181080" y="3238560"/>
            <a:ext cx="174600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"/>
              </a:rPr>
              <a:t>LO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70"/>
          <p:cNvSpPr/>
          <p:nvPr/>
        </p:nvSpPr>
        <p:spPr>
          <a:xfrm>
            <a:off x="190440" y="2914560"/>
            <a:ext cx="174636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O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1"/>
          <p:cNvSpPr/>
          <p:nvPr/>
        </p:nvSpPr>
        <p:spPr>
          <a:xfrm>
            <a:off x="190440" y="2590920"/>
            <a:ext cx="174636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troimidaz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2"/>
          <p:cNvSpPr/>
          <p:nvPr/>
        </p:nvSpPr>
        <p:spPr>
          <a:xfrm>
            <a:off x="190440" y="2266920"/>
            <a:ext cx="1746360" cy="146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3"/>
          <p:cNvSpPr/>
          <p:nvPr/>
        </p:nvSpPr>
        <p:spPr>
          <a:xfrm>
            <a:off x="181080" y="3562200"/>
            <a:ext cx="174600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O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4"/>
          <p:cNvSpPr/>
          <p:nvPr/>
        </p:nvSpPr>
        <p:spPr>
          <a:xfrm>
            <a:off x="190440" y="1943280"/>
            <a:ext cx="1746360" cy="1458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5"/>
          <p:cNvSpPr/>
          <p:nvPr/>
        </p:nvSpPr>
        <p:spPr>
          <a:xfrm>
            <a:off x="190440" y="1619280"/>
            <a:ext cx="1746360" cy="146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6"/>
          <p:cNvSpPr/>
          <p:nvPr/>
        </p:nvSpPr>
        <p:spPr>
          <a:xfrm>
            <a:off x="2028960" y="2581200"/>
            <a:ext cx="238284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7"/>
          <p:cNvSpPr/>
          <p:nvPr/>
        </p:nvSpPr>
        <p:spPr>
          <a:xfrm>
            <a:off x="4410000" y="2590920"/>
            <a:ext cx="4557960" cy="114120"/>
          </a:xfrm>
          <a:prstGeom prst="rect">
            <a:avLst/>
          </a:prstGeom>
          <a:blipFill rotWithShape="0">
            <a:blip r:embed="rId20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8"/>
          <p:cNvSpPr/>
          <p:nvPr/>
        </p:nvSpPr>
        <p:spPr>
          <a:xfrm>
            <a:off x="2028960" y="2276640"/>
            <a:ext cx="3406680" cy="12384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9"/>
          <p:cNvSpPr/>
          <p:nvPr/>
        </p:nvSpPr>
        <p:spPr>
          <a:xfrm>
            <a:off x="5427720" y="2266920"/>
            <a:ext cx="3525840" cy="133560"/>
          </a:xfrm>
          <a:prstGeom prst="rect">
            <a:avLst/>
          </a:prstGeom>
          <a:blipFill rotWithShape="0">
            <a:blip r:embed="rId2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80"/>
          <p:cNvSpPr/>
          <p:nvPr/>
        </p:nvSpPr>
        <p:spPr>
          <a:xfrm>
            <a:off x="2028960" y="1933560"/>
            <a:ext cx="516708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1"/>
          <p:cNvSpPr/>
          <p:nvPr/>
        </p:nvSpPr>
        <p:spPr>
          <a:xfrm>
            <a:off x="7201080" y="1943280"/>
            <a:ext cx="1752480" cy="133200"/>
          </a:xfrm>
          <a:prstGeom prst="rect">
            <a:avLst/>
          </a:prstGeom>
          <a:blipFill rotWithShape="0">
            <a:blip r:embed="rId2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82"/>
          <p:cNvSpPr/>
          <p:nvPr/>
        </p:nvSpPr>
        <p:spPr>
          <a:xfrm>
            <a:off x="2028960" y="1609560"/>
            <a:ext cx="637380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83"/>
          <p:cNvSpPr/>
          <p:nvPr/>
        </p:nvSpPr>
        <p:spPr>
          <a:xfrm>
            <a:off x="8400960" y="1609560"/>
            <a:ext cx="567000" cy="142920"/>
          </a:xfrm>
          <a:prstGeom prst="rect">
            <a:avLst/>
          </a:prstGeom>
          <a:blipFill rotWithShape="0">
            <a:blip r:embed="rId2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4"/>
          <p:cNvSpPr/>
          <p:nvPr/>
        </p:nvSpPr>
        <p:spPr>
          <a:xfrm>
            <a:off x="3848040" y="3552840"/>
            <a:ext cx="5100840" cy="133200"/>
          </a:xfrm>
          <a:prstGeom prst="rect">
            <a:avLst/>
          </a:prstGeom>
          <a:blipFill rotWithShape="0">
            <a:blip r:embed="rId2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5"/>
          <p:cNvSpPr/>
          <p:nvPr/>
        </p:nvSpPr>
        <p:spPr>
          <a:xfrm>
            <a:off x="2028960" y="3552840"/>
            <a:ext cx="183024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6"/>
          <p:cNvSpPr/>
          <p:nvPr/>
        </p:nvSpPr>
        <p:spPr>
          <a:xfrm>
            <a:off x="2028960" y="4857840"/>
            <a:ext cx="45720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7"/>
          <p:cNvSpPr/>
          <p:nvPr/>
        </p:nvSpPr>
        <p:spPr>
          <a:xfrm>
            <a:off x="2495520" y="4857840"/>
            <a:ext cx="6434280" cy="142920"/>
          </a:xfrm>
          <a:prstGeom prst="rect">
            <a:avLst/>
          </a:prstGeom>
          <a:blipFill rotWithShape="0">
            <a:blip r:embed="rId2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88"/>
          <p:cNvSpPr/>
          <p:nvPr/>
        </p:nvSpPr>
        <p:spPr>
          <a:xfrm>
            <a:off x="181080" y="4857840"/>
            <a:ext cx="1746000" cy="145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89"/>
          <p:cNvSpPr/>
          <p:nvPr/>
        </p:nvSpPr>
        <p:spPr>
          <a:xfrm>
            <a:off x="181080" y="5505480"/>
            <a:ext cx="1746000" cy="146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90"/>
          <p:cNvSpPr/>
          <p:nvPr/>
        </p:nvSpPr>
        <p:spPr>
          <a:xfrm>
            <a:off x="2028960" y="5514840"/>
            <a:ext cx="29988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91"/>
          <p:cNvSpPr/>
          <p:nvPr/>
        </p:nvSpPr>
        <p:spPr>
          <a:xfrm>
            <a:off x="2333520" y="5514840"/>
            <a:ext cx="6600960" cy="133560"/>
          </a:xfrm>
          <a:prstGeom prst="rect">
            <a:avLst/>
          </a:prstGeom>
          <a:blipFill rotWithShape="0">
            <a:blip r:embed="rId2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92"/>
          <p:cNvSpPr/>
          <p:nvPr/>
        </p:nvSpPr>
        <p:spPr>
          <a:xfrm>
            <a:off x="171360" y="5829480"/>
            <a:ext cx="1746360" cy="145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LG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93"/>
          <p:cNvSpPr/>
          <p:nvPr/>
        </p:nvSpPr>
        <p:spPr>
          <a:xfrm>
            <a:off x="2028960" y="583884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94"/>
          <p:cNvSpPr/>
          <p:nvPr/>
        </p:nvSpPr>
        <p:spPr>
          <a:xfrm>
            <a:off x="2333520" y="5838840"/>
            <a:ext cx="6600960" cy="133200"/>
          </a:xfrm>
          <a:prstGeom prst="rect">
            <a:avLst/>
          </a:prstGeom>
          <a:blipFill rotWithShape="0">
            <a:blip r:embed="rId2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Rectangle 64" descr=""/>
          <p:cNvPicPr/>
          <p:nvPr/>
        </p:nvPicPr>
        <p:blipFill>
          <a:blip r:embed="rId28"/>
          <a:stretch/>
        </p:blipFill>
        <p:spPr>
          <a:xfrm>
            <a:off x="2097000" y="1620720"/>
            <a:ext cx="668196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Generating more Lea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6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 Priority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6"/>
          <p:cNvGrpSpPr/>
          <p:nvPr/>
        </p:nvGrpSpPr>
        <p:grpSpPr>
          <a:xfrm>
            <a:off x="106920" y="2057400"/>
            <a:ext cx="8249040" cy="3705480"/>
            <a:chOff x="106920" y="2057400"/>
            <a:chExt cx="8249040" cy="3705480"/>
          </a:xfrm>
        </p:grpSpPr>
        <p:sp>
          <p:nvSpPr>
            <p:cNvPr id="298" name="Rectangle 4"/>
            <p:cNvSpPr/>
            <p:nvPr/>
          </p:nvSpPr>
          <p:spPr>
            <a:xfrm>
              <a:off x="3353040" y="2057400"/>
              <a:ext cx="2286000" cy="7621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Knowled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Including reassessment of what we “know”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5"/>
            <p:cNvSpPr/>
            <p:nvPr/>
          </p:nvSpPr>
          <p:spPr>
            <a:xfrm>
              <a:off x="3353040" y="4876920"/>
              <a:ext cx="2286000" cy="761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o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Imaging M.tb </a:t>
              </a:r>
              <a:r>
                <a:rPr b="1" i="1" lang="en-US" sz="1100" spc="-1" strike="noStrike">
                  <a:solidFill>
                    <a:srgbClr val="ffffff"/>
                  </a:solidFill>
                  <a:latin typeface="Calibri"/>
                </a:rPr>
                <a:t>in situ</a:t>
              </a: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, biomark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6"/>
            <p:cNvSpPr/>
            <p:nvPr/>
          </p:nvSpPr>
          <p:spPr>
            <a:xfrm>
              <a:off x="762120" y="3429000"/>
              <a:ext cx="2286000" cy="7621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Biolo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Understanding persistence and latenc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7"/>
            <p:cNvSpPr/>
            <p:nvPr/>
          </p:nvSpPr>
          <p:spPr>
            <a:xfrm>
              <a:off x="5943600" y="3429000"/>
              <a:ext cx="2286000" cy="7621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Lea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Chemical genomic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Down Arrow 8"/>
            <p:cNvSpPr/>
            <p:nvPr/>
          </p:nvSpPr>
          <p:spPr>
            <a:xfrm rot="2653800">
              <a:off x="2849400" y="2754000"/>
              <a:ext cx="288720" cy="639720"/>
            </a:xfrm>
            <a:prstGeom prst="downArrow">
              <a:avLst>
                <a:gd name="adj1" fmla="val 50000"/>
                <a:gd name="adj2" fmla="val 50028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Down Arrow 9"/>
            <p:cNvSpPr/>
            <p:nvPr/>
          </p:nvSpPr>
          <p:spPr>
            <a:xfrm rot="18870000">
              <a:off x="5823000" y="2750760"/>
              <a:ext cx="290520" cy="639720"/>
            </a:xfrm>
            <a:prstGeom prst="down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Down Arrow 12"/>
            <p:cNvSpPr/>
            <p:nvPr/>
          </p:nvSpPr>
          <p:spPr>
            <a:xfrm rot="13404600">
              <a:off x="5972400" y="4279680"/>
              <a:ext cx="288720" cy="639720"/>
            </a:xfrm>
            <a:prstGeom prst="downArrow">
              <a:avLst>
                <a:gd name="adj1" fmla="val 50000"/>
                <a:gd name="adj2" fmla="val 50028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Down Arrow 13"/>
            <p:cNvSpPr/>
            <p:nvPr/>
          </p:nvSpPr>
          <p:spPr>
            <a:xfrm rot="8084400">
              <a:off x="2850480" y="4274640"/>
              <a:ext cx="290520" cy="639720"/>
            </a:xfrm>
            <a:prstGeom prst="down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ight Arrow 14"/>
            <p:cNvSpPr/>
            <p:nvPr/>
          </p:nvSpPr>
          <p:spPr>
            <a:xfrm>
              <a:off x="3505320" y="3429000"/>
              <a:ext cx="2057400" cy="6858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Box 15"/>
            <p:cNvSpPr/>
            <p:nvPr/>
          </p:nvSpPr>
          <p:spPr>
            <a:xfrm>
              <a:off x="106920" y="5486400"/>
              <a:ext cx="282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From BMG Foundation Meeting April 20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Box 17"/>
            <p:cNvSpPr/>
            <p:nvPr/>
          </p:nvSpPr>
          <p:spPr>
            <a:xfrm>
              <a:off x="1218240" y="2743200"/>
              <a:ext cx="16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Existing sterilizing drug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18"/>
            <p:cNvSpPr/>
            <p:nvPr/>
          </p:nvSpPr>
          <p:spPr>
            <a:xfrm>
              <a:off x="6285600" y="2743200"/>
              <a:ext cx="207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Optimal PK/P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Potential scale-up /COG issu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Box 19"/>
            <p:cNvSpPr/>
            <p:nvPr/>
          </p:nvSpPr>
          <p:spPr>
            <a:xfrm>
              <a:off x="6291360" y="4724280"/>
              <a:ext cx="1969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Assess activity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Calibri"/>
                </a:rPr>
                <a:t>in vivo,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alon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and in combin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Box 20"/>
            <p:cNvSpPr/>
            <p:nvPr/>
          </p:nvSpPr>
          <p:spPr>
            <a:xfrm>
              <a:off x="1276200" y="4724280"/>
              <a:ext cx="168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Observe persistent M.t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2"/>
          <p:cNvSpPr/>
          <p:nvPr/>
        </p:nvSpPr>
        <p:spPr>
          <a:xfrm>
            <a:off x="228600" y="1523880"/>
            <a:ext cx="876312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1. Generate more new lead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 discovery activity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sure TB drug repurposing (existing leads and products now abandoned but which can be optimized for TB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228600" y="3429000"/>
            <a:ext cx="845820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2. Develop a network of clinical trial ce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enters of excellence will allow high quality and rapid clinical develop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"/>
          <p:cNvSpPr/>
          <p:nvPr/>
        </p:nvSpPr>
        <p:spPr>
          <a:xfrm>
            <a:off x="304920" y="1539720"/>
            <a:ext cx="845820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3. Ensure close collaboration with TB diagnostic and biomarker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implementation of drug development (need for better surrogate marker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304920" y="3398760"/>
            <a:ext cx="845820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4. Ensure registration by major regulatory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ose coordination and accelerated plans (e.g. FDA priority review voucher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18:57:12Z</dcterms:created>
  <dc:creator>jpremmereur</dc:creator>
  <dc:description/>
  <dc:language>en-US</dc:language>
  <cp:lastModifiedBy>jpremmereur</cp:lastModifiedBy>
  <dcterms:modified xsi:type="dcterms:W3CDTF">2008-05-02T23:18:20Z</dcterms:modified>
  <cp:revision>242</cp:revision>
  <dc:subject/>
  <dc:title>Board Meeting 24th and 25th of April 2008 NY</dc:title>
</cp:coreProperties>
</file>