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F4F3-23B7-4D50-956D-003DF38E7E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CE02-B77D-4356-BC35-B2A6FF4B4C0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2320" y="776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8160"/>
            <a:ext cx="49752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8D4D-865C-45C9-BE22-D9B9CC4245F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draurio.barreira@saude.gov.br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15494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dito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 de nov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6208560"/>
            <a:ext cx="29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f5f5"/>
                </a:solidFill>
                <a:latin typeface="Arial"/>
              </a:rPr>
              <a:t>Departamento de Vigilância Epidem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3800" y="2679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B-HIV ROUNDTABLE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Stop TB Partnership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oordinating Board Meeting</a:t>
            </a:r>
            <a:br>
              <a:rPr sz="2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agamoyo, Tanzania, 28-29 October 2008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aurio Barreir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 of Brazilian National T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7636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nicipalities with at least 1 AIDS case.    Brazil, 1990 –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52280" y="4437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0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73720" y="5661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2001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9120" y="51577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6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1360" y="6364440"/>
            <a:ext cx="576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Source: MS/SVS/PN-DST/AIDS e MS/SVS/DASIS/ Sistema de Informações sobre Mortalidade - S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Notified cases in Sinan, registred in Siscel until 06/30/2006 and SIM from 2000 to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3058920" cy="2737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83040" y="2205000"/>
            <a:ext cx="3097080" cy="287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3132000" cy="295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86320" y="1700280"/>
            <a:ext cx="28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85% of all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51640" y="1008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095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1520" y="433440"/>
            <a:ext cx="8582040" cy="5502240"/>
            <a:chOff x="371520" y="433440"/>
            <a:chExt cx="8582040" cy="5502240"/>
          </a:xfrm>
        </p:grpSpPr>
        <p:sp>
          <p:nvSpPr>
            <p:cNvPr id="319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7600" y="1336680"/>
              <a:ext cx="1440" cy="386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0880" y="5199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0880" y="46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0880" y="4092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0880" y="3538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50880" y="2997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0880" y="244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0880" y="1889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0880" y="133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16080" y="1986120"/>
              <a:ext cx="6305760" cy="1155600"/>
            </a:xfrm>
            <a:custGeom>
              <a:avLst/>
              <a:gdLst/>
              <a:ahLst/>
              <a:rect l="l" t="t" r="r" b="b"/>
              <a:pathLst>
                <a:path w="524" h="96">
                  <a:moveTo>
                    <a:pt x="0" y="96"/>
                  </a:moveTo>
                  <a:lnTo>
                    <a:pt x="87" y="79"/>
                  </a:lnTo>
                  <a:lnTo>
                    <a:pt x="175" y="60"/>
                  </a:lnTo>
                  <a:lnTo>
                    <a:pt x="262" y="47"/>
                  </a:lnTo>
                  <a:lnTo>
                    <a:pt x="349" y="28"/>
                  </a:lnTo>
                  <a:lnTo>
                    <a:pt x="437" y="0"/>
                  </a:lnTo>
                  <a:lnTo>
                    <a:pt x="524" y="5"/>
                  </a:lnTo>
                </a:path>
              </a:pathLst>
            </a:custGeom>
            <a:noFill/>
            <a:ln w="36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16080" y="4068720"/>
              <a:ext cx="6305760" cy="360360"/>
            </a:xfrm>
            <a:custGeom>
              <a:avLst/>
              <a:gdLst/>
              <a:ahLst/>
              <a:rect l="l" t="t" r="r" b="b"/>
              <a:pathLst>
                <a:path w="524" h="30">
                  <a:moveTo>
                    <a:pt x="0" y="0"/>
                  </a:moveTo>
                  <a:lnTo>
                    <a:pt x="87" y="6"/>
                  </a:lnTo>
                  <a:lnTo>
                    <a:pt x="175" y="16"/>
                  </a:lnTo>
                  <a:lnTo>
                    <a:pt x="262" y="22"/>
                  </a:lnTo>
                  <a:lnTo>
                    <a:pt x="349" y="27"/>
                  </a:lnTo>
                  <a:lnTo>
                    <a:pt x="437" y="28"/>
                  </a:lnTo>
                  <a:lnTo>
                    <a:pt x="524" y="30"/>
                  </a:lnTo>
                </a:path>
              </a:pathLst>
            </a:custGeom>
            <a:noFill/>
            <a:ln w="36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81320" y="433440"/>
              <a:ext cx="6778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Perfomed HIV exam percentage and positivity i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44760" y="806400"/>
              <a:ext cx="4781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new TB cases. Brazil, 2001- 2007.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840" y="51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3480" y="45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3480" y="40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3480" y="34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91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83480" y="2359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3480" y="180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3480" y="125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520" y="545148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520" y="593424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520" y="5451480"/>
              <a:ext cx="1440" cy="48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76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37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252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012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924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54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41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5176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880" y="5584680"/>
              <a:ext cx="289080" cy="18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760" y="551196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Re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77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,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652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5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7,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118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2,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4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8,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7,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4120" y="5705640"/>
              <a:ext cx="855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80" y="5824440"/>
              <a:ext cx="289080" cy="18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4960" y="57531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Po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0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,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77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9,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0652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7,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268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,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118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94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18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27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89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564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440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705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293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4697640" cy="610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426960"/>
            <a:ext cx="41911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.000.000 inhabit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000 TB case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incidence rate: 38,9 cases/ 100.000 inhabi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.5% of TB-M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5.000 deaths per year 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 of death among AIDS pat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est country in burden of T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B incidence rat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a donor and recipient of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68360" y="-2700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ctivities done in health ca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surveillance system (unique and national system, drugs distribution, data base crossing, TB-MDR surveillance system, MDR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ation of TB control to Primary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GFATM to setting TB/HIV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expanding the HIV rapid test and the following up of TB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D and isoniazid introduction in AIDS network: training and service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ing co-infection management and structuring the referrals  network: support to outpatien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of civil society i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DOTS Strategy in co-in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1128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retroviral treatment and chemoprophylaxis impact during TB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341360"/>
          <a:ext cx="8137440" cy="5024520"/>
        </p:xfrm>
        <a:graphic>
          <a:graphicData uri="http://schemas.openxmlformats.org/drawingml/2006/table">
            <a:tbl>
              <a:tblPr/>
              <a:tblGrid>
                <a:gridCol w="3689280"/>
                <a:gridCol w="2784600"/>
                <a:gridCol w="166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jus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H (95%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H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ART and 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 (0.31-0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 (0.18-1.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(0.11-0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ous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9 (0.88-1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&l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– 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 (0.25-0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 (0.13-0.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(0.07-0.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               &l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(0.73-1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9 (0.49-0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 (0.33-0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9" name="Group 7"/>
          <p:cNvGrpSpPr/>
          <p:nvPr/>
        </p:nvGrpSpPr>
        <p:grpSpPr>
          <a:xfrm>
            <a:off x="2519280" y="2278080"/>
            <a:ext cx="2000160" cy="520200"/>
            <a:chOff x="2519280" y="2278080"/>
            <a:chExt cx="2000160" cy="520200"/>
          </a:xfrm>
        </p:grpSpPr>
        <p:sp>
          <p:nvSpPr>
            <p:cNvPr id="400" name="TextBox 3"/>
            <p:cNvSpPr/>
            <p:nvPr/>
          </p:nvSpPr>
          <p:spPr>
            <a:xfrm>
              <a:off x="2519280" y="2278080"/>
              <a:ext cx="1571760" cy="52020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59% reduction in TB 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ight Arrow 6"/>
            <p:cNvSpPr/>
            <p:nvPr/>
          </p:nvSpPr>
          <p:spPr>
            <a:xfrm>
              <a:off x="4091040" y="249228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"/>
          <p:cNvGrpSpPr/>
          <p:nvPr/>
        </p:nvGrpSpPr>
        <p:grpSpPr>
          <a:xfrm>
            <a:off x="2595600" y="2887560"/>
            <a:ext cx="2000160" cy="580680"/>
            <a:chOff x="2595600" y="2887560"/>
            <a:chExt cx="2000160" cy="580680"/>
          </a:xfrm>
        </p:grpSpPr>
        <p:sp>
          <p:nvSpPr>
            <p:cNvPr id="403" name="TextBox 9"/>
            <p:cNvSpPr/>
            <p:nvPr/>
          </p:nvSpPr>
          <p:spPr>
            <a:xfrm>
              <a:off x="2595600" y="2887560"/>
              <a:ext cx="1571760" cy="58068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76%</a:t>
              </a:r>
              <a:r>
                <a:rPr b="0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 reduction in TB 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ight Arrow 10"/>
            <p:cNvSpPr/>
            <p:nvPr/>
          </p:nvSpPr>
          <p:spPr>
            <a:xfrm>
              <a:off x="4167360" y="310176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11"/>
          <p:cNvSpPr/>
          <p:nvPr/>
        </p:nvSpPr>
        <p:spPr>
          <a:xfrm>
            <a:off x="536040" y="63133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 Unicode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olub et al. AIDS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Partners` Forum Rio 2009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3994200" y="404640"/>
            <a:ext cx="5041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urio Bar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raurio.barreira@saude.gov.br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.: + 55 61 3213-8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 social programs (“Bolsa Famili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employments, medium income increased (bigger minimum wages), less people living below d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commitment and financial support for NTP from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sector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one of the 5 top public health priorities for the Brazilian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ian Public Health Care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unive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ree of charge for all population (it is a constitutional right: “Health is a right of all and a duty of th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, secondary, and tertiary health c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2480" y="260280"/>
            <a:ext cx="74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razilian NTP budget from 2000 t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included the drugs for treatment, 1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73880" y="1700280"/>
            <a:ext cx="7027200" cy="4436280"/>
            <a:chOff x="1073880" y="1700280"/>
            <a:chExt cx="7027200" cy="4436280"/>
          </a:xfrm>
        </p:grpSpPr>
        <p:sp>
          <p:nvSpPr>
            <p:cNvPr id="65" name=""/>
            <p:cNvSpPr/>
            <p:nvPr/>
          </p:nvSpPr>
          <p:spPr>
            <a:xfrm>
              <a:off x="1547640" y="1700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$ x 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73880" y="2097360"/>
              <a:ext cx="6993720" cy="3274560"/>
              <a:chOff x="1073880" y="2097360"/>
              <a:chExt cx="6993720" cy="3274560"/>
            </a:xfrm>
          </p:grpSpPr>
          <p:sp>
            <p:nvSpPr>
              <p:cNvPr id="67" name=""/>
              <p:cNvSpPr/>
              <p:nvPr/>
            </p:nvSpPr>
            <p:spPr>
              <a:xfrm>
                <a:off x="2195280" y="5265360"/>
                <a:ext cx="587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95280" y="476316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5280" y="425880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95280" y="377604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95280" y="3271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2767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5280" y="2265840"/>
                <a:ext cx="58723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67000" y="4803480"/>
                <a:ext cx="363600" cy="46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5640" y="4950360"/>
                <a:ext cx="385560" cy="315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44800" y="5013360"/>
                <a:ext cx="365040" cy="252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3440" y="4595040"/>
                <a:ext cx="365040" cy="670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02080" y="3902040"/>
                <a:ext cx="365400" cy="1363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0720" y="3776040"/>
                <a:ext cx="385920" cy="1489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3040920"/>
                <a:ext cx="363600" cy="222444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0320" y="2685600"/>
                <a:ext cx="363600" cy="25797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95280" y="2265840"/>
                <a:ext cx="1800" cy="299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09600" y="526536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09600" y="476316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09600" y="425880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09600" y="377604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9600" y="3271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9600" y="2767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09600" y="226584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95400" y="5097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3880" y="4595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3880" y="4091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3880" y="3607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3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3880" y="3103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4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3880" y="2601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3880" y="2097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6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84328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220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31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57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492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564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0360" y="5829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51280" y="2332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crease of 9.3 fold from 2002 t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6861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9th Union World Conference on Lung Health, 16 to 20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611280" y="504720"/>
            <a:ext cx="78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zil, 1999 -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0920" y="63230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SINAN 31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13760" y="5049720"/>
            <a:ext cx="41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5084640"/>
            <a:ext cx="3477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800" y="1433520"/>
            <a:ext cx="853452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991040"/>
            <a:ext cx="853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80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5728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94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236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8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67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5484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9233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6080" y="294480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5760" y="2973240"/>
            <a:ext cx="4788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10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00348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120" y="303228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2200" y="306216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1880" y="30924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312120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31510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4560" y="31654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4240" y="3195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3920" y="32241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3600" y="32688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32986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1520" y="332748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120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088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3876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240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080" y="335772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32748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10"/>
                </a:moveTo>
                <a:lnTo>
                  <a:pt x="30" y="0"/>
                </a:lnTo>
                <a:lnTo>
                  <a:pt x="30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3130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2986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8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9360" y="328284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5116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084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32828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328284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8440" y="328284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4812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780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8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331308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130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26080" y="33433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544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368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33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520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488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45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342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392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216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3402000"/>
            <a:ext cx="457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454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3320" y="341640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34164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3040" y="34304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2720" y="34466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0600" y="347508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80280" y="34909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960" y="35053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8840" y="288432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7320" y="310680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25800" y="332748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4280" y="3224160"/>
            <a:ext cx="1029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324000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4880" y="351144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2924280"/>
            <a:ext cx="7442280" cy="647640"/>
          </a:xfrm>
          <a:custGeom>
            <a:avLst/>
            <a:gdLst/>
            <a:ahLst/>
            <a:rect l="l" t="t" r="r" b="b"/>
            <a:pathLst>
              <a:path w="643" h="29">
                <a:moveTo>
                  <a:pt x="0" y="0"/>
                </a:moveTo>
                <a:lnTo>
                  <a:pt x="92" y="4"/>
                </a:lnTo>
                <a:lnTo>
                  <a:pt x="184" y="8"/>
                </a:lnTo>
                <a:lnTo>
                  <a:pt x="276" y="12"/>
                </a:lnTo>
                <a:lnTo>
                  <a:pt x="367" y="16"/>
                </a:lnTo>
                <a:lnTo>
                  <a:pt x="459" y="21"/>
                </a:lnTo>
                <a:lnTo>
                  <a:pt x="551" y="25"/>
                </a:lnTo>
                <a:lnTo>
                  <a:pt x="643" y="29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2841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04920" y="3062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3400" y="32828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1880" y="31798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9200" y="3195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6732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436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4960" y="3487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.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548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624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1796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864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420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78160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972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6120" y="572292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66424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5760" y="5781600"/>
            <a:ext cx="4982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0640" y="566424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94760" y="2708280"/>
            <a:ext cx="37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rease of annual incidence rate = 3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5056200"/>
            <a:ext cx="71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5280" y="2133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,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agnostic year. 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224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 e IB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stimativ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35244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27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1557360"/>
            <a:ext cx="3672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25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3720" y="2565360"/>
            <a:ext cx="7370280" cy="3408120"/>
            <a:chOff x="873720" y="2565360"/>
            <a:chExt cx="7370280" cy="3408120"/>
          </a:xfrm>
        </p:grpSpPr>
        <p:sp>
          <p:nvSpPr>
            <p:cNvPr id="237" name=""/>
            <p:cNvSpPr/>
            <p:nvPr/>
          </p:nvSpPr>
          <p:spPr>
            <a:xfrm rot="18477000">
              <a:off x="858600" y="5473800"/>
              <a:ext cx="64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477000">
              <a:off x="11826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477000">
              <a:off x="13860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477000">
              <a:off x="16876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477000">
              <a:off x="197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477000">
              <a:off x="7578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477000">
              <a:off x="22496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477000">
              <a:off x="7305480" y="55123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77000">
              <a:off x="276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477000">
              <a:off x="3056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477000">
              <a:off x="3272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477000">
              <a:off x="35593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477000">
              <a:off x="38340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477000">
              <a:off x="2552040" y="5514120"/>
              <a:ext cx="5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477000">
              <a:off x="4122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7000">
              <a:off x="44244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477000">
              <a:off x="46990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77000">
              <a:off x="4927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477000">
              <a:off x="621036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477000">
              <a:off x="651204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477000">
              <a:off x="679932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477000">
              <a:off x="7065000" y="5518080"/>
              <a:ext cx="5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477000">
              <a:off x="521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477000">
              <a:off x="54324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477000">
              <a:off x="5719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477000">
              <a:off x="600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256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86920" y="2924280"/>
              <a:ext cx="716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028000" y="3859200"/>
              <a:ext cx="21600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9640" y="2603520"/>
          <a:ext cx="783936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3520"/>
                    <a:ext cx="78393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mortality rate (per 100,000 inhab.), per occurrence year.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477000">
            <a:off x="1089000" y="5629320"/>
            <a:ext cx="6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477000">
            <a:off x="14126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77000">
            <a:off x="161568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77000">
            <a:off x="19177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477000">
            <a:off x="220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477000">
            <a:off x="780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477000">
            <a:off x="24796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477000">
            <a:off x="7535880" y="566748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477000">
            <a:off x="299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477000">
            <a:off x="3286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477000">
            <a:off x="3502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477000">
            <a:off x="3789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477000">
            <a:off x="40640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477000">
            <a:off x="2781720" y="5670000"/>
            <a:ext cx="5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477000">
            <a:off x="4353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77000">
            <a:off x="46544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77000">
            <a:off x="492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77000">
            <a:off x="515736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77000">
            <a:off x="64400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77000">
            <a:off x="6741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77000">
            <a:off x="702900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477000">
            <a:off x="7295040" y="56736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477000">
            <a:off x="544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77000">
            <a:off x="56624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77000">
            <a:off x="5949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77000">
            <a:off x="623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1844640"/>
            <a:ext cx="367200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1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6284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M e IB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Estimativ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19280" y="3355920"/>
            <a:ext cx="288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172000" y="43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4360" y="4029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1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092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infection TB/HIV in Brazi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the country with most TB cases in Latin America, with 94,000 estimated new cases per year (WHO, 2007) and approximately 80,000 cas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test coverage in TB patients is of approximately 57% (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ity prevalence of 15% among test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190,000 PLWHA are in antiretrovir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, 10,000 people start antiretroviral treatment (at the end of 2008, this number is expected to reach 200,00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rate in co-infection: 20%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bakerl</cp:lastModifiedBy>
  <cp:lastPrinted>2003-11-05T12:59:01Z</cp:lastPrinted>
  <dcterms:modified xsi:type="dcterms:W3CDTF">2008-10-29T12:57:43Z</dcterms:modified>
  <cp:revision>496</cp:revision>
  <dc:subject/>
  <dc:title>PowerPoint Presentation</dc:title>
</cp:coreProperties>
</file>