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691813" cy="7559675"/>
  <p:notesSz cx="9223375" cy="7005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7486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603440" y="1893960"/>
            <a:ext cx="7486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60344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43960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134960" y="154620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666480" y="154620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603440" y="189396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134960" y="189396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666480" y="189396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603440" y="1546200"/>
            <a:ext cx="7486560" cy="665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748656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60344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603440" y="1546200"/>
            <a:ext cx="7486560" cy="665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43960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603440" y="1893960"/>
            <a:ext cx="7486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7486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603440" y="1893960"/>
            <a:ext cx="7486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60344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43960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134960" y="154620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666480" y="154620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603440" y="189396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134960" y="189396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666480" y="189396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748656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60344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43960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03440" y="1893960"/>
            <a:ext cx="7486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017800" y="7035840"/>
            <a:ext cx="320760" cy="3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91160" y="3127320"/>
            <a:ext cx="10693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989000" y="7105680"/>
            <a:ext cx="4780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6CC13628-7687-4137-BD82-9ED2667CCDA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2400480" y="4379760"/>
            <a:ext cx="1706400" cy="933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3363840" y="-3240"/>
            <a:ext cx="5262480" cy="30114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563840" indent="-2606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2039760" indent="-2584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800360" y="1225440"/>
            <a:ext cx="8275680" cy="0"/>
          </a:xfrm>
          <a:prstGeom prst="line">
            <a:avLst/>
          </a:prstGeom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10" name="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" name="" descr=""/>
            <p:cNvPicPr/>
            <p:nvPr/>
          </p:nvPicPr>
          <p:blipFill>
            <a:blip r:embed="rId5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7035840"/>
            <a:ext cx="1557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-1804680" y="4199040"/>
            <a:ext cx="5253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spAutoFit/>
          </a:bodyPr>
          <a:p>
            <a:pPr algn="ctr">
              <a:lnSpc>
                <a:spcPct val="110000"/>
              </a:lnSpc>
              <a:spcBef>
                <a:spcPts val="1687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World Economic Foru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722600" y="1881360"/>
            <a:ext cx="897084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53" name="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" descr=""/>
            <p:cNvPicPr/>
            <p:nvPr/>
          </p:nvPicPr>
          <p:blipFill>
            <a:blip r:embed="rId3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0" algn="ctr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26028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3840" indent="21744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85840" indent="17316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85840" indent="1731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85840" indent="1731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724040" y="873000"/>
            <a:ext cx="8721720" cy="46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Building A Stronger Corporate Sector Response </a:t>
            </a:r>
            <a:r>
              <a:rPr b="1" lang="en-GB" sz="31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2100"/>
            </a:br>
            <a:br>
              <a:rPr sz="1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anzania, 28 October 2008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Jean-François de Lavison,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Mérieux Alli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Matti Ojanen, AstraZene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Lakshmi Sundaram, World Economic For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00000" y="574560"/>
            <a:ext cx="857700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A strategic approach is key to active engagement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84160" y="1523880"/>
            <a:ext cx="8908920" cy="53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5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Approaches to addressing ga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rivate Sector Constituency could be more effective if it works more closely its activities with other Stop TB partne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ngage professional and business associations on T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Leverage regional and industry specific meetings with targeted advocacy messag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Map private sector activities with gaps in Global Pla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519200" y="1282680"/>
            <a:ext cx="9174240" cy="59850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07360" y="3238560"/>
            <a:ext cx="2046240" cy="1365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861080" y="5870520"/>
            <a:ext cx="2207880" cy="9619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68800" y="2571840"/>
            <a:ext cx="3657600" cy="32223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76800" y="3300480"/>
            <a:ext cx="1611360" cy="1287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00000" y="263160"/>
            <a:ext cx="8893080" cy="1174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New partners are needed to scale up ongoing activities and secure geographic expansion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754280" y="3267000"/>
            <a:ext cx="2133360" cy="916920"/>
            <a:chOff x="1754280" y="3267000"/>
            <a:chExt cx="2133360" cy="916920"/>
          </a:xfrm>
        </p:grpSpPr>
        <p:sp>
          <p:nvSpPr>
            <p:cNvPr id="119" name=""/>
            <p:cNvSpPr/>
            <p:nvPr/>
          </p:nvSpPr>
          <p:spPr>
            <a:xfrm>
              <a:off x="1754280" y="3268800"/>
              <a:ext cx="213336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968120" y="3267000"/>
              <a:ext cx="1730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Busines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ssociations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BC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4896000" y="6046920"/>
            <a:ext cx="20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fessional Associ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33480" y="3652920"/>
            <a:ext cx="11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lec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450640" y="3276720"/>
            <a:ext cx="167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iv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velop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g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F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92680" y="1415880"/>
            <a:ext cx="2286000" cy="8542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505840" y="16128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62360" y="3662280"/>
            <a:ext cx="1424160" cy="486000"/>
          </a:xfrm>
          <a:prstGeom prst="leftArrow">
            <a:avLst>
              <a:gd name="adj1" fmla="val 50000"/>
              <a:gd name="adj2" fmla="val 73259"/>
            </a:avLst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03840" y="4572000"/>
            <a:ext cx="486000" cy="1208160"/>
          </a:xfrm>
          <a:prstGeom prst="downArrow">
            <a:avLst>
              <a:gd name="adj1" fmla="val 50000"/>
              <a:gd name="adj2" fmla="val 62148"/>
            </a:avLst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88160" y="3681360"/>
            <a:ext cx="1517760" cy="501840"/>
          </a:xfrm>
          <a:prstGeom prst="rightArrow">
            <a:avLst>
              <a:gd name="adj1" fmla="val 50000"/>
              <a:gd name="adj2" fmla="val 756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686560" y="2138400"/>
            <a:ext cx="485640" cy="1177920"/>
          </a:xfrm>
          <a:prstGeom prst="upArrow">
            <a:avLst>
              <a:gd name="adj1" fmla="val 50000"/>
              <a:gd name="adj2" fmla="val 60638"/>
            </a:avLst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32400" y="2513160"/>
            <a:ext cx="311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World Economic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ecretari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69240" y="5308560"/>
            <a:ext cx="177948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rivate S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onstit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58160" y="2440080"/>
            <a:ext cx="177948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rivate S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onstit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95280" y="5432400"/>
            <a:ext cx="177948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rivate S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onstit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858800" y="2517840"/>
            <a:ext cx="177948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rivate S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onstit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24040" y="873000"/>
            <a:ext cx="8721720" cy="37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Building A Stronger Corporate Sector Response </a:t>
            </a:r>
            <a:r>
              <a:rPr b="1" lang="en-GB" sz="31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2100"/>
            </a:br>
            <a:br>
              <a:rPr sz="1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anzania, 28 October 2008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66"/>
                </a:solidFill>
                <a:latin typeface="Arial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00000" y="4950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What is the corporate sector’s role in the Partnership?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84160" y="1141560"/>
            <a:ext cx="8383320" cy="61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Corporate Sector Board seat since Oct 200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Two board seats on European Partnership since 2006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Secretariat role played by World Economic Foru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livier Raynaud : Senior Director for Heal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akshmi Sundaram : Associate Director, Global Health Initi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Steering committee of Partners Fo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Steering committee for Global Plan Progress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haloo Puri  : Head, India Business Alliance, Global Health Initi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Chair of the Business Engagement Task Fo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PPM subgroup of DOTS expansion working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core group of AC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TB and poverty sub-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drug resistance mobilisation subgroup of MDR-TB W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TB/HIV working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Elections of board representatives every 2 yea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00000" y="4950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What is the corporate sector’s role in the Partnership?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84160" y="1428840"/>
            <a:ext cx="838332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ction held in Octobe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ard member : Jean-Francois de Lavis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national Affairs and Global Health Corporate Vice Presiden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érieux All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New Diagnostics 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New Vaccines 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Retooling Task Fo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Business Advisory Committee G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TB &amp; Poverty sub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ternate  : Matti Ojane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rector, International Affairs and Public Polic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traZene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Core Group of AC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New Drugs 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business engagement taskfo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steering committee for the Partners For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00000" y="4950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Private Sector Interest in TB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84160" y="1428840"/>
            <a:ext cx="8383320" cy="50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010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 Business Response to TB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David Bloom (Harvard School of Public Health)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 of data from Forum’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Executive Opinion Surv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test survey completed by over 11,000 business leaders worldw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04: nearly one-quarter reported TB was affecting their 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07: nearly one-third expect TB to affect business in next five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cern over future impact of TB has increased, but reached plate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anies in countries hard hit by AIDS are particularly worried about 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rease in concern driven by companies in upper-middle and higher income settings – growing awareness of globalisation of health problem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73000" y="31716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How Can and Does the Private Sector Contribute to TB Control?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84160" y="1428840"/>
            <a:ext cx="838332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w and improved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orking in partnership to develop drugs, vaccines and diagnostics for T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vention and treatment program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r own employees, communities and employees of related companies (e.g. companies in their supply cha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rvice provid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ivate clinics, practitioners, hospitals and health insurance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vocacy; communication; social mobil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siness mindset and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.g. procurement, delivery, marketing, performance-driven, results-orien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ring best practices between compan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veraging communities of busin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fic examples to follow from GBC 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00000" y="4950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What is the corporate sector’s role in the Partnership?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84160" y="1428840"/>
            <a:ext cx="838332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Miss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Bring business perspectives, input, expertise, resources to Partnershi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Build a community of companies with a commitment to TB contro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ncourage active engagement in Working Grou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Share information within Partnership to stimulate collabor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28440" y="29016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Role of the World Economic Forum: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Recent TB specific examples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4160" y="1428840"/>
            <a:ext cx="838332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ncourage high-level networking/advocacy opportunitie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India Business Alliance (current focus on TB; 35 companies; reaching &gt; 4 million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Report </a:t>
            </a:r>
            <a:r>
              <a:rPr b="0" i="1" lang="en-GB" sz="2300" spc="-1" strike="noStrike">
                <a:solidFill>
                  <a:srgbClr val="000000"/>
                </a:solidFill>
                <a:latin typeface="Arial"/>
              </a:rPr>
              <a:t>The Business Response to TB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Media Advisory Board (sensitising media leaders on TB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oolkits for companies in South Africa and Chin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Launch in Forum’s regional summits; media attention e.g. 30 min TV interview on SABC new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Interest from Ministry of Labour in South Africa to use toolkit for all government employe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Outreach (e.g. ICMM panel in London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00000" y="574560"/>
            <a:ext cx="857700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A strategic approach is key to active engagement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84160" y="1292040"/>
            <a:ext cx="8908920" cy="56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Key activities of Private Sector board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ing a platform for private sector dialogue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eva, April 2007 (30 ppl), Berlin, October 2007 (15 ppl), Cairo, June 2008 (45 pp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couraging and supporting high-level discussions on TB with private secto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eting between Ban Ki-Moon and 18 CEOs (October 200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LF, EDMA (June 2009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porting business participation in Pacific Health Summit (June 20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eating links with Business Schoo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ject with E.M. Ly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est from Harvard Business School and INS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00000" y="574560"/>
            <a:ext cx="857700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A strategic approach is key to active engagement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4160" y="1523880"/>
            <a:ext cx="8908920" cy="53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Gaps</a:t>
            </a: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5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Need to continue building up the constituency, to bring in new companies and encourage greater engagement from existing member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5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ncourage networking/advocacy opportunities with Stop TB and business constitu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ncourage active engagement in working grou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Need to find new ways to ‘sell’ TB to busine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16:18:08Z</dcterms:created>
  <dc:creator>Marie-France Roger</dc:creator>
  <dc:description/>
  <cp:keywords/>
  <dc:language>en-US</dc:language>
  <cp:lastModifiedBy>bakerl</cp:lastModifiedBy>
  <dcterms:modified xsi:type="dcterms:W3CDTF">2008-11-04T12:17:29Z</dcterms:modified>
  <cp:revision>124</cp:revision>
  <dc:subject/>
  <dc:title>Slide 1</dc:title>
</cp:coreProperties>
</file>