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png" ContentType="image/png"/>
  <Override PartName="/ppt/media/image6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17.wmf" ContentType="image/x-wmf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6793-4CF5-49D9-8DA2-44E02CCE0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B215-FE44-4C90-BB13-1FC5D460E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B023-3B57-4D59-81EE-36C23D4C4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9AD8-B3EC-473B-88E3-29F44F0D1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F1CC-8907-4846-ADA5-6442092A7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0DD4-6B25-4AC2-899E-D8792E8C2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0703-0E3B-4DFF-B0D1-A2C025B4E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contrast, only 30,000 patients enrolled in GLC- approved programs as of Spe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863D-424E-42CB-A0A3-940D2F970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ACA6-7888-4871-990F-90D4893EF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FB08-17CB-4E33-AFAA-CDA660584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4206-4289-4AB9-A184-74A4C47CE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D3AA-042C-49FE-AE52-BE5DF806B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7F84-2678-4A57-B38F-3217D05E1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92E-7C5A-4F4B-87CF-6294C9D1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DEA-C81A-478B-BC8E-1E323AD4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C01-84C6-47DA-B05E-1F321B08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125-094A-4B23-B7A6-80F61762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89F2-96D3-426B-BE0C-6EC655BF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D4B8-6696-459D-BAC0-E442A3F0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1791-C270-457D-B6C6-888D7F84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2751-8E06-4B31-815F-05232EB5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44E1-7915-46CA-9EE3-ACFB76E2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A072-238B-4031-A213-9106EBFF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0B93-1719-490D-81A7-842F378C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374-4E88-468F-99E3-24D0C497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550A-722D-47E3-BB42-35C4614D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F929-4AA9-4151-B195-62D79BF0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0327-17CB-407F-A8E9-E33C24EC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B7E2-8832-4A99-9C3F-F3ED1AC5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7AFB-7394-4DB5-81EE-EEA9D666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B5C-1BB4-4BD4-9BDE-F099AF13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CFA-DE84-49DA-9022-9C66A030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3C0-A739-44EA-9799-03A696A2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C95-323F-4E6D-A242-4A4C8ADB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2E3-A740-44B8-AE1B-271B1295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044-11FE-4282-A319-6B1FA05C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F2B-465D-4793-B819-7C5CB4E5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29A7-18C5-4B59-90B8-065607E62A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rcRect l="0" t="0" r="60006" b="0"/>
          <a:stretch/>
        </p:blipFill>
        <p:spPr>
          <a:xfrm>
            <a:off x="4714920" y="673200"/>
            <a:ext cx="1890720" cy="581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875640" y="655560"/>
            <a:ext cx="5457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2268360" y="698400"/>
            <a:ext cx="85284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338040" y="846000"/>
            <a:ext cx="1622520" cy="3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6"/>
          <a:stretch/>
        </p:blipFill>
        <p:spPr>
          <a:xfrm>
            <a:off x="3224160" y="46980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21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A30D-0BD5-4BB6-9012-0545D23F11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7"/>
          <a:stretch/>
        </p:blipFill>
        <p:spPr>
          <a:xfrm>
            <a:off x="7816680" y="692280"/>
            <a:ext cx="110520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3111480"/>
            <a:ext cx="861228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partnership approach to expa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d accelerating access to diagno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 MDR-TB con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-FIND-GDF-UNITAI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38480" y="5905440"/>
            <a:ext cx="6400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op TB Partnership Coordinating 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anzania:  28 - 29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artner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37960" y="2217600"/>
            <a:ext cx="288936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Laborator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89840" y="2201760"/>
            <a:ext cx="28350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05160" y="2217600"/>
            <a:ext cx="27306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37960" y="2712960"/>
            <a:ext cx="2889360" cy="35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of international partners dedicated to laboratory strength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licy gui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other laboratory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ized qual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ordination of technical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nowledg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189840" y="2706840"/>
            <a:ext cx="2847960" cy="35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sures access to anti-TB drugs and diagnostics at lowest possibl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procurement services (29 countries 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expertise in managing and monitoring of commod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 achieved cost-containment for first-line TB drugs under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projects with UNITAID also include scale-up of procurement for drugs to treat MDR-TB and pa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305160" y="2711520"/>
            <a:ext cx="2744640" cy="35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-private partnership focused on development, evaluation, and accelerated uptake of new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3485 cer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tensive experience with clinical trials of new diagnostic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ensure access to new diagnostic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liquid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munoassay for species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Tahoma"/>
                <a:ea typeface="Tahoma"/>
              </a:rPr>
              <a:t>Partner roles provide complementariti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772080" y="397980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ies, norms international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e in lab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indicators and tools for M&amp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44440" y="397980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ding for essential instruments, reagents,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rot="16200000">
            <a:off x="2124720" y="2314800"/>
            <a:ext cx="228600" cy="2706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560 h 2706480"/>
              <a:gd name="textAreaBottom" fmla="*/ 2635920 h 27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 rot="16200000">
            <a:off x="5949000" y="1461240"/>
            <a:ext cx="209520" cy="4414680"/>
          </a:xfrm>
          <a:custGeom>
            <a:avLst/>
            <a:gdLst>
              <a:gd name="textAreaLeft" fmla="*/ 133920 w 209520"/>
              <a:gd name="textAreaRight" fmla="*/ 209880 w 209520"/>
              <a:gd name="textAreaTop" fmla="*/ 114840 h 4414680"/>
              <a:gd name="textAreaBottom" fmla="*/ 4299840 h 44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1587600" y="4775040"/>
            <a:ext cx="1104840" cy="6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7415280" y="6232680"/>
            <a:ext cx="318960" cy="473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rcRect l="0" t="0" r="60002" b="0"/>
          <a:stretch/>
        </p:blipFill>
        <p:spPr>
          <a:xfrm>
            <a:off x="5367240" y="6253200"/>
            <a:ext cx="125748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4"/>
          <a:stretch/>
        </p:blipFill>
        <p:spPr>
          <a:xfrm>
            <a:off x="733320" y="1020600"/>
            <a:ext cx="7677360" cy="2400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5245200" y="398628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otiate with partners to ensure lowes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sure customer support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 know-how from product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entoring for 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908760" y="3992400"/>
            <a:ext cx="17510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and manage procurement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FIND, engage industry to ensure affordability and sustained price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e with WHO Pre-qualification to include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4110120" y="6116760"/>
            <a:ext cx="768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Tahoma"/>
              </a:rPr>
              <a:t>Country selectio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06840" y="1477440"/>
            <a:ext cx="331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already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being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3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partner support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9080" y="5575320"/>
            <a:ext cx="41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for infrastructure, laboratory strengthening, SOPs, EQA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 rot="5400000">
            <a:off x="2866320" y="3181320"/>
            <a:ext cx="4002120" cy="592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1" descr=""/>
          <p:cNvPicPr/>
          <p:nvPr/>
        </p:nvPicPr>
        <p:blipFill>
          <a:blip r:embed="rId1"/>
          <a:stretch/>
        </p:blipFill>
        <p:spPr>
          <a:xfrm>
            <a:off x="-426960" y="143496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158760"/>
            <a:ext cx="818676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16 project countri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3" name="Picture 6" descr="africa"/>
          <p:cNvPicPr/>
          <p:nvPr/>
        </p:nvPicPr>
        <p:blipFill>
          <a:blip r:embed="rId1"/>
          <a:stretch/>
        </p:blipFill>
        <p:spPr>
          <a:xfrm>
            <a:off x="318960" y="1353960"/>
            <a:ext cx="3605400" cy="276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urope_central_asia"/>
          <p:cNvPicPr/>
          <p:nvPr/>
        </p:nvPicPr>
        <p:blipFill>
          <a:blip r:embed="rId2"/>
          <a:stretch/>
        </p:blipFill>
        <p:spPr>
          <a:xfrm>
            <a:off x="1528920" y="4051440"/>
            <a:ext cx="6283080" cy="274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asia"/>
          <p:cNvPicPr/>
          <p:nvPr/>
        </p:nvPicPr>
        <p:blipFill>
          <a:blip r:embed="rId3"/>
          <a:stretch/>
        </p:blipFill>
        <p:spPr>
          <a:xfrm>
            <a:off x="4921200" y="1386000"/>
            <a:ext cx="380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hases and timefram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1: Laboratory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 laboratories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rastructure/biosafety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Assurance put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 Operating Procedure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2: Introduction of new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, reagents, and other essential supplies procured and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ion of new diagnostics into screening and treatment guidelines of national TB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3: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and oversight of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of new diagnostics measured and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1: Focus on Category 1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liquid culture and rapid immuno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ntroduction of 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: Inclusion of Category 2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new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3: Inclusion of Category 3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additional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and 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95360" y="120024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49840" y="120636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9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Expected project impac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7320" y="24508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% of global MDR-TB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least 3-fold increase over 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G_0245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393840" y="1527120"/>
            <a:ext cx="8281800" cy="11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4 000 MDR-TB patients 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nd provided with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ablets"/>
          <p:cNvPicPr/>
          <p:nvPr/>
        </p:nvPicPr>
        <p:blipFill>
          <a:blip r:embed="rId2"/>
          <a:stretch/>
        </p:blipFill>
        <p:spPr>
          <a:xfrm>
            <a:off x="3205080" y="386064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lucAIDS"/>
          <p:cNvPicPr/>
          <p:nvPr/>
        </p:nvPicPr>
        <p:blipFill>
          <a:blip r:embed="rId3"/>
          <a:stretch/>
        </p:blipFill>
        <p:spPr>
          <a:xfrm>
            <a:off x="6680160" y="3138480"/>
            <a:ext cx="2212920" cy="33861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828720" y="6093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357800" y="573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290000" y="3141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494080" y="6021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5878440" y="600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317600" y="1185840"/>
          <a:ext cx="6508800" cy="5151600"/>
        </p:xfrm>
        <a:graphic>
          <a:graphicData uri="http://schemas.openxmlformats.org/drawingml/2006/table">
            <a:tbl>
              <a:tblPr/>
              <a:tblGrid>
                <a:gridCol w="325440"/>
                <a:gridCol w="1419120"/>
                <a:gridCol w="1347840"/>
                <a:gridCol w="1074960"/>
                <a:gridCol w="1042920"/>
                <a:gridCol w="12985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B cultures on liquid media and Speciation tests perfor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cond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molecular DNA probe a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ôte 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’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R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 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 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2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 8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2 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6 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 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12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9 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 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9 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027"/>
          <p:cNvSpPr/>
          <p:nvPr/>
        </p:nvSpPr>
        <p:spPr>
          <a:xfrm>
            <a:off x="1073160" y="643716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cted number of diagnostic test units, per country, by Ye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480" y="441000"/>
            <a:ext cx="8891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800000"/>
                </a:solidFill>
                <a:latin typeface="Tahoma"/>
                <a:ea typeface="Tahoma"/>
              </a:rPr>
              <a:t>Expected results: large increase in detection of MDR-TB</a:t>
            </a:r>
            <a:br>
              <a:rPr sz="2300"/>
            </a:b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Variation in laboratory preparednes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00120" y="1522440"/>
            <a:ext cx="7921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ritical investment needs for attaining required levels of technical sophistication and safe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236680" y="1700280"/>
            <a:ext cx="6620040" cy="399096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403280" y="328464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035080" y="3328920"/>
            <a:ext cx="71640" cy="1639800"/>
          </a:xfrm>
          <a:custGeom>
            <a:avLst/>
            <a:gdLst>
              <a:gd name="textAreaLeft" fmla="*/ 45720 w 71640"/>
              <a:gd name="textAreaRight" fmla="*/ 72000 w 71640"/>
              <a:gd name="textAreaTop" fmla="*/ 42480 h 1639800"/>
              <a:gd name="textAreaBottom" fmla="*/ 1597320 h 16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9760" y="384012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baselin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98360" y="2127240"/>
            <a:ext cx="1575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investment depending on diagnostic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036880" y="2135160"/>
            <a:ext cx="56880" cy="1106640"/>
          </a:xfrm>
          <a:custGeom>
            <a:avLst/>
            <a:gdLst>
              <a:gd name="textAreaLeft" fmla="*/ 36360 w 56880"/>
              <a:gd name="textAreaRight" fmla="*/ 57240 w 568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8040" y="595008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s exclusive of reagent &amp; consumable costs and investments needed to ensure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Scale-up challeng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157788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quately budgeted laboratory strengthe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 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qualification and 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 development at sever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of international laboratory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of senior technical consultants in SR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Army' of trained laboratory techn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ve models for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training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formal laboratory management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, on-site mentoring and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309600"/>
            <a:ext cx="744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Tahoma"/>
                <a:ea typeface="Tahoma"/>
              </a:rPr>
              <a:t>Diagnostic gaps &amp; need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09800" y="56610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 T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333880" y="1844640"/>
            <a:ext cx="1301040" cy="3679920"/>
            <a:chOff x="2333880" y="1844640"/>
            <a:chExt cx="1301040" cy="3679920"/>
          </a:xfrm>
        </p:grpSpPr>
        <p:sp>
          <p:nvSpPr>
            <p:cNvPr id="100" name="Rectangle 5"/>
            <p:cNvSpPr/>
            <p:nvPr/>
          </p:nvSpPr>
          <p:spPr>
            <a:xfrm>
              <a:off x="2500200" y="2234880"/>
              <a:ext cx="576000" cy="327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rot="16200000">
              <a:off x="2187000" y="47790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33880" y="184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9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318240" y="621972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: WHO Global TB Repor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179640" y="3645000"/>
            <a:ext cx="1301040" cy="2018160"/>
            <a:chOff x="179640" y="3645000"/>
            <a:chExt cx="1301040" cy="2018160"/>
          </a:xfrm>
        </p:grpSpPr>
        <p:sp>
          <p:nvSpPr>
            <p:cNvPr id="105" name="Rectangle 10"/>
            <p:cNvSpPr/>
            <p:nvPr/>
          </p:nvSpPr>
          <p:spPr>
            <a:xfrm>
              <a:off x="345960" y="4017960"/>
              <a:ext cx="576360" cy="1511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 rot="16200000">
              <a:off x="8280" y="489276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179640" y="364500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4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126240" y="3284640"/>
            <a:ext cx="1301040" cy="2201760"/>
            <a:chOff x="3126240" y="3284640"/>
            <a:chExt cx="1301040" cy="2201760"/>
          </a:xfrm>
        </p:grpSpPr>
        <p:sp>
          <p:nvSpPr>
            <p:cNvPr id="109" name="Rectangle 14"/>
            <p:cNvSpPr/>
            <p:nvPr/>
          </p:nvSpPr>
          <p:spPr>
            <a:xfrm>
              <a:off x="3268800" y="3651120"/>
              <a:ext cx="57636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126240" y="328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5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 rot="16200000">
              <a:off x="3006000" y="47674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515160" y="566100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mear+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972000" y="4286160"/>
            <a:ext cx="1301040" cy="1296720"/>
            <a:chOff x="972000" y="4286160"/>
            <a:chExt cx="1301040" cy="1296720"/>
          </a:xfrm>
        </p:grpSpPr>
        <p:sp>
          <p:nvSpPr>
            <p:cNvPr id="114" name="Rectangle 19"/>
            <p:cNvSpPr/>
            <p:nvPr/>
          </p:nvSpPr>
          <p:spPr>
            <a:xfrm>
              <a:off x="1114560" y="4629240"/>
              <a:ext cx="576360" cy="9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972000" y="428616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2.5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 rot="16200000">
              <a:off x="898920" y="4923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4572000" y="4437000"/>
            <a:ext cx="4321080" cy="2305080"/>
            <a:chOff x="4572000" y="4437000"/>
            <a:chExt cx="4321080" cy="2305080"/>
          </a:xfrm>
        </p:grpSpPr>
        <p:graphicFrame>
          <p:nvGraphicFramePr>
            <p:cNvPr id="118" name="Object 23"/>
            <p:cNvGraphicFramePr/>
            <p:nvPr/>
          </p:nvGraphicFramePr>
          <p:xfrm>
            <a:off x="4572000" y="4437000"/>
            <a:ext cx="4321080" cy="230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437000"/>
                      <a:ext cx="432108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AutoShape 24"/>
            <p:cNvSpPr/>
            <p:nvPr/>
          </p:nvSpPr>
          <p:spPr>
            <a:xfrm>
              <a:off x="7754400" y="53056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7994520" y="50464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8235360" y="475056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7513200" y="5600520"/>
              <a:ext cx="412920" cy="110520"/>
            </a:xfrm>
            <a:prstGeom prst="parallelogram">
              <a:avLst>
                <a:gd name="adj" fmla="val 934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6374880" y="6477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 flipV="1" rot="16200000">
            <a:off x="5412240" y="1651320"/>
            <a:ext cx="3095640" cy="2617560"/>
          </a:xfrm>
          <a:custGeom>
            <a:avLst/>
            <a:gdLst>
              <a:gd name="textAreaLeft" fmla="*/ 0 w 3095640"/>
              <a:gd name="textAreaRight" fmla="*/ 3096000 w 3095640"/>
              <a:gd name="textAreaTop" fmla="*/ -360 h 2617560"/>
              <a:gd name="textAreaBottom" fmla="*/ 2617560 h 26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6022080" y="1638360"/>
            <a:ext cx="21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li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422280" y="118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unimagin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indispensab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-3115" r="26724" b="0"/>
          <a:stretch/>
        </p:blipFill>
        <p:spPr>
          <a:xfrm>
            <a:off x="3692520" y="3154320"/>
            <a:ext cx="252900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81680" y="45324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456240" y="2320920"/>
            <a:ext cx="2089440" cy="208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30240" y="2641680"/>
            <a:ext cx="2766960" cy="2127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8040" y="430200"/>
            <a:ext cx="2465280" cy="2171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34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Strengthening TB laboratori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399960"/>
          <a:ext cx="81961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9960"/>
                    <a:ext cx="81961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70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Diagnostic pipeline – 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                  where and when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560" y="1703520"/>
            <a:ext cx="7804080" cy="466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LogoColour"/>
          <p:cNvPicPr/>
          <p:nvPr/>
        </p:nvPicPr>
        <p:blipFill>
          <a:blip r:embed="rId2"/>
          <a:stretch/>
        </p:blipFill>
        <p:spPr>
          <a:xfrm>
            <a:off x="6529320" y="369720"/>
            <a:ext cx="201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720" y="4186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Implementing new diagnostics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307800" y="2817720"/>
            <a:ext cx="1327320" cy="137952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Feasibility, contract, development ph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2598840" y="2809800"/>
            <a:ext cx="1422360" cy="13762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6" y="0"/>
                </a:lnTo>
                <a:lnTo>
                  <a:pt x="21600" y="10800"/>
                </a:lnTo>
                <a:lnTo>
                  <a:pt x="18396" y="21600"/>
                </a:lnTo>
                <a:lnTo>
                  <a:pt x="0" y="21600"/>
                </a:lnTo>
                <a:lnTo>
                  <a:pt x="3204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Demon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7475400" y="2892600"/>
            <a:ext cx="1365480" cy="1344600"/>
          </a:xfrm>
          <a:custGeom>
            <a:avLst/>
            <a:gdLst>
              <a:gd name="textAreaLeft" fmla="*/ 0 w 1365480"/>
              <a:gd name="textAreaRight" fmla="*/ 1365480 w 136548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54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Glob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1347840" y="2816280"/>
            <a:ext cx="1498680" cy="136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lnTo>
                  <a:pt x="3409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02400" y="3335400"/>
            <a:ext cx="72072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WHO"/>
          <p:cNvPicPr/>
          <p:nvPr/>
        </p:nvPicPr>
        <p:blipFill>
          <a:blip r:embed="rId1"/>
          <a:stretch/>
        </p:blipFill>
        <p:spPr>
          <a:xfrm>
            <a:off x="4214880" y="3240000"/>
            <a:ext cx="466560" cy="474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0"/>
          <p:cNvSpPr/>
          <p:nvPr/>
        </p:nvSpPr>
        <p:spPr>
          <a:xfrm>
            <a:off x="4799160" y="2890800"/>
            <a:ext cx="1395360" cy="131148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lnTo>
                  <a:pt x="3336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54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Access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1374840" y="4338720"/>
            <a:ext cx="131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regulatory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2666880" y="4341960"/>
            <a:ext cx="114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aking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4809960" y="4352760"/>
            <a:ext cx="13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scal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7424640" y="4386240"/>
            <a:ext cx="124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easur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179280" y="6237360"/>
            <a:ext cx="850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6FED-3C72-4290-9A9F-ACCFA1E2A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3970440" y="4352760"/>
            <a:ext cx="103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ob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20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970200" y="-387360"/>
            <a:ext cx="1656000" cy="324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ing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olic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970920" y="836280"/>
            <a:ext cx="1656000" cy="324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iewing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007640" y="2023560"/>
            <a:ext cx="1582920" cy="3240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640" y="35672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ing an Exper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970560" y="3213720"/>
            <a:ext cx="1657080" cy="3240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160" y="4653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ing draf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020240" y="4387680"/>
            <a:ext cx="1557360" cy="32403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00" y="580536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17880" y="379440"/>
            <a:ext cx="5118120" cy="12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17880" y="1735200"/>
            <a:ext cx="5118120" cy="104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17880" y="3006720"/>
            <a:ext cx="511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62520" y="3860640"/>
            <a:ext cx="507348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17880" y="5792760"/>
            <a:ext cx="51181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26320" y="-936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Tahoma"/>
              </a:rPr>
              <a:t>WHO policy for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65480" y="49356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790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5480" y="587700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414972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014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0280" y="274680"/>
            <a:ext cx="86630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Establishing quality diagnostic servic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01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from demonstration to access and impact requires that new diagnostic tools are integrated into functional laborato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1"/>
          <a:stretch/>
        </p:blipFill>
        <p:spPr>
          <a:xfrm>
            <a:off x="1203480" y="1881360"/>
            <a:ext cx="6735600" cy="3635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8"/>
          <p:cNvSpPr/>
          <p:nvPr/>
        </p:nvSpPr>
        <p:spPr>
          <a:xfrm>
            <a:off x="3816360" y="57229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components to ensure quality 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1330200" y="572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sential instruments, reagents,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0"/>
          <p:cNvSpPr/>
          <p:nvPr/>
        </p:nvSpPr>
        <p:spPr>
          <a:xfrm rot="16200000">
            <a:off x="2464560" y="4443840"/>
            <a:ext cx="128520" cy="2266920"/>
          </a:xfrm>
          <a:custGeom>
            <a:avLst/>
            <a:gdLst>
              <a:gd name="textAreaLeft" fmla="*/ 82080 w 128520"/>
              <a:gd name="textAreaRight" fmla="*/ 128880 w 12852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6200000">
            <a:off x="5788080" y="3634920"/>
            <a:ext cx="182520" cy="3922920"/>
          </a:xfrm>
          <a:custGeom>
            <a:avLst/>
            <a:gdLst>
              <a:gd name="textAreaLeft" fmla="*/ 116640 w 182520"/>
              <a:gd name="textAreaRight" fmla="*/ 182880 w 18252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9920" y="474480"/>
            <a:ext cx="687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0033"/>
                </a:solidFill>
                <a:latin typeface="Tahoma"/>
                <a:ea typeface="Tahoma"/>
              </a:rPr>
              <a:t>Critical ga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8400" y="2317680"/>
            <a:ext cx="317160" cy="3003480"/>
          </a:xfrm>
          <a:custGeom>
            <a:avLst/>
            <a:gdLst/>
            <a:ahLst/>
            <a:rect l="l" t="t" r="r" b="b"/>
            <a:pathLst>
              <a:path w="200" h="1892">
                <a:moveTo>
                  <a:pt x="0" y="1892"/>
                </a:moveTo>
                <a:lnTo>
                  <a:pt x="0" y="149"/>
                </a:lnTo>
                <a:lnTo>
                  <a:pt x="200" y="0"/>
                </a:lnTo>
                <a:lnTo>
                  <a:pt x="200" y="1742"/>
                </a:lnTo>
                <a:lnTo>
                  <a:pt x="0" y="18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560" y="2463840"/>
            <a:ext cx="47228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8560" y="3643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3120" y="4135320"/>
            <a:ext cx="380880" cy="112572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2560" y="37688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35320" y="3997440"/>
            <a:ext cx="3826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656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7880" y="2575080"/>
            <a:ext cx="360360" cy="2685960"/>
          </a:xfrm>
          <a:prstGeom prst="rect">
            <a:avLst/>
          </a:prstGeom>
          <a:solidFill>
            <a:srgbClr val="bbe0e3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000" y="22194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95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132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0560" y="5388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1440" y="539604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040" y="5396040"/>
            <a:ext cx="99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amp;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4040" y="5388120"/>
            <a:ext cx="97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53881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5360" y="14191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O questionnaire survey in 2006 among regional advisors from 75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LI-FIND-GDF-UNITAID project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oals and objective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ntrol of MDR-TB through expanding and accelerating access to new diagnostic technologies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se tools are properly integrated within TB contro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access at lowest possible price to diagnostic instruments, reagents, and supplies through UNITAI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UNITAID support with additional resour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talize and modernize national referenc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raining in good laboratory practice, biosafety, and new diagnos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sustained technical assistance to ensure proper use of diagnostic too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33:34Z</dcterms:created>
  <dc:creator>el</dc:creator>
  <dc:description/>
  <dc:language>en-US</dc:language>
  <cp:lastModifiedBy>Karin Weyer</cp:lastModifiedBy>
  <dcterms:modified xsi:type="dcterms:W3CDTF">2008-10-29T07:11:43Z</dcterms:modified>
  <cp:revision>118</cp:revision>
  <dc:subject/>
  <dc:title>GLI/GDF/FIND discussion with UNITAID</dc:title>
</cp:coreProperties>
</file>