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3AE-1190-43E3-9E62-0B5839DE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85FE-EC25-458E-80EE-ACF961FC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D0B-FE31-45F0-BE44-BA8E5C95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C4FE-3659-4AC5-9B28-BC4E5621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C6A-F8C9-4F00-968F-9FC72FBA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D42-4253-4DB4-ADB5-20DCE695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ED1B-792C-4094-84EB-EFA08730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0200-FD51-436D-8537-21F25CB2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7FD6-4EA9-4F1F-A1E1-697BB9A5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639-90F1-4B9C-B88C-7722D462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24C-5731-49F2-BF69-BFCD526B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D43-2F09-4DC9-B304-EAD90003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4347-A542-4279-A58F-AA6966C32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383840"/>
            <a:ext cx="9144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nisterial Meeting to Reach the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llennium Development Goals for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Confronting MDR-TB and XDR-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-3 April 2009, Beijing,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top TB Partnership Coordinating Board Mee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8-29 October 2008,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ost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9280" y="1700280"/>
            <a:ext cx="864072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ific Health Summit on MDR-TB, June 2009, Seattle, USA, with focus on priv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on Asia Pacific Region Conference on MDR-TB, September 2009, Beijing,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Conference on Lung Health, October 2009, Cancun,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ld Health Assembly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untry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op TB Coordinating Board is asked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 the aims and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all Partners' support to WHO and ensure highest level participation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high-level missions to selected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Partners to mobilize political commitment and support technical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technical Partners to address policies towards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contribution of Partners' Forum to support development of a Call for Action from Civil Soc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 in development of "asks" to all key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5640" y="1628640"/>
            <a:ext cx="5003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,000 new MDR-TB case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DR-TB in 50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5% of MDR-TB cases detected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of MDR-TB cases projected to be treated in 2008 and 3% only under GLC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85% of the global MDR-TB burden in 27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27640" y="2060640"/>
            <a:ext cx="3565440" cy="41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5040" y="6524640"/>
            <a:ext cx="4698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Global TB Report, 2008 and IV Global DRS Report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0" y="2992320"/>
          <a:ext cx="450072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92320"/>
                    <a:ext cx="45007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lobal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920" y="1523880"/>
          <a:ext cx="5761080" cy="406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0" y="1523880"/>
                    <a:ext cx="5761080" cy="40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7 high MDR-TB burden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08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c Republic of Co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zakhst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 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2360" y="1844640"/>
            <a:ext cx="33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ji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Mol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rgyz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a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rasil ,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8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DR-TB Task Force recommended W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convene a meeting with the 27 high priority MDR-TB countries to increase political commitment and tackl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May 2008: Stop TB CB supported th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STA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 urged WHO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ise political commitment and action in the 27 priority MDR-TB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the Global Leaders Forum on HIV/TB defined MDR-TB and XDR-TB as threats to global health security and to HIV/AID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Past experiences on DOTS Expansion globally (Amsterdam &amp; Cairo 2000) and in China (Xi'an 2004) show effectiveness of political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ms of the ministerial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rengthen political commitment and build engagement by governments and international community to control M/XDR-TB through better TB control and M/XDR-TB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catalytically the event to (i) support countries to develop M/XDR-TB control plans and (ii) address th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11280" y="1916280"/>
            <a:ext cx="3209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920" y="184464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ive towards solutions to bottlenecks in area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TB SLD drug market, quality, procurement, and ration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apacity and rapid 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ection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and models of car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of private pract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and community right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16360" y="1928880"/>
            <a:ext cx="43563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re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rching strategy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lenecks consultations and pa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ling to predict evolution of epidem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ner engagement and "ask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y level advocacy and technical assistance for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civil society and PF call f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ation to be develo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ijin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 by WHO with the Ministry of Health of the People's Republic of China and Bill &amp; Melinda Gates Foun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bout 180 participants invited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erial delegations, multilateral agencies, bilateral donors, technical agencies and NGOs, civil society, research community and corpor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eting agenda out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: High-level political meeting involving high-profile leaders and Ministers from the 27 countries+. Beijing declaration endor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y 2 &amp;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Technical meeting between Ministry of Health officials, NTP managers, and partners addressing planning and country-specific bottlen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2:21:39Z</dcterms:created>
  <dc:creator>bailliep</dc:creator>
  <dc:description/>
  <dc:language>en-US</dc:language>
  <cp:lastModifiedBy>raviglionem</cp:lastModifiedBy>
  <dcterms:modified xsi:type="dcterms:W3CDTF">2008-10-23T19:48:57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