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8FB-B227-4157-AD8F-4AB71F7D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855-1A0F-4123-98B1-2BB58A20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408-93B5-4FF5-A4C9-9783C211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DD6-E361-4DAA-9F26-D295E3A9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250E-7301-4102-9CD8-BA181459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3E5E-944C-4137-9142-6CF8FD2B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6EC-4038-4069-BAF5-3F02CFAB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8723-57D1-4272-981E-601DE1A0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9AF-AB45-421E-B33E-44F15585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8C9-7D2A-4EE5-82BF-7EBAA1D8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4E5-AD08-457C-ACA7-2C8CF00A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F56E-380B-450E-97B3-8708996E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C9F2-F37F-4F33-ADEB-4F2FFB9FA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toptb_logo_sm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17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lobal Advocacy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3960"/>
            <a:ext cx="64008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ul Sommer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ir, ACSM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gamoyo, Republic of Tan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-29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 Advocacy Prioriti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heme and Calendar is to focus and better coordinate Partners'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nce these are endorsed by the Coordinating Board, Advocacy Partners will agree on taking leading roles in vario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82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overarching theme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 are finding the ‘missing’ TB ca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of estimated TB cases are not in contact with national TB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will have no access to appropriate healthcare; others will be in the private sector or other parts of the public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reflects success. Basic DOTS programmes are working. Now we can focus on that part of the task that previously was second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is relevant to virtually every side of the Partnership: DOTS expansion, ACSM, MDR, TB/HIV, New tools to detect and treat, Lab strengthening, Poverty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967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663560"/>
            <a:ext cx="7736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2008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mako Ministerial Forum on Research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Global Fund Partnership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l. Conference on AIDS and STI's in Afr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C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Economic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North America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ch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Afric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'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ril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7 High-Burden MDR-TB Countrie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ring Meeting of World Bank and I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World Congress on Public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onwealth Health Minister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Health Council 3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Europ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8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ne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cific Health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Union Parliamentary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8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ly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COS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ngress on Tropical Medici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tl.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nton Global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, Mosco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/I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Fund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AID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ion World Conference on Lu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30880" y="6143760"/>
            <a:ext cx="291312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6993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dvocacy Calend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Paul</cp:lastModifiedBy>
  <cp:lastPrinted>2002-05-31T10:14:11Z</cp:lastPrinted>
  <dcterms:modified xsi:type="dcterms:W3CDTF">2008-10-25T14:31:03Z</dcterms:modified>
  <cp:revision>1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2811480</vt:r8>
  </property>
  <property fmtid="{D5CDD505-2E9C-101B-9397-08002B2CF9AE}" pid="3" name="_AuthorEmail">
    <vt:lpwstr>HernandezH@who.int</vt:lpwstr>
  </property>
  <property fmtid="{D5CDD505-2E9C-101B-9397-08002B2CF9AE}" pid="4" name="_AuthorEmailDisplayName">
    <vt:lpwstr>Hernandez, L. Homero</vt:lpwstr>
  </property>
  <property fmtid="{D5CDD505-2E9C-101B-9397-08002B2CF9AE}" pid="5" name="_EmailSubject">
    <vt:lpwstr>Advocacy Theme and Critical Events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