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move the slide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6C90-75E0-41B9-98AE-E2D58CB10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Global TBTEAM Secretariat is being housed in the Stop TB department (TB strategies and health systems) at WHO/H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a similar way as the secretariats of the Stop TB Partnership working groups  (DEWG, TB/HIV, and MDR-T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regional TBTEAM secretariat is housed within WHO Regional office as part of the regional STBP/Interagency coordinating committee  (WPRO, SEARO, EURO) + AFRO, AM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national TBTEAM secretariat is housed within the NTP or National ICC or main partner organization based in the country (WHO, Union, CDC, GLRA, KNCV, Damien Foundation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10"/>
          <a:stretch/>
        </p:blipFill>
        <p:spPr>
          <a:xfrm>
            <a:off x="254160" y="6381720"/>
            <a:ext cx="1149120" cy="352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11"/>
          <a:stretch/>
        </p:blipFill>
        <p:spPr>
          <a:xfrm>
            <a:off x="7451640" y="6453360"/>
            <a:ext cx="136836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8280" y="2349360"/>
            <a:ext cx="3160440" cy="3049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0616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and Global Fund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15th Stop TB Partnership Coordinating Board 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28-29 October 2008, Bagamoyo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556416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 Leopold Blanc, Coordinator, TB Strategy and Health Systems, Stop TB Department,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223920"/>
            <a:ext cx="66564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Linking countries with technical assistance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Echnical Assistance Mechanism of the Stop TB Partner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BTEAM ensures that sufficient access to rational, high quality technical assistance allows countries to implemen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international standards for TB control and care in line with the Stop TB Strategy and to achieve global targets for TB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vides platform for coordination of TB technical as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spcAft>
                <a:spcPts val="1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TEAM tools: missions/events, TB experts, partner ma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Based national coordination, facilitated by regional coord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Network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op TB partners (National TB Programmes, Local and international NGOs, Financial partners, WHO at country, regional and global leve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atch needs to existing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obilize funds where there are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752480"/>
            <a:ext cx="1981440" cy="1447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6699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61815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structure at country, regional and global level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90720" cy="9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1523880"/>
            <a:ext cx="723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5373720"/>
            <a:ext cx="2819520" cy="1167480"/>
          </a:xfrm>
          <a:prstGeom prst="rect">
            <a:avLst/>
          </a:prstGeom>
          <a:solidFill>
            <a:srgbClr val="000066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COUNTRY TB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(National ICC; Stop TB 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508640"/>
            <a:ext cx="2514600" cy="86256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NTP, part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75248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Regional I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352680"/>
            <a:ext cx="221004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W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312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DE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220968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 WHO/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00200" y="3200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81280"/>
            <a:ext cx="37339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0360" y="172080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26360" y="1936800"/>
            <a:ext cx="96696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2360" y="2152800"/>
            <a:ext cx="9669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0" y="2368440"/>
            <a:ext cx="9669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4000" y="258444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10880" y="170028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1916280"/>
            <a:ext cx="10382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0160" y="2637000"/>
            <a:ext cx="9669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5800" y="2421000"/>
            <a:ext cx="966960" cy="36828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1800" y="213372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692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720" y="4653000"/>
            <a:ext cx="15019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.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6021360"/>
            <a:ext cx="914400" cy="627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5013360"/>
            <a:ext cx="13845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914400" cy="914400"/>
          </a:xfrm>
          <a:prstGeom prst="ellipse">
            <a:avLst/>
          </a:prstGeom>
          <a:solidFill>
            <a:srgbClr val="100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71280" y="2997360"/>
            <a:ext cx="100836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068640"/>
            <a:ext cx="100800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84360" y="220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0" y="5681520"/>
            <a:ext cx="21495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f.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440" y="6237360"/>
            <a:ext cx="637920" cy="3682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64500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5516640"/>
            <a:ext cx="15141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437000"/>
            <a:ext cx="12556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CM   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547280" y="4941360"/>
            <a:ext cx="172908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0" y="0"/>
          <a:ext cx="5148360" cy="38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14836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7"/>
          <p:cNvGraphicFramePr/>
          <p:nvPr/>
        </p:nvGraphicFramePr>
        <p:xfrm>
          <a:off x="2916360" y="1916280"/>
          <a:ext cx="622764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1916280"/>
                    <a:ext cx="6227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5545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Proposal Preparation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Fund to Fight AIDS, TB and Malari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most important source of external funding for TB control representing up to 7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p TB Strategy provides the framework to plan activities within Global Fund TB proposals that fit within the overall framework of the Global Plan to Stop 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Plan to Stop TB, 2006-2015, provides costed targ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/Stop TB Strategy Planning Matrix/Frameworks, Budgeting Tool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d technical assistance are designed to help TB proposals align planning for all components of the Stop TB Strategy with the Global Plan to Stop TB 2006-201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2760" y="1197000"/>
            <a:ext cx="4017960" cy="566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076640"/>
            <a:ext cx="28908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18000" y="1197000"/>
            <a:ext cx="4270320" cy="566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1280" y="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</a:rPr>
              <a:t>Stop TB Strategy planning/budge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4268" r="44547" b="8688"/>
          <a:stretch/>
        </p:blipFill>
        <p:spPr>
          <a:xfrm>
            <a:off x="2627280" y="3409920"/>
            <a:ext cx="4537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Global Fund financing and proposal approval rate by round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341360"/>
          <a:ext cx="7201080" cy="55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201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74840" y="616428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umber of TB proposals approv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048360" cy="71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Ambitious Round 9 for TB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78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Round 9 TB re-submission workshop, 17-21 November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-reading workshop for new submissions (Mock TR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January 2009, 1 workshop per 6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untry visit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least for new submissions     (~ 10 glob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and country political commitment for ambitious Rou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9 TB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961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Conclusions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70172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o prepare Global Fund TB proposals that are successful an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aligned wi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Stop TB Strategy and Global Plan to Stop TB, use the WHO Stop TB Planning Matrix &amp; Frameworks and Budgeting To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 with technical assistance facilitated through TB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More civil society engagement in planning and budge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B proposals can be more ambitious in asking for larger budgets especially on laboratory/diagnosis, MDR, Infection control and social aspects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07:29Z</dcterms:created>
  <dc:creator>godfreya</dc:creator>
  <dc:description/>
  <dc:language>en-US</dc:language>
  <cp:lastModifiedBy>BlancL</cp:lastModifiedBy>
  <dcterms:modified xsi:type="dcterms:W3CDTF">2008-10-28T04:26:48Z</dcterms:modified>
  <cp:revision>3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6726774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DRAFT ppt for Coordinating Board meeting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