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97520" cy="9929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1553">
                <a:moveTo>
                  <a:pt x="5" y="0"/>
                </a:moveTo>
                <a:arcTo wR="5" hR="5" stAng="16200000" swAng="-5400000"/>
                <a:lnTo>
                  <a:pt x="0" y="31548"/>
                </a:lnTo>
                <a:arcTo wR="5" hR="5" stAng="10800000" swAng="-5400000"/>
                <a:lnTo>
                  <a:pt x="21595" y="3155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86BE0F-B564-4CDF-B740-0276F472C4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77880" y="4716360"/>
            <a:ext cx="54417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nhanced, dynamic Partnership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unt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- better case detection, demand forecasting &amp; quantification of 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DF/GLC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– global needs assessment, review, submit and approve countries' requests for grants and place order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LI &amp; FIND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king modern diagnostics available will be a key component in establishing a sustainable impact on the detection and management of MDR-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nufacture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– expand number and quality of drugs, improve lead-times, produce and maintain safety/strategic stockp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ITAID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actively investigate quality, cost and supply dynamics of API and intermediaries; continue and augment funding for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Line and MRD/XDR-TB; seek and promote commitment by other donors to TB treatment and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20880" y="746280"/>
            <a:ext cx="496080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"There is a ‘fundamental imbalance’ with the world spending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900bn</a:t>
            </a:r>
            <a:r>
              <a:rPr b="0" i="1" lang="en-GB" sz="1200" spc="-1" strike="noStrike">
                <a:solidFill>
                  <a:srgbClr val="f79646"/>
                </a:solidFill>
                <a:latin typeface="Arial"/>
                <a:ea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n defense; around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325b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on agricultural subsidies and only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50 to 60b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on aid.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James Wolfensoh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ormer President of the World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AACE34-B092-4461-9CD3-79024C12D5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00A71F-FE43-4E6C-8548-E665CEEF0F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31"/>
          <p:cNvSpPr/>
          <p:nvPr/>
        </p:nvSpPr>
        <p:spPr>
          <a:xfrm>
            <a:off x="38480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E908-496C-461E-84D6-3E8D8DC30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800000"/>
                </a:solidFill>
                <a:latin typeface="Arial"/>
                <a:ea typeface="Arial"/>
              </a:rPr>
              <a:t>Fills some of the funding gap by targeting niche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price reduction on pediatric (- 40%) and 2</a:t>
            </a:r>
            <a:r>
              <a:rPr b="0" i="1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line ARVs (-25% to – 50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first fixed dose combinations for pediatric ARVs in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support to WHO program for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prequalification of 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treatments already provided in a number of countries for ARV, TB and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treatments already provided in a number of countries for ARV, TB and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 Fun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UBERCULOSIS (US$146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QUALIFICATION (US$55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LOBAL FUND Round 6, Phase 1 (US$52million) of which the MDR-TB component project value is US$10.3million INCLUDED IN THE 146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IV/AIDS (US$280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LARIA (US$190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8AF570-2530-41E9-96D5-85DA6AC3A9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DR-TB DRUGS ARE OFTEN PRODUCED TO ORDER IN SMALL BATCHES LEADING TO HIGH PRICES AND LONGER LEAD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Higher or more stable volumes would allow manufacturers to move from a batch-wise "produce to order" model to more continuous production and warehous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Given the current situation, where suppliers do not hold large inventories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UNITAID 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an improve lead times by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unding partners to build larger drug stockpiles: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roviding a finance facility to place advanced orders on behalf of count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trategic Rotating Stockpile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stablished in mid 2007 to prevent shortage or delays in receiving dru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bje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o respond to emergency situations, risks of stock-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elp UNITAID-funded MDR-TB programs to scale-up rapi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The Augmentation of Strategic Rotating Stockpile (SRS) Approved by the Board in July 2008 w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celeration of the pace at which larger volumes of second-line TB drugs are made available to GLC approved projects/programmes and the pace at which patients gain access to treatmen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abling more rapid scale-up of MDR-TB treatment than would otherwise have been possible and enable GLC approved projects/programmes to meet their treatment enrolment targe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In the case of Global Fund Grantees, meeting such targets has a positive externalit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): it ensures that Global Fund disbursements, which are performance based, continue and are not suspend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Establishment of a Strategic Revolving F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sures stable, predictable funding by UNITA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ables countries to more accurately forecast their needs and GDF to place advance orders for GLC approved projects/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Requires manufacturers to commit to heightened R&amp;D and supply scale 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ample of how this will wor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the UNITAID facility would fund orders for countries who have secured, but not yet received Global Fund grants – these countries would then reimburse the facility once they receive 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0DA9-B2E6-4C59-9D23-A0559695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C36A-AA35-4629-9C54-A91B661A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EAEF-622D-4C09-AC6E-780FAE58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0693-6728-4F64-879D-9EF7FF8D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0D2C-DEBA-4ED2-8672-E74B195F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6351-F9C1-46B5-80FD-D5674D0A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FBDA-CF3C-4E13-86FE-9704138A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7C38-3CE4-4AFE-BA7B-98B90F6F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44E2-6C83-463B-92ED-7F1131E2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875E-69C8-498F-AAB3-D3E5BF03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0983-C988-4B3B-AF7D-078CF722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9997-5EB3-46F3-AD44-95E04F6E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0AD5-2DE9-4A40-A78E-02CC3C3E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2713-B92B-47BC-8207-8C28DFCB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B724-FE7C-4EA2-B0D3-F0678F0E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D44A-DF34-484A-97F5-51CC6E77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1021-B648-454E-8FA8-4ED4DECD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F0F4-0CDE-4C35-B331-3903AC0D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CF00-2B70-4128-8EBA-00F8E76E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9C56-EE0B-47EB-97A0-3AEDE1EE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389D-2277-412F-A36B-E3E1A931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1D30-3C66-41DC-94EB-54FA7F18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C8CD-4038-41F7-9EA0-AC54B27C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CE4A-9C77-49B8-94BA-389BC823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DE4D3C-6976-4484-ADF5-80CD83C5D3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9F313E9-78F7-455C-83FB-4AD3D79B7E82}" type="slidenum"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4626" t="0" r="50382" b="77393"/>
          <a:stretch/>
        </p:blipFill>
        <p:spPr>
          <a:xfrm>
            <a:off x="326880" y="276120"/>
            <a:ext cx="2905200" cy="22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462800" y="5599080"/>
            <a:ext cx="312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1092240"/>
            <a:ext cx="655308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9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le of UNITAID in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 TB dru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and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 algn="ctr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-73080"/>
            <a:ext cx="9144000" cy="981000"/>
            <a:chOff x="0" y="-73080"/>
            <a:chExt cx="9144000" cy="981000"/>
          </a:xfrm>
        </p:grpSpPr>
        <p:sp>
          <p:nvSpPr>
            <p:cNvPr id="95" name=""/>
            <p:cNvSpPr/>
            <p:nvPr/>
          </p:nvSpPr>
          <p:spPr>
            <a:xfrm>
              <a:off x="0" y="-73080"/>
              <a:ext cx="9144000" cy="981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-73080"/>
              <a:ext cx="91440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6948360" y="-100080"/>
            <a:ext cx="2195640" cy="105588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395280" y="4508640"/>
            <a:ext cx="4392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5280" indent="-92160">
              <a:lnSpc>
                <a:spcPct val="100000"/>
              </a:lnSpc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top TB Partnership Coordinating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280" indent="-92160">
              <a:lnSpc>
                <a:spcPct val="80000"/>
              </a:lnSpc>
              <a:spcBef>
                <a:spcPts val="3149"/>
              </a:spcBef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Bagamoyo, 28-29 October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921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rge Bermudez, Executive-Secretary, UNIT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3367080" cy="44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440"/>
            <a:ext cx="9144000" cy="905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dfffa"/>
                </a:solidFill>
                <a:latin typeface="Arial"/>
              </a:rPr>
              <a:t>Second-line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69" name=""/>
          <p:cNvGrpSpPr/>
          <p:nvPr/>
        </p:nvGrpSpPr>
        <p:grpSpPr>
          <a:xfrm>
            <a:off x="539640" y="1557360"/>
            <a:ext cx="8067960" cy="3730680"/>
            <a:chOff x="539640" y="1557360"/>
            <a:chExt cx="8067960" cy="3730680"/>
          </a:xfrm>
        </p:grpSpPr>
        <p:sp>
          <p:nvSpPr>
            <p:cNvPr id="170" name=""/>
            <p:cNvSpPr/>
            <p:nvPr/>
          </p:nvSpPr>
          <p:spPr>
            <a:xfrm>
              <a:off x="6156360" y="3728880"/>
              <a:ext cx="24494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caling up of MDR-TB patients diagno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(3 fold increase over current situation - up to  74,00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67280" y="3728880"/>
              <a:ext cx="20890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95640" y="3728880"/>
              <a:ext cx="1871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cure access at lowest possible price to diagnostics, reagents, and suppli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9640" y="3728880"/>
              <a:ext cx="1656000" cy="1557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Diagnost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95640" y="1557360"/>
              <a:ext cx="187164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95640" y="2317680"/>
              <a:ext cx="18716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stablishment of stockp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caling-up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56360" y="1557360"/>
              <a:ext cx="244944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otenti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medium ter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67280" y="1557360"/>
              <a:ext cx="208908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otent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short ter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9640" y="1557360"/>
              <a:ext cx="165600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56360" y="2317680"/>
              <a:ext cx="24494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ing the need for diagnostic capacity at country lev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ce re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67280" y="2317680"/>
              <a:ext cx="208908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duction of delivery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lead ti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Q-incentiv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ce contain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2317680"/>
              <a:ext cx="1656000" cy="1411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MDR-TB</a:t>
              </a:r>
              <a:br>
                <a:rPr sz="2000"/>
              </a:b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(2</a:t>
              </a:r>
              <a:r>
                <a:rPr b="1" lang="en-GB" sz="2000" spc="-1" strike="noStrike" baseline="30000">
                  <a:solidFill>
                    <a:srgbClr val="ffffff"/>
                  </a:solidFill>
                  <a:latin typeface="Arial"/>
                </a:rPr>
                <a:t>nd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lin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557360"/>
              <a:ext cx="806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528624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1557360"/>
              <a:ext cx="180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05800" y="1557360"/>
              <a:ext cx="180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9564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6728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5636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231768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372888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nership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4360" y="2548440"/>
            <a:ext cx="175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51640" y="4275360"/>
            <a:ext cx="99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DF/G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96" name=""/>
          <p:cNvGrpSpPr/>
          <p:nvPr/>
        </p:nvGrpSpPr>
        <p:grpSpPr>
          <a:xfrm>
            <a:off x="1441440" y="981000"/>
            <a:ext cx="5446440" cy="5688000"/>
            <a:chOff x="1441440" y="981000"/>
            <a:chExt cx="5446440" cy="5688000"/>
          </a:xfrm>
        </p:grpSpPr>
        <p:sp>
          <p:nvSpPr>
            <p:cNvPr id="197" name=""/>
            <p:cNvSpPr/>
            <p:nvPr/>
          </p:nvSpPr>
          <p:spPr>
            <a:xfrm>
              <a:off x="1596960" y="981000"/>
              <a:ext cx="5137200" cy="5688000"/>
            </a:xfrm>
            <a:custGeom>
              <a:avLst/>
              <a:gdLst>
                <a:gd name="textAreaLeft" fmla="*/ 360 w 5137200"/>
                <a:gd name="textAreaRight" fmla="*/ 5136840 w 5137200"/>
                <a:gd name="textAreaTop" fmla="*/ 360 h 5688000"/>
                <a:gd name="textAreaBottom" fmla="*/ 5687640 h 5688000"/>
              </a:gdLst>
              <a:ahLst/>
              <a:rect l="textAreaLeft" t="textAreaTop" r="textAreaRight" b="textAreaBottom"/>
              <a:pathLst>
                <a:path w="21600" h="23916">
                  <a:moveTo>
                    <a:pt x="6" y="0"/>
                  </a:moveTo>
                  <a:arcTo wR="6" hR="6" stAng="16200000" swAng="-5400000"/>
                  <a:lnTo>
                    <a:pt x="0" y="23910"/>
                  </a:lnTo>
                  <a:arcTo wR="6" hR="6" stAng="10800000" swAng="-5400000"/>
                  <a:lnTo>
                    <a:pt x="21594" y="23916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05240" y="1639800"/>
              <a:ext cx="3321000" cy="3321000"/>
            </a:xfrm>
            <a:custGeom>
              <a:avLst/>
              <a:gdLst>
                <a:gd name="textAreaLeft" fmla="*/ 0 w 3321000"/>
                <a:gd name="textAreaRight" fmla="*/ 3321360 w 332100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7200000">
              <a:off x="2958480" y="242712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4400000">
              <a:off x="2049120" y="242712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75280" y="224784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Countri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02080" y="497988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GDF/GLC/GLI/FIN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22400" y="224964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11440" y="317016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2"/>
            <a:srcRect l="0" t="10631" r="4371" b="8457"/>
            <a:stretch/>
          </p:blipFill>
          <p:spPr>
            <a:xfrm>
              <a:off x="2820960" y="3178080"/>
              <a:ext cx="2689200" cy="1292400"/>
            </a:xfrm>
            <a:prstGeom prst="rect">
              <a:avLst/>
            </a:prstGeom>
            <a:ln w="9360">
              <a:solidFill>
                <a:srgbClr val="f8f8f8"/>
              </a:solidFill>
              <a:miter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errey consensus on financing for development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ch 2002, 50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DG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ew York, 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 countries discussing innovative ways to financ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lobal Action against Hunger and Poverty launched by President Lul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eptember 2004, 111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is Declaration on Aid Effectiveness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ch 2005, 100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Health 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ization, Trade and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ex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or UNITA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258920" y="5805360"/>
            <a:ext cx="763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-2700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95280" y="1700280"/>
            <a:ext cx="33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stablished in 2006 by founding countries: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Chile, France, Norway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4797360"/>
            <a:ext cx="30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Now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upported by 28 countries and the Gates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1583640" y="3609000"/>
            <a:ext cx="720720" cy="503280"/>
          </a:xfrm>
          <a:prstGeom prst="rightArrow">
            <a:avLst>
              <a:gd name="adj1" fmla="val 50000"/>
              <a:gd name="adj2" fmla="val 35801"/>
            </a:avLst>
          </a:prstGeom>
          <a:solidFill>
            <a:srgbClr val="fcbf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4719600" cy="3776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airbus"/>
          <p:cNvPicPr/>
          <p:nvPr/>
        </p:nvPicPr>
        <p:blipFill>
          <a:blip r:embed="rId1"/>
          <a:stretch/>
        </p:blipFill>
        <p:spPr>
          <a:xfrm>
            <a:off x="7020000" y="5157720"/>
            <a:ext cx="1822320" cy="11289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304200" y="457200"/>
            <a:ext cx="6159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act of the air tickets levy: an 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43000" y="1270080"/>
          <a:ext cx="6703920" cy="3908520"/>
        </p:xfrm>
        <a:graphic>
          <a:graphicData uri="http://schemas.openxmlformats.org/drawingml/2006/table">
            <a:tbl>
              <a:tblPr/>
              <a:tblGrid>
                <a:gridCol w="2081160"/>
                <a:gridCol w="2311560"/>
                <a:gridCol w="2311200"/>
              </a:tblGrid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 received on each ticket by UNITAID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n Fran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onomy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class or 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49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ight in France or in Euro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tional fl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22"/>
          <p:cNvSpPr/>
          <p:nvPr/>
        </p:nvSpPr>
        <p:spPr>
          <a:xfrm>
            <a:off x="826920" y="5257800"/>
            <a:ext cx="664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An aircraft with 300 passengers on board leaving from Paris will cover the treatment for 1 person with multi drug resistant tuberculosis (MDR-TB), which is very expensive (approx. 4.000 $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3"/>
          <p:cNvSpPr/>
          <p:nvPr/>
        </p:nvSpPr>
        <p:spPr>
          <a:xfrm>
            <a:off x="3289320" y="2666880"/>
            <a:ext cx="2209680" cy="7574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Antimalarial trea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for 2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4"/>
          <p:cNvSpPr/>
          <p:nvPr/>
        </p:nvSpPr>
        <p:spPr>
          <a:xfrm>
            <a:off x="5587920" y="4076640"/>
            <a:ext cx="2210040" cy="8650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1 HIV-positive ch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under trea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for 1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3325680" y="334152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flight Paris - Ber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5578200" y="484488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flight Paris - Dak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1092240" y="6202440"/>
            <a:ext cx="713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7d"/>
                </a:solidFill>
                <a:latin typeface="Arial"/>
              </a:rPr>
              <a:t>Furthermore… no economic impact on air traf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8321760" y="448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7"/>
          <p:cNvSpPr/>
          <p:nvPr/>
        </p:nvSpPr>
        <p:spPr>
          <a:xfrm>
            <a:off x="0" y="0"/>
            <a:ext cx="9144000" cy="905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Impact of the levy: the French exe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9" descr=""/>
          <p:cNvPicPr/>
          <p:nvPr/>
        </p:nvPicPr>
        <p:blipFill>
          <a:blip r:embed="rId2"/>
          <a:srcRect l="0" t="10631" r="4371" b="8457"/>
          <a:stretch/>
        </p:blipFill>
        <p:spPr>
          <a:xfrm>
            <a:off x="7262640" y="0"/>
            <a:ext cx="1881360" cy="9032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1413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ble, predictable and sustai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burses funds rapidly for greater and faster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s-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air ticket le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8101080" cy="905040"/>
            <a:chOff x="0" y="0"/>
            <a:chExt cx="8101080" cy="90504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8101080" cy="905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173160"/>
              <a:ext cx="8101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123840"/>
                  <a:tab algn="l" pos="93672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Innovative fun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616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markets and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</a:rPr>
              <a:t>reduce pr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ore drugs for same bud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medicines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</a:rPr>
              <a:t>better adap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atient needs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ntribute to addressin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quality iss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(incentive for manufacturers to invest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  <a:ea typeface="MS PGothic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apid deli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  <a:ea typeface="MS PGothic"/>
              </a:rPr>
              <a:t>medicines and diagno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o the countries in ne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(basic model - products instead of fund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-2700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re than 92 countries already receiving UNITAID suppor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argeted ni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201080" y="0"/>
            <a:ext cx="1942920" cy="9334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34" name=""/>
          <p:cNvGrpSpPr/>
          <p:nvPr/>
        </p:nvGrpSpPr>
        <p:grpSpPr>
          <a:xfrm>
            <a:off x="222120" y="2363760"/>
            <a:ext cx="8713800" cy="2016000"/>
            <a:chOff x="222120" y="2363760"/>
            <a:chExt cx="8713800" cy="201600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222120" y="2363760"/>
              <a:ext cx="288144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174840" y="2363760"/>
              <a:ext cx="288144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6127920" y="2363760"/>
              <a:ext cx="2808000" cy="20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53100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HIV / A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53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8372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a5f00"/>
                </a:solidFill>
                <a:latin typeface="Arial"/>
              </a:rPr>
              <a:t>Mal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a5f00"/>
                </a:solidFill>
                <a:latin typeface="Arial"/>
              </a:rPr>
              <a:t>22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2212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Tubercul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58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5111640"/>
            <a:ext cx="18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aediatric A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Second line A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MT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50846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77080" y="5084640"/>
            <a:ext cx="172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First line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ediatric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5157720"/>
            <a:ext cx="14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4080" y="5156280"/>
            <a:ext cx="18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97240" y="5141880"/>
            <a:ext cx="180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08200" y="6256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9500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Pre-qualification of medicines and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Dynamics -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547640" y="980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cious cycle limiting the MDR-TB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407400">
            <a:off x="2916000" y="1989000"/>
            <a:ext cx="3573360" cy="1901880"/>
          </a:xfrm>
          <a:custGeom>
            <a:avLst/>
            <a:gdLst/>
            <a:ahLst/>
            <a:rect l="l" t="t" r="r" b="b"/>
            <a:pathLst>
              <a:path w="1553" h="753">
                <a:moveTo>
                  <a:pt x="983" y="584"/>
                </a:moveTo>
                <a:lnTo>
                  <a:pt x="1417" y="541"/>
                </a:lnTo>
                <a:lnTo>
                  <a:pt x="1552" y="150"/>
                </a:lnTo>
                <a:lnTo>
                  <a:pt x="1447" y="227"/>
                </a:lnTo>
                <a:lnTo>
                  <a:pt x="1398" y="186"/>
                </a:lnTo>
                <a:lnTo>
                  <a:pt x="1347" y="149"/>
                </a:lnTo>
                <a:lnTo>
                  <a:pt x="1294" y="116"/>
                </a:lnTo>
                <a:lnTo>
                  <a:pt x="1238" y="87"/>
                </a:lnTo>
                <a:lnTo>
                  <a:pt x="1181" y="61"/>
                </a:lnTo>
                <a:lnTo>
                  <a:pt x="1122" y="41"/>
                </a:lnTo>
                <a:lnTo>
                  <a:pt x="1060" y="23"/>
                </a:lnTo>
                <a:lnTo>
                  <a:pt x="999" y="12"/>
                </a:lnTo>
                <a:lnTo>
                  <a:pt x="936" y="4"/>
                </a:lnTo>
                <a:lnTo>
                  <a:pt x="873" y="0"/>
                </a:lnTo>
                <a:lnTo>
                  <a:pt x="810" y="2"/>
                </a:lnTo>
                <a:lnTo>
                  <a:pt x="748" y="8"/>
                </a:lnTo>
                <a:lnTo>
                  <a:pt x="685" y="19"/>
                </a:lnTo>
                <a:lnTo>
                  <a:pt x="624" y="34"/>
                </a:lnTo>
                <a:lnTo>
                  <a:pt x="564" y="53"/>
                </a:lnTo>
                <a:lnTo>
                  <a:pt x="506" y="76"/>
                </a:lnTo>
                <a:lnTo>
                  <a:pt x="449" y="104"/>
                </a:lnTo>
                <a:lnTo>
                  <a:pt x="395" y="137"/>
                </a:lnTo>
                <a:lnTo>
                  <a:pt x="342" y="172"/>
                </a:lnTo>
                <a:lnTo>
                  <a:pt x="294" y="212"/>
                </a:lnTo>
                <a:lnTo>
                  <a:pt x="248" y="254"/>
                </a:lnTo>
                <a:lnTo>
                  <a:pt x="205" y="301"/>
                </a:lnTo>
                <a:lnTo>
                  <a:pt x="165" y="350"/>
                </a:lnTo>
                <a:lnTo>
                  <a:pt x="130" y="401"/>
                </a:lnTo>
                <a:lnTo>
                  <a:pt x="98" y="456"/>
                </a:lnTo>
                <a:lnTo>
                  <a:pt x="71" y="512"/>
                </a:lnTo>
                <a:lnTo>
                  <a:pt x="46" y="570"/>
                </a:lnTo>
                <a:lnTo>
                  <a:pt x="27" y="631"/>
                </a:lnTo>
                <a:lnTo>
                  <a:pt x="11" y="692"/>
                </a:lnTo>
                <a:lnTo>
                  <a:pt x="0" y="752"/>
                </a:lnTo>
                <a:lnTo>
                  <a:pt x="222" y="608"/>
                </a:lnTo>
                <a:lnTo>
                  <a:pt x="440" y="749"/>
                </a:lnTo>
                <a:lnTo>
                  <a:pt x="455" y="710"/>
                </a:lnTo>
                <a:lnTo>
                  <a:pt x="474" y="670"/>
                </a:lnTo>
                <a:lnTo>
                  <a:pt x="498" y="632"/>
                </a:lnTo>
                <a:lnTo>
                  <a:pt x="525" y="596"/>
                </a:lnTo>
                <a:lnTo>
                  <a:pt x="556" y="563"/>
                </a:lnTo>
                <a:lnTo>
                  <a:pt x="589" y="533"/>
                </a:lnTo>
                <a:lnTo>
                  <a:pt x="626" y="507"/>
                </a:lnTo>
                <a:lnTo>
                  <a:pt x="665" y="485"/>
                </a:lnTo>
                <a:lnTo>
                  <a:pt x="706" y="467"/>
                </a:lnTo>
                <a:lnTo>
                  <a:pt x="749" y="453"/>
                </a:lnTo>
                <a:lnTo>
                  <a:pt x="793" y="443"/>
                </a:lnTo>
                <a:lnTo>
                  <a:pt x="837" y="438"/>
                </a:lnTo>
                <a:lnTo>
                  <a:pt x="882" y="438"/>
                </a:lnTo>
                <a:lnTo>
                  <a:pt x="927" y="442"/>
                </a:lnTo>
                <a:lnTo>
                  <a:pt x="971" y="450"/>
                </a:lnTo>
                <a:lnTo>
                  <a:pt x="1014" y="464"/>
                </a:lnTo>
                <a:lnTo>
                  <a:pt x="1055" y="480"/>
                </a:lnTo>
                <a:lnTo>
                  <a:pt x="1095" y="502"/>
                </a:lnTo>
                <a:lnTo>
                  <a:pt x="983" y="584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324000">
            <a:off x="4643280" y="2923920"/>
            <a:ext cx="2057400" cy="3130560"/>
          </a:xfrm>
          <a:custGeom>
            <a:avLst/>
            <a:gdLst/>
            <a:ahLst/>
            <a:rect l="l" t="t" r="r" b="b"/>
            <a:pathLst>
              <a:path w="793" h="1440">
                <a:moveTo>
                  <a:pt x="286" y="1316"/>
                </a:moveTo>
                <a:lnTo>
                  <a:pt x="340" y="1290"/>
                </a:lnTo>
                <a:lnTo>
                  <a:pt x="392" y="1260"/>
                </a:lnTo>
                <a:lnTo>
                  <a:pt x="442" y="1225"/>
                </a:lnTo>
                <a:lnTo>
                  <a:pt x="490" y="1187"/>
                </a:lnTo>
                <a:lnTo>
                  <a:pt x="535" y="1146"/>
                </a:lnTo>
                <a:lnTo>
                  <a:pt x="576" y="1102"/>
                </a:lnTo>
                <a:lnTo>
                  <a:pt x="616" y="1055"/>
                </a:lnTo>
                <a:lnTo>
                  <a:pt x="650" y="1005"/>
                </a:lnTo>
                <a:lnTo>
                  <a:pt x="682" y="953"/>
                </a:lnTo>
                <a:lnTo>
                  <a:pt x="709" y="900"/>
                </a:lnTo>
                <a:lnTo>
                  <a:pt x="734" y="844"/>
                </a:lnTo>
                <a:lnTo>
                  <a:pt x="753" y="786"/>
                </a:lnTo>
                <a:lnTo>
                  <a:pt x="770" y="727"/>
                </a:lnTo>
                <a:lnTo>
                  <a:pt x="781" y="668"/>
                </a:lnTo>
                <a:lnTo>
                  <a:pt x="789" y="608"/>
                </a:lnTo>
                <a:lnTo>
                  <a:pt x="792" y="547"/>
                </a:lnTo>
                <a:lnTo>
                  <a:pt x="790" y="487"/>
                </a:lnTo>
                <a:lnTo>
                  <a:pt x="786" y="427"/>
                </a:lnTo>
                <a:lnTo>
                  <a:pt x="775" y="367"/>
                </a:lnTo>
                <a:lnTo>
                  <a:pt x="762" y="308"/>
                </a:lnTo>
                <a:lnTo>
                  <a:pt x="744" y="249"/>
                </a:lnTo>
                <a:lnTo>
                  <a:pt x="722" y="193"/>
                </a:lnTo>
                <a:lnTo>
                  <a:pt x="697" y="137"/>
                </a:lnTo>
                <a:lnTo>
                  <a:pt x="667" y="84"/>
                </a:lnTo>
                <a:lnTo>
                  <a:pt x="639" y="41"/>
                </a:lnTo>
                <a:lnTo>
                  <a:pt x="609" y="0"/>
                </a:lnTo>
                <a:lnTo>
                  <a:pt x="521" y="247"/>
                </a:lnTo>
                <a:lnTo>
                  <a:pt x="277" y="280"/>
                </a:lnTo>
                <a:lnTo>
                  <a:pt x="294" y="308"/>
                </a:lnTo>
                <a:lnTo>
                  <a:pt x="316" y="347"/>
                </a:lnTo>
                <a:lnTo>
                  <a:pt x="332" y="389"/>
                </a:lnTo>
                <a:lnTo>
                  <a:pt x="345" y="431"/>
                </a:lnTo>
                <a:lnTo>
                  <a:pt x="353" y="475"/>
                </a:lnTo>
                <a:lnTo>
                  <a:pt x="357" y="519"/>
                </a:lnTo>
                <a:lnTo>
                  <a:pt x="355" y="564"/>
                </a:lnTo>
                <a:lnTo>
                  <a:pt x="350" y="608"/>
                </a:lnTo>
                <a:lnTo>
                  <a:pt x="339" y="652"/>
                </a:lnTo>
                <a:lnTo>
                  <a:pt x="325" y="694"/>
                </a:lnTo>
                <a:lnTo>
                  <a:pt x="306" y="734"/>
                </a:lnTo>
                <a:lnTo>
                  <a:pt x="284" y="772"/>
                </a:lnTo>
                <a:lnTo>
                  <a:pt x="257" y="808"/>
                </a:lnTo>
                <a:lnTo>
                  <a:pt x="227" y="841"/>
                </a:lnTo>
                <a:lnTo>
                  <a:pt x="193" y="871"/>
                </a:lnTo>
                <a:lnTo>
                  <a:pt x="156" y="896"/>
                </a:lnTo>
                <a:lnTo>
                  <a:pt x="113" y="761"/>
                </a:lnTo>
                <a:lnTo>
                  <a:pt x="0" y="1169"/>
                </a:lnTo>
                <a:lnTo>
                  <a:pt x="321" y="1439"/>
                </a:lnTo>
                <a:lnTo>
                  <a:pt x="286" y="1316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448800">
            <a:off x="2338560" y="3436560"/>
            <a:ext cx="2952720" cy="2305080"/>
          </a:xfrm>
          <a:custGeom>
            <a:avLst/>
            <a:gdLst/>
            <a:ahLst/>
            <a:rect l="l" t="t" r="r" b="b"/>
            <a:pathLst>
              <a:path w="1221" h="1071">
                <a:moveTo>
                  <a:pt x="1220" y="1042"/>
                </a:moveTo>
                <a:lnTo>
                  <a:pt x="1002" y="847"/>
                </a:lnTo>
                <a:lnTo>
                  <a:pt x="1081" y="630"/>
                </a:lnTo>
                <a:lnTo>
                  <a:pt x="1038" y="635"/>
                </a:lnTo>
                <a:lnTo>
                  <a:pt x="994" y="636"/>
                </a:lnTo>
                <a:lnTo>
                  <a:pt x="950" y="634"/>
                </a:lnTo>
                <a:lnTo>
                  <a:pt x="906" y="626"/>
                </a:lnTo>
                <a:lnTo>
                  <a:pt x="865" y="614"/>
                </a:lnTo>
                <a:lnTo>
                  <a:pt x="823" y="599"/>
                </a:lnTo>
                <a:lnTo>
                  <a:pt x="784" y="579"/>
                </a:lnTo>
                <a:lnTo>
                  <a:pt x="747" y="556"/>
                </a:lnTo>
                <a:lnTo>
                  <a:pt x="713" y="528"/>
                </a:lnTo>
                <a:lnTo>
                  <a:pt x="682" y="496"/>
                </a:lnTo>
                <a:lnTo>
                  <a:pt x="653" y="463"/>
                </a:lnTo>
                <a:lnTo>
                  <a:pt x="629" y="427"/>
                </a:lnTo>
                <a:lnTo>
                  <a:pt x="609" y="390"/>
                </a:lnTo>
                <a:lnTo>
                  <a:pt x="594" y="352"/>
                </a:lnTo>
                <a:lnTo>
                  <a:pt x="581" y="314"/>
                </a:lnTo>
                <a:lnTo>
                  <a:pt x="573" y="273"/>
                </a:lnTo>
                <a:lnTo>
                  <a:pt x="568" y="232"/>
                </a:lnTo>
                <a:lnTo>
                  <a:pt x="712" y="232"/>
                </a:lnTo>
                <a:lnTo>
                  <a:pt x="368" y="0"/>
                </a:lnTo>
                <a:lnTo>
                  <a:pt x="0" y="235"/>
                </a:lnTo>
                <a:lnTo>
                  <a:pt x="134" y="234"/>
                </a:lnTo>
                <a:lnTo>
                  <a:pt x="139" y="296"/>
                </a:lnTo>
                <a:lnTo>
                  <a:pt x="148" y="358"/>
                </a:lnTo>
                <a:lnTo>
                  <a:pt x="161" y="419"/>
                </a:lnTo>
                <a:lnTo>
                  <a:pt x="178" y="479"/>
                </a:lnTo>
                <a:lnTo>
                  <a:pt x="200" y="538"/>
                </a:lnTo>
                <a:lnTo>
                  <a:pt x="227" y="595"/>
                </a:lnTo>
                <a:lnTo>
                  <a:pt x="257" y="650"/>
                </a:lnTo>
                <a:lnTo>
                  <a:pt x="291" y="702"/>
                </a:lnTo>
                <a:lnTo>
                  <a:pt x="328" y="751"/>
                </a:lnTo>
                <a:lnTo>
                  <a:pt x="369" y="797"/>
                </a:lnTo>
                <a:lnTo>
                  <a:pt x="413" y="841"/>
                </a:lnTo>
                <a:lnTo>
                  <a:pt x="459" y="882"/>
                </a:lnTo>
                <a:lnTo>
                  <a:pt x="509" y="919"/>
                </a:lnTo>
                <a:lnTo>
                  <a:pt x="562" y="951"/>
                </a:lnTo>
                <a:lnTo>
                  <a:pt x="617" y="981"/>
                </a:lnTo>
                <a:lnTo>
                  <a:pt x="673" y="1007"/>
                </a:lnTo>
                <a:lnTo>
                  <a:pt x="732" y="1027"/>
                </a:lnTo>
                <a:lnTo>
                  <a:pt x="791" y="1045"/>
                </a:lnTo>
                <a:lnTo>
                  <a:pt x="852" y="1057"/>
                </a:lnTo>
                <a:lnTo>
                  <a:pt x="913" y="1067"/>
                </a:lnTo>
                <a:lnTo>
                  <a:pt x="975" y="1070"/>
                </a:lnTo>
                <a:lnTo>
                  <a:pt x="1037" y="1070"/>
                </a:lnTo>
                <a:lnTo>
                  <a:pt x="1098" y="1066"/>
                </a:lnTo>
                <a:lnTo>
                  <a:pt x="1160" y="1056"/>
                </a:lnTo>
                <a:lnTo>
                  <a:pt x="1220" y="1042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2358360"/>
            <a:ext cx="17571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ertain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4085640"/>
            <a:ext cx="9903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16360" y="4446000"/>
            <a:ext cx="12301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er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2060640"/>
            <a:ext cx="2362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certainty about demand in LICs &amp; LMICs leads industry to limit investments in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4581360"/>
            <a:ext cx="2361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prices keep LICs &amp; LMICs uncertain about demand and donors uncertain about financing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77080" y="458136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ed MDR-TB drug supply keeps prices relatively 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4360" y="1413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R-TB Scale-up 2007-2011 - US$37.6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Rotating Stockpile – US$11.5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Revolving Fund – US$22.1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 (laboratory equipment) – US$26.1million in collaboration with GLI and 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R-TB component GF Round 6 Phase 1 – US$10.3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0"/>
            <a:ext cx="8101080" cy="905040"/>
            <a:chOff x="0" y="0"/>
            <a:chExt cx="8101080" cy="905040"/>
          </a:xfrm>
        </p:grpSpPr>
        <p:sp>
          <p:nvSpPr>
            <p:cNvPr id="164" name=""/>
            <p:cNvSpPr/>
            <p:nvPr/>
          </p:nvSpPr>
          <p:spPr>
            <a:xfrm>
              <a:off x="0" y="0"/>
              <a:ext cx="8101080" cy="905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173160"/>
              <a:ext cx="8101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123840"/>
                  <a:tab algn="l" pos="93672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Second-line T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RANTP</dc:creator>
  <dc:description/>
  <dc:language>en-US</dc:language>
  <cp:lastModifiedBy>bakerl</cp:lastModifiedBy>
  <dcterms:modified xsi:type="dcterms:W3CDTF">2008-10-29T05:38:56Z</dcterms:modified>
  <cp:revision>2</cp:revision>
  <dc:subject/>
  <dc:title>Slide 1</dc:title>
</cp:coreProperties>
</file>