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move the slide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DF09-76FB-45DA-A9CC-757F04758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Global TBTEAM Secretariat is being housed in the Stop TB department (TB strategies and health systems) at WHO/H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a similar way as the secretariats of the Stop TB Partnership working groups  (DEWG, TB/HIV, and MDR-T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regional TBTEAM secretariat is housed within WHO Regional office as part of the regional STBP/Interagency coordinating committee  (WPRO, SEARO, EURO) + AFRO, AM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national TBTEAM secretariat is housed within the NTP or National ICC or main partner organization based in the country (WHO, Union, CDC, GLRA, KNCV, Damien Foundation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-21132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1840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10"/>
          <a:stretch/>
        </p:blipFill>
        <p:spPr>
          <a:xfrm>
            <a:off x="254160" y="6381720"/>
            <a:ext cx="1149120" cy="3524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11"/>
          <a:stretch/>
        </p:blipFill>
        <p:spPr>
          <a:xfrm>
            <a:off x="7451640" y="6453360"/>
            <a:ext cx="1368360" cy="28548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2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78280" y="2349360"/>
            <a:ext cx="3160440" cy="3049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9506160" cy="16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and Global Fund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15th Stop TB Partnership Coordinating Board 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28-29 October 2008, Bagamoyo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556416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 Leopold Blanc, Coordinator, TB Strategy and Health Systems, Stop TB Department,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223920"/>
            <a:ext cx="665640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Linking countries with technical assistance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Echnical Assistance Mechanism of the Stop TB Partnershi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BTEAM ensures that sufficient access to rational, high quality technical assistance allows countries to implement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international standards for TB control and care in line with the Stop TB Strategy and to achieve global targets for TB contr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vides platform for coordination of TB technical ass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spcAft>
                <a:spcPts val="134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TEAM tools: missions/events, TB experts, partner map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Based national coordination, facilitated by regional coordin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Network o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top TB partners (National TB Programmes, Local and international NGOs, Financial partners, WHO at country, regional and global level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atch needs to existing f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obilize funds where there are g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752480"/>
            <a:ext cx="1981440" cy="1447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1676520"/>
            <a:ext cx="1981080" cy="1447560"/>
          </a:xfrm>
          <a:prstGeom prst="ellipse">
            <a:avLst/>
          </a:prstGeom>
          <a:solidFill>
            <a:srgbClr val="6699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61815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structure at country, regional and global level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90720" cy="957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3880" y="1523880"/>
            <a:ext cx="7239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5373720"/>
            <a:ext cx="2819520" cy="1167480"/>
          </a:xfrm>
          <a:prstGeom prst="rect">
            <a:avLst/>
          </a:prstGeom>
          <a:solidFill>
            <a:srgbClr val="000066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COUNTRY TB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(National ICC; Stop TB Partn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4508640"/>
            <a:ext cx="2514600" cy="86256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(NTP, part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75248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Regional I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352680"/>
            <a:ext cx="221004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W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696080" y="312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288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Glob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DE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429000"/>
            <a:ext cx="220968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 WHO/H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600200" y="3200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581280"/>
            <a:ext cx="37339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0360" y="172080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26360" y="1936800"/>
            <a:ext cx="966960" cy="3682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2360" y="2152800"/>
            <a:ext cx="9669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8000" y="2368440"/>
            <a:ext cx="96696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74000" y="258444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10880" y="170028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1916280"/>
            <a:ext cx="10382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0160" y="2637000"/>
            <a:ext cx="9669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5800" y="2421000"/>
            <a:ext cx="966960" cy="368280"/>
          </a:xfrm>
          <a:prstGeom prst="rect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21800" y="213372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626920" y="2637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2637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720" y="4653000"/>
            <a:ext cx="15019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.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6021360"/>
            <a:ext cx="914400" cy="627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9240" y="5013360"/>
            <a:ext cx="13845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4581360"/>
            <a:ext cx="914400" cy="914400"/>
          </a:xfrm>
          <a:prstGeom prst="ellipse">
            <a:avLst/>
          </a:prstGeom>
          <a:solidFill>
            <a:srgbClr val="100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771280" y="2997360"/>
            <a:ext cx="100836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068640"/>
            <a:ext cx="100800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284360" y="2205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26000" y="5681520"/>
            <a:ext cx="21495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f.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5440" y="6237360"/>
            <a:ext cx="637920" cy="36828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64500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8720" y="5516640"/>
            <a:ext cx="15141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437000"/>
            <a:ext cx="125568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CM   G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547280" y="4941360"/>
            <a:ext cx="1729080" cy="863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7"/>
          <p:cNvGraphicFramePr/>
          <p:nvPr/>
        </p:nvGraphicFramePr>
        <p:xfrm>
          <a:off x="0" y="0"/>
          <a:ext cx="5148360" cy="386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148360" cy="38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7"/>
          <p:cNvGraphicFramePr/>
          <p:nvPr/>
        </p:nvGraphicFramePr>
        <p:xfrm>
          <a:off x="2916360" y="1916280"/>
          <a:ext cx="6227640" cy="4608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1916280"/>
                    <a:ext cx="6227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5545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Proposal Preparation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Fund to Fight AIDS, TB and Malari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most important source of external funding for TB control representing up to 7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op TB Strategy provides the framework to plan activities within Global Fund TB proposals that fit within the overall framework of the Global Plan to Stop 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Plan to Stop TB, 2006-2015, provides costed targe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/Stop TB Strategy Planning Matrix/Frameworks, Budgeting Tool a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ed technical assistance are designed to help TB proposals align planning for all components of the Stop TB Strategy with the Global Plan to Stop TB 2006-201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2760" y="1197000"/>
            <a:ext cx="4017960" cy="5661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076640"/>
            <a:ext cx="289080" cy="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18000" y="1197000"/>
            <a:ext cx="4270320" cy="5661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11280" y="0"/>
            <a:ext cx="64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</a:rPr>
              <a:t>Stop TB Strategy planning/budget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rcRect l="0" t="14268" r="44547" b="8688"/>
          <a:stretch/>
        </p:blipFill>
        <p:spPr>
          <a:xfrm>
            <a:off x="2627280" y="3409920"/>
            <a:ext cx="45370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30872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Global Fund financing and proposal approval rate by round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1341360"/>
          <a:ext cx="7201080" cy="554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341360"/>
                    <a:ext cx="7201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374840" y="6164280"/>
            <a:ext cx="29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umber of TB proposals approv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048360" cy="71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Ambitious Round 9 for TB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788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Round 9 TB re-submission workshop, 17-21 November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-reading workshop for new submissions (Mock TRP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January 2009, 1 workshop per 6 reg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untry visit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 least for new submissions     (~ 10 global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and country political commitment for ambitious Rou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9 TB propos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3961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Conclusions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70172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o prepare Global Fund TB proposals that are successful and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aligned wi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Stop TB Strategy and Global Plan to Stop TB, use the WHO Stop TB Planning Matrix &amp; Frameworks and Budgeting Too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 with technical assistance facilitated through TB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More civil society engagement in planning and budge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TB proposals can be more ambitious in asking for larger budgets especially on laboratory/diagnosis, MDR, Infection control and social aspects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6:07:29Z</dcterms:created>
  <dc:creator>godfreya</dc:creator>
  <dc:description/>
  <dc:language>en-US</dc:language>
  <cp:lastModifiedBy>BlancL</cp:lastModifiedBy>
  <dcterms:modified xsi:type="dcterms:W3CDTF">2008-10-28T04:26:48Z</dcterms:modified>
  <cp:revision>3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46726774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DRAFT ppt for Coordinating Board meeting 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