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5824-EEE3-4F38-9678-BA61241C6E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8B59-9158-4144-87BD-07C703DDDD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B7AD-8F58-46E8-BFAF-C3308FE13B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90C6-76CA-4311-A6EA-4B39E38F46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71D3-2F15-4C69-A39A-74E17F5BD9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075F-C4A8-4A4C-B7C8-71E1FAB2FC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etection Rate-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Success rate-T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D7DA-0453-48F9-9D6D-A7266BA07A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through FIND, PIH and WH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4B6-BDE3-41FA-96F4-04FF265D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5DF-CFD4-4807-BDF4-05FBA603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2984-8565-449E-BFDE-B583835B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B4D-33E6-4C16-ADFF-8944F797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659-D177-4A6B-9680-1433EB95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65C-4ACB-479D-9E5F-968EB29F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A64-AC67-49EC-A175-9F7F539B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935-0894-4BF5-8A8A-EF654CBA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B1A-45C7-4CD2-9782-F6A0D85E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591-DEFF-4333-B6E0-D1E58FA6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90D-18D4-4C8D-AC37-67B08B47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4E3-D7BC-4DE9-B759-54FF9EC4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6118-8A18-4FBC-BA08-6E909236F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es_flag"/>
          <p:cNvPicPr/>
          <p:nvPr/>
        </p:nvPicPr>
        <p:blipFill>
          <a:blip r:embed="rId2"/>
          <a:stretch/>
        </p:blipFill>
        <p:spPr>
          <a:xfrm>
            <a:off x="7596360" y="260280"/>
            <a:ext cx="11617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ov Logo"/>
          <p:cNvPicPr/>
          <p:nvPr/>
        </p:nvPicPr>
        <p:blipFill>
          <a:blip r:embed="rId3"/>
          <a:stretch/>
        </p:blipFill>
        <p:spPr>
          <a:xfrm>
            <a:off x="250920" y="0"/>
            <a:ext cx="11271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47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276280"/>
            <a:ext cx="74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top TB Partnership Board Meeting   28-29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agamoyo-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nourable Minister of Health and Social Welfare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6B1D-4017-46AC-A527-3FB603BE0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-TB Situ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80% HIV co-infection in all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the art TB lab with liquid culture &amp;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ne D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art MDR-TB hospital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ar test facilitie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2E5D-3ED9-4D41-8175-624A7136E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61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 to HIV/MDR-TB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,586 on ARVs (35,629 Adults &amp;2,957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Urban and rural health facilities provide A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co-infected MDR-TB patients on ARVs regardless of CD4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ome based care provided for stable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8A06-F8F4-4285-A605-49B44C7A5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/HIV collaboration: Achievements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B/HIV Coordinating Committee established at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technical working group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collaboration policy and strategic plan 2008-2014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building for Health Care Workers on TB/HIV collabora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d TB/HIV services nation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E3F3-4AF8-450F-9142-5B55AF26D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TC of TB patients by distr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800" y="16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7632720" cy="423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CA78-EEA3-44E1-A4BF-AC98CE4D8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vision of CPT to TB patients 2007 by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800" y="18151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7848720" cy="441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511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F2E5-C654-408F-8168-0DB659C34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 of ART to TB patients i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6612-2640-4B57-B6ED-941B16394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for TB/HI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00000" y="1317600"/>
          <a:ext cx="6985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17600"/>
                    <a:ext cx="6985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1D74-B39E-44E3-9719-56FDB5706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TB/HIV services to the community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TB/HIV collaborative interventions for all dually infected Basot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Human  Resources to provide TB/HIV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Cross boarder issues relating to implementation of TB &amp; TB/HIV control activities among migrant 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29CC-E775-4906-8B5B-25F115BF4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decentralization of TB/HIV services to the communit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-up TB/HIV collaborative interventions through expansion of public-private partnership; involvement &amp; full participation of civil society &amp; PL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OHSW, in collaboration with development partners working on ways to improve the Human  Resource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rmonization of protocols with all neighbouring countries especiall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DC5F-DD52-4AC5-B699-2F84CB2B6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 Collaborating Partners in the fight against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TON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29E2-85CC-4FA9-843F-5D680F401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/HIV Collabor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56A0-5366-4AFA-947C-2396088B0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is land –locked b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population 1,880,6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% aged 0-1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aged 15-6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% aged 6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 active males work in the RSA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live below povert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A011-30D8-4E8D-B6BE-089847EF2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CHWs 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Health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hospitals (3 private hospi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ferral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R-TB refer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EBA9-129E-4328-9486-C4F0AE227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048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TB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established in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under the Disease Control Unit (D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course chemotherapy (SCC) introduc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control activities are integrated within the Primary Health Care (PHC) system, and are decentralized to the country’s 10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is aligned with strategic plan for 2008 – 2012  in line with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drugs are provided free of charge to patients, irrespective of where they are diagnosed or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% DOTS co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0C08-7A14-40AA-8C9D-2C883807A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TP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DF supports Lesotho with grant of anti-TB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LC approval obtained in 2007 for second line drugs for MDR-TB-  300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L has established partnership with the NGOs and private sector for DOTS implementation (CHAL and G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8A00-E02F-4F86-AB29-56DFF0BA6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337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situation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300 cases of all forms of TB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: 635 per 100,000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278 (30%) New smea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 Detection Rat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success rate is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3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 Mortality – 107 per 100,000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evalence among TB patients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034F-B7E2-4930-A9E2-F7F9380E1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nd TB case detection &amp;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success rates 2002-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042920" y="1647720"/>
          <a:ext cx="70581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7720"/>
                    <a:ext cx="7058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63A7-A18B-4B92-A261-57D60AE19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Arial"/>
              </a:rPr>
              <a:t>MDR-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06 emergency plan to address MDR-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9 MDR-TB patients registered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30% of the  MDR-TB patients are migrant workers- the rest can be traced to the same migrant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1:08:02Z</dcterms:created>
  <dc:creator>User</dc:creator>
  <dc:description/>
  <dc:language>en-US</dc:language>
  <cp:lastModifiedBy>cafeinternet</cp:lastModifiedBy>
  <dcterms:modified xsi:type="dcterms:W3CDTF">2008-10-29T10:02:19Z</dcterms:modified>
  <cp:revision>59</cp:revision>
  <dc:subject/>
  <dc:title>TB/HIV SITUATION IN LESOTHO</dc:title>
</cp:coreProperties>
</file>