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774F-4A12-496E-BEBA-B09806971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0597-C6DC-4F5C-953C-2971B8F6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804CC2-0570-4834-8E94-A29E02FC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9B5A0-60FA-4DA2-BF0C-26C2D717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1BEFE-6AB2-4E8A-B684-45869E55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8450E-635A-485E-B2FC-BB33DC9D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8E343-7022-490B-AAAB-1E1BD7D3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81BF0-3541-484B-9F0D-15444C33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E5A91-03BF-4B21-874B-CE972E66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2083F-2A6C-479C-AED0-60AE388FE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C907F-A8C0-4859-95F7-9326EA525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335B39-CB6B-4314-90C9-E1360192A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09A2-E546-4478-B480-147F5A268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617E03-BC2A-4F0F-975E-3AE2D228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7A4814-A86E-42F9-BF4D-A8EE75FC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33CD6C-9A43-4BCD-A210-69563212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EBB20E-F440-4216-9680-DA3A686C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D1E54D-9721-41D2-A361-F6684A42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C3837-E2CD-4418-B7BD-87F671AB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A7EBB5-AD56-45AC-9386-4900CACA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DAFF78-55D8-4355-9944-00902606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FEDAE-BF39-4119-BFC3-FE0C85D7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33EC5-B6AA-4129-9F6A-1FB5A63EA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28C5-ACC6-4A88-9196-4ED445BD7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B7B95-13AA-4E62-A93D-102A004D2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9C923-02B1-4451-8E16-DF58F460D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0149C-6FEA-4149-8732-B35C378B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F58FB-C53A-408F-B3BF-8E193FD0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E6C6E-F227-4312-A37E-E2FE5EC9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5EBA6-1F62-4D37-A575-EDB45668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3733E-D057-4C97-92AF-67C43369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DA5A6-CDCA-4F6C-933B-DAA757CB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6F9E4-3780-4073-B0C2-4B3A54E5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93435-2174-422D-A140-85765A30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4F9D-B5ED-4C9E-B9EE-69E696E3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E44B2-6D72-47FD-9740-2D9A0C9C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D510E-BD9D-48B5-BA0E-B1138807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6E31C-E65F-4068-BF5C-C3B013A40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BE75BC-8CCA-4623-BADC-4B85F94E2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60F028-80EA-432E-BE6A-903E5C9A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8B421F-A8AB-4D58-9AAA-E6C033AA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7C13A9-F110-4630-A851-73493525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60748C-F80E-4FBF-BD6C-E4E83CEA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8D72B-5FA3-4725-8FBA-312C9972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832DC5-C763-4B8A-8E30-0EB74883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9031-E9EC-4DBD-8549-7582BA84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E877B6-5E46-4BAC-8D60-339B745E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FABD4F-6956-42A6-9125-8D2C4662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65ACB1-6827-4AE9-A399-CBAF1FCF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40F61C-5305-4592-BBC7-3526E3AF8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B6069C-E38E-433D-89E2-6E1AE863B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B17F-2736-41B2-B813-A3CBD014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8D29-873E-451B-A14B-D7D5A442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8608-EA81-4A80-9C7E-2883204E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E26D-C67B-4041-B82B-6E4235D6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1FD1-024F-4412-9520-25BB122B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80FF-EAC0-46CA-AC49-EEEF6C22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728A-9EE8-419F-B6BD-E4CBAF4B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3530-14E3-4C1A-800A-FB528558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3548-C705-401F-8D46-580D8A5D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9C2C-B63C-4CC8-ACE6-AE01C4DB9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2272-949B-4841-8D9E-D0C94D2E1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76393-F97E-4802-B7CB-9AD7890CE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D0548-E98A-4AD5-82DD-94363316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5379B-3A95-4E64-BD25-B046D77E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F163E-80C1-4F63-BF62-4EA05F84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F208B-47BD-4BAC-98AC-F5A6EDA2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A839-C89F-4087-BBE0-4916009F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E9457-04D7-4AE8-9D0A-D38E3102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C361F-9AE2-44AD-ACCF-953AE3C1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1C88F-DD76-4E67-A825-5E5F1FDD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F9E8F-5B5E-42A3-B307-48214B6B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E5451-5915-4AD4-BD49-28FD9B80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1E917-B264-4DAE-825F-46A643BDD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F6469-181A-4DBE-AA04-BA7F3FB64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951E6-C2D7-4F30-863A-8E1E1702C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EC1F3-3D55-4CB4-A33E-545989F6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43B5B-FD59-4E65-B997-31A51928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00E5-4830-4D05-BD1F-F932FD54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F0CA9-9F05-4E39-B62A-9D60CB90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ACD60-5A06-4267-8126-925CD005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D3B47-6551-49E9-8A95-A49A3D7E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7F9B5-2692-43A7-8EBC-5571BABD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C0B2C-93BF-41CF-8940-514B157C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C94DF-0A48-4EA1-BF2C-D5F0F177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12FC4-CC33-48A4-BE85-3453E418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F1F84-1707-4FC6-8AA9-D1F488CBC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75556-FF14-4D23-B3A3-B14348D4D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0FE28-A707-42A7-9FFE-5B93F7BD0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1AC5-91A3-42DC-A7D1-F6D7D1C5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744F8-F701-4A30-93DB-AAA18209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DDC36-31D4-4DA9-BA90-0F2E9BB3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7B161-9086-442E-AC71-63FB14CC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132D5-BE20-4A10-AF58-B3A6D142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D9BA2-DF83-49A1-982F-FD33FA48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91F24-A882-4A00-8877-48D6775E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3B13D-19BA-40D1-A38F-DF37D579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F9B7A-518B-4BD0-922E-9CD8A3DF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E15DF-1722-4D03-ABBB-8BEC300D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99A0F-A403-436B-91B3-F753D874A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A3C9-CDF1-422B-B1C1-F5669CC0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A400D-5D5F-4D3D-A3D5-86FC9F946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F3737-63E3-4E68-83CB-8A33BBBF2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709DC-5C7E-4C45-8DDD-F14C9217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7C0AA-ADF2-4DB6-8D69-FAFFD4A7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B74FE-A552-43ED-AD05-538DB0E5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310EA-AD50-4B03-9F2B-E5C78FC8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44376-DDCA-411F-BE6E-1F9FE4F7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29D2F-9F92-47A9-831D-B5CC8E50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D766C-793A-4FA0-BB1B-9080BB3C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A85E1-BD22-4275-9FCE-90AA92C9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20FB-37DD-4B6D-9E05-D93CA2AF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9DD64-2EC4-4E98-A10C-BE3CA8F5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B461C-03C7-40EA-A325-4E75F2826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40B02-A8B6-40A8-AA8C-CC8240646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F20F6-FC45-4DE2-BA70-04E8D55E6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2562A-3E3B-4EBE-B65E-725A028B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F0209-5D92-4303-81D6-61E875A2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7380B-089D-4DB5-B59A-63179C59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2DFCF-1F72-46E6-B515-837294FA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82532-14ED-47ED-917F-CC904AA6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78E3B-501C-4E79-8B84-03BA7D69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86E9-BFE2-4026-9A94-E7D40EAF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33CE8-E1F9-4ECA-8113-C0DF9983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F6D02-C793-48E8-84FC-0451355D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C809C-3313-402F-A61E-F35521F5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ADBD1-36BC-4C04-A722-BC6CE3350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C2E00-4D46-4B0B-A50A-85733B013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2B375-6298-4843-A181-BBC8EBFBF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D1FF1-B1F5-44B3-95C7-D4834918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CCFB4-D966-4717-9F45-946A9A79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B7615-38FB-4628-B58C-FDA5A2DE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6BD34-BCDC-47E1-9D45-C33CA8D2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9343-A0C4-44AF-AC49-807F3B4C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BED22-952B-4E00-B952-0B9632DB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D73EF-0B9B-41A8-A16C-C934705B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1A29B-71C0-4DAE-AB7C-DEC8B8F7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7E068-1C01-4318-A7DB-CD5B5663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28C7A-2E86-42B0-8517-D758F6A7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1897A-22DF-4F17-B423-6A083D50B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D9E02-F447-4830-9458-8453C67F7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0654A-8238-4C64-A352-053E90C60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3C7EB-8AD0-4714-8643-1C3FAB1E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EE8727-58A7-4938-9F1B-EEBDBF8D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15F4-ACA9-424D-8E08-71684F0F25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17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18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20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1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05C5-7DEF-49AA-9C44-7A2EA1A3925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66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6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6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A02C-112E-4B1B-B2AE-5724E40F4D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51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1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1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8320-79D5-4583-9A79-CAF6A9E712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550A-453F-4564-AB08-F055666DDD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811D-AF56-407E-8938-2FDBB248898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4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01AC-F347-4BD1-90F4-A2BE0401BA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94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5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97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5114-3106-4EC4-8217-D49FD90F34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AFF7-98EF-4CA5-8263-4FE8721A7F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8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8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D282-6468-42D0-9AD3-9FA2F48AD0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9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3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3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9963-13C8-4D67-BBB8-F57D222E48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3684-931D-4F99-9504-0CB75DBD60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Title 1" descr=""/>
          <p:cNvPicPr/>
          <p:nvPr/>
        </p:nvPicPr>
        <p:blipFill>
          <a:blip r:embed="rId1"/>
          <a:stretch/>
        </p:blipFill>
        <p:spPr>
          <a:xfrm>
            <a:off x="682560" y="1596960"/>
            <a:ext cx="8053560" cy="199404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1371600" y="3331800"/>
            <a:ext cx="6400800" cy="266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Update and comments on the agen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Ezio Távora dos Santos Filh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15</a:t>
            </a:r>
            <a:r>
              <a:rPr b="0" lang="en-US" sz="2700" spc="-1" strike="noStrike" baseline="30000">
                <a:solidFill>
                  <a:srgbClr val="464646"/>
                </a:solidFill>
                <a:latin typeface="Lucida Sans Unicode"/>
              </a:rPr>
              <a:t>th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STOP TB PARTNERSHIP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Coordinating Board Meet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ion of the National Committee for the Partners’ Foru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st meeting on Sept.4th, 2008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onfirming commitments, sharing responsibiliti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Municipality Gov: Convention center negotiations, Municipal HCC site visits (TBC); emergency suppor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State Gov: Security, transportation, Welcome Reception, site visits State HCC Greater Rio; emergency suppor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Federal Gov: hiring convention center’s equipment and furnishing, process of visas and reception authorities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nd meeting Sept.18th, 2008; Sept.30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virtual mee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Following up in organizing aspect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B3A2-B963-42C6-AB36-499EE1447A5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azilian Partnershi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HO-WH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nistry of 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nistry of Foreign Affai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Governor’s Cabin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Secretary of 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Secretary of Secur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Secretary of Welfa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nicipal Secretary of 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adem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8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B72C-9882-4BF0-9C4D-8E0DEB870EC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rnival initiative as from December Schools of Samba rehears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tribution of information along Summer and during the Carniv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o in train stations, subwa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1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3F57-FAE3-491F-897D-39858F7068B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rt exposi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rt curator to organize expo; photography exp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pular art in subway statio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B Parade on Sunday 2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n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Copacabana Beac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ce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056A-F824-412C-A723-B365DFA400C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03:23:50Z</dcterms:created>
  <dc:creator>Ezio T. Santos Filho</dc:creator>
  <dc:description/>
  <dc:language>en-US</dc:language>
  <cp:lastModifiedBy>Ezio T. Santos Filho</cp:lastModifiedBy>
  <dcterms:modified xsi:type="dcterms:W3CDTF">2008-10-28T06:06:53Z</dcterms:modified>
  <cp:revision>15</cp:revision>
  <dc:subject/>
  <dc:title>Partners’ forum 2009</dc:title>
</cp:coreProperties>
</file>