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FA8-4EB5-4E01-98D6-DAB8498E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8FC-A1F9-4DDF-BE5D-9B614B3F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1E4-5B56-4555-ACB9-B9AD5856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1FC-941A-4180-8447-F0925DB9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17A-9559-4526-81AF-F759C846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C4D-9DA5-4A7A-882B-D0D4A6A4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65E-E5F8-4F5E-B8D5-9FC18125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B722-CAF2-4E22-9271-65619180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D20-135F-4D9F-938C-72F7C361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012-AF0B-4FF6-BCC9-48B25794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398-4660-4AB6-B0CB-32FB9BC6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094-7F2A-4A6C-AD15-CACE2403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386D-B5F4-4231-A228-89C6D6254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8384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nisterial Meeting to Reach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llennium Development Goals for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Confronting MDR-TB and XDR-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3 April 2009, Beijing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op TB Partnership Coordinating Board Mee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-29 October 2008,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ost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ific Health Summit on MDR-TB, June 2009, Seattle, USA, with focus on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on Asia Pacific Region Conference on MDR-TB, September 2009, Beijing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Conference on Lung Health, October 2009, Cancun,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ld Health Assembly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p TB Coordinating Board is asked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 the aims and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ll Partners' support to WHO and ensure highest level participation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high-level missions to selected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Partners to mobilize political commitment and support technical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technical Partners to address policies towards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contribution of Partners' Forum to support development of a Call for Action from Civi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 in development of "asks" to all key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162864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new MDR-TB case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DR-TB in 50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% of MDR-TB cases detect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MDR-TB cases projected to be treated in 2008 and 3% only under GL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% of the global MDR-TB burden in 27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27640" y="2060640"/>
            <a:ext cx="356544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40" y="6524640"/>
            <a:ext cx="4698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Global TB Report, 2008 and IV Global DRS Report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0" y="2992320"/>
          <a:ext cx="4500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2320"/>
                    <a:ext cx="4500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lobal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523880"/>
          <a:ext cx="5761080" cy="406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523880"/>
                    <a:ext cx="576108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7 high MDR-TB burde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08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akh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360" y="1844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Mol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rasil ,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DR-TB Task Force recommended 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convene a meeting with the 27 high priority MDR-TB countries to increase political commitment and tackl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May 2008: Stop TB CB support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STA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urged WH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ise political commitment and action in the 27 priority MDR-TB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the Global Leaders Forum on HIV/TB defined MDR-TB and XDR-TB as threats to global health security and to HIV/AID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Past experiences on DOTS Expansion globally (Amsterdam &amp; Cairo 2000) and in China (Xi'an 2004) show effectiveness of politica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ms of the ministerial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rengthen political commitment and build engagement by governments and international community to control M/XDR-TB through better TB control and M/XDR-TB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catalytically the event to (i) support countries to develop M/XDR-TB control plans and (ii) address th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209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ive towards solutions to bottlenecks in area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TB SLD drug market, quality, procurement, and ration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apacity and rapid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ct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and models of car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of private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and community right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16360" y="1928880"/>
            <a:ext cx="435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re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strategy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s consultations an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ling to predict evolution of epide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 engagement and "ask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y level advocacy and technical assistance for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civil society and PF call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ation to be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ij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by WHO with the Ministry of Health of the People's Republic of China and Bill &amp; Melinda Gates Fou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out 180 participants invited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erial delegations, multilateral agencies, bilateral donors, technical agencies and NGOs, civil society, research community and corpor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eting agenda 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: High-level political meeting involving high-profile leaders and Ministers from the 27 countries+. Beijing declaration endo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y 2 &amp;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echnical meeting between Ministry of Health officials, NTP managers, and partners addressing planning and country-specific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21:39Z</dcterms:created>
  <dc:creator>bailliep</dc:creator>
  <dc:description/>
  <dc:language>en-US</dc:language>
  <cp:lastModifiedBy>raviglionem</cp:lastModifiedBy>
  <dcterms:modified xsi:type="dcterms:W3CDTF">2008-10-23T19:48:57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