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78B0-0647-4AA4-9BA5-ED06A0AA2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2E8D-6C39-4D5C-AB0B-5946BB03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6D45-323D-4945-8493-384CA68E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B0DA-CF32-4ADC-A146-C0794E19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2613-4A7E-48DC-A4A8-9366914E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BE49-4738-4ABB-B915-39104A56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954C-1837-456F-899E-AADEEE93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F0EA-0F65-4CFD-8985-C753CCD3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B790-7630-454A-A02F-3DB77E30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F1C5-3B09-4F77-A547-0B918386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B250-FFFA-44D7-9CD2-3C91CE5D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C0D5-B2C7-4AFA-A813-01AFAFC4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3AFD-0A72-4179-B599-633FEE00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5FCE-A22E-4DB3-A03D-66CB9975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44B8-B4EF-414D-97E3-2E330E6E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5AAE-F559-4EA6-8064-10908A25D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BF6A-CBD0-4F8F-A620-6CA963685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8D37-2460-45C0-9360-2399FDA0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8149-1E32-403D-8C18-231318FE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5B0B-1097-420A-B1D6-1767E731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6823-1B0B-4849-953C-263402C7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B4C4-BA8C-42A4-993E-164EBFC4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95C3-ADC1-4C89-B2C1-B95AEF02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3A1A-3244-4A7B-9699-74FAD95D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B2C0-18C3-4600-8B4E-EEEA5F6BF59C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7F89-5A6E-41C8-8BA2-03C39A0D42AE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optb.org/figo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WORKPLAN UPDATES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ordinating Board Meeting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anzania, 28-29 October 2008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CSM (Country Level)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</a:t>
            </a: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SM capacity in countries and commitment to scale-up strategic activities remain low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st Practice document needed to get evidence of effectiveness of ACSM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s for countries to conduct KAP Survey or other operational research to better target ACSM activities and measure impact linked to TB control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World TB Day –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 am Stopping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ners Forum site launched, including innovative e-discussion to build the Forum agenda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media coverage of the HV/TB Global Leaders Forum, and placement of opinion pieces in ten targeted high-burden countr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broad media coverage of joint announcement between the Stop TB Partnership GDF, WHO, UNITAID and FIND about scaling up MDR-TB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workshops for journalists organized in Paris and Dar es Salaam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communication officer in the Secretaria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PARTNERS ENGAGEMENT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artnership welcomed 171 new partners, expanding its partner base from 589  to 760 partners as of October 20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tern Mediterranean Stop TB Regional Partnership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Stop TB Partnerships were established in Afghanistan, Japan and Vietnam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ond Round of the Challenge Facility for Civil Societ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s Forum preparation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Global Drug Facility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rack to reach 13M patient treatments delivered by end 20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successful Technical Review and Business Advisory Committees meetings hel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of increasing by 25%  Global Fund Direct Procurement clients is on trac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ment of effective stockpiles of first and second-line anti-TB drugs on trac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 is on track to double the Number of Diagnostic Kit orders from '07 baseline &amp; together with GLI/FIND secured $26.1M UNITAID approval for supply of new diagnostic tools from 2009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of securing additional UNITAID funds for paediatric &amp; second-line anti-TB drugs realized: US$ 56.4M approv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CHALLENGES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(cont.)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all out effort will have to be made to procure drugs and carry out the required activities to use the money that has become availab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 with WHO/EDM to increase the number of prequalified TB products particularly: 2nd line and pediatric drug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coming barriers to effective access: importation restrictions, registration, market protec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ing and strengthening of GDF's Direct Procurement Service; making it more self-sustain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ew business model based on close links with the business partners of GDF will have to be developed and implemen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11280" y="1557360"/>
          <a:ext cx="7848360" cy="1982880"/>
        </p:xfrm>
        <a:graphic>
          <a:graphicData uri="http://schemas.openxmlformats.org/drawingml/2006/table">
            <a:tbl>
              <a:tblPr/>
              <a:tblGrid>
                <a:gridCol w="2319120"/>
                <a:gridCol w="1733760"/>
                <a:gridCol w="1949400"/>
                <a:gridCol w="18460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s, US$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Implementation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plann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94,6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64,31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85800" y="3933720"/>
          <a:ext cx="7846920" cy="2016360"/>
        </p:xfrm>
        <a:graphic>
          <a:graphicData uri="http://schemas.openxmlformats.org/drawingml/2006/table">
            <a:tbl>
              <a:tblPr/>
              <a:tblGrid>
                <a:gridCol w="2317680"/>
                <a:gridCol w="1733760"/>
                <a:gridCol w="1950840"/>
                <a:gridCol w="1844640"/>
              </a:tblGrid>
              <a:tr h="92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DRUG FACILITY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s, US$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Implementation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plann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069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470,7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413000"/>
          <a:ext cx="8785080" cy="4968360"/>
        </p:xfrm>
        <a:graphic>
          <a:graphicData uri="http://schemas.openxmlformats.org/drawingml/2006/table">
            <a:tbl>
              <a:tblPr/>
              <a:tblGrid>
                <a:gridCol w="415080"/>
                <a:gridCol w="2603880"/>
                <a:gridCol w="1279080"/>
                <a:gridCol w="1176840"/>
                <a:gridCol w="1324800"/>
                <a:gridCol w="960120"/>
                <a:gridCol w="1025280"/>
              </a:tblGrid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artnership  Area of Work (AoW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udge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nditu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rate vs 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. 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level ACSM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25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3,516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3,324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advocacy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6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38,249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6,659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8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Fund proposal preparation and implement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4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4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0,228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 Profile enhance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9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2,783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8,124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communic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,872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7,865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ance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63,76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9,91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,045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 build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25,84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9,976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1,93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 and financial mgt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and innov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8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,99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728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Support to Working Group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0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11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11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6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94,6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64,3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88,9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50920" y="1773360"/>
          <a:ext cx="8713800" cy="3527280"/>
        </p:xfrm>
        <a:graphic>
          <a:graphicData uri="http://schemas.openxmlformats.org/drawingml/2006/table">
            <a:tbl>
              <a:tblPr/>
              <a:tblGrid>
                <a:gridCol w="453960"/>
                <a:gridCol w="2498760"/>
                <a:gridCol w="1487520"/>
                <a:gridCol w="1120680"/>
                <a:gridCol w="1189080"/>
                <a:gridCol w="961920"/>
                <a:gridCol w="1001880"/>
              </a:tblGrid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o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DF Area of Work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nditu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 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 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 review and monitor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83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49,2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6,29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icient supply of quality GDF produc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007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529,19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934,38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urement and supply activ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6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8,3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,70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F General Manage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1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3,9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,94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069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470,7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102,324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ependent External Evaluation satisfactorily comple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ponses to recommendations agreed, and accepted recommendations being implement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ing Board meeting successfully held (Egypt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ee Executive Committee Teleconferences hel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/Way Forwar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d frequency of High Level Mission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use of the Boar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GLOBAL ADVOCAC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4360" y="1412640"/>
            <a:ext cx="8964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gress in the US – PEPFAR etc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IV-TB Global Leaders Forum held in June 2008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U &amp; German – Parliamentary events, budget discussions ongo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stablishment of the Centre for Resource Mobilization websit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/Way Forwar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ing Strategic approach to advocacy in endemic "emerging economies" – India, China, Russia, Brazil, etc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-lateral work with potential donors (Spain, Ireland etc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t election advocacy – US (from January) and EU (from July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ource Gap analysis - publish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riculum on Resource Mobilization for partn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Move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Profiling TB: UN SG Special Envoy to Stop TB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1280" y="148392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WTBD 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ss conference with Chan, Piot, Kazatchkin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unch of Figo's campaign in Lond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HIV/TB Global Leaders Forum – UN, New Yor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 Ki-moon, Srgjan Kerim, Bill Clinton, Pres of Togo and Mozambique, First Ladies of Rwanda and Georgia, Chan, Piot, Kazatchkine, Dybul, Chesire, Zulu, and more than 60 ministerial deleg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ll for Action on HIV/TB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   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ivil Society Forum on Health Issues for CPLP - Lisb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linton Global Initiativ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Profiling TB: Ambassadors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720000"/>
                </a:solidFill>
                <a:uFillTx/>
                <a:latin typeface="Arial"/>
              </a:rPr>
              <a:t>Luis Fig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–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Poster/postcard campaign to Stop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lated in 9 languages, launched in London APPG, distributed by Kempinski Hotels (53 locations) and Red Cross (189 countries),  </a:t>
            </a:r>
            <a:r>
              <a:rPr b="0" lang="en-GB" sz="18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www.stoptb.org/fig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 , Burkina Faso: Ministry of Health through Total gas stations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   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omic Book on tuberculosi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lated in 10 languages already and grow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 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Media Coverag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BC: Special feature on Figo, CNN: featured in report on HIV/TB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720000"/>
                </a:solidFill>
                <a:uFillTx/>
                <a:latin typeface="Arial"/>
              </a:rPr>
              <a:t>Anna Cataldi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Missions to Afghanistan, Pakistan, Jordan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Photo Book: "Tuberculosis: voices of the unheard"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G8/2009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CSM (Country Level)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ing capacity for ACSM at Country Level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shops to help strategic implementation of Global Fund ACSM grants held in 4 WHO Regions. Specific country action plans develop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SM technical assistance coordinated in more than 10 countrie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sential ACSM tools for implementers developed: ACSM Handbook, KAP Survey Guide, Guiding Principles Community Involvem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upporting quality health journalism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ed country-level journalist training planned in Paris during Union Conference 2008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ment with the HDnet to engage their network of country-level journalists in covering key TB-related issu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3:19:11Z</dcterms:created>
  <dc:creator>bacligl</dc:creator>
  <dc:description/>
  <dc:language>en-US</dc:language>
  <cp:lastModifiedBy>bakerl</cp:lastModifiedBy>
  <dcterms:modified xsi:type="dcterms:W3CDTF">2008-11-04T14:30:42Z</dcterms:modified>
  <cp:revision>2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5345243</vt:r8>
  </property>
  <property fmtid="{D5CDD505-2E9C-101B-9397-08002B2CF9AE}" pid="3" name="_AuthorEmail">
    <vt:lpwstr>espinalm@who.int</vt:lpwstr>
  </property>
  <property fmtid="{D5CDD505-2E9C-101B-9397-08002B2CF9AE}" pid="4" name="_AuthorEmailDisplayName">
    <vt:lpwstr>Espinal Fuentes, Marcos Antonio</vt:lpwstr>
  </property>
  <property fmtid="{D5CDD505-2E9C-101B-9397-08002B2CF9AE}" pid="5" name="_EmailSubject">
    <vt:lpwstr>The Workpla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