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DAC1-D511-4579-A8D0-C1FB6A5C6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F1EF-5627-4DB2-BE13-FFB3A4EA7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8DB53E-D365-4755-8FE2-B28C634C0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FA1D68-9EE3-4C07-BF76-FE83FCD03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4D7BD0-8207-48C8-819E-6E80EA77C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EC198B-DB51-4B7E-B926-B2134808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A28191-3F70-442F-99F6-EE83A1DF0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26BFE0-43AF-4A35-B883-553AF4833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E800F5-1109-49C5-A161-D7B15F382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9D2A27-BA21-4479-B57E-9F28B1261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01B6AB-C189-48C1-8635-E48D0B275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186D47-BAD8-46AB-B8B4-36F323C8D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7155-E0B7-4A85-B5FF-61150BC12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A2AD69-D3DC-4D42-832A-F33E3E0C0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C98A6C-F156-4374-AD36-1D0A44751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9CB07D-4127-43B4-944E-2D50534C7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81724A-07F1-4764-9F2E-7454B974F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5D589D-E090-4CC3-8CCC-2776E2C6A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2FE1CB-A2EA-40B8-9CBA-293F909F4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024FDD-3FB6-4D86-A7FA-61E22CEB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DCAC02-BA85-411E-84CB-E4204F46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609801-D38E-4A04-B38A-97DA4D61F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F10C75-63BE-4202-BA08-11510FB27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76E6-1D58-4E58-A5AC-ACBDC1D99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433C0D-4889-430A-BA15-BF13D6921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91F760-12FC-4F1F-AF2A-CCC138460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349AB3-41E4-4E18-88FC-4B01ED74B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A34CE0-714D-4012-B7F9-216B79B35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6F8117-4B33-4661-80FC-4943B1D0D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CFE0C0-979F-48B0-8A6D-374638365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CB9E5E-550D-4A70-B745-4239F7D8E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C3A81D-2FAB-4E9D-95E0-41B6824B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EC8460-4CAD-4A9A-B097-444EA38E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7E29F4-F098-4437-8B87-46580FB13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0CFD0-3E30-4069-8860-FBFE18815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09B9E5-9AC8-40C5-AC15-C550BDEE0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223235-C5F3-419E-A511-2FDC65CB5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9C1FAA-E559-49BA-8D13-6CC24C4CB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BEFF95-D80D-4350-90BF-13A8CBD11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111434-3DE6-4371-BB13-1544162C0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F5B42F-106D-4998-B426-ADC9EB705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05EF86-1EEA-4155-B62A-B61F7C8AC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AA27E0-C618-4369-80DA-D87DF8916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7E14C4-E684-40AE-BAB9-323BD8AFF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D41D03-DD55-4F28-8D1E-21AD73F5F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E54B5-F203-42D8-858D-D01EAA2D1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FC93DF-EE96-4A9B-9650-12E6B69A3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3821EA-FECA-43B3-A948-28C6002B8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3F8C77-E2C4-4A8D-887E-3C3B21A63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A14200-F304-47C9-9ABD-7B8F16EA9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597D77-890E-4FE3-88B6-BA56CC6E9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FEBEC-1925-435A-909B-832E67B5B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F42B3-4F41-48FF-93F0-D345663B3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FC0C7-4E5B-4699-A780-41EF069E9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9EA27-227B-4F00-8AD0-896B028D5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C5890-8C9F-4913-8352-781040FD9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8A5C-3C36-471B-BF9E-58D9354F0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74BC3-1BE9-4B0D-9E44-BAB35F3AB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0ED45-64E9-4AA4-83CC-B3875358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C2A60-1FEF-4D8F-A0AF-42F4D750F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28DDB-6A81-4D16-80EA-B55B2F2BD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FC195-6964-4682-A98B-D42C56CFC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3C1BE-968A-44D4-9D22-E16E2C4A8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D53B2-D7B7-4579-BD48-40BF8760E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1826A-7DDE-43CF-949F-A25386A42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A7B11-E7A5-4395-9B1D-D02728080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26954-425C-4C95-9C11-C27AAF8A6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AF02-83CE-480B-9A19-C6A8948AD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D68D8-0095-4656-87FF-BCA3C172A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6C682-CE93-4F3B-AB5B-08688043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BF676-B1E1-4651-8EF3-CFD861E4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1AA4F-5282-4853-81A9-C02297A64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9F6B2-D393-4E0C-936C-80EE2411A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52B07-90D3-4B1B-BADA-FF65CAC4D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A0D44-F3B7-43AE-A031-09361496F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B5679-B80C-41D5-A717-915CD3B90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EF79C-B253-4B18-8B85-2E24B9834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B9C4D-2EB7-4D06-9258-2F1F7A8E3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32FE-37FD-46A5-9020-FD4CBDA01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F79BB-9728-4350-BDA9-D06A3E78B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6B5FA-6058-45AC-B90B-ECF10DCD5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7675D-E57D-4941-874C-C7337B033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2132B-688D-4CE0-866E-39D54A64D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DD705-D3E2-4533-9CC2-0FAC104BB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C0838-A12F-489C-B1EA-D9357ED6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1F933-1F12-455B-AA18-ADAFE90B2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D2BF5-B4AF-434A-A1AC-FA85A1525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E59EF-F2CE-4729-94C8-9C8F02627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EB619E-56EE-425F-B8FF-2E5D53071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D372-3F37-4880-9C84-26C4D8399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713D6-DE57-4308-877A-8BAB0E19D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F5F23-E098-47D2-B99E-8DC53CB1E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5082C-AE68-4694-AD91-F7235549B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B43952-00C5-4361-8394-A59D5E36C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DEAA7-4998-468E-BD33-D469BEC65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8FE3E-EC51-49F3-8330-16B2F5AC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0A815-21DF-4A17-A9D9-A08B11A1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CD0D81-DB3F-4466-898E-BF0C8CB2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4725BE-2C27-4D25-983E-E9697AEA4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02D29-6C70-4980-9107-8CF2A0CF2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D234-EDA4-407F-923F-96543F93C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56425B-B316-4429-9BF5-AC9EA3070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D94DA1-9E9C-4A61-949E-F50AD8245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C6987E-B1C1-4B3C-B15C-91BBB5368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4F84C2-F2EA-49A4-925A-66CBC8A49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ACE7C6-59A2-44FE-85FA-7BEBCBC87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248EC9-F50C-4AFE-8B54-7C25F246C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7AEC18-1DD9-495C-968B-67F5681FB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0848A-8E72-482A-988B-42BDE7A95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FF480D-06DC-4366-A191-765B4BCE8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55105A-6CEC-4872-B6D2-9FA533764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0FFE-632F-445F-A30F-216FA08F3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5E047E-0FC9-4602-BAB9-E01FA036E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415D32-80DB-4274-AF21-6D7558CF4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9CEF9A-F04A-4DF2-B58B-068E0F066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E6ECAD-3FCF-4CAB-B852-81753AC47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DEA75F-8327-41BD-A948-7439DA765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96F841-8669-491E-8868-85CD7B1F1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0B2743-6245-42F9-B763-9E9F59F3D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2E4CFC-66E5-48E2-8274-7CCAA9F7D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BD12A2-04D9-4F79-BAC9-776DCAE45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C31A24-6ECD-44DA-A779-BDD342DD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790D-B78C-461E-B54C-E5FCF16B1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03266C-8A46-464D-B96E-38BFD85D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5B8851-DCB1-4F42-B90F-753AB0EEF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6152ED-0498-4028-995E-7619F57DC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CDB0C2-8B1F-4B1B-A9C0-923FB70A8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7CA542-BCC7-4C20-A799-115EF1839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7D40FE-1CFB-4389-8D22-98FE1A424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4DCA63-8A10-425A-902D-EFB7DCF37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32F57C-CC0A-4F23-BB6A-8F439E4EE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78EEA2-96EB-4166-A48B-06AC0E6F8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FA8A7F-F831-4E0D-9029-4C27222E2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78F8-7784-4137-86B6-6607ECB2D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E8E9DE-BD32-4BBB-91FE-D32965ACA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AE2578-D71A-4FCC-8A32-134C343B9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5C1AFA-9328-4D03-8BF4-059C26D8F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D5A926-0292-4A72-87BE-799BFFE9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975E8A-5507-491E-8118-743D00EBD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7E4C2D-9B24-467C-90FF-1D2BC597E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B80CA4-3112-49E2-8283-78540335B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8AD863-63CD-4A5F-8152-9430D8056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FC3FC1-374B-40FB-9044-1F1F9F2DC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1E07E9-FD71-48B5-A5EE-09A22936B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D76E2-F33E-431E-92BE-69D3CBD7E89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17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18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420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21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2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44642-636D-4E50-968A-BCE10A6E8F5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5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66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67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469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3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3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3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096F6-C4C1-4C65-88F0-23834CD55C9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2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513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1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16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B90A4-8468-4409-9508-915BC08919D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8f0f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8f0f4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1FAD7-829F-4B5C-983D-DFFD6AF5AB4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4EDDB-59AA-4874-9429-CD7CF516F2A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4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49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65081-0DED-4FDA-90A2-8916B5639DC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94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95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97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9E58E-A0D8-4784-B237-61E46D973D9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509B2-717E-4B79-90C9-98096086C93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8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83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85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3EFC4-241B-4B28-8DBB-078CF348835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9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3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3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B0FEE-9C8C-477A-BAF2-356927410DB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297B2-7C55-427D-B76A-37B5F43F114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Title 1" descr=""/>
          <p:cNvPicPr/>
          <p:nvPr/>
        </p:nvPicPr>
        <p:blipFill>
          <a:blip r:embed="rId1"/>
          <a:stretch/>
        </p:blipFill>
        <p:spPr>
          <a:xfrm>
            <a:off x="682560" y="1596960"/>
            <a:ext cx="8053560" cy="1994040"/>
          </a:xfrm>
          <a:prstGeom prst="rect">
            <a:avLst/>
          </a:prstGeom>
          <a:ln w="0">
            <a:noFill/>
          </a:ln>
        </p:spPr>
      </p:pic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1371600" y="3331800"/>
            <a:ext cx="6400800" cy="2668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Update and comments on the agend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Ezio Távora dos Santos Filh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15</a:t>
            </a:r>
            <a:r>
              <a:rPr b="0" lang="en-US" sz="2700" spc="-1" strike="noStrike" baseline="30000">
                <a:solidFill>
                  <a:srgbClr val="464646"/>
                </a:solidFill>
                <a:latin typeface="Lucida Sans Unicode"/>
              </a:rPr>
              <a:t>th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 STOP TB PARTNERSHIP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Coordinating Board Meet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reation of the National Committee for the Partners’ Foru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1st meeting on Sept.4th, 2008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Confirming commitments, sharing responsibilitie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Municipality Gov: Convention center negotiations, Municipal HCC site visits (TBC); emergency support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State Gov: Security, transportation, Welcome Reception, site visits State HCC Greater Rio; emergency support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Federal Gov: hiring convention center’s equipment and furnishing, process of visas and reception authorities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2nd meeting Sept.18th, 2008; Sept.30</a:t>
            </a:r>
            <a:r>
              <a:rPr b="0" lang="en-US" sz="2300" spc="-1" strike="noStrike" baseline="30000">
                <a:solidFill>
                  <a:srgbClr val="000000"/>
                </a:solidFill>
                <a:latin typeface="Lucida Sans Unicode"/>
              </a:rPr>
              <a:t>th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virtual meet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Following up in organizing aspect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1" name="Date Placeholder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2" name="Footer Placeholder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3" name="Slide Number Placehold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529C0-1EB2-4756-9DA5-37EBBF77FC3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64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razilian Partnershi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AHO-WH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inistry of Healt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inistry of Foreign Affai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ate Governor’s Cabine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ate Secretary of Healt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ate Secretary of Securit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ate Secretary of Welfa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unicipal Secretary of Healt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cademi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6" name="Date Placeholder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7" name="Footer Placeholder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8" name="Slide Number Placehold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38CE9-0DDD-47AF-85A2-1B3E47E735A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69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arnival initiative as from December Schools of Samba rehearsal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istribution of information along Summer and during the Carniva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fo in train stations, subwa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1" name="Date Placeholder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2" name="Footer Placeholder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3" name="Slide Number Placehold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AD433-7B77-4FC4-B544-716032417E3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74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rt exposi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rt curator to organize expo; photography expo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opular art in subway station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B Parade on Sunday 22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nd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, Copacabana Beac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ncer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6" name="Date Placeholder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7" name="Footer Placeholder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8" name="Slide Number Placehold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9C4B2-0896-486D-BC78-40B74D68469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79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03:23:50Z</dcterms:created>
  <dc:creator>Ezio T. Santos Filho</dc:creator>
  <dc:description/>
  <dc:language>en-US</dc:language>
  <cp:lastModifiedBy>Ezio T. Santos Filho</cp:lastModifiedBy>
  <dcterms:modified xsi:type="dcterms:W3CDTF">2008-10-28T06:06:53Z</dcterms:modified>
  <cp:revision>15</cp:revision>
  <dc:subject/>
  <dc:title>Partners’ forum 2009</dc:title>
</cp:coreProperties>
</file>