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wmf" ContentType="image/x-wmf"/>
  <Override PartName="/ppt/media/image7.jpeg" ContentType="image/jpeg"/>
  <Override PartName="/ppt/media/image6.wmf" ContentType="image/x-wmf"/>
  <Override PartName="/ppt/media/image8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7536-BA78-49DE-B409-DFA9E9865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E1D1-666F-4D18-B3BE-8F0DBA1FC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93D5-6DD2-4132-A71A-EC1537B47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371A-5B05-47FC-BDF7-0E5478BEE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D902-E56A-4A40-B338-AF51EA7DB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10F2-9685-43F6-88D4-110D852ED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69D0-D623-4BAE-8677-6CA0312B5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D8B7-DC67-44C7-BFD7-F8753B761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E2D8-29BF-4909-ABB1-B0AA6BE90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E030-9742-451E-B5CE-B6891E7B5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0C41-C4FA-49B0-8D8C-70D1893E6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AF82-91D8-4D44-8715-1C197879B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739C0-5180-4941-B87D-56848AC715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2.jpe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wmf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2.jpeg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2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2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2.jpeg"/><Relationship Id="rId1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336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1383840"/>
            <a:ext cx="9144000" cy="47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  <a:ea typeface="宋体"/>
              </a:rPr>
              <a:t>Ministerial Meeting to Reach the </a:t>
            </a: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Arial"/>
                <a:ea typeface="宋体"/>
              </a:rPr>
              <a:t>Millennium Development Goals for T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  <a:ea typeface="宋体"/>
              </a:rPr>
              <a:t>Confronting MDR-TB and XDR-T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-3 April 2009, Beijing, Ch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5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Stop TB Partnership Coordinating Board Meetin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8-29 October 2008, Bagamoyo, Tanza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7524720" y="6308640"/>
            <a:ext cx="1476360" cy="4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336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ction ahead: post-Beij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7524720" y="6308640"/>
            <a:ext cx="1476360" cy="4539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79280" y="1700280"/>
            <a:ext cx="8640720" cy="47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cific Health Summit on MDR-TB, June 2009, Seattle, USA, with focus on private sect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ion Asia Pacific Region Conference on MDR-TB, September 2009, Beijing, Chin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orld Conference on Lung Health, October 2009, Cancun, Mexic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World Health Assembly 20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ountry a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336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top TB Coordinating Board is asked to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7524720" y="6308640"/>
            <a:ext cx="1476360" cy="45396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ndorse the aims and the proces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btain all Partners' support to WHO and ensure highest level participation in Beij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date high-level missions to selected priority countr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btain support from Partners to mobilize political commitment and support technical plan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btain support from technical Partners to address policies towards bottlene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date contribution of Partners' Forum to support development of a Call for Action from Civil Socie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sist in development of "asks" to all key agenc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336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15640" y="1628640"/>
            <a:ext cx="5003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0,000 new MDR-TB cases annu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DR-TB in 50 countr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5% of MDR-TB cases detected in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% of MDR-TB cases projected to be treated in 2008 and 3% only under GLC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out 85% of the global MDR-TB burden in 27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>
            <a:off x="7524720" y="6308640"/>
            <a:ext cx="1476360" cy="4539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8"/>
          <a:stretch/>
        </p:blipFill>
        <p:spPr>
          <a:xfrm>
            <a:off x="5327640" y="2060640"/>
            <a:ext cx="3565440" cy="41050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95040" y="6524640"/>
            <a:ext cx="4698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urces: Global TB Report, 2008 and IV Global DRS Report,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4572000" y="2992320"/>
          <a:ext cx="4500720" cy="317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2992320"/>
                    <a:ext cx="4500720" cy="317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5336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28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Global moment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34920" y="1523880"/>
          <a:ext cx="5761080" cy="4065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4920" y="1523880"/>
                    <a:ext cx="5761080" cy="406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6"/>
          <a:stretch/>
        </p:blipFill>
        <p:spPr>
          <a:xfrm>
            <a:off x="7524720" y="6308640"/>
            <a:ext cx="1476360" cy="4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336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27 high MDR-TB burden count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20800" y="191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ssian Fed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kist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nglade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th Af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kra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ones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ilipp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ge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zbekist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mocratic Republic of Con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azakhst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et N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32360" y="1844640"/>
            <a:ext cx="338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thiop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yanm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jikist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zerbaij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ublic of Moldo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yrgyzst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la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org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lga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thua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me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tv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o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 Brasil , Thai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524720" y="6308640"/>
            <a:ext cx="1476360" cy="4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336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Ration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920" y="170136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ril 2008: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XDR-TB Task Force recommended WH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o convene a meeting with the 27 high priority MDR-TB countries to increase political commitment and tackle bottlenecks hampering pro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May 2008: Stop TB CB supported the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June 2008: STAG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 urged WHO t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raise political commitment and action in the 27 priority MDR-TB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June 2008: the Global Leaders Forum on HIV/TB defined MDR-TB and XDR-TB as threats to global health security and to HIV/AIDS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Past experiences on DOTS Expansion globally (Amsterdam &amp; Cairo 2000) and in China (Xi'an 2004) show effectiveness of political ca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7"/>
          <a:stretch/>
        </p:blipFill>
        <p:spPr>
          <a:xfrm>
            <a:off x="7524720" y="6308640"/>
            <a:ext cx="1476360" cy="4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336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ims of the ministerial mee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95280" y="1915920"/>
            <a:ext cx="453708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strengthen political commitment and build engagement by governments and international community to control M/XDR-TB through better TB control and M/XDR-TB ca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use catalytically the event to (i) support countries to develop M/XDR-TB control plans and (ii) address the bottlenecks hampering pro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7524720" y="6308640"/>
            <a:ext cx="1476360" cy="453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5"/>
          <a:stretch/>
        </p:blipFill>
        <p:spPr>
          <a:xfrm>
            <a:off x="611280" y="1916280"/>
            <a:ext cx="320976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336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Bottlenec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4920" y="1844640"/>
            <a:ext cx="461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drive towards solutions to bottlenecks in areas such 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ti-TB SLD drug market, quality, procurement, and rational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boratory capacity and rapid diagnostic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fection contro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uman resources and models of care deli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gagement of private pract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tient and community rights and responsib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7524720" y="6308640"/>
            <a:ext cx="1476360" cy="4539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4716360" y="1928880"/>
            <a:ext cx="4356360" cy="43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336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ction ahead: pre-Beij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353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49"/>
              </a:spcBef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verarching strategy finaliz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ottlenecks consultations and pap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odelling to predict evolution of epidemi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SzPct val="10282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rtner engagement and "asks"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SzPct val="10282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untry level advocacy and technical assistance for plann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SzPct val="10282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gagement of civil society and PF call for a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SzPct val="10282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munication strateg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SzPct val="10282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ation to be develop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0"/>
          <a:stretch/>
        </p:blipFill>
        <p:spPr>
          <a:xfrm>
            <a:off x="7524720" y="6308640"/>
            <a:ext cx="1476360" cy="4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336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eijing Mee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7524720" y="6308640"/>
            <a:ext cx="1476360" cy="45396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rganized by WHO with the Ministry of Health of the People's Republic of China and Bill &amp; Melinda Gates Found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About 180 participants invited: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Ministerial delegations, multilateral agencies, bilateral donors, technical agencies and NGOs, civil society, research community and corporate sect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Meeting agenda outlin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Day 1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: High-level political meeting involving high-profile leaders and Ministers from the 27 countries+. Beijing declaration endor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ay 2 &amp; 3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: Technical meeting between Ministry of Health officials, NTP managers, and partners addressing planning and country-specific bottlene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9T12:21:39Z</dcterms:created>
  <dc:creator>bailliep</dc:creator>
  <dc:description/>
  <dc:language>en-US</dc:language>
  <cp:lastModifiedBy>raviglionem</cp:lastModifiedBy>
  <dcterms:modified xsi:type="dcterms:W3CDTF">2008-10-23T19:48:57Z</dcterms:modified>
  <cp:revision>5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