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B29AA-4B57-467A-AFCB-F442BF33A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006F-3555-42E0-AE67-16654C8DD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C1B83-0790-42A7-8F33-F3E394283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8542-4ECB-427A-8F72-35420D2BE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D51673-621B-42A0-A6E2-59928B13C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35DDE1-8F6D-45B0-9234-D6C66DA9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A7D9E-79C1-4484-9EAC-6946C2F1C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2EC3A0-D897-4215-ADA1-98A958AB5D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338A48-8BAF-4BD4-A8F6-A14EE73FE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65405B-26BE-4975-9F92-FEE81A3F4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33678A-5B08-4523-BE45-F2BB03BC7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B60E-FDED-4A94-BF09-19E00F34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A840DC-9E4C-4971-9909-AD98810FB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7E1CD1-2A16-410B-9708-C851FB563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93928-E309-4306-8B71-B61A9F5BC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999CF-83D7-4BC9-BC10-0B339ABE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C2ACB3-8743-495E-85B9-F3189B7E7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109D1-0141-4330-A00D-FC4355335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BA5343-AA76-46C9-97A8-5FFB8859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7AB72-C40B-4928-A611-B1DAEBCD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05A3CA-FA6F-4E46-BF34-60F6B9B86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A2B716-C6B9-4D8F-B5C7-EE22AE763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2498-85E4-47C4-9E4F-1131940C2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B3384-073A-4F22-8932-9F716E1DE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A9CB4-552E-4369-ADB9-A7CC500FE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FEC9F-A605-42AC-A4F1-A8D6A2944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9BEF2-35C3-4E7D-88BE-8D323CC4C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48D252-B2CF-48AE-BBCF-9812F407A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A6F1CA-C8F0-4D28-AAF8-BEE944CD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E5B378-77DA-4F6A-8732-379855E54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56EF-DF76-40FB-A2DE-6C721C3CC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826D-445E-4341-8D31-7A93BA43F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A5FC-4F48-4745-BCBB-9CDA9E8D3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BC215-CFBD-484E-AA46-A00CEF67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3D94-169D-4D1A-9EBC-82C34713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67642-28F0-4896-B51A-83268554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D1012-2232-41A9-965E-71F7EFC375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500B5-9F40-4157-83E6-EBB997367B1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4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6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9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9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9A40D-527E-489E-8A05-11E28CFDDEC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13012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lobal TB Research Mov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id Syed, Joanne Carter, Barbara Laughon, Peter Sm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"/>
          <p:cNvGraphicFramePr/>
          <p:nvPr/>
        </p:nvGraphicFramePr>
        <p:xfrm>
          <a:off x="233280" y="463680"/>
          <a:ext cx="8675640" cy="59306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3280" y="463680"/>
                    <a:ext cx="8675640" cy="593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7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6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8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8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2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9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9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8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3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"/>
          <p:cNvGraphicFramePr/>
          <p:nvPr/>
        </p:nvGraphicFramePr>
        <p:xfrm>
          <a:off x="457200" y="38592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06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07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9" name=""/>
          <p:cNvSpPr/>
          <p:nvPr/>
        </p:nvSpPr>
        <p:spPr>
          <a:xfrm>
            <a:off x="3564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0" name=""/>
          <p:cNvGraphicFramePr/>
          <p:nvPr/>
        </p:nvGraphicFramePr>
        <p:xfrm>
          <a:off x="457200" y="468360"/>
          <a:ext cx="8229600" cy="5627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68360"/>
                    <a:ext cx="8229600" cy="56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2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3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457200" y="380880"/>
          <a:ext cx="8229600" cy="5627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8229600" cy="562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18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19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3960" y="0"/>
            <a:ext cx="171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2005 Spe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569880" y="539640"/>
          <a:ext cx="7975800" cy="545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9880" y="539640"/>
                    <a:ext cx="7975800" cy="545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4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25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7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been accomplished si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pecific deliverabl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3049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 Why are the GP2 numbers insuffici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include basic science or fully account for operational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P2 doesn’t account for research trial capacity building to address the R&amp;D needs for new tools developm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umptions of the funding available for TB new tools going into the first year of GP2 (2006) is less than what TAG tracked for 200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mounts available in 2005 needs to be increased by nearly 5 fold in order for the GP2 resource needs to be m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440" y="5722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34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FY05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 2006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ase 5-fold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GP2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TAG 10 yr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Actual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estimat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increase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2015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r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By new tool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ateg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iagnostic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16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9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516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drug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2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18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00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B vaccin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91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50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4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6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w tools sub.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6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3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asic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9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7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8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ed/Infrastructur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4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onal researc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btotal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8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4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tal TB R&amp;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94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68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970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957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146240"/>
                <a:tab algn="l" pos="2292480"/>
                <a:tab algn="l" pos="3438360"/>
                <a:tab algn="l" pos="4584600"/>
                <a:tab algn="l" pos="5730840"/>
                <a:tab algn="l" pos="6877080"/>
                <a:tab algn="l" pos="8023320"/>
                <a:tab algn="l" pos="9169560"/>
                <a:tab algn="l" pos="1031544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uch TB R&amp;D Funding is Really Needed (Dollars in Millions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8120" y="5572080"/>
            <a:ext cx="1203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68120" y="5400720"/>
            <a:ext cx="135576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41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4320" y="0"/>
            <a:ext cx="492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Why are the Global Plan Numbers Insufficien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733920" y="4572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34290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315200" y="5029200"/>
            <a:ext cx="685800" cy="304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mmend a comprehensive global movement for TB R&amp;D to reach Global Plan 2 goa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R&amp;D expenditures and activities need to be systematized and tracked annu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dustry should increase reporting transparenc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G recommends 5-fold increase, to 2 B/y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)  $1.05B/year is needed for new tools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ii) $950M/year is needed for basic science, infrastructure development, and operational resear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8120" y="5842080"/>
            <a:ext cx="1051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57320" y="5676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252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future direc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urce trac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eat assessment every 1-2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valuate this data to identify new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ocating for more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Fair share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Calculating Country Fair Shares of R&amp;D Needs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1371600" y="4876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Joanne Carter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RESULTS/RESULTS Educational Fund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Basic Assump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100% of annual R&amp;D needs to be contributed by wealthy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 calculated as country’s percentage of global wealth (Country GNI 2005* as % of total World GNI 2005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-44784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air shares estimated for 22 OECD DAC countrie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4478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*GNI source: World Development Indicators database, World Bank, 1 July 2006. Online. http://siteresources.worldbank.org/DATASTATISTICS/Resources/GNI.pdf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Example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399888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he GPSTB 2006-2015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900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59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Garamond"/>
              </a:rPr>
              <a:t>Based on TAG expanded R&amp;D estimate: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Annual R&amp;D need =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2 b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554400" indent="-55440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Ex: US Fair Share (28.83%) =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US$577 mill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Outstanding Issues/Questions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ecision on overall annual R&amp;D need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fining and expanding current donor financing database building on TAG report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Methodology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OECD/DAC countries only? Include other Higher-Income Countries (e.g. Middle East – Bahrain, Brunei, Kuwait, Qatar, Saudi Arabia, UAE; Asia – Hong Kong, South Korea, Singapore)? Separate “share” for the EC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Donor countries providing 100% of R&amp;D? What about private sector and foundations? What about some endemic countries?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09480" y="1523520"/>
            <a:ext cx="78487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Turning Fair Shares into an Advocacy Tool: </a:t>
            </a:r>
            <a:br>
              <a:rPr sz="4800"/>
            </a:br>
            <a:r>
              <a:rPr b="1" lang="en-US" sz="4800" spc="-1" strike="noStrike">
                <a:solidFill>
                  <a:srgbClr val="e5e5ff"/>
                </a:solidFill>
                <a:latin typeface="Garamond"/>
              </a:rPr>
              <a:t>Example of the GFATM Donor Report Card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Grading Scal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Based on % of each country’s fair share pledged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+  = 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≥ 11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A    =  100-10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B    = 81-99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C    = 61-8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D    = 51-6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F    = 0-50% pledged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  <a:ea typeface="Arial"/>
              </a:rPr>
              <a:t>N   = Incomplet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discussed in Abuj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greement that R&amp;D is critical to GP su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is Research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date that the Partnership should advocate for increased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what are current resource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Garamond"/>
              </a:rPr>
              <a:t>What Does Report Card Look Like?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3835440" cy="4976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4800600" y="1371600"/>
            <a:ext cx="3830760" cy="495288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4572000" y="1371600"/>
            <a:ext cx="0" cy="4952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 research activities in TB and TB/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.S. Federal TB Task Fo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 global funders of basic and clinical science (NIH, Gates Foundation, USAID, TB Alliance, FIND, Aeras, CDC, MRC, Wellcome Trust, EC, companies) to meet, compare portfolios and clinical activities/sites/resources, identify gaps and potential synerg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 utilization – coordinate lab, human resources, and clinic strengthening to benefit care and expand research opportunities and capac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 future cooperative initiatives to fill research ga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plications for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ources of New Tools Working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ople connections for collab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minish concern re: duplication of eff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pid mobilization of new find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 of advocacy positions based on scientific landsc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xt Steps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eci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ue tender for resource track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tes Grant will cover some of th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Discu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itate fair share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ACSM can best use TAG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m ad hoc group to map research landsca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hese activities fit within WG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ecific Deliverables (6 month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act awarded for tracking (Partnershi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st of top donors (RESULTS/TA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ocacy plan (ACS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p of research activities (ad hoc grou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as accomplished since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“research” - S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pidemiology and model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xizing impact of curr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&amp; D for new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sic res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rification of current resources -TA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5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o funds TB R&amp;D; What do they fund; What are the gaps, What is need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y Cindra Feuer, Javid Syed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Bob Huff, &amp; Mark Harringt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1th 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v 29-30,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karta,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TB R&amp;D spending for 200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2005 actually compare to GP’s assumptions for 2006 and goals for 2015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is compare to what is really nee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0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AGs theory of change is borne out of 25 years of experience in HIV research activism: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Researchers+Policy Makers+Community Activists= Increased Political Will+ Resources+ Efficient and Effective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The development of a comprehensive research agenda that is implemented in a coordinated fashion can greatly improve research effectiveness and efficien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62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73120" y="527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57200" y="380880"/>
            <a:ext cx="8229600" cy="1143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74720" y="60102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228600" y="5837400"/>
            <a:ext cx="1143000" cy="871560"/>
            <a:chOff x="228600" y="5837400"/>
            <a:chExt cx="1143000" cy="871560"/>
          </a:xfrm>
        </p:grpSpPr>
        <p:sp>
          <p:nvSpPr>
            <p:cNvPr id="168" name=""/>
            <p:cNvSpPr/>
            <p:nvPr/>
          </p:nvSpPr>
          <p:spPr>
            <a:xfrm>
              <a:off x="228600" y="5837400"/>
              <a:ext cx="1066680" cy="838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28600" y="5837400"/>
              <a:ext cx="1143000" cy="87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T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eatment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ction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G</a:t>
              </a: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roup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57200" y="385920"/>
          <a:ext cx="8229600" cy="5626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5920"/>
                    <a:ext cx="8229600" cy="562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57200" y="496800"/>
          <a:ext cx="8217000" cy="5891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96800"/>
                    <a:ext cx="8217000" cy="589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6T20:26:52Z</dcterms:created>
  <dc:creator>Peter Small</dc:creator>
  <dc:description/>
  <dc:language>en-US</dc:language>
  <cp:lastModifiedBy>Peter Small</cp:lastModifiedBy>
  <dcterms:modified xsi:type="dcterms:W3CDTF">2006-11-30T01:47:02Z</dcterms:modified>
  <cp:revision>22</cp:revision>
  <dc:subject/>
  <dc:title>Global TB Research Movement</dc:title>
</cp:coreProperties>
</file>