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1B86-5350-4867-9780-977D51EF3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4360" y="4343400"/>
            <a:ext cx="548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DA5C-082E-47CD-BA4B-FC2D8A298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63DF-B094-4CFE-AE11-E656E047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77B1-7471-4D8E-9A78-7FEDC3E1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5704-3733-4960-8D67-FE8A943FC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B680-C477-4DC1-A141-73D94737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4B24-32AA-407D-A72A-CCDBCDB9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4EAF-FF19-4B79-AACA-4F35AC82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F0D6-FD1A-4126-9305-2ACAF7DD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21D6-6AE7-47D0-B09A-8125565C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08FE-E093-49F0-8C8D-24F10A2F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67D9-175C-4665-AE65-FAB5BAB9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A21E-485D-41B4-8F67-2FD33AE2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60DF-8F5C-4CA9-918F-A7F9A020C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708360" y="6284880"/>
            <a:ext cx="1704960" cy="457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63640" y="0"/>
            <a:ext cx="7380360" cy="765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8097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409920" y="3889440"/>
            <a:ext cx="2521080" cy="1141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6204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73200" y="28526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792840" y="4869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62040" y="4869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673200" y="3860640"/>
            <a:ext cx="1666800" cy="895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80400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6792840" y="3860640"/>
            <a:ext cx="1666800" cy="895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3780000" y="28940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6792840" y="28940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378000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3784680" y="5232240"/>
            <a:ext cx="1704960" cy="4572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top TB Partnershi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xternal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missioned by the Stop TB Partnership Coordinating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rnest Loevinsoh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867280" y="1701720"/>
            <a:ext cx="2987640" cy="4319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003 External Evaluation Key 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1557360"/>
            <a:ext cx="5545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widely respected  global health partnership, its mission and strategy commanded resp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ded value to what partners were  do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wiftly created new initi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ilt a broadly supported Partnership archit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unched  a complex Global Drug Fac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461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objective of the Stop TB Partnership external evaluation is to determine whether the global Partner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Adds major value to the individual efforts of      the Partners and exercises impact over the TB epidem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Has the appropriate strategic focus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Has appropriate structure, governance arrangements, managerial mechanisms, and management processes to continue functioning in an accountable ma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Princi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igorous and objective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curate reporting on evaluation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intenance of quality throughout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18640"/>
            <a:ext cx="91440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Policy Key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783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intenance of quality throughout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idenced-based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rmative in n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vide assurances on the Partnership's risk managemen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volvement of stakeholder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ide dissemination of evaluation fi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6237360"/>
            <a:ext cx="172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1640" y="2125800"/>
            <a:ext cx="84614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l elements of the Partnership, including GDF to be co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eriod to be covered 2001 to 2006, using  2003 evaluation and WG review as key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selection of countries where Partnership and GDF activities are being undertaken to be consul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udget around $800,000 (2003 evaluation cost US$882,3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unding secured from DF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80000" y="6308640"/>
            <a:ext cx="151272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1840" y="1413000"/>
            <a:ext cx="8713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elev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ddressing problems of high priority  as viewed by actual and potential stakehold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ectiveness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ble to bring TB control to a higher level; give impetus to the Stop TB Movement and assess the impact on the iss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ici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sessing the outputs of the Partnership and their quality in relation to resources, funds and human efforts inves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ustain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termining the suitability of the Partnership structure and proc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000" y="100800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Milestones and Timeline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March to December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2325600"/>
            <a:ext cx="885672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ch  - Finalisation of the working arrangements and commencement of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uly  - First draft report received; feedback to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ptember – Second draft report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ctober- CB discussions on second draft report  management response prepared; feedback to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cember- Final report received; approved by CB and disse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100800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Board is ask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2325600"/>
            <a:ext cx="885672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dorsement of the evaluation objectives, variables, and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nal approval of the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ablishment of a steering committee (5 members) or mandating responsibility to the Ex 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4:49:26Z</dcterms:created>
  <dc:creator>maggir</dc:creator>
  <dc:description/>
  <dc:language>en-US</dc:language>
  <cp:lastModifiedBy>user</cp:lastModifiedBy>
  <dcterms:modified xsi:type="dcterms:W3CDTF">2006-11-28T05:10:03Z</dcterms:modified>
  <cp:revision>12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