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CC34E-538C-4570-A769-1559BA682D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4360" y="4343400"/>
            <a:ext cx="5489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7C63-D636-4437-9856-6387CB9B1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55F46-1A8B-418B-9EC3-5B23AD6B0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6FF3-D4E5-4590-A118-72F98B528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0AF5-0070-4DA7-A4B1-EB50E825AF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09711-D012-4B2B-A5D9-F1CFEE090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77300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4046760"/>
            <a:ext cx="264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D62B-E1A4-4212-80F2-C673A3B92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5B09-B3BF-4B77-9ADA-5673A50B5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DDED-F358-4C95-BD84-BABBFC8BC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836640"/>
            <a:ext cx="8229600" cy="387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98F-5783-4401-967E-029F6CD8A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7214C-4B8C-4FF0-99F1-7D17A883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04676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A1103-3D95-466F-A72A-62DB4EE7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773000"/>
            <a:ext cx="40158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46760"/>
            <a:ext cx="8229600" cy="20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707D-E01B-4E78-800F-6BD5882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.png"/><Relationship Id="rId15" Type="http://schemas.openxmlformats.org/officeDocument/2006/relationships/slideLayout" Target="../slideLayouts/slideLayout13.xml"/><Relationship Id="rId16" Type="http://schemas.openxmlformats.org/officeDocument/2006/relationships/slideLayout" Target="../slideLayouts/slideLayout14.xml"/><Relationship Id="rId17" Type="http://schemas.openxmlformats.org/officeDocument/2006/relationships/slideLayout" Target="../slideLayouts/slideLayout15.xml"/><Relationship Id="rId18" Type="http://schemas.openxmlformats.org/officeDocument/2006/relationships/slideLayout" Target="../slideLayouts/slideLayout16.xml"/><Relationship Id="rId19" Type="http://schemas.openxmlformats.org/officeDocument/2006/relationships/slideLayout" Target="../slideLayouts/slideLayout17.xml"/><Relationship Id="rId20" Type="http://schemas.openxmlformats.org/officeDocument/2006/relationships/slideLayout" Target="../slideLayouts/slideLayout18.xml"/><Relationship Id="rId21" Type="http://schemas.openxmlformats.org/officeDocument/2006/relationships/slideLayout" Target="../slideLayouts/slideLayout19.xml"/><Relationship Id="rId22" Type="http://schemas.openxmlformats.org/officeDocument/2006/relationships/slideLayout" Target="../slideLayouts/slideLayout20.xml"/><Relationship Id="rId23" Type="http://schemas.openxmlformats.org/officeDocument/2006/relationships/slideLayout" Target="../slideLayouts/slideLayout21.xml"/><Relationship Id="rId24" Type="http://schemas.openxmlformats.org/officeDocument/2006/relationships/slideLayout" Target="../slideLayouts/slideLayout22.xml"/><Relationship Id="rId25" Type="http://schemas.openxmlformats.org/officeDocument/2006/relationships/slideLayout" Target="../slideLayouts/slideLayout23.xml"/><Relationship Id="rId2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D879-0507-441C-8FE9-AB1FCB3A41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708360" y="6284880"/>
            <a:ext cx="1704960" cy="4572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763640" y="0"/>
            <a:ext cx="7380360" cy="76500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809720" cy="819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409920" y="3889440"/>
            <a:ext cx="2521080" cy="11412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9478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6204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5"/>
          <a:stretch/>
        </p:blipFill>
        <p:spPr>
          <a:xfrm>
            <a:off x="673200" y="28526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6"/>
          <a:stretch/>
        </p:blipFill>
        <p:spPr>
          <a:xfrm>
            <a:off x="67928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7"/>
          <a:stretch/>
        </p:blipFill>
        <p:spPr>
          <a:xfrm>
            <a:off x="662040" y="4869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8"/>
          <a:stretch/>
        </p:blipFill>
        <p:spPr>
          <a:xfrm>
            <a:off x="67320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9"/>
          <a:stretch/>
        </p:blipFill>
        <p:spPr>
          <a:xfrm>
            <a:off x="6804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0"/>
          <a:stretch/>
        </p:blipFill>
        <p:spPr>
          <a:xfrm>
            <a:off x="6792840" y="3860640"/>
            <a:ext cx="1666800" cy="89568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1"/>
          <a:stretch/>
        </p:blipFill>
        <p:spPr>
          <a:xfrm>
            <a:off x="378000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2"/>
          <a:stretch/>
        </p:blipFill>
        <p:spPr>
          <a:xfrm>
            <a:off x="6792840" y="289404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3"/>
          <a:stretch/>
        </p:blipFill>
        <p:spPr>
          <a:xfrm>
            <a:off x="3780000" y="5877000"/>
            <a:ext cx="1666800" cy="8953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4"/>
          <a:stretch/>
        </p:blipFill>
        <p:spPr>
          <a:xfrm>
            <a:off x="3784680" y="5232240"/>
            <a:ext cx="1704960" cy="4572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981000"/>
            <a:ext cx="7772400" cy="11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5"/>
    <p:sldLayoutId id="2147483663" r:id="rId16"/>
    <p:sldLayoutId id="2147483664" r:id="rId17"/>
    <p:sldLayoutId id="2147483665" r:id="rId18"/>
    <p:sldLayoutId id="2147483666" r:id="rId19"/>
    <p:sldLayoutId id="2147483667" r:id="rId20"/>
    <p:sldLayoutId id="2147483668" r:id="rId21"/>
    <p:sldLayoutId id="2147483669" r:id="rId22"/>
    <p:sldLayoutId id="2147483670" r:id="rId23"/>
    <p:sldLayoutId id="2147483671" r:id="rId24"/>
    <p:sldLayoutId id="2147483672" r:id="rId25"/>
    <p:sldLayoutId id="2147483673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836640"/>
            <a:ext cx="82296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Stop TB Partnership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External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mmissioned by the Stop TB Partnership Coordinating Bo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rnest Loevinsoh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867280" y="1701720"/>
            <a:ext cx="2987640" cy="431964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691920"/>
            <a:ext cx="91440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2003 External Evaluation Key conclu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79280" y="1557360"/>
            <a:ext cx="5545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 widely respected  global health partnership, its mission and strategy commanded resp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dded value to what partners were  do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wiftly created new initiativ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uilt a broadly supported Partnership archite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aunched  a complex Global Drug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395280" y="1125000"/>
            <a:ext cx="8461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-8128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objective of the Stop TB Partnership external evaluation is to determine whether the global Partnershi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1. Adds major value to the individual efforts of      the Partners and exercises impact over the TB epidemic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Has the appropriate strategic focus;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168560" indent="-71136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Has appropriate structure, governance arrangements, managerial mechanisms, and management processes to continue functioning in an accountable mann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836640"/>
            <a:ext cx="9144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rinci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igorous and objective assess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ccurate reporting on evaluation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818640"/>
            <a:ext cx="9144000" cy="73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Policy Key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39280" y="1412640"/>
            <a:ext cx="87836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intenance of quality throughout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videnced-based inform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ormative in n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rovide assurances on the Partnership's risk management strateg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volvement of stakeholder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Wide dissemination of evaluation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907560"/>
            <a:ext cx="9144000" cy="6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Sco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76720" y="6237360"/>
            <a:ext cx="1726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1640" y="2125800"/>
            <a:ext cx="846144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499"/>
              </a:spcBef>
              <a:buClr>
                <a:srgbClr val="009999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ll elements of the Partnership, including GDF to be cove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Period to be covered 2001 to 2006, using  2003 evaluation and WG review as key inpu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A selection of countries where Partnership and GDF activities are being undertaken to be consul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Budget around $800,000 (2003 evaluation cost US$882,30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Funding secured from DF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780000" y="6308640"/>
            <a:ext cx="1512720" cy="54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Variab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1840" y="1413000"/>
            <a:ext cx="87138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elev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ddressing problems of high priority  as viewed by actual and potential stakeholders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ectiveness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ble to bring TB control to a higher level; give impetus to the Stop TB Movement and assess the impact on the iss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Efficien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ssessing the outputs of the Partnership and their quality in relation to resources, funds and human efforts invest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36400" indent="-53640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Sustainabil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Determining the suitability of the Partnership structure and proc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6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Evaluation Milestones and Timeline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March to December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9280" y="2325600"/>
            <a:ext cx="8856720" cy="33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arch  - Finalisation of the working arrangements and commencement of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July  - First draft report receiv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eptember – Second draft report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October- CB discussions on second draft report  management response prepared; feedback to evalu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cember- Final report received; approved by CB and disse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8000" y="1008000"/>
            <a:ext cx="874872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Board is ask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74600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2325600"/>
            <a:ext cx="8856720" cy="36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dorsement of the evaluation objectives, variables, and the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Final approval of the budg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ablishment of a steering committee (5 members) or mandating responsibility to the Ex 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4T14:49:26Z</dcterms:created>
  <dc:creator>maggir</dc:creator>
  <dc:description/>
  <dc:language>en-US</dc:language>
  <cp:lastModifiedBy>user</cp:lastModifiedBy>
  <dcterms:modified xsi:type="dcterms:W3CDTF">2006-11-28T05:10:03Z</dcterms:modified>
  <cp:revision>12</cp:revision>
  <dc:subject/>
  <dc:title>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