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5A1A-7FE7-4DFE-9CB3-787420691D0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8480" cy="343368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2960" y="4341600"/>
            <a:ext cx="5032080" cy="41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nt MMWR report on emergence of Extensively drug resistant tuberculosis further emphasizes and alerts us to the need for  working collboratively to investigate and controlling TB outbreak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38AD-6647-4F8B-A64D-18117AD40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117F2-8716-4FF0-9F9C-7E082B36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4CBF-4D62-42FD-9436-126DBF2C2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4C8E-FBAE-4543-900A-F61A28D0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1A660-67DE-4C35-A305-CE3970059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17BB-611F-4A2E-829E-43194E385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2D7C-1D19-4D71-B106-87237BBE7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1B1FC-19C6-47D2-B8BD-9C47187D8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58C0-7835-406B-B869-99B14CA62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ED99-E1C3-4487-90A6-EB5E70E9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7D76-05F4-4D96-969A-3AE8606A6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3D0D-7A4C-40D0-9DA7-2FBB87566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793EE-CB54-490D-BAEA-4583391572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i-volume.com/stoptb/details.asp?id=618" TargetMode="External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360" y="2951280"/>
            <a:ext cx="9110520" cy="16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Extensively Drug-Resistant TB (XDR TB)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Background, Progress, and Plan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560" y="43920"/>
            <a:ext cx="856908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Stop TB Partnershi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Coordinating Board Mee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Jakarta, Indone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9"/>
                </a:solidFill>
                <a:latin typeface="Arial"/>
              </a:rPr>
              <a:t>29 Nov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300640"/>
            <a:ext cx="669780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Kenneth Castro, M.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rio Raviglione, M.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858960" y="1052640"/>
            <a:ext cx="1625400" cy="18716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0360" y="1052640"/>
            <a:ext cx="1403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2268360" y="1125360"/>
            <a:ext cx="407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539 isolates tes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2133720"/>
            <a:ext cx="37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44 (35%) Cx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. tuberculo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067280" y="2133720"/>
            <a:ext cx="470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95 (65%) Cx Negati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3716280"/>
            <a:ext cx="3605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1(41%) M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84720" y="3716280"/>
            <a:ext cx="45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23 (59%) Suscept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44720" y="4954680"/>
            <a:ext cx="345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53 (10%) XDR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(24% of MDRT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120" y="289080"/>
            <a:ext cx="781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Drug Resistant TB Survey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>
            <a:off x="2133360" y="1700280"/>
            <a:ext cx="243828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1700280"/>
            <a:ext cx="169380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389240" y="3141720"/>
            <a:ext cx="74448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133720" y="314172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08000" y="4292640"/>
            <a:ext cx="2303640" cy="79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840" y="6021360"/>
            <a:ext cx="7611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1160" y="115560"/>
            <a:ext cx="890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XDRTB Survey</a:t>
            </a:r>
            <a:br>
              <a:rPr sz="4000"/>
            </a:b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Patient Characteristics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82760" y="1341360"/>
            <a:ext cx="82216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haracteristics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. (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 prior TB Treatmen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 (51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ior TB treat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Cure or Completed treatment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(28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Treatment Default or Failure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 7 (14)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IV-infected (44 tested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4 (1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ad (Includes 34% on ARV)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2 (9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cal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. tb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spoligotyp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6/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01240" y="5772240"/>
            <a:ext cx="861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Moll A, Gandhi NR, Pawinski R, Lalloo U, Sturm AW, Zeller K, Andrews J,  Friedland 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HIV associated Extensively Drug-Resistant TB (XDR-TB) in Rural KwaZulu-Na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28260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Global 7-point Action Plan to Combat XDR TB</a:t>
            </a:r>
            <a:br>
              <a:rPr sz="3200"/>
            </a:b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mphasizes Essentials of Proper TB Control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7640" y="1574280"/>
            <a:ext cx="8907480" cy="48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duct rapid surveys of XDR TB (determine burd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hance laboratory capacity (emphasis on rapid D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rove technical capacity of clinical and public health practitioners to effectively respond to XDR TB outbreaks and manage pati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mplement infection control precautions (PLHA foc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anti-TB drug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research support for rapid diagnostic test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10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omote universal access to ARVs under joint TB/HIV activiti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71640" y="6165720"/>
            <a:ext cx="720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MRC Consultation, Johannesburg, South Africa. Sept 7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44360" y="1998360"/>
            <a:ext cx="70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Arial"/>
              </a:rPr>
              <a:t>Progress to Date and the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12480" y="188640"/>
            <a:ext cx="8507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First Global XDR TB Task Force</a:t>
            </a:r>
            <a:br>
              <a:rPr sz="3600"/>
            </a:b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 8-9 October 2006 Meeting Objectives</a:t>
            </a:r>
            <a:endParaRPr b="0" lang="en-US" sz="36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50920" y="1557360"/>
            <a:ext cx="864216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fine key issues, make recommendations and identify urgent action steps required in next 3-6 month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-  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Management of XDR TB suspects in high and low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Programmatic management of XDR TB treatment and Rx desig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Laboratory XDR TB definition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nfection control and protection of health care workers, with emphasis on high HIV setting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mmediate XDR TB surveillance activities and need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dvocacy, communication, social mobilization strategi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 plans for appropriate global response, and within countries, including designation of roles and responsibi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mediate strengthening of TB control in count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ncreased international and national TB staf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ining courses for MDR &amp;XDR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ssistance available from international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3" name=""/>
          <p:cNvGraphicFramePr/>
          <p:nvPr/>
        </p:nvGraphicFramePr>
        <p:xfrm>
          <a:off x="71280" y="907920"/>
          <a:ext cx="8964720" cy="6145200"/>
        </p:xfrm>
        <a:graphic>
          <a:graphicData uri="http://schemas.openxmlformats.org/drawingml/2006/table">
            <a:tbl>
              <a:tblPr/>
              <a:tblGrid>
                <a:gridCol w="1092240"/>
                <a:gridCol w="685800"/>
                <a:gridCol w="955800"/>
                <a:gridCol w="822240"/>
                <a:gridCol w="184320"/>
                <a:gridCol w="796680"/>
                <a:gridCol w="1008360"/>
                <a:gridCol w="863280"/>
                <a:gridCol w="863640"/>
                <a:gridCol w="728640"/>
                <a:gridCol w="96372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 background inform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respon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53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 MDR Combined  *=estim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umber of MDR Ca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C applic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cipation to regional training cours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DR-TB emergency pl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estimated number of isolat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ick survey: starting da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al assist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soth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der revie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yet 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1 mission Nov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opp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3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zambiqu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,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y to star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mibi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mission Sept 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 Afric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pared: to be s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rvey MDR isolates + provincial surve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WHO Int. staff             + NPO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1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waziland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bbe0e3"/>
                    </a:solidFill>
                  </a:tcPr>
                </a:tc>
              </a:tr>
              <a:tr h="602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imbabw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f9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t Appli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eeca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-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v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</a:tbl>
          </a:graphicData>
        </a:graphic>
      </p:graphicFrame>
      <p:sp>
        <p:nvSpPr>
          <p:cNvPr id="104" name=""/>
          <p:cNvSpPr/>
          <p:nvPr/>
        </p:nvSpPr>
        <p:spPr>
          <a:xfrm>
            <a:off x="179280" y="0"/>
            <a:ext cx="8785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ry level Progress in 7 SADC countries attending SA Dept of Health/WHO meeting, Pretoria, October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br>
              <a:rPr sz="3200"/>
            </a:b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sion of the Global Plan to Stop TB, 2006-2015 revis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Management of MDR-TB &amp;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lgorithm for identification and management of suspects publishe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ccess to rapid tests for rifampicin and INH resistance – FIND and SAMRC organized meeting November 16,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Enlargement of Green Light Committee 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Commitment to re-programme from GFATM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UNITAID – 2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 line drugs and support to accelerate prequalification of manufacturers of 2LD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y Capacity Strengthen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group of the Laboratory Capacity Strengthening Sub-Group form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ategic response plan in preparation – meeting January 2007(?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ked to quantitative analysis of laboratory needs and costing (TBS – with USAID suppor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RL ready to accept specimens for 2LDST from rapid su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Update of WHO infection control guidelines – nearing com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Publication of addendum, "Tuberculosis infection control in the era of expanding HIV care and treatment" – on WHO and CDC web-si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Sub-working group on infection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initial meeting held in Paris - coordinated by WHO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trategic planning meeting - December 2006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Ques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re should the sub group be placed in Partnership?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Acknowledgements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etwork of SR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KZN Investig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A Moll, NR Gandhi, R Pawinski, U Lalloo, AW Sturm, K Zeller, J Andrews, G  Friedlan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DC Cou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A M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Stop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8320" y="1197000"/>
            <a:ext cx="403848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st Global XDR Task Force Participa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http://www.who.int/mediacentre/news/notes/2006/np29/en/index.html</a:t>
            </a:r>
            <a:r>
              <a:rPr b="1" lang="en-US" sz="28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lobal Alliance for TB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Rapid survey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generic protocol ready to determine rapidly the geographical distribution and size of XDR-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2nd line drug susceptibility testing organised with SRL network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SimSun"/>
              </a:rPr>
              <a:t>Advocacy, communication and social mobilizatio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XDR ACSM Task Force establish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Development and dissemination of messages on X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WHO and Stop TB websites, monthly update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  <a:ea typeface="SimSun"/>
              </a:rPr>
              <a:t>XDR-TB messages into World AIDS Day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Planning of media events globally and natio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earch and Develop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IND-SA MRC meeting November 16, Pretoria, to establish demonstration sites for rapid rifampicin and isoniazid susceptibility te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Use of MGIT for rapid culture and DST, eg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ebruary/March, 2007, Meeting on Implications of XDR-TB for R&amp;D, Cape T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Arial"/>
              </a:rPr>
              <a:t>Outcomes of the Global XDR-TB Task Force Meeting, Geneva, October 9-10, 2006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Resource Mobil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Plan and $95 million budget for SADC countries prepared to address XDR-TB urg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SimSun"/>
              </a:rPr>
              <a:t>DFID, Italian Cooperation, OSI, PEPFAR, USAID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Costed plans for countries' immediate needs, technical assistance, surveillance and global policy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SimSun"/>
              </a:rPr>
              <a:t>Rapid briefing of development partners and ag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sted plans urgently neede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est of sub-Saharan Afric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ussia and former Soviet Un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179280" y="981000"/>
          <a:ext cx="8569080" cy="4463640"/>
        </p:xfrm>
        <a:graphic>
          <a:graphicData uri="http://schemas.openxmlformats.org/drawingml/2006/table">
            <a:tbl>
              <a:tblPr/>
              <a:tblGrid>
                <a:gridCol w="6571800"/>
                <a:gridCol w="1997280"/>
              </a:tblGrid>
              <a:tr h="74952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ted needs for global XDR-TB response 2006- 2007 with focus on Southern African Countr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S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thern African country cos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39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trengthening XDR-TB response in Southern Africa countries </a:t>
                      </a:r>
                      <a:r>
                        <a:rPr b="0" lang="en-US" sz="10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(human resources, infection control, surveillance, laboratory strengthening, monitoring and supervision, recording and reporting, community health, cross border collaboration etc.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40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econd-line anti-TB drugs to 6,000 M(X)DR-TB patien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0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168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apid diagnostic tests to 154,000 M(X)DR-TB suspects in Southern African countri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0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2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support costs - WHO and Part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000,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0" name=""/>
          <p:cNvSpPr/>
          <p:nvPr/>
        </p:nvSpPr>
        <p:spPr>
          <a:xfrm>
            <a:off x="179280" y="5877000"/>
            <a:ext cx="896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 short-term costs for Southern Africa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$95 mill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Conclusions and way ahea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XDR-TB is a serious threat to TB care and control, and must be addressed swiftly by TB community and health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GPSTB 2 revision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Country level plans and TA response by partner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need to know size and ext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pid survey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arm bell to underperforming TB control programmes to expeditious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basics, eg. Supervision, laboratory capacity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ntroduce infection control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mprove management of MDR TB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dicator of serious underinvestment in TB control in Af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Raise resources</a:t>
            </a:r>
            <a:endParaRPr b="0" lang="en-US" sz="2000" spc="-1" strike="noStrike">
              <a:solidFill>
                <a:srgbClr val="00808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rgent need for new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Questions to the Board</a:t>
            </a: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uld the infection control sub-group be positioned under the TB/HIV Working Group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omments does the Board have, and will it endorse, the approach to XDR-TB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the Board do to help raise the necessary $95 million urgent request for SADC countri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Revised WHO Case Definition for XDR TB (10 Oct 2006)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2276640"/>
            <a:ext cx="842472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sistance to at least INH and RIF (MD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US resistance to fluoroquinolones, 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one of the second-line injectable dr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(amikacin, kanamycin, or capreomycin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360" y="151920"/>
            <a:ext cx="91440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0000"/>
                </a:solidFill>
                <a:latin typeface="Arial"/>
              </a:rPr>
              <a:t>TB Treatment Outcomes, by Selected Drug Resistance Patterns, Latvia, 2000-2003*</a:t>
            </a:r>
            <a:endParaRPr b="0" lang="en-US" sz="3400" spc="-1" strike="noStrike">
              <a:solidFill>
                <a:srgbClr val="cc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69920" y="1413000"/>
          <a:ext cx="8669160" cy="4795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920" y="1413000"/>
                    <a:ext cx="8669160" cy="479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700360" y="2492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8560" y="5950080"/>
            <a:ext cx="790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* Leimane V, et al. First Global XDR TB Task Force Meeting. Oct 9,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(from N = 820 evaluat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056840" y="5589720"/>
            <a:ext cx="101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c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16080" y="3716280"/>
            <a:ext cx="1015920" cy="53352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01520" y="2852640"/>
            <a:ext cx="1219320" cy="609840"/>
          </a:xfrm>
          <a:prstGeom prst="ellipse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95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3480" y="531720"/>
            <a:ext cx="9144000" cy="3735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203040" y="4762440"/>
            <a:ext cx="8771040" cy="156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9440" y="304920"/>
            <a:ext cx="8278920" cy="96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mpted by anecdotal descriptions of virtually untreatable 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Mycobacterium tuberculosi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solates with multidrug resistance (MDR) and more extensive drug resistance patt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42472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Global WHO/IUATLD/CDC Survey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2600" y="1412640"/>
            <a:ext cx="8331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venience sample (17,690 isolates) submitted to participating international SRL network, 2000-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520 (20%) of isolates MDR TB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347 (  2%) of isolates XDR TB </a:t>
            </a: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808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DRTB in all regions, more common FSU and Asia (Republic of Kore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nominator information unavail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KZN Hospital Background*</a:t>
            </a:r>
            <a:endParaRPr b="0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211040"/>
            <a:ext cx="7772400" cy="43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9 patients in TB/ARV integration st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4 deaths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10 (71%) of 14 with MDR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6/10 MDRTB resistant to all tested first and second line drugs (SLD) for TB</a:t>
            </a:r>
            <a:endParaRPr b="0" lang="en-US" sz="2400" spc="-1" strike="noStrike">
              <a:solidFill>
                <a:srgbClr val="00808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H, RIF, EMB, STR, KANA, CIP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ggestive of probable extensive drug resistant TB in this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pted survey Jan 2005-Mar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734080"/>
            <a:ext cx="8345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* Moll A, Gandhi NR, Pawinski R, Lalloo U, Sturm AW, Zeller K, Andrews J,  Friedland G. HIV associated Extensively Drug-Resistant TB (XDR-TB) in Rural KwaZulu-Natal (South Africa MRC Expert Consultation Sept 8, 2006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5:14:34Z</dcterms:created>
  <dc:creator>zignolm</dc:creator>
  <dc:description/>
  <dc:language>en-US</dc:language>
  <cp:lastModifiedBy>Desiree Kogevinas</cp:lastModifiedBy>
  <dcterms:modified xsi:type="dcterms:W3CDTF">2006-11-29T03:28:26Z</dcterms:modified>
  <cp:revision>16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