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7F943-68DA-4CEF-A723-66490539B5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D822-FAA7-481E-9C6D-4E6AC7A58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8440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700200" y="4414680"/>
            <a:ext cx="5610240" cy="418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t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: This model could vary for different countries given potential opportunities for or barriers to budget line increas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F78B6-D1AE-487D-BA23-0F3B7245D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F53E-35CE-4B4B-B6F3-6EA2ED1F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03E3-4067-42BD-9B9C-676A70C3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9544-83FB-4AFB-968B-551A9EB33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5265-37EC-4457-A5A3-01D3641D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40E6-FEE0-47A8-8C19-290FE712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55D9-92FB-45F6-B3C7-2BBF6F8A1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CF09-D614-49A2-8ED0-7EFACC316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84BF-5AF6-49DC-A33B-E44677913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6B4C-DBB5-46BD-8724-4505BA50F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6A6DB-CA42-41BF-B463-217F77CD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E193-DE00-4CF6-BD17-CD17515C7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7D899E-838E-4F3B-A148-807E501DA1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hyperlink" Target="http://www.stoptb.org/gdf/newsevents/newsarchive.asp" TargetMode="External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file:///CB%20Jakarta%20priting%20Nov.%2026/Table%20insert%20CB%20presentation.ppt" TargetMode="External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692000" y="2708280"/>
            <a:ext cx="6048360" cy="122400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36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“</a:t>
            </a:r>
            <a:r>
              <a:rPr b="1" i="1" lang="en-US" sz="3600" spc="-1" strike="noStrike">
                <a:solidFill>
                  <a:srgbClr val="ffffff"/>
                </a:solidFill>
                <a:latin typeface="Garamond"/>
                <a:ea typeface="STXingkai"/>
              </a:rPr>
              <a:t>Securing timely access to quality,  affordable TB drugs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324000" y="764640"/>
            <a:ext cx="8424720" cy="72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5622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en-GB" sz="4800" spc="-1" strike="noStrike">
                <a:solidFill>
                  <a:srgbClr val="cc0000"/>
                </a:solidFill>
                <a:latin typeface="Arial"/>
              </a:rPr>
              <a:t>    </a:t>
            </a:r>
            <a:r>
              <a:rPr b="1" lang="en-GB" sz="4800" spc="-1" strike="noStrike">
                <a:solidFill>
                  <a:srgbClr val="cc0000"/>
                </a:solidFill>
                <a:latin typeface="Copperplate Gothic Bold"/>
              </a:rPr>
              <a:t>Global Drug Facilit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1360" y="4724280"/>
            <a:ext cx="1357560" cy="19814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870680" y="4292640"/>
            <a:ext cx="1273320" cy="18270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148600" y="6103800"/>
            <a:ext cx="995400" cy="75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124000" y="5229360"/>
            <a:ext cx="4888080" cy="96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esenter – Dr. Jeremiah Chakay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ate – 30 Nov.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71640" y="620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33208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grants are in principle for 3 years and are subject to conditi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One condition: public sector/donor funding for TB control activities (including anti-TB drugs) will not be reduced during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ny countries still require financial assistance for anti-TB drugs after completing a 3-year gra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03640" y="475920"/>
            <a:ext cx="6562800" cy="121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halle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99760" y="2565360"/>
            <a:ext cx="8543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DF grants offer opportunity to leverage short-term financial assistance for the long-term financial sustainability of NT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GDF requests CB consider more proactive approaches to ensuring broader political commitment from countries to finance their TB drug suppl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932360" cy="270828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195280" y="836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250560" y="2565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ke annual increases in public sector funding for anti-TB drugs a condition of GDF suppo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Extend the GDF grant cycle from 3 to 5 years to allow countries sufficient time to build the financial budget lines required to pay for drugs themselv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24000" y="5157720"/>
            <a:ext cx="792000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Consider introducing a </a:t>
            </a:r>
            <a:r>
              <a:rPr b="1" i="1" lang="en-GB" sz="2800" spc="-1" strike="noStrike">
                <a:solidFill>
                  <a:srgbClr val="cc0000"/>
                </a:solidFill>
                <a:latin typeface="Arial"/>
                <a:ea typeface="SimSun"/>
              </a:rPr>
              <a:t>Financial Sustainability Planning (FSP)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process as a component of the GDF grant-making process for either o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rot="5216400">
            <a:off x="-142560" y="54752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360" y="105228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posed Option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3141720"/>
            <a:ext cx="8748720" cy="39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Maintain a fixed grant value throughout the duration of GDF grant, with funds transitioning from purchase of TB drugs to technical assistance for drug management in-countr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As with options 1 and 2 consider an </a:t>
            </a:r>
            <a:r>
              <a:rPr b="0" lang="en-US" sz="2800" spc="-1" strike="noStrike">
                <a:solidFill>
                  <a:srgbClr val="cc0000"/>
                </a:solidFill>
                <a:latin typeface="Arial"/>
                <a:ea typeface="SimSun"/>
              </a:rPr>
              <a:t>FSP proces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 with this op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spcAft>
                <a:spcPts val="876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rot="5216400">
            <a:off x="506520" y="5622840"/>
            <a:ext cx="1433520" cy="50328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>
            <a:hlinkClick r:id="rId2"/>
          </p:cNvPr>
          <p:cNvSpPr/>
          <p:nvPr/>
        </p:nvSpPr>
        <p:spPr>
          <a:xfrm>
            <a:off x="2268360" y="5589720"/>
            <a:ext cx="58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Brush Script MT"/>
              </a:rPr>
              <a:t>I</a:t>
            </a:r>
            <a:r>
              <a:rPr b="0" lang="en-GB" sz="3600" spc="-1" strike="noStrike">
                <a:solidFill>
                  <a:srgbClr val="000000"/>
                </a:solidFill>
                <a:latin typeface="Brush Script MT"/>
              </a:rPr>
              <a:t>llustration of Option 3 – Next Sli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Option 3: Building drug management capacity while encouraging financial sustaina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844880" y="103032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44880" y="13064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844880" y="15825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844880" y="159876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76920" y="18590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395280" y="1484280"/>
          <a:ext cx="8353440" cy="4897080"/>
        </p:xfrm>
        <a:graphic>
          <a:graphicData uri="http://schemas.openxmlformats.org/drawingml/2006/table">
            <a:tbl>
              <a:tblPr/>
              <a:tblGrid>
                <a:gridCol w="2444760"/>
                <a:gridCol w="1258920"/>
                <a:gridCol w="1184400"/>
                <a:gridCol w="1180800"/>
                <a:gridCol w="1181160"/>
                <a:gridCol w="1103400"/>
              </a:tblGrid>
              <a:tr h="533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4320">
                      <a:solidFill>
                        <a:srgbClr val="000000"/>
                      </a:solidFill>
                    </a:lnR>
                    <a:lnT>
                      <a:noFill/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Year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8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otal value of grant remains constant each year of gra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100% 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requires an increase in national budget for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7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68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Each year more of GDF grant money used for technical assistance, as countries take more responsibility for financing TB drug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50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4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  <a:ea typeface="SimSun"/>
                        </a:rPr>
                        <a:t>25% dr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  <a:tr h="533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66ff"/>
                    </a:solidFill>
                  </a:tcPr>
                </a:tc>
              </a:tr>
            </a:tbl>
          </a:graphicData>
        </a:graphic>
      </p:graphicFrame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4067280" cy="2205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95280" y="620280"/>
            <a:ext cx="65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mplic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50560" y="1916280"/>
            <a:ext cx="889308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A 5-year grant is a longer term commitment (in principle)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ll options adopting an FSP process would requir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Development of a GDF framework for financial sustainability planning &amp; implementation including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810360" indent="-279720"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Guidelines for the Development of Financial Sustainability Plans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  <a:ea typeface="SimSun"/>
              </a:rPr>
              <a:t> for countri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ontracting of consultant(s) to do the above work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Missions to support selected countrie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81200" y="29239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cc0000"/>
                </a:solidFill>
                <a:latin typeface="Brush Script MT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324000" y="3068640"/>
            <a:ext cx="8424720" cy="20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Latest Upda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001"/>
              </a:spcBef>
              <a:spcAft>
                <a:spcPts val="2500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roposal for Board Deci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324000" y="2636640"/>
            <a:ext cx="842472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&amp; UNITAID – Paediatric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799"/>
              </a:spcBef>
              <a:spcAft>
                <a:spcPts val="2001"/>
              </a:spcAft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neral upd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901"/>
              </a:spcBef>
              <a:spcAft>
                <a:spcPts val="22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UPDA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4920" y="0"/>
            <a:ext cx="4753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0" y="3240"/>
            <a:ext cx="91440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chievements: 10 x 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946080"/>
            <a:ext cx="8785440" cy="572292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50560" y="2825280"/>
            <a:ext cx="889308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NITAID – Innovative financing initiative for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HIV, TB &amp; Malaria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nding targeted at niches where innovative changes can be made through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market interventions backed by sustainable financ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used in 2006/2007 at WHO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ct. 9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DF approved as programmatic partner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to UNITAID for Paediatric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ct. 12 Official Call for Grant Application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issued with deadline of Nov. 6 (sensitization communications sent Sept. 2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lnSpc>
                <a:spcPct val="90000"/>
              </a:lnSpc>
              <a:spcBef>
                <a:spcPts val="499"/>
              </a:spcBef>
              <a:spcAft>
                <a:spcPts val="125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reement to be signed imminently between STB Partnership &amp; UNITA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1</a:t>
            </a:r>
            <a:r>
              <a:rPr b="0" lang="en-GB" sz="63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1181160" cy="165564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372360" y="960480"/>
            <a:ext cx="2458800" cy="14130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108000" y="1484280"/>
            <a:ext cx="439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First 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GDF TRC met 13 – 16 Novemb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aediatric Applications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spcAft>
                <a:spcPts val="1125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 Further Consideration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ot recommended for Approval = </a:t>
            </a: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cc0000"/>
                </a:solidFill>
                <a:latin typeface="Arial"/>
              </a:rPr>
              <a:t>Next Ste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ITAID Board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B CB Exec. Ctte Appr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DF &amp; UNITAID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427640" y="765000"/>
            <a:ext cx="4537080" cy="38163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4716360" y="4724280"/>
            <a:ext cx="4032360" cy="1989360"/>
          </a:xfrm>
          <a:custGeom>
            <a:avLst/>
            <a:gdLst>
              <a:gd name="textAreaLeft" fmla="*/ 920520 w 4032360"/>
              <a:gd name="textAreaRight" fmla="*/ 3111840 w 4032360"/>
              <a:gd name="textAreaTop" fmla="*/ 453960 h 1989360"/>
              <a:gd name="textAreaBottom" fmla="*/ 1535400 h 1989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~ 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160,0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Paediatric Patient Treat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pproved for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649440" y="1260360"/>
            <a:ext cx="817056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ordinating Board endorses creation of BAC April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issues invitation of EOI July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judication committee finalizes selection Oct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cc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cc0000"/>
                </a:solidFill>
                <a:latin typeface="Arial"/>
              </a:rPr>
              <a:t>7 members selec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troductory teleconference held 22 Nov. '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01"/>
              </a:spcBef>
              <a:spcAft>
                <a:spcPts val="225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AC meeting week of 12 March '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</a:rPr>
              <a:t>GDF Business Advisory Committ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732720" y="5805360"/>
            <a:ext cx="2095200" cy="764280"/>
          </a:xfrm>
          <a:prstGeom prst="rect">
            <a:avLst/>
          </a:prstGeom>
          <a:solidFill>
            <a:srgbClr val="b4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t">
            <a:spAutoFit/>
          </a:bodyPr>
          <a:p>
            <a:pPr marL="349200" indent="-34920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Lucida Handwriting"/>
              </a:rPr>
              <a:t>BA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6012000" y="5734080"/>
            <a:ext cx="704880" cy="86364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250560" y="1260360"/>
            <a:ext cx="8893080" cy="53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Selection of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1" lang="en-GB" sz="4000" spc="-1" strike="noStrike">
                <a:solidFill>
                  <a:srgbClr val="cc0000"/>
                </a:solidFill>
                <a:latin typeface="Monotype Corsiva"/>
              </a:rPr>
              <a:t>gtz</a:t>
            </a:r>
            <a:r>
              <a:rPr b="0" lang="en-GB" sz="2600" spc="-1" strike="noStrike">
                <a:solidFill>
                  <a:srgbClr val="000000"/>
                </a:solidFill>
                <a:latin typeface="Script MT Bold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s new Procurement Agent Sept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Addition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3 Diagnostic Kit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to GDF's catalogue effective Jan. '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1624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Strategic plan 2006-2010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/GLC procurement convergence complete Dec. 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649"/>
              </a:spcBef>
              <a:spcAft>
                <a:spcPts val="243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Final UNITAID approval of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GB" sz="2600" spc="-1" strike="noStrike" baseline="30000">
                <a:solidFill>
                  <a:srgbClr val="cc0000"/>
                </a:solidFill>
                <a:latin typeface="Arial"/>
              </a:rPr>
              <a:t>nd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 line TB Drugs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grants via </a:t>
            </a:r>
            <a:r>
              <a:rPr b="0" lang="en-GB" sz="2600" spc="-1" strike="noStrike">
                <a:solidFill>
                  <a:srgbClr val="cc0000"/>
                </a:solidFill>
                <a:latin typeface="Arial"/>
              </a:rPr>
              <a:t>GDF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600" spc="-1" strike="noStrike">
                <a:solidFill>
                  <a:srgbClr val="808000"/>
                </a:solidFill>
                <a:latin typeface="Arial"/>
              </a:rPr>
              <a:t>GLC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cc0000"/>
                </a:solidFill>
                <a:latin typeface="Arial"/>
              </a:rPr>
              <a:t>~ US$ 10m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expected Nov. 30 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'06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ffff"/>
                </a:solidFill>
                <a:latin typeface="Arial"/>
              </a:rPr>
              <a:t>General updat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42920" y="177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COORDINATING BOARD DECISION</a:t>
            </a:r>
            <a:br>
              <a:rPr sz="4000"/>
            </a:b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elping GDF Grantees </a:t>
            </a:r>
            <a:br>
              <a:rPr sz="4000"/>
            </a:b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o Achieve </a:t>
            </a:r>
            <a:br>
              <a:rPr sz="4000"/>
            </a:br>
            <a:r>
              <a:rPr b="1" lang="en-GB" sz="4000" spc="-1" strike="noStrike">
                <a:solidFill>
                  <a:srgbClr val="808000"/>
                </a:solidFill>
                <a:latin typeface="Arial"/>
              </a:rPr>
              <a:t>Financial Sustainability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user</cp:lastModifiedBy>
  <dcterms:modified xsi:type="dcterms:W3CDTF">2006-11-29T15:53:32Z</dcterms:modified>
  <cp:revision>52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