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1A59-A1B1-4D27-A843-16A494C57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02B8-B014-4F3A-BD49-353937E8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8E45-EC48-4751-8490-C9F974F7A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E844-43C1-44E3-AC6B-8C5468183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77234-6441-4A3E-A263-CEFC2638E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1EFB17-39B3-4F60-BC89-83824B85D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156D3-4564-46D8-97DF-5CF2B5F00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A8DD-0CA2-42FB-8AFA-04DA433A2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6CFA-D492-4E02-9638-DF048CBB9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09A33-2969-4C29-BD3B-8E45B03DE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49F4D-3319-40A7-890F-0DFF64A45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C2B0-0685-4E5D-B5A6-E0C3CADF5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7C4616-C39F-430A-BA56-E7F0D13E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2F61-1CBE-4603-9F14-99315BA3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5DC97-F510-42E8-A553-394571008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5308-68C3-4400-86A6-09CFE8C41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C9FE1-B02B-4DFF-BD77-8A24F5B7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5DC4-DCC0-48ED-A108-0F38445CF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443-665C-4A18-8FDC-5A6F5441F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E65AA-49DE-41BE-AA22-465154CE8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8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7F27-22DA-40AB-810C-604F2685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9C96-557A-4E35-BB6E-2429F88F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E282A-3647-44CB-8B0B-37CFCAD9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42278-9F05-4755-9A39-21B3DD9CB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C452-E569-4F3A-962A-3B008FB88E5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2F16-7209-40C4-821A-70C0F11EE30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hyperlink" Target="mailto:yansu@worldbank.org" TargetMode="External"/><Relationship Id="rId4" Type="http://schemas.openxmlformats.org/officeDocument/2006/relationships/hyperlink" Target="mailto:opannenborg@worldbank.org" TargetMode="External"/><Relationship Id="rId5" Type="http://schemas.openxmlformats.org/officeDocument/2006/relationships/hyperlink" Target="mailto:elule@worldbank.org" TargetMode="External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53452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0" lang="en-US" sz="3800" spc="-1" strike="noStrike">
                <a:solidFill>
                  <a:srgbClr val="ffffff"/>
                </a:solidFill>
                <a:latin typeface="Arial"/>
              </a:rPr>
              <a:t>The World Bank and Tuberculosis in Afric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5080" y="2922480"/>
            <a:ext cx="6869880" cy="22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n Upd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top TB Partnership Board Mee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193400" y="5711760"/>
            <a:ext cx="2902680" cy="11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Dr. Jacques Baudouy, Dir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ealth, Nutrition and Popul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uman Development 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Arial"/>
                <a:ea typeface="Arial"/>
              </a:rPr>
              <a:t>jbaudouy@worldbank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011000" y="6423120"/>
            <a:ext cx="17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ovember 29,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27080" y="5823000"/>
            <a:ext cx="914400" cy="904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D35D3-C5EE-4BD3-9034-618850CFB88B}" type="slidenum">
              <a:t>1</a:t>
            </a:fld>
          </a:p>
        </p:txBody>
      </p:sp>
    </p:spTree>
  </p:cSld>
  <p:transition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8960" y="1981080"/>
            <a:ext cx="701028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Relevance to the Bank’s work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nstrument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Framework for action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  <a:p>
            <a:pPr marL="315360" indent="-315360"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Addressing challenges</a:t>
            </a:r>
            <a:endParaRPr b="0" lang="en-US" sz="3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0CAC8-92C7-4389-890C-A88158727D76}" type="slidenum">
              <a:t>2</a:t>
            </a:fld>
          </a:p>
        </p:txBody>
      </p:sp>
    </p:spTree>
  </p:cSld>
  <p:transition>
    <p:wheel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2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0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1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2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33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650"/>
                            </p:stCondLst>
                            <p:childTnLst>
                              <p:par>
                                <p:cTn id="35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36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37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8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39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0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50"/>
                            </p:stCondLst>
                            <p:childTnLst>
                              <p:par>
                                <p:cTn id="4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4000"/>
                            </p:stCondLst>
                            <p:childTnLst>
                              <p:par>
                                <p:cTn id="49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51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2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53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54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elevance to the Bank’s work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1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Worsening TB disease burden and impact on mortality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Catastrophic health costs contributing to already-existing inequities in poverty and health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Bank is currently revising its HNP strategy, which emphasizes strengthening health systems to better align disease-specific programs with efforts to improve health systems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66"/>
                </a:solidFill>
                <a:latin typeface="Arial"/>
              </a:rPr>
              <a:t>Global HIV/AIDS Program is currently reviewing its programs in Africa to improve projects based on lessons learned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7ED0-3A47-4778-84E6-7EAED9F863D7}" type="slidenum">
              <a:t>3</a:t>
            </a:fld>
          </a:p>
        </p:txBody>
      </p:sp>
    </p:spTree>
  </p:cSld>
  <p:transition>
    <p:wheel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" dur="500" autoRev="1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5" dur="500" autoRev="1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500" autoRev="1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30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" dur="1000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500" autoRev="1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Instruments for Bank support for 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TB control in Africa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2362320"/>
            <a:ext cx="80010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ank financing for TB in Africa is provided directly and indirectly through: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dget support (policy-base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tor-Wide Approaches (SW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V/AIDS Multi-Country Program (MAP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bined malaria, HIV/AIDS, TB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veraging other donor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3B0D-6881-4315-9B5F-A088ED10D8F5}" type="slidenum">
              <a:t>4</a:t>
            </a:fld>
          </a:p>
        </p:txBody>
      </p:sp>
    </p:spTree>
  </p:cSld>
  <p:transition>
    <p:wheel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0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1" dur="indefinite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5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6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0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1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95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96" dur="5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500"/>
                            </p:stCondLst>
                            <p:childTnLst>
                              <p:par>
                                <p:cTn id="98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0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1" dur="5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05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06" dur="5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1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Better alignment with the overall framework of the Stop-TB Partnership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cus on the Bank’s comparative advantag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d collaboration with WHO and financing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cale-up through ongoing and planned operations in high burden countrie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2BF2-3793-4C06-8A74-A2D5C7F30067}" type="slidenum">
              <a:t>5</a:t>
            </a:fld>
          </a:p>
        </p:txBody>
      </p:sp>
    </p:spTree>
  </p:cSld>
  <p:transition>
    <p:wheel/>
  </p:transition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0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2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5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1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21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914040" y="1447560"/>
            <a:ext cx="74674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Areas of Bank focus: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trengthen advocacy and policy dialog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cilitate coordinating mechanisms between TB and HIV/AIDS progra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upport the strengthening of health syste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oster results foc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apacity for monitoring and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mprove coordination with partners and technical agenc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Framework for Action (2)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EE09-3603-4169-81EF-03753DE729CA}" type="slidenum">
              <a:t>6</a:t>
            </a:fld>
          </a:p>
        </p:txBody>
      </p:sp>
    </p:spTree>
  </p:cSld>
  <p:transition>
    <p:wheel/>
  </p:transition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0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5" dur="500" autoRev="1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3000"/>
                            </p:stCondLst>
                            <p:childTnLst>
                              <p:par>
                                <p:cTn id="1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10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500" autoRev="1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10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3" dur="500" autoRev="1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10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57" dur="500" autoRev="1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6000"/>
                            </p:stCondLst>
                            <p:childTnLst>
                              <p:par>
                                <p:cTn id="1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0" dur="10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500" autoRev="1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00"/>
                            </p:stCondLst>
                            <p:childTnLst>
                              <p:par>
                                <p:cTn id="16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4" dur="10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5" dur="500" autoRev="1" fill="hold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ddressing challenges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Enhance lessons learned from experiences in countries and other regions 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Improve collaboration with Stop TB Partnership and WHO, as well as other partners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trengthen internal capacity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greement (brokered by WHO) to hire a Technical Specialist, funded by the Gates Foundation, to join the World Bank with emphasis on Afric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92958-2A73-4D59-8B64-8F805C1A50AE}" type="slidenum">
              <a:t>7</a:t>
            </a:fld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2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76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80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1500"/>
                            </p:stCondLst>
                            <p:childTnLst>
                              <p:par>
                                <p:cTn id="182" nodeType="afterEffect" fill="hold" presetClass="emph" presetID="35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3" dur="2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Contact inform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914400" y="1676520"/>
            <a:ext cx="7238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66"/>
                </a:solidFill>
                <a:latin typeface="Arial"/>
              </a:rPr>
              <a:t>Africa regional contacts:</a:t>
            </a:r>
            <a:endParaRPr b="0" lang="en-US" sz="26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aw Ans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rector, Human Development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yansu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k Pannenb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nior Health Advisor, Africa Reg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opannenborg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lizabeth L. Lu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nager, AIDS Campaign Team for Afr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elule@worldbank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458A-11CA-4AA9-8C90-4A44BA8BC192}" type="slidenum">
              <a:t>8</a:t>
            </a:fld>
          </a:p>
        </p:txBody>
      </p:sp>
    </p:spTree>
  </p:cSld>
  <p:transition>
    <p:wheel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Nicole R.</cp:lastModifiedBy>
  <dcterms:modified xsi:type="dcterms:W3CDTF">2006-11-22T19:46:29Z</dcterms:modified>
  <cp:revision>443</cp:revision>
  <dc:subject/>
  <dc:title>Non-Financial Constraints  on the Response to HIV/AIDS and TB in ECA</dc:title>
</cp:coreProperties>
</file>