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C5B3-CCDF-4E0A-9F1F-FC39BDAD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70E-4D55-46FD-9DEB-F9963D7A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945E-6B48-4895-B793-18D37E17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8F0C-5A35-49C5-BF85-D9FAEB50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7040-136D-4E75-85C4-927826F2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F4FA-C86F-4F2A-8D8E-DD3B1F3A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9AB0-9AE7-4BD0-A42B-0DB9C089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41C7-8942-4B5A-BD8F-A11A1C14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6096-8AD9-4863-A1BD-B20D971E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5B41-892E-444E-8077-0C7E1F9E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2504-E4AC-4042-BA1B-FA97B711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334-FFB4-4A8E-AC2E-7D0F03D8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57F6-6A45-47A7-AA5E-868AB5A5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2438-E7A5-4C09-BAA6-31CCEA34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3622-FD58-4A7A-BA2C-E8A97A95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184E-0C01-46E9-B9C3-71B8F0E5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0950-339A-4993-9C0E-E6E20266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2E8-0B4E-428F-92BD-790C0F80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63ED-AC07-4351-AA21-24130D58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79FC-C9C2-43D1-A42C-040DF978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356-4E73-4A99-8D53-1572F5EA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C56-44BC-4594-8037-F1B48A7E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2A4-AD50-4F35-9630-C7BB532B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68B-8250-471E-9B73-E7C20611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7662-DC93-46DB-86BD-84D1051DD30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C550-72B0-43F2-935E-93EB3E00343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mailto:yansu@worldbank.org" TargetMode="External"/><Relationship Id="rId4" Type="http://schemas.openxmlformats.org/officeDocument/2006/relationships/hyperlink" Target="mailto:opannenborg@worldbank.org" TargetMode="External"/><Relationship Id="rId5" Type="http://schemas.openxmlformats.org/officeDocument/2006/relationships/hyperlink" Target="mailto:elule@worldbank.org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World Bank and Tuberculosis in Af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5080" y="2922480"/>
            <a:ext cx="6869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op TB Partnership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3400" y="5711760"/>
            <a:ext cx="2902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jbaudouy@worldbank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000" y="642312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2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7080" y="582300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2F81-A6A9-44D2-B278-19CC3F9E76F2}" type="slidenum">
              <a:t>1</a:t>
            </a:fld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levance to the Bank’s 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ramework for a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ddressing challeng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2C4-2C98-4D43-BA27-C23570F6B77E}" type="slidenum">
              <a:t>2</a:t>
            </a:fld>
          </a:p>
        </p:txBody>
      </p:sp>
    </p:spTree>
  </p:cSld>
  <p:transition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5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evance to the Bank’s work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orsening TB disease burden and impact on mortali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tastrophic health costs contributing to already-existing inequities in poverty and heal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nk is currently revising its HNP strategy, which emphasizes strengthening health systems to better align disease-specific programs with efforts to improve health syst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lobal HIV/AIDS Program is currently reviewing its programs in Africa to improve projects based on lessons learn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983-A484-469A-899D-384C2B75201B}" type="slidenum">
              <a:t>3</a:t>
            </a:fld>
          </a:p>
        </p:txBody>
      </p:sp>
    </p:spTree>
  </p:cSld>
  <p:transition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ments for Bank support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B control 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ank financing for TB in Africa is provided directly and indirectly through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support (policy-bas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-Wide Approaches (SW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/AIDS Multi-Country Program (M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malaria, HIV/AIDS, TB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ing other dono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E90-2FD7-471D-8B57-CE963C9AD845}" type="slidenum">
              <a:t>4</a:t>
            </a:fld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etter alignment with the overall framework of the Stop-TB Partnership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cus on the Bank’s comparative advantag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d collaboration with WHO and financing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cale-up through ongoing and planned operations in high burden countri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8BBE-AFC5-49F6-B5AC-4AECB2374964}" type="slidenum">
              <a:t>5</a:t>
            </a:fld>
          </a:p>
        </p:txBody>
      </p:sp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as of Bank focu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advocacy and policy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coordinating mechanisms between TB and HIV/AID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the strengthening of heal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ster result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apacity for monitoring an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ove coordination with partners and technical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5AD-6EE6-43A2-8395-80053EF9BA33}" type="slidenum">
              <a:t>6</a:t>
            </a:fld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500" autoRev="1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ressing challen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 lessons learned from experiences in countries and other region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mprove collaboration with Stop TB Partnership and WHO, as well as other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trengthen internal capacity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(brokered by WHO) to hire a Technical Specialist, funded by the Gates Foundation, to join the World Bank with emphasis on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150-C9FF-4BBF-AC68-DB6109E384D5}" type="slidenum">
              <a:t>7</a:t>
            </a:fld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frica regional contacts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, Human Development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nsu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Pannenb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Health Advisor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opannenborg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L. L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, AIDS Campaign Team for Af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lule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C068-CD64-4472-AC6D-73371983A0F8}" type="slidenum">
              <a:t>8</a:t>
            </a:fld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6-11-22T19:46:29Z</dcterms:modified>
  <cp:revision>443</cp:revision>
  <dc:subject/>
  <dc:title>Non-Financial Constraints  on the Response to HIV/AIDS and TB in ECA</dc:title>
</cp:coreProperties>
</file>