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90713-B455-49AF-82CC-896419182F2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4440" y="682560"/>
            <a:ext cx="4578480" cy="343368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2960" y="4341600"/>
            <a:ext cx="5032080" cy="41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recent MMWR report on emergence of Extensively drug resistant tuberculosis further emphasizes and alerts us to the need for  working collboratively to investigate and controlling TB outbreak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DE2E-114E-4DB5-91AF-7B8F3F202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2758-9F9B-4A81-865E-54769080C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2246-6CCF-4E84-B938-EA3833FB9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0ED4-0DC6-475E-9BE9-E7AE16DB1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08AB-BF51-49B6-9FB5-CFEF9FE7C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84A5-7139-44EA-8DED-1E521124F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96B4-0E86-45F9-A50B-D7E187CE5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80C4-A811-464D-BB1C-B73A0D19B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586F-2751-4C03-BB35-3AAF6F3F8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88FF-EA43-45EF-9003-7310D1CC8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469B-4EA7-4507-9823-024BCDB63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E96F-1793-4FB0-8274-32D41848E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13730-4275-4537-87EF-EC2F52B48A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524720" y="6308640"/>
            <a:ext cx="1476360" cy="453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i-volume.com/stoptb/details.asp?id=618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2951280"/>
            <a:ext cx="9110520" cy="16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Extensively Drug-Resistant TB (XDR TB)</a:t>
            </a:r>
            <a:br>
              <a:rPr sz="4000"/>
            </a:b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Background, Progress, and Plans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50560" y="43920"/>
            <a:ext cx="8569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Stop TB Partnershi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Coordinating Board Me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Jakarta, Indone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29 Nov 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187280" y="5300640"/>
            <a:ext cx="66978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Kenneth Castro, M.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Mario Raviglione, M.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858960" y="1052640"/>
            <a:ext cx="1625400" cy="18716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40360" y="1052640"/>
            <a:ext cx="140364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268360" y="1125360"/>
            <a:ext cx="407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539 isolates tes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0920" y="2133720"/>
            <a:ext cx="374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44 (35%) Cx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M. tuberculo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067280" y="2133720"/>
            <a:ext cx="470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95 (65%) Cx Nega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79280" y="3716280"/>
            <a:ext cx="360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21(41%) MDRT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84720" y="3716280"/>
            <a:ext cx="45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23 (59%) Suscept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844720" y="4954680"/>
            <a:ext cx="345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53 (10%) XDRT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24% of MDRT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8120" y="289080"/>
            <a:ext cx="781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KZN Drug Resistant TB Survey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2133360" y="1700280"/>
            <a:ext cx="24382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0" y="1700280"/>
            <a:ext cx="16938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1389240" y="3141720"/>
            <a:ext cx="74448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133720" y="3141720"/>
            <a:ext cx="243828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908000" y="4292640"/>
            <a:ext cx="230364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8840" y="6021360"/>
            <a:ext cx="7611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Moll A, Gandhi NR, Pawinski R, Lalloo U, Sturm AW, Zeller K, Andrews J,  Friedland 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HIV associated Extensively Drug-Resistant TB (XDR-TB) in Rural KwaZulu-Nat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(South Africa MRC Expert Consultation Sept 8, 200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1160" y="115560"/>
            <a:ext cx="890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KZN XDRTB Survey</a:t>
            </a:r>
            <a:br>
              <a:rPr sz="4000"/>
            </a:b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 Patient Characteristics*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82760" y="1341360"/>
            <a:ext cx="82216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haracteristics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o. (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 prior TB Treatmen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6 (51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ior TB trea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ure or Completed treatment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14 (28)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reatment Default or Failure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7 (14)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IV-infected (44 tested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4 (1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ad (Includes 34% on ARV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2 (9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cal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. tb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spoligotyp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6/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01240" y="5772240"/>
            <a:ext cx="861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*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Moll A, Gandhi NR, Pawinski R, Lalloo U, Sturm AW, Zeller K, Andrews J,  Friedland 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HIV associated Extensively Drug-Resistant TB (XDR-TB) in Rural KwaZulu-Na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(South Africa MRC Expert Consultation Sept 8, 200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2826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Global 7-point Action Plan to Combat XDR TB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mphasizes Essentials of Proper TB Control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7640" y="1574280"/>
            <a:ext cx="8907480" cy="48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nduct rapid surveys of XDR TB (determine burd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nhance laboratory capacity (emphasis on rapid D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mprove technical capacity of clinical and public health practitioners to effectively respond to XDR TB outbreaks and manage pat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mplement infection control precautions (PLHA focu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crease research support for anti-TB drug develop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crease research support for rapid diagnostic test develop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romote universal access to ARVs under joint TB/HIV activiti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971640" y="6165720"/>
            <a:ext cx="72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MRC Consultation, Johannesburg, South Africa. Sept 7,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44360" y="1998360"/>
            <a:ext cx="705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Progress to Date and the Way Ahead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12480" y="188640"/>
            <a:ext cx="850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First Global XDR TB Task Force</a:t>
            </a:r>
            <a:br>
              <a:rPr sz="3600"/>
            </a:b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 8-9 October 2006 Meeting Objectives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50920" y="1557360"/>
            <a:ext cx="864216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fine key issues, make recommendations and identify urgent action steps required in next 3-6 month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-  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Management of XDR TB suspects in high and low HIV settings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Programmatic management of XDR TB treatment and Rx design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Laboratory XDR TB definitions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Infection control and protection of health care workers, with emphasis on high HIV settings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Immediate XDR TB surveillance activities and needs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Advocacy, communication, social mobilization strategies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 plans for appropriate global response, and within countries, including designation of roles and responsi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Outcomes of the Global XDR-TB Task Force Meeting, Geneva, October 9-10, 2006</a:t>
            </a:r>
            <a:br>
              <a:rPr sz="3200"/>
            </a:b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mediate strengthening of TB control in countr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creased international and national TB staf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raining courses for MDR &amp;XDR manage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ssistance available from international part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71280" y="907920"/>
          <a:ext cx="8964720" cy="6145200"/>
        </p:xfrm>
        <a:graphic>
          <a:graphicData uri="http://schemas.openxmlformats.org/drawingml/2006/table">
            <a:tbl>
              <a:tblPr/>
              <a:tblGrid>
                <a:gridCol w="1092240"/>
                <a:gridCol w="685800"/>
                <a:gridCol w="955800"/>
                <a:gridCol w="822240"/>
                <a:gridCol w="184320"/>
                <a:gridCol w="796680"/>
                <a:gridCol w="1008360"/>
                <a:gridCol w="863280"/>
                <a:gridCol w="863640"/>
                <a:gridCol w="728640"/>
                <a:gridCol w="96372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f9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 background inform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ca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DR-TB respon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53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f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MDR Combined  *=estimat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imated number of MDR Cas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ca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C applic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ca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cipation to regional training cours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DR-TB emergency pl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ck survey: estimated number of isolat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ck survey: starting d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chnical assistan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70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oth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f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5, 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der revie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-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yet receiv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-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WHO Int. staff             + 1 mission Nov 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</a:tr>
              <a:tr h="60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law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f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opp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6*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rov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-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eiv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</a:tr>
              <a:tr h="60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zambiqu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f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9, 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par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-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pared: to be s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dy to sta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</a:tr>
              <a:tr h="60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ib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f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6*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par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-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eiv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mission Sept 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</a:tr>
              <a:tr h="85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th Afric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f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Appli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-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pared: to be s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rvey MDR isolates + provincial surve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WHO Int. staff             + NP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</a:tr>
              <a:tr h="60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wazilan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f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Appli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-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eiv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</a:tr>
              <a:tr h="602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imbabw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f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ca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ca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Appli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-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eiv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104" name=""/>
          <p:cNvSpPr/>
          <p:nvPr/>
        </p:nvSpPr>
        <p:spPr>
          <a:xfrm>
            <a:off x="179280" y="0"/>
            <a:ext cx="878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ry level Progress in 7 SADC countries attending SA Dept of Health/WHO meeting, Pretoria, October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Outcomes of the Global XDR-TB Task Force Meeting, Geneva, October 9-10, 2006</a:t>
            </a:r>
            <a:br>
              <a:rPr sz="3200"/>
            </a:b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sion of the Global Plan to Stop TB, 2006-2015 re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engthen Management of MDR-TB &amp; XDR-T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lgorithm for identification and management of suspects published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ccess to rapid tests for rifampicin and INH resistance – FIND and SAMRC organized meeting November 16, 2006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Enlargement of Green Light Committee 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Commitment to re-programme from GFATM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UNITAID – 2</a:t>
            </a:r>
            <a:r>
              <a:rPr b="0" i="1" lang="en-GB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 line drugs and support to accelerate prequalification of manufacturers of 2LD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Outcomes of the Global XDR-TB Task Force Meeting, Geneva, October 9-10, 2006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oratory Capacity Strengthen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group of the Laboratory Capacity Strengthening Sub-Group form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ategic response plan in preparation – meeting January 2007(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ed to quantitative analysis of laboratory needs and costing (TBS – with USAID suppor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RL ready to accept specimens for 2LDST from rapid surve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Outcomes of the Global XDR-TB Task Force Meeting, Geneva, October 9-10, 2006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fection contro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Update of WHO infection control guidelines – nearing comple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Publication of addendum, "Tuberculosis infection control in the era of expanding HIV care and treatment" – on WHO and CDC web-si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Sub-working group on infection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initial meeting held in Paris - coordinated by WHO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Strategic planning meeting - December 2006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Ques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Where should the sub group be placed in Partnership?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Acknowledgements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3848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twork of SR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ZN Investig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A Moll, NR Gandhi, R Pawinski, U Lalloo, AW Sturm, K Zeller, J Andrews, G  Friedland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DC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 M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 Stop T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D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8320" y="1197000"/>
            <a:ext cx="403848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st Global XDR Task Force Particip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http://www.who.int/mediacentre/news/notes/2006/np29/en/index.html</a:t>
            </a:r>
            <a:r>
              <a:rPr b="1" lang="en-US" sz="2800" spc="-1" strike="noStrike">
                <a:solidFill>
                  <a:srgbClr val="00808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8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lobal Alliance for TB Dr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Outcomes of the Global XDR-TB Task Force Meeting, Geneva, October 9-10, 2006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SimSun"/>
              </a:rPr>
              <a:t>Rapid survey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generic protocol ready to determine rapidly the geographical distribution and size of XDR-TB</a:t>
            </a:r>
            <a:endParaRPr b="0" lang="en-US" sz="28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2nd line drug susceptibility testing organised with SRL network</a:t>
            </a:r>
            <a:endParaRPr b="0" lang="en-US" sz="2800" spc="-1" strike="noStrike">
              <a:solidFill>
                <a:srgbClr val="0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Outcomes of the Global XDR-TB Task Force Meeting, Geneva, October 9-10, 2006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SimSun"/>
              </a:rPr>
              <a:t>Advocacy, communication and social mobilizatio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XDR ACSM Task Force establish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Development and dissemination of messages on XDR-T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WHO and Stop TB websites, monthly updates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XDR-TB messages into World AIDS Day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Planning of media events globally and nation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Outcomes of the Global XDR-TB Task Force Meeting, Geneva, October 9-10, 2006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528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search and Develop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ND-SA MRC meeting November 16, Pretoria, to establish demonstration sites for rapid rifampicin and isoniazid susceptibility tes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 of MGIT for rapid culture and DST, eg Lesot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ebruary/March, 2007, Meeting on Implications of XDR-TB for R&amp;D, Cape T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Outcomes of the Global XDR-TB Task Force Meeting, Geneva, October 9-10, 2006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Resource Mobil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Plan and $95 million budget for SADC countries prepared to address XDR-TB urgen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DFID, Italian Cooperation, OSI, PEPFAR, USAID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Costed plans for countries' immediate needs, technical assistance, surveillance and global policy and coord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Rapid briefing of development partners and ag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sted plans urgently neede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Rest of sub-Saharan Africa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China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India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Russia and former Soviet Union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179280" y="981000"/>
          <a:ext cx="8569080" cy="4463640"/>
        </p:xfrm>
        <a:graphic>
          <a:graphicData uri="http://schemas.openxmlformats.org/drawingml/2006/table">
            <a:tbl>
              <a:tblPr/>
              <a:tblGrid>
                <a:gridCol w="6571800"/>
                <a:gridCol w="1997280"/>
              </a:tblGrid>
              <a:tr h="749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imated needs for global XDR-TB response 2006- 2007 with focus on Southern African Countr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$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9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thern African country cos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,000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9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Strengthening XDR-TB response in Southern Africa countries 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(human resources, infection control, surveillance, laboratory strengthening, monitoring and supervision, recording and reporting, community health, cross border collaboration etc.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35,000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2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Second-line anti-TB drugs to 6,000 M(X)DR-TB patients in Southern African countri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40,000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1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Rapid diagnostic tests to 154,000 M(X)DR-TB suspects in Southern African countri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5,000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obal support costs - WHO and Partn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000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0" name=""/>
          <p:cNvSpPr/>
          <p:nvPr/>
        </p:nvSpPr>
        <p:spPr>
          <a:xfrm>
            <a:off x="179280" y="5877000"/>
            <a:ext cx="896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tal short-term costs for Southern Afric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95 mil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Conclusions and way ahead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DR-TB is a serious threat to TB care and control, and must be addressed swiftly by TB community and health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GPSTB 2 revision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Country level plans and TA response by partners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need to know size and ex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Rapid surveys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arm bell to underperforming TB control programmes to expeditious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Improve basics, eg. Supervision, laboratory capacity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Introduce infection control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Improve management of MDR TB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dicator of serious underinvestment in TB control in Af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Raise resources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rgent need for new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Questions to the Board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uld the infection control sub-group be positioned under the TB/HIV Working Grou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comments does the Board have, and will it endorse, the approach to XDR-TB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can the Board do to help raise the necessary $95 million urgent request for SADC countr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Revised WHO Case Definition for XDR TB (10 Oct 2006)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95280" y="2276640"/>
            <a:ext cx="8424720" cy="28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esistance to at least INH and RIF (MD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US resistance to fluoroquinolones,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one of the second-line injectable dr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(amikacin, kanamycin, or capreomycin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360" y="151920"/>
            <a:ext cx="91440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0000"/>
                </a:solidFill>
                <a:latin typeface="Arial"/>
              </a:rPr>
              <a:t>TB Treatment Outcomes, by Selected Drug Resistance Patterns, Latvia, 2000-2003*</a:t>
            </a:r>
            <a:endParaRPr b="0" lang="en-US" sz="3400" spc="-1" strike="noStrike">
              <a:solidFill>
                <a:srgbClr val="cc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169920" y="1413000"/>
          <a:ext cx="8669160" cy="479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920" y="1413000"/>
                    <a:ext cx="8669160" cy="479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2700360" y="2492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78560" y="5950080"/>
            <a:ext cx="790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* Leimane V, et al. First Global XDR TB Task Force Meeting. Oct 9,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from N = 820 evalu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056840" y="558972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c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16080" y="3716280"/>
            <a:ext cx="1015920" cy="533520"/>
          </a:xfrm>
          <a:prstGeom prst="ellipse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01520" y="2852640"/>
            <a:ext cx="1219320" cy="609840"/>
          </a:xfrm>
          <a:prstGeom prst="ellipse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695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3480" y="531720"/>
            <a:ext cx="9144000" cy="37353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203040" y="4762440"/>
            <a:ext cx="8771040" cy="156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9440" y="304920"/>
            <a:ext cx="827892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Global WHO/IUATLD/CDC Survey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mpted by anecdotal descriptions of virtually untreatable TB pat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Mycobacterium tuberculosi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solates with multidrug resistance (MDR) and more extensive drug resistance patt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24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Global WHO/IUATLD/CDC Survey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72600" y="1412640"/>
            <a:ext cx="8331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venience sample (17,690 isolates) submitted to participating international SRL network, 2000-20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3520 (20%) of isolates MDR TB</a:t>
            </a:r>
            <a:endParaRPr b="0" lang="en-US" sz="2800" spc="-1" strike="noStrike">
              <a:solidFill>
                <a:srgbClr val="00808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347 (  2%) of isolates XDR TB </a:t>
            </a:r>
            <a:endParaRPr b="0" lang="en-US" sz="2800" spc="-1" strike="noStrike">
              <a:solidFill>
                <a:srgbClr val="00808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8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DRTB in all regions, more common FSU and Asia (Republic of Kore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nominator information unavailab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KZN Hospital Background*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211040"/>
            <a:ext cx="7772400" cy="430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19 patients in TB/ARV integration stu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14 deaths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10 (71%) of 14 with MDRTB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6/10 MDRTB resistant to all tested first and second line drugs (SLD) for TB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H, RIF, EMB, STR, KANA, CIP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ggestive of probable extensive drug resistant TB in this hospi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mpted survey Jan 2005-Mar 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734080"/>
            <a:ext cx="8345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* Moll A, Gandhi NR, Pawinski R, Lalloo U, Sturm AW, Zeller K, Andrews J,  Friedland G. HIV associated Extensively Drug-Resistant TB (XDR-TB) in Rural KwaZulu-Natal (South Africa MRC Expert Consultation Sept 8, 200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4T15:14:34Z</dcterms:created>
  <dc:creator>zignolm</dc:creator>
  <dc:description/>
  <dc:language>en-US</dc:language>
  <cp:lastModifiedBy>Desiree Kogevinas</cp:lastModifiedBy>
  <dcterms:modified xsi:type="dcterms:W3CDTF">2006-11-29T03:28:26Z</dcterms:modified>
  <cp:revision>1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