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4693-05BA-46E6-B0A7-63949726D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C978-4D79-41F1-9E06-729EB3FC9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C53A-1784-4E66-9274-F8BBBAE28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68BF-DE16-4762-933B-C9425BE35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236D-7384-44D0-A933-752BDB0EE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0CAC-5160-41FE-AAE2-E4BDD59CB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A5B5-A19B-483B-A940-69FC68E02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2885-75A9-4958-A8F9-1EC1EFD84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3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745A-4FF9-461D-8967-F7C4EFA0B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557F-CF18-411B-A13C-92BCE18D7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86B5-6EA3-4407-B71B-0D1C59F23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01AD-766E-444F-AF00-F7001A087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CA93D-8927-4EC5-9627-84FCBFB387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top TB Partnership Symposium at the 37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UNION World Conference on TB and Lung Disease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31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October 2006, Par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review </a:t>
            </a:r>
            <a:r>
              <a:rPr b="1" lang="en-US" sz="2800" spc="-1" strike="noStrike">
                <a:solidFill>
                  <a:srgbClr val="bf0601"/>
                </a:solidFill>
                <a:latin typeface="Arial"/>
              </a:rPr>
              <a:t>progres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scaling up TB control according to the Stop TB Strategy and the Global Plan to Stop TB, 2006-1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discuss </a:t>
            </a:r>
            <a:r>
              <a:rPr b="1" lang="en-US" sz="2800" spc="-1" strike="noStrike">
                <a:solidFill>
                  <a:srgbClr val="bf0601"/>
                </a:solidFill>
                <a:latin typeface="Arial"/>
              </a:rPr>
              <a:t>major challenges and potential soluti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o scaling up TB control according to the Stop TB Strategy and the Global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determine </a:t>
            </a:r>
            <a:r>
              <a:rPr b="1" lang="en-US" sz="2800" spc="-1" strike="noStrike">
                <a:solidFill>
                  <a:srgbClr val="bf0601"/>
                </a:solidFill>
                <a:latin typeface="Arial"/>
              </a:rPr>
              <a:t>how Working Groups can work together bett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o support country planning and implementation of the Stop TB Strate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179280" y="1124640"/>
            <a:ext cx="8964720" cy="71640"/>
          </a:xfrm>
          <a:prstGeom prst="rect">
            <a:avLst/>
          </a:prstGeom>
          <a:gradFill rotWithShape="0">
            <a:gsLst>
              <a:gs pos="0">
                <a:srgbClr val="8a0400"/>
              </a:gs>
              <a:gs pos="100000">
                <a:srgbClr val="bf0601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765000"/>
            <a:ext cx="0" cy="1798920"/>
          </a:xfrm>
          <a:prstGeom prst="line">
            <a:avLst/>
          </a:prstGeom>
          <a:ln w="57240">
            <a:solidFill>
              <a:srgbClr val="bf0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ahoma"/>
              </a:rPr>
              <a:t>Achievements 1 On Quality DOT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84% Treatment Success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± 60% Case Detection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crease in DOTS coverage and DOTS infrastructure: Over 26 million patients treated under DO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velopment of Country Strategic Plans 2006-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aboratory strengthening initiatives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introduction or expansion of EQ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rengthening: planning capacity, M&amp;E and supervision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regular M&amp;E meetings; sharing examples of good practi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crease in available financial resources: GFA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179280" y="1124640"/>
            <a:ext cx="8964720" cy="71640"/>
          </a:xfrm>
          <a:prstGeom prst="rect">
            <a:avLst/>
          </a:prstGeom>
          <a:gradFill rotWithShape="0">
            <a:gsLst>
              <a:gs pos="0">
                <a:srgbClr val="8a0400"/>
              </a:gs>
              <a:gs pos="100000">
                <a:srgbClr val="bf0601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765000"/>
            <a:ext cx="0" cy="1798920"/>
          </a:xfrm>
          <a:prstGeom prst="line">
            <a:avLst/>
          </a:prstGeom>
          <a:ln w="57240">
            <a:solidFill>
              <a:srgbClr val="bf0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Achievements 2 &amp; 3: Addressing challenges and contributing to HS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3059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B/HIV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olicy for collaborative TB/HIV interventions and initiated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B/HIV training materials developed and training beg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&amp;E Systems for TB/HIV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DR-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olitical commitment for MDR-TB management at country level and resource mobi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creased funding for second-line drugs (GFAT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cale up of MDR-TB treatment in many countries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(40 countries </a:t>
            </a:r>
            <a:r>
              <a:rPr b="1" lang="en-GB" sz="1800" spc="-1" strike="noStrike">
                <a:solidFill>
                  <a:srgbClr val="bf0601"/>
                </a:solidFill>
                <a:latin typeface="Arial"/>
              </a:rPr>
              <a:t>GLC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approved, more than 23,000 patients on treatment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uman resources for M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velopment of guidelines and training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raining of NTP managers and consul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79280" y="1124640"/>
            <a:ext cx="8964720" cy="71640"/>
          </a:xfrm>
          <a:prstGeom prst="rect">
            <a:avLst/>
          </a:prstGeom>
          <a:gradFill rotWithShape="0">
            <a:gsLst>
              <a:gs pos="0">
                <a:srgbClr val="8a0400"/>
              </a:gs>
              <a:gs pos="100000">
                <a:srgbClr val="bf0601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765000"/>
            <a:ext cx="0" cy="1798920"/>
          </a:xfrm>
          <a:prstGeom prst="line">
            <a:avLst/>
          </a:prstGeom>
          <a:ln w="57240">
            <a:solidFill>
              <a:srgbClr val="bf0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9080" y="4392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Achievements 4,5,6: Engaging all care providers, empowering communities, R&amp;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velopment of guidelines, IS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raining of NTPs, private sector and consulta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ale up of successful pilots contributing to increase in case de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C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ngage cured patients (patient charter), affected communities and civil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FATM support  for ACSM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se of the media to increase TB awar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&amp;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B research movement and TB Research financ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0800000">
            <a:off x="179280" y="1124640"/>
            <a:ext cx="8964720" cy="71640"/>
          </a:xfrm>
          <a:prstGeom prst="rect">
            <a:avLst/>
          </a:prstGeom>
          <a:gradFill rotWithShape="0">
            <a:gsLst>
              <a:gs pos="0">
                <a:srgbClr val="8a0400"/>
              </a:gs>
              <a:gs pos="100000">
                <a:srgbClr val="bf0601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765000"/>
            <a:ext cx="0" cy="1798920"/>
          </a:xfrm>
          <a:prstGeom prst="line">
            <a:avLst/>
          </a:prstGeom>
          <a:ln w="57240">
            <a:solidFill>
              <a:srgbClr val="bf0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</a:rPr>
              <a:t>Key Overarching Challenges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lignment of  national plans with the Global Plan to Stop TB 2006-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olitical commitment with sustained and/or increased resources to reach MDGs and bey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aising and maintaining political commitment in large federal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uild advocacy at Global, National and Sub-national Leve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nsuring sustainabilit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ustainable health fina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981000"/>
            <a:ext cx="8964720" cy="71640"/>
          </a:xfrm>
          <a:prstGeom prst="rect">
            <a:avLst/>
          </a:prstGeom>
          <a:gradFill rotWithShape="0">
            <a:gsLst>
              <a:gs pos="0">
                <a:srgbClr val="1b1b53"/>
              </a:gs>
              <a:gs pos="100000">
                <a:srgbClr val="333399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8820000" y="620640"/>
            <a:ext cx="0" cy="17985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ealth system strengthening (quality, coverage, infrastructure, measurement and indicators, way of contributing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uman  Resources (management, planning, quality, quantity, distribution, recruitment and reten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aboratory strengthening (infrastructure, staffing and capac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w strategy and multiple partners require better Coordination (internally and extern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9280" y="981000"/>
            <a:ext cx="8964720" cy="71640"/>
          </a:xfrm>
          <a:prstGeom prst="rect">
            <a:avLst/>
          </a:prstGeom>
          <a:gradFill rotWithShape="0">
            <a:gsLst>
              <a:gs pos="0">
                <a:srgbClr val="1b1b53"/>
              </a:gs>
              <a:gs pos="100000">
                <a:srgbClr val="333399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8820000" y="620640"/>
            <a:ext cx="0" cy="17985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  <a:ea typeface="Tahoma"/>
              </a:rPr>
              <a:t>Key Overarching Challen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agnosis of smear-negative, in HIV settings and childhood TB, and EP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iosafety and infectio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eed for TA in different areas and cross-cut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mportance of continuity and ongoing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inks with HR development to ensure sustain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ranslating guidelines into programmatic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vising GP2 &amp; MDR-TB Guidelines in light of emerging X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ccelerating introduction of new rapid tests for diagnosis of  MDR/XDR TB and new drug development in response to X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9280" y="981000"/>
            <a:ext cx="8964720" cy="71640"/>
          </a:xfrm>
          <a:prstGeom prst="rect">
            <a:avLst/>
          </a:prstGeom>
          <a:gradFill rotWithShape="0">
            <a:gsLst>
              <a:gs pos="0">
                <a:srgbClr val="1b1b53"/>
              </a:gs>
              <a:gs pos="100000">
                <a:srgbClr val="333399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8820000" y="620640"/>
            <a:ext cx="0" cy="17985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Other Key Overarching Challeng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79280" y="1197000"/>
            <a:ext cx="8964720" cy="71280"/>
          </a:xfrm>
          <a:prstGeom prst="rect">
            <a:avLst/>
          </a:prstGeom>
          <a:gradFill rotWithShape="0">
            <a:gsLst>
              <a:gs pos="0">
                <a:srgbClr val="1b1b53"/>
              </a:gs>
              <a:gs pos="100000">
                <a:srgbClr val="333399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8820000" y="837720"/>
            <a:ext cx="0" cy="17989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How can the working groups and partners ensure adequate coordinated respons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1484280"/>
            <a:ext cx="8427960" cy="53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highest priority is basic DOTS qualit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re DOTS has been scaled up very fa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re health systems, HRH and labs are very wea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re HIV epidemic and MDR-TB problems are the most sev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need to work in a new way – piloting, assessing &amp; sharing results, documenting evidence while preparing for scale up 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0T10:30:36Z</dcterms:created>
  <dc:creator>figueroamunozj</dc:creator>
  <dc:description/>
  <dc:language>en-US</dc:language>
  <cp:lastModifiedBy>Desiree Kogevinas</cp:lastModifiedBy>
  <dcterms:modified xsi:type="dcterms:W3CDTF">2006-11-30T09:32:08Z</dcterms:modified>
  <cp:revision>20</cp:revision>
  <dc:subject/>
  <dc:title>From DOTS to the Stop TB Strategy </dc:title>
</cp:coreProperties>
</file>