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4040" y="69696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6C29A-632A-406C-9E15-A2CE8B6F1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42AE1-0869-4A3F-8EAD-68B68224B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t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This model could vary for different countries given potential opportunities for or barriers to budget line increa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6F1C-DF81-46A0-B670-91888895E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66B5-06C4-4C74-B8F2-854032B6D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6389-7904-481D-B2CD-7489A3C48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4304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172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2400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4304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172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CFE0-F198-420E-B3EA-420934960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7773-12D4-42DA-8D54-3C90FA8FF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BF8B-0FF5-4673-9335-67A71FC7D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5B7E-4541-4343-99FD-5FD9782E8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81D7-4B55-4EF7-A6FB-E7A8DC2DF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24000" y="274320"/>
            <a:ext cx="656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28AF-2D73-4C20-BA5F-6280F1409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5829-4A97-46D3-9D40-B14D162C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D41B-0A86-4040-9A25-C88C847C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0C32-8EEB-4CBB-81A8-0ECBDBD0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5C7C6-7C1E-403E-8D85-E70DB5CA6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hyperlink" Target="http://www.stoptb.org/gdf/newsevents/newsarchive.asp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file:///CB%20Jakarta%20priting%20Nov.%2026/Table%20insert%20CB%20presentation.ppt" TargetMode="Externa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692000" y="2708280"/>
            <a:ext cx="6048360" cy="1224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36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  <a:ea typeface="STXingkai"/>
              </a:rPr>
              <a:t>“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  <a:ea typeface="STXingkai"/>
              </a:rPr>
              <a:t>Securing timely access to quality,  affordable TB drug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324000" y="764640"/>
            <a:ext cx="8424720" cy="7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622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en-GB" sz="4800" spc="-1" strike="noStrike">
                <a:solidFill>
                  <a:srgbClr val="cc0000"/>
                </a:solidFill>
                <a:latin typeface="Copperplate Gothic Bold"/>
              </a:rPr>
              <a:t>Global Drug Facil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1360" y="4724280"/>
            <a:ext cx="1357560" cy="1981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870680" y="4292640"/>
            <a:ext cx="1273320" cy="1827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148600" y="6103800"/>
            <a:ext cx="995400" cy="754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124000" y="5229360"/>
            <a:ext cx="4888080" cy="9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esenter – Dr. Jeremiah Chakay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ate – 30 Nov.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4932360" cy="27082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71640" y="62028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000" y="233208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GDF grants are in principle for 3 years and are subject to condi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One condition: public sector/donor funding for TB control activities (including anti-TB drugs) will not be reduced during GDF supp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Many countries still require financial assistance for anti-TB drugs after completing a 3-year gra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4932360" cy="27082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03640" y="475920"/>
            <a:ext cx="65628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99760" y="256536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DF grants offer opportunity to leverage short-term financial assistance for the long-term financial sustainability of NT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GDF requests CB consider more proactive approaches to ensuring broader political commitment from countries to finance their TB drug supp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4932360" cy="27082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95280" y="836280"/>
            <a:ext cx="656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ed Option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560" y="256536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Make annual increases in public sector funding for anti-TB drugs a condition of GDF supp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Extend the GDF grant cycle from 3 to 5 years to allow countries sufficient time to build the financial budget lines required to pay for drugs themselv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24000" y="5157720"/>
            <a:ext cx="79200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Consider introducing a </a:t>
            </a:r>
            <a:r>
              <a:rPr b="1" i="1" lang="en-GB" sz="2800" spc="-1" strike="noStrike">
                <a:solidFill>
                  <a:srgbClr val="cc0000"/>
                </a:solidFill>
                <a:latin typeface="Arial"/>
                <a:ea typeface="SimSun"/>
              </a:rPr>
              <a:t>Financial Sustainability Planning (FSP)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process as a component of the GDF grant-making process for either op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5216400">
            <a:off x="-142560" y="5475240"/>
            <a:ext cx="1433520" cy="50328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360" y="105228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ed Option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5280" y="3141720"/>
            <a:ext cx="874872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Maintain a fixed grant value throughout the duration of GDF grant, with funds transitioning from purchase of TB drugs to technical assistance for drug management in-country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As with options 1 and 2 consider an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  <a:ea typeface="SimSun"/>
              </a:rPr>
              <a:t>FSP proc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with this op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5216400">
            <a:off x="506520" y="5622840"/>
            <a:ext cx="1433520" cy="50328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2"/>
          </p:cNvPr>
          <p:cNvSpPr/>
          <p:nvPr/>
        </p:nvSpPr>
        <p:spPr>
          <a:xfrm>
            <a:off x="2268360" y="5589720"/>
            <a:ext cx="58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rush Script MT"/>
              </a:rPr>
              <a:t>I</a:t>
            </a:r>
            <a:r>
              <a:rPr b="0" lang="en-GB" sz="3600" spc="-1" strike="noStrike">
                <a:solidFill>
                  <a:srgbClr val="000000"/>
                </a:solidFill>
                <a:latin typeface="Brush Script MT"/>
              </a:rPr>
              <a:t>llustration of Option 3 – Next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tion 3: Building drug management capacity while encouraging financial sustain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44880" y="1030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44880" y="130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44880" y="1582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44880" y="1598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1859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95280" y="1484280"/>
          <a:ext cx="8353440" cy="4897080"/>
        </p:xfrm>
        <a:graphic>
          <a:graphicData uri="http://schemas.openxmlformats.org/drawingml/2006/table">
            <a:tbl>
              <a:tblPr/>
              <a:tblGrid>
                <a:gridCol w="2444760"/>
                <a:gridCol w="1258920"/>
                <a:gridCol w="1184400"/>
                <a:gridCol w="1180800"/>
                <a:gridCol w="1181160"/>
                <a:gridCol w="1103400"/>
              </a:tblGrid>
              <a:tr h="53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ear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ear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ear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ear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ear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8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Total value of grant remains constant each year of gr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00% dru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25% 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50% 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75% 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00% 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4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Each year requires an increase in national budget for TB dru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75% dru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68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38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Each year more of GDF grant money used for technical assistance, as countries take more responsibility for financing TB dru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50% dru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25% dru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3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</a:tbl>
          </a:graphicData>
        </a:graphic>
      </p:graphicFrame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4067280" cy="2205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95280" y="620280"/>
            <a:ext cx="656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Im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889308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A 5-year grant is a longer term commitment (in principle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ll options adopting an FSP process would requir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evelopment of a GDF framework for financial sustainability planning &amp; implementation including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10360" indent="-27972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SimSun"/>
              </a:rPr>
              <a:t>Guidelines for the Development of Financial Sustainability Plan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SimSun"/>
              </a:rPr>
              <a:t> for countri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C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ntracting of consultant(s) to do the above wor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Missions to support selected countrie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81200" y="29239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0000"/>
                </a:solidFill>
                <a:latin typeface="Brush Script MT"/>
              </a:rPr>
              <a:t>Thank you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24000" y="3068640"/>
            <a:ext cx="842472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1001"/>
              </a:spcBef>
              <a:spcAft>
                <a:spcPts val="25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atest Upd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1001"/>
              </a:spcBef>
              <a:spcAft>
                <a:spcPts val="25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oposal for Board Deci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1181160" cy="1655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24000" y="2636640"/>
            <a:ext cx="842472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hie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DF &amp; UNITAID – Paediatric 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DF Business Advisory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ral up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1181160" cy="1655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4920" y="0"/>
            <a:ext cx="4753080" cy="306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240"/>
            <a:ext cx="91440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Achievements: 10 x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9280" y="946080"/>
            <a:ext cx="8785440" cy="57229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50560" y="2825280"/>
            <a:ext cx="8893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ITAID – Innovative financing initiative fo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HIV, TB &amp; Malari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ding targeted at niches where innovative changes can be made through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rket interventions backed by sustainable finan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used in 2006/2007 at WHO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ct. 9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DF approved as programmatic partn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o UNITAID for Paediatric 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ct. 12 Official Call for Grant Application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sued with deadline of Nov. 6 (sensitization communications sent Sept. 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greement to be signed imminently between STB Partnership &amp; UNITA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GDF &amp; UNITAID - 1</a:t>
            </a:r>
            <a:r>
              <a:rPr b="0" lang="en-GB" sz="6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1181160" cy="1655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rcRect l="0" t="0" r="1116" b="0"/>
          <a:stretch/>
        </p:blipFill>
        <p:spPr>
          <a:xfrm>
            <a:off x="6372360" y="960480"/>
            <a:ext cx="2458800" cy="14130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08000" y="1484280"/>
            <a:ext cx="439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First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DF TRC met 13 – 16 Nov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ediatric Applications = </a:t>
            </a: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commended for Approval = </a:t>
            </a: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der Further Consideration = </a:t>
            </a: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 recommended for Approval = </a:t>
            </a: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Next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TAID Board Appr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B CB Exec. Ctte Appr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GDF &amp; UNITAID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427640" y="765000"/>
            <a:ext cx="4537080" cy="3816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716360" y="4724280"/>
            <a:ext cx="4032360" cy="1989360"/>
          </a:xfrm>
          <a:custGeom>
            <a:avLst/>
            <a:gdLst>
              <a:gd name="textAreaLeft" fmla="*/ 920520 w 4032360"/>
              <a:gd name="textAreaRight" fmla="*/ 3111840 w 4032360"/>
              <a:gd name="textAreaTop" fmla="*/ 453960 h 1989360"/>
              <a:gd name="textAreaBottom" fmla="*/ 1535400 h 1989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~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160,0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aediatric Patient Treat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pproved for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49440" y="1260360"/>
            <a:ext cx="8170560" cy="53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ordinating Board endorses creation of BAC April '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DF issues invitation of EOI July '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judication committee finalizes selection Oct. '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7 members se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roductory teleconference held 22 Nov. '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AC meeting week of 12 March '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GDF Business Advisory Committ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32720" y="5805360"/>
            <a:ext cx="2095200" cy="764280"/>
          </a:xfrm>
          <a:prstGeom prst="rect">
            <a:avLst/>
          </a:prstGeom>
          <a:solidFill>
            <a:srgbClr val="b4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marL="349200" indent="-3492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Lucida Handwriting"/>
              </a:rPr>
              <a:t>B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012000" y="5734080"/>
            <a:ext cx="704880" cy="863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50560" y="1260360"/>
            <a:ext cx="8893080" cy="53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649"/>
              </a:spcBef>
              <a:spcAft>
                <a:spcPts val="1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election of</a:t>
            </a:r>
            <a:r>
              <a:rPr b="0" lang="en-GB" sz="26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1" lang="en-GB" sz="4000" spc="-1" strike="noStrike">
                <a:solidFill>
                  <a:srgbClr val="cc0000"/>
                </a:solidFill>
                <a:latin typeface="Monotype Corsiva"/>
              </a:rPr>
              <a:t>gtz</a:t>
            </a:r>
            <a:r>
              <a:rPr b="0" lang="en-GB" sz="26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s new Procurement Agent Sept. '0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49"/>
              </a:spcBef>
              <a:spcAft>
                <a:spcPts val="1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ddition of </a:t>
            </a:r>
            <a:r>
              <a:rPr b="0" lang="en-GB" sz="2600" spc="-1" strike="noStrike">
                <a:solidFill>
                  <a:srgbClr val="cc0000"/>
                </a:solidFill>
                <a:latin typeface="Arial"/>
              </a:rPr>
              <a:t>3 Diagnostic Kit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to GDF's catalogue effective Jan. '0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49"/>
              </a:spcBef>
              <a:spcAft>
                <a:spcPts val="1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DF Strategic plan 2006-2010 finaliz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49"/>
              </a:spcBef>
              <a:spcAft>
                <a:spcPts val="243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DF/GLC procurement convergence complete Dec. '0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49"/>
              </a:spcBef>
              <a:spcAft>
                <a:spcPts val="243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inal UNITAID approval of </a:t>
            </a:r>
            <a:r>
              <a:rPr b="0" lang="en-GB" sz="26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0" lang="en-GB" sz="2600" spc="-1" strike="noStrike" baseline="30000">
                <a:solidFill>
                  <a:srgbClr val="cc0000"/>
                </a:solidFill>
                <a:latin typeface="Arial"/>
              </a:rPr>
              <a:t>nd</a:t>
            </a:r>
            <a:r>
              <a:rPr b="0" lang="en-GB" sz="2600" spc="-1" strike="noStrike">
                <a:solidFill>
                  <a:srgbClr val="cc0000"/>
                </a:solidFill>
                <a:latin typeface="Arial"/>
              </a:rPr>
              <a:t> line TB Drug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grants via </a:t>
            </a:r>
            <a:r>
              <a:rPr b="0" lang="en-GB" sz="2600" spc="-1" strike="noStrike">
                <a:solidFill>
                  <a:srgbClr val="cc0000"/>
                </a:solidFill>
                <a:latin typeface="Arial"/>
              </a:rPr>
              <a:t>GDF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2600" spc="-1" strike="noStrike">
                <a:solidFill>
                  <a:srgbClr val="808000"/>
                </a:solidFill>
                <a:latin typeface="Arial"/>
              </a:rPr>
              <a:t>GLC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~ US$ 10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expected Nov. 30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'0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General updat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OORDINATING BOARD DECISION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Helping GDF Grantees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o Achieve </a:t>
            </a:r>
            <a:br>
              <a:rPr sz="4000"/>
            </a:br>
            <a:r>
              <a:rPr b="1" lang="en-GB" sz="4000" spc="-1" strike="noStrike">
                <a:solidFill>
                  <a:srgbClr val="808000"/>
                </a:solidFill>
                <a:latin typeface="Arial"/>
              </a:rPr>
              <a:t>Financial Sustainability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09:34:26Z</dcterms:created>
  <dc:creator>ryant</dc:creator>
  <dc:description/>
  <dc:language>en-US</dc:language>
  <cp:lastModifiedBy>user</cp:lastModifiedBy>
  <dcterms:modified xsi:type="dcterms:W3CDTF">2006-11-29T15:53:32Z</dcterms:modified>
  <cp:revision>52</cp:revision>
  <dc:subject/>
  <dc:title>Managing Adult and Paediatric Gra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