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3986-1C29-4A95-9697-601BE2DA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EDB7-6EEC-4438-A07B-C87927BD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2FBE-48D2-46A9-AC0D-6F5D3710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06B3-6F8D-4E4D-83B6-54447E7A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D494-7523-4BB8-AFC5-7A4F6D46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F004-8924-4CF9-B747-1F6E43DD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3FDE-AAC8-4692-8B0E-9A7AEBA1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09D8-E76B-4241-813D-B1840214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56F0-135E-4D07-96C8-1D9A52AF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DA1E-0EC9-4F99-978D-52EB5EDF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2C70-6BF7-4BAE-ADB6-EEFFE5CA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F2CC-0809-472C-A573-E717D877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1C8B-0C55-4D88-B4FF-8848339F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C3A6-5D47-4C0E-974A-7A7DDA1D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69F5-3F45-442A-B4A7-32BB05DC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2528-1CDA-4843-BF16-7499F6AF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B938-EFF6-4AD0-AF64-3EC7DB4C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856C-9410-4C49-8013-D931B107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FACA-E428-4262-B01B-5A8EBB8B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D724-6814-44F8-953E-BBD1C467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FA09-D722-47E4-8FDB-5406B4A8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8073-EBD6-494C-98EF-739ECD6C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1A4-E5D1-4F46-AF5A-8044D50E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227A-B954-4284-A735-84A2C13E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566D-17F8-48C0-815B-8F94276FB9D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0994-4041-4095-B7D5-19315DA7B4C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conomic Benefits of Tuberculosis Control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Africa &amp; 22 High Burden Countr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45200" y="2513160"/>
            <a:ext cx="60267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11</a:t>
            </a:r>
            <a:r>
              <a:rPr b="0" lang="en-US" sz="2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Stop TB Partnership Board Meeting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Jakarta, 29-30 November 2006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acques Baudou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rector, Health Nutrition &amp; Popul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World Bank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4272-616D-4247-9531-5CB55D915B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mmary results for 22 HBCs globally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164 billion/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81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51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A7D7-690C-4748-BC0B-AD20F31133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ults: 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urden of deaths associated with TB in 22 HBC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14400" y="1905120"/>
          <a:ext cx="8001000" cy="45655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9.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84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71.2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.3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C892-506D-446E-83FA-F2FABC97C5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burden of TB is signific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ikely benefits of Global Plan 2006-2015 exceed cost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10 in Afric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50 in the 22 HBC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impact of TB deaths is greatest in China and Ind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owing incomes and large avertable TB burde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ote high levels of TB coinfection with HIV in Afric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F41B-8DE0-40BC-AA7E-1D4557854B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otential policy implica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ow will the Partnership disseminate and use this report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perational implicati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licy and program desig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llocative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chnical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416A-D2B3-4737-BF3A-99BA116FD1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3D41-4DA9-4492-A94B-393932C74D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or: Ramanan Laxminaraya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Joint exercise of several Stop TB partn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nanced by the Bill &amp; Melinda Gates Foundation (US$95,000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naged by the World Bank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versight group from World Bank, WHO, BMGF &amp; Stop TB Partnership Secretari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5EA2-81D6-46F7-BB93-BED156C18E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ighligh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tion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ey finding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tential implications for policymak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BE33-EE3A-4161-B70E-E44E3B2A8A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8229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ext of heavy health burde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bout 8.8 million new cases per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7 million TB-related deaths in 2003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Corbett, Watt, et al., 2003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reatest burden of TB falls on working-age adult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emature death accounts for over 80% of DALYs lost  to TB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Dye, 2006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and poverty dimensions important: mean household spending on TB can account for 8 – 20% of annual household income (Russell, 2004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udy adds to knowledge base of economic costs and benefi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9DD1-ED8B-485A-AC26-BB4F9ECD57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costs of TB in Africa - - and in the 22 High Burden Countries (HBCs)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benefits of controlling TB in Africa - - and in the 22 HBCs under specified scenario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policy implications of the finding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26C6-FAB5-42B0-9C08-E7CB503DE7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ll income approac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corporates both annual income &amp; number of years over which the income is enjoy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putes value of increased life expectancy on economic well-be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lue of a statistical lif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idely used in economics and reg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laces a value not on a particular life, but on public health measures that can reduce the statistically expected number of deaths by 1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ses revealed preference approaches to assess willingness to pay to lower probability of dy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740F-1F97-40E1-91D6-8B8C2D612D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stimates of costs and benefits in this study refer to economic costs, not to financial/accounting cos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finition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stained DOTS: Maintain 2005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nhanced DOTS: Global Plan 2006-201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frica: Epidemiological region as defined in Global Plan 2006-2015, Annex 2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E6FB-5968-4CB1-99BA-E8A9D60033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mmary results for Africa</a:t>
            </a:r>
            <a:br>
              <a:rPr sz="3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66 billion/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6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4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1F2C-FCAE-4DBD-91E3-C9BB4F39D1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enefits &amp; costs of deaths associated with TB in Africa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914400" y="2362320"/>
          <a:ext cx="8001000" cy="40129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.18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4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7.26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.6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8104-D21C-4D24-AABE-9535435B6C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b89350</cp:lastModifiedBy>
  <dcterms:modified xsi:type="dcterms:W3CDTF">2006-11-22T22:42:14Z</dcterms:modified>
  <cp:revision>442</cp:revision>
  <dc:subject/>
  <dc:title>Non-Financial Constraints  on the Response to HIV/AIDS and TB in ECA</dc:title>
</cp:coreProperties>
</file>