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0F9E-8F6A-4786-AE35-706EE54E0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399B-9A3B-4237-8F2B-4F1EDA83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531F-93BF-4918-BC1D-0FCDD044F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A362-4A20-4B04-A2F0-32B627DFE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A474A-9187-4B26-B09A-052C30D4B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15DD09-2CE9-4782-9518-4D6FAC34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F2104-DCB1-4111-B6DC-3DA22A33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8F426E-2B85-4865-9161-43A15B5F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5A28AD-1AD5-40AF-86B1-93853F2A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5602B-035C-475B-8B77-9D1E3444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39978-CF41-4DD6-896B-3E55F8EA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2058-407D-4744-9EB5-0F9A0FAF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5D308-5F1D-4CF1-AF4B-4A3A8B1E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94C9BA-1E56-4EFA-8A38-F090A3B9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F1DA6-63E8-4732-93E6-9982BB81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86449-3E06-4723-90E2-FE4B30C27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D8EC8-9710-4FCA-B104-89FF818F4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9CC45-4765-46AD-ABFB-A49580640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1AA09-0697-4E1A-A015-DC31B260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D13AE-C262-4985-8FC4-7809BC91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C79F0-E178-41CF-9EC7-8F08016A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A0598-9960-461F-A5A5-E098D11D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9DA3-7D08-4351-BB11-7C543CD3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57A6A-3D3E-4FA7-BCFE-7AF90DFD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026B1-80F6-43D0-A716-0D0E1EE5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2EF82-CAEF-4436-B2C5-83660C25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B4333-D25F-41FF-8CA2-BB96BCCD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3842D-A93F-4920-B778-2016427E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ECECA-CD1D-4BBB-B085-E0FFAFE8A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61B3B-2FA3-4380-8C2A-18C7C86C3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0C93-7ABD-4763-A2F3-7F5CBABC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CA0B-0B99-47FF-8F9F-0C5FAEF5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9B11-0108-4EBF-B450-D4B4B205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2C0E-069E-4E13-B409-2011343D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72B2-1E3D-46DA-AA91-73A0EB64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E9CB-8BC3-4F77-BBC2-7D9B18CA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1C9A-ED2C-4CE2-93C9-5ECFD152C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501C-6A88-4CA8-A1D5-6D6DD66CE9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8BB1-E4F7-46A3-B383-3374CBE333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13012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TB Research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id Syed, Joanne Carter, Barbara Laughon, Peter Sm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233280" y="463680"/>
          <a:ext cx="8675640" cy="593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463680"/>
                    <a:ext cx="8675640" cy="59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6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77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457200" y="385920"/>
          <a:ext cx="8229600" cy="56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2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83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8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89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4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95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0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01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6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07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564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457200" y="46836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6836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2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13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457200" y="380880"/>
          <a:ext cx="8229600" cy="562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8229600" cy="562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8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19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569880" y="539640"/>
          <a:ext cx="7975800" cy="545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880" y="539640"/>
                    <a:ext cx="7975800" cy="54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4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25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457200" y="385920"/>
          <a:ext cx="8229600" cy="56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discussed in Abuj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been accomplished si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uture dire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pecific delivera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3049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Why are the GP2 numbers insuffici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P2 doesn’t include basic science or fully account for operational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P2 doesn’t account for research trial capacity building to address the R&amp;D needs for new tools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umptions of the funding available for TB new tools going into the first year of GP2 (2006) is less than what TAG tracked for 20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s available in 2005 needs to be increased by nearly 5 fold in order for the GP2 resource needs to be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7440" y="57229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34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Y05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P 2006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ase 5-fold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P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AG 10 yr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ctual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stimate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crease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015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y new too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B diagnos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9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516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B drug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1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8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0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B vaccin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7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4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 tools sub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6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8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3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957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ic rese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7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8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ed/Infrastructu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onal rese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tot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8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4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 TB R&amp;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9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7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95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uch TB R&amp;D Funding is Really Needed (Dollars in Million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8120" y="5572080"/>
            <a:ext cx="1203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8120" y="5400720"/>
            <a:ext cx="13557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41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4320" y="0"/>
            <a:ext cx="492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y are the Global Plan Numbers Insuffici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733920" y="45720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34290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15200" y="50292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 a comprehensive global movement for TB R&amp;D to reach Global Plan 2 goa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R&amp;D expenditures and activities need to be systematized and tracked annu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stry should increase reporting transpar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G recommends 5-fold increase, to 2 B/y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)  $1.05B/year is needed for new tools re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i) $950M/year is needed for basic science, infrastructure development, and operational re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8120" y="5842080"/>
            <a:ext cx="1051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57320" y="5676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52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future direc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 tr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assessment every 1-2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this data to identify new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ocating for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Fair shar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Calculating Country Fair Shares of R&amp;D Need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Joanne Cart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SULTS/RESULTS Educational Fu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asic Assump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0% of annual R&amp;D needs to be contributed by wealthy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ir share calculated as country’s percentage of global wealth (Country GNI 2005* as % of total World GNI 200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ir shares estimated for 22 OECD DAC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*GNI source: World Development Indicators database, World Bank, 1 July 2006. Online. http://siteresources.worldbank.org/DATASTATISTICS/Resources/GNI.pdf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xampl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39988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Based on the GPSTB 2006-2015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nual R&amp;D need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900 m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: US Fair Share (28.83%)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259 m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Based on TAG expanded R&amp;D estimat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nual R&amp;D need =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2 b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: US Fair Share (28.83%)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577 m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Outstanding Issues/Ques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cision on overall annual R&amp;D ne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fining and expanding current donor financing database building on TAG repor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thodolog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ECD/DAC countries only? Include other Higher-Income Countries (e.g. Middle East – Bahrain, Brunei, Kuwait, Qatar, Saudi Arabia, UAE; Asia – Hong Kong, South Korea, Singapore)? Separate “share” for the EC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onor countries providing 100% of R&amp;D? What about private sector and foundations? What about some endemic countries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8487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Turning Fair Shares into an Advocacy Tool: </a:t>
            </a:r>
            <a:br>
              <a:rPr sz="4800"/>
            </a:b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Example of the GFATM Donor Report Card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rading Sca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sed on % of each country’s fair share pledged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+  =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≥ 11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A    =  100-109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B    = 81-99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C    = 61-8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D    = 51-6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F    = 0-5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N   = Incomple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discussed in Abuj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ment that R&amp;D is critical to GP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hat is Resear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date that the Partnership should advocate for increased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hat are current resour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at Does Report Card Look Like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3835440" cy="4976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800600" y="1371600"/>
            <a:ext cx="3830760" cy="49528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4572000" y="1371600"/>
            <a:ext cx="0" cy="495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research activities in TB and TB/H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.S. Federal TB Task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global funders of basic and clinical science (NIH, Gates Foundation, USAID, TB Alliance, FIND, Aeras, CDC, MRC, Wellcome Trust, EC, companies) to meet, compare portfolios and clinical activities/sites/resources, identify gaps and potential syner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 utilization – coordinate lab, human resources, and clinic strengthening to benefit care and expand research opportunities and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future cooperative initiatives to fill research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cations for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 of New Tools Working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connections for 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minish concern re: duplication of eff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mobilization of new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of advocacy positions based on scientific landsc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D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 tender for resource tr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Grant will cover some of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ate fair shar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CSM can best use TAG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d hoc group to map research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hese activities fit within WG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ic Deliverables (6 month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ct awarded for tracking (Partnershi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of top donors (RESULTS/TA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ocacy plan (ACS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 of research activities (ad hoc grou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accomplished si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ication of “research” - S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idemiology and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zing impact of curr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&amp; D for new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res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ication of current resources -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50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funds TB R&amp;D; What do they fund; What are the gaps, What is nee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y Cindra Feuer, Javid Sye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b Huff, &amp; Mark Harring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Action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th Stop TB Partnership Coordinating Board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 29-30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karta, Indon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TB R&amp;D spending for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2005 actually compare to GP’s assumptions for 2006 and goals for 2015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is compare to what is really nee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3120" y="527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74720" y="601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60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Gs theory of change is borne out of 25 years of experience in HIV research activism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esearchers+Policy Makers+Community Activists= Increased Political Will+ Resources+ Efficient and Effective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development of a comprehensive research agenda that is implemented in a coordinated fashion can greatly improve research effectiveness and effici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3120" y="527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74720" y="601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68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457200" y="385920"/>
          <a:ext cx="8229600" cy="56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57200" y="496800"/>
          <a:ext cx="8217000" cy="589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96800"/>
                    <a:ext cx="8217000" cy="58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20:26:52Z</dcterms:created>
  <dc:creator>Peter Small</dc:creator>
  <dc:description/>
  <dc:language>en-US</dc:language>
  <cp:lastModifiedBy>Peter Small</cp:lastModifiedBy>
  <dcterms:modified xsi:type="dcterms:W3CDTF">2006-11-30T01:47:02Z</dcterms:modified>
  <cp:revision>22</cp:revision>
  <dc:subject/>
  <dc:title>Global TB Research Movement</dc:title>
</cp:coreProperties>
</file>