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DFF-5171-43E8-8319-1922B2C4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A78-C211-4553-A86B-F31D212C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A905-2D67-476A-8103-BD275A92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383-E1C1-4EF4-92D1-820165A3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F07-6895-42CC-A659-CAF2EB4A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C239-D335-4BF2-9643-EFBA1BE6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AD5-5B7B-479C-970B-6A6FD005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CB86-B8BE-49C8-B590-3DDB1731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1457-F3AE-48C9-9822-60C3B1FD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E621-E140-44E2-9738-E7A0D306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D201-32CF-40BC-B42E-59DD4672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807-0950-47C9-B2F1-91DEB151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1313-6D4C-4362-9240-0442244CA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op TB Partnership Symposium at the 37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UNION World Conference on TB and Lung Dise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ctober 2006, Par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view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progr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caling up TB control according to the Stop TB Strategy and the Global Plan to Stop TB, 2006-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cuss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major challenges and potential sol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caling up TB control according to the Stop TB Strategy and the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termine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how Working Groups can work together bet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upport country planning and implementation of the Stop TB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chievements 1 On Quality DO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4% Treatment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± 60% Case Detec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e in DOTS coverage and DOTS infrastructure: Over 26 million patients treated under D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lopment of Country Strategic Plans 20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initiati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ntroduction or expansion of EQ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engthening: planning capacity, M&amp;E and supervis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egular M&amp;E meetings; sharing examples of good pract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in available financial resources: GF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chievements 2 &amp; 3: Addressing challenges and contributing to H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059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/H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cy for collaborative TB/HIV interventions and initiate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/HIV training materials developed and training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Systems for TB/HIV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commitment for MDR-TB management at country level and resource mo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ed funding for second-line drugs (GF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 up of MDR-TB treatment in many countrie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40 countries </a:t>
            </a:r>
            <a:r>
              <a:rPr b="1" lang="en-GB" sz="1800" spc="-1" strike="noStrike">
                <a:solidFill>
                  <a:srgbClr val="bf0601"/>
                </a:solidFill>
                <a:latin typeface="Arial"/>
              </a:rPr>
              <a:t>GL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pproved, more than 23,000 patients on treat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resources for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 and train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 managers and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080" y="43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chievements 4,5,6: Engaging all care providers, empowering communities, R&amp;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, I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s, private sector and consul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up of successful pilots contributing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e cured patients (patient charter), affected communities and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FATM support  for ACS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the media to increase TB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research movement and TB Research financ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Key Overarching Challeng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ignment of  national plans with the Global Plan to Stop TB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tical commitment with sustained and/or increased resources to reach MDGs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and maintaining political commitment in large fede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 advocacy at Global, National and Sub-nationa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suring sustainabi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health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system strengthening (quality, coverage, infrastructure, measurement and indicators, way of contribu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 Resources (management, planning, quality, quantity, distribution, recruitment and reten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(infrastructure, staffing and 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strategy and multiple partners require better Coordination (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ahoma"/>
              </a:rPr>
              <a:t>Key Overarching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agnosis of smear-negative, in HIV settings and childhood TB, and EP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safety and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for TA in different areas and cross-cu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ance of continuity and ongo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s with HR development to ensure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ing guidelines into programmat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sing GP2 &amp; MDR-TB Guidelines in light of emerging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lerating introduction of new rapid tests for diagnosis of  MDR/XDR TB and new drug development in response to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Other Key Overarching Challe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197000"/>
            <a:ext cx="8964720" cy="7128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20000" y="837720"/>
            <a:ext cx="0" cy="17989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How can the working groups and partners ensure adequate coordinated respon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84279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highest priority is basic DOTS quali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DOTS has been scaled up very f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ealth systems, HRH and labs are very w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IV epidemic and MDR-TB problems are the most s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work in a new way – piloting, assessing &amp; sharing results, documenting evidence while preparing for scale up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30:36Z</dcterms:created>
  <dc:creator>figueroamunozj</dc:creator>
  <dc:description/>
  <dc:language>en-US</dc:language>
  <cp:lastModifiedBy>Desiree Kogevinas</cp:lastModifiedBy>
  <dcterms:modified xsi:type="dcterms:W3CDTF">2006-11-30T09:32:08Z</dcterms:modified>
  <cp:revision>20</cp:revision>
  <dc:subject/>
  <dc:title>From DOTS to the Stop TB Strategy </dc:title>
</cp:coreProperties>
</file>