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AD5DD-3CC3-42EB-9BBF-45DEDC01F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51E50-B613-49C2-8C9F-049917465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7C59-FE78-4D19-8095-7C3281375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5027-2FC8-416D-B7C1-3CF6994CE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DF8B5-C46E-4EAB-9F39-CA844E357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6668F-31A9-4275-8403-5E385E6EA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DBC13-46AF-4102-A9C2-1741BC55D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F49A9-4DC5-4198-9612-F412ED91E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1B6D0-9DBE-4F67-A0CD-009F3B6B7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3E132-4DA4-4BEE-8FD6-6C6F04BE3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F79B2-0397-4790-A0AA-64A6EB439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DCF7-C041-4590-8D3C-C26AFCB35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CB19D-1593-40B7-BEA7-D5976BFDE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5287B-EDA6-425C-A01F-FCC95C3BB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6ADB2-7113-48EB-928B-A07CA6770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69A09-60BC-424D-891A-BFD111A48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3033F-0851-4696-A9A1-BC8C75957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3FD50-D484-40FC-8B02-91E3B71B8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EFB5-12AC-4DCE-B309-155D21144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EF04-E566-4586-B17F-EDDA40D52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A947-921E-4AA3-B33E-1A2A63C6E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D822-3ACF-479A-BFF8-9425D87CD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64BDB-1009-4D46-A491-0A033E674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DC43-9DB5-40B0-8CBE-7FE30E01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99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2D22C-1345-47BC-875C-F83C946E067C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7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8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eaeae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33F01-727E-4B8E-9100-5522CC70E5D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12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99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Economic Benefits of Tuberculosis Control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n Africa &amp; 22 High Burden Countri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685800" y="2285640"/>
            <a:ext cx="8067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645200" y="2513160"/>
            <a:ext cx="60267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11</a:t>
            </a:r>
            <a:r>
              <a:rPr b="0" lang="en-US" sz="2600" spc="-1" strike="noStrike" baseline="30000">
                <a:solidFill>
                  <a:srgbClr val="000099"/>
                </a:solidFill>
                <a:latin typeface="Arial"/>
              </a:rPr>
              <a:t>th</a:t>
            </a: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 Stop TB Partnership Board Meeting</a:t>
            </a: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9"/>
                </a:solidFill>
                <a:latin typeface="Arial"/>
              </a:rPr>
              <a:t>Jakarta, 29-30 November 2006</a:t>
            </a: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Jacques Baudouy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irector, Health Nutrition &amp; Population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he World Bank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2E19D-44CB-4A34-9147-93ED42ECA89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ummary results for 22 HBCs globally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[2006 US$, discount rate = 3%]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Baseline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economic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burden of TB deaths under no DOTS scenario (including HIV coinfections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=$164 billion/yea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Economic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benefit:cost ratio of TB control 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=  81 for Sustained DOTS (relative to no DOTS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=  51 for Global Plan 2006-2015 (relative to no DOTS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4A7DA-D0E9-40EE-9C11-9E412C7C53A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esults: Annual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economic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burden of deaths associated with TB in 22 HBCs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Including HIV coinfection, billions of US$ in 2006, discount rate of 3%]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33" name=""/>
          <p:cNvGraphicFramePr/>
          <p:nvPr/>
        </p:nvGraphicFramePr>
        <p:xfrm>
          <a:off x="914400" y="1905120"/>
          <a:ext cx="8001000" cy="4565520"/>
        </p:xfrm>
        <a:graphic>
          <a:graphicData uri="http://schemas.openxmlformats.org/drawingml/2006/table">
            <a:tbl>
              <a:tblPr/>
              <a:tblGrid>
                <a:gridCol w="2666880"/>
                <a:gridCol w="2667240"/>
                <a:gridCol w="2666880"/>
              </a:tblGrid>
              <a:tr h="16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DOTS 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overage Level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enefi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elative to baseline of No DO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os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elative to baseline of No DO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70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ustained DO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i.e., maintain 2005 level)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49.1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.84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22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lobal Plan 2006-2015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71.2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.33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280C-54F7-4AB1-8E82-E5C17F125FA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Discussion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Economic burden of TB is signific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Likely benefits of Global Plan 2006-2015 exceed costs: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y a factor of 10 in Afric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by a factor of 50 in the 22 HBC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Economic impact of TB deaths is greatest in China and India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growing incomes and large avertable TB burde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Note high levels of TB coinfection with HIV in Africa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689D4-75F0-460C-BADE-A478EDDAF96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Potential policy implication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How will the Partnership disseminate and use this report?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Operational implication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olicy and program desig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llocative efficienc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echnical efficienc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DD34-9C54-4BFC-AD71-490EF3CE0C7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Thank you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F5DB-6FAB-4979-B2AB-3BE7AF0420C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Acknowledgement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uthor: Ramanan Laxminaraya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Joint exercise of several Stop TB partner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Financed by the Bill &amp; Melinda Gates Foundation (US$95,000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Managed by the World Bank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Oversight group from World Bank, WHO, BMGF &amp; Stop TB Partnership Secretaria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CDB3C-FE21-4220-8F22-755186A159A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Highlight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Rationale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ntext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Method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Key finding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Potential implications for policymaker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6C99-8726-438A-8464-C5835CB3954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Introduction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8229600" cy="463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ontext of heavy health burden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About 8.8 million new cases per yea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.7 million TB-related deaths in 2003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(Corbett, Watt, et al., 2003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Greatest burden of TB falls on working-age adults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remature death accounts for over 80% of DALYs lost  to TB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(Dye, 2006)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Household and poverty dimensions important: mean household spending on TB can account for 8 – 20% of annual household income (Russell, 2004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Study adds to knowledge base of economic costs and benefi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72F6-B28E-4116-99AF-10FDA6CBCE6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Question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hat are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conomic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costs of TB in Africa - - and in the 22 High Burden Countries (HBCs)?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hat are the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economic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benefits of controlling TB in Africa - - and in the 22 HBCs under specified scenarios?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What are the policy implications of the findings?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7BB58-CBF9-4832-899F-8E2C8D96A7B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ethod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ull income approach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ncorporates both annual income &amp; number of years over which the income is enjoy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mputes value of increased life expectancy on economic well-be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alue of a statistical lif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Widely used in economics and reg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laces a value not on a particular life, but on public health measures that can reduce the statistically expected number of deaths by 1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Uses revealed preference approaches to assess willingness to pay to lower probability of dy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D7E7-2905-424E-ACE6-62048066F25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Methods</a:t>
            </a:r>
            <a:endParaRPr b="1" lang="en-US" sz="3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Estimates of costs and benefits in this study refer to economic costs, not to financial/accounting costs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Definitions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Sustained DOTS: Maintain 2005 level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Enhanced DOTS: Global Plan 2006-2015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Africa: Epidemiological region as defined in Global Plan 2006-2015, Annex 2.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3798E-3B8F-4FD1-9C6D-17FF3B942DE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Summary results for Africa</a:t>
            </a:r>
            <a:br>
              <a:rPr sz="3600"/>
            </a:b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[2006 US$, discount rate = 3%]</a:t>
            </a:r>
            <a:endParaRPr b="1" lang="en-US" sz="1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Baseline </a:t>
            </a: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economic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burden of TB deaths under no DOTS scenario (including HIV coinfections)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=$66 billion/ year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</a:rPr>
              <a:t>Economic</a:t>
            </a: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 benefit:cost ratio of TB control:</a:t>
            </a: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= 10.6 for Sustained DOTS (relative to no DOTS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Arial"/>
              </a:rPr>
              <a:t>= 10.4 for Global Plan 2006-2015 (relative to no DOTS)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A3D7-66D8-48E3-ADDE-F46F325B53E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520" y="76176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Annual </a:t>
            </a:r>
            <a:r>
              <a:rPr b="1" lang="en-US" sz="3200" spc="-1" strike="noStrike" u="sng">
                <a:solidFill>
                  <a:srgbClr val="ff0000"/>
                </a:solidFill>
                <a:uFillTx/>
                <a:latin typeface="Arial"/>
              </a:rPr>
              <a:t>economic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benefits &amp; costs of deaths associated with TB in Africa</a:t>
            </a:r>
            <a:br>
              <a:rPr sz="32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Including HIV coinfection, billions of US$ in 2006, discount rate of 3%]</a:t>
            </a:r>
            <a:endParaRPr b="1" lang="en-US" sz="1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229" name=""/>
          <p:cNvGraphicFramePr/>
          <p:nvPr/>
        </p:nvGraphicFramePr>
        <p:xfrm>
          <a:off x="914400" y="2362320"/>
          <a:ext cx="8001000" cy="4012920"/>
        </p:xfrm>
        <a:graphic>
          <a:graphicData uri="http://schemas.openxmlformats.org/drawingml/2006/table">
            <a:tbl>
              <a:tblPr/>
              <a:tblGrid>
                <a:gridCol w="2666880"/>
                <a:gridCol w="2667240"/>
                <a:gridCol w="2666880"/>
              </a:tblGrid>
              <a:tr h="16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DOTS 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overage Level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enefi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elative to baseline of No DO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Cos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Relative to baseline of No DO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267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Sustained DOTS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(i.e., maintain 2005 level)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5.18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.43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1112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lobal Plan 2006-2015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7.26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.61</a:t>
                      </a:r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81C9-A022-4F4F-B45A-0CFE6F76247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b89350</cp:lastModifiedBy>
  <dcterms:modified xsi:type="dcterms:W3CDTF">2006-11-22T22:42:14Z</dcterms:modified>
  <cp:revision>442</cp:revision>
  <dc:subject/>
  <dc:title>Non-Financial Constraints  on the Response to HIV/AIDS and TB in ECA</dc:title>
</cp:coreProperties>
</file>