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E844-0E4A-4620-99F8-85CF26594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9AAC-0FEC-404D-8799-1F95125DC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This model could vary for different countries given potential opportunities for or barriers to budget line incr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F50-8E3D-4C25-AA01-7C9513BB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F327-52D7-432C-8764-0F10FD1D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5AF1-771E-43B5-AAF8-794D11F5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92F6-E738-4DE0-ADB9-BEC42D45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BE2F-CEA3-4658-9F5E-45EBC9E5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BA61-6A0F-4BB8-8E59-AE31B838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34B5-5FB3-41A8-8FF8-F94BD058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08FA-9465-408F-9434-646233FA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E6AA-A3AC-4381-81F9-DA5FDE72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349E-3EA7-4902-8714-247751A1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E741-5A11-4469-A3E1-2B9518EA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DE57-A45D-4688-9105-C467B7F6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B952-75BD-4E14-AEED-DF7B19B22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stoptb.org/gdf/newsevents/newsarchive.asp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CB%20Jakarta%20priting%20Nov.%2026/Table%20insert%20CB%20presentation.ppt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92000" y="2708280"/>
            <a:ext cx="6048360" cy="1224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Securing timely access to quality,  affordable TB drug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7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2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GB" sz="4800" spc="-1" strike="noStrike">
                <a:solidFill>
                  <a:srgbClr val="cc0000"/>
                </a:solidFill>
                <a:latin typeface="Copperplate Gothic Bold"/>
              </a:rPr>
              <a:t>Global Drug Faci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1360" y="4724280"/>
            <a:ext cx="135756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870680" y="4292640"/>
            <a:ext cx="1273320" cy="182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8600" y="6103800"/>
            <a:ext cx="995400" cy="754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5229360"/>
            <a:ext cx="488808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senter – Dr. Jeremiah Chaka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e – 30 Nov.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71640" y="620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3320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grants are in principle for 3 years and are subject to 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One condition: public sector/donor funding for TB control activities (including anti-TB drugs) will not be reduced during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ny countries still require financial assistance for anti-TB drugs after completing a 3-year gr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3640" y="475920"/>
            <a:ext cx="6562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99760" y="256536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F grants offer opportunity to leverage short-term financial assistance for the long-term financial sustainability of N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requests CB consider more proactive approaches to ensuring broader political commitment from countries to finance their TB drug supp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95280" y="836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ke annual increases in public sector funding for anti-TB drugs a condition of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Extend the GDF grant cycle from 3 to 5 years to allow countries sufficient time to build the financial budget lines required to pay for drugs themsel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4000" y="5157720"/>
            <a:ext cx="7920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Consider introducing a 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SimSun"/>
              </a:rPr>
              <a:t>Financial Sustainability Planning (FSP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process as a component of the GDF grant-making process for either o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216400">
            <a:off x="-142560" y="54752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360" y="1052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7487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intain a fixed grant value throughout the duration of GDF grant, with funds transitioning from purchase of TB drugs to technical assistance for drug management in-countr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As with options 1 and 2 consider a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SimSun"/>
              </a:rPr>
              <a:t>FSP 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with this op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216400">
            <a:off x="506520" y="56228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/>
          </p:cNvPr>
          <p:cNvSpPr/>
          <p:nvPr/>
        </p:nvSpPr>
        <p:spPr>
          <a:xfrm>
            <a:off x="2268360" y="558972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rush Script MT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Brush Script MT"/>
              </a:rPr>
              <a:t>llustration of Option 3 – Next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 3: Building drug management capacity while encouraging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44880" y="1030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44880" y="130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44880" y="158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44880" y="1598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859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484280"/>
          <a:ext cx="8353440" cy="4897080"/>
        </p:xfrm>
        <a:graphic>
          <a:graphicData uri="http://schemas.openxmlformats.org/drawingml/2006/table">
            <a:tbl>
              <a:tblPr/>
              <a:tblGrid>
                <a:gridCol w="2444760"/>
                <a:gridCol w="1258920"/>
                <a:gridCol w="1184400"/>
                <a:gridCol w="1180800"/>
                <a:gridCol w="1181160"/>
                <a:gridCol w="1103400"/>
              </a:tblGrid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8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otal value of grant remains constant each year of gr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requires an increase in national budget for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6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more of GDF grant money used for technical assistance, as countries take more responsibility for financing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067280" cy="2205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280" y="620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893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A 5-year grant is a longer term commitment (in principle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 options adopting an FSP process would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velopment of a GDF framework for financial sustainability planning &amp; implementation includin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Guidelines for the Development of Financial Sustainability Plan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 for countr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tracting of consultant(s) to do the above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Missions to support selected countri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81200" y="29239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Brush Script MT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4247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test Upd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oposal for Board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263664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&amp; UNITAID – Paediatric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920" y="0"/>
            <a:ext cx="4753080" cy="30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chievements: 10 x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946080"/>
            <a:ext cx="8785440" cy="5722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2825280"/>
            <a:ext cx="8893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TAID – Innovative financing initiative fo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IV, TB &amp; Malari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ding targeted at niches where innovative changes can be made throug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rket interventions backed by sustainable fin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used in 2006/2007 at WHO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t. 9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DF approved as programmatic partn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UNITAID for Paediatric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ct. 12 Official Call for Grant Applica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sued with deadline of Nov. 6 (sensitization communications sent Sept. 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 to be signed imminently between STB Partnership &amp; UNIT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1</a:t>
            </a:r>
            <a:r>
              <a:rPr b="0" lang="en-GB" sz="6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372360" y="960480"/>
            <a:ext cx="2458800" cy="1413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08000" y="148428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First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DF TRC met 13 – 1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ediatric Applications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 Further Consideration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AID Board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B CB Exec. Ctte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4537080" cy="3816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16360" y="4724280"/>
            <a:ext cx="4032360" cy="1989360"/>
          </a:xfrm>
          <a:custGeom>
            <a:avLst/>
            <a:gdLst>
              <a:gd name="textAreaLeft" fmla="*/ 920520 w 4032360"/>
              <a:gd name="textAreaRight" fmla="*/ 3111840 w 4032360"/>
              <a:gd name="textAreaTop" fmla="*/ 453960 h 1989360"/>
              <a:gd name="textAreaBottom" fmla="*/ 1535400 h 198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~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160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aediatric Patient Treat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pproved fo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49440" y="1260360"/>
            <a:ext cx="817056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rdinating Board endorses creation of BAC April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issues invitation of EOI July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judication committee finalizes selection Oct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7 member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ory teleconference held 22 Nov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AC meeting week of 12 March '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DF Business Advisory Committ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5805360"/>
            <a:ext cx="2095200" cy="764280"/>
          </a:xfrm>
          <a:prstGeom prst="rect">
            <a:avLst/>
          </a:prstGeom>
          <a:solidFill>
            <a:srgbClr val="b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marL="349200" indent="-349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Lucida Handwriting"/>
              </a:rPr>
              <a:t>B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12000" y="5734080"/>
            <a:ext cx="704880" cy="863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1260360"/>
            <a:ext cx="889308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lection of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Monotype Corsiva"/>
              </a:rPr>
              <a:t>gtz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 new Procurement Agent Sept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dition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3 Diagnostic Kit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o GDF's catalogue effective Jan. '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Strategic plan 2006-2010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/GLC procurement convergence complete Dec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al UNITAID approval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GB" sz="2600" spc="-1" strike="noStrike" baseline="30000">
                <a:solidFill>
                  <a:srgbClr val="cc0000"/>
                </a:solidFill>
                <a:latin typeface="Arial"/>
              </a:rPr>
              <a:t>nd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 line TB Drug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grants via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GDF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600" spc="-1" strike="noStrike">
                <a:solidFill>
                  <a:srgbClr val="808000"/>
                </a:solidFill>
                <a:latin typeface="Arial"/>
              </a:rPr>
              <a:t>GL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~ US$ 10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xpected Nov. 30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eneral upd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ORDINATING BOARD DECISION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elping GDF Grantee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o Achieve </a:t>
            </a:r>
            <a:br>
              <a:rPr sz="4000"/>
            </a:br>
            <a:r>
              <a:rPr b="1" lang="en-GB" sz="4000" spc="-1" strike="noStrike">
                <a:solidFill>
                  <a:srgbClr val="808000"/>
                </a:solidFill>
                <a:latin typeface="Arial"/>
              </a:rPr>
              <a:t>Financial Sustainabilit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user</cp:lastModifiedBy>
  <dcterms:modified xsi:type="dcterms:W3CDTF">2006-11-29T15:53:32Z</dcterms:modified>
  <cp:revision>52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