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9AC2-ACC5-44EB-BB1D-6B9B2A35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69CE-07A5-443A-B617-A63204B4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B2B2-55BF-43E8-B34E-3E470642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AF51-2B1E-4C8D-AAA1-0D361C598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F438-7191-4475-B0C2-3350019E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BA5F-FBD4-4472-A73E-1F14280F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20AE-04C8-4140-9140-42D99578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104F-3804-46A5-AA1A-37904010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4A5C-8533-4FEB-A61E-6B3EDF7A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6C39-5CA8-4ADA-B711-FC2135C2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6511-A5D9-477B-B81E-681FD732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CF27-BDF8-4560-AAAF-A1DA162C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F6CE-90EE-4EDB-AECE-262172295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op TB Partnership Symposium at the 37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UNION World Conference on TB and Lung Disease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3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ctober 2006, Par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review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progres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scaling up TB control according to the Stop TB Strategy and the Global Plan to Stop TB, 2006-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iscuss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major challenges and potential sol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caling up TB control according to the Stop TB Strategy and the Glob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etermine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how Working Groups can work together bet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upport country planning and implementation of the Stop TB Strate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ahoma"/>
              </a:rPr>
              <a:t>Achievements 1 On Quality DO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84% Treatment Success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± 60% Case Detection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crease in DOTS coverage and DOTS infrastructure: Over 26 million patients treated under DO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velopment of Country Strategic Plans 2006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boratory strengthening initiative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introduction or expansion of EQ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rengthening: planning capacity, M&amp;E and supervis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regular M&amp;E meetings; sharing examples of good practi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in available financial resources: GF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Achievements 2 &amp; 3: Addressing challenges and contributing to H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059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B/HI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icy for collaborative TB/HIV interventions and initiated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/HIV training materials developed and training be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&amp;E Systems for TB/HIV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itical commitment for MDR-TB management at country level and resource mob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reased funding for second-line drugs (GFAT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ale up of MDR-TB treatment in many countries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40 countries </a:t>
            </a:r>
            <a:r>
              <a:rPr b="1" lang="en-GB" sz="1800" spc="-1" strike="noStrike">
                <a:solidFill>
                  <a:srgbClr val="bf0601"/>
                </a:solidFill>
                <a:latin typeface="Arial"/>
              </a:rPr>
              <a:t>GL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pproved, more than 23,000 patients on treatmen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resources for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of guidelines and training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ining of NTP managers and consul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080" y="439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Achievements 4,5,6: Engaging all care providers, empowering communities, R&amp;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of guidelines, IS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ining of NTPs, private sector and consult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ale up of successful pilots contributing to increase in case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gage cured patients (patient charter), affected communities and civil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FATM support  for ACSM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of the media to increase TB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 research movement and TB Research financ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Key Overarching Challenge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ignment of  national plans with the Global Plan to Stop TB 2006-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litical commitment with sustained and/or increased resources to reach MDGs and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ising and maintaining political commitment in large feder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 advocacy at Global, National and Sub-national Lev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suring sustainabilit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tainable health 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alth system strengthening (quality, coverage, infrastructure, measurement and indicators, way of contribut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 Resources (management, planning, quality, quantity, distribution, recruitment and reten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boratory strengthening (infrastructure, staffing and capa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w strategy and multiple partners require better Coordination (internally and exter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  <a:ea typeface="Tahoma"/>
              </a:rPr>
              <a:t>Key Overarching 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agnosis of smear-negative, in HIV settings and childhood TB, and EP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osafety and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ed for TA in different areas and cross-cut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ortance of continuity and ongoing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nks with HR development to ensure sustain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nslating guidelines into programmatic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vising GP2 &amp; MDR-TB Guidelines in light of emerging X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celerating introduction of new rapid tests for diagnosis of  MDR/XDR TB and new drug development in response to X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Other Key Overarching Challeng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79280" y="1197000"/>
            <a:ext cx="8964720" cy="7128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8820000" y="837720"/>
            <a:ext cx="0" cy="17989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How can the working groups and partners ensure adequate coordinated respon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1484280"/>
            <a:ext cx="842796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highest priority is basic DOTS qualit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DOTS has been scaled up very f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health systems, HRH and labs are very we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HIV epidemic and MDR-TB problems are the most sev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need to work in a new way – piloting, assessing &amp; sharing results, documenting evidence while preparing for scale up 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0:30:36Z</dcterms:created>
  <dc:creator>figueroamunozj</dc:creator>
  <dc:description/>
  <dc:language>en-US</dc:language>
  <cp:lastModifiedBy>Desiree Kogevinas</cp:lastModifiedBy>
  <dcterms:modified xsi:type="dcterms:W3CDTF">2006-11-30T09:32:08Z</dcterms:modified>
  <cp:revision>20</cp:revision>
  <dc:subject/>
  <dc:title>From DOTS to the Stop TB Strategy </dc:title>
</cp:coreProperties>
</file>