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0989-486C-4D9D-964D-32E58C081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602C-F234-4C5A-B49E-BA14131ED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EDDD-B008-4DC6-AD0A-B9D45A968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39B2E-8FBB-43FC-8D51-8965DDA1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4300-6AA5-4C36-9007-3E8FBA7D0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390F5-9531-45AD-836A-C101D5BF5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901E-47C0-428E-8137-90C24FF58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959D-6EDF-40A9-8F7E-AA5E285C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39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D4A1-3DD0-440C-A6F8-7B56E326B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BA0B-43D1-4683-9580-5D43DCB9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D33B6-6B87-4CCD-9BB8-66D7CF4D2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10A5-F662-4FEB-9651-2212CDDF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BDA62-2D03-496E-8BBF-05A1488F57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top TB Partnership Symposium at the 37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th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UNION World Conference on TB and Lung Disease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31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ctober 2006, Par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review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progress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scaling up TB control according to the Stop TB Strategy and the Global Plan to Stop TB, 2006-15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iscuss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major challenges and potential solutio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caling up TB control according to the Stop TB Strategy and the Global Pl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determine </a:t>
            </a:r>
            <a:r>
              <a:rPr b="1" lang="en-US" sz="2800" spc="-1" strike="noStrike">
                <a:solidFill>
                  <a:srgbClr val="bf0601"/>
                </a:solidFill>
                <a:latin typeface="Arial"/>
              </a:rPr>
              <a:t>how Working Groups can work together bett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o support country planning and implementation of the Stop TB Strate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092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ahoma"/>
              </a:rPr>
              <a:t>Achievements 1 On Quality DOTS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4% Treatment Success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± 60% Case Detection r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crease in DOTS coverage and DOTS infrastructure: Over 26 million patients treated under DO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velopment of Country Strategic Plans 2006-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initiatives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introduction or expansion of EQ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trengthening: planning capacity, M&amp;E and supervision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(regular M&amp;E meetings; sharing examples of good practic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ncrease in available financial resources: GFA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Achievements 2 &amp; 3: Addressing challenges and contributing to HS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30592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B/HIV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cy for collaborative TB/HIV interventions and initiated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/HIV training materials developed and training beg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M&amp;E Systems for TB/HIV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olitical commitment for MDR-TB management at country level and resource mo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creased funding for second-line drugs (GFAT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cale up of MDR-TB treatment in many countries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40 countries </a:t>
            </a:r>
            <a:r>
              <a:rPr b="1" lang="en-GB" sz="1800" spc="-1" strike="noStrike">
                <a:solidFill>
                  <a:srgbClr val="bf0601"/>
                </a:solidFill>
                <a:latin typeface="Arial"/>
              </a:rPr>
              <a:t>GLC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approved, more than 23,000 patients on treatment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resources for M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 and training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 managers and consult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9080" y="4392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Tahoma"/>
              </a:rPr>
              <a:t>Achievements 4,5,6: Engaging all care providers, empowering communities, R&amp;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evelopment of guidelines, IS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ining of NTPs, private sector and consult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ale up of successful pilots contributing to increase in cas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Engage cured patients (patient charter), affected communities and civil socie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FATM support  for ACSM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Use of the media to increase TB awar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&amp;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601"/>
              </a:spcBef>
              <a:buClr>
                <a:srgbClr val="bf060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B research movement and TB Research financ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rot="10800000">
            <a:off x="179280" y="1124640"/>
            <a:ext cx="8964720" cy="71640"/>
          </a:xfrm>
          <a:prstGeom prst="rect">
            <a:avLst/>
          </a:prstGeom>
          <a:gradFill rotWithShape="0">
            <a:gsLst>
              <a:gs pos="0">
                <a:srgbClr val="8a0400"/>
              </a:gs>
              <a:gs pos="100000">
                <a:srgbClr val="bf0601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765000"/>
            <a:ext cx="0" cy="1798920"/>
          </a:xfrm>
          <a:prstGeom prst="line">
            <a:avLst/>
          </a:prstGeom>
          <a:ln w="57240">
            <a:solidFill>
              <a:srgbClr val="bf060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</a:rPr>
              <a:t>Key Overarching Challenges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ignment of  national plans with the Global Plan to Stop TB 2006-20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olitical commitment with sustained and/or increased resources to reach MDGs and beyo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aising and maintaining political commitment in large federal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uild advocacy at Global, National and Sub-national Leve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nsuring sustainabilit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stainable health finan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ealth system strengthening (quality, coverage, infrastructure, measurement and indicators, way of contributin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Human  Resources (management, planning, quality, quantity, distribution, recruitment and re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Laboratory strengthening (infrastructure, staffing and capacit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ew strategy and multiple partners require better Coordination (internally and extern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44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Tahoma"/>
                <a:ea typeface="Tahoma"/>
              </a:rPr>
              <a:t>Key Overarching Challeng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9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Diagnosis of smear-negative, in HIV settings and childhood TB, and EP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iosafety and infection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eed for TA in different areas and cross-cut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mportance of continuity and ongoing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inks with HR development to ensure sustain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ranslating guidelines into programmatic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Revising GP2 &amp; MDR-TB Guidelines in light of emerging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ccelerating introduction of new rapid tests for diagnosis of  MDR/XDR TB and new drug development in response to XDR-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9280" y="981000"/>
            <a:ext cx="8964720" cy="7164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8820000" y="620640"/>
            <a:ext cx="0" cy="179856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ahoma"/>
              </a:rPr>
              <a:t>Other Key Overarching Challeng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aeaea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79280" y="1197000"/>
            <a:ext cx="8964720" cy="71280"/>
          </a:xfrm>
          <a:prstGeom prst="rect">
            <a:avLst/>
          </a:prstGeom>
          <a:gradFill rotWithShape="0">
            <a:gsLst>
              <a:gs pos="0">
                <a:srgbClr val="1b1b53"/>
              </a:gs>
              <a:gs pos="100000">
                <a:srgbClr val="333399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8820000" y="837720"/>
            <a:ext cx="0" cy="179892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How can the working groups and partners ensure adequate coordinated response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1484280"/>
            <a:ext cx="842796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highest priority is basic DOTS quality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DOTS has been scaled up very fas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ealth systems, HRH and labs are very w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 HIV epidemic and MDR-TB problems are the most sev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e need to work in a new way – piloting, assessing &amp; sharing results, documenting evidence while preparing for scale up  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10:30:36Z</dcterms:created>
  <dc:creator>figueroamunozj</dc:creator>
  <dc:description/>
  <dc:language>en-US</dc:language>
  <cp:lastModifiedBy>Desiree Kogevinas</cp:lastModifiedBy>
  <dcterms:modified xsi:type="dcterms:W3CDTF">2006-11-30T09:32:08Z</dcterms:modified>
  <cp:revision>20</cp:revision>
  <dc:subject/>
  <dc:title>From DOTS to the Stop TB Strategy </dc:title>
</cp:coreProperties>
</file>