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1F43-FD99-4117-844E-35BE875B4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current assesment of what product delivery 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B948-F637-4C55-9DE3-771037FD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D27-8C32-4648-94E0-B837F00F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A992-D867-4751-B346-C62FEB02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24A1-8D83-4547-84C0-25E2797C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CCF5-25A0-4B3A-8128-14B60D1B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04E7-CE5B-4786-9990-4F9CDB4A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C34F-8529-4F83-933C-D2E0CD2B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82D1-1B19-48C4-A02F-CD598A09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41B8-4036-4C77-87B1-DD0EA4E4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36DE-F26C-42B4-9066-10A1ECE0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9692-68BB-4EF4-B7D7-40DD5E4D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C03-7CAB-406E-9E4F-F44C0737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FD76-9062-4CD8-A1D6-3B281E26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E497-F113-4020-BE97-9314D307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C875-B746-43B8-999C-33A43D3F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841B-8115-4CB3-8290-5468CA19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601C-6D7D-401D-AB00-4FA6E1A4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E52D-03B2-4313-97C4-8C288989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FBB7-F3AD-48C9-AB5B-9BDB5EFD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FAF1-686A-4AEF-A5CF-350E9979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8DF6-F185-42FE-9857-2ACF0A2A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13F-A42A-4186-906F-1A134C7D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8F9-47BE-43EB-9D91-258ECC75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FD15-CE5A-42AC-9C0C-5C84EA68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FC6E-CF3F-400D-AFAF-6D1C2177E51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75CF-F76D-4BBB-9B8B-1D355097B2D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Building Momentum for </a:t>
            </a: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op TB Partnership CB Meet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uja, Niger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ril 24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200" y="1249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Mi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924280"/>
            <a:ext cx="766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Facilitate adoption and introduction of new tools as they become avail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Activ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Develop work plan and tim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WGs’ information pipelin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gage stakeholders from HBCs (MOH, NGOs, affected communiti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Help mobilize financial and human resour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lessons learned from other areas (GAVI, malaria, etc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cilitate operations research on introduction of new too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Generate evidence to support adoption of new too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st track incorporation into WHO and national guid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hance communication among WGs on retool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8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Composi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Chair(s)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xperience with new tools and country-level implementation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ing Groups (including key sub-group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mmunity and donor represent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etooling experts from other disease commun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opic-specific experts (periodic inpu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ackground paper/inventory of key issues faced by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 and country-level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AVI, malaria, oth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ace to face meeting to develo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obust 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im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ving Forw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active support from each of the 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financial and secretariat support for meetings of task for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17656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2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Special thanks go to the RTF for providing the supporting material for this presentation.</a:t>
            </a:r>
            <a:r>
              <a:rPr b="0" lang="en-US" sz="28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urrent Membershi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Memb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Christy Hanson, USAID (dono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arbara Laughon, NIAID (TB/HIV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Aziz Mohamed, StopTB/WHO (lab sub group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Vinand Nantulya, FIND (diagnostic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kushi Onozaki, RTI/JATA (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Nina Schwalbe, TB Alliance (drug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rite Holm Sorenson, World Bank (poverty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Javid Syed, TAG (communit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Karin Weyer, SA-MRC (MD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atrick Zuber, EPI/WHO (vaccin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retariat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achel Bauquerez, Stop TB Partnership</a:t>
            </a: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hilip Onyebujoh, IRM/TD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630560" y="616572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20000"/>
                </a:solidFill>
                <a:latin typeface="Arial"/>
              </a:rPr>
              <a:t>* Interim co-ch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00" y="476280"/>
            <a:ext cx="88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rrent Estimate of Tool Delive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24360" y="2030400"/>
            <a:ext cx="3816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87640" y="2030400"/>
            <a:ext cx="126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03400"/>
            <a:ext cx="8991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47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&lt; 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7352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062080"/>
            <a:ext cx="0" cy="508500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016000"/>
            <a:ext cx="0" cy="51580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174780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18600" y="17478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030400"/>
            <a:ext cx="4284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6000" y="2030400"/>
            <a:ext cx="288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01000" y="2030400"/>
            <a:ext cx="270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4960" y="2131920"/>
            <a:ext cx="7781760" cy="735120"/>
            <a:chOff x="534960" y="2131920"/>
            <a:chExt cx="7781760" cy="735120"/>
          </a:xfrm>
        </p:grpSpPr>
        <p:sp>
          <p:nvSpPr>
            <p:cNvPr id="114" name=""/>
            <p:cNvSpPr/>
            <p:nvPr/>
          </p:nvSpPr>
          <p:spPr>
            <a:xfrm>
              <a:off x="534960" y="2251080"/>
              <a:ext cx="666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be7960"/>
                  </a:solidFill>
                  <a:latin typeface="Arial"/>
                </a:rPr>
                <a:t>Vaccin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968800" y="2131920"/>
              <a:ext cx="2347920" cy="735120"/>
              <a:chOff x="5968800" y="2131920"/>
              <a:chExt cx="2347920" cy="735120"/>
            </a:xfrm>
          </p:grpSpPr>
          <p:sp>
            <p:nvSpPr>
              <p:cNvPr id="116" name=""/>
              <p:cNvSpPr/>
              <p:nvPr/>
            </p:nvSpPr>
            <p:spPr>
              <a:xfrm>
                <a:off x="5968800" y="2131920"/>
                <a:ext cx="234792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e7960"/>
                    </a:solidFill>
                    <a:latin typeface="Arial"/>
                  </a:rPr>
                  <a:t>New TB Vaccine </a:t>
                </a:r>
                <a:br>
                  <a:rPr sz="1800"/>
                </a:b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24480" y="2533680"/>
                <a:ext cx="201600" cy="182520"/>
              </a:xfrm>
              <a:prstGeom prst="diamond">
                <a:avLst/>
              </a:prstGeom>
              <a:solidFill>
                <a:srgbClr val="be7960"/>
              </a:solidFill>
              <a:ln w="1908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1828800" y="30924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fer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" y="3214800"/>
            <a:ext cx="6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9900"/>
                </a:solidFill>
                <a:latin typeface="Arial"/>
              </a:rPr>
              <a:t>Diagno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2920" y="31068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eriphe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65112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34040" y="3121200"/>
            <a:ext cx="1817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oint of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748720" y="2065320"/>
            <a:ext cx="14400" cy="5081760"/>
          </a:xfrm>
          <a:prstGeom prst="line">
            <a:avLst/>
          </a:prstGeom>
          <a:ln w="5400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4000" y="4081320"/>
            <a:ext cx="8700840" cy="734760"/>
            <a:chOff x="324000" y="4081320"/>
            <a:chExt cx="8700840" cy="734760"/>
          </a:xfrm>
        </p:grpSpPr>
        <p:sp>
          <p:nvSpPr>
            <p:cNvPr id="125" name=""/>
            <p:cNvSpPr/>
            <p:nvPr/>
          </p:nvSpPr>
          <p:spPr>
            <a:xfrm>
              <a:off x="324000" y="429552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Arial"/>
                </a:rPr>
                <a:t>Drug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075280" y="4081320"/>
              <a:ext cx="1287360" cy="734760"/>
              <a:chOff x="5075280" y="4081320"/>
              <a:chExt cx="1287360" cy="734760"/>
            </a:xfrm>
          </p:grpSpPr>
          <p:sp>
            <p:nvSpPr>
              <p:cNvPr id="127" name=""/>
              <p:cNvSpPr/>
              <p:nvPr/>
            </p:nvSpPr>
            <p:spPr>
              <a:xfrm>
                <a:off x="5075280" y="4081320"/>
                <a:ext cx="128736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ingle New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45240" y="4497120"/>
                <a:ext cx="20160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07200" y="4081320"/>
              <a:ext cx="1817640" cy="734760"/>
              <a:chOff x="7207200" y="4081320"/>
              <a:chExt cx="1817640" cy="734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207200" y="4081320"/>
                <a:ext cx="181764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New Multi-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Regime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634240" y="4497120"/>
                <a:ext cx="20196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3059280" y="2062080"/>
            <a:ext cx="31680" cy="514836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6068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36464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655308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apted from a presentation by Dr. Peter Small, BMG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tting the Stag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etter diagnostics, drugs and vaccines are coming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ols are only effective if us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option must be planned and support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37228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20000"/>
                </a:solidFill>
                <a:latin typeface="Tahoma"/>
              </a:rPr>
              <a:t>Adoption, implementation and use of new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92400" y="492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479736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20000"/>
                </a:solidFill>
                <a:latin typeface="Tahoma"/>
              </a:rPr>
              <a:t>Ret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eedback Loop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DRUGS)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448240" cy="5572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1916280"/>
            <a:ext cx="4248000" cy="3889080"/>
          </a:xfrm>
          <a:prstGeom prst="ellipse">
            <a:avLst/>
          </a:prstGeom>
          <a:solidFill>
            <a:srgbClr val="ff9900">
              <a:alpha val="23000"/>
            </a:srgbClr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Arial"/>
              </a:rPr>
              <a:t>ADVOCACY &amp; 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llustrative Engagement Matrix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1280" y="1844640"/>
          <a:ext cx="8076960" cy="4287960"/>
        </p:xfrm>
        <a:graphic>
          <a:graphicData uri="http://schemas.openxmlformats.org/drawingml/2006/table">
            <a:tbl>
              <a:tblPr/>
              <a:tblGrid>
                <a:gridCol w="1615680"/>
                <a:gridCol w="1616400"/>
                <a:gridCol w="1612800"/>
                <a:gridCol w="1616040"/>
                <a:gridCol w="161604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artners in new tools introd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volv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im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em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upp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or to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Upon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N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gulatory agenc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echnical agencies providing technical as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search part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vate sector (associations, provide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mmun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ono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Directly links R&amp;D, implementation and advoca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any stakeholders must be involved for succes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top TB Partnership uniquely positioned to serve as a model for retooling in public healt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42920" y="5229360"/>
            <a:ext cx="7029360" cy="581400"/>
            <a:chOff x="1042920" y="5229360"/>
            <a:chExt cx="7029360" cy="581400"/>
          </a:xfrm>
        </p:grpSpPr>
        <p:sp>
          <p:nvSpPr>
            <p:cNvPr id="149" name=""/>
            <p:cNvSpPr/>
            <p:nvPr/>
          </p:nvSpPr>
          <p:spPr>
            <a:xfrm>
              <a:off x="2030400" y="5229360"/>
              <a:ext cx="604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ahoma"/>
                </a:rPr>
                <a:t>GP II did not address retool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2920" y="530208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reating the Link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Board recognized the gap and created the Retooling Task Force (RTF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RTF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WG chairs and Secretariat recommended memb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cretariat supports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roposed Terms of Reference (TOR) developed by RTF Member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resentation to the BOD for input and feedbac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TF Request to Bo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s the task force the appropriate mechanism to deal with re-tooling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re the content and the TOR on target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920" y="299700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ahoma"/>
              </a:rPr>
              <a:t>PROPOSED 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mfreire</cp:lastModifiedBy>
  <dcterms:modified xsi:type="dcterms:W3CDTF">2006-04-22T19:15:29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