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0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1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4E79-B4C2-485A-8AE3-76F27C333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ufficient clinical trial sites that meet GCP/GMP standards with trained personnel, sound infrastructure and appropriate procedures for patient recruitment, compliance and retention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armonized regulatory guidelines, including fast-track approv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robust and sustained pipeline of new drug candidates and back-up progra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nimal models and validated surrogate markers broadly adopted by TB drug developers to aid in early identification of promising versus unpromising candidate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Biomarkers and surrogate endpoints to aid translational research and speed clinical developmen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esting programs that enable more rapid and precise dose selection and optimization of complementary drug combina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F3D63-8DA9-44A2-AA86-9BA3514D3B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1D5BE-B2F2-450B-8876-FCB4947B7C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E4D06-0AB6-4721-A599-5C53DE9BC6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669C1-18EA-4533-97B2-BC47764ACB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3EDF6-BC7B-44DE-A28B-4F9FA45C28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3010A-4605-4AD4-80F7-6811365E0B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67D76-DABA-4055-92CF-4E89624547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9D4E3-EDE6-497E-83E9-0F9B57B4B3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21EC1-8EFD-4DDD-B1E8-0EDD1E6CBC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8A473-6A65-47CC-A54B-55C73716DC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AF0F9-6DE4-457D-9687-623029C611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5BDBB-8C62-418E-8CAA-14ACF2CEAB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B8D79-AFB5-43EF-AA2C-ECB499A3A4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95347-ED2C-480F-B63D-ECE2AFAC26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D3BD3-0502-4126-9DB9-FAD843D06B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2BD4F-797C-4810-B858-4F5FC8E132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C3D1A-E5CF-44EF-9812-F7F3EF10115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9B032-8A76-4A65-B605-22A0B851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9E40F-C6DA-43CF-AB8F-3AE499FB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8730E-1546-4BE5-B620-106F82F0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7CB4D-2240-4853-9CC5-58823D5D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B81F8-3DAC-4AF3-B69F-F2A5A114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0EF86-C16C-4ECD-A11D-5ED54185C62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C9599-A0D6-491B-A2E9-29974C43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7769E2-067C-4ED0-8B13-EB628460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73C02-2073-4C11-8B82-FAF675C5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64F87-01E1-408E-BD75-04BDD62C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9E053-9946-4ADB-8934-D553B1D6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51BCC-FA66-4C1F-9602-670F9A62E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287E9-F9A5-4EFE-B4C0-2570A3CB4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88F4EF-4FC2-4CC9-8AA5-1C7839C8D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6177B1-5584-43B4-BE3C-CE09C950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324184-FE5B-4704-BE08-11E1117C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760F1-3D7E-4058-BE9A-E5391E3B89F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9407DC-264B-4993-8520-63E980C3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F01C51-49B9-4E34-B276-06FED7AB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2AEF0E-B766-4497-94B9-EA90A4EC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E7AEFC-D79D-43C2-A44B-133976BE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F847E8-78C6-4708-8306-9698A1AB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072481-E2E2-45A1-B8AD-B83A8759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A95531-8EE0-49BC-9F43-024E590A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311E1C-A976-4030-9DD2-D421ED915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22E1C1-EF7E-44BB-BBEA-BBBD20C6A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52672-967C-4226-90A5-A75D119650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5FACE-060C-4158-AD63-A1915CF94C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00777-B530-4B36-A799-083DAD4672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6EB14-62C5-441A-B70E-961FB1D1EA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155F5-4D0B-46F2-8BCE-86DE65AA2B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720" y="6854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251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cc251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33720" y="152388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B390-1AE4-4CDD-AB5E-14E0DBE2A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251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cc251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4B72-45A7-4FC2-AFA0-959A93ADF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0833-9A18-4876-BCE2-810CBD38E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72A2-EE23-4165-99F3-4CC56F9CC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Group on New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62120" y="3580920"/>
            <a:ext cx="7619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perationalizing” the Strategic Pl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71440" y="4832280"/>
            <a:ext cx="680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 TB Partnership Coordinating Board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uja, Nig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4-25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orking Group Needs</a:t>
            </a: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rom the Strategic Pla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731520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obust and sustained new drug pipe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trial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monized regulatory guidelines, fast-track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 models and validated surrogat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arkers and surrogate end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32240" y="2438280"/>
            <a:ext cx="28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2006 – 2007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160"/>
                            </p:stCondLst>
                            <p:childTnLst>
                              <p:par>
                                <p:cTn id="13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59"/>
                            </p:stCondLst>
                            <p:childTnLst>
                              <p:par>
                                <p:cTn id="18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3520" y="233208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plete landscape of TB compounds in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detailed inventory of clinical trial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logue with regulatory authorities on guidances nas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gent need for funding - $3.6B gap for drugs alone (2006 - 201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514600" y="3200400"/>
            <a:ext cx="6324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990720"/>
            <a:ext cx="6782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04920" y="1981080"/>
          <a:ext cx="8762760" cy="4647960"/>
        </p:xfrm>
        <a:graphic>
          <a:graphicData uri="http://schemas.openxmlformats.org/drawingml/2006/table">
            <a:tbl>
              <a:tblPr/>
              <a:tblGrid>
                <a:gridCol w="2666880"/>
                <a:gridCol w="3352680"/>
                <a:gridCol w="274320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G Role/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ust and sustained pipeline of new drug candidates and back-up progr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 comprehensive mapping of the global TB drug portfolio via a web-based survey and make results available to WG member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launch: summer 20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 finalization and presentation: fall 20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monized regulatory guidelines; fast-track appro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e and sponsor open forums on key regulatory issues in TB drug development with regulatory authorities, industry and WG memb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conference: Washington, DC, December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conference: Europe, September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cient clinical trial sites meeting GCP/GMP stand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te and disseminate results of clinical trial site assessments by WG partn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go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2365560" y="1069920"/>
            <a:ext cx="53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 Plan and Time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4T01:10:34Z</dcterms:created>
  <dc:creator>Beth Oldham</dc:creator>
  <dc:description/>
  <dc:language>en-US</dc:language>
  <cp:lastModifiedBy>bakerl</cp:lastModifiedBy>
  <dcterms:modified xsi:type="dcterms:W3CDTF">2006-05-02T15:02:01Z</dcterms:modified>
  <cp:revision>2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F5BE291CF156FA40B2C348AEB191C4DD449A2C00</vt:lpwstr>
  </property>
  <property fmtid="{D5CDD505-2E9C-101B-9397-08002B2CF9AE}" pid="3" name="_ReviewCycleID">
    <vt:r8>984594159</vt:r8>
  </property>
  <property fmtid="{D5CDD505-2E9C-101B-9397-08002B2CF9AE}" pid="4" name="_ReviewingToolsShownOnce">
    <vt:lpwstr/>
  </property>
</Properties>
</file>