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0631-CB93-4431-A75F-6A90D0DA0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trategic objectives and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framework is designed to implement intensive, sustai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detailed communication strategies in all high-burden countr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 well as support strategies in medium-burden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ver the next 10 years. Such work will be phased to en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ximum strategic intensity. In the first five years of this workpla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tensive process of capacity building and strate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nning will take place in all high-burden countries. This will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phased process, focused on five countries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following strategic objective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08, at least 10 endemic countries will have develo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will be implementing multisectoral, participatory AC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itiatives and generating qualitative and quantitativ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CSM's contribution to TB contr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0, at least 20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ultisectoral, participatory-based ACSM initiatives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toring and evaluating their outco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multisectoral, participatory ACSM method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be a fully developed component of the Stop 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all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and participatory ACSM initiativ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addition, a series of process target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middle of 2006, a detailed ACSM 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plementation plan will have been developed aimed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suring the appointment/recruitment of senior-level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ists focused explicitly on tackling TB in 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-burden countries. Such a plan will draw heavily o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, expertise and insight of NTPs and part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end of 2006, a strategy will have been develop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dium-burden countries detailing the communic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cessary (including technical advice, resource mate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other mechanisms) to meet TB targets in those count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beginning of 2006, a process will have start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m strategic agreements with international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ort organizations able to offer technical support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untries. By the middle of 2006 at least five of these 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been agreed and implementation begu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objectives and targets will be achieved through a m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five key strategic 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have developed and implemen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853-06CB-4E22-88CB-37EF28B4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3C3-F881-4DB5-8554-B84B3200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BDC1-01F0-48E5-B2B8-F07CFD24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374B-434A-4A11-A4DB-C38B5E97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ADEF-A8E0-4E48-AE90-AC85B347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779F-21F9-4137-A123-0F884052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4F7C-0180-4134-8774-AF5560DF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F6D6-9702-4716-A34B-2BAFD436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637A-C512-444B-A068-37C31350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418F-79CE-451D-B1E5-0B1D6A7D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3AF6-2049-4AA5-AE01-863C7262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E34A-A579-4F8D-AEFE-F7D8D9A5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3A95-10EE-4CD8-A60B-18D2EA05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517B-1C90-40F8-9B2F-B1FBB671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77FA-E277-49BF-B988-7D7EE505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D6E8-BC38-44D7-AF24-D9500D62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C904-A488-4638-AD79-8FF03DC8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1E6-C46E-43A5-897F-F998D892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70BE-28A0-4370-8604-D547A6F8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1A4-BEBA-40C4-B3F3-96B5DAE4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388-1413-4186-97F5-872D23CC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C80-A55F-4F2F-AF95-62B47F74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C7B-73E3-43AD-A854-709B4575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D12A-FC93-4343-9201-3B5131B8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DCEA-438B-4F6C-BA6E-153627BC66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4C3D-88FB-4236-A7FF-F1D0283E59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dvocacy, Communication and Social Mobilization Sub Group at Country Level: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Building a Technical Assistance Net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 to the Stop TB Coordina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uj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Funding for ACSM Technical Assistance Lag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060640"/>
          <a:ext cx="82296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940360" y="429264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9 million gap in ASCM projected TA need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4464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 USAID is the largest single donor for ACSM technical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1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wake of solving the funding question, how to coordinate effectively among partners to maximise gains, reduce duplication, measure outcomes and advance ACSM pedagogy for T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2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ow to access necessary financial resources to maximise the impact of available funding from GFATM and other sources to satisfy the resources needs detailed in the Global Plan/ACSM Strategic Framework for technical cooperation among partner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vious discussions on 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4—CB meeting Beijing:  Endorsement of ISAC to respond to shortage funding for 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/HIV:  Requested funds for operational research and policy monito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ddis Ababa: Agreement to support countries with technical assistance to prepare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GFATM Propos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ssisi:  Discussion of a Coalition for Technical Assistance  for Labora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6—Partners TA meeting Geneva: discussed the growing need for TA for all of technical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CTA, ISAC and other channels provide needed TA but ACSM access to those funds is limi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ci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comprehensive range TA mechanism or facility to support all technical elements of the Stop TB Strateg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B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specific mechanism for responding to the growing demand for sound TA for ACSM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B endorse the strengthening the capacity of the secretariat to respond to the growing demand for ACSM from countri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SM 10-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tilization of AC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ussion and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ategic Overview of AC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2017800"/>
            <a:ext cx="1628640" cy="198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92480" y="4145040"/>
            <a:ext cx="1592280" cy="198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SM is a new high priority technical component of the WHO Stop TB Strate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th the Global Plan and the ACSM 10 Year Strategic Framework call for the rapid scale-up of ACSM activities at country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$3.2 billion over the life of both plans.  $2.9 billion for countries and $133 million for international agency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CSM Strategic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 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ve poi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 of patients and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itical commit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nd practices and knowledge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2560" y="201780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he Framework for Action will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Objectives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mprove country and partner access to timely and quality-assured technical assistance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able a collaborative approach to the delivery of technical assistance in support of country and partner-owned ACSM plan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Assist in the professional development of national institutions as well as national and regional ACSM profession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165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targets 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08 – 10 count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0 – 20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CSM methodologies will be fully a developed component of the Stop TB Strate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ll priority countries implementing effective ACSM Initiativ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237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tilization:  Rapid growth in AC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628640"/>
          <a:ext cx="82170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170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00000" y="5877000"/>
            <a:ext cx="7885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Plan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nding:  HBCs with GFATM funding via rounds 1-5 for ACSM activ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0520" y="2017800"/>
          <a:ext cx="775512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017800"/>
                    <a:ext cx="77551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87280" y="6093000"/>
            <a:ext cx="756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pproved grants from 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ound GFAT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Funds at Country Level via GFA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ccessful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round for ACSM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35 million over two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63 million over five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ome TA budgeted for in some 5th gr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9000"/>
          <a:ext cx="4038480" cy="4257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SM 2 year budge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z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5:00:47Z</dcterms:created>
  <dc:creator>Thaddeus Pennas</dc:creator>
  <dc:description/>
  <dc:language>en-US</dc:language>
  <cp:lastModifiedBy>bakerl</cp:lastModifiedBy>
  <dcterms:modified xsi:type="dcterms:W3CDTF">2006-05-02T15:10:3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6874898</vt:r8>
  </property>
  <property fmtid="{D5CDD505-2E9C-101B-9397-08002B2CF9AE}" pid="3" name="_AuthorEmail">
    <vt:lpwstr>francisc@who.int</vt:lpwstr>
  </property>
  <property fmtid="{D5CDD505-2E9C-101B-9397-08002B2CF9AE}" pid="4" name="_AuthorEmailDisplayName">
    <vt:lpwstr>Francis, Carole Louise</vt:lpwstr>
  </property>
  <property fmtid="{D5CDD505-2E9C-101B-9397-08002B2CF9AE}" pid="5" name="_EmailSubject">
    <vt:lpwstr>CB Presentation--Sub Group....Need your input</vt:lpwstr>
  </property>
  <property fmtid="{D5CDD505-2E9C-101B-9397-08002B2CF9AE}" pid="6" name="_NewReviewCycle">
    <vt:lpwstr/>
  </property>
  <property fmtid="{D5CDD505-2E9C-101B-9397-08002B2CF9AE}" pid="7" name="_PreviousAdHocReviewCycleID">
    <vt:r8>-1321205299</vt:r8>
  </property>
  <property fmtid="{D5CDD505-2E9C-101B-9397-08002B2CF9AE}" pid="8" name="_ReviewingToolsShownOnce">
    <vt:lpwstr/>
  </property>
</Properties>
</file>