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E1E47-EA3E-42DF-B3E6-EB5D963BEF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st current assesment of what product delivery d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1D1C-D309-4ABB-B93B-0AAC68439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FB3A-3197-4065-BFB9-E66AECD83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2375-9AC2-4283-87F0-264FB771D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5AD8-A24B-42EC-8CE1-E3D08AB31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5F318-CE1D-4C33-A556-483B4974A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48D3C-F951-4672-AC5D-23933B4F6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090F2-9BEB-4396-922C-A9B2DE406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72FD8-5CE8-4D1C-8FFE-103B038D5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EB0C7-21F3-4186-89C2-D120013E9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57588-1D44-469B-9058-04FA65831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9BCC2-987D-4F2C-AF8E-670602BCE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E7D7-3DED-4E29-AD5F-BDFAAFB37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1FFC6-64EC-4251-A102-DF53ABB89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F05A7-7087-4363-AC3B-BE8C239D1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E8669-FE1F-4912-9E83-7EA86A63A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E2B95-44DD-413E-A8E5-0FCA3F89D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D6939-3C08-4654-BA1D-71ACE6C98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B7B8-AC79-451B-B928-5F1CDA48B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89A1-138E-4FD7-A5A9-020ADDBAD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5FED-C131-4CA1-AE2F-3B4BD8129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5867-32B0-4FAD-A4D1-3897143E6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0426-9AE5-49AB-991A-B176A9FA7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880A-8456-4DED-AB36-14421ABDD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4C32-A878-46E8-8033-B64E37505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B4F52-2185-4AAE-874E-CF6CE86FA9B5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F30BA-3C08-4BB9-B7A6-51DB14046630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Building Momentum for </a:t>
            </a:r>
            <a:r>
              <a:rPr b="1" i="1" lang="en-US" sz="3600" spc="-1" strike="noStrike">
                <a:solidFill>
                  <a:srgbClr val="ffffcc"/>
                </a:solidFill>
                <a:latin typeface="Tahoma"/>
              </a:rPr>
              <a:t>Retooling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top TB Partnership CB Meeting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buja, Nigeria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pril 24, 2006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200" y="12492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Proposed Mission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755640" y="2924280"/>
            <a:ext cx="76662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0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20000"/>
                </a:solidFill>
                <a:latin typeface="Tahoma"/>
              </a:rPr>
              <a:t>Facilitate adoption and introduction of new tools as they become availab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Proposed Activitie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Bef>
                <a:spcPts val="112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0000"/>
                </a:solidFill>
                <a:latin typeface="Tahoma"/>
              </a:rPr>
              <a:t>Develop work plan and timeline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5000"/>
              </a:lnSpc>
              <a:spcBef>
                <a:spcPts val="112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0000"/>
                </a:solidFill>
                <a:latin typeface="Tahoma"/>
              </a:rPr>
              <a:t>Consolidate WGs’ information pipeline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0000"/>
                </a:solidFill>
                <a:latin typeface="Tahoma"/>
              </a:rPr>
              <a:t>Engage stakeholders from HBCs (MOH, NGOs, affected communities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5000"/>
              </a:lnSpc>
              <a:spcBef>
                <a:spcPts val="112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0000"/>
                </a:solidFill>
                <a:latin typeface="Tahoma"/>
              </a:rPr>
              <a:t>Help mobilize financial and human resource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0000"/>
                </a:solidFill>
                <a:latin typeface="Tahoma"/>
              </a:rPr>
              <a:t>Consolidate lessons learned from other areas (GAVI, malaria, etc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5000"/>
              </a:lnSpc>
              <a:spcBef>
                <a:spcPts val="112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0000"/>
                </a:solidFill>
                <a:latin typeface="Tahoma"/>
              </a:rPr>
              <a:t>Facilitate operations research on introduction of new tool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5000"/>
              </a:lnSpc>
              <a:spcBef>
                <a:spcPts val="112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0000"/>
                </a:solidFill>
                <a:latin typeface="Tahoma"/>
              </a:rPr>
              <a:t>Generate evidence to support adoption of new tools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5000"/>
              </a:lnSpc>
              <a:spcBef>
                <a:spcPts val="112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0000"/>
                </a:solidFill>
                <a:latin typeface="Tahoma"/>
              </a:rPr>
              <a:t>Fast track incorporation into WHO and national guideline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5000"/>
              </a:lnSpc>
              <a:spcBef>
                <a:spcPts val="112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0000"/>
                </a:solidFill>
                <a:latin typeface="Tahoma"/>
              </a:rPr>
              <a:t>Enhance communication among WGs on retooling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83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Proposed Composition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Chair(s):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experience with new tools and country-level implementation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Membership: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Working Groups (including key sub-groups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Community and donor representat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NTP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Retooling experts from other disease communiti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opic-specific experts (periodic inputs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Next step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Background paper/inventory of key issues faced by: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65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NTPs and country-level partne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65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GAVI, malaria, othe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2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ace to face meeting to develop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65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Robust TOR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65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Workpla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65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imelin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Moving Forward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68360" y="2349000"/>
            <a:ext cx="8229600" cy="26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Need active support from each of the Working Group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Need financial and secretariat support for meetings of task force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Acknowledgement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"/>
          <p:cNvSpPr/>
          <p:nvPr/>
        </p:nvSpPr>
        <p:spPr>
          <a:xfrm>
            <a:off x="2176560" y="38815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84360" y="3284640"/>
            <a:ext cx="79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Arial"/>
              </a:rPr>
              <a:t>Special thanks go to the RTF for providing the supporting material for this presentation.</a:t>
            </a:r>
            <a:r>
              <a:rPr b="0" lang="en-US" sz="2800" spc="-1" strike="noStrike">
                <a:solidFill>
                  <a:srgbClr val="72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urrent Membership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Membership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Christy Hanson, USAID (donor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Barbara Laughon, NIAID (TB/HIV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Aziz Mohamed, StopTB/WHO (lab sub group, DOTS expansion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Vinand Nantulya, FIND (diagnostics)*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Ikushi Onozaki, RTI/JATA (DOTS expansion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Nina Schwalbe, TB Alliance (drugs)*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Brite Holm Sorenson, World Bank (poverty, DOTS expansion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Javid Syed, TAG (community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Karin Weyer, SA-MRC (MDR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Patrick Zuber, EPI/WHO (vaccines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Secretariat suppor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Rachel Bauquerez, Stop TB Partnership</a:t>
            </a: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Philip Onyebujoh, IRM/TDR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7630560" y="6165720"/>
            <a:ext cx="1514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20000"/>
                </a:solidFill>
                <a:latin typeface="Arial"/>
              </a:rPr>
              <a:t>* Interim co-chai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209680" y="2068560"/>
            <a:ext cx="0" cy="5105520"/>
          </a:xfrm>
          <a:prstGeom prst="line">
            <a:avLst/>
          </a:prstGeom>
          <a:ln w="19080">
            <a:solidFill>
              <a:srgbClr val="8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447920" y="2068560"/>
            <a:ext cx="0" cy="5105520"/>
          </a:xfrm>
          <a:prstGeom prst="line">
            <a:avLst/>
          </a:prstGeom>
          <a:ln w="19080">
            <a:solidFill>
              <a:srgbClr val="8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70000" y="476280"/>
            <a:ext cx="887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urrent Estimate of Tool Deliver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3924360" y="2030400"/>
            <a:ext cx="38160" cy="5143680"/>
          </a:xfrm>
          <a:prstGeom prst="line">
            <a:avLst/>
          </a:prstGeom>
          <a:ln w="19080">
            <a:solidFill>
              <a:srgbClr val="8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4787640" y="2030400"/>
            <a:ext cx="12600" cy="5143680"/>
          </a:xfrm>
          <a:prstGeom prst="line">
            <a:avLst/>
          </a:prstGeom>
          <a:ln w="19080">
            <a:solidFill>
              <a:srgbClr val="8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2003400"/>
            <a:ext cx="8991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4000" y="1747800"/>
            <a:ext cx="914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&lt; 2005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116000" y="174780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2005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981080" y="1735200"/>
            <a:ext cx="762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2006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43280" y="1747800"/>
            <a:ext cx="838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2007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57600" y="174780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2008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500720" y="1747800"/>
            <a:ext cx="838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2009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364000" y="174780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2010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11280" y="2062080"/>
            <a:ext cx="0" cy="5085000"/>
          </a:xfrm>
          <a:prstGeom prst="line">
            <a:avLst/>
          </a:prstGeom>
          <a:ln w="19080">
            <a:solidFill>
              <a:srgbClr val="8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51640" y="2016000"/>
            <a:ext cx="0" cy="5158080"/>
          </a:xfrm>
          <a:prstGeom prst="line">
            <a:avLst/>
          </a:prstGeom>
          <a:ln w="19080">
            <a:solidFill>
              <a:srgbClr val="8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667640" y="1747800"/>
            <a:ext cx="762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2013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948360" y="1747800"/>
            <a:ext cx="762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201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156360" y="1747800"/>
            <a:ext cx="609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2011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418600" y="1747800"/>
            <a:ext cx="761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2014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400800" y="2030400"/>
            <a:ext cx="42840" cy="5143680"/>
          </a:xfrm>
          <a:prstGeom prst="line">
            <a:avLst/>
          </a:prstGeom>
          <a:ln w="19080">
            <a:solidFill>
              <a:srgbClr val="8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7236000" y="2030400"/>
            <a:ext cx="2880" cy="5143680"/>
          </a:xfrm>
          <a:prstGeom prst="line">
            <a:avLst/>
          </a:prstGeom>
          <a:ln w="19080">
            <a:solidFill>
              <a:srgbClr val="8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001000" y="2030400"/>
            <a:ext cx="27000" cy="5143680"/>
          </a:xfrm>
          <a:prstGeom prst="line">
            <a:avLst/>
          </a:prstGeom>
          <a:ln w="19080">
            <a:solidFill>
              <a:srgbClr val="8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534960" y="2131920"/>
            <a:ext cx="7781760" cy="735120"/>
            <a:chOff x="534960" y="2131920"/>
            <a:chExt cx="7781760" cy="735120"/>
          </a:xfrm>
        </p:grpSpPr>
        <p:sp>
          <p:nvSpPr>
            <p:cNvPr id="114" name=""/>
            <p:cNvSpPr/>
            <p:nvPr/>
          </p:nvSpPr>
          <p:spPr>
            <a:xfrm>
              <a:off x="534960" y="2251080"/>
              <a:ext cx="666720" cy="49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be7960"/>
                  </a:solidFill>
                  <a:latin typeface="Arial"/>
                </a:rPr>
                <a:t>Vaccines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5968800" y="2131920"/>
              <a:ext cx="2347920" cy="735120"/>
              <a:chOff x="5968800" y="2131920"/>
              <a:chExt cx="2347920" cy="735120"/>
            </a:xfrm>
          </p:grpSpPr>
          <p:sp>
            <p:nvSpPr>
              <p:cNvPr id="116" name=""/>
              <p:cNvSpPr/>
              <p:nvPr/>
            </p:nvSpPr>
            <p:spPr>
              <a:xfrm>
                <a:off x="5968800" y="2131920"/>
                <a:ext cx="2347920" cy="73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be7960"/>
                    </a:solidFill>
                    <a:latin typeface="Arial"/>
                  </a:rPr>
                  <a:t>New TB Vaccine </a:t>
                </a:r>
                <a:br>
                  <a:rPr sz="1800"/>
                </a:b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7224480" y="2533680"/>
                <a:ext cx="201600" cy="182520"/>
              </a:xfrm>
              <a:prstGeom prst="diamond">
                <a:avLst/>
              </a:prstGeom>
              <a:solidFill>
                <a:srgbClr val="be7960"/>
              </a:solidFill>
              <a:ln w="19080">
                <a:solidFill>
                  <a:srgbClr val="be79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8" name=""/>
          <p:cNvSpPr/>
          <p:nvPr/>
        </p:nvSpPr>
        <p:spPr>
          <a:xfrm>
            <a:off x="1828800" y="3092400"/>
            <a:ext cx="1817640" cy="7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Referral La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04800" y="3214800"/>
            <a:ext cx="64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9900"/>
                </a:solidFill>
                <a:latin typeface="Arial"/>
              </a:rPr>
              <a:t>Diagnostic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652920" y="3106800"/>
            <a:ext cx="1817640" cy="7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Peripheral La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851280" y="3651120"/>
            <a:ext cx="201600" cy="182520"/>
          </a:xfrm>
          <a:prstGeom prst="diamond">
            <a:avLst/>
          </a:prstGeom>
          <a:solidFill>
            <a:srgbClr val="ff9900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134040" y="3121200"/>
            <a:ext cx="1817640" cy="7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Point of Ca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8748720" y="2065320"/>
            <a:ext cx="14400" cy="5081760"/>
          </a:xfrm>
          <a:prstGeom prst="line">
            <a:avLst/>
          </a:prstGeom>
          <a:ln w="54000">
            <a:solidFill>
              <a:srgbClr val="8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324000" y="4081320"/>
            <a:ext cx="8700840" cy="734760"/>
            <a:chOff x="324000" y="4081320"/>
            <a:chExt cx="8700840" cy="734760"/>
          </a:xfrm>
        </p:grpSpPr>
        <p:sp>
          <p:nvSpPr>
            <p:cNvPr id="125" name=""/>
            <p:cNvSpPr/>
            <p:nvPr/>
          </p:nvSpPr>
          <p:spPr>
            <a:xfrm>
              <a:off x="324000" y="4295520"/>
              <a:ext cx="6858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ff3300"/>
                  </a:solidFill>
                  <a:latin typeface="Arial"/>
                </a:rPr>
                <a:t>Drugs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5075280" y="4081320"/>
              <a:ext cx="1287360" cy="734760"/>
              <a:chOff x="5075280" y="4081320"/>
              <a:chExt cx="1287360" cy="734760"/>
            </a:xfrm>
          </p:grpSpPr>
          <p:sp>
            <p:nvSpPr>
              <p:cNvPr id="127" name=""/>
              <p:cNvSpPr/>
              <p:nvPr/>
            </p:nvSpPr>
            <p:spPr>
              <a:xfrm>
                <a:off x="5075280" y="4081320"/>
                <a:ext cx="1287360" cy="73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3300"/>
                    </a:solidFill>
                    <a:latin typeface="Arial"/>
                  </a:rPr>
                  <a:t>Single New</a:t>
                </a:r>
                <a:br>
                  <a:rPr sz="1800"/>
                </a:br>
                <a:r>
                  <a:rPr b="1" lang="en-US" sz="1800" spc="-1" strike="noStrike">
                    <a:solidFill>
                      <a:srgbClr val="ff3300"/>
                    </a:solidFill>
                    <a:latin typeface="Arial"/>
                  </a:rPr>
                  <a:t>Drug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745240" y="4497120"/>
                <a:ext cx="201600" cy="182520"/>
              </a:xfrm>
              <a:prstGeom prst="diamond">
                <a:avLst/>
              </a:prstGeom>
              <a:solidFill>
                <a:srgbClr val="ff3300"/>
              </a:solidFill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7207200" y="4081320"/>
              <a:ext cx="1817640" cy="734760"/>
              <a:chOff x="7207200" y="4081320"/>
              <a:chExt cx="1817640" cy="734760"/>
            </a:xfrm>
          </p:grpSpPr>
          <p:sp>
            <p:nvSpPr>
              <p:cNvPr id="130" name=""/>
              <p:cNvSpPr/>
              <p:nvPr/>
            </p:nvSpPr>
            <p:spPr>
              <a:xfrm>
                <a:off x="7207200" y="4081320"/>
                <a:ext cx="1817640" cy="73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3300"/>
                    </a:solidFill>
                    <a:latin typeface="Arial"/>
                  </a:rPr>
                  <a:t>New Multi-Drug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3300"/>
                    </a:solidFill>
                    <a:latin typeface="Arial"/>
                  </a:rPr>
                  <a:t>Regimen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634240" y="4497120"/>
                <a:ext cx="201960" cy="182520"/>
              </a:xfrm>
              <a:prstGeom prst="diamond">
                <a:avLst/>
              </a:prstGeom>
              <a:solidFill>
                <a:srgbClr val="ff3300"/>
              </a:solidFill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"/>
          <p:cNvSpPr/>
          <p:nvPr/>
        </p:nvSpPr>
        <p:spPr>
          <a:xfrm flipH="1">
            <a:off x="3059280" y="2062080"/>
            <a:ext cx="31680" cy="5148360"/>
          </a:xfrm>
          <a:prstGeom prst="line">
            <a:avLst/>
          </a:prstGeom>
          <a:ln w="19080">
            <a:solidFill>
              <a:srgbClr val="8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164360" y="3606840"/>
            <a:ext cx="201600" cy="182520"/>
          </a:xfrm>
          <a:prstGeom prst="diamond">
            <a:avLst/>
          </a:prstGeom>
          <a:solidFill>
            <a:srgbClr val="ff9900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916360" y="3646440"/>
            <a:ext cx="201600" cy="182520"/>
          </a:xfrm>
          <a:prstGeom prst="diamond">
            <a:avLst/>
          </a:prstGeom>
          <a:solidFill>
            <a:srgbClr val="ff9900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610160" y="6553080"/>
            <a:ext cx="454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Adapted from a presentation by Dr. Peter Small, BMG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Setting the Stage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Better diagnostics, drugs and vaccines are coming 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32640" indent="-332640">
              <a:spcBef>
                <a:spcPts val="2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ools are only effective if used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32640" indent="-332640">
              <a:spcBef>
                <a:spcPts val="2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Adoption must be planned and supported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468360" y="5372280"/>
            <a:ext cx="828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720000"/>
                </a:solidFill>
                <a:latin typeface="Tahoma"/>
              </a:rPr>
              <a:t>Adoption, implementation and use of new tool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092400" y="4923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10560" y="4797360"/>
            <a:ext cx="225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720000"/>
                </a:solidFill>
                <a:latin typeface="Tahoma"/>
              </a:rPr>
              <a:t>Retool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5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59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Feedback Loop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(DRUGS)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35280" y="1413000"/>
            <a:ext cx="5448240" cy="55720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2556000" y="1916280"/>
            <a:ext cx="4248000" cy="3889080"/>
          </a:xfrm>
          <a:prstGeom prst="ellipse">
            <a:avLst/>
          </a:prstGeom>
          <a:solidFill>
            <a:srgbClr val="ff9900">
              <a:alpha val="23000"/>
            </a:srgbClr>
          </a:solidFill>
          <a:ln w="9360">
            <a:solidFill>
              <a:srgbClr val="be79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Arial"/>
              </a:rPr>
              <a:t>ADVOCACY &amp; POLI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40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659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Illustrative Engagement Matrix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611280" y="1844640"/>
          <a:ext cx="8076960" cy="4287960"/>
        </p:xfrm>
        <a:graphic>
          <a:graphicData uri="http://schemas.openxmlformats.org/drawingml/2006/table">
            <a:tbl>
              <a:tblPr/>
              <a:tblGrid>
                <a:gridCol w="1615680"/>
                <a:gridCol w="1616400"/>
                <a:gridCol w="1612800"/>
                <a:gridCol w="1616040"/>
                <a:gridCol w="1616040"/>
              </a:tblGrid>
              <a:tr h="50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Partners in new tools introdu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Involvemen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Timing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Deman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Suppl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Prior to availability of new tool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Upon availability of new tool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NTP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Regulatory agenci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Technical agencies providing technical assist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Research partner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Private sector (associations, providers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Communiti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Donor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Retooling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68000" y="2349000"/>
            <a:ext cx="8280360" cy="27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3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Directly links R&amp;D, implementation and advocacy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08520" indent="-308520">
              <a:lnSpc>
                <a:spcPct val="13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Many stakeholders must be involved for succes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08520" indent="-308520">
              <a:lnSpc>
                <a:spcPct val="95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top TB Partnership uniquely positioned to serve as a model for retooling in public health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042920" y="5229360"/>
            <a:ext cx="7029360" cy="581400"/>
            <a:chOff x="1042920" y="5229360"/>
            <a:chExt cx="7029360" cy="581400"/>
          </a:xfrm>
        </p:grpSpPr>
        <p:sp>
          <p:nvSpPr>
            <p:cNvPr id="149" name=""/>
            <p:cNvSpPr/>
            <p:nvPr/>
          </p:nvSpPr>
          <p:spPr>
            <a:xfrm>
              <a:off x="2030400" y="5229360"/>
              <a:ext cx="6041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3300"/>
                  </a:solidFill>
                  <a:latin typeface="Tahoma"/>
                </a:rPr>
                <a:t>GP II did not address retooling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042920" y="5302080"/>
              <a:ext cx="976320" cy="485280"/>
            </a:xfrm>
            <a:prstGeom prst="rightArrow">
              <a:avLst>
                <a:gd name="adj1" fmla="val 50000"/>
                <a:gd name="adj2" fmla="val 50297"/>
              </a:avLst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reating the Link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229600" cy="42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24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Board recognized the gap and created the Retooling Task Force (RTF)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35880" indent="-335880">
              <a:spcBef>
                <a:spcPts val="24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RTF: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27920" indent="-280080">
              <a:lnSpc>
                <a:spcPct val="65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WG chairs and Secretariat recommended member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27920" indent="-280080">
              <a:lnSpc>
                <a:spcPct val="65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cretariat supports activitie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27920" indent="-280080">
              <a:lnSpc>
                <a:spcPct val="65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Proposed Terms of Reference (TOR) developed by RTF Members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5880" indent="-335880">
              <a:spcBef>
                <a:spcPts val="24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Presentation to the BOD for input and feedback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RTF Request to Board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8360" y="2708280"/>
            <a:ext cx="822960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Is the task force the appropriate mechanism to deal with re-tooling?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Are the content and the TOR on target?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050920" y="299700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20000"/>
                </a:solidFill>
                <a:latin typeface="Tahoma"/>
              </a:rPr>
              <a:t>PROPOSED TO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8T14:34:56Z</dcterms:created>
  <dc:creator>bauquerezr</dc:creator>
  <dc:description/>
  <dc:language>en-US</dc:language>
  <cp:lastModifiedBy>mfreire</cp:lastModifiedBy>
  <dcterms:modified xsi:type="dcterms:W3CDTF">2006-04-22T19:15:29Z</dcterms:modified>
  <cp:revision>1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