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E7DD-93F2-4E5F-AF2A-E69B4A20E26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61F1-F07C-4D69-B15C-2D161369A42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6A2B-2C0B-4006-B706-0A5B8DEF180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16E7-4D4A-4CAC-9DE0-110FE654245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8C32-7209-4B7C-9244-9C484BD1704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A523-511B-47D3-8635-DBEE49699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0D80-6BBB-4336-9021-400D0196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361B-5E38-48B2-A52D-B39CEE093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A7C7-C4D6-4F0B-B9A6-69DC5A7F0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E6B63-8576-4F05-841D-D6DC6084C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B765-A01F-40A3-BAC2-95090140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05A4-491F-4BB6-BB3D-7E34D03D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3AB4-782E-4C47-98F9-6C54EC6E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1B67-BDDD-4F92-9A03-34E14BE8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AAE4-CC79-4932-A6C7-6EA6CB4F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9F83-11A9-4A98-8770-1A423A68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937F-7FA7-4BE2-B422-52DDA6B9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0D35-9448-44B1-B24B-8ADE3FA4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8C02-9178-4849-B305-97CFA284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D8DE-65D2-45CF-8445-CDCC9A00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E53F-5D60-4106-81BD-ED3480F8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7999-D131-47E4-8F68-EDA2EF54C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34D3-8F9C-4399-9849-CAC419EF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B07B-B71C-4C77-BAB6-9F4F769E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61DE-605D-4649-8E19-6371E37D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0741-5402-4FC5-B777-4AA54266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B6CD-15C5-4F68-B189-0CE2E1DD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B5A1-8E30-4FCB-9868-8FE00FD2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C171-674E-4EAC-BAF8-082B26EC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A790-7311-435A-9C78-BC8FDD8E9E05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5B8E-0FAD-4443-802E-2B0950814E58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77738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WG on New TB Vaccines – 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where do we go from here?</a:t>
            </a:r>
            <a:br>
              <a:rPr sz="3200"/>
            </a:br>
            <a:endParaRPr b="1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Lessons from GP1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Overall objective: 5 vaccine candidates in phase I clinical trials by the end of 2005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Lesson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Sense of ownership / buy-in by partners does not com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automaticall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G must position itself more prominently as a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" 1st  stop shop " on vaccine R&amp;D matters, both inside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the TB vaccine community and to the outsid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Resource mobilization must become more professiona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Mechanisms for a more rapid response by the WG to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upcoming challenges need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A strategic "scaffold" ("roadmap"/"blueprint") for th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ide range of diverse activities is need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Challenges for GP2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Overall objective: a safe, effective licensed vaccine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available at affordable cost by 2015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	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</a:t>
            </a: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Challeng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Technical:      lacking immune surrogate of protection, diagnosis of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clinical trial endpoints, in particular in childre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Economic:     estimated cost to bring existing candidates to licensure: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US$ 600million, estimated availability : US$ 60 million 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Normative:    no regulatory capacity fro vaccine trial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in endemic countr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Participatory: few industry,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no endemic country participation i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                          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formulation of research goa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G function: Need to increase response time &amp; visibility for the W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6732720" y="609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How can the Board help?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Resource Mobilization, Advocacy, Link with the TB control community for epidemiology, laboratory, trial site selection…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Use Board links with highest levels of government as well as grassroots to create a momentum &amp; pressure &amp; ownership in endemic countries for TB vaccine develop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</a:t>
            </a: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National Plans for TB Vaccine Development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         </a:t>
            </a:r>
            <a:r>
              <a:rPr b="0" lang="en-GB" sz="32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</a:t>
            </a:r>
            <a:r>
              <a:rPr b="0" lang="en-GB" sz="3200" spc="-1" strike="noStrike">
                <a:solidFill>
                  <a:srgbClr val="990000"/>
                </a:solidFill>
                <a:latin typeface="Mistral"/>
                <a:ea typeface="宋体"/>
              </a:rPr>
              <a:t>tool (?) developmen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                                </a:t>
            </a:r>
            <a:r>
              <a:rPr b="0" lang="en-GB" sz="4000" spc="-1" strike="noStrike">
                <a:solidFill>
                  <a:srgbClr val="990000"/>
                </a:solidFill>
                <a:latin typeface="Lucida Handwriting"/>
                <a:ea typeface="宋体"/>
              </a:rPr>
              <a:t>research </a:t>
            </a:r>
            <a:r>
              <a:rPr b="0" lang="en-GB" sz="4000" spc="-1" strike="noStrike">
                <a:solidFill>
                  <a:srgbClr val="990000"/>
                </a:solidFill>
                <a:latin typeface="Mistral"/>
                <a:ea typeface="宋体"/>
              </a:rPr>
              <a:t>(?) </a:t>
            </a:r>
            <a:endParaRPr b="0" lang="en-US" sz="40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508720" y="4508640"/>
            <a:ext cx="3490560" cy="1150560"/>
            <a:chOff x="5508720" y="4508640"/>
            <a:chExt cx="3490560" cy="1150560"/>
          </a:xfrm>
        </p:grpSpPr>
        <p:sp>
          <p:nvSpPr>
            <p:cNvPr id="98" name=""/>
            <p:cNvSpPr/>
            <p:nvPr/>
          </p:nvSpPr>
          <p:spPr>
            <a:xfrm flipV="1">
              <a:off x="5572440" y="4508640"/>
              <a:ext cx="1292760" cy="61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08720" y="4584960"/>
              <a:ext cx="1358280" cy="61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766480" y="4660920"/>
              <a:ext cx="3232800" cy="84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54200" y="4738680"/>
              <a:ext cx="2781360" cy="920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828720" y="4437000"/>
            <a:ext cx="1582560" cy="649440"/>
          </a:xfrm>
          <a:prstGeom prst="rightArrow">
            <a:avLst>
              <a:gd name="adj1" fmla="val 50000"/>
              <a:gd name="adj2" fmla="val 6092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5640" y="5661000"/>
            <a:ext cx="3241440" cy="647640"/>
          </a:xfrm>
          <a:prstGeom prst="wedgeRoundRectCallout">
            <a:avLst>
              <a:gd name="adj1" fmla="val 291"/>
              <a:gd name="adj2" fmla="val -148282"/>
              <a:gd name="adj3" fmla="val 16667"/>
            </a:avLst>
          </a:prstGeom>
          <a:solidFill>
            <a:srgbClr val="ffffff"/>
          </a:solidFill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720000"/>
                </a:solidFill>
                <a:latin typeface="Tahoma"/>
              </a:rPr>
              <a:t>Inspired by the National (African) AIDS Vaccine Development Plans (AAVI)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57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The new WG Chai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  <a:ea typeface="宋体"/>
              </a:rPr>
              <a:t>Mr Michel GRECO, former CEO of Aventis (now Sanofi) Pasteu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MG is looking forward to strong interaction with the Board and counts on its suppor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TB vaccine landscape has strongly improved over the last couple of years, the TB vaccine community is more ready to act in a coordinated fashion, to optimize resources and to develop standards that should ease the prioritization process down the roa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re is a continued need to open new research avenues as it is too early to assume that existing products will make it to marke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need for and the opportunities offered must be attacked more aggressively, more research, more advocacy, more fund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secretariat will need more resources to keep up with the with the growing task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re is going to be abn increased newsflow on TB vacines over the coming years and MG is looking forward to becoming a bearer of hopefully good news to the board in the futur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bakerl</cp:lastModifiedBy>
  <cp:lastPrinted>2004-03-17T17:37:17Z</cp:lastPrinted>
  <dcterms:modified xsi:type="dcterms:W3CDTF">2006-05-02T15:03:14Z</dcterms:modified>
  <cp:revision>213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