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DE0F-EFB2-41DE-B9AC-809B39AA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5FFB-2D1D-4624-8285-78EA8C63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32E-1FBF-4C0E-A5AE-8BF2054A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807-8959-4EA9-B905-00720C95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A0C-6F4E-4FFB-B893-238598EE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31F8-EEF1-4549-AF31-FC28B124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1FEA-64B9-4E70-9DD1-964CAE07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CBE-28E6-4D63-872D-74A6F4CD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F10A-C74D-4A49-828D-D07AD3F9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A8B8-CBB0-47D2-92CD-2B4A8AA8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D7A-2F93-4C90-8347-D4D7E6C3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CCE-2391-4AF1-B6F3-C4D66610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0A76-CAAD-4319-A07F-8A987B7FCC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High Lev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berculosis – a regional emerg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enhagen, 16-17 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presentation to Coordinating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on lates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e comments and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high level mission to participate in Ministerial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Development Goal for TB and Stop-TB targets may not be met in Africa and Eastern Europe/Central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stern Europe major problems with high MDR-TB rates and increasing TB-HIV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clared tuberculosis regional emergency in Europe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versies on techn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xternal support from Western Europe (health concerns versus development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 and objectiv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 progress towards achieving MDGs and targets for TB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political and financial support to TB control in line with Global Plan 2006-2015 in priorit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awareness and commitments of European and other international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European Stop-TB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Committee (chair Zaleskis) and Steering Committee (chair Borgdorff) established in Jan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and place set: 16-17 October 2006 in Copenh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 letter ready, to be signed by Regional Director and Minister of Health of Finland (EU Presidenc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f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es: Ministers of Health, Finance (East), Justice (East), Foreign Affairs/Development Cooperation (West), as well as selecte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al programme draf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el discussions on the TB threat (incl MDR-TB and TB-HIV), collaboration between European countries, and bridging the financial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and adoption of Copenhagen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ing the Stop TB Partnership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declaration being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cy plan being finalised, including pre-events in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documents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‘ next steps’ in preparation (from regional to national emergency; development of country p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budget $ 300,000 – 35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: number of participants, location, air f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s so f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29,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-TB Partnership/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 5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gap: in the order of $  1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ntributions expected or applied for: TB societies (Netherlands, Russia, Finland), USAID, Gate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yet directly from Western European Governments, except reception by Govt of Finland (EU presidency), and support from Italy through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6:27:26Z</dcterms:created>
  <dc:creator>kncv</dc:creator>
  <dc:description/>
  <dc:language>en-US</dc:language>
  <cp:lastModifiedBy>bakerl</cp:lastModifiedBy>
  <dcterms:modified xsi:type="dcterms:W3CDTF">2006-05-02T15:11:46Z</dcterms:modified>
  <cp:revision>5</cp:revision>
  <dc:subject/>
  <dc:title>European High Level Ministerial Forum  Tuberculosis – a regional emergency</dc:title>
</cp:coreProperties>
</file>