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E4B6-23F2-4101-95DF-2A4A28212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that the figures are cumulative, and that they exclude the number of consul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enario 2, which is based on the assumption of a higher number of applications than scenario 1, will require hiring even more staff over the course of the expansion ph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CC27-E9FD-4577-B31B-04367C4D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38A5-DF52-4ED0-BE21-4BC76D23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D632-7F1E-4BF5-B782-6F2C9DA98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4700-39E0-48FD-8320-9895423E8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F975-21CA-4AF0-9211-7F84F452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1445-1469-415C-958E-8C595CDC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0045-A133-4E89-B0F7-1B7B08B8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DFEC-8AB8-437B-BF35-E0FCD0B7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C67E-354C-4650-B22E-14FDEB38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5BB0-1E84-4995-91B8-B9D58E8E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6977-8983-41D3-9669-E0C194B2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6BB8-3DB7-4A9F-AC54-D697BFF8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F1CD-C930-4EDC-AECE-2F4F8FE86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9325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s for operationalizing the Strategic Plan of the Working Group on DOTS-P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0952" t="1134" r="3247" b="0"/>
          <a:stretch/>
        </p:blipFill>
        <p:spPr>
          <a:xfrm>
            <a:off x="4859280" y="1197000"/>
            <a:ext cx="3376800" cy="4464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539640" y="2166840"/>
            <a:ext cx="33829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agement of MDR-TB integrated into routine activities of TB control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800,000 MDR-TB patients to be treated over the next 10 years at estimated cost of US$6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760" y="1238400"/>
            <a:ext cx="465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implementatio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f the Strategic Plan of the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13400" y="5735520"/>
            <a:ext cx="3919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 Thelma Tupasi, Chair of W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rdinating Board meeting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uja, Nigeria, April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llenge 1: Increased and sustained  commitment to scale-up sound TB control programmes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growth projections for scaling up MDR-TB manage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1297080"/>
            <a:ext cx="813744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403280" y="1766880"/>
          <a:ext cx="6840720" cy="1733400"/>
        </p:xfrm>
        <a:graphic>
          <a:graphicData uri="http://schemas.openxmlformats.org/drawingml/2006/table">
            <a:tbl>
              <a:tblPr/>
              <a:tblGrid>
                <a:gridCol w="2200320"/>
                <a:gridCol w="1108080"/>
                <a:gridCol w="1211400"/>
                <a:gridCol w="1109520"/>
                <a:gridCol w="12114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3789360"/>
            <a:ext cx="2224080" cy="2808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133344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8900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 2: Human resources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7720" y="3933720"/>
            <a:ext cx="4599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 of properly trai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ed for scaling 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country level is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timates of GLC staff needs at WHO HQ,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onal and country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15920"/>
            <a:ext cx="914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llenge 3: 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st of the MDR-TB burden estimated is not being been diagn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1052640"/>
            <a:ext cx="7991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976320"/>
          <a:ext cx="8756640" cy="581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76320"/>
                    <a:ext cx="875664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851280" y="3141720"/>
            <a:ext cx="2592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stimated 4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detectio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4869000"/>
            <a:ext cx="2266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stimated 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ST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644688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WHO/STB/T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 4: Drug suppl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ed quantity of quality-assured manufacturers an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335772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C mechanism procures onl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ven drugs from six manufacturers, all of them meeting at least GMP standards of WHO or a stringent drug regulatory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pdate on WHO Prequalification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 seven manufacturers appl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 dossiers submit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manufacturer WHO GMP 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product yet WHO 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87640" y="1411200"/>
            <a:ext cx="37544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ddressing the challenges for operationalizing the Strategic Plan of the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496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ed commitment to scal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siness plan for the GLC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quest to the GFATM to contribute funding GLC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untry level plans for MDR-TB scale up in key countries (China, India, Russia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lan for training trainers on MDR-TB management through WHO and partn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termine the gap in human resources at countr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ratory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lerate the Global Plan for Strengthening laboratory capacity, including culture and drug suscepti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ug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lerate the WHO Prequalification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engthen the GLC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reasing the size of the market of second-line anti-TB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9:37:35Z</dcterms:created>
  <dc:creator>jaramilloe</dc:creator>
  <dc:description/>
  <dc:language>en-US</dc:language>
  <cp:lastModifiedBy>bakerl</cp:lastModifiedBy>
  <dcterms:modified xsi:type="dcterms:W3CDTF">2006-05-02T15:00:24Z</dcterms:modified>
  <cp:revision>41</cp:revision>
  <dc:subject/>
  <dc:title>WHO's role in addressing drug-resistant tuberculosis: opportunities and challenge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