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9"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80" name="PlaceHolder 2"/>
          <p:cNvSpPr>
            <a:spLocks noGrp="1"/>
          </p:cNvSpPr>
          <p:nvPr>
            <p:ph type="dt" idx="7"/>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81"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182"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84" name="PlaceHolder 6"/>
          <p:cNvSpPr>
            <a:spLocks noGrp="1"/>
          </p:cNvSpPr>
          <p:nvPr>
            <p:ph type="sldNum" idx="9"/>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8C6DC-0F8E-4C99-BA46-E60B759B4654}"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53920" y="744480"/>
            <a:ext cx="4962600" cy="3722760"/>
          </a:xfrm>
          <a:prstGeom prst="rect">
            <a:avLst/>
          </a:prstGeom>
          <a:ln w="0">
            <a:noFill/>
          </a:ln>
        </p:spPr>
      </p:sp>
      <p:sp>
        <p:nvSpPr>
          <p:cNvPr id="20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nd congratulate Paul Sommerfeld as incoming chair of ACSM WG; Thank Roberto Tapia for his outstanding leadership as Vice Chiar Of WG –leading up country level ACSM and Thad Pennas of STBP Sec for his outstanding support; and also welcome Carole Francis who will now be supporting efforts of the Global Advocacy SG of the 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bilize US $31 billion for implementation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chieve case detection and treatment outcomes in line with GP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CSM specific needs:</a:t>
            </a:r>
            <a:r>
              <a:rPr b="0" lang="en-GB" sz="1200" spc="-1" strike="noStrike">
                <a:solidFill>
                  <a:srgbClr val="000000"/>
                </a:solidFill>
                <a:latin typeface="Arial"/>
              </a:rPr>
              <a:t> $3.2 billion over the life of the Plan: $2.9 billion for ACSM in countries and $133 million for global advoc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52480" y="744480"/>
            <a:ext cx="4964040" cy="3722760"/>
          </a:xfrm>
          <a:prstGeom prst="rect">
            <a:avLst/>
          </a:prstGeom>
          <a:ln w="0">
            <a:noFill/>
          </a:ln>
        </p:spPr>
      </p:sp>
      <p:sp>
        <p:nvSpPr>
          <p:cNvPr id="20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me of our challenges are implementation, some are related to structure and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etition from other diseas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52480" y="744480"/>
            <a:ext cx="4964040" cy="3722760"/>
          </a:xfrm>
          <a:prstGeom prst="rect">
            <a:avLst/>
          </a:prstGeom>
          <a:ln w="0">
            <a:noFill/>
          </a:ln>
        </p:spPr>
      </p:sp>
      <p:sp>
        <p:nvSpPr>
          <p:cNvPr id="20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iven huge success of TB ACSM proposals for Round 5, how to respond to country requests and needs – where resources are available, AND secure additional resources to fill funding gaps (new proposals, increased national commitment, et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issue will be addressed by Dr. Tapia on Tuesday in his presentation, “Mobilizing technical assistance and resources for ACS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sure continued provision of TA to countries to develop new GFATM ACSM proposals to support achievement of funding targets in the Global Plan/ACSM Strategic Framework –also perhaps other demand driven funding opportunities for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uring lessons of national partnerships and supporting existing and nascent partnerships; To date: convening regular calls of national partnerships; plan leading up to and after IUATLD forum to develop best practices documentation and case studies for national partner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efforts of country level S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lize Gl SG or taskforces to implement key ACSM elements of GP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3920" y="744480"/>
            <a:ext cx="4962600" cy="3722760"/>
          </a:xfrm>
          <a:prstGeom prst="rect">
            <a:avLst/>
          </a:prstGeom>
          <a:ln w="0">
            <a:noFill/>
          </a:ln>
        </p:spPr>
      </p:sp>
      <p:sp>
        <p:nvSpPr>
          <p:cNvPr id="20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key donors, events, issues; link to existing Africa, EU, research adv.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specific country priorities for RM—increasing support for existing leaders and expanding support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of W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be in coordination with overall Partnership RM plan, EU strategy, Africa Strategy and other partner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teams--some short-term, some ongoing eg. RM—proposal in next month; refine 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s initiatied and to be carried forward by Marcos and Lucy and others on mech to support affected comunities/patient activist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53920" y="744480"/>
            <a:ext cx="4962600" cy="3722760"/>
          </a:xfrm>
          <a:prstGeom prst="rect">
            <a:avLst/>
          </a:prstGeom>
          <a:ln w="0">
            <a:noFill/>
          </a:ln>
        </p:spPr>
      </p:sp>
      <p:sp>
        <p:nvSpPr>
          <p:cNvPr id="20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ssess and broker needs of other WGs for global ACSM activities including RM and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or tracking—find what’s out there and dissemi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GFATM Donor fair shares—bilateral, Multilateral, GFATM, new tools, draft version working with technical partners to r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for fully funding round 6; inform policymakers of TB success vis a vis G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 on CS delegation, TB at Partners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k Math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2600" cy="3722760"/>
          </a:xfrm>
          <a:prstGeom prst="rect">
            <a:avLst/>
          </a:prstGeom>
          <a:ln w="0">
            <a:noFill/>
          </a:ln>
        </p:spPr>
      </p:sp>
      <p:sp>
        <p:nvSpPr>
          <p:cNvPr id="21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Will flow from Global SG RM strategic workplan (linked to RM pla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ermany, EC, other opps—opportunitistic—engaged partner; potential donors</a:t>
            </a: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key G8 countries (Italy France, Germany Russia), most Nordic countries and Australia / New Zealand, as well as lack of TB representation and expertise in Brussels for advocacy torwards the European Commission.</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uld be civil society groups, consultant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BCs—with country SG—to operationalize </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 challenges include: Limited internal and external financial resources to fund advocacy activities in endemic and </a:t>
            </a:r>
            <a:r>
              <a:rPr b="0" lang="en-US" sz="1200" spc="-1" strike="noStrike">
                <a:solidFill>
                  <a:srgbClr val="ffffff"/>
                </a:solidFill>
                <a:latin typeface="Arial"/>
              </a:rPr>
              <a:t>	</a:t>
            </a:r>
            <a:r>
              <a:rPr b="0" lang="en-US" sz="1200" spc="-1" strike="noStrike">
                <a:solidFill>
                  <a:srgbClr val="ffffff"/>
                </a:solidFill>
                <a:latin typeface="Arial"/>
              </a:rPr>
              <a:t>donor countries; need for models for effective endemic country based TB advocacy.]</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Partnerships important on both side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Call to Stop TB to engage and ID new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3920" y="744480"/>
            <a:ext cx="4962600" cy="3722760"/>
          </a:xfrm>
          <a:prstGeom prst="rect">
            <a:avLst/>
          </a:prstGeom>
          <a:ln w="0">
            <a:noFill/>
          </a:ln>
        </p:spPr>
      </p:sp>
      <p:sp>
        <p:nvSpPr>
          <p:cNvPr id="21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dia swat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T POINT…. </a:t>
            </a:r>
            <a:r>
              <a:rPr b="0" lang="en-US" sz="1200" spc="-1" strike="noStrike">
                <a:solidFill>
                  <a:srgbClr val="ffffff"/>
                </a:solidFill>
                <a:latin typeface="Arial"/>
              </a:rPr>
              <a:t>(including new reports, studies, data - e.g., WB analysis, </a:t>
            </a:r>
            <a:r>
              <a:rPr b="0" lang="en-US" sz="1200" spc="-1" strike="noStrike">
                <a:solidFill>
                  <a:srgbClr val="ffffff"/>
                </a:solidFill>
                <a:latin typeface="Arial"/>
              </a:rPr>
              <a:t>	</a:t>
            </a:r>
            <a:r>
              <a:rPr b="0" lang="en-US" sz="1200" spc="-1" strike="noStrike">
                <a:solidFill>
                  <a:srgbClr val="ffffff"/>
                </a:solidFill>
                <a:latin typeface="Arial"/>
              </a:rPr>
              <a:t>announcements, high level events) to promote TB with high-level media and policym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planned World Bank economic-impact analysis and other new data to make the case in the media and to policymakers for increased resources and commitment on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326F09-3BEF-4A10-B736-6D1011B986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49F7BD-6B05-4C5E-9150-1DDE1954F5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B6F1EF-6A2F-45A6-B0AA-0FBB5C911E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F42CE1-CB8A-4CCA-91C6-D7987D7E35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202200-5C4D-4E2C-98A1-9C017463CB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191C6A-BF89-4BDB-8B11-5C7B20BC609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3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2DDDC89-713E-4E88-919E-9FB4940E476D}"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DEF5EB45-2A50-4CA2-A883-061C9D61122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sldNum" idx="6"/>
          </p:nvPr>
        </p:nvSpPr>
        <p:spPr/>
        <p:txBody>
          <a:bodyPr/>
          <a:p>
            <a:fld id="{991388B0-E34B-4A97-BCE3-2E8321E105B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22E2EA-8CFF-438F-9406-7B389994DB8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E16847EC-2A09-46A8-9425-F561FA2E1EE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6"/>
          </p:nvPr>
        </p:nvSpPr>
        <p:spPr/>
        <p:txBody>
          <a:bodyPr/>
          <a:p>
            <a:fld id="{FB6D38FC-9981-43BE-8350-C0D144F82D3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6"/>
          </p:nvPr>
        </p:nvSpPr>
        <p:spPr/>
        <p:txBody>
          <a:bodyPr/>
          <a:p>
            <a:fld id="{B4AAD346-DC1C-426D-B689-890C13A342D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DF4984A1-2FB6-4C19-8C93-F83C105CD65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94CF655E-900C-4A07-8353-BA078007C46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DE308231-2E6B-49F6-800A-B8EC24BAE6B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7349BCD7-27DC-45C4-9BC0-2BEC0DB00B2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sldNum" idx="6"/>
          </p:nvPr>
        </p:nvSpPr>
        <p:spPr/>
        <p:txBody>
          <a:bodyPr/>
          <a:p>
            <a:fld id="{0073D0BF-257E-409E-AB7A-D6BF4688819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sldNum" idx="6"/>
          </p:nvPr>
        </p:nvSpPr>
        <p:spPr/>
        <p:txBody>
          <a:bodyPr/>
          <a:p>
            <a:fld id="{2CE64D2A-DA7E-4F98-8182-EE9AB9DED53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45BE96-D467-4FF9-B65A-45527BE845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B641CA-774D-4728-B688-8A41562920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133A88-7AF5-435E-AB38-00B08F6B2A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C3E247-256D-46A3-9111-3EA96FEADD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73CF2C-BD7C-4E6E-B121-BAC65653CD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1" name="PlaceHolder 2"/>
          <p:cNvSpPr>
            <a:spLocks noGrp="1"/>
          </p:cNvSpPr>
          <p:nvPr>
            <p:ph type="sldNum" idx="2"/>
          </p:nvPr>
        </p:nvSpPr>
        <p:spPr>
          <a:xfrm>
            <a:off x="8813880" y="6632280"/>
            <a:ext cx="185760" cy="18288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2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1A95A763-EB71-4FB4-8948-C31D1ACD2DF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 name="PlaceHolder 3"/>
          <p:cNvSpPr>
            <a:spLocks noGrp="1"/>
          </p:cNvSpPr>
          <p:nvPr>
            <p:ph type="title"/>
          </p:nvPr>
        </p:nvSpPr>
        <p:spPr>
          <a:xfrm>
            <a:off x="43920" y="228600"/>
            <a:ext cx="8991720" cy="48780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sp>
        <p:nvSpPr>
          <p:cNvPr id="3" name="PlaceHolder 4"/>
          <p:cNvSpPr>
            <a:spLocks noGrp="1"/>
          </p:cNvSpPr>
          <p:nvPr>
            <p:ph type="body"/>
          </p:nvPr>
        </p:nvSpPr>
        <p:spPr>
          <a:xfrm>
            <a:off x="990720" y="1752480"/>
            <a:ext cx="7162560" cy="2560680"/>
          </a:xfrm>
          <a:prstGeom prst="rect">
            <a:avLst/>
          </a:prstGeom>
          <a:noFill/>
          <a:ln w="0">
            <a:noFill/>
          </a:ln>
        </p:spPr>
        <p:txBody>
          <a:bodyPr lIns="0" rIns="0" tIns="0" bIns="0" anchor="t">
            <a:normAutofit/>
          </a:bodyPr>
          <a:p>
            <a:pPr indent="0">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266760" indent="-26532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38280" indent="-35244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876240" indent="-21888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b" anchorCtr="1">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ftr" idx="3"/>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45" name="PlaceHolder 2"/>
          <p:cNvSpPr>
            <a:spLocks noGrp="1"/>
          </p:cNvSpPr>
          <p:nvPr>
            <p:ph type="title"/>
          </p:nvPr>
        </p:nvSpPr>
        <p:spPr>
          <a:xfrm>
            <a:off x="990360" y="1763640"/>
            <a:ext cx="7165800" cy="97488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grpSp>
        <p:nvGrpSpPr>
          <p:cNvPr id="46" name="McK Title Elements"/>
          <p:cNvGrpSpPr/>
          <p:nvPr/>
        </p:nvGrpSpPr>
        <p:grpSpPr>
          <a:xfrm>
            <a:off x="990720" y="4799160"/>
            <a:ext cx="7162560" cy="1906560"/>
            <a:chOff x="990720" y="4799160"/>
            <a:chExt cx="7162560" cy="1906560"/>
          </a:xfrm>
        </p:grpSpPr>
        <p:sp>
          <p:nvSpPr>
            <p:cNvPr id="47"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48"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8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8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88"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Working Group Meeting</a:t>
            </a:r>
            <a:r>
              <a:rPr b="1" lang="en-GB" sz="1100" spc="-1" strike="noStrike">
                <a:solidFill>
                  <a:srgbClr val="ffcc66"/>
                </a:solidFill>
                <a:latin typeface="Tahoma"/>
              </a:rPr>
              <a:t> </a:t>
            </a:r>
            <a:r>
              <a:rPr b="0" lang="en-GB" sz="1100" spc="-1" strike="noStrike">
                <a:solidFill>
                  <a:srgbClr val="ffcc66"/>
                </a:solidFill>
                <a:latin typeface="Tahoma"/>
              </a:rPr>
              <a:t> </a:t>
            </a:r>
            <a:endParaRPr b="0" lang="en-US" sz="1100" spc="-1" strike="noStrike">
              <a:solidFill>
                <a:srgbClr val="ffffff"/>
              </a:solidFill>
              <a:latin typeface="Arial"/>
            </a:endParaRPr>
          </a:p>
        </p:txBody>
      </p:sp>
      <p:grpSp>
        <p:nvGrpSpPr>
          <p:cNvPr id="89" name="McK Slide Elements"/>
          <p:cNvGrpSpPr/>
          <p:nvPr/>
        </p:nvGrpSpPr>
        <p:grpSpPr>
          <a:xfrm>
            <a:off x="44280" y="685800"/>
            <a:ext cx="8994960" cy="6173640"/>
            <a:chOff x="44280" y="685800"/>
            <a:chExt cx="8994960" cy="6173640"/>
          </a:xfrm>
        </p:grpSpPr>
        <p:sp>
          <p:nvSpPr>
            <p:cNvPr id="90"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1"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92" name="McK Slide Elements"/>
          <p:cNvGrpSpPr/>
          <p:nvPr/>
        </p:nvGrpSpPr>
        <p:grpSpPr>
          <a:xfrm>
            <a:off x="44280" y="685800"/>
            <a:ext cx="8994960" cy="6173640"/>
            <a:chOff x="44280" y="685800"/>
            <a:chExt cx="8994960" cy="6173640"/>
          </a:xfrm>
        </p:grpSpPr>
        <p:sp>
          <p:nvSpPr>
            <p:cNvPr id="93"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4"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dt" idx="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32" name="PlaceHolder 2"/>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D0EDE-7330-488E-A156-37D7E5A67A7F}"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3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34"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5" name="McK Title Elements"/>
          <p:cNvGrpSpPr/>
          <p:nvPr/>
        </p:nvGrpSpPr>
        <p:grpSpPr>
          <a:xfrm>
            <a:off x="990720" y="4799160"/>
            <a:ext cx="7162560" cy="1906560"/>
            <a:chOff x="990720" y="4799160"/>
            <a:chExt cx="7162560" cy="1906560"/>
          </a:xfrm>
        </p:grpSpPr>
        <p:sp>
          <p:nvSpPr>
            <p:cNvPr id="136"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37"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138" name="McK Title Elements"/>
          <p:cNvGrpSpPr/>
          <p:nvPr/>
        </p:nvGrpSpPr>
        <p:grpSpPr>
          <a:xfrm>
            <a:off x="990720" y="4799160"/>
            <a:ext cx="7162560" cy="1906560"/>
            <a:chOff x="990720" y="4799160"/>
            <a:chExt cx="7162560" cy="1906560"/>
          </a:xfrm>
        </p:grpSpPr>
        <p:sp>
          <p:nvSpPr>
            <p:cNvPr id="139"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40"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14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26920" y="4292280"/>
            <a:ext cx="7772400" cy="865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Tahoma"/>
              </a:rPr>
              <a:t>Major Challenges to Implementing the Global Plan to Stop TB 2006-2015: </a:t>
            </a:r>
            <a:br>
              <a:rPr sz="2800"/>
            </a:br>
            <a:br>
              <a:rPr sz="2800"/>
            </a:br>
            <a:r>
              <a:rPr b="1" lang="en-GB" sz="2800" spc="-1" strike="noStrike">
                <a:solidFill>
                  <a:srgbClr val="ffffff"/>
                </a:solidFill>
                <a:latin typeface="Tahoma"/>
                <a:ea typeface="Tahoma"/>
              </a:rPr>
              <a:t>Advocacy, Communications and Social Mobilisation</a:t>
            </a:r>
            <a:br>
              <a:rPr sz="2800"/>
            </a:br>
            <a:br>
              <a:rPr sz="2800"/>
            </a:br>
            <a:endParaRPr b="1" lang="en-US" sz="2800" spc="-1" strike="noStrike">
              <a:solidFill>
                <a:srgbClr val="ffffff"/>
              </a:solidFill>
              <a:latin typeface="Tahoma"/>
            </a:endParaRPr>
          </a:p>
        </p:txBody>
      </p:sp>
      <p:sp>
        <p:nvSpPr>
          <p:cNvPr id="186" name=""/>
          <p:cNvSpPr/>
          <p:nvPr/>
        </p:nvSpPr>
        <p:spPr>
          <a:xfrm>
            <a:off x="7056360" y="5229360"/>
            <a:ext cx="2087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Joanne Carte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CSM WG</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ummary of WG’s Major Challenges/Priorities</a:t>
            </a:r>
            <a:endParaRPr b="1" lang="en-US" sz="3200" spc="-1" strike="noStrike">
              <a:solidFill>
                <a:srgbClr val="ffffff"/>
              </a:solidFill>
              <a:latin typeface="Tahoma"/>
            </a:endParaRPr>
          </a:p>
        </p:txBody>
      </p:sp>
      <p:sp>
        <p:nvSpPr>
          <p:cNvPr id="188" name=""/>
          <p:cNvSpPr/>
          <p:nvPr/>
        </p:nvSpPr>
        <p:spPr>
          <a:xfrm>
            <a:off x="611280" y="1522080"/>
            <a:ext cx="8137440" cy="47865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nhancing ACSM WG (Country-level SG) capacity to support current and future country-level ACSM need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Developing 2-3 year Global SG RM/political advocacy work plan, with key taskteams and</a:t>
            </a:r>
            <a:r>
              <a:rPr b="1" lang="en-US" sz="2800" spc="-1" strike="noStrike">
                <a:solidFill>
                  <a:srgbClr val="ffffcc"/>
                </a:solidFill>
                <a:latin typeface="Arial"/>
              </a:rPr>
              <a:t> </a:t>
            </a:r>
            <a:r>
              <a:rPr b="1" lang="en-US" sz="2800" spc="-1" strike="noStrike">
                <a:solidFill>
                  <a:srgbClr val="720000"/>
                </a:solidFill>
                <a:latin typeface="Arial"/>
              </a:rPr>
              <a:t>coordination mechanisms to implement </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xpanding advocacy capacity for TB resource mobilization and policy priorities in key donor and endemic countrie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Raising TB on global media and policy agendas in the face of competition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0" y="1125360"/>
            <a:ext cx="9144000" cy="5043600"/>
          </a:xfrm>
          <a:prstGeom prst="rect">
            <a:avLst/>
          </a:prstGeom>
          <a:noFill/>
          <a:ln w="0">
            <a:noFill/>
          </a:ln>
        </p:spPr>
        <p:txBody>
          <a:bodyPr lIns="90000" rIns="90000" tIns="46800" bIns="46800" anchor="t">
            <a:normAutofit fontScale="93000"/>
          </a:bodyPr>
          <a:p>
            <a:pPr marL="566640" indent="0" algn="ctr">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Develop and support mechanism to facilitate provision of TA to countries to maximise the impact of ACSM components in GFATM grants</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Ensure continued provision of TA to countries to develop new GFATM ACSM proposals </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Coordinate partners effectively to maximise gains, reduce duplication, measure outcomes and advance knowledge/best practices of TB ACSM at country level</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trengthen support for National Partnerships</a:t>
            </a:r>
            <a:endParaRPr b="0" lang="en-US" sz="3200" spc="-1" strike="noStrike">
              <a:solidFill>
                <a:srgbClr val="720000"/>
              </a:solidFill>
              <a:latin typeface="Tahoma"/>
            </a:endParaRPr>
          </a:p>
        </p:txBody>
      </p:sp>
      <p:sp>
        <p:nvSpPr>
          <p:cNvPr id="190" name=""/>
          <p:cNvSpPr/>
          <p:nvPr/>
        </p:nvSpPr>
        <p:spPr>
          <a:xfrm>
            <a:off x="0" y="-720"/>
            <a:ext cx="4105440" cy="13737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hance ACSM WG capacity for country support— Priorities</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68360" y="1279080"/>
            <a:ext cx="7993080" cy="557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ACSM WG Global sub-group detailed workplan for </a:t>
            </a:r>
            <a:r>
              <a:rPr b="1" lang="en-US" sz="2800" spc="-1" strike="noStrike">
                <a:solidFill>
                  <a:srgbClr val="720000"/>
                </a:solidFill>
                <a:latin typeface="Arial"/>
              </a:rPr>
              <a:t>RM/political advocacy/media/M&amp;E</a:t>
            </a:r>
            <a:r>
              <a:rPr b="0" lang="en-US" sz="2800" spc="-1" strike="noStrike">
                <a:solidFill>
                  <a:srgbClr val="720000"/>
                </a:solidFill>
                <a:latin typeface="Arial"/>
              </a:rPr>
              <a:t> to rapidly raise resources and build political commitment [Target key donors, events, issues; link to existing Africa, EU, research adv. effort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fine specific Global Advocacy SG taskteams, and coordination structure; e-update; operationalize workpla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mechanisms of support for, and increased engagement of, affected commun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Hold Global SG meeting in early autum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2" name=""/>
          <p:cNvSpPr/>
          <p:nvPr/>
        </p:nvSpPr>
        <p:spPr>
          <a:xfrm>
            <a:off x="0" y="463680"/>
            <a:ext cx="5435640" cy="825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Need for  Global SG  2-3 year strategic workplan – Prioritie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1628640"/>
            <a:ext cx="9144000" cy="48564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CSM WG role and next steps in supporting development and implementation of RM strategy for R&amp;D for new TB tools/operational research.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ssess and disseminate resource tracking info.</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ine and utilize fair shares framework based on Global Plan needs and funding gaps.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nd support specific steps by the TB community to ensure GFATM financing/rd 6, coupled with increased engagement in GFATM core processes to be sure TB is prioritized.</a:t>
            </a: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
        <p:nvSpPr>
          <p:cNvPr id="194" name=""/>
          <p:cNvSpPr/>
          <p:nvPr/>
        </p:nvSpPr>
        <p:spPr>
          <a:xfrm>
            <a:off x="-324000" y="-244800"/>
            <a:ext cx="5699160" cy="161784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Global SG  2-3 year strategic workplan – Priorities continu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6" name=""/>
          <p:cNvSpPr/>
          <p:nvPr/>
        </p:nvSpPr>
        <p:spPr>
          <a:xfrm>
            <a:off x="395280" y="1199520"/>
            <a:ext cx="835344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expand resourced, globally focused, coordinated network of TB advocacy partners in targeted donor countri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ID priority donor countries and specific RM goals; partner mapping; partner support/coordination structures; support resource identification and mobilization for partner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increase advocacy capacity of civil society in targeted endemic countries (country S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 work with national and regional partners in focus countries to ID existing and potential civil society groups/coalitions including patient networks; help mobilize support for community efforts; engage National Stop TB Partnerships in building political support for TB.</a:t>
            </a:r>
            <a:endParaRPr b="0" lang="en-US" sz="2400" spc="-1" strike="noStrike">
              <a:solidFill>
                <a:srgbClr val="ffffff"/>
              </a:solidFill>
              <a:latin typeface="Arial"/>
            </a:endParaRPr>
          </a:p>
        </p:txBody>
      </p:sp>
      <p:sp>
        <p:nvSpPr>
          <p:cNvPr id="197" name=""/>
          <p:cNvSpPr/>
          <p:nvPr/>
        </p:nvSpPr>
        <p:spPr>
          <a:xfrm>
            <a:off x="0" y="-27720"/>
            <a:ext cx="5435640" cy="13737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Expand advocacy capacity for TB resource mobiliz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ioritie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468360" y="1917000"/>
            <a:ext cx="8207280" cy="3933360"/>
          </a:xfrm>
          <a:prstGeom prst="rect">
            <a:avLst/>
          </a:prstGeom>
          <a:noFill/>
          <a:ln w="0">
            <a:noFill/>
          </a:ln>
        </p:spPr>
        <p:style>
          <a:lnRef idx="0"/>
          <a:fillRef idx="0"/>
          <a:effectRef idx="0"/>
          <a:fontRef idx="minor"/>
        </p:style>
        <p:txBody>
          <a:bodyPr lIns="90000" rIns="90000" tIns="46800" bIns="46800" anchor="ctr">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Build on recent Global Plan launch successes to expand core of visible, engaged TB champion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Map out 12-18 month media strategy for key global, regional events (and national events in high priority countries) linked to RM and other ACSM prior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Support STB partnership, WHO and other partners to develop/utilize specific “products” to promote TB  with media and policymakers.</a:t>
            </a:r>
            <a:endParaRPr b="0" lang="en-US" sz="2800" spc="-1" strike="noStrike">
              <a:solidFill>
                <a:srgbClr val="ffffff"/>
              </a:solidFill>
              <a:latin typeface="Arial"/>
            </a:endParaRPr>
          </a:p>
        </p:txBody>
      </p:sp>
      <p:sp>
        <p:nvSpPr>
          <p:cNvPr id="199" name=""/>
          <p:cNvSpPr/>
          <p:nvPr/>
        </p:nvSpPr>
        <p:spPr>
          <a:xfrm>
            <a:off x="108000" y="425880"/>
            <a:ext cx="5472000" cy="9471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Competition for media, policymaker attention </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bakerl</cp:lastModifiedBy>
  <cp:lastPrinted>2004-03-17T17:37:17Z</cp:lastPrinted>
  <dcterms:modified xsi:type="dcterms:W3CDTF">2006-05-02T15:01:26Z</dcterms:modified>
  <cp:revision>257</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