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EF52-1FF1-40A0-B7F6-EACBF5929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Strategic objectives and targ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framework is designed to implement intensive, sustain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detailed communication strategies in all high-burden countr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s well as support strategies in medium-burden count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ver the next 10 years. Such work will be phased to ens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ximum strategic intensity. In the first five years of this workpla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tensive process of capacity building and strate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lanning will take place in all high-burden countries. This will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phased process, focused on five countries per yea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following strategic objectives have been identifie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08, at least 10 endemic countries will have develop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will be implementing multisectoral, participatory AC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itiatives and generating qualitative and quantitative 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CSM's contribution to TB contro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0, at least 20 priority countries will be implemen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ultisectoral, participatory-based ACSM initiatives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nitoring and evaluating their outcom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5, multisectoral, participatory ACSM methodolog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 be a fully developed component of the Stop T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ateg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5, all priority countries will be implemen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ffective and participatory ACSM initiativ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addition, a series of process targets have been identifie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middle of 2006, a detailed ACSM capacity buil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plementation plan will have been developed aimed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suring the appointment/recruitment of senior-level commun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ategists focused explicitly on tackling TB in 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gh-burden countries. Such a plan will draw heavily o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xperience, expertise and insight of NTPs and partne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end of 2006, a strategy will have been developed w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edium-burden countries detailing the communication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ecessary (including technical advice, resource mate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other mechanisms) to meet TB targets in those countri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beginning of 2006, a process will have started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m strategic agreements with international techn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upport organizations able to offer technical support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untries. By the middle of 2006 at least five of these w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ave been agreed and implementation begu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se objectives and targets will be achieved through a mi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five key strategic compone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 have developed and implement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5BE4-7CB4-410A-8471-376FE4A16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2232-0EFF-4D5C-BCB1-38C0DCEB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9AD2-2A0B-4EB0-8CB2-42ED09EF8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2BEA-F1A2-43CD-B928-4A990DF7E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40E5-04B6-4D42-97B9-8E39B2961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8899-A8A7-45DB-AEEB-70FF0C50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2CEB-C356-433D-A6F7-8AA932E2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19E3-1BDF-4876-96F3-74DB8367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4260-117E-4FC0-A271-3D4793B5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9D4E-D793-4B7D-86BC-3D0B671E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0338-13A0-4A10-B4BA-D8A87BAA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341A-2B32-474C-A5E1-FB88692B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0F36-5E7C-4002-B96A-F479074D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E13E-330C-40AE-9DD9-ED8EA047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2A81-F167-4405-A64C-494D4B48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0691-6434-4924-BEDD-4EB5EFC07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9BD8-A0FB-4039-9BE9-3C19C4037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2429-511E-405C-8C8A-D90137AC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9E0F-6C9F-4933-A871-C732B227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3ADF-F544-420C-9CF6-49262790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4DBC-2B9A-48A9-B376-23740381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BD5D-004F-4D36-AAB3-120051AC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8921-A339-480F-94EB-E667FD62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7759-E1D2-48F1-8388-040EA8C1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0829-9D82-433D-9D97-7C07B94418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D6D6-A1CB-4926-A862-54B73E8139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Advocacy, Communication and Social Mobilization Sub Group at Country Level: 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Building a Technical Assistance Networ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esentation to the Stop TB Coordinating Bo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buja 20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Funding for ACSM Technical Assistance Lagg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2060640"/>
          <a:ext cx="822960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060640"/>
                    <a:ext cx="822960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940360" y="4292640"/>
            <a:ext cx="20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$9 million gap in ASCM projected TA needs at countr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844640"/>
            <a:ext cx="26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:  USAID is the largest single donor for ACSM technical sup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566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mill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c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allenge #1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 the wake of solving the funding question, how to coordinate effectively among partners to maximise gains, reduce duplication, measure outcomes and advance ACSM pedagogy for TB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allenge #2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How to access necessary financial resources to maximise the impact of available funding from GFATM and other sources to satisfy the resources needs detailed in the Global Plan/ACSM Strategic Framework for technical cooperation among partners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evious discussions on 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4—CB meeting Beijing:  Endorsement of ISAC to respond to shortage funding for 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B/HIV:  Requested funds for operational research and policy monitorin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5—CB meeting Addis Ababa: Agreement to support countries with technical assistance to prepare 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GFATM Propos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5—CB meeting Assisi:  Discussion of a Coalition for Technical Assistance  for Laborato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6—Partners TA meeting Geneva: discussed the growing need for TA for all of technical iss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BCTA, ISAC and other channels provide needed TA but ACSM access to those funds is limit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ecis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Option A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Would the CB endorse the creation of a comprehensive range TA mechanism or facility to support all technical elements of the Stop TB Strategy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Option B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Would the CB endorse the creation of a specific mechanism for responding to the growing demand for sound TA for ACSM?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B endorse the strengthening the capacity of the secretariat to respond to the growing demand for ACSM from countrie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CSM 10-year Strategic Framework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tilization of AC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po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iscussion and dec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rategic Overview of AC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76640" y="2017800"/>
            <a:ext cx="1628640" cy="1985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92480" y="4145040"/>
            <a:ext cx="1592280" cy="19875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41880" y="20178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CSM is a new high priority technical component of the WHO Stop TB Strateg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oth the Global Plan and the ACSM 10 Year Strategic Framework call for the rapid scale-up of ACSM activities at country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$3.2 billion over the life of both plans.  $2.9 billion for countries and $133 million for international agency nee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ACSM Strategic Frame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10 year strategic framework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ve point frame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pacity buil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clusion of patients and commun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litical commitment and accoun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ational Partner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und practices and knowledge exch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62560" y="2017800"/>
            <a:ext cx="3370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The Framework for Action will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000000"/>
                </a:solidFill>
                <a:uFillTx/>
                <a:latin typeface="Tahoma"/>
              </a:rPr>
              <a:t>Objectives</a:t>
            </a:r>
            <a:r>
              <a:rPr b="0" lang="en-GB" sz="26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Improve country and partner access to timely and quality-assured technical assistance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Enable a collaborative approach to the delivery of technical assistance in support of country and partner-owned ACSM plan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Assist in the professional development of national institutions as well as national and regional ACSM professionals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195640" y="6165720"/>
            <a:ext cx="51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Only if the Framework is fully fund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targets 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08 – 10 countri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0 – 20 count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5 – ACSM methodologies will be fully a developed component of the Stop TB Strateg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5 – all priority countries implementing effective ACSM Initiatives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2268360" y="6237360"/>
            <a:ext cx="51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ly if the Framework is fully fund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tilization:  Rapid growth in ACS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1628640"/>
          <a:ext cx="8217000" cy="45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217000" cy="45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900000" y="5877000"/>
            <a:ext cx="7885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02 data as gathered from ACSM  Needs Assessment Survey of HBC'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06-2007 data gathered from HBC DOTS Expansion survey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*Plann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nding:  HBCs with GFATM funding via rounds 1-5 for ACSM activit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190520" y="2017800"/>
          <a:ext cx="775512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0520" y="2017800"/>
                    <a:ext cx="775512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187280" y="6093000"/>
            <a:ext cx="756144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2 data as gathered from ACSM  Needs Assessment Survey of HBC'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6-2007 data gathered from HBC DOTS Expansion surve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Approved grants from 5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round GFAT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Funds at Country Level via GFAT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16000" y="1915920"/>
            <a:ext cx="40388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uccessful 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round for ACSM: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$35 million over two yea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$63 million over five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Some TA budgeted for in some 5th gran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8360" y="1989000"/>
          <a:ext cx="4038480" cy="42577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untr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SM 2 year budget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in milli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glade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R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one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g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imbab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amb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raz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9T15:00:47Z</dcterms:created>
  <dc:creator>Thaddeus Pennas</dc:creator>
  <dc:description/>
  <dc:language>en-US</dc:language>
  <cp:lastModifiedBy>bakerl</cp:lastModifiedBy>
  <dcterms:modified xsi:type="dcterms:W3CDTF">2006-05-02T15:10:35Z</dcterms:modified>
  <cp:revision>1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16874898</vt:r8>
  </property>
  <property fmtid="{D5CDD505-2E9C-101B-9397-08002B2CF9AE}" pid="3" name="_AuthorEmail">
    <vt:lpwstr>francisc@who.int</vt:lpwstr>
  </property>
  <property fmtid="{D5CDD505-2E9C-101B-9397-08002B2CF9AE}" pid="4" name="_AuthorEmailDisplayName">
    <vt:lpwstr>Francis, Carole Louise</vt:lpwstr>
  </property>
  <property fmtid="{D5CDD505-2E9C-101B-9397-08002B2CF9AE}" pid="5" name="_EmailSubject">
    <vt:lpwstr>CB Presentation--Sub Group....Need your input</vt:lpwstr>
  </property>
  <property fmtid="{D5CDD505-2E9C-101B-9397-08002B2CF9AE}" pid="6" name="_NewReviewCycle">
    <vt:lpwstr/>
  </property>
  <property fmtid="{D5CDD505-2E9C-101B-9397-08002B2CF9AE}" pid="7" name="_PreviousAdHocReviewCycleID">
    <vt:r8>-1321205299</vt:r8>
  </property>
  <property fmtid="{D5CDD505-2E9C-101B-9397-08002B2CF9AE}" pid="8" name="_ReviewingToolsShownOnce">
    <vt:lpwstr/>
  </property>
</Properties>
</file>