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FEA5-7CB5-4354-AEB2-B4B6E831B19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5B52-31F3-4078-8C79-B9DD8FF633F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3B2C-1935-4AF7-83AD-F7F60FF6A67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9C35-2FCB-4B3B-8218-C8B9AC53770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774F-A89A-4840-9278-398F0C86FE1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C558-5A3E-4EF5-8515-7AB14CFA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3D88-F237-4BB3-9D9D-D624A4A8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DE95-E812-446F-AE0B-7556CDC65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F17A-55C4-4A54-8870-5F6D36474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E0ED-27A7-4513-BCD8-BA4CBD746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3655-CA7D-4E10-B6B4-9C5845B4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90AA-255C-496E-B26A-E2A20E5D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3332-873E-4839-BD9F-51FACBFD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EC13-890C-4DF7-BB20-D064B774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63F5-84A9-49B0-9C6D-048C6C1D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EE08-B7DB-4A5C-A898-9767316B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9045-2881-4F24-84A1-7B580E71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6323-4551-4F10-9C3A-B4C61AA4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DB75-A5C4-4663-94E8-037A6C86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BB91-C901-49F4-9A84-A4040AC1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A691-206D-41BE-87EC-76D0A1D4F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4FF4-94DA-47F5-85FC-B65D59642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4132-E6F6-49DB-B190-DBE20467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3A45-0E4E-4557-8FFC-643E213F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793A-0A82-47B7-82E1-A1418698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DCD9-01CB-4CB6-A55B-47697BB2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786F-5224-4146-AB5B-E0AC3B7C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D905-BFAF-4F5B-B74B-E92792D9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99DC-900B-4E99-B73E-DE24E7C2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1C54-F76F-4296-BBAC-5EA58E2A5186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CFE9-05A1-41FE-9ABC-4017FB8B100C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77738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WG on New TB Vaccines – 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where do we go from here?</a:t>
            </a:r>
            <a:br>
              <a:rPr sz="3200"/>
            </a:br>
            <a:endParaRPr b="1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Lessons from GP1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Overall objective: 5 vaccine candidates in phase I clinical trials by the end of 2005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Lesson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Sense of ownership / buy-in by partners does not com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automaticall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G must position itself more prominently as a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" 1st  stop shop " on vaccine R&amp;D matters, both inside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the TB vaccine community and to the outsid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Resource mobilization must become more professiona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Mechanisms for a more rapid response by the WG to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upcoming challenges need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A strategic "scaffold" ("roadmap"/"blueprint") for th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ide range of diverse activities is need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Challenges for GP2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Overall objective: a safe, effective licensed vaccine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available at affordable cost by 2015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	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</a:t>
            </a: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Challeng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Technical:      lacking immune surrogate of protection, diagnosis of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clinical trial endpoints, in particular in childre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Economic:     estimated cost to bring existing candidates to licensure: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US$ 600million, estimated availability : US$ 60 million 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Normative:    no regulatory capacity fro vaccine trial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in endemic countr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Participatory: few industry,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no endemic country participation i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                          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formulation of research goa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G function: Need to increase response time &amp; visibility for the W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6732720" y="609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How can the Board help?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Resource Mobilization, Advocacy, Link with the TB control community for epidemiology, laboratory, trial site selection…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Use Board links with highest levels of government as well as grassroots to create a momentum &amp; pressure &amp; ownership in endemic countries for TB vaccine develop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</a:t>
            </a: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National Plans for TB Vaccine Development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         </a:t>
            </a:r>
            <a:r>
              <a:rPr b="0" lang="en-GB" sz="32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</a:t>
            </a:r>
            <a:r>
              <a:rPr b="0" lang="en-GB" sz="3200" spc="-1" strike="noStrike">
                <a:solidFill>
                  <a:srgbClr val="990000"/>
                </a:solidFill>
                <a:latin typeface="Mistral"/>
                <a:ea typeface="宋体"/>
              </a:rPr>
              <a:t>tool (?) developmen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                                </a:t>
            </a:r>
            <a:r>
              <a:rPr b="0" lang="en-GB" sz="4000" spc="-1" strike="noStrike">
                <a:solidFill>
                  <a:srgbClr val="990000"/>
                </a:solidFill>
                <a:latin typeface="Lucida Handwriting"/>
                <a:ea typeface="宋体"/>
              </a:rPr>
              <a:t>research </a:t>
            </a:r>
            <a:r>
              <a:rPr b="0" lang="en-GB" sz="4000" spc="-1" strike="noStrike">
                <a:solidFill>
                  <a:srgbClr val="990000"/>
                </a:solidFill>
                <a:latin typeface="Mistral"/>
                <a:ea typeface="宋体"/>
              </a:rPr>
              <a:t>(?) </a:t>
            </a:r>
            <a:endParaRPr b="0" lang="en-US" sz="40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508720" y="4508640"/>
            <a:ext cx="3490560" cy="1150560"/>
            <a:chOff x="5508720" y="4508640"/>
            <a:chExt cx="3490560" cy="1150560"/>
          </a:xfrm>
        </p:grpSpPr>
        <p:sp>
          <p:nvSpPr>
            <p:cNvPr id="98" name=""/>
            <p:cNvSpPr/>
            <p:nvPr/>
          </p:nvSpPr>
          <p:spPr>
            <a:xfrm flipV="1">
              <a:off x="5572440" y="4508640"/>
              <a:ext cx="1292760" cy="61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08720" y="4584960"/>
              <a:ext cx="1358280" cy="61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766480" y="4660920"/>
              <a:ext cx="3232800" cy="84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54200" y="4738680"/>
              <a:ext cx="2781360" cy="920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828720" y="4437000"/>
            <a:ext cx="1582560" cy="649440"/>
          </a:xfrm>
          <a:prstGeom prst="rightArrow">
            <a:avLst>
              <a:gd name="adj1" fmla="val 50000"/>
              <a:gd name="adj2" fmla="val 6092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5640" y="5661000"/>
            <a:ext cx="3241440" cy="647640"/>
          </a:xfrm>
          <a:prstGeom prst="wedgeRoundRectCallout">
            <a:avLst>
              <a:gd name="adj1" fmla="val 291"/>
              <a:gd name="adj2" fmla="val -148282"/>
              <a:gd name="adj3" fmla="val 16667"/>
            </a:avLst>
          </a:prstGeom>
          <a:solidFill>
            <a:srgbClr val="ffffff"/>
          </a:solidFill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720000"/>
                </a:solidFill>
                <a:latin typeface="Tahoma"/>
              </a:rPr>
              <a:t>Inspired by the National (African) AIDS Vaccine Development Plans (AAVI)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57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The new WG Chai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  <a:ea typeface="宋体"/>
              </a:rPr>
              <a:t>Mr Michel GRECO, former CEO of Aventis (now Sanofi) Pasteu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MG is looking forward to strong interaction with the Board and counts on its suppor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TB vaccine landscape has strongly improved over the last couple of years, the TB vaccine community is more ready to act in a coordinated fashion, to optimize resources and to develop standards that should ease the prioritization process down the roa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re is a continued need to open new research avenues as it is too early to assume that existing products will make it to marke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need for and the opportunities offered must be attacked more aggressively, more research, more advocacy, more fund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secretariat will need more resources to keep up with the with the growing task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re is going to be abn increased newsflow on TB vacines over the coming years and MG is looking forward to becoming a bearer of hopefully good news to the board in the futur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bakerl</cp:lastModifiedBy>
  <cp:lastPrinted>2004-03-17T17:37:17Z</cp:lastPrinted>
  <dcterms:modified xsi:type="dcterms:W3CDTF">2006-05-02T15:03:14Z</dcterms:modified>
  <cp:revision>213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