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36ED-40AA-43EC-8BA3-6D6ECB596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A010-95DF-4D20-B0FB-EF01E8A8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9120-0937-4068-BCA3-017D14ACA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8B3B-675F-431B-B160-BDE071641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994A-4716-4548-B944-CBD103B9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BA8B-6E85-4561-81D3-18D6B2FA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102D-6609-477A-B805-F7368C2B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832E-45CF-4311-9632-A3BC823D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F8FA-4FE9-4EAF-BC26-13CCA49F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BA0D-44F7-4E3A-A414-F5A7D0CD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00C6-EE9B-4783-8D1F-5F83AB5A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2A98-7D8F-4F2D-8C1A-EC0A2B54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EF85-E0C9-40DF-8F07-358439D045A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349000"/>
            <a:ext cx="8497800" cy="180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reduce TB/HIV through effective collaboration between TB  and HIV programs and communities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84280" y="4797000"/>
            <a:ext cx="64008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&amp;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0 . . . . . 2006 . . . . . . . .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59280" y="537228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0000" y="53737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75080" y="785880"/>
            <a:ext cx="239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0 . . . 2006: progress i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policies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c Framework, Guideli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im Policy, M&amp;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illance, “Protest” less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V testing policy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services       2000 . . . 2004         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HA screened for T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. . .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~100,000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/HIV patients on 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. . . . 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,000         0.4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Monitoring &amp; evaluation starting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lag about 2-3 yea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activities grow very fast percentage 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96360" y="3500280"/>
            <a:ext cx="144360" cy="1224000"/>
          </a:xfrm>
          <a:custGeom>
            <a:avLst/>
            <a:gdLst>
              <a:gd name="textAreaLeft" fmla="*/ 42480 w 144360"/>
              <a:gd name="textAreaRight" fmla="*/ 144360 w 14436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748720" y="3500280"/>
            <a:ext cx="144360" cy="1224000"/>
          </a:xfrm>
          <a:custGeom>
            <a:avLst/>
            <a:gdLst>
              <a:gd name="textAreaLeft" fmla="*/ 0 w 144360"/>
              <a:gd name="textAreaRight" fmla="*/ 101160 w 14436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rot="20563200">
            <a:off x="5508720" y="1268280"/>
            <a:ext cx="1314360" cy="1749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20558400">
            <a:off x="6156360" y="1341360"/>
            <a:ext cx="1290600" cy="1689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rot="20595000">
            <a:off x="6803640" y="1341360"/>
            <a:ext cx="1236600" cy="1660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 rot="20613600">
            <a:off x="7308360" y="1557360"/>
            <a:ext cx="1089000" cy="1512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 rot="20583000">
            <a:off x="7740360" y="1557360"/>
            <a:ext cx="10983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0 . . . 2006: progress i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nterac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41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B/HIV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. .  2004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jointly written TB/HIV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National policy for TB/HIV testing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fer routine HIV testing for TB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Coordinating body for TB/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TB/HIV coordination body/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. . 2006: estimates substantially hig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6 . . . 2015 Key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mited engagement between key part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&lt;&gt; HIV/AI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&lt;&gt; Health System,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alth System shortcom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weakness, e.g. referral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now how’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s for SS-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cale up Community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6 . . . 2015 Key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mited engagement between key part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&lt;&gt; HIV/AI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&lt;&gt; Health System,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alth System shortcom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weakness, e.g. referral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now how’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s for SS-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cale up Community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220356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2635200"/>
            <a:ext cx="649080" cy="289080"/>
          </a:xfrm>
          <a:prstGeom prst="rightArrow">
            <a:avLst>
              <a:gd name="adj1" fmla="val 50000"/>
              <a:gd name="adj2" fmla="val 5613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357192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400536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5445000"/>
            <a:ext cx="649080" cy="289080"/>
          </a:xfrm>
          <a:prstGeom prst="rightArrow">
            <a:avLst>
              <a:gd name="adj1" fmla="val 50000"/>
              <a:gd name="adj2" fmla="val 5613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2276640"/>
            <a:ext cx="287280" cy="3960720"/>
          </a:xfrm>
          <a:prstGeom prst="downArrow">
            <a:avLst>
              <a:gd name="adj1" fmla="val 50000"/>
              <a:gd name="adj2" fmla="val 34467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92000" y="5999040"/>
            <a:ext cx="8101080" cy="398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HEALTH SYSTEM STRENGTHENING IS COMMON DENOM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4941720"/>
            <a:ext cx="863640" cy="289080"/>
          </a:xfrm>
          <a:prstGeom prst="leftArrow">
            <a:avLst>
              <a:gd name="adj1" fmla="val 50000"/>
              <a:gd name="adj2" fmla="val 74689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36600" y="4341960"/>
            <a:ext cx="2166480" cy="1008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ACCEL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OF NEW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2349000"/>
            <a:ext cx="8497800" cy="180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reduce TB/HIV through effective collaboration between TB  and HIV programs and communities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84280" y="4797000"/>
            <a:ext cx="64008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&amp;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0 . . . . . 2006 . . . . . . . .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59280" y="537228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53737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75080" y="785880"/>
            <a:ext cx="239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 rot="19624200">
            <a:off x="-96840" y="2687760"/>
            <a:ext cx="9198000" cy="12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ank you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06:58:29Z</dcterms:created>
  <dc:creator>elzingag</dc:creator>
  <dc:description/>
  <dc:language>en-US</dc:language>
  <cp:lastModifiedBy>bakerl</cp:lastModifiedBy>
  <dcterms:modified xsi:type="dcterms:W3CDTF">2006-05-02T14:59:32Z</dcterms:modified>
  <cp:revision>20</cp:revision>
  <dc:subject/>
  <dc:title>TB/HIV Challenges, Abuja </dc:title>
</cp:coreProperties>
</file>