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B56-3EBF-4BA5-81A3-97393B65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3BB-851F-4625-BD53-13F3FB1F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BC7C-866C-4F98-AB71-F8D9864F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066B-E682-499B-BE02-87F53388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186B-42B9-4B50-B040-B49EA284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94D2-B963-4C7F-BF28-0EA4C676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473F-4566-4DE0-8B3A-C3F6380E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890B-3AA2-4B36-82E0-1EA89E70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7E1B-C90E-4D84-AE57-120BE1D5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A920-A604-4EFD-8372-07D0B4E8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99CC-2CD4-4A96-9A17-D1E754EC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71A1-5B8C-4B53-91AE-A9613329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3E81-C16F-496D-9B68-120A57B6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1121-BE5C-41D8-A692-DAF82A37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FECE-525B-45F4-810B-B5BAED60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2588-9C38-42D7-96F1-BCF1D148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5163-86DD-4892-8820-89F970D4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0665-7C27-4ED6-AE1C-F26F6618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1EFA-E80B-4420-AFEB-54BEFC7D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244F-F3DE-4C9C-90B8-F0AE49B0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1B14-7D99-43DB-99B6-C5373539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126-2221-4F55-B5AA-79AC4F8C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28F3-496C-4E4B-A156-2F7CD86B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0CB3-DFC0-44E3-BC21-5EC908EF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2CDA-4796-4A83-B63F-1BDCA64FA3A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5C7B-8956-4536-B812-C319F7AB4A1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buja 24-25 April, 2006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gress on commitments made by the WHO Regional Office for Africa during the 8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2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resource mobilization for scaling up TB control activities at country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nd implement TB Strategic Information systems for Programme monitoring and evaluation at all leve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rican leadership for TB Control has been re-affi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special urgent need to strengthen the human resource and financial capacity of Programmes at country and WHO Regional office levels to intensify and scale up TB Control interven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ry ownership, partnerships and coordination of TB control interventions under the leadership of national authorities are key for su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thank you for your atten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pres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mitments made by the WHO Regional Office for Africa during the 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Coordinating Board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s undertake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allen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ay forwar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mitments made during the 8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Coordinating Board meet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ocate with African leadership for increased action against TB in the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pt a Regional Roadmap for intensifying TB Control action towards the MD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aborate with Stop TB Partnership secretariat to organize an African TB Financing Summit during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vocating with African leadership for increased action against TB in the Region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A Resolution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declaring TB an Emergency in the African Region was adopted by the 55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session of the Regional Committee for Africa in August 2005 in Mapu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RD has formally called upon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echnical and financial partners [Stop TB Partnership, IUATLD, KNCV, USAID, CDC, CIDA, etc), regional economic and technical bodies (AU, SADC, ECSA,ECOWAS, OCEAC, etc] and Ministers of Health of the African Region to support implementation of the Resoluti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ritten commitments to support operationalisation of the Resolution has been obtained from Regional economic communities including the AU, OCEAC and SAD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th technical support from WHO (AFRO &amp; HQ), the Conference of East, Central and Southern African Ministers of Health (ECSA) adopted a Resolution ratifying the Maputo declaration and committing to operationalize it at country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egional Medium term Strategic Plan for TB Control 2006-2010 is being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Regional guideline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for operationalizing the Maputo Resolution at country level are being develop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A Regional Plan of Action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r implementing the Maputo Resolution has been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ional TB Advocacy, Communication and Social Mobilization Strategy (ACSM) is being developed in collaboration with Stop TB Partnership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cess to recruit Regional TB ACSM focal point is underway with funding from the Stop TB Part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B focal points have been placed in each of AFRO’s 3 inter-country team location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priority diseases (Ouagadougou, Libreville and Hara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Costed Inter country support team (ICST) Programmes of 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2006-2007 have been elaborated with respective WRs and ICST sta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echnical support is being provided to countries and Regional Economic Communities to develop frameworks and plans of action for responding to the Res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TB declared as an emergency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in some countries and process to declare an emergency underway in oth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Emergency plans developed and launched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some countries and under development in ot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Actions undertaken: Collaborate with Stop TB Partnership secretariat to organize an African TB Financing Summit during 2006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FRO is committed to work with Stop TB Partnership to organize the financing summit within 2006 on a date and venue to be agr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lleng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ak Programme management capacity for strategic planning, monitoring and evaluation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decentralization of TB services for increased access and better coverage for maximum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human resources for implementation and scale up TB control interventions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adequate financial resources at all levels for intensified TB control activities in the Reg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1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 scale up of intensified TB control interventions in high burden countries (prevalence &gt;300 per 100,000 popul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 / build and sustain national capacity for implementation, monitoring and evaluation of intensified TB control interven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e coordination of partner interventions by national authorities through implementation of a common action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/ build partnerships for TB control at all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08:23:02Z</dcterms:created>
  <dc:creator>nkhomaw</dc:creator>
  <dc:description/>
  <dc:language>en-US</dc:language>
  <cp:lastModifiedBy>bakerl</cp:lastModifiedBy>
  <dcterms:modified xsi:type="dcterms:W3CDTF">2006-05-02T15:06:27Z</dcterms:modified>
  <cp:revision>38</cp:revision>
  <dc:subject/>
  <dc:title>TB CONTROL IN THE AFRICAN REGION</dc:title>
</cp:coreProperties>
</file>