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193B-9885-4D9E-ABFA-F1D17A648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current assesment of what product delivery 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FE45-B8C7-4339-BF9B-9DC95A02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751-1D43-497C-BA7B-562D6BDD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609B-B59B-43A0-994B-CF998E36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2A23-37A9-432A-9D87-C08A9647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7BBE-1E2C-44A3-BE28-B97C5E16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A826-AE05-465E-9E4F-2136FF10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B3C4-EA14-4B13-8D0F-2A999215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20EB-57CC-474D-A0AD-F6A3E2B8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40AF-5B98-41ED-96B1-088CB781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49EE-D6DC-4998-876D-2EEFDD5A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6554-E62A-413F-B66D-6C8D125A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A37A-03B1-4035-A07D-96EE46BC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2669-2440-446D-A7CC-409E7F23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6A72-4B87-48C7-93E6-00FB7627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8876-E352-499F-A241-7444DCAC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EDC8-82B1-45DF-BB96-159A1F584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6C5F-C511-4362-BDBA-A5C89491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6149-6C3B-4C86-AB82-F242A48B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4DD8-B5ED-46B6-B6AB-23061E0B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6C06-1E88-4054-B498-2C1764FA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4D37-9165-4D7D-987F-5CD84DE7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40F1-BE3C-4EAC-B86D-1F6432BB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851A-710E-4241-907C-FFAB5EEA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6F8D-4CD8-4E52-87CB-9A167C3E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994B-FF77-4966-BAF5-AC7319B8EFD5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1F65-20D0-4F4B-9DD2-DCF91714DBE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Building Momentum for </a:t>
            </a:r>
            <a:r>
              <a:rPr b="1" i="1" lang="en-US" sz="3600" spc="-1" strike="noStrike">
                <a:solidFill>
                  <a:srgbClr val="ffffcc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op TB Partnership CB Meetin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uja, Niger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ril 24,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200" y="12492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Mi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2924280"/>
            <a:ext cx="76662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Facilitate adoption and introduction of new tools as they become avail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Activit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Develop work plan and tim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WGs’ information pipelin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gage stakeholders from HBCs (MOH, NGOs, affected communiti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Help mobilize financial and human resour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lessons learned from other areas (GAVI, malaria, etc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cilitate operations research on introduction of new too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Generate evidence to support adoption of new too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st track incorporation into WHO and national guid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hance communication among WGs on retool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8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Composi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Chair(s)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xperience with new tools and country-level implementation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mbership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ing Groups (including key sub-group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mmunity and donor represent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etooling experts from other disease commun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opic-specific experts (periodic inpu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ackground paper/inventory of key issues faced by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 and country-level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AVI, malaria, oth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ace to face meeting to develo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obust 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im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ving Forw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active support from each of the 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financial and secretariat support for meetings of task for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cknowledg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176560" y="388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3284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Special thanks go to the RTF for providing the supporting material for this presentation.</a:t>
            </a:r>
            <a:r>
              <a:rPr b="0" lang="en-US" sz="28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urrent Membershi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Memb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Christy Hanson, USAID (dono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arbara Laughon, NIAID (TB/HIV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Aziz Mohamed, StopTB/WHO (lab sub group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Vinand Nantulya, FIND (diagnostic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kushi Onozaki, RTI/JATA (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Nina Schwalbe, TB Alliance (drug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rite Holm Sorenson, World Bank (poverty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Javid Syed, TAG (communit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Karin Weyer, SA-MRC (MD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atrick Zuber, EPI/WHO (vaccin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retariat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achel Bauquerez, Stop TB Partnership</a:t>
            </a: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hilip Onyebujoh, IRM/TD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630560" y="6165720"/>
            <a:ext cx="151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20000"/>
                </a:solidFill>
                <a:latin typeface="Arial"/>
              </a:rPr>
              <a:t>* Interim co-chai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0968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00" y="476280"/>
            <a:ext cx="887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urrent Estimate of Tool Deliver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24360" y="2030400"/>
            <a:ext cx="3816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87640" y="2030400"/>
            <a:ext cx="126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003400"/>
            <a:ext cx="8991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7478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&lt; 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17352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7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64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062080"/>
            <a:ext cx="0" cy="508500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2016000"/>
            <a:ext cx="0" cy="51580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6764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56360" y="1747800"/>
            <a:ext cx="60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18600" y="1747800"/>
            <a:ext cx="76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4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030400"/>
            <a:ext cx="4284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236000" y="2030400"/>
            <a:ext cx="288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01000" y="2030400"/>
            <a:ext cx="270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34960" y="2131920"/>
            <a:ext cx="7781760" cy="735120"/>
            <a:chOff x="534960" y="2131920"/>
            <a:chExt cx="7781760" cy="735120"/>
          </a:xfrm>
        </p:grpSpPr>
        <p:sp>
          <p:nvSpPr>
            <p:cNvPr id="114" name=""/>
            <p:cNvSpPr/>
            <p:nvPr/>
          </p:nvSpPr>
          <p:spPr>
            <a:xfrm>
              <a:off x="534960" y="2251080"/>
              <a:ext cx="66672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be7960"/>
                  </a:solidFill>
                  <a:latin typeface="Arial"/>
                </a:rPr>
                <a:t>Vaccine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5968800" y="2131920"/>
              <a:ext cx="2347920" cy="735120"/>
              <a:chOff x="5968800" y="2131920"/>
              <a:chExt cx="2347920" cy="735120"/>
            </a:xfrm>
          </p:grpSpPr>
          <p:sp>
            <p:nvSpPr>
              <p:cNvPr id="116" name=""/>
              <p:cNvSpPr/>
              <p:nvPr/>
            </p:nvSpPr>
            <p:spPr>
              <a:xfrm>
                <a:off x="5968800" y="2131920"/>
                <a:ext cx="2347920" cy="73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e7960"/>
                    </a:solidFill>
                    <a:latin typeface="Arial"/>
                  </a:rPr>
                  <a:t>New TB Vaccine </a:t>
                </a:r>
                <a:br>
                  <a:rPr sz="1800"/>
                </a:b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224480" y="2533680"/>
                <a:ext cx="201600" cy="182520"/>
              </a:xfrm>
              <a:prstGeom prst="diamond">
                <a:avLst/>
              </a:prstGeom>
              <a:solidFill>
                <a:srgbClr val="be7960"/>
              </a:solidFill>
              <a:ln w="19080">
                <a:solidFill>
                  <a:srgbClr val="be79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>
            <a:off x="1828800" y="30924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fer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4800" y="3214800"/>
            <a:ext cx="6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9900"/>
                </a:solidFill>
                <a:latin typeface="Arial"/>
              </a:rPr>
              <a:t>Diagnost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2920" y="31068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eriphe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365112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34040" y="3121200"/>
            <a:ext cx="18176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oint of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8748720" y="2065320"/>
            <a:ext cx="14400" cy="5081760"/>
          </a:xfrm>
          <a:prstGeom prst="line">
            <a:avLst/>
          </a:prstGeom>
          <a:ln w="5400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4000" y="4081320"/>
            <a:ext cx="8700840" cy="734760"/>
            <a:chOff x="324000" y="4081320"/>
            <a:chExt cx="8700840" cy="734760"/>
          </a:xfrm>
        </p:grpSpPr>
        <p:sp>
          <p:nvSpPr>
            <p:cNvPr id="125" name=""/>
            <p:cNvSpPr/>
            <p:nvPr/>
          </p:nvSpPr>
          <p:spPr>
            <a:xfrm>
              <a:off x="324000" y="429552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3300"/>
                  </a:solidFill>
                  <a:latin typeface="Arial"/>
                </a:rPr>
                <a:t>Drug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075280" y="4081320"/>
              <a:ext cx="1287360" cy="734760"/>
              <a:chOff x="5075280" y="4081320"/>
              <a:chExt cx="1287360" cy="734760"/>
            </a:xfrm>
          </p:grpSpPr>
          <p:sp>
            <p:nvSpPr>
              <p:cNvPr id="127" name=""/>
              <p:cNvSpPr/>
              <p:nvPr/>
            </p:nvSpPr>
            <p:spPr>
              <a:xfrm>
                <a:off x="5075280" y="4081320"/>
                <a:ext cx="128736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Single New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45240" y="4497120"/>
                <a:ext cx="20160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207200" y="4081320"/>
              <a:ext cx="1817640" cy="734760"/>
              <a:chOff x="7207200" y="4081320"/>
              <a:chExt cx="1817640" cy="734760"/>
            </a:xfrm>
          </p:grpSpPr>
          <p:sp>
            <p:nvSpPr>
              <p:cNvPr id="130" name=""/>
              <p:cNvSpPr/>
              <p:nvPr/>
            </p:nvSpPr>
            <p:spPr>
              <a:xfrm>
                <a:off x="7207200" y="4081320"/>
                <a:ext cx="181764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New Multi-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Regime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634240" y="4497120"/>
                <a:ext cx="20196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3059280" y="2062080"/>
            <a:ext cx="31680" cy="514836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6068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6360" y="36464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10160" y="6553080"/>
            <a:ext cx="454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dapted from a presentation by Dr. Peter Small, BMG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etting the Stag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etter diagnostics, drugs and vaccines are coming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ols are only effective if us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option must be planned and support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5372280"/>
            <a:ext cx="828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20000"/>
                </a:solidFill>
                <a:latin typeface="Tahoma"/>
              </a:rPr>
              <a:t>Adoption, implementation and use of new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92400" y="492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0560" y="4797360"/>
            <a:ext cx="22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20000"/>
                </a:solidFill>
                <a:latin typeface="Tahoma"/>
              </a:rPr>
              <a:t>Ret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eedback Loop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DRUGS)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448240" cy="5572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56000" y="1916280"/>
            <a:ext cx="4248000" cy="3889080"/>
          </a:xfrm>
          <a:prstGeom prst="ellipse">
            <a:avLst/>
          </a:prstGeom>
          <a:solidFill>
            <a:srgbClr val="ff9900">
              <a:alpha val="23000"/>
            </a:srgbClr>
          </a:soli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Arial"/>
              </a:rPr>
              <a:t>ADVOCACY &amp; POLI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llustrative Engagement Matrix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11280" y="1844640"/>
          <a:ext cx="8076960" cy="4287960"/>
        </p:xfrm>
        <a:graphic>
          <a:graphicData uri="http://schemas.openxmlformats.org/drawingml/2006/table">
            <a:tbl>
              <a:tblPr/>
              <a:tblGrid>
                <a:gridCol w="1615680"/>
                <a:gridCol w="1616400"/>
                <a:gridCol w="1612800"/>
                <a:gridCol w="1616040"/>
                <a:gridCol w="161604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artners in new tools introdu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volv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im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em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upp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or to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Upon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NT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gulatory agenc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echnical agencies providing technical assist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search partn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vate sector (associations, provider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mmun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ono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28036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Directly links R&amp;D, implementation and advoca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any stakeholders must be involved for succes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95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top TB Partnership uniquely positioned to serve as a model for retooling in public healt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042920" y="5229360"/>
            <a:ext cx="7029360" cy="581400"/>
            <a:chOff x="1042920" y="5229360"/>
            <a:chExt cx="7029360" cy="581400"/>
          </a:xfrm>
        </p:grpSpPr>
        <p:sp>
          <p:nvSpPr>
            <p:cNvPr id="149" name=""/>
            <p:cNvSpPr/>
            <p:nvPr/>
          </p:nvSpPr>
          <p:spPr>
            <a:xfrm>
              <a:off x="2030400" y="5229360"/>
              <a:ext cx="604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ahoma"/>
                </a:rPr>
                <a:t>GP II did not address retooling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42920" y="5302080"/>
              <a:ext cx="976320" cy="485280"/>
            </a:xfrm>
            <a:prstGeom prst="rightArrow">
              <a:avLst>
                <a:gd name="adj1" fmla="val 50000"/>
                <a:gd name="adj2" fmla="val 5029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reating the Link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Board recognized the gap and created the Retooling Task Force (RTF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RTF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WG chairs and Secretariat recommended memb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cretariat supports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roposed Terms of Reference (TOR) developed by RTF Member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resentation to the BOD for input and feedbac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TF Request to Bo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s the task force the appropriate mechanism to deal with re-tooling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re the content and the TOR on target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0920" y="299700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0000"/>
                </a:solidFill>
                <a:latin typeface="Tahoma"/>
              </a:rPr>
              <a:t>PROPOSED 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mfreire</cp:lastModifiedBy>
  <dcterms:modified xsi:type="dcterms:W3CDTF">2006-04-22T19:15:29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