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A061-72E4-4B1F-806F-741BCA95F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669A-F3EB-4AF8-BB8F-98243F5A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7196-3000-4C1D-97D2-12B8A517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A85E-18E8-4208-AEC1-159CDC52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ACC7-3F24-44B1-BF93-362C3D73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B0B2-4A69-4EA1-9CD1-E307FD2B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5B96-4DF8-4F37-9678-F7307C81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C63D-7B16-4401-943D-FC9EAD87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7CA3-0287-4570-9E65-980471D9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A953-F1D0-484E-BF05-7B4D6A25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E06B-CE4B-4846-9AB4-A979F7E6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3B1A-BFC5-4B96-9F71-7AE84B87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079A-ADE6-4F95-82C2-8DC3CD2D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FC3B-D677-492F-8622-22219A97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A6EA-FEBD-4060-99EF-FFA5E198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8495-9A73-4FB4-97B0-4CDD6F3D3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4233-90B2-4E5F-B50E-6C43876B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7540-777C-4F05-A14E-92A5126D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1640-6168-448F-ADE3-01500202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65BF-AAAE-4CDF-B97E-D830EA98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6CF0-94F1-4E18-A715-CF5E3371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ACEF-68CC-4251-ADD3-DB172070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F5AE-7D99-4209-BEDB-A869A9D5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B827-1940-439B-8C6D-23F067BE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8E06-F9FC-4CD2-8615-682CEA700DD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EBEF-090D-43EB-B566-ACB5A39D8E3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Overcoming Challenges to Implementing the Global Plan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e Cunning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ariat, STOP TB Working Group on New Diagno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792000"/>
          <a:ext cx="9144000" cy="6066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2000"/>
                    <a:ext cx="9144000" cy="60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0" y="304920"/>
            <a:ext cx="9036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rgets for Test Introduction Leading to Sustainable Adop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9999"/>
                </a:solidFill>
                <a:latin typeface="Arial"/>
              </a:rPr>
              <a:t>Engaging Industry  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level awarenes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&amp;D co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ulatory hurd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 distrib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or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 into policy chang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ing TB to HIV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 sector funding for basic and use-inspired rese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 analysis repo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ailed study in 7 HB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Drug Facility Mod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 and lab systems strengthen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ong international convening power and influe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9000" y="1146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ta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5880" y="10666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9999"/>
                </a:solidFill>
                <a:latin typeface="Arial"/>
              </a:rPr>
              <a:t>Technical &amp; Financial Challenges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 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biological challe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ies fai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cos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ublic sector funding for basic rese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portfolio must be risk-balanced comprising multiple options at each leve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ial commitments covering the entire planning phase of the projec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49000" y="1146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ta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6240" y="106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9999"/>
                </a:solidFill>
                <a:latin typeface="Arial"/>
              </a:rPr>
              <a:t>Organizational iss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nsition from an "interest group" that promotes network building…..to a "working group" will require dedicated staff tied to milestones and deliver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posed subgroups – latent TB infection, diagnostic trials, market entry, advocacy, use-inspired researc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9999"/>
                </a:solidFill>
                <a:latin typeface="Arial"/>
              </a:rPr>
              <a:t>STOP TB Coordinating Board Respon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dorse and advocate for research for new diagnostic tool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velop and operationalize 're-tooling' concep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inancial investment that spans broad areas of research and  spans the full development path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sponsive to new knowledge====changes in polic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11:54:49Z</dcterms:created>
  <dc:creator>cunninghamj</dc:creator>
  <dc:description/>
  <dc:language>en-US</dc:language>
  <cp:lastModifiedBy>bakerl</cp:lastModifiedBy>
  <dcterms:modified xsi:type="dcterms:W3CDTF">2006-05-02T15:02:36Z</dcterms:modified>
  <cp:revision>20</cp:revision>
  <dc:subject/>
  <dc:title>Overcoming Challenges to Implementing the Global Plan </dc:title>
</cp:coreProperties>
</file>