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4560" y="425232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432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764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072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456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764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072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188640"/>
            <a:ext cx="7162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432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1575" b="89325"/>
          <a:stretch/>
        </p:blipFill>
        <p:spPr>
          <a:xfrm>
            <a:off x="7236000" y="1109520"/>
            <a:ext cx="1873080" cy="26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1125360"/>
            <a:ext cx="752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8931" b="0"/>
          <a:stretch/>
        </p:blipFill>
        <p:spPr>
          <a:xfrm>
            <a:off x="-12600" y="0"/>
            <a:ext cx="1450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6600" y="140796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Century Gothic"/>
              </a:rPr>
              <a:t>LAUNCHING</a:t>
            </a:r>
            <a:br>
              <a:rPr sz="3600"/>
            </a:b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373720"/>
            <a:ext cx="66564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r François Bonnic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lobal Health Initiative, World Economic Foru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51400" y="2131920"/>
            <a:ext cx="2833560" cy="139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0240" y="3686040"/>
            <a:ext cx="53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7 Januar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nual Meeting in Davos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6199" b="0"/>
          <a:stretch/>
        </p:blipFill>
        <p:spPr>
          <a:xfrm>
            <a:off x="6659640" y="189000"/>
            <a:ext cx="2305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ndate &amp; Objectiv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andate given by board in Assisi to launch Global Plan at Annual Meeting in Davo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generate maximum global media interest in the announcement of the Global Plan in conjunction with parallel launch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secure Bill Gates, a G8 leader and an African leader to back the Global Plan in a high profile press ev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establish media interest for parallel launch events and for a strong year of advoc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659640" y="189000"/>
            <a:ext cx="2305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98320" y="188640"/>
            <a:ext cx="752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orld leaders publicly commit to 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6459" t="0" r="0" b="0"/>
          <a:stretch/>
        </p:blipFill>
        <p:spPr>
          <a:xfrm>
            <a:off x="1612800" y="1413000"/>
            <a:ext cx="73915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28880" y="5819760"/>
            <a:ext cx="59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is Plan makes a compelling case for greater investment in TB. We're willing to triple our funding for TB, and we urge others to do the same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4845" t="0" r="0" b="8617"/>
          <a:stretch/>
        </p:blipFill>
        <p:spPr>
          <a:xfrm>
            <a:off x="1539720" y="4998960"/>
            <a:ext cx="1227240" cy="151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3848040"/>
            <a:ext cx="59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f 2005 was the year of commitment then 2006 must be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ar of delivery."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 hope that the G8 will make fighting TB a top priority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4308"/>
          <a:stretch/>
        </p:blipFill>
        <p:spPr>
          <a:xfrm>
            <a:off x="1546200" y="3156120"/>
            <a:ext cx="1204920" cy="158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1989720"/>
            <a:ext cx="59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We hope that the African Union will endorse this Plan, and call upon African governments to commit their share of resources needed to implement i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1224000" cy="16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15640" y="319896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t Hon Gordon Brown MP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hancellor of the Excheq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3840" y="501336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ill Gates Jr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-Founder, Bill &amp; Melinda Gates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34784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E Olusegun Obasanjo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esident of 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8320" y="188640"/>
            <a:ext cx="752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orld leaders publicly commit to 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4560" y="153828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ewspap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ore than 330 press articles in major papers and online newspapers worldwi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Televis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BBC TV, CNN, CNBC, oth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Webcas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Watched several thousand times through the interne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adio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Gordon Brown on Today programme on BBC Radio 4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arcos Espinal – various Radio interviews eg. Voice of America, Radio South Afric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729480" y="174600"/>
            <a:ext cx="2328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All Stop TB Partners who developed Global Pl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Coordinating Boa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Bill &amp; Melinda Gates Found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Stop TB Partnership Secretari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Ketchum and Global Health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Advocacy partner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565632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this plan, these powerful new tools and the resources to do the job, we will break the back of the global TB epidemi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96640" y="48988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r Marcos Espinal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xecutive Secretary, Stop TB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76440" y="4854600"/>
            <a:ext cx="1365120" cy="158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6199" b="0"/>
          <a:stretch/>
        </p:blipFill>
        <p:spPr>
          <a:xfrm>
            <a:off x="6751800" y="195120"/>
            <a:ext cx="2328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676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do more for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Stop TB Partnership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735600" y="231840"/>
            <a:ext cx="2329200" cy="74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60600" y="1552680"/>
            <a:ext cx="7669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xplore a framework with secretariat for further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leverage private sector str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for advocacy at World Economic Forum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 …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39:55Z</dcterms:created>
  <dc:creator>FRB</dc:creator>
  <dc:description/>
  <dc:language>en-US</dc:language>
  <cp:lastModifiedBy>François Bonnici</cp:lastModifiedBy>
  <dcterms:modified xsi:type="dcterms:W3CDTF">2006-04-24T09:36:16Z</dcterms:modified>
  <cp:revision>127</cp:revision>
  <dc:subject/>
  <dc:title>Global Plan Launch at Davos</dc:title>
</cp:coreProperties>
</file>