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D73C-AAAE-49F1-91FE-F492338E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004F-0A0B-46DF-A2CB-918AD485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A00E-E4CD-482A-AE74-707C9352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5D95-79E6-453A-BE97-970E4E8A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43E5-5D5A-4086-BBE4-2332DF1B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E6F9-DAA6-48B9-87E0-A5BA0B30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F018-0E66-4A24-8927-4A304F54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A414-5670-416A-9AFB-D63AFE7F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2A20-48F0-47E5-A023-C6D1C460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7A04-6468-40EA-9EB9-D2C25449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DBE0-03E8-438E-B74C-4A426F00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FE2C-A11C-4EEB-AAE7-EFA2E335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F23D-9A6E-43CF-ACF7-E578616E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BB7A-85BA-42C1-87A9-C753DDB2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627E-2309-4F9F-8E0C-300F6D49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225E-B2DF-4F5E-A0C4-F81CB670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8FFF-C844-4A6C-9FE7-C74B2854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568-63CC-4125-8BCC-BB899F45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43EE-43C6-4E02-A25D-92A38138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6A48-3044-4999-BFBE-4AA91EA2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4094-B80F-4827-84D1-D7D3399F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F4EC-A9BF-47B4-975D-3ED626E2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BC74-C973-43F8-8882-3DAF5A21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9861-B03B-4083-BCE0-A090684E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D025-F421-490F-9553-293C116006C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9536-A0FD-478A-A98F-00CCE0AC530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buja 24-25 April, 2006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gress on commitments made by the WHO Regional Office for Africa during the 8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2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resource mobilization for scaling up TB control activities at country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nd implement TB Strategic Information systems for Programme monitoring and evaluation at all leve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rican leadership for TB Control has been re-affi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special urgent need to strengthen the human resource and financial capacity of Programmes at country and WHO Regional office levels to intensify and scale up TB Control interven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ry ownership, partnerships and coordination of TB control interventions under the leadership of national authorities are key for su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thank you for your atten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pres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mitments made by the WHO Regional Office for Africa during the 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Coordinating Board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s undertake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allen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ay forwar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mitments made during the 8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Coordinating Board meet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ocate with African leadership for increased action against TB in the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pt a Regional Roadmap for intensifying TB Control action towards the MD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aborate with Stop TB Partnership secretariat to organize an African TB Financing Summit during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vocating with African leadership for increased action against TB in the Region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A Resolution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declaring TB an Emergency in the African Region was adopted by the 55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session of the Regional Committee for Africa in August 2005 in Mapu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RD has formally called upon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echnical and financial partners [Stop TB Partnership, IUATLD, KNCV, USAID, CDC, CIDA, etc), regional economic and technical bodies (AU, SADC, ECSA,ECOWAS, OCEAC, etc] and Ministers of Health of the African Region to support implementation of the Resoluti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ritten commitments to support operationalisation of the Resolution has been obtained from Regional economic communities including the AU, OCEAC and SAD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th technical support from WHO (AFRO &amp; HQ), the Conference of East, Central and Southern African Ministers of Health (ECSA) adopted a Resolution ratifying the Maputo declaration and committing to operationalize it at country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egional Medium term Strategic Plan for TB Control 2006-2010 is being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Regional guideline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for operationalizing the Maputo Resolution at country level are being develop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A Regional Plan of Action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r implementing the Maputo Resolution has been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ional TB Advocacy, Communication and Social Mobilization Strategy (ACSM) is being developed in collaboration with Stop TB Partnership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cess to recruit Regional TB ACSM focal point is underway with funding from the Stop TB Part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B focal points have been placed in each of AFRO’s 3 inter-country team location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priority diseases (Ouagadougou, Libreville and Hara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Costed Inter country support team (ICST) Programmes of 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2006-2007 have been elaborated with respective WRs and ICST sta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echnical support is being provided to countries and Regional Economic Communities to develop frameworks and plans of action for responding to the Res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TB declared as an emergency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in some countries and process to declare an emergency underway in oth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Emergency plans developed and launched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some countries and under development in ot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Actions undertaken: Collaborate with Stop TB Partnership secretariat to organize an African TB Financing Summit during 2006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FRO is committed to work with Stop TB Partnership to organize the financing summit within 2006 on a date and venue to be agr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lleng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ak Programme management capacity for strategic planning, monitoring and evaluation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decentralization of TB services for increased access and better coverage for maximum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human resources for implementation and scale up TB control interventions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adequate financial resources at all levels for intensified TB control activities in the Reg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1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 scale up of intensified TB control interventions in high burden countries (prevalence &gt;300 per 100,000 popul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 / build and sustain national capacity for implementation, monitoring and evaluation of intensified TB control interven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e coordination of partner interventions by national authorities through implementation of a common action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/ build partnerships for TB control at all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08:23:02Z</dcterms:created>
  <dc:creator>nkhomaw</dc:creator>
  <dc:description/>
  <dc:language>en-US</dc:language>
  <cp:lastModifiedBy>bakerl</cp:lastModifiedBy>
  <dcterms:modified xsi:type="dcterms:W3CDTF">2006-05-02T15:06:27Z</dcterms:modified>
  <cp:revision>38</cp:revision>
  <dc:subject/>
  <dc:title>TB CONTROL IN THE AFRICAN REGION</dc:title>
</cp:coreProperties>
</file>