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9D6F-5264-4274-8899-6962FA17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4E0C-48D2-42D2-B6DE-849C58B0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D3CE-2C08-404D-8738-192C7C6BD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DD9F-81E3-4CB1-B04B-6B689B71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4631-D373-4F44-A38C-F19402AE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4952-95CA-47AF-A818-0B775CE2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9221-B685-4B98-BE5C-7003CDC0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B994-40BA-44F8-9BF3-38017327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7820-A5AC-455F-A04C-C0A345D2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018D-BC77-439F-A0AD-681F1A3B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9E80-561F-4711-BE72-CD084A4F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3750-26D5-4246-ABAE-CAA68BD0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722E-A75C-425C-8772-FD97D0D8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058A-8E0F-4DA9-8B57-E9E1AC89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F257-B4CB-4B4D-9DA0-BE5C4218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5958-F6E1-43E6-A1EE-9341CE71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E643-0F72-4ACC-AF4A-3228E289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ACFB-A9A1-40DC-96AD-146ECBF3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2F3F-7E3E-43A3-A473-F2344045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4DDD-71A2-4442-A033-46751888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56E7-9600-4159-8A95-01E40FFA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F8FA-7458-48D7-9A8C-DA8ADB2C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12DA-6D17-4756-82FA-73B29A6A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5B57-E719-407E-8A18-63D2848E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2D62-2AE7-40BA-8FA3-516619C76C3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148E-FFDB-42B7-B166-50A42F6C45E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nnual Report 2005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r Marcos Espial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buja Coordinating Board Meeting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24 25 April 2006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Meetings in Ethiopia and Ita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teleconference to discuss G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our Executive Committee Teleconferen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biennial Secretariat work plan 2006-2007 was prepared and approved by both the CB and WHO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alf of the staff are in secured job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Financial Position (US$ Millions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2004          2005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tal Income         23.8             34.4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xpenditure           14.7             36.6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rplus/Deficit        9.1            (2,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Note: Deficit covered by brought forward balance from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81952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gaging Partners including NGOs and the communities affected by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bilising the GP resour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uring deeper, sustained,  donor support from curr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stablishing a broader base of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curing the other half of the staff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rtners Forum, External Evaluation, Global Plan follow-up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DF and GLC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vocacy, Communication and S. Mobilis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nancial Posi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52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1500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artnership continued to expand during 200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y end 2005 it had 463 memb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294 NGO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0 Donor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4  Govern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3 Intergovernment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48 Academic institu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0 Commerci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Two new partnerships: Peru and in the Islamic Republic of Iran were forme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Partnership Building and ACSM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89760" indent="0" algn="ctr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Engagement with Partn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CTION project let by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SULT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parliamentary outreach and stakeholder mobilisation in some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B Media Fellowships project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anos Institute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quality coverage of TB issue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op TB e-forum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HDNet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stimulate global dialogue on TB issues and mobilize stakeholder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WEF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engagement to launch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Building Commitment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Through High level Miss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Botswan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endorsement of WHO AFRO Emergency Declaration by the African Un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Ethiop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ime Minister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and Minister of Health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dones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Minister of Health, MPs, and Partner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taly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Undersecretary of Foreign Affairs – Stop TB Italy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ozambique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WHO RC – Emergency Declarat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Global Media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High-profile media events for WTBD in Paris, London and Ottawa (Mar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dia story for TB African Emergency declaration by WHO-RC (Aug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Events planned to launch Global Plan in several cities around the world (Jan06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61320" indent="0" algn="ctr">
              <a:lnSpc>
                <a:spcPct val="11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Country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Helping countries to develop robust ACSM components for GFATM/R5 ($35 million for 12 countries – 2 year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Regional and sub-regional ACSM training workshops in AFRO, AMRO, EMRO, EURO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Information materials for countries: GFATM planning framework, introductory ACSM primer, needs assessment tool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457200" y="-360"/>
            <a:ext cx="574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136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Global Plan to Stop TB 2006-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unding available to the seven Working Groups for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ocal point within the Secretariat to facilitate process and coordin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ctive participation in the WGs annual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Detailed WGs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2560" y="134100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mand for GDF continued to grow strongly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nnual GDF procurement for grants stood at a record $28.5m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ders placed through Direct Procurement Service grew to $13.4 million ($6.6 million in 2004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number of countries using GDF Direct Procurement Service went up to 25 (19 countries through 2004)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main beneficiaries were low income countries that fulfilled the GDF “Conditions of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LC/GDF procurement function converg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5T15:50:36Z</cp:lastPrinted>
  <dcterms:modified xsi:type="dcterms:W3CDTF">2006-05-02T15:30:47Z</dcterms:modified>
  <cp:revision>14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