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CE25-23C0-4AF9-92B8-35D50D0B6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7DC9-189E-4E55-A75B-035988BAB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2F9B-E693-41A7-A05C-018992A99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AC72-9DF4-4169-9CBC-6DF2A2DA0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ACFC8-BB8C-4B59-A359-2FBACD064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2428C-1F68-4ED3-BFFE-16BF0BFFC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0AED1-26E9-47AC-BF5D-09A3F31F9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390EF-AD22-4D3A-A797-D1318E76F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234B0-84CC-4645-9AEE-FD077CA48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015B9-E4E3-4F5C-9967-53FA0CBA9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9F9B7-B1BC-4AB5-B670-C80998D8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FC18-B7D4-4C5C-90A1-759BCD180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0CE84-6470-472B-B873-E0F786E4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CB63F-42CD-4C65-8632-5F56936B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CB168-ED96-4F18-A71F-9FCF923BC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3D687-C45C-4DE7-B74A-AC151CB5B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B3429-CFE0-49C5-B770-95584375D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16D8-17F9-49B9-9509-C7192A291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2CB6-8456-436A-A056-E93B6110C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2739-85B4-4BB6-A731-E6A79C908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D1C8-794F-46C8-8557-5CB90114A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0B23-7C06-4807-932C-BF79F634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05C5-D8E9-4B54-B9CB-5F132288F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46FD-0956-4A0A-9713-42E680537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7B655-F5E3-421B-A63E-1A8E086165F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C29A5-BE55-486F-807B-BAE3BC3B779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"/>
              </a:rPr>
              <a:t>DEWG – 3 challenges and possible action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Jeremiah Chakaya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Chair 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66"/>
                </a:solidFill>
                <a:latin typeface="Arial"/>
              </a:rPr>
              <a:t>Léopold Blanc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66"/>
                </a:solidFill>
                <a:latin typeface="Arial"/>
              </a:rPr>
              <a:t>Secretar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Status of regional planning </a:t>
            </a:r>
            <a:br>
              <a:rPr sz="2800"/>
            </a:b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following the launch of the GPSTB2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00000" y="256500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Four out of 6 ROs – incorporated Stop TB Strategy into Regional Strategic Plans and used the frame of the global pla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MRO, EMRO, SEARO, WPRO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EURO – in preparation (previous plan up to 2006)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FRO – focus on the emergency plan outlined in the blue pri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Status of sub-groups plans </a:t>
            </a:r>
            <a:br>
              <a:rPr sz="2800"/>
            </a:b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following the launch of the GPSTB2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00000" y="256500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B-Poverty plan ready and discussed in teleconference of DEWG core grou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Lab plan ready and discussed among sub-group memb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PPM plan in preparatio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ildhood TB: no plan prepar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76176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Status of country planning </a:t>
            </a:r>
            <a:br>
              <a:rPr sz="2800"/>
            </a:b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following the launch of the GPSTB2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AMRO – Brazil – preparing 5 year plan, other priority countries to follow in the 2</a:t>
            </a:r>
            <a:r>
              <a:rPr b="0" lang="en-GB" sz="2000" spc="-1" strike="noStrike" baseline="30000">
                <a:solidFill>
                  <a:srgbClr val="003366"/>
                </a:solidFill>
                <a:latin typeface="Arial"/>
              </a:rPr>
              <a:t>nd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 half of year (workshop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EMRO – 9 countries (including AFG) preparing 10 year pla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SEARO – 4 HBCs (IND, INO, MYA, BAN) – 5 year plans prepared; NEP – 10 year plan made in 2002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WPRO – 3 HBCs (CHN, PHL, VTN) – 5 year plans ready. Other countries will finalise before second semester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EURO – September 2006 – NTP meeting – will discuss planning in 18 priority countries (high burden or high rate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AFRO – countries develop emergency plans following the TB emergency declared by the Regional Committee in 2005 (KEN, SAF, MOZ – plans ready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Challenges (1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550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untry plans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many plans not sufficiently ambitious and comprehensive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inconsistencies between budget required by NTP and the estimates in the GP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many do not address in a systematic way the role of the all health care providers and of patients and communitie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Suggested a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Review existing plans and provide adequate support in adjusting the budgets, in line with the GP methodolog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Where appropriate ensure that plans include the role of all health care providers and of patients and communiti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Link better country and sub-group plans: TB-Poverty, Lab, PPM, Childhood TB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Challenges (2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9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Strengthen laboratory capac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Improve smear microscopy and implement culture and D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Suggested a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jor investment to build countries' capacity and to provide in country support to assess lab network capacity, plan laboratory activities, implement EQA for microscopy and culture and monitor lab performanc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Challenges (3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Human resource development as part of health systems strengthe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Address shortages in external consultants and country staff (quantity and quality) to implement Stop TB Strateg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Suggested a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Follow example of Indonesia in carrying out the comprehensive analysis of HR needs and producing HRD pla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Intensify training of consultants (theoretical workshops and field-experience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1T16:00:51Z</dcterms:created>
  <dc:creator>Malgorzata Grzemska</dc:creator>
  <dc:description/>
  <dc:language>en-US</dc:language>
  <cp:lastModifiedBy>johnsoneb</cp:lastModifiedBy>
  <dcterms:modified xsi:type="dcterms:W3CDTF">2006-04-24T17:28:58Z</dcterms:modified>
  <cp:revision>15</cp:revision>
  <dc:subject/>
  <dc:title>DEWG – input to the joint Implementation WG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