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C633-5776-458C-956D-D787B312E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2DE8-B97B-48AA-91BD-2E0DEBC0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DDE5-D46E-475E-9F6C-7DD9D8CF2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35AF-8A22-4E04-9883-036036404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1A0C-413B-4776-A997-D2C86FCE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48A2-0B18-4218-B96E-F22D47CB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A9F2-EECC-498C-B8FC-A989FEAD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09B9-7F53-4BC8-BCA2-90DC6BE6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9969-3265-4F7B-A335-5E004777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FE7C-F833-41F3-A7E7-2E3A639E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F416-701C-4C56-A4B3-48606F9D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E5EF-42B4-4E7D-8291-B537829A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7380-C5E1-4982-96D2-80336FB3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40AB-19D1-4F03-9278-C84D6229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C8F3-E2D7-467A-BD69-70F3F4FE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B5B7-0C20-4A46-B25E-3DF9C9524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7FCE-09E0-40A6-AF88-05EE76A62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69FE-0827-41AA-BA3B-51FD14E1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2AED-4315-4B31-892B-EC3CD319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6435-C450-4DB0-8371-5325CA96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5239-535D-4E7F-B360-025A3DE2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7438-A005-453B-9B0E-3F0052C7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8A5F-9845-48B2-A9F2-C85B6FC6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2F4B-44B3-4EE5-B9F6-1C5CFDB9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EDDB-89EC-426D-A340-658F06803AF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7B3F-6710-4616-8F66-589A0F7AA23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1280" y="1628640"/>
            <a:ext cx="8964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Tahoma"/>
              </a:rPr>
              <a:t>THE GLOBAL PLAN: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Tahoma"/>
              </a:rPr>
              <a:t>THE COST OF GLOBAL TB CONTRO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Giorgio Roscign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oordinating Board Meeting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0 November, 2005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ssis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Financing </a:t>
            </a:r>
            <a:br>
              <a:rPr sz="3600"/>
            </a:b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implication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Plan to be used for resource mobilis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Implications for national governmen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Implications for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465280" y="905040"/>
            <a:ext cx="4224600" cy="597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resentation o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lobal Plan to Stop TB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7080" y="1413000"/>
            <a:ext cx="867564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Outline of presentation on the Global Pla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Background: the planned achievemen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Cos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messag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Financing implication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Ten years' planned achievements: highlights of the Global 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50 million people treated for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14 million lives save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Stop TB Partnership targets for 2015 achieved global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Tremendous progress in all reg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First new TB drug for 40 years in 2010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Diagnostics at point of care – rapid, sensitive and inexpensive TB diagnosis by 2010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New, safe, effective and affordable vaccine by 201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Global Plan </a:t>
            </a:r>
            <a:br>
              <a:rPr sz="3600"/>
            </a:b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cos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Country needs, R &amp;D, external agenc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Investment according to Working 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Available funding and ga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8569080" cy="512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8713800" cy="494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896472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Key messag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640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A global plan for a global campaig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$56 billion investment yields large rewards: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50 million TB patients treat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14 million lives sav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Need to collaborate with others to succe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The ultimate goal depends on continued innovation (in vaccines, drugs and diagnostic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We can get there! PLAN X RESOURCES = RESULT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maherd</cp:lastModifiedBy>
  <dcterms:modified xsi:type="dcterms:W3CDTF">2005-11-08T16:48:53Z</dcterms:modified>
  <cp:revision>146</cp:revision>
  <dc:subject/>
  <dc:title>Slide 1</dc:title>
</cp:coreProperties>
</file>