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65B4-76A5-4886-AF45-24D40BBAB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943E-568B-41AA-A1F7-C749F327B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4408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3096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4408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3096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734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Berlin Sans FB Demi"/>
                <a:ea typeface="Gungsuh"/>
              </a:rPr>
              <a:t>Africa Blueprint :  Progress since Addis and proposed next steps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57340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Haileyesus Getah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STOP TB Depar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89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top TB Partnership Coordinating Board Meeting, November 10-11, Assisi, Ita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Why the Blueprint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fell or was stable in all WHO regions except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is rising more quickly in HIV prevalent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Reaching the TB MDGs and Stop TB targets globally will depend on  expanding and consolidating DOTS and tackling  the effects of HIV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Therefo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unprecedented collective action i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The Blueprin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Linked to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the Second Global Plan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guidance on activities and  financial needs for 2006-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key recommendation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he Stop TB Partnership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African governments and health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NGOs, Donor an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Needs 2.2 Billion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Declaration of regional TB emer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O Regional Committee meeting-August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ies should develop emergency strategie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erlin Sans FB"/>
              </a:rPr>
              <a:t>Noted in glob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NTP managers meeting in Harare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Official endorsement by the African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Berlin Sans FB"/>
              </a:rPr>
              <a:t>Gaborone Declaration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endorsed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8 Gleneagles Communiqué - call for action in Afr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ased on Stop TB's statement of need; endorsed call for Ministerial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Informal meeting of technical staff of G8 in follow-up and proposed steps for 9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Support for Regional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cretariat allocated fund for AF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echnical assistance for need assessment for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ngagement with 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&amp;M Gates Foundation-funded analysis of economic impact of TB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Discussion on ways to increase financing via WB mechanisms (eg M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22 Global Fund TB proposals appr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More than half (USD 106 million) was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GDF provided drugs to 15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TBCAP project (USAID) for 8 Africa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Continue working with African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B as an agenda in Heads of State sum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xpedite Africa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Political commitment, multisectoral involvement and coordination among technical agencies and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uidance to increase priority to TB into national development agendas (eg PRSPs, SWAp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Assist in emergency medium and long term plan de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lect first wave of countries and coordinate the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High level missions to donors and high burde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Berlin Sans FB"/>
              </a:rPr>
              <a:t>WB, ADB, OGAC/PEPFAR,  EU and bilater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partners to address human resources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raining of middle level health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y specific retention and remuneration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the government of Nigeria to link the ministerial meeting with the planned Heads of state meeting on HIV, TB and Mal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Start planning for the next Stop TB forum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Commit and generate finance and coordinate 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30:15Z</dcterms:created>
  <dc:creator>getahunh</dc:creator>
  <dc:description/>
  <dc:language>en-US</dc:language>
  <cp:lastModifiedBy>getahunh</cp:lastModifiedBy>
  <dcterms:modified xsi:type="dcterms:W3CDTF">2005-11-10T06:41:50Z</dcterms:modified>
  <cp:revision>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2503382</vt:r8>
  </property>
  <property fmtid="{D5CDD505-2E9C-101B-9397-08002B2CF9AE}" pid="3" name="_AuthorEmail">
    <vt:lpwstr>weild@who.int</vt:lpwstr>
  </property>
  <property fmtid="{D5CDD505-2E9C-101B-9397-08002B2CF9AE}" pid="4" name="_AuthorEmailDisplayName">
    <vt:lpwstr>Weil, Diana</vt:lpwstr>
  </property>
  <property fmtid="{D5CDD505-2E9C-101B-9397-08002B2CF9AE}" pid="5" name="_EmailSubject">
    <vt:lpwstr>Presentation at Assisi for commen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