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BFC9-7449-4558-9C58-9316741D22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tailed slide for 2005 shows tha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variation in funding streams, some countries very dependent on donor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as a continuous growth from 1999 to 20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shot up from 135 million in 1999 to 405 million in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increase in this funding came from the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6B5-8CFA-4623-9D2A-4A644824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750-4256-477F-894E-D0862692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BD91-D534-4F5B-BAC6-7DA78877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2386-F2FD-4776-9C77-C6D4DE2A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E0FC-C750-4437-B4AB-9D37BD5A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6275-418D-4214-8FBC-5BCA50DB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E740-393C-45FD-B41B-FFDAEF89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3E7B-065D-4EC7-B3C3-70091519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582F-AF53-4D81-A016-497744E6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1D5E-692B-460F-98C8-56A73868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0E22-48A7-411E-8227-01D76A0C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1BB-2898-4227-8411-34D88D99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74B6-9AE1-473F-8CAE-2B6948DF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F28F-6435-4CF4-90C0-B5F0B66D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02EF-1243-4F40-AA49-3ECD381B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E8CE-E020-45B9-AFE4-EB8F13F6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BE32-14A9-4FB3-A1E6-743E9B17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C9D-993D-4B48-9866-0E1ECE85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89B1-48DE-44DF-B17D-D54C7AA1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6A36-7D0B-4F55-88D7-071F965C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9D5-3781-4E5D-8DEE-1FD98290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E9E1-8482-4E10-BC49-0DDD3235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4BC6-AEAE-4617-B97E-60F9E915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79C-E52E-4700-B8B7-51E4E513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6DBF-B881-4217-A12B-870990E8D25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4473-BB34-4D3B-89BF-BCF2419EF6B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Findings from donor survey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the WHO Financial monitoring project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In the context of the Second Global Plan to Stop TB  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rene Koek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ember Coordinating Board 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0 November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, Ital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tribution from Foundations (US$ Millions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8000" y="1393920"/>
          <a:ext cx="8964360" cy="4987440"/>
        </p:xfrm>
        <a:graphic>
          <a:graphicData uri="http://schemas.openxmlformats.org/drawingml/2006/table">
            <a:tbl>
              <a:tblPr/>
              <a:tblGrid>
                <a:gridCol w="1175760"/>
                <a:gridCol w="1175760"/>
                <a:gridCol w="983520"/>
                <a:gridCol w="1177200"/>
                <a:gridCol w="1174680"/>
                <a:gridCol w="1177200"/>
                <a:gridCol w="1174320"/>
                <a:gridCol w="925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st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Gates</a:t>
                      </a:r>
                      <a:r>
                        <a:rPr b="0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equ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916280"/>
            <a:ext cx="7561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Other findings from donor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growth in funding to public health increasingly becoming part of  budget support and SWA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substantial flows are becoming linked to PRSP with   support  for broader health pl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for TB linked to donor priority given to MDGs and poverty all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4789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Global Plan to Stop TB: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Ten year projection of needs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likely finances available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(Ex. New Tools)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4437000"/>
            <a:ext cx="25923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tal Global Plan need  is 47 bn+ New Tools cost 9bn. Total $56b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untries will have to raise increasing amount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s need to increase their funding either directly or through GFATM for countries least able to mobilise resource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s the gap is large all the Partners will need to collaborate actively in mobilising resourc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task of filling the gap cannot be borne only by the Secretariat of the Partnership alon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485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lications 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ancing the Global Plan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Launch  a massive Advocacy and Communication Campaign to raise resources needed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vise the Long Range Resource Mobilisation Action Plan approved in 2004 by the CB in light of Global Plan 2006-20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clude bilaterals, foundations, and the private secto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termine funds available through HIPIC initiative, Budget support, and SWAPS to public health and from there onwards to TB control effo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epare a toolkit for guiding civil society at grassroots level to actively engage in the PRSP and other process for local resource mobilisation efforts relating to TB contro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8094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OBJEC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Quantify funding needs and sources more accurately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Understand the key drivers of  donor contribu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arget efforts to mobilise resources to control TB more effective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Methodology</a:t>
            </a: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WHO- Standard questionnaires sent by WHO to all countries each year, including two pages of financial questions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Donor Survey-Use of questionnaires targeted to 30 major multilateral and Bilateral organisations that provided in–kind, logistical, or financial support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Use of other sources of data-(e. g. published information about GFATM, and other survey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Key Finding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Levels and channels of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Geographical Sprea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 Surve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ntegrate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 &amp;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mplications for mee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financing requiremen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 by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funding source  2002-2006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n 22 high-burden countries</a:t>
            </a: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ources of funding for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, 22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h-burden countries,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164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954920" y="2492280"/>
            <a:ext cx="1189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Wide variation in sources of fu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Some countries rely on large donor financ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964720" cy="511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pending money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ets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6840" y="1916280"/>
            <a:ext cx="60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pending grew in all regions, fastest growth in E/C A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onor funding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by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360" y="1341360"/>
            <a:ext cx="9107640" cy="5167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5329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onor Contributions for TB Control (with and w/out GFATM) 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8000" y="5734080"/>
            <a:ext cx="2160360" cy="6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Professional Video</cp:lastModifiedBy>
  <cp:lastPrinted>2004-03-12T16:30:34Z</cp:lastPrinted>
  <dcterms:modified xsi:type="dcterms:W3CDTF">2005-11-10T13:18:27Z</dcterms:modified>
  <cp:revision>17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4089075</vt:r8>
  </property>
  <property fmtid="{D5CDD505-2E9C-101B-9397-08002B2CF9AE}" pid="3" name="_AuthorEmail">
    <vt:lpwstr>floydk@who.int</vt:lpwstr>
  </property>
  <property fmtid="{D5CDD505-2E9C-101B-9397-08002B2CF9AE}" pid="4" name="_AuthorEmailDisplayName">
    <vt:lpwstr>Floyd, Katherine</vt:lpwstr>
  </property>
  <property fmtid="{D5CDD505-2E9C-101B-9397-08002B2CF9AE}" pid="5" name="_EmailSubject">
    <vt:lpwstr>funding of TB control presentation for Irene Koek</vt:lpwstr>
  </property>
  <property fmtid="{D5CDD505-2E9C-101B-9397-08002B2CF9AE}" pid="6" name="_NewReviewCycle">
    <vt:lpwstr/>
  </property>
  <property fmtid="{D5CDD505-2E9C-101B-9397-08002B2CF9AE}" pid="7" name="_PreviousAdHocReviewCycleID">
    <vt:r8>1453036681</vt:r8>
  </property>
  <property fmtid="{D5CDD505-2E9C-101B-9397-08002B2CF9AE}" pid="8" name="_ReviewingToolsShownOnce">
    <vt:lpwstr/>
  </property>
</Properties>
</file>