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3E5-EF17-4939-832B-49072124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D463-9D10-4478-A7D9-0127950F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B2C6-C619-4F9C-9051-CD917AD7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D3E-B97C-42FC-95CE-7CE88D89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7DBE-3C58-45CE-80C0-1E92326C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8FDA-C3A6-403E-A746-23230ACE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ABEA-D329-4E87-B3F0-59A5245C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7AF6-5F36-44D5-824E-427530DE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4D0D-231A-4AA1-B02E-B4640FDC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9607-992F-45B6-AEA6-D559624B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23C0-EBDD-4183-86EA-DEAE58C0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105-A090-4293-9567-0B23147F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7CCC-C1BF-40E4-86B9-892EB26F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D550-A4C4-44CD-9DE5-AF845E8C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5117-1D48-45CE-B288-30F4CF5F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9B5D-011E-4A50-8E5F-C6CF9124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00C8-C23D-402B-9563-6EA0B696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4413-E36E-47E5-9EB6-46F04F40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1DB-76E2-40C1-BABE-E75A9CB1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DB5-8CCA-4F7B-980C-FC4E8B69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E6F-7EDE-4E2A-98DC-ACD784CC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724B-E184-4733-A4CD-393935CD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737-9873-47F1-926F-2CB390DA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8AA-5539-4DA9-A459-B2A915C7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3E62-9D82-4BDE-BB8C-0FEF8286E3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CE25-E5A8-497C-A5ED-DFCD8CC052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724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3200"/>
            </a:b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National TB Control Programme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7632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Stop TB Pakista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Progresses and challen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43280" y="2705040"/>
            <a:ext cx="16448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7FC7-705D-4C22-ACB5-016F2300D49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STOP TB Pakistan: the partner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Pakistan being the host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-Agencies Coordination Committee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ons/institutions named by at least 2 part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ation of CCM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A41-40FC-4BB0-A467-D4C83F8E73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Progresses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 between WHO Pakistan  endors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s for set up of secretariat for one year secu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s of Executive secretary and one secretary  advert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plan for next six months developed on the basis of the available funds including mass media campaign by Good will ambassador (Dec 05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A4A-1697-445B-A920-60694E5032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halleng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ing with Earthquake v/s T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ng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TB control activities in Pakistan sustainabl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1EF4-02BD-4387-92FA-0FAEEAE735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Future Needs of the Partnership Secretariat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stain Stop TB secretariat beyond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nhance the strength of the Secretariat (one Communication officer and one technical officer to be recruited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7BA0-3CF2-4895-9837-C5C8D3E96F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Tahoma"/>
              </a:rPr>
              <a:t>Thank you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19126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4E68-8AAA-488B-BE78-3420015D6B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0600" y="0"/>
            <a:ext cx="736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slamic Republic of Pakista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:140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/3rd below poverty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among the HBC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d 250,000 new TB cases each ye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676-B03E-4206-B6C3-80A1B528B68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Earth quake-8th October 20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           4 million affected in AJK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nd NWFP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&gt;86000 Deaths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2 million displace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B05F-EA86-450C-86B6-F70992D0D37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66680" y="139860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9242-92CF-4C4E-8FFE-D3971DC8ED6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7772400" cy="516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F5C-71F8-4DD8-BA83-9F0BDC9AED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1320840"/>
            <a:ext cx="7696440" cy="44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69E6-100B-47D8-A763-123A323F08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Mr Wasim Akram presenting the National Stop TB Partnership</a:t>
            </a:r>
            <a:br>
              <a:rPr sz="32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ahore, 29th April 200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2700360"/>
            <a:ext cx="4496040" cy="30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8C8D-160B-48BD-9B42-83EEF395FA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9800" y="536040"/>
            <a:ext cx="777096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top TB Pakistan to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bilise additional sustainable social &amp; polit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ordinate the implementation of the National strategy/plan developed by NTP for A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hance public and political perception of Stop TB Strate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gage non-traditional partners in the fight against TB and build alliances with other health and development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B750-7269-4E5A-8150-6B8A287B25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talyzing approa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CC/ Social mobilization through GFA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private sector through GFATM/FIDELIS/ G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IACC by revisiting its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AC07-D2D1-4C3C-9B36-747CABD5F1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7:54:37Z</dcterms:created>
  <dc:creator/>
  <dc:description/>
  <dc:language>en-US</dc:language>
  <cp:lastModifiedBy>Waseem Abbas Qureshi</cp:lastModifiedBy>
  <cp:lastPrinted>1997-02-21T06:00:05Z</cp:lastPrinted>
  <dcterms:modified xsi:type="dcterms:W3CDTF">2005-11-10T13:33:34Z</dcterms:modified>
  <cp:revision>735</cp:revision>
  <dc:subject/>
  <dc:title>Tuberculosis Control and Prevention</dc:title>
</cp:coreProperties>
</file>