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9C02-44C3-4F64-AA17-22B708F0C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39E8-A5D7-407F-AF76-D844DD32B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8E4B-D6A2-403B-8815-AF1CD518E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F956-CFEE-480B-B2D7-2F6BE93A7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63DE0-2762-465B-89D5-73FD15E97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A2723-12E3-4BB0-B4E0-AF66FCFE0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B29F7-3E10-469B-B3D2-0ADEBB9AD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8EEF5-2C13-4C87-9097-02EDD153A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FF001-D773-4F59-9051-08F59A42D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23E7A-9A15-4E69-8C0C-D1B9B1A5C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95383-EF35-41D1-B6E2-4990891A3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417D-BEA8-4C19-ABC6-569980359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36BC5-FB46-4126-B4E5-EDDF0794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8823B-54F8-4EA5-A13D-BEFDB0E4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1E6B9-B492-4F8E-A6D5-106A38C56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3B1CB-F7F0-45C5-A446-AC3EA4FA4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033C7-E7FB-409C-B53A-0F83F3A17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4D6B-43A3-4824-B58A-244E9BEDE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3A53-F21B-4C92-A196-1AE13457C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F2B7-7907-4110-AF7D-91F49D081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802A-E707-4553-8C4F-36EA8B4B2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BFB0-7591-4010-86EB-BC6436359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68D8-BF46-4867-A5F7-8BEC6E583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A989-2246-44B8-BEC3-5F793CA28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626BC-5C25-4E8A-AC56-162A2CAAEDB6}" type="slidenum">
              <a:rPr b="0" lang="nb-NO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2B826-EAA9-4230-A23C-66C51923ED50}" type="slidenum">
              <a:rPr b="0" lang="nb-NO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Arial"/>
              </a:rPr>
              <a:t>Patient Chart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ucy Chesi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ty Representative: C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B and TB/HIV Advoc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isi -Ita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4126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request to the CB is to endorse the draft of the Patient Charter and encourage the Secretariat to support the launch the final version of the Char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403280" y="6524280"/>
            <a:ext cx="640080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ANK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2nd draft of the Patients´ Charter of the Tuberculosis Commun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49696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outline both the Rights and Responsibilities of those infected by TB and to empower people with the disease and their communities through this knowled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Backgrou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ed in tandem with the International Standards for Tuberculosis Care – focus on a “patient-centred approach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man right aspect: “Right to health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ic principles for more accountability and mutual interaction among all stakeholders within TB control – from patients to gover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Patient right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ight to Car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free and equitable access to TB-care, from diagnosis to treatment and cure according to patients need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ight to Dignity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be treated with respect and a quality health care in a dignified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127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ight to Informati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Right to know what health care services are available  for TB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Right to clear and understandable information about the diseas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Right to information about diagnosis, treatment, drugs, side-effect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Right to share experiences with peers and voluntary counseling at any tim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ight to Choos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Right to accept or refuse any medication, investigation or treatment and be informed about the consequence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Right to whether or not take part in rese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ight to Privacy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personal privacy, dignity and religious and cultural beliefs respected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have medical conditions kept confidential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ight to Complai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 Right to complain through channels provided for this purpose and dealt with promptly and fairly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appeal to a higher authority if not respe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ight to organiz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join/establish organisation and groups of people with or affected by TB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participate as “stakeholders” in all levels of TB control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ight to security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job security after diagnosis and appropriate rehabilitatio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nutritional security or food supplements if needed to meet treatment requir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Patients´ Responsi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esponsibility to share informati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Provide health care provider with necessary information about their health and possible close contact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esponsibility to follow treatment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Follow prescribed and agreed treatment and protect other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Inform the health care provider of treatment difficul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9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esponsibility to defend the communit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Encourage others to seek medical advice when showing TB symptom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Show consideration for the rights of other patients and health care provider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esponsibility to be empowere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Show solidarity with other patient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Share knowledge gained during treatment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Join in efforts to make the community TB fr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2T15:06:42Z</dcterms:created>
  <dc:creator>Robby</dc:creator>
  <dc:description/>
  <dc:language>en-US</dc:language>
  <cp:lastModifiedBy>PV002</cp:lastModifiedBy>
  <dcterms:modified xsi:type="dcterms:W3CDTF">2005-11-11T09:59:51Z</dcterms:modified>
  <cp:revision>16</cp:revision>
  <dc:subject/>
  <dc:title>COMMUNITY EMPOWERMENT</dc:title>
</cp:coreProperties>
</file>