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wmf" ContentType="image/x-wmf"/>
  <Override PartName="/ppt/media/image8.jpeg" ContentType="image/jpeg"/>
  <Override PartName="/ppt/media/image4.jpeg" ContentType="image/jpeg"/>
  <Override PartName="/ppt/media/image5.wmf" ContentType="image/x-wmf"/>
  <Override PartName="/ppt/media/image7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5128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312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C992A-DF97-426B-810D-FF469B8F1F73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312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detailed slide for 2005 shows that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de variation in funding streams, some countries very dependent on donor fund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312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as a continuous growth from 1999 to 2000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bsolute value shot up from 135 million in 1999 to 405 million in 200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 increase in this funding came from the GFA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27BA9-2565-4C0A-AA37-97C268520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19652-7A55-4F91-AC75-0E1E620A4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9D279-2DED-4CBB-B398-43892F03C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CB2B7-8A5F-42AF-A236-BEE180249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E92B9-0364-43B8-B659-8A7F063BA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7DD0D-298F-4FB0-A8BC-4719F4836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ABBB9-D43D-4DD6-B0CF-A0183B225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39347-BDDF-43E7-B618-DC44A2916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84411-3465-4BCF-9F6F-87977750A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FF098-4323-4431-8518-F1326F169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BF3F1-51B8-4104-988D-A57B63409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955D7-C5D0-4133-8B37-639C0F5BC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109F6-55D0-437C-AFA4-5C0A63917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6DECB-E677-4B1E-B357-A5E002B2C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CFD3F-C5A2-4C6D-94C2-AAFBC50C4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E95A3-7E30-43A9-A832-5C03059D9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5711D-E68D-4231-8D86-A8EBBA70A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23422-F436-4A2E-A16C-2EA0AE298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D2E85-FB70-476C-8FD9-B085209D1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FAC02-6B92-435A-884E-66C70416D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EB2C0-A209-4131-96E8-D8A8B7F2E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46A8A-0C03-4511-9EA7-9549FDAE8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2685A-348E-4E26-BFE7-9A06158FF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69E5B-AA7C-43BC-BFB8-587C79A98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8AAD9-5FED-49F3-B7EA-EF07F92A0D7B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2F225-1EE5-4AB0-B757-FB3A68528F0B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72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4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94920" y="1700280"/>
            <a:ext cx="8280360" cy="17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cc"/>
                </a:solidFill>
                <a:latin typeface="Tahoma"/>
              </a:rPr>
              <a:t>Findings from donor survey</a:t>
            </a:r>
            <a:br>
              <a:rPr sz="2400"/>
            </a:br>
            <a:r>
              <a:rPr b="1" lang="en-GB" sz="2400" spc="-1" strike="noStrike">
                <a:solidFill>
                  <a:srgbClr val="ffffcc"/>
                </a:solidFill>
                <a:latin typeface="Tahoma"/>
              </a:rPr>
              <a:t>and the WHO Financial monitoring project</a:t>
            </a:r>
            <a:br>
              <a:rPr sz="2400"/>
            </a:br>
            <a:br>
              <a:rPr sz="2400"/>
            </a:br>
            <a:r>
              <a:rPr b="1" lang="en-GB" sz="2400" spc="-1" strike="noStrike">
                <a:solidFill>
                  <a:srgbClr val="ffffcc"/>
                </a:solidFill>
                <a:latin typeface="Tahoma"/>
              </a:rPr>
              <a:t>In the context of the Second Global Plan to Stop TB  </a:t>
            </a:r>
            <a:endParaRPr b="1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403280" y="3716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Irene Koek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Member Coordinating Board Stop TB Partnership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10 November 2005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Assisi, Italy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4560" y="115560"/>
            <a:ext cx="53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Contribution from Foundations (US$ Millions)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108000" y="1393920"/>
          <a:ext cx="8964360" cy="4987440"/>
        </p:xfrm>
        <a:graphic>
          <a:graphicData uri="http://schemas.openxmlformats.org/drawingml/2006/table">
            <a:tbl>
              <a:tblPr/>
              <a:tblGrid>
                <a:gridCol w="1175760"/>
                <a:gridCol w="1175760"/>
                <a:gridCol w="983520"/>
                <a:gridCol w="1177200"/>
                <a:gridCol w="1174680"/>
                <a:gridCol w="1177200"/>
                <a:gridCol w="1174320"/>
                <a:gridCol w="92592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Inst,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199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2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200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200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200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200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Tot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Gates</a:t>
                      </a:r>
                      <a:r>
                        <a:rPr b="0" lang="en-GB" sz="24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5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11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20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23.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16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14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OS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3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1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.9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5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Roc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4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0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4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Sequ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0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Total</a:t>
                      </a: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51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14,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25.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2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16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1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971640" y="1916280"/>
            <a:ext cx="7561080" cy="41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720000"/>
                </a:solidFill>
                <a:latin typeface="Tahoma"/>
              </a:rPr>
              <a:t>Other findings from donor surve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Perception that growth in funding to public health increasingly becoming part of  budget support and SWAPS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Perception that substantial flows are becoming linked to PRSP with   support  for broader health plan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Funding for TB linked to donor priority given to MDGs and poverty allevi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478944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cc"/>
                </a:solidFill>
                <a:latin typeface="Tahoma"/>
              </a:rPr>
              <a:t>Global Plan to Stop TB: </a:t>
            </a:r>
            <a:br>
              <a:rPr sz="2400"/>
            </a:br>
            <a:r>
              <a:rPr b="1" lang="en-GB" sz="2400" spc="-1" strike="noStrike">
                <a:solidFill>
                  <a:srgbClr val="ffffcc"/>
                </a:solidFill>
                <a:latin typeface="Tahoma"/>
              </a:rPr>
              <a:t>Ten year projection of needs</a:t>
            </a:r>
            <a:br>
              <a:rPr sz="2400"/>
            </a:br>
            <a:r>
              <a:rPr b="1" lang="en-GB" sz="2400" spc="-1" strike="noStrike">
                <a:solidFill>
                  <a:srgbClr val="ffffcc"/>
                </a:solidFill>
                <a:latin typeface="Tahoma"/>
              </a:rPr>
              <a:t>and likely finances available </a:t>
            </a:r>
            <a:br>
              <a:rPr sz="2400"/>
            </a:br>
            <a:r>
              <a:rPr b="1" lang="en-GB" sz="2400" spc="-1" strike="noStrike">
                <a:solidFill>
                  <a:srgbClr val="ffffcc"/>
                </a:solidFill>
                <a:latin typeface="Tahoma"/>
              </a:rPr>
              <a:t>(Ex. New Tools)</a:t>
            </a: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2400"/>
            </a:b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0" y="1341360"/>
            <a:ext cx="9144000" cy="5112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250920" y="4437000"/>
            <a:ext cx="2592360" cy="119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otal Global Plan need  is 47 bn+ New Tools cost 9bn. Total $56b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755280" y="1413000"/>
            <a:ext cx="806436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Countries will have to raise increasing amounts themselv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Donors need to increase their funding either directly or through GFATM for countries least able to mobilise resources themselv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As the gap is large all the Partners will need to collaborate actively in mobilising resources.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e task of filling the gap cannot be borne only by the Secretariat of the Partnership alone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10666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title"/>
          </p:nvPr>
        </p:nvSpPr>
        <p:spPr>
          <a:xfrm>
            <a:off x="0" y="189000"/>
            <a:ext cx="4859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Implications -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inancing the Global Plan</a:t>
            </a:r>
            <a:br>
              <a:rPr sz="2800"/>
            </a:b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399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Action Proposed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I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96472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69696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696960" indent="-69696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Launch  a massive Advocacy and Communication Campaign to raise resources needed 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696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696960" indent="-69696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Revise the Long Range Resource Mobilisation Action Plan approved in 2004 by the CB in light of Global Plan 2006-2015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696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696960" indent="-69696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Include bilaterals, foundations, and the private sector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696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385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Action Proposed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II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4000" y="1773000"/>
            <a:ext cx="864072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-71136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Determine funds available through HIPIC initiative, Budget support, and SWAPS to public health and from there onwards to TB control effort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Prepare a toolkit for guiding civil society at grassroots level to actively engage in the PRSP and other process for local resource mobilisation efforts relating to TB contro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1066680" indent="0" algn="ctr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610920" y="2133360"/>
            <a:ext cx="8094600" cy="41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2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720000"/>
                </a:solidFill>
                <a:latin typeface="Tahoma"/>
              </a:rPr>
              <a:t>OBJECTIV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Quantify funding needs and sources more accurately 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Understand the key drivers of  donor contribution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arget efforts to mobilise resources to control TB more effectively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0" y="1341000"/>
            <a:ext cx="896472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20000"/>
                </a:solidFill>
                <a:latin typeface="Tahoma"/>
              </a:rPr>
              <a:t>Methodology</a:t>
            </a: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71136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80000"/>
              </a:lnSpc>
              <a:spcBef>
                <a:spcPts val="6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20000"/>
                </a:solidFill>
                <a:latin typeface="Tahoma"/>
              </a:rPr>
              <a:t>WHO- Standard questionnaires sent by WHO to all countries each year, including two pages of financial questions</a:t>
            </a:r>
            <a:endParaRPr b="0" lang="en-US" sz="26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80000"/>
              </a:lnSpc>
              <a:spcBef>
                <a:spcPts val="6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20000"/>
                </a:solidFill>
                <a:latin typeface="Tahoma"/>
              </a:rPr>
              <a:t>Donor Survey-Use of questionnaires targeted to 30 major multilateral and Bilateral organisations that provided in–kind, logistical, or financial support</a:t>
            </a:r>
            <a:endParaRPr b="0" lang="en-US" sz="26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80000"/>
              </a:lnSpc>
              <a:spcBef>
                <a:spcPts val="6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20000"/>
                </a:solidFill>
                <a:latin typeface="Tahoma"/>
              </a:rPr>
              <a:t>Use of other sources of data-(e. g. published information about GFATM, and other surveys)</a:t>
            </a:r>
            <a:endParaRPr b="0" lang="en-US" sz="26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755280" y="1413000"/>
            <a:ext cx="806436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Key Finding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WHO Informatio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1066680" indent="-60948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Levels and channels of funding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1066680" indent="-60948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Geographical Spread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Donor Survey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1066680" indent="-60948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Integrated funding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1066680" indent="-60948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R &amp;D Funding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Implications for meeting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        </a:t>
            </a: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e financing requirements of the Global Pla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10666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280" y="175680"/>
            <a:ext cx="4967280" cy="92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Total TB control costs by </a:t>
            </a:r>
            <a:br>
              <a:rPr sz="2400"/>
            </a:b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funding source  2002-2006 </a:t>
            </a:r>
            <a:br>
              <a:rPr sz="2400"/>
            </a:b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in 22 high-burden countries</a:t>
            </a:r>
            <a:r>
              <a:rPr b="1" lang="en-GB" sz="24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0" y="1341360"/>
            <a:ext cx="9144000" cy="498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4920" y="175680"/>
            <a:ext cx="4967280" cy="92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Sources of funding for </a:t>
            </a:r>
            <a:br>
              <a:rPr sz="2400"/>
            </a:b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total TB control costs, 22 </a:t>
            </a:r>
            <a:br>
              <a:rPr sz="2400"/>
            </a:b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high-burden countries, 2005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0" y="1341360"/>
            <a:ext cx="8891640" cy="50403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7954920" y="2492280"/>
            <a:ext cx="118908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20000"/>
                </a:solidFill>
                <a:latin typeface="Tahoma"/>
              </a:rPr>
              <a:t>Wide variation in sources of fundi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20000"/>
                </a:solidFill>
                <a:latin typeface="Tahoma"/>
              </a:rPr>
              <a:t>Some countries rely on large donor financi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0" y="1341360"/>
            <a:ext cx="8964720" cy="51120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324000" y="189000"/>
            <a:ext cx="381636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Spending money </a:t>
            </a:r>
            <a:br>
              <a:rPr sz="2800"/>
            </a:b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gets resul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0" y="1341360"/>
            <a:ext cx="9144000" cy="51228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1896840" y="1916280"/>
            <a:ext cx="609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20000"/>
                </a:solidFill>
                <a:latin typeface="Tahoma"/>
              </a:rPr>
              <a:t>Spending grew in all regions, fastest growth in E/C As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189000"/>
            <a:ext cx="381636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Donor funding </a:t>
            </a:r>
            <a:br>
              <a:rPr sz="2800"/>
            </a:b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by reg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36360" y="1341360"/>
            <a:ext cx="9107640" cy="516744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4560" y="115920"/>
            <a:ext cx="532908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Donor Contributions for TB Control (with and w/out GFATM)   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55640" y="1699920"/>
            <a:ext cx="784872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4223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106668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108000" y="5734080"/>
            <a:ext cx="2160360" cy="647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3T09:46:41Z</dcterms:created>
  <dc:creator>MudasiaE</dc:creator>
  <dc:description/>
  <dc:language>en-US</dc:language>
  <cp:lastModifiedBy>Professional Video</cp:lastModifiedBy>
  <cp:lastPrinted>2004-03-12T16:30:34Z</cp:lastPrinted>
  <dcterms:modified xsi:type="dcterms:W3CDTF">2005-11-10T13:18:27Z</dcterms:modified>
  <cp:revision>171</cp:revision>
  <dc:subject/>
  <dc:title>Secretariat, 2003 Progress Repor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364089075</vt:r8>
  </property>
  <property fmtid="{D5CDD505-2E9C-101B-9397-08002B2CF9AE}" pid="3" name="_AuthorEmail">
    <vt:lpwstr>floydk@who.int</vt:lpwstr>
  </property>
  <property fmtid="{D5CDD505-2E9C-101B-9397-08002B2CF9AE}" pid="4" name="_AuthorEmailDisplayName">
    <vt:lpwstr>Floyd, Katherine</vt:lpwstr>
  </property>
  <property fmtid="{D5CDD505-2E9C-101B-9397-08002B2CF9AE}" pid="5" name="_EmailSubject">
    <vt:lpwstr>funding of TB control presentation for Irene Koek</vt:lpwstr>
  </property>
  <property fmtid="{D5CDD505-2E9C-101B-9397-08002B2CF9AE}" pid="6" name="_NewReviewCycle">
    <vt:lpwstr/>
  </property>
  <property fmtid="{D5CDD505-2E9C-101B-9397-08002B2CF9AE}" pid="7" name="_PreviousAdHocReviewCycleID">
    <vt:r8>1453036681</vt:r8>
  </property>
  <property fmtid="{D5CDD505-2E9C-101B-9397-08002B2CF9AE}" pid="8" name="_ReviewingToolsShownOnce">
    <vt:lpwstr/>
  </property>
</Properties>
</file>