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3062F-625A-437D-BCAF-FE50EA6F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BB11A-2DAD-412F-A119-23C48C07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1AD53-2932-4F19-880E-D781D777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9430F-2D41-4282-B5D0-1B111556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4C5E-23DA-4C32-BC62-3BF2E4F1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D183-ACFE-4FC4-9852-1A5EE943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EDF4-6922-48BB-BEDA-DE74D97A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E93D-8664-467A-B89D-DCC302D6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2C11-6D87-442A-B378-B65AA5E2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7DD0-F4D8-4969-81FB-86DFE1E4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E2D0-B2D8-4872-AB4E-3174D188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08BB2-93CC-429E-B661-A956AF5F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4D73-7CF1-42A6-BFA3-61DB3E7C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5F42-F77C-46AF-853C-8A96E0ED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83BC-3BC1-4DB0-8083-DB5090C4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A3A6-78C1-41A6-BC42-C3415810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72E5-ABB2-4DD0-9408-CC7E1665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D7B23-1CA3-4FF8-882E-5834CFD4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9D00A-B901-4320-834C-73EE5172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8EF36-4ABC-4943-8177-EC661BD1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2E9E-D6F2-4C02-80A0-386FB875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D9851-08F9-408E-8886-3E212048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7A43D-C1BF-4297-8FB4-8FB88058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BFF84-622A-4C7C-B098-1B7D76F3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568D-8C57-4684-8846-F321F44B1C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B23A-8390-4377-80F2-B75B8F435E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UNFUNDED NEEDS 2006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NPT-D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ASSISI ITALY 10-11 Nov 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Garamond"/>
              </a:rPr>
              <a:t>Ministère de la sant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700280"/>
          <a:ext cx="8229600" cy="4824000"/>
        </p:xfrm>
        <a:graphic>
          <a:graphicData uri="http://schemas.openxmlformats.org/drawingml/2006/table">
            <a:tbl>
              <a:tblPr/>
              <a:tblGrid>
                <a:gridCol w="6264360"/>
                <a:gridCol w="19652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Équipement des bureaux (cplt et unité centr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s dépôt médicament cplt (22 CPL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 CDV de quelques Csdt (100 CSD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Transport  médicaments à l’intérieur du pays, et carbur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4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Supports d'in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DEFICITS COMPLEMETAIRES AU BUDGET 2006 en $u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989000"/>
          <a:ext cx="8218080" cy="3670920"/>
        </p:xfrm>
        <a:graphic>
          <a:graphicData uri="http://schemas.openxmlformats.org/drawingml/2006/table">
            <a:tbl>
              <a:tblPr/>
              <a:tblGrid>
                <a:gridCol w="6313680"/>
                <a:gridCol w="1904400"/>
              </a:tblGrid>
              <a:tr h="16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ûts des ARV pour 2006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(soumis dans la composante 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ih-Sida ;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nd mondi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319 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plémen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aire du personnel de la périphéri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pour 2006 (soumis dans la composant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ppui aux structures des soins"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Fond mondi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Garamond"/>
              </a:rPr>
              <a:t>RDC: GENERALITES / DRC: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14360"/>
            <a:ext cx="44956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SUPERFICIE/SIZ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.345.000 k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OPULATION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58.000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&lt; 20 ans: 57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IB/GDP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en $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358 (’58), 100 (’85), 74 (‘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IDH/HDI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0,3655 (‘04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EMPLOI/EMPLOYMENT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6 % (‘98)  7 % (‘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REVENUS/INCOM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0,30 $ us/J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MAL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10 % (‘95)  16 % (’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18000" y="1295280"/>
            <a:ext cx="46260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77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DE LA SANTE / HEALTH SYSTEM ORGA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600200"/>
            <a:ext cx="4773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udget annuel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Annual health budget: </a:t>
            </a:r>
            <a:r>
              <a:rPr b="1" lang="fr-FR" sz="2400" spc="-1" strike="noStrike">
                <a:solidFill>
                  <a:srgbClr val="ffffff"/>
                </a:solidFill>
                <a:latin typeface="Garamond"/>
              </a:rPr>
              <a:t>&lt; de 2% de 1000.000.000 $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olitique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soins de santé primaires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Health policy: primary health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515 zones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1/2 non fonction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515 health zones: 1/2 non-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11 provinces, 20 CPLT, 991 CSDT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11 provinces, 20 CPLT, 991 TTC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88000" y="1700280"/>
          <a:ext cx="4356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00280"/>
                    <a:ext cx="4356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5e5ff"/>
                </a:solidFill>
                <a:latin typeface="Garamond"/>
              </a:rPr>
              <a:t>Five years plan budget 2006-20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TOTAL: 112.565.788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Received from GF: 36 M out of 43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Year 1 needs: 25 M and 5 M unfundeed p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3.319.123 USD for 41.000 coinfected patients ARV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1.000.000 USD for the support of basic health care system (personnel motivation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122400"/>
            <a:ext cx="8856720" cy="65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16000" y="216000"/>
          <a:ext cx="9144000" cy="6807240"/>
        </p:xfrm>
        <a:graphic>
          <a:graphicData uri="http://schemas.openxmlformats.org/drawingml/2006/table">
            <a:tbl>
              <a:tblPr/>
              <a:tblGrid>
                <a:gridCol w="2916000"/>
                <a:gridCol w="6228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PARTENAIRE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TYPE DE PARTENARIAT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list institution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. GLOBAL FUN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du PNT (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et CPLT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. USAI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&amp;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, EQN, POE, MANIEMA, SANKUR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. GD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rovisionnement en m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caments (2/3 des besoin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. CDC-ATLA. (UN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CHERCHE OPERATIONN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. UICTM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. OM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. LNA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 (MOSO) et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2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. Fondation Dami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10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. TL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7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. ALM, FOPERDA, UB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3 CPL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9540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DGET ANNONCE PAR PARTENAIRES POUR 2006 en $US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1197000"/>
          <a:ext cx="8640720" cy="5322960"/>
        </p:xfrm>
        <a:graphic>
          <a:graphicData uri="http://schemas.openxmlformats.org/drawingml/2006/table">
            <a:tbl>
              <a:tblPr/>
              <a:tblGrid>
                <a:gridCol w="2808360"/>
                <a:gridCol w="1023840"/>
                <a:gridCol w="1000080"/>
                <a:gridCol w="330480"/>
                <a:gridCol w="669960"/>
                <a:gridCol w="922320"/>
                <a:gridCol w="877680"/>
                <a:gridCol w="1008000"/>
              </a:tblGrid>
              <a:tr h="11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ES OU RUBRIQUES DE DEPEN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dget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uvern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ê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enai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mobiliser (c+d+e+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ter à mobiliser pour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08 0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9 3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5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69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9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6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4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8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2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123 7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5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âtiments, équipements (véhicules, labo/bureau, et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9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01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047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75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3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8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325 6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 206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899 8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 135 9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FICIT BUDGETAIRE PAR RUBRIQUES DE DEPENSE 2006 en $Us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435880" cy="4987800"/>
        </p:xfrm>
        <a:graphic>
          <a:graphicData uri="http://schemas.openxmlformats.org/drawingml/2006/table">
            <a:tbl>
              <a:tblPr/>
              <a:tblGrid>
                <a:gridCol w="6059520"/>
                <a:gridCol w="23763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1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413000"/>
          <a:ext cx="8893080" cy="5360760"/>
        </p:xfrm>
        <a:graphic>
          <a:graphicData uri="http://schemas.openxmlformats.org/drawingml/2006/table">
            <a:tbl>
              <a:tblPr/>
              <a:tblGrid>
                <a:gridCol w="6708600"/>
                <a:gridCol w="2184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intermédiaire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ncitatives et motivations pour fournisseurs des soins membres de la communaut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0 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du personnel supplémentaires aux csd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86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partiels médecins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4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Infirmiers cplt des grands  CSDT avec CDV (&gt; de 200 nc tb /an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er et recycler les prestataires des soins (médecins, laborantins, infirmiers) pour la prise e charge de la coinf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4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53:50Z</dcterms:created>
  <dc:creator>Etienne Bahati </dc:creator>
  <dc:description/>
  <dc:language>en-US</dc:language>
  <cp:lastModifiedBy>SG</cp:lastModifiedBy>
  <dcterms:modified xsi:type="dcterms:W3CDTF">2005-11-10T06:27:56Z</dcterms:modified>
  <cp:revision>13</cp:revision>
  <dc:subject/>
  <dc:title>DEFICIT BUDGETAIRE 2006</dc:title>
</cp:coreProperties>
</file>