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2B86-ABEF-4B21-B9A1-34111AE49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22 HBC, we have identified the main technical collaborator and the other key part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819-C639-4CE3-BCF0-F0F6E855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AB3-8883-435A-B4D5-3482E467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BC5B-261C-460E-8CA4-4C58B521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B5A2-1CD3-43A4-835E-81321146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541-1207-4951-89D7-1234D4DA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469B-167C-47C0-B56D-36F76376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C59B-D53E-499F-B946-5E48E1FB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7458-7B60-44A4-B3A5-C9C97F97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D862-0B31-4D8B-8827-C40CA61B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B952-A2F6-46B0-B7D2-523665BD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A38-8C5D-434A-9DA1-F218D92A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6BA-F8CA-4273-BCC7-67F4AC55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B400-159D-4460-A089-368459658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uilding a partners flagship mechanism to support countries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for the implementation of the GPS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How to translate money into increased capacity to control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remiah Chakay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éopold Blan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gosia Grzem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tional staff: include expertise in different areas, DOTS, Lab, TB/HIV, MDR, ACSM, OR etc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PO: national programme officers include expertise in different area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ve support is key in the process for planning, monitoring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2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755640"/>
          <a:ext cx="8785440" cy="55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55640"/>
                    <a:ext cx="878544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Country support estimates incl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for activities such as global/regional training to build countries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 to monitor progresses and exchange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external monitoring to discuss problems an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new approaches,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development, tool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cy and communication, social mob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Estimated HR needs for country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tional staff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M&amp;E, policy development, OR etc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150 to 35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50 at global/region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200 in countries/sub-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PO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80 to 52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 or more in each 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0 to 50 in large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"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coordination body for country suppo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op TB coalition for Technical Assist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s from countries/regions/partners are collected and tre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 by 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 within secretariat of "implementation" W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e staff at country and reg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sharing system of reports (web l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 "strongly" with GFATM portefolio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hop for consultants in December 2005  (GF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annual plan for country support which includes all aspects (TB/HIV, LAB etc..) and builds on existing partners involvement (in January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meeting of key agencies (including regional level) to discuss the global plan to support countries for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channelled directly to relevant organizations and through the trust fund of the Stop TB partnership secreta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in more detail the needs of countries to define better number of experts or consultants to suppor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urgently laborator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984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jor challenges for labora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availability of experts at international, regional and national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human resources at WHO Regional and Country Off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financial resources at the internationa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Insufficient allocation of financial resources at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Planning and implementation</a:t>
            </a: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Suboptimal planning, implementation and monitoring of laboratory improvement plans at Regional and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Suboptimal coordination among partners to ensure effective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Raise awareness of the crucial role of labora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roposal from the SLCS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ub-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the subgroup the status of a Working Group on Laboratory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sufficient financial resources to start implementing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This undertaking will ensure continues leadership, coordin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and guidance to accelerate expansion of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including access to culture and D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Immediate needs to start scaling up laboratory capacity 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4963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andardization of documents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Assessment of laboratory network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upport to count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Support to Regions and Countries in plan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r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Monitoring and eval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Meet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 Technical Assistance and Coordination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 Support to the Supranational Reference Laboratory Netwo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570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Request to the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guidance on the Stop TB coalition for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decision on the request fo the S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 in the Global DOTS Expansion Plan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5 year National strategic plan based on country needs and on National Health Developmen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1 year National operational plan based on the 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CC convened by the NTP to support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echnical agency supporting the country on strategic and 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-360360" y="1484280"/>
          <a:ext cx="7229520" cy="48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0360" y="1484280"/>
                    <a:ext cx="72295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425160"/>
            <a:ext cx="878544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tional Coordination (ICC): status in 22 HB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956960"/>
            <a:ext cx="826632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35000"/>
              </a:lnSpc>
              <a:spcBef>
                <a:spcPts val="5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1666800"/>
            <a:ext cx="295092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us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GTZ, KNCV, OSI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H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3657600"/>
            <a:ext cx="3780000" cy="100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ambod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JAT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JIC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RIT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hin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DFB,  DFID, GFATM, Japan, KNCV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hilippin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CIDA,  JICA, USAID, WB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tnam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L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1773360"/>
            <a:ext cx="3348000" cy="159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ngladesh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C, CIDA , DFB, USAID, WB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     (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DFID, DANIDA, GFAT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GLRA, USAID,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one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B, AUSAID, CIDA, GFATM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 NL, USAID,  WB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yanma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NDP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aila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  CDC, GFATM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4653000"/>
            <a:ext cx="4176720" cy="20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thiop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FATM, GLR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R Congo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B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eny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FHI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R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ozambiqu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LRA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KNCV, IUAT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iger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DFB, GLRA, KNCV, NLR, IUATLD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. Afric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anzan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WISS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Ugand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 GLRA, IC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Zimbabwe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65560"/>
            <a:ext cx="2411280" cy="50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razil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B, GLRA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USAI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73520" y="3124080"/>
            <a:ext cx="54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819520"/>
            <a:ext cx="3097440" cy="79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fghan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MEDAIR, NOR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ak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IUATLD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JICA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5000" y="1447920"/>
            <a:ext cx="2778120" cy="852840"/>
          </a:xfrm>
          <a:prstGeom prst="rect">
            <a:avLst/>
          </a:prstGeom>
          <a:solidFill>
            <a:srgbClr val="ffe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66cc"/>
                </a:solidFill>
                <a:latin typeface="Humanst521 Cn BT"/>
              </a:rPr>
              <a:t>-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Government leads N-I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ICC coordinates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WHO facilitate Gvt and partners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0400" y="6346800"/>
            <a:ext cx="2411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WHO office in all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* : WHO TB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urrent coordination: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coordinatio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of country missions every oth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eas of TB work (TB/HIV, MDR-TB, GDF, et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the 22 H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gions and key technical agencies (Union, KNCV, CDC, GLRA, DFB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a "coordinating agency" for each of the HBC and some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CTA/TB-CAP coordination linked with DEWG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gular information exchange from agencies and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ATM not sufficiently 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missions in countries (it increases the demand at country 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of visits not fully exploited (weak system to share them, with the exception of the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ituation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demand from countries (73 countries have GFATM grants, new WB loans/gr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verall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nagement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oader scope: DOTS+, TB/HIV, Lab, PPM, CTBC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coordination and response in certain field (lab for example..) and countries other than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funds to increase capacity to respond (ISAC, TBCTA, Back-up initiative, CIDA), some new perspective: TB-CAP (country le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GPSTB2: estimated needs average per year 2006-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26920" y="1830240"/>
          <a:ext cx="74170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30240"/>
                    <a:ext cx="74170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92360" y="378936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429264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3213000"/>
            <a:ext cx="18543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5734080"/>
            <a:ext cx="18417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upport to countries additional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ncreasing absorptive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510800">
            <a:off x="5410440" y="3345840"/>
            <a:ext cx="4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213000"/>
            <a:ext cx="504720" cy="360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ic and technical direc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ountry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itoring and evaluation (include imp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ion (global, regional, coun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cy and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development and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11-10T13:06:02Z</dcterms:modified>
  <cp:revision>84</cp:revision>
  <dc:subject/>
  <dc:title>Slide 1</dc:title>
</cp:coreProperties>
</file>