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709-82E1-4530-A045-213ABCB7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8871-9913-4D1F-83B3-AF8D7EF3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893-ED09-4BB8-BF2B-C7103903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2F8-FBC0-4C4C-AF63-4C1F168E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984C-3100-42D8-AD8D-FC5AD9AB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5EC4-F652-4040-A0CC-9EF58E31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6739-3ACB-4742-AEE2-129AC2A5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D463-E74F-4D3A-93A5-5DDC9F18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B701-2486-4AFE-95D2-E38017BF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CED2-846D-4EBB-95BC-9ED9B23A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AB84-4181-47CE-AD67-569D7912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EA9F-CDBB-4FF4-B57F-A6AC606B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97E9-9C87-4F18-B79B-CCCC891A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E054-9918-4B40-87D0-696F18E7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CC7D-BE21-4EA8-A7CD-23DEEA73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AFBC-257F-4A44-8506-6C2A5144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D31E-FF4E-4295-8FCA-3355A8B2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0D69-C757-4C40-8F1B-9DBF60CD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6A60-3B86-4D75-A4CE-2C231A06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94A-EBAC-48C6-9786-6564DE6C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0003-C01E-4BE3-90AB-96CC6232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D01-AE20-4CCA-90F4-CDE464C5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AC3-BC5B-440A-B131-AA25F82E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78D5-1B9B-4FD1-AEEC-2BC83026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0DC6-DDE0-43F0-9DE4-AECE68966941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7651-21A9-4669-B4FE-7561E09347B8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Patient Char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request to the CB is to endorse the draft of the Patient Charter and encourage the Secretariat to support the launch the final version of the Ch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403280" y="6524280"/>
            <a:ext cx="64008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N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2nd draft of the Patients´ Charter of the Tuberculosis Commun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utline both the Rights and Responsibilities of those infected by TB and to empower people with the disease and their communities through this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in tandem with the International Standards for Tuberculosis Care – focus on a “patient-centred approa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right aspect: “Right to heal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principles for more accountability and mutual interaction among all stakeholders within TB control – from patients to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 right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a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free and equitable access to TB-care, from diagnosis to treatment and cure according to patients need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Dign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be treated with respect and a quality health care in a dignifi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know what health care services are available  for TB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clear and understandable information about the dise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information about diagnosis, treatment, drugs, side-eff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share experiences with peers and voluntary counseling at any ti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Choo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accept or refuse any medication, investigation or treatment and be informed about the consequenc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whether or not take part in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Privac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ersonal privacy, dignity and religious and cultural beliefs respect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have medical conditions kept confid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ompla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Right to complain through channels provided for this purpose and dealt with promptly and fairl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appeal to a higher authority if not res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organiz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in/establish organisation and groups of people with or affected by TB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articipate as “stakeholders” in all levels of TB contro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secur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b security after diagnosis and appropriate rehabilit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nutritional security or food supplements if needed to meet treatment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s´ Responsi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share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ovide health care provider with necessary information about their health and possible close conta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follow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ollow prescribed and agreed treatment and protect oth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form the health care provider of treatment difficul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defend the commun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ncourage others to seek medical advice when showing TB symptom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consideration for the rights of other patients and health care provid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be empower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solidarity with other patien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are knowledge gained during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Join in efforts to make the community TB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09:59:51Z</dcterms:modified>
  <cp:revision>16</cp:revision>
  <dc:subject/>
  <dc:title>COMMUNITY EMPOWERMENT</dc:title>
</cp:coreProperties>
</file>