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B9BC8-0AB5-44AD-AD7A-A13B15C90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7D77C-0163-44E9-A424-0E2612B56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8892C-6A49-4C9A-A292-344A8920B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62B51-0ED5-4F62-9104-BF6FBF11D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2819D-A5C4-43FE-9327-05621452D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FC2A7-F597-4A0B-A989-675537F5A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EBE21-BA01-414E-A1C4-0CE2A0B94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006E3-1317-48A0-9BAB-84F5BEB6D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97CED-F0A5-4DE7-8B9D-5BE332358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6383B-6AE1-42E5-A89B-53D8FCEE1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A92FD-8FC4-450F-9443-5DE7D8AD6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11E04-17B8-4009-A57B-6998C2B31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E6B0B-F74D-4FE4-A37A-E59814A89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E7A67-973D-42E4-82EA-7AC28C687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11D8D-43B9-406F-91F1-1C48E707A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BEB59-26F6-4EB0-A52C-8D8B92F68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C25D9B-7EBA-40F2-A3E1-300388B05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15674-66D3-4BCA-90C6-CA2C303A1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B0254-AB5A-475E-BB9F-631BB571B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8C550-A9C5-4ECD-9915-B1D24C4CF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5329A-7AEF-4099-B297-E14ACFB02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FFFF5-197D-41E5-81AC-9A531711A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BAEFC-9A53-4CDA-BA91-073C6A917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9AD98-44EC-41A1-A214-33B6A8DA7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07649-480C-48D5-B361-440446C5ED3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4EA4-61F8-481F-81F7-4757AA027F0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7a4af"/>
                </a:solidFill>
                <a:latin typeface="Garamond"/>
              </a:rPr>
              <a:t>Plan of Action</a:t>
            </a:r>
            <a:endParaRPr b="1" lang="en-US" sz="6600" spc="-1" strike="noStrike">
              <a:solidFill>
                <a:srgbClr val="77a4af"/>
              </a:solidFill>
              <a:latin typeface="Garamond"/>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aramond"/>
              </a:rPr>
              <a:t>Intensified TB Control in Europe </a:t>
            </a:r>
            <a:endParaRPr b="0" lang="en-US" sz="44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Attached (final page) of the background paper 2.05-13.1 in your files.</a:t>
            </a: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7a4af"/>
                </a:solidFill>
                <a:latin typeface="Garamond"/>
              </a:rPr>
              <a:t>What do we want for Europe?</a:t>
            </a:r>
            <a:endParaRPr b="1" lang="en-US" sz="4400" spc="-1" strike="noStrike">
              <a:solidFill>
                <a:srgbClr val="77a4a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Effectively address the regional tuberculosis emergency in Eastern Europe and Central As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Why?</a:t>
            </a:r>
            <a:endParaRPr b="1" lang="en-US" sz="4400" spc="-1" strike="noStrike">
              <a:solidFill>
                <a:srgbClr val="77a4a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out of control in many Eastern European countries</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HIV-AIDS, MDR-TB and TB in prisons are  negatively affecting the epidemiological situation</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and MDR-TB pose an increasing risk for Central and Western European countri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1)</a:t>
            </a:r>
            <a:endParaRPr b="1" lang="en-US" sz="4000" spc="-1" strike="noStrike">
              <a:solidFill>
                <a:srgbClr val="77a4a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ke a comprehensive analysis of the TB situation in the country, taking into account specific challenges such as MDR-TB, risk-groups for tuberculosis, laboratory capacity and the overlap of the HIV /AIDS and TB epidemic</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velop country-specific TB control development plans that include all elements of the STOP TB strategy and the related budget</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mediately take action to limit the use of non-quality assured TB drugs </a:t>
            </a:r>
            <a:endParaRPr b="0" lang="en-US" sz="2800" spc="-1" strike="noStrike">
              <a:solidFill>
                <a:srgbClr val="000000"/>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2)</a:t>
            </a:r>
            <a:endParaRPr b="1" lang="en-US" sz="4000" spc="-1" strike="noStrike">
              <a:solidFill>
                <a:srgbClr val="77a4a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mpowerment of communities and civil society in TB control</a:t>
            </a:r>
            <a:endParaRPr b="0" lang="en-US" sz="32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EU member States to build political commitment within the EU</a:t>
            </a:r>
            <a:endParaRPr b="0" lang="en-US" sz="28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high income, low TB prevalence countries to maintain an adequate level of TB control services and to offer both technical and financial support to high prevalence TB countries in Europ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Technical Agencies</a:t>
            </a:r>
            <a:br>
              <a:rPr sz="4000"/>
            </a:br>
            <a:endParaRPr b="1" lang="en-US" sz="4000" spc="-1" strike="noStrike">
              <a:solidFill>
                <a:srgbClr val="77a4a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prepare themselves to be able to deliver massive high quality Europe-specific technical assistance, covering all elements of the STOP TB strategy</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ssist in fundraising, targeting existing and new donor agencie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ctively coordinate and collaborate in order to maximally benefit from each others specific expertise and comparative advantages </a:t>
            </a:r>
            <a:endParaRPr b="0" lang="en-US" sz="2800" spc="-1" strike="noStrike">
              <a:solidFill>
                <a:srgbClr val="000000"/>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the Coordinating Board</a:t>
            </a:r>
            <a:br>
              <a:rPr sz="4000"/>
            </a:br>
            <a:endParaRPr b="1" lang="en-US" sz="4000" spc="-1" strike="noStrike">
              <a:solidFill>
                <a:srgbClr val="77a4a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rease awareness and commitment of donor agencies to the emergency of TB and MDR-TB in Europe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ort the development of a detailed blueprint for intensified action to control TB and MDR-TB in Eastern Europe and eliminate TB in Western Europe</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dorse the organization of a European high-level ministerial forum to ensure Regional collaboration in the fight against TB and MDR-TB and increased financial contributions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e and support the establishment of a Regional Stop TB Partnership.</a:t>
            </a:r>
            <a:endParaRPr b="0" lang="en-US" sz="2800" spc="-1" strike="noStrike">
              <a:solidFill>
                <a:srgbClr val="000000"/>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ADOPTION</a:t>
            </a:r>
            <a:endParaRPr b="1" lang="en-US" sz="4400" spc="-1" strike="noStrike">
              <a:solidFill>
                <a:srgbClr val="77a4a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Support for these recommendations and suggestions for further effective action.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4:58:08Z</dcterms:created>
  <dc:creator>bakerl</dc:creator>
  <dc:description/>
  <dc:language>en-US</dc:language>
  <cp:lastModifiedBy>bakerl</cp:lastModifiedBy>
  <dcterms:modified xsi:type="dcterms:W3CDTF">2005-11-11T07:35:29Z</dcterms:modified>
  <cp:revision>8</cp:revision>
  <dc:subject/>
  <dc:title> Recommendations to  Technical Agencies </dc:title>
</cp:coreProperties>
</file>