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F089-AE64-4694-B7C4-720041A52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AD97-CD4C-4FE5-B60B-C09D18C3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A8CA-E975-4FBE-BEAA-8EB4514B8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AE72-CCDE-4B3A-923B-F7FD9F677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27BC9-8EED-4075-B079-C55C6B94C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B59C-34B4-4E3D-9DB3-CB9C410F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0B37-FCC8-4D8E-9AD9-6C8555D8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0B0B-BEA3-403D-A41C-561F8BC2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F38E-D07D-42D5-8F50-962857F7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FE6C-B4CC-430B-B11E-ABCF890E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C06E-4184-4464-A6A9-D100BA7C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8860-63A1-465D-8844-9B12B496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412B-7FDC-44F1-8EEC-5BCD1360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21E9A-9298-4C4A-8DD7-651D1404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7B6C6-E751-40AA-B362-C16F8387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B2A2-159A-4499-BD07-C56849E93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9394-2E04-4FFF-91E3-423EB6519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9401-C5F3-4DCC-8EFD-B1ED2828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70AC-4401-4E2B-86D3-23920DCD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7BDE-EAC6-474C-853D-00201B34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EFCF-A9C8-46D7-B57B-23219BBC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A65D-A8D8-4C7F-8694-FCEBD8D2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F6F0-DC30-429D-A237-31B94CCA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9ED8-4D08-48A1-984D-BAA8807F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E3A5-E956-49BD-8D20-F3E4A11A941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4E74-54EC-44FF-B1F3-E7EA313B979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1280" y="1628640"/>
            <a:ext cx="8964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Tahoma"/>
              </a:rPr>
              <a:t>THE GLOBAL PLAN: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Tahoma"/>
              </a:rPr>
              <a:t>THE COST OF GLOBAL TB CONTRO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Giorgio Roscigno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Coordinating Board Meeting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0 November, 2005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ssisi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Financing </a:t>
            </a:r>
            <a:br>
              <a:rPr sz="3600"/>
            </a:b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implication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Plan to be used for resource mobilis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Implications for national governmen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Implications for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465280" y="905040"/>
            <a:ext cx="4224600" cy="597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resentation o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lobal Plan to Stop TB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7080" y="1413000"/>
            <a:ext cx="867564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Outline of presentation on the Global Pla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Background: the planned achievemen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Cos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messag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Financing implication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Background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Ten years' planned achievements: highlights of the Global 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50 million people treated for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14 million lives save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Stop TB Partnership targets for 2015 achieved global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Tremendous progress in all reg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First new TB drug for 40 years in 2010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Diagnostics at point of care – rapid, sensitive and inexpensive TB diagnosis by 2010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New, safe, effective and affordable vaccine by 201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Global Plan </a:t>
            </a:r>
            <a:br>
              <a:rPr sz="3600"/>
            </a:b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cos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Country needs, R &amp;D, external agenc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Investment according to Working 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Available funding and ga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8569080" cy="512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8713800" cy="494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896472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Key messag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640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A global plan for a global campaig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$56 billion investment yields large rewards: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50 million TB patients treat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14 million lives sav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Need to collaborate with others to succe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The ultimate goal depends on continued innovation (in vaccines, drugs and diagnostic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We can get there! PLAN X RESOURCES = RESULT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maherd</cp:lastModifiedBy>
  <dcterms:modified xsi:type="dcterms:W3CDTF">2005-11-08T16:48:53Z</dcterms:modified>
  <cp:revision>146</cp:revision>
  <dc:subject/>
  <dc:title>Slide 1</dc:title>
</cp:coreProperties>
</file>