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A61F-D51F-4CBD-A9E2-FFB83F48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84EA-63A4-45B2-8769-63788D86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D9A7-C59F-4336-AFFD-D1EEF8E2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3B69-6C98-43D9-887E-168287EA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5D7E-28C9-47CD-9B73-F68BF7D0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12A4-F56B-476E-9969-5BE9C0A0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0C7F-0743-49F5-8902-7D3FD84E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30C5-93A5-44EC-8066-80985607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ABC6-1D70-448B-8474-707AAFCB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F3D0-56B8-40B7-966D-64CD1014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54E3-D0A1-4679-A5EA-2D99F9EF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B1D-7429-4D15-8C6E-663F683A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0505-D0DD-493E-8AD6-E3F5E3FCC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42560" y="4339800"/>
            <a:ext cx="69138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 Force conven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trategic and Technical Advisory Group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ST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uberculosis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easuring Progress Toward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Millennium Development Goal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or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4 Questions for Stop TB </a:t>
            </a:r>
            <a:br>
              <a:rPr sz="4400"/>
            </a:b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ordinating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3760" y="2349000"/>
            <a:ext cx="8580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alue of the proces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ope of the process (e.g. add financial monitoring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-year consultation or 10-year collabo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urces of fund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899640" y="3284640"/>
            <a:ext cx="7201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 a costed plan to measure progress towards the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Millennium Development Goals 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for TB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000" y="1051920"/>
            <a:ext cx="848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ON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COPE AND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5 targets for global TB control</a:t>
            </a:r>
            <a:br>
              <a:rPr sz="4000"/>
            </a:br>
            <a:r>
              <a:rPr b="1" lang="en-GB" sz="3700" spc="-1" strike="noStrike">
                <a:solidFill>
                  <a:srgbClr val="cc0000"/>
                </a:solidFill>
                <a:latin typeface="Arial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cc00"/>
                </a:solidFill>
                <a:latin typeface="Arial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663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lementation (D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70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8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3 (target year 2015 cf 1990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Prevalence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(&lt; 1m dea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914400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KEY DATES FOR THE TASK F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60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 questions, 28 October 2005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mission of answers to WHO (all receive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B CB, 10-11 November 2005, Ass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 of process and approximat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G, June 2006, Genev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 costed plan for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t consultation (WHO, NGOs, MoH, donors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ussion paper (WHO H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key questions about meas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B CB Assisi for advic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e, scope and future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and implementation of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s of f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drafted by a core writing committee based 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opi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 of parallel research (e.g. inventory of surveys, review of costs, appraisal of survey method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commendations to STAG in June 2006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veillance and survey methods 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surveys should be d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s of measurement, funding 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MEMBERSHIP </a:t>
            </a:r>
            <a:br>
              <a:rPr sz="4000"/>
            </a:b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September 200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381636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O (HQ + 6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Metric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tes Found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DC U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uro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A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UAT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2205000"/>
            <a:ext cx="3816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panese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C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ean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C Chenn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dividual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uggestions for other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10 CONTROVERSIAL QUESTIONS FOR THE TASK FORCE 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itoring of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imating incidence, prevalence, dea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ease prevalence surve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uberculin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utine surveillance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ertification that targets have been m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technology, new analytical methods and measurement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uidelines on measu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Resources needed to measure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40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STS 2006-15</a:t>
            </a:r>
            <a:br>
              <a:rPr sz="44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round numbers – to be refi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348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prevalence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tuberculin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investigations of 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rveillance system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otal cost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$2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rgent need: project manager (WHO Gen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1:08:01Z</dcterms:created>
  <dc:creator>dye</dc:creator>
  <dc:description/>
  <dc:language>en-US</dc:language>
  <cp:lastModifiedBy>bakerl</cp:lastModifiedBy>
  <dcterms:modified xsi:type="dcterms:W3CDTF">2005-11-02T12:21:34Z</dcterms:modified>
  <cp:revision>37</cp:revision>
  <dc:subject/>
  <dc:title>Measuring Progress Towards the  Millennium Development Goals for TB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96865495</vt:r8>
  </property>
  <property fmtid="{D5CDD505-2E9C-101B-9397-08002B2CF9AE}" pid="3" name="_AuthorEmail">
    <vt:lpwstr>dyec@who.int</vt:lpwstr>
  </property>
  <property fmtid="{D5CDD505-2E9C-101B-9397-08002B2CF9AE}" pid="4" name="_AuthorEmailDisplayName">
    <vt:lpwstr>Dye, Christopher</vt:lpwstr>
  </property>
  <property fmtid="{D5CDD505-2E9C-101B-9397-08002B2CF9AE}" pid="5" name="_EmailSubject">
    <vt:lpwstr>Martien Borgdorff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