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BEF61-0574-44D4-8D92-586D07A1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4D552-358F-41BD-8DC8-6485B7DB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E043D-DB7F-4B1F-944E-4D23FE66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7E773-D439-463B-93C5-FF1BFD52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9980-84DC-404E-8DF7-C2FAB7FF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94C3-5841-4788-8715-DCD3FC5E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8E29-792C-4719-BD30-C47B916C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D1CD-1E34-4116-90E8-177D465B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C1AB-D4A4-4B58-B8BF-1AF3A68C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0386-1B4D-43FB-8AE3-6768A918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9652-7129-4262-B633-7950D67E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08F62-A0BE-4AA6-B7E2-406C6D6C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C45A-2414-439C-AE8B-8FC340B7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F6A0-2D94-4CE2-A40C-E71CABE7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08DB-40A5-434A-B05C-F2089B1E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0EBD-4CA8-443B-A5EC-163AD42C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F46D-9298-40FE-A9A4-39752698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4235A-3AC7-44B1-A2C1-4EBF88E7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D506A-34EA-458E-ADA4-6D03662F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F1B6A-6F0E-47E3-892F-D0383211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05E1F-8879-4E6C-84A7-1926E8EA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3F490-0165-427F-9346-2823A47C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E0310-20B5-44ED-934F-69F30070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B0E51-7EC5-4563-9E92-443B865F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5DAB-601B-4248-820B-127A03C07E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7D4D-8802-4F9D-B634-ECEE34DD5E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640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UNFUNDED NEEDS 2006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NPT-DR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ASSISI ITALY 10-11 Nov 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Garamond"/>
              </a:rPr>
              <a:t>Ministère de la santé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700280"/>
          <a:ext cx="8229600" cy="4824000"/>
        </p:xfrm>
        <a:graphic>
          <a:graphicData uri="http://schemas.openxmlformats.org/drawingml/2006/table">
            <a:tbl>
              <a:tblPr/>
              <a:tblGrid>
                <a:gridCol w="6264360"/>
                <a:gridCol w="19652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Équipement des bureaux (cplt et unité centr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2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s dépôt médicament cplt (22 CPL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 CDV de quelques Csdt (100 CSD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Transport  médicaments à l’intérieur du pays, et carbura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4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Supports d'in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4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DEFICITS COMPLEMETAIRES AU BUDGET 2006 en $us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989000"/>
          <a:ext cx="8218080" cy="3670920"/>
        </p:xfrm>
        <a:graphic>
          <a:graphicData uri="http://schemas.openxmlformats.org/drawingml/2006/table">
            <a:tbl>
              <a:tblPr/>
              <a:tblGrid>
                <a:gridCol w="6313680"/>
                <a:gridCol w="1904400"/>
              </a:tblGrid>
              <a:tr h="16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ûts des ARV pour 2006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(soumis dans la composante </a:t>
                      </a: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Vih-Sida ;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nd mondia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319 1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pplémen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laire du personnel de la périphéri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pour 2006 (soumis dans la composante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appui aux structures des soins",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Fond mondi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Garamond"/>
              </a:rPr>
              <a:t>RDC: GENERALITES / DRC: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14360"/>
            <a:ext cx="44956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SUPERFICIE/SIZ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.345.000 k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OPULATION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58.000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&lt; 20 ans: 57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IB/GDP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en $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358 (’58), 100 (’85), 74 (‘0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IDH/HDI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0,3655 (‘04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EMPLOI/EMPLOYMENT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6 % (‘98)  7 % (‘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REVENUS/INCOM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0,30 $ us/J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MALNUTR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10 % (‘95)  16 % (’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18000" y="1295280"/>
            <a:ext cx="46260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77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ORGANIZATION DE LA SANTE / HEALTH SYSTEM ORGAN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600200"/>
            <a:ext cx="4773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udget annuel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Annual health budget: </a:t>
            </a:r>
            <a:r>
              <a:rPr b="1" lang="fr-FR" sz="2400" spc="-1" strike="noStrike">
                <a:solidFill>
                  <a:srgbClr val="ffffff"/>
                </a:solidFill>
                <a:latin typeface="Garamond"/>
              </a:rPr>
              <a:t>&lt; de 2% de 1000.000.000 $ 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olitique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soins de santé primaires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Health policy: primary health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515 zones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1/2 non fonctionnel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515 health zones: 1/2 non-func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11 provinces, 20 CPLT, 991 CSDT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11 provinces, 20 CPLT, 991 TTC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788000" y="1700280"/>
          <a:ext cx="4356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00280"/>
                    <a:ext cx="4356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5e5ff"/>
                </a:solidFill>
                <a:latin typeface="Garamond"/>
              </a:rPr>
              <a:t>Five years plan budget 2006-20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TOTAL: 112.565.788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Received from GF: 36 M out of 43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Year 1 needs: 25 M and 5 M unfundeed pl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3.319.123 USD for 41.000 coinfected patients ARV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1.000.000 USD for the support of basic health care system (personnel motivation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8000" y="122400"/>
            <a:ext cx="8856720" cy="65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16000" y="216000"/>
          <a:ext cx="9144000" cy="6807240"/>
        </p:xfrm>
        <a:graphic>
          <a:graphicData uri="http://schemas.openxmlformats.org/drawingml/2006/table">
            <a:tbl>
              <a:tblPr/>
              <a:tblGrid>
                <a:gridCol w="2916000"/>
                <a:gridCol w="6228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PARTENAIRES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TYPE DE PARTENARIAT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list institution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. GLOBAL FUN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du PNT (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et CPLT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. USAI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&amp;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, EQN, POE, MANIEMA, SANKUR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. GDF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rovisionnement en m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icaments (2/3 des besoins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. CDC-ATLA. (UN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CHERCHE OPERATIONNE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. UICTM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. OM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. LNA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 (MOSO) et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2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. Fondation Damie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10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. TLM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7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0. ALM, FOPERDA, UB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3 CPLT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95400" y="646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903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UDGET ANNONCE PAR PARTENAIRES POUR 2006 en $US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0920" y="1197000"/>
          <a:ext cx="8640720" cy="5322960"/>
        </p:xfrm>
        <a:graphic>
          <a:graphicData uri="http://schemas.openxmlformats.org/drawingml/2006/table">
            <a:tbl>
              <a:tblPr/>
              <a:tblGrid>
                <a:gridCol w="2808360"/>
                <a:gridCol w="1023840"/>
                <a:gridCol w="1000080"/>
                <a:gridCol w="330480"/>
                <a:gridCol w="669960"/>
                <a:gridCol w="922320"/>
                <a:gridCol w="877680"/>
                <a:gridCol w="1008000"/>
              </a:tblGrid>
              <a:tr h="11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ES OU RUBRIQUES DE DEPEN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dget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uvern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ê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tenai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mobiliser (c+d+e+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ter à mobiliser pour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08 0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9 3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5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69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9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 6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4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8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2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123 7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2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5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âtiments, équipements (véhicules, labo/bureau, etc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9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01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047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75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3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8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 325 6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 206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 899 8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 135 9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EFICIT BUDGETAIRE PAR RUBRIQUES DE DEPENSE 2006 en $Us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435880" cy="4987800"/>
        </p:xfrm>
        <a:graphic>
          <a:graphicData uri="http://schemas.openxmlformats.org/drawingml/2006/table">
            <a:tbl>
              <a:tblPr/>
              <a:tblGrid>
                <a:gridCol w="6059520"/>
                <a:gridCol w="237636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1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0920" y="1413000"/>
          <a:ext cx="8893080" cy="5360760"/>
        </p:xfrm>
        <a:graphic>
          <a:graphicData uri="http://schemas.openxmlformats.org/drawingml/2006/table">
            <a:tbl>
              <a:tblPr/>
              <a:tblGrid>
                <a:gridCol w="6708600"/>
                <a:gridCol w="2184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intermédiaire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ncitatives et motivations pour fournisseurs des soins membres de la communaut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80 9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du personnel supplémentaires aux csd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986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partiels médecins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4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Infirmiers cplt des grands  CSDT avec CDV (&gt; de 200 nc tb /an)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er et recycler les prestataires des soins (médecins, laborantins, infirmiers) pour la prise e charge de la coinfe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4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2:53:50Z</dcterms:created>
  <dc:creator>Etienne Bahati </dc:creator>
  <dc:description/>
  <dc:language>en-US</dc:language>
  <cp:lastModifiedBy>SG</cp:lastModifiedBy>
  <dcterms:modified xsi:type="dcterms:W3CDTF">2005-11-10T06:27:56Z</dcterms:modified>
  <cp:revision>13</cp:revision>
  <dc:subject/>
  <dc:title>DEFICIT BUDGETAIRE 2006</dc:title>
</cp:coreProperties>
</file>