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FAF-55FC-48A3-9779-7BEE45B2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8492-4EC0-4302-9BF5-8ABDDBE8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D69-2FEB-401B-A8D0-00872373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AFC-EF07-483C-BC52-80A1D6C1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3E84-10DD-4A78-933F-F5D0B9C1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D624-BF69-4140-8505-29FE3B47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7997-F33C-4A3D-858A-9D40265F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5F42-44E9-415A-BE5D-87FFE2FE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DEFA-C1C6-4E18-A195-4D8353BC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C515-0530-4867-AADC-D316DC42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2B9E-3648-415E-85F3-897DF15D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4810-F104-4572-B469-B8B4A086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0552-8A8B-41E0-B9A1-98320CCC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EFCA-9421-4EBB-AF64-25C4A8D0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462B-58E2-4B3C-A25C-E0EFC2EC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4A74-F1F1-4002-8A4F-C189C596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8CA5-5128-4E39-AC7D-706EBA0A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BA9-3033-417B-AA30-8D27487D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35E5-9798-4AD2-BE09-0B992F92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C0BD-B122-4FF3-A9A7-1FE4FB0D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9A5-B1BD-4CBC-8642-0F55D551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51D-E8E2-4337-8BE4-FC798C43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467-89F5-4237-9E1C-47ACDD5F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724-3339-4721-A3C7-B2E1AB55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DECA-D477-4424-820B-A520857EDA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E8EE-5750-4DD6-8527-E99A3922BE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top TB Partnershi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KOCHON A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05 Establishment of an Annual Stop TB Partnership/Kochon Foundation Pr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$ 100 000 to cover the prize and associated costs (travel 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 to the Foundation by representatives of Koch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ree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ablish Selection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ce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u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itment to fighting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iginality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n TB Control or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ect of a Partnership/Kochon Award on the work of the recip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OMINATING COMMITT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 Board Member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vember 2005: Establish Selection Committee (3 Board Members + WHO + Koch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ember 2005: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bruary 2006: Deadline for no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ch 2006: Prize Aw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te 2006: 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26:09Z</dcterms:created>
  <dc:creator>bakerl</dc:creator>
  <dc:description/>
  <dc:language>en-US</dc:language>
  <cp:lastModifiedBy>bakerl</cp:lastModifiedBy>
  <dcterms:modified xsi:type="dcterms:W3CDTF">2005-11-09T16:35:54Z</dcterms:modified>
  <cp:revision>2</cp:revision>
  <dc:subject/>
  <dc:title>Stop TB Partnership </dc:title>
</cp:coreProperties>
</file>