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71F7-417B-477D-A197-E45D062E2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667C-BA0F-45D0-BD7A-31E4BD40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1BAA-AC37-4F4D-8BD0-2CAC57649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5493-ABB9-40BA-9597-7832C8413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D6DD-4CF0-4E9D-B123-E2762171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67D2-0673-42B5-AE66-C37C5609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540B-2792-43B8-933F-A6D8E00E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ACA5-14A3-4F6F-A7F8-3EDCD5D7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F4ED-C158-4F27-BE34-AF8B0EC5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E8FE-1038-41D8-BD09-EAA55E86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A22D-1CE4-465C-B428-B487CE28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9DCD-3C39-4372-A139-2C0875A1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DC07-19DA-410F-A7AA-4D60C21F9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42560" y="4339800"/>
            <a:ext cx="691380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sk Force conven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trategic and Technical Advisory Group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STA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op Tuberculosis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orld Health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easuring Progress Toward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Millennium Development Goal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for TB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90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4 Questions for Stop TB </a:t>
            </a:r>
            <a:br>
              <a:rPr sz="4400"/>
            </a:b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Coordinating 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3760" y="2349000"/>
            <a:ext cx="8580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alue of the proces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ope of the process (e.g. add financial monitoring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-year consultation or 10-year collabor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urces of funding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899640" y="3284640"/>
            <a:ext cx="7201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Develop a costed plan to measure progress towards the </a:t>
            </a: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Millennium Development Goals </a:t>
            </a: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for TB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000" y="1051920"/>
            <a:ext cx="848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TASK FORCE ON MEASU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COPE AND PURP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2565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5 targets for global TB control</a:t>
            </a:r>
            <a:br>
              <a:rPr sz="4000"/>
            </a:br>
            <a:r>
              <a:rPr b="1" lang="en-GB" sz="3700" spc="-1" strike="noStrike">
                <a:solidFill>
                  <a:srgbClr val="cc0000"/>
                </a:solidFill>
                <a:latin typeface="Arial"/>
              </a:rPr>
              <a:t>MILLENNIUM DEVELOPMENT GOALS</a:t>
            </a:r>
            <a:br>
              <a:rPr sz="3700"/>
            </a:br>
            <a:r>
              <a:rPr b="1" lang="en-GB" sz="3700" spc="-1" strike="noStrike">
                <a:solidFill>
                  <a:srgbClr val="ffcc00"/>
                </a:solidFill>
                <a:latin typeface="Arial"/>
              </a:rPr>
              <a:t>"to have halted and begun to reverse incidence.."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663640"/>
            <a:ext cx="9144000" cy="42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Implementation (DO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Indicator 24 (target year 2005)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Case detection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70%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Treatment success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85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Indicator 23 (target year 2015 cf 1990)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Prevalence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50% of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≈ 300/100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Deaths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50% of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≈ 30/100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(&lt; 1m deat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01520"/>
            <a:ext cx="9144000" cy="66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KEY DATES FOR THE TASK FO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60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 questions, 28 October 2005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mission of answers to WHO (all receive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B CB, 10-11 November 2005, Assi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y of process and approximate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G, June 2006, Geneva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 costed plan for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ert consultation (WHO, NGOs, MoH, donors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ussion paper (WHO H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 key questions about measur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B CB Assisi for advic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ue, scope and future of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and implementation of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rces of fun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 drafted by a core writing committee based 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t opin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s of parallel research (e.g. inventory of surveys, review of costs, appraisal of survey method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commendations to STAG in June 2006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veillance and survey methods an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surveys should be d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s of measurement, funding 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TASK FORCE MEMBERSHIP </a:t>
            </a:r>
            <a:br>
              <a:rPr sz="4000"/>
            </a:b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September 200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381636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O (HQ + 6R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alth Metrics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ates Found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DC U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uro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FAT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UAT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88000" y="2205000"/>
            <a:ext cx="38163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panese Inst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C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rean Inst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C Chenna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dividual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Suggestions for other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56908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10 CONTROVERSIAL QUESTIONS FOR THE TASK FORCE 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s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nitoring of treatment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imating incidence, prevalence, death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ease prevalence survey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uberculin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outine surveillance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ertification that targets have been m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w technology, new analytical methods and measurement proced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uidelines on measur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Resources needed to measure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0400" y="333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COSTS 2006-15</a:t>
            </a:r>
            <a:br>
              <a:rPr sz="4400"/>
            </a:b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round numbers – to be refin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6348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2 prevalence survey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2 tuberculin survey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investigations of 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rveillance system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1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chnical assista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m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Total cost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$25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Urgent need: project manager (WHO Gene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1:08:01Z</dcterms:created>
  <dc:creator>dye</dc:creator>
  <dc:description/>
  <dc:language>en-US</dc:language>
  <cp:lastModifiedBy>bakerl</cp:lastModifiedBy>
  <dcterms:modified xsi:type="dcterms:W3CDTF">2005-11-02T12:21:34Z</dcterms:modified>
  <cp:revision>37</cp:revision>
  <dc:subject/>
  <dc:title>Measuring Progress Towards the  Millennium Development Goals for TB Contr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96865495</vt:r8>
  </property>
  <property fmtid="{D5CDD505-2E9C-101B-9397-08002B2CF9AE}" pid="3" name="_AuthorEmail">
    <vt:lpwstr>dyec@who.int</vt:lpwstr>
  </property>
  <property fmtid="{D5CDD505-2E9C-101B-9397-08002B2CF9AE}" pid="4" name="_AuthorEmailDisplayName">
    <vt:lpwstr>Dye, Christopher</vt:lpwstr>
  </property>
  <property fmtid="{D5CDD505-2E9C-101B-9397-08002B2CF9AE}" pid="5" name="_EmailSubject">
    <vt:lpwstr>Martien Borgdorff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