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7F5F-94C3-4BC0-B1AC-F3D2B19DF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4AA7-BB73-49A4-9431-02345F96B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40EC-B13B-4A64-AE5E-3C70AED10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081A-FF3D-4831-8164-96445E1DE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9BD50-9058-46A8-AA78-C887DFD3C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06F11-C97A-4A6F-92C0-4FAE851DE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817C0-C43E-49A6-9A74-F76C59A6E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026FC-A217-4A6B-B747-F4F1DD9D9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19030-99F8-40AD-AED8-CE3B923B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57091-E457-4721-AF96-BD4C5CB8E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CBA69-F157-4EDB-8DD8-A892AA55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3CE8-FFEE-489D-929D-3D85A8320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D50B4-669A-4CDD-B561-AF6DF1C8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6B4D0-597E-4453-9BF7-5A4C7D0E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6A376-C857-449C-830B-91A2EE030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EE327-0333-4AA5-9DA6-65DC33580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8598D-6C2C-4429-B05E-EF82042B8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46F1-147F-464D-8C4A-F315882D4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E58D-3CE5-4929-A82C-B2917F9E2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F874-A44F-4D12-AB57-A72E57427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DE61-4700-4C22-BD39-4905740F5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AF8E-528A-4619-8D7F-68E75C44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6348-EA32-47DD-8557-81F1000B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4393-BCD1-41C4-BCC9-AD9A4A05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59200-E3E6-4BC2-9A10-8CD026A34AC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85AC4-A042-4D09-BEDE-855384B545D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b9efee"/>
                </a:solidFill>
                <a:uFillTx/>
                <a:latin typeface="Garamond"/>
              </a:rPr>
              <a:t>COMMUNITY EMPOWERMEN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ucy Chesi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munity Representative: C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B and TB/HIV Advoc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ssisi -Ita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OTHER MECHANISMS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velop a linkage between TB activism and TB research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ed to take stock of all the stakeholders within the TB control fraternit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velop a coordinating mechanism between the community representatives on the different working group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nitoring and evalu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b9efee"/>
                </a:solidFill>
                <a:latin typeface="Garamond"/>
              </a:rPr>
              <a:t>Expected Outcom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mproved case detec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tion in defaulter rat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igma reduction more so associated with HIV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re PLWHAS on CPT and IP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pansion/support  for DCT in TB clinic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neral quality of Care for TB, MDR-TB and TB/HIV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tter patient adher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b9efee"/>
                </a:solidFill>
                <a:latin typeface="Garamond"/>
              </a:rPr>
              <a:t>Intensified commitment is required in order to turn the declarations to  deeds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Garamond"/>
              </a:rPr>
              <a:t>And promises to programm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Lest you forget.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100 year old TB is now married to the young HIV/AIDS and the honey moon is costing more liv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THANK 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OU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WHO ARE WE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  ?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 are  members of the community living with the diseas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B ,MDR-TB and TB/HIV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 are not –suspec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- cas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- victim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Each working group now has 2 community representativ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WHY ADVOCACY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ublic health ,human rights and social science all demand that no one should die of a curable/treatable condi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us the 2 million deaths is totally unacceptable and unnecessa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ts time to turn the tide, embrace a bolder notion and give TB a political face ,for every life has an equal valu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ADVOCACY c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munity advocacy and activism are essential to ensure the growth and sustainability of TB programm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vocacy should thus be at all levels, globally ,regionally ,nationally and locall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vocacy that scales up to the Global Plan 2 strateg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ive a man fish and you feed him for a day, yet when you teach him to fish you feed him for lif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CALL FOR AC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cognize the importance of engaging people with  TB and the affected community  and thus have us at all levels of TB awareness ,prevention ,care and treatment programm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vestment of community participation through provision of adequate resourc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TB services for all via better diagnostics of smear negative ,pediatric TB ,TB/HIV and MDR-TB among othe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CALL FOR ACTION c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vision of TB services to all vulnerable groups – PLWHAS ,drug users ,the unemployed etc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ed for new tools to Stop TB for prevention ,diagnosis ,treatment and cu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velopment of shorter drug combinations and new vaccin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WAY FORWARD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eed for active community participation as outlined by GIPA and GIP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quest for a permanent position with in the secretariat – focal pers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quest for 2 community representatives at each C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option of the  patients charte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cumentation of the community powered initiatives ,this too can be put on the STOP TB web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RESOURCE MOBILIZA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ve a community powered secretaria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pacity building for community representatives on the working groups and TB champi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ild a pool of trainers in different areas e. g  TB ,TB/HIV and MDR-TB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dgetary allocation for community centered activities  – 250,000 USD year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b9efee"/>
                </a:solidFill>
                <a:latin typeface="Garamond"/>
              </a:rPr>
              <a:t>Resource Mobilisa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Re -double effort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Education through aggressive treatment literacy campaign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Information dissemination through the medi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Continued advocacy that raises the TB profi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Ensure that there is a greater partnership that is built with National TB programmes at country level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Documentation of activities that are patient drive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5:06:42Z</dcterms:created>
  <dc:creator>Robby</dc:creator>
  <dc:description/>
  <dc:language>en-US</dc:language>
  <cp:lastModifiedBy>PV002</cp:lastModifiedBy>
  <dcterms:modified xsi:type="dcterms:W3CDTF">2005-11-11T10:00:06Z</dcterms:modified>
  <cp:revision>10</cp:revision>
  <dc:subject/>
  <dc:title>COMMUNITY EMPOWERMENT</dc:title>
</cp:coreProperties>
</file>