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8E9C-A0D1-4D13-B188-D63115E6C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2F13-E643-4546-8B7A-5744DDD6D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F132-1656-4168-810B-32EEDB558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C8CC-FCD2-470F-AD14-BE52EB167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885F9-5FAA-4308-8E42-79082CD0E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D9B4E-CDA9-4858-827A-BB0E881DF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9684E-11ED-4888-8202-A82C0DEAC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9D3D2-B4FA-46DD-9FE8-39C5E5A34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827EA-2DC6-4276-8D59-B54D43BCB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A75AD-5658-4156-A6F0-D2DEE6B4C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F0DAF-34FE-4B60-9D71-7C5FFC58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C812-18D8-4530-B26F-297DEC9D8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0BCB5-02E2-49A6-ABBB-8100A0779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E0CAD-6FF7-408E-98E7-55EA7346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B826A-46DD-4A98-B8EA-F994A7545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54064-1A6F-4C9B-879F-4A5FA38B2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657B2-0798-4DD3-8018-C5C954D13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5066-4E8C-49BF-8F74-C1444262B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5AC5-C56E-4517-A52D-8B4894C6F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2EA2-474D-4520-A41D-66A95A5DD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3C64-07CB-43CC-B16E-6F29659C1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A4CF-9B2E-4152-ACBE-9DB14234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40FE-90D8-4CE8-945A-57A7DFB41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41A9-EB1D-46B3-9920-A6D338541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87D04-4C73-4784-8785-8238E42620B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D66E8-F9FC-4ABB-AC8A-46482A7E7F1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4724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  </a:t>
            </a:r>
            <a:br>
              <a:rPr sz="3200"/>
            </a:b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National TB Control Programme </a:t>
            </a:r>
            <a:br>
              <a:rPr sz="2000"/>
            </a:b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76320" y="76320"/>
            <a:ext cx="9067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Stop TB Pakistan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Progresses and challeng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743280" y="2705040"/>
            <a:ext cx="1644840" cy="1714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2DDDA-57C7-48BC-A83D-B691AF87039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STOP TB Pakistan: the partner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 officio: MOH represented by NTP Pakist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O Pakistan being the host organ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r-Agencies Coordination Committee memb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kistani partners of the Global Partnership willing to adhe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ociations/institutions named by at least 2 partn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presentation of CCM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20DF-DDBA-4639-ACD4-ACAB31E8C9D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Progresses 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U between WHO Pakistan  endorse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nds for set up of secretariat for one year secure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sts of Executive secretary and one secretary  advertis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k plan for next six months developed on the basis of the available funds including mass media campaign by Good will ambassador (Dec 05)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CE05-AE62-49E5-8680-4F1394B7841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Challenges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hort Term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aling with Earthquake v/s TB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ong Term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ke TB control activities in Pakistan sustainable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FC90-8AF3-48F0-B1E0-37C58354476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Future Needs of the Partnership Secretariat 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ources t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Sustain Stop TB secretariat beyond 200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Enhance the strength of the Secretariat (one Communication officer and one technical officer to be recruited)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E1C4-3A7E-4867-9206-E52803DA4BA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cc00"/>
                </a:solidFill>
                <a:latin typeface="Tahoma"/>
              </a:rPr>
              <a:t>Thank you!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505320" y="3733920"/>
            <a:ext cx="1912680" cy="2095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8570B-A54C-4543-B7C7-03D630DB816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20600" y="0"/>
            <a:ext cx="7361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Islamic Republic of Pakistan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52880" y="1599840"/>
            <a:ext cx="4191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pulation:140 mill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/3rd below poverty l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th among the HBC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timated 250,000 new TB cases each yea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1828800"/>
            <a:ext cx="48006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DA34-F362-483F-A094-0FC17B359F9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2819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Earth quake-8th October 2005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               4 million affected in AJK </a:t>
            </a:r>
            <a:br>
              <a:rPr sz="3200"/>
            </a:b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and NWFP</a:t>
            </a:r>
            <a:br>
              <a:rPr sz="3200"/>
            </a:b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&gt;86000 Deaths</a:t>
            </a:r>
            <a:br>
              <a:rPr sz="3200"/>
            </a:b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    2 million displaced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E9A73-4AEE-47C8-8C15-E070A6D822B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066680" y="1398600"/>
            <a:ext cx="7010640" cy="461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219B-AAD9-45B9-9081-F2450DF29B8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85800" y="838080"/>
            <a:ext cx="7772400" cy="516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7D30-31D9-4730-8ADA-D7665CC470B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09480" y="1320840"/>
            <a:ext cx="7696440" cy="4470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FCDC-8517-4161-8138-9F45032F7DA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Mr Wasim Akram presenting the National Stop TB Partnership</a:t>
            </a:r>
            <a:br>
              <a:rPr sz="3200"/>
            </a:b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Lahore, 29th April 2004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38280" y="2700360"/>
            <a:ext cx="4496040" cy="309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8763-75A6-4BB9-A476-5D1254A7322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9800" y="536040"/>
            <a:ext cx="7770960" cy="8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en-GB" sz="3200" spc="-1" strike="noStrike">
                <a:solidFill>
                  <a:srgbClr val="ffcc00"/>
                </a:solidFill>
                <a:latin typeface="Tahoma"/>
              </a:rPr>
              <a:t>Stop TB Pakistan to: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6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obilise additional sustainable social &amp; political suppo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oordinate the implementation of the National strategy/plan developed by NTP for AC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nhance public and political perception of Stop TB Strateg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ngage non-traditional partners in the fight against TB and build alliances with other health and development initiativ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A132-BF93-4A9C-9E19-75090EF7C84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atalyzing approach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CC/ Social mobilization through GFAT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gaging private sector through GFATM/FIDELIS/ Go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gaging IACC by revisiting its ro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B98C-24B2-4706-BAB7-FB2C008C1EE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7T17:54:37Z</dcterms:created>
  <dc:creator/>
  <dc:description/>
  <dc:language>en-US</dc:language>
  <cp:lastModifiedBy>Waseem Abbas Qureshi</cp:lastModifiedBy>
  <cp:lastPrinted>1997-02-21T06:00:05Z</cp:lastPrinted>
  <dcterms:modified xsi:type="dcterms:W3CDTF">2005-11-10T13:33:34Z</dcterms:modified>
  <cp:revision>735</cp:revision>
  <dc:subject/>
  <dc:title>Tuberculosis Control and Prevention</dc:title>
</cp:coreProperties>
</file>