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890E81-16E1-4488-9B36-E5BA383029D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adecer a ban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  UF com os maiores percentuais de coinfecção TB/HIV – RS (18,9), SC (18,1), SP (13,3) e PR (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59E-67BA-4A36-BE21-8A587B78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421C-5D0B-42A5-82E1-DA56337E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D795-486E-4643-94CC-84E63368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7D2-88DC-4665-8061-41EB9D7D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25D5-3BC8-4CDC-9CEC-7D0C8737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FC9-5F64-4C2D-A1D8-3B2CB170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1E5-F662-4DCC-8277-F177369A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F576-4091-4B70-AFD3-7822C433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176A-E1AD-4B4D-8E0F-15B1BAE8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938D-7BF4-421E-92F5-2D53E898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2B24-FEFB-48D8-9A4C-9BEAEF0C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6B52-49F9-4DAD-8635-B5A582EF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6476-C966-4548-9EDD-F0EA06588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8000" y="4653000"/>
            <a:ext cx="69850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rbas Barbosa da Silva Jú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tário de Vigilância em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stério da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05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Stop TB in Braz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81440" y="270000"/>
            <a:ext cx="6011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Stop Tb Nation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6400800"/>
            <a:ext cx="5410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360" y="1197000"/>
            <a:ext cx="849636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 members – NGOs, academic institutions, churches representatives, donor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ariat – 8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ship  - National Council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052640"/>
            <a:ext cx="856908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Nº. de casos e taxa de incidência – Todas as formas e BK+,  Brasil 1994 a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8720" y="1774800"/>
          <a:ext cx="7630920" cy="4894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1774800"/>
                    <a:ext cx="76309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38240"/>
            <a:ext cx="6913440" cy="465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ubercu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197000"/>
            <a:ext cx="5833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idência de TB todas as formas – Brasil por UF -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645336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Municípios priorit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56000" y="5013360"/>
            <a:ext cx="1800360" cy="1546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1628640"/>
            <a:ext cx="1297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2219400"/>
            <a:ext cx="295272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5 municípios são prioritários para o P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2004 foram registrados 80.557 casos novos de TB com incidência de 43,3/100 mil h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484280"/>
            <a:ext cx="813744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Taxa de Mortalidade por Tuberculose segundo sexo. Brasil 1992 a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1360" y="2381400"/>
          <a:ext cx="8705880" cy="4095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360" y="2381400"/>
                    <a:ext cx="87058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484280"/>
            <a:ext cx="813600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anual – Percentual de Co-infecção TB HIV – Brasil 2001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2781360"/>
          <a:ext cx="6912000" cy="2950920"/>
        </p:xfrm>
        <a:graphic>
          <a:graphicData uri="http://schemas.openxmlformats.org/drawingml/2006/table">
            <a:tbl>
              <a:tblPr/>
              <a:tblGrid>
                <a:gridCol w="2376360"/>
                <a:gridCol w="2519640"/>
                <a:gridCol w="20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. de 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0430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64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57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468360" y="1468440"/>
          <a:ext cx="7621560" cy="512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468440"/>
                    <a:ext cx="762156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116000" y="1197000"/>
            <a:ext cx="7128000" cy="8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de casos de TBMR - Brasil  e distribuição percentual segundo UF  - ( 2000 - 200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92720" y="2416320"/>
          <a:ext cx="3240000" cy="2452680"/>
        </p:xfrm>
        <a:graphic>
          <a:graphicData uri="http://schemas.openxmlformats.org/drawingml/2006/table">
            <a:tbl>
              <a:tblPr/>
              <a:tblGrid>
                <a:gridCol w="1099800"/>
                <a:gridCol w="214020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os TB M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613404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INAN-T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ados até 05/10/2005, sujeitos à revis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6280" y="1174680"/>
          <a:ext cx="832500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174680"/>
                    <a:ext cx="83250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68360" y="135900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tuação de Encerramento dos Casos com Início de Tratamento em 2004 (coorte 2005)  Brasil por UF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3512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9640" y="1152360"/>
          <a:ext cx="851688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52360"/>
                    <a:ext cx="851688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Tendência temporal da incidência de tuberculose em indígenas.</a:t>
            </a:r>
            <a:br>
              <a:rPr sz="2000"/>
            </a:b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 Brasil, 2000/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905120"/>
            <a:ext cx="4108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Queda anual média - todas as forma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5,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bacilífero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7,3%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1960" y="6373800"/>
            <a:ext cx="29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DESAI/FUNASA – CGDEN/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83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81440" y="404640"/>
            <a:ext cx="6011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6165720"/>
            <a:ext cx="84978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de Municípios Prioritários - 3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95280" y="2754360"/>
          <a:ext cx="8424720" cy="1322280"/>
        </p:xfrm>
        <a:graphic>
          <a:graphicData uri="http://schemas.openxmlformats.org/drawingml/2006/table">
            <a:tbl>
              <a:tblPr/>
              <a:tblGrid>
                <a:gridCol w="4174920"/>
                <a:gridCol w="42498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Brasil – 2º Tri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5 Un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/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16 Unidades – 73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50920" y="1484280"/>
            <a:ext cx="874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bertura Tratamento Supervisionado – Unidades de Saúde com Tratamento Supervisionado – Municípios prioritários – 1º semestr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3:45:16Z</dcterms:created>
  <dc:creator>Walter</dc:creator>
  <dc:description/>
  <dc:language>en-US</dc:language>
  <cp:lastModifiedBy>DATASUS</cp:lastModifiedBy>
  <dcterms:modified xsi:type="dcterms:W3CDTF">2005-11-10T16:07:44Z</dcterms:modified>
  <cp:revision>246</cp:revision>
  <dc:subject/>
  <dc:title>Slide 1</dc:title>
</cp:coreProperties>
</file>