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596160E-7673-44A9-9812-36919A4A2DC7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radecer a ban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-228600">
              <a:spcBef>
                <a:spcPts val="524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Rio de Janeiro apresentou o pior desempenho com 41,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lnSpc>
                <a:spcPct val="13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-  UF com os maiores percentuais de coinfecção TB/HIV – RS (18,9), SC (18,1), SP (13,3) e PR (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-228600">
              <a:spcBef>
                <a:spcPts val="524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Rio de Janeiro apresentou o pior desempenho com 41,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-228600">
              <a:spcBef>
                <a:spcPts val="524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Rio de Janeiro apresentou o pior desempenho com 41,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5146-F1A3-437F-894E-D18A0FC0C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2840-4DB8-4441-939B-1D0E77B94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D6C4-0DDE-4820-BF42-25C6C62C7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B1E7-6D3E-4280-BDED-3E6827BEE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969D-BDBE-47EA-9E32-7EB698363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DD58-4BB5-4248-ACC9-9675C134B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24A1-93E4-416E-950D-2064B07EF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5301-7293-4BD7-A919-8E728F288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1557-D669-4D84-94DF-E28326E5C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0A3C-1E5A-441D-B2AB-D8701FC9D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40BC-DB34-4124-9CB2-89D780869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C229-A92E-4E26-BEC9-7B8AE8494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89B03-C1DA-4A68-A3DD-900E20790D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package" Target="../embeddings/oleObject2.xlsx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package" Target="../embeddings/oleObject2.xlsx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908000" y="4653000"/>
            <a:ext cx="6985080" cy="19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arbas Barbosa da Silva Jún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retário de Vigilância em Saú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nistério da Saú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1190520"/>
            <a:ext cx="81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Arial"/>
              </a:rPr>
              <a:t>Stop TB in Braz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04920" y="76320"/>
            <a:ext cx="2514600" cy="6030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68596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81440" y="270000"/>
            <a:ext cx="60116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3300"/>
                </a:solidFill>
                <a:latin typeface="Arial"/>
              </a:rPr>
              <a:t>Stop Tb National Part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62120" y="6400800"/>
            <a:ext cx="541008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3860640"/>
            <a:ext cx="9144000" cy="194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95360" y="1197000"/>
            <a:ext cx="8496360" cy="50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vember/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1 members – NGOs, academic institutions, churches representatives, donors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retariat – 8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nership  - National Council of Indu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90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uberc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233360" y="3247920"/>
          <a:ext cx="2486160" cy="122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3360" y="3247920"/>
                    <a:ext cx="2486160" cy="12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304920" y="76320"/>
            <a:ext cx="2514600" cy="603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68596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43200" y="225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00440" y="22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040" y="762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3796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00464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0444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6492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79360" y="1447920"/>
            <a:ext cx="812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6885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0448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88404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585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0377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4724280"/>
            <a:ext cx="48006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85960" y="22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114640" y="18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6400800"/>
            <a:ext cx="152388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nte: SVS/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22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1052640"/>
            <a:ext cx="8569080" cy="88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érie Histórica Nº. de casos e taxa de incidência – Todas as formas e BK+,  Brasil 1994 a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828720" y="1774800"/>
          <a:ext cx="7630920" cy="48942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28720" y="1774800"/>
                    <a:ext cx="7630920" cy="48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50920" y="1938240"/>
            <a:ext cx="6913440" cy="46594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Tuberculo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0920" y="1197000"/>
            <a:ext cx="583380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ncidência de TB todas as formas – Brasil por UF -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0920" y="6453360"/>
            <a:ext cx="57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Municípios prioritá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356000" y="5013360"/>
            <a:ext cx="1800360" cy="15462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724360" y="1628640"/>
            <a:ext cx="129708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940360" y="2219400"/>
            <a:ext cx="2952720" cy="32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15 municípios são prioritários para o PN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 2004 foram registrados 80.557 casos novos de TB com incidência de 43,3/100 mil ha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85760" y="44280"/>
            <a:ext cx="2514600" cy="6033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uberc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233360" y="3247920"/>
          <a:ext cx="2486160" cy="122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3360" y="3247920"/>
                    <a:ext cx="2486160" cy="12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04920" y="76320"/>
            <a:ext cx="2514600" cy="603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68596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43200" y="225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00440" y="22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0040" y="762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3796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0464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0444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26492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79360" y="1447920"/>
            <a:ext cx="812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885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0448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8404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585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0377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4724280"/>
            <a:ext cx="48006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685960" y="22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14640" y="18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6400800"/>
            <a:ext cx="152388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nte: SVS/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22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11280" y="1484280"/>
            <a:ext cx="8137440" cy="88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érie Histórica Taxa de Mortalidade por Tuberculose segundo sexo. Brasil 1992 a 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71360" y="2381400"/>
          <a:ext cx="8705880" cy="40957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1360" y="2381400"/>
                    <a:ext cx="8705880" cy="40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uberc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233360" y="3247920"/>
          <a:ext cx="2486160" cy="122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3360" y="3247920"/>
                    <a:ext cx="2486160" cy="12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304920" y="76320"/>
            <a:ext cx="2514600" cy="603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8596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43200" y="225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00440" y="22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0040" y="762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3796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00464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0444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26492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79360" y="1447920"/>
            <a:ext cx="812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6885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448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404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85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377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04920" y="4724280"/>
            <a:ext cx="48006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85960" y="22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14640" y="18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04920" y="6400800"/>
            <a:ext cx="152388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nte: SVS/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22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8360" y="1484280"/>
            <a:ext cx="8136000" cy="88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istribuição anual – Percentual de Co-infecção TB HIV – Brasil 2001-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187280" y="2781360"/>
          <a:ext cx="6912000" cy="2950920"/>
        </p:xfrm>
        <a:graphic>
          <a:graphicData uri="http://schemas.openxmlformats.org/drawingml/2006/table">
            <a:tbl>
              <a:tblPr/>
              <a:tblGrid>
                <a:gridCol w="2376360"/>
                <a:gridCol w="2519640"/>
                <a:gridCol w="201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º. de cas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56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0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8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9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04300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uberc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79280" y="17640"/>
            <a:ext cx="2514600" cy="603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grpSp>
        <p:nvGrpSpPr>
          <p:cNvPr id="156" name=""/>
          <p:cNvGrpSpPr/>
          <p:nvPr/>
        </p:nvGrpSpPr>
        <p:grpSpPr>
          <a:xfrm>
            <a:off x="0" y="0"/>
            <a:ext cx="7451640" cy="6858000"/>
            <a:chOff x="0" y="0"/>
            <a:chExt cx="7451640" cy="6858000"/>
          </a:xfrm>
        </p:grpSpPr>
        <p:sp>
          <p:nvSpPr>
            <p:cNvPr id="157" name=""/>
            <p:cNvSpPr/>
            <p:nvPr/>
          </p:nvSpPr>
          <p:spPr>
            <a:xfrm>
              <a:off x="0" y="762120"/>
              <a:ext cx="152280" cy="6095880"/>
            </a:xfrm>
            <a:prstGeom prst="rect">
              <a:avLst/>
            </a:prstGeom>
            <a:gradFill rotWithShape="0">
              <a:gsLst>
                <a:gs pos="0">
                  <a:srgbClr val="9c0000"/>
                </a:gs>
                <a:gs pos="100000">
                  <a:srgbClr val="ff0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36440" y="6705720"/>
              <a:ext cx="7315200" cy="15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0" y="0"/>
              <a:ext cx="152280" cy="762120"/>
            </a:xfrm>
            <a:prstGeom prst="rect">
              <a:avLst/>
            </a:prstGeom>
            <a:solidFill>
              <a:srgbClr val="5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0" name=""/>
          <p:cNvGraphicFramePr/>
          <p:nvPr/>
        </p:nvGraphicFramePr>
        <p:xfrm>
          <a:off x="468360" y="1468440"/>
          <a:ext cx="7621560" cy="5129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360" y="1468440"/>
                    <a:ext cx="7621560" cy="51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1116000" y="1197000"/>
            <a:ext cx="7128000" cy="88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istribuição de casos de TBMR - Brasil  e distribuição percentual segundo UF  - ( 2000 - 2004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5292720" y="2416320"/>
          <a:ext cx="3240000" cy="2452680"/>
        </p:xfrm>
        <a:graphic>
          <a:graphicData uri="http://schemas.openxmlformats.org/drawingml/2006/table">
            <a:tbl>
              <a:tblPr/>
              <a:tblGrid>
                <a:gridCol w="1099800"/>
                <a:gridCol w="2140200"/>
              </a:tblGrid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os TB M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28600" y="6134040"/>
            <a:ext cx="4572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nte: SINAN-TB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Dados até 05/10/2005, sujeitos à revisã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476280" y="1174680"/>
          <a:ext cx="8325000" cy="4991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1174680"/>
                    <a:ext cx="8325000" cy="49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468360" y="1359000"/>
            <a:ext cx="835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ituação de Encerramento dos Casos com Início de Tratamento em 2004 (coorte 2005)  Brasil por UF 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304920" y="76320"/>
            <a:ext cx="2514600" cy="6030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735120" y="54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uberc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539640" y="1152360"/>
          <a:ext cx="8516880" cy="508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152360"/>
                    <a:ext cx="8516880" cy="508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99"/>
                </a:solidFill>
                <a:latin typeface="Arial"/>
              </a:rPr>
              <a:t>Tendência temporal da incidência de tuberculose em indígenas.</a:t>
            </a:r>
            <a:br>
              <a:rPr sz="2000"/>
            </a:br>
            <a:r>
              <a:rPr b="0" lang="pt-BR" sz="2000" spc="-1" strike="noStrike">
                <a:solidFill>
                  <a:srgbClr val="333399"/>
                </a:solidFill>
                <a:latin typeface="Arial"/>
              </a:rPr>
              <a:t> Brasil, 2000/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00600" y="1905120"/>
            <a:ext cx="41083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Queda anual média - todas as formas = </a:t>
            </a:r>
            <a:r>
              <a:rPr b="1" lang="pt-BR" sz="1400" spc="-1" strike="noStrike">
                <a:solidFill>
                  <a:srgbClr val="9c0000"/>
                </a:solidFill>
                <a:latin typeface="Arial"/>
              </a:rPr>
              <a:t>15,3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9c0000"/>
                </a:solidFill>
                <a:latin typeface="Arial"/>
              </a:rPr>
              <a:t>                                  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- bacilíferos = </a:t>
            </a:r>
            <a:r>
              <a:rPr b="1" lang="pt-BR" sz="1400" spc="-1" strike="noStrike">
                <a:solidFill>
                  <a:srgbClr val="9c0000"/>
                </a:solidFill>
                <a:latin typeface="Arial"/>
              </a:rPr>
              <a:t>17,3%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81960" y="6373800"/>
            <a:ext cx="292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NTE: DESAI/FUNASA – CGDEN/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uberc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85760" y="44280"/>
            <a:ext cx="2514600" cy="6033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grpSp>
        <p:nvGrpSpPr>
          <p:cNvPr id="182" name=""/>
          <p:cNvGrpSpPr/>
          <p:nvPr/>
        </p:nvGrpSpPr>
        <p:grpSpPr>
          <a:xfrm>
            <a:off x="0" y="0"/>
            <a:ext cx="7451640" cy="6858000"/>
            <a:chOff x="0" y="0"/>
            <a:chExt cx="7451640" cy="6858000"/>
          </a:xfrm>
        </p:grpSpPr>
        <p:sp>
          <p:nvSpPr>
            <p:cNvPr id="183" name=""/>
            <p:cNvSpPr/>
            <p:nvPr/>
          </p:nvSpPr>
          <p:spPr>
            <a:xfrm>
              <a:off x="0" y="762120"/>
              <a:ext cx="152280" cy="6095880"/>
            </a:xfrm>
            <a:prstGeom prst="rect">
              <a:avLst/>
            </a:prstGeom>
            <a:gradFill rotWithShape="0">
              <a:gsLst>
                <a:gs pos="0">
                  <a:srgbClr val="9c0000"/>
                </a:gs>
                <a:gs pos="100000">
                  <a:srgbClr val="ff0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36440" y="6705720"/>
              <a:ext cx="7315200" cy="15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0" y="0"/>
              <a:ext cx="152280" cy="762120"/>
            </a:xfrm>
            <a:prstGeom prst="rect">
              <a:avLst/>
            </a:prstGeom>
            <a:solidFill>
              <a:srgbClr val="5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04920" y="76320"/>
            <a:ext cx="2514600" cy="6030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68596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81440" y="404640"/>
            <a:ext cx="601164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uberc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3860640"/>
            <a:ext cx="9144000" cy="194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0920" y="6165720"/>
            <a:ext cx="849780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tal de Municípios Prioritários - 3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395280" y="2754360"/>
          <a:ext cx="8424720" cy="1322280"/>
        </p:xfrm>
        <a:graphic>
          <a:graphicData uri="http://schemas.openxmlformats.org/drawingml/2006/table">
            <a:tbl>
              <a:tblPr/>
              <a:tblGrid>
                <a:gridCol w="4174920"/>
                <a:gridCol w="424980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ultado Brasil – 2º Trimest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bertura P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65 Unidad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bertura PCT/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916 Unidades – 73,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250920" y="1484280"/>
            <a:ext cx="87487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obertura Tratamento Supervisionado – Unidades de Saúde com Tratamento Supervisionado – Municípios prioritários – 1º semestre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3T13:45:16Z</dcterms:created>
  <dc:creator>Walter</dc:creator>
  <dc:description/>
  <dc:language>en-US</dc:language>
  <cp:lastModifiedBy>DATASUS</cp:lastModifiedBy>
  <dcterms:modified xsi:type="dcterms:W3CDTF">2005-11-10T16:07:44Z</dcterms:modified>
  <cp:revision>246</cp:revision>
  <dc:subject/>
  <dc:title>Slide 1</dc:title>
</cp:coreProperties>
</file>