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4214-6128-4686-AAC7-A27B34BB1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6240" y="738360"/>
            <a:ext cx="4913280" cy="3684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artners share a Vision and a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F61-4AB5-497D-975D-FC3D1772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724-39B9-4568-A2AA-AC17350B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96B-B1A8-4475-8D00-80810D9E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492-5E88-4EAF-B29C-B93033C2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D6A8-092D-4501-A48F-D7439C90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931F-B088-408B-AF0D-999FD921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AABB-520D-494A-AF09-6C672797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3E86-82CC-4169-9178-0F5B1A1A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D7F4-BB9C-4505-874B-E62E7E5A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7EA6-0EF4-44BD-B6F2-E5301320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2D3B-82B6-48E5-9C22-D76F87C1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2575-A95F-4F67-8198-DF900891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219C-E0C6-45E9-B164-23724729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F813-3365-4C3F-907B-71A508E9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DEE5-8583-4CDC-9609-67345458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FA97-8E6A-4CE8-9E80-5D8AB26A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3B42-A745-4408-BE74-66B525C2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0A82-C980-46A1-B761-5F251D4E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80FA-36A4-4969-8D5B-E82CE3ED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67B-97CE-4BDB-9B15-08CCAAC8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E115-0DBB-46DE-B21A-583E9E39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1AC-768A-4D74-8798-C841CFDE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1BAC-4E0B-4CA0-89FA-C7218136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1ABE-9232-4294-AD58-251CD809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0523-018C-448D-BC50-44DB2A416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FD2A-6271-4144-936D-F867311C6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A new MOU with WH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Irene Ko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en-GB" sz="24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 we need a new M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oard is requested to discuss and decide whether a new MOU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answer is 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atus quo is understood to preva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the answer is YES; the Board has 2 options to procee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 a negotiating committee of Members to lead discussions with W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ower the Secretariat to undertake discussions based on the attached dra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have an MOU with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nsure mutual understanding of the adaptations and flexibility the Secretariat needs to carry out the CB approved work pl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ty for all concerned on how to address practical issues such as staffing, external correspondence (use of logo and letterhead)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gned 2001 by WHO (DG) and STBCB (Chair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dresses operational aspects of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D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lidity to 31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July 2003 but applied until a new agreement is negotiat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RNS WITH 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 of date - refers to "appointments as time-limited until mid 2003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addresses GDF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reflect the establishment of the Trust F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fully address all relevant operational and management issues – staffing, use of logo and letterhead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gal and political asp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g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hosted/housed by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o &amp;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of Secretariat within STB d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ve bur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, monitoring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st-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ff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ruitment of Executive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act brea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 limits and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Drugs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operating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ment of the G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Review Committ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d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aspect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ust F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C rates (6% for Trust Fund, 3% for dru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procurement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idity of the new M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bakerl</cp:lastModifiedBy>
  <dcterms:modified xsi:type="dcterms:W3CDTF">2005-04-27T11:43:43Z</dcterms:modified>
  <cp:revision>35</cp:revision>
  <dc:subject/>
  <dc:title>Slide 1</dc:title>
</cp:coreProperties>
</file>