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0434-9661-421A-A4E8-21C11D6E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0E04-EE17-4888-BF48-844B61AB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A1A9-E2D2-427A-94BB-CEC27AE9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C0B9-C645-4BA0-A0FC-B9E73518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55F6-8CD0-4F2C-B815-90E74821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0C8B-C6E8-4559-9B13-1C7139D9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1D81-D3A0-4267-AB74-0B3D7737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5AD2-9689-4816-81AF-434F7928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49C3-B256-4127-A1FF-126672DB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77BB-B842-4866-BEC1-A09A0EC0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872B2-83D3-4701-9462-464BA2F7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CFD-32A3-4C14-B7F9-710EEC73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08F2-3318-4DDA-ADF5-9EFC8E4D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63B2-1B20-46AF-A5BB-9BB86382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5ED5-9CCC-4122-B768-1A861005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57E4-06D6-4756-BE6C-AC85BB4F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8992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36800" y="190476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4268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8992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36800" y="4093920"/>
            <a:ext cx="27111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8FC6-F7C4-4BE8-9539-FF8111AA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5BE-8B85-4007-9FE1-CDBD75F9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B6CF-70CE-4CDC-9F11-EF72798D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79F-B1F8-48A1-B7C8-F02BB026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84040" y="2836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14BA-42B6-4B6F-AFC0-0F573776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31EB-E46A-45C3-AD16-685460CE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09392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5EE9-2918-4B07-87B9-4CA790083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04760"/>
            <a:ext cx="41086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093920"/>
            <a:ext cx="84200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41C8-BD43-4471-B929-0B5468FE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916308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8200" y="0"/>
            <a:ext cx="8604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56480" y="6553080"/>
            <a:ext cx="224964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900640" y="6248160"/>
            <a:ext cx="57780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DBD4-2E08-441A-9E80-86143E7D49BE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23800" y="1549440"/>
            <a:ext cx="883944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7680" y="320688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1482840"/>
            <a:ext cx="941076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42360" y="1246320"/>
            <a:ext cx="84240" cy="2235240"/>
          </a:xfrm>
          <a:custGeom>
            <a:avLst/>
            <a:gdLst>
              <a:gd name="textAreaLeft" fmla="*/ 12240 w 84240"/>
              <a:gd name="textAreaRight" fmla="*/ 72000 w 8424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0791">
                <a:moveTo>
                  <a:pt x="10800" y="0"/>
                </a:moveTo>
                <a:arcTo wR="10800" hR="10800" stAng="16200000" swAng="-5400000"/>
                <a:lnTo>
                  <a:pt x="0" y="559991"/>
                </a:lnTo>
                <a:arcTo wR="10800" hR="10800" stAng="10800000" swAng="-5400000"/>
                <a:lnTo>
                  <a:pt x="10800" y="57079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1252440"/>
            <a:ext cx="83880" cy="2235240"/>
          </a:xfrm>
          <a:custGeom>
            <a:avLst/>
            <a:gdLst>
              <a:gd name="textAreaLeft" fmla="*/ 12240 w 83880"/>
              <a:gd name="textAreaRight" fmla="*/ 71640 w 83880"/>
              <a:gd name="textAreaTop" fmla="*/ 12240 h 2235240"/>
              <a:gd name="textAreaBottom" fmla="*/ 2223000 h 2235240"/>
            </a:gdLst>
            <a:ahLst/>
            <a:rect l="textAreaLeft" t="textAreaTop" r="textAreaRight" b="textAreaBottom"/>
            <a:pathLst>
              <a:path w="21600" h="573231">
                <a:moveTo>
                  <a:pt x="10800" y="0"/>
                </a:moveTo>
                <a:arcTo wR="10800" hR="10800" stAng="16200000" swAng="-5400000"/>
                <a:lnTo>
                  <a:pt x="0" y="562431"/>
                </a:lnTo>
                <a:arcTo wR="10800" hR="10800" stAng="10800000" swAng="-5400000"/>
                <a:lnTo>
                  <a:pt x="10800" y="57323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67200" y="5783400"/>
            <a:ext cx="377028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7000" y="5734080"/>
            <a:ext cx="102888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1752120"/>
            <a:ext cx="842004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B5BA-D21D-4BB8-BC4D-3677C6C02F1E}" type="slidenum"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9068040" cy="2210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PATIENTS PERSPECTIVE ON THE IMPLICATIONS OF TB CONTROL IN AFRICA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560" y="48006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resenter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– Lucy Chesire.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403848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2320" y="2971800"/>
            <a:ext cx="9239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</a:rPr>
              <a:t>TB is a problem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but is a SOLUTION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o another PROBLEM.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1280" y="533520"/>
            <a:ext cx="51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64c"/>
                </a:solidFill>
                <a:latin typeface="Times New Roman"/>
              </a:rPr>
              <a:t>PARTING SHOT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.B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266688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2.3 m cases of T.B in Africa occurring yearly???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Have we lost the fight in Africa if not…what can we do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If T.B is curable, why are people still dying??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84200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 support groups ongoing but not active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tigma associated with HIV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over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Food insecurity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TB/HIV  infection = on average 50% of TB patients now are co-infected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16002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Costs in relation to work-ups to TB treatment. e.g Antibiotics, lab tests, x-ray etc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 in seeking care by TB suspects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Pill burden e.g Zimbabwe 14 pills for treatment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Approach to D.C.T for TB patients.</a:t>
            </a:r>
            <a:r>
              <a:rPr b="0" lang="en-US" sz="40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21896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Patient Centered factors cont.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Health System Factors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90676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drugs for MDR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Lack of policy on the management of MDR in most health institution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Delayed diagnosis e.g. Arthritis Vs TB of the kne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Missed TB cases due to Doctors lack of knowledge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  <a:ea typeface="Times New Roman"/>
              </a:rPr>
              <a:t>Shortage of Human resource for health e.g affects TB control</a:t>
            </a: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en engaged and supported appropriately patients can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85720" y="34286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Increase effectiveness of health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bilize the community in being the backbone of effective TB contro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Provide input on effective policy and practic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Provide support and conduct community TB led interventions (VCT, Psychosocial, TB support groups etc).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264c"/>
                </a:solidFill>
                <a:latin typeface="Times New Roman"/>
              </a:rPr>
              <a:t>Reduce stigma and improve access to TB control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0200" y="6094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TB Patients cont…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84040" y="2836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04760"/>
            <a:ext cx="84200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3-D’s = Better Drugs,Diagnostics, Dignity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ontinuous patient involvement in car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unding for TB support group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Ensure private sector involve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B/HIV collaboration (address constraints)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ustained political commitmen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Long term financing for TB programmes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8420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Quality assurance for diagnostic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bust patient tracking system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OTS plus programme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Develop M/E system to drugs adherence, especially smear-ves and extra pulmonary TB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treamline TB system to ensure follow up of patients at the TB clinics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re  resources for DOTS expansion e.g. use of  community health workers for drugs distribution and follow-up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42640" y="533520"/>
            <a:ext cx="84200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33"/>
                </a:solidFill>
                <a:uFillTx/>
                <a:latin typeface="Times New Roman"/>
              </a:rPr>
              <a:t>Way Forward cont…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13:08:19Z</dcterms:created>
  <dc:creator>Kacy 1</dc:creator>
  <dc:description/>
  <dc:language>en-US</dc:language>
  <cp:lastModifiedBy>administrator</cp:lastModifiedBy>
  <dcterms:modified xsi:type="dcterms:W3CDTF">2005-05-01T15:02:01Z</dcterms:modified>
  <cp:revision>25</cp:revision>
  <dc:subject/>
  <dc:title>PATIENTS PERSPECTIVE IN THE IMPLICATIONS OF TB CONTROL IN AFRICA. </dc:title>
</cp:coreProperties>
</file>