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0C2-CF28-4DD4-AB0B-EA91501F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14B-2545-4FFC-A7D0-60D252E8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4C8-1EEA-424E-9FAA-EA0E59EB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6D8-CD32-4562-9B34-E3A6A968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FDC-D8CF-48CE-9C08-C5E73D40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793-8C0A-4FDE-A029-5FBF2A6B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600-80FB-46FF-85ED-4042DDE9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EF5C-C10C-4E44-BCF6-EE082815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BAB-4890-469E-817F-3A819CFE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863-42E2-4F51-B8C6-19AE1E9F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7EB-EC2D-4557-81DB-EB4FF536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3F4F-281F-428C-AACD-CFFE869F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DA8A-35ED-4EC6-8D00-138277754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-8 Recommended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ly develop more robust number for TB funding need/gap based on GP 2 to be referenced in G-8 Commu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for communique on “closing the funding gap for TB control” and “supporting convening of Emergency African TB Financing Summit and monitoring of implementation of the Road Map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B and NGO support for above to G-8 and other don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to Ethiopian PM to attend G-8 and  become champion for TB in Africa, make the case for intensified action for TB in Africa and financing the Road M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NGO efforts associated with ActionAid ef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ngagement of World L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Community—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r presentation of GP2 resource needs before June—for G-8, GFATM Repl. Mtgs. Fair shares? Country/regional foc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 plan for GP2????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 ID set of 7-8 RM priority donor countries (and multilaterals) with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 for CB efforts, regular support for NGO country efforts—ID targets, support adv. capacity, media, visits.  Coordinated effort on M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ies of focused advocacy docs from G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ID strategic TB champions and make specific requests—Mandela, Tutu, Sachs. Prioritize global leaders/for a—EU, WB, AU, Other Regional Summ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BC Country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 key HBCs—Africa, other priorities—ID core set of partners for each country, CB missions, NGO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plan for reaching 2-3 national leaders in target HB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for Eco Impact of TB (WB to under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E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 Sum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-8 (Ethiopian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. GFATM Replenishment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G Summit—ID some champions for 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F January 2006 release of GP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—op-ed HG/Mand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hs/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5:08:08Z</dcterms:created>
  <dc:creator>Geoff</dc:creator>
  <dc:description/>
  <dc:language>en-US</dc:language>
  <cp:lastModifiedBy>johnsoneb</cp:lastModifiedBy>
  <dcterms:modified xsi:type="dcterms:W3CDTF">2005-05-04T12:45:32Z</dcterms:modified>
  <cp:revision>4</cp:revision>
  <dc:subject/>
  <dc:title>G-8 Recommended Actions</dc:title>
</cp:coreProperties>
</file>