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6A0E-1D88-4BC2-BA87-67CDD550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D9E-2CF8-4EF0-94A9-79342418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5C40-5BFA-483A-B2F0-33D4074A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2C87-7076-4774-A2AD-620FAE6C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A44-7364-4E06-B4DE-23E55733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41E3-6A13-463E-AEC0-BCDA1868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0C4E-92CB-4D2F-88A3-38C95609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577F-BAB3-4698-AB79-77AEB118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0470A-DC31-4864-85DF-71D83F3D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9D8-4A84-48A7-972F-7D07D6C87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A58F-3AC0-46F1-AC02-DDE6A3FB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325E-F3DF-41CC-B94F-CEBD5CC3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20F-D8B0-4833-9BFA-DE7DD0BC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59C0-B84A-4F39-8348-5C7CE0C2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2DEB-A185-4238-A340-5AF4B77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E5E33-AAA9-470C-8BD2-63F1430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A49B-E183-40F3-AA6C-E192677C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7231-BD54-401D-9957-8DA56828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3405-994A-4B73-9B63-5724D3CB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7AC-F28A-454A-AA3E-9697915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A06A-00CE-4219-92B2-9A64CEE1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11E-C4BF-49AF-AA2D-BB74512D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AE51-A2D1-469B-9EB2-FCDA83B8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735-7294-4C62-B08F-1B47CDE4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B3CB3-A190-4DAD-8E41-05642D58D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9471-9063-426B-947E-CEBCA8694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uroparl.eu.int/abc/visit/brux/default.htm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the European Unio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the E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2063880"/>
            <a:ext cx="5572080" cy="34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raise the profile of TB within the EU to create a supportive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political and social enviro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to strengthe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B control activities in Europe (particularly EE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funds to support TB contro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notably in Africa, Latin America and Asia) and research global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s generally (including EU policy makers) consider tuberculosis to be a disease of the p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 policy reflects this lack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progress is being made…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 WHO Copenhagen declared TB a Regional Emerg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 Areas of Work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ith the E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Heath (European CD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Development (Programme of 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earch (new framework propos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cision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uld the Stop TB Partnership aim to proactively improve our relationship and engagement with the European Union (Commission, Council and Parliament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pping of Partner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gular briefing of officials and policy makers – on Global Plan 2006-201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untry level engagement of EU missions in HB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isterial Conference on TB and Sustainable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gage in the process of adoption of EU proposals for 2007-2013 financing (POA, Health and Research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K Presidency – Dev. Policy Pap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ent WTBD &amp;/or Coordinating Board meeting 2006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Views of the European Parliament in Brusse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724280"/>
            <a:ext cx="14079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Administrator</cp:lastModifiedBy>
  <dcterms:modified xsi:type="dcterms:W3CDTF">2005-05-02T12:27:38Z</dcterms:modified>
  <cp:revision>40</cp:revision>
  <dc:subject/>
  <dc:title>Slide 1</dc:title>
</cp:coreProperties>
</file>