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C82D-0303-4071-B295-0513AFAAA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has been discussed earlier the prospect reaching for the MDG TB targets looks much more achievable in most parts of the world except for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roadmap complements the analytical document presented previ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B should take the following activities to enhance the importance and profile of TB as one of the leading health agenda in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B should launch a Stop TB Partnership for Africa to solicit unprecedented level of political commitment and multisectoral involvement at all levels to accelerate the implementation of TB control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igh level missions should initiate the discussion of mainstreaming TB into development strategies such as the PRS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TB causes an estimated  an economic loss of 4-7% of GDP annually in countries with a high burden of TB.  Likewise, the global cost of TB is estimated to be US$13 billion a yea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Therefore, it needs to be mainstreamed in the development agenda of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59C5-B7A7-4371-8270-B84A82C7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AEAC-30DB-4616-B9FE-7DFC3FD9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B2EB-C137-4375-B80D-F67F1AF6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BC9E-AFF1-438E-A7F2-EAABB19E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2DF0-651E-4D94-AA93-73570C78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FE87-8E9F-4970-9297-E42BB7C8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2A7A-F77B-4F92-96C7-363372D7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54E0-84FE-4BEE-A6EE-D25D9B80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3B2B-0BE6-4762-876C-C6DDA667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5829-847C-4A3D-89F5-D8D09ED4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B189-E94D-41FE-9BF9-3BACA1CC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AE1D-FA59-4537-8DD6-46C784B6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6CDC-01B1-437C-8C8B-6EC3DB7C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7FCB-637D-41D7-956C-DC4680F6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C64B-57B3-4B43-BFB8-13013ECB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A566-1776-43C8-8736-C889341C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3FDB-6A77-46BE-BDE6-C85C43E16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5CB8-E73E-4771-9024-0D8B8C71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1A03-A7EB-49B4-9B4C-0A1F3EC8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9D27-7939-4E77-B922-A278D601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E72-8D71-4CD4-B4D9-821A7A24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36E0-C665-46E0-8EFF-3686B52B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9C04-F1C3-4A54-8692-C617F5B5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F001-9678-4EAB-986F-479559B3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5960-1838-43BE-84BB-8C8A90590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D1C3-36F5-4DAD-9E7E-BA3D18524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Berlin Sans FB Demi"/>
              </a:rPr>
              <a:t>Roadmap to intensify action to reach the TB MDGs in Africa.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Berlin Sans FB Demi"/>
              </a:rPr>
              <a:t>2005-2007</a:t>
            </a:r>
            <a:br>
              <a:rPr sz="4400"/>
            </a:br>
            <a:br>
              <a:rPr sz="44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raft for 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erlin Sans FB Demi"/>
              </a:rPr>
              <a:t> </a:t>
            </a:r>
            <a:r>
              <a:rPr b="1" lang="en-GB" sz="3600" spc="-1" strike="noStrike">
                <a:solidFill>
                  <a:srgbClr val="ffffff"/>
                </a:solidFill>
                <a:latin typeface="Berlin Sans FB Demi"/>
              </a:rPr>
              <a:t>Why the Roadm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Provide recommendations and the </a:t>
            </a:r>
            <a:r>
              <a:rPr b="0" lang="en-GB" sz="3200" spc="-1" strike="noStrike">
                <a:solidFill>
                  <a:srgbClr val="cc0000"/>
                </a:solidFill>
                <a:latin typeface="Berlin Sans FB Demi"/>
              </a:rPr>
              <a:t>provisional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 financial needs for TB control in Africa for 2005-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Calls for enhanced efforts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B of Stop TB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African leaders and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Donors, technical agencies and N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116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The Coordinating Board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Liaise with the AU and WHO/AFRO to make TB visible and to engage in NEPA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Advocate for an AU TB resolution in the context of MD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The Chair of the CB (or his/her delegate) to regularly attend the Regional Committee (RC) of AF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Assign a focal point of the CB to engage in NEPAD related consul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The Coordinating Board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Create a  task force to establish the Stop TB Partnership for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Organise high level missions to five high burden countries and meet with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Berlin Sans FB Demi"/>
              </a:rPr>
              <a:t>heads of state</a:t>
            </a:r>
            <a:r>
              <a:rPr b="0" lang="en-GB" sz="3200" spc="-1" strike="noStrike">
                <a:solidFill>
                  <a:srgbClr val="3333cc"/>
                </a:solidFill>
                <a:latin typeface="Berlin Sans FB Dem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and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Berlin Sans FB Demi"/>
              </a:rPr>
              <a:t>ministers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Organise the next Stop TB Partners Forum in Africa in 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erlin Sans FB Demi"/>
              </a:rPr>
              <a:t>The Coordinating Board shou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Organise an African TB financing summit to mobilise new and sustainable  financial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Reach out major institutions and bilateral agencies by meeting 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Berlin Sans FB Demi"/>
              </a:rPr>
              <a:t>heads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of  the instit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ntinue supporting the Global Drug Fac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African governments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Mainstream TB in their development agen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PR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SW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HIP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Strengthen TB control through DOTS and address health system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increase access to quality diagnosis and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Strengthen community involvement in TB and TB/H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Enhance engagement of NGOs and private s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Enhance local drug manufacturing and procur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Implement collaborative TB/HIV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Interim Policy on Collaborative TB/HIV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Establish National Stop TB Partne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 Demi"/>
              </a:rPr>
              <a:t>Major donors, technical agencies and NGOs  sh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Support the proposed African TB financing summ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ntinue and increase support for Stop TB Partners working in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ordinate their national leve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HIV/AIDS NGOs should embrace TB as one of their main work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erlin Sans FB Demi"/>
              </a:rPr>
              <a:t>Estimated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erlin Sans FB Demi"/>
              </a:rPr>
              <a:t>For the Coordinating Board= 1.5 mill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erlin Sans FB Demi"/>
              </a:rPr>
              <a:t>For African countries=  1, 140 mill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0000"/>
                </a:solidFill>
                <a:latin typeface="Berlin Sans FB Demi"/>
              </a:rPr>
              <a:t>Provisional  figures built on the global plan II (2006-201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600" spc="-1" strike="noStrike">
                <a:solidFill>
                  <a:srgbClr val="000000"/>
                </a:solidFill>
                <a:latin typeface="Berlin Sans FB Dem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1:13:30Z</dcterms:created>
  <dc:creator>getahunh</dc:creator>
  <dc:description/>
  <dc:language>en-US</dc:language>
  <cp:lastModifiedBy>johnsoneb</cp:lastModifiedBy>
  <dcterms:modified xsi:type="dcterms:W3CDTF">2005-05-11T07:59:49Z</dcterms:modified>
  <cp:revision>37</cp:revision>
  <dc:subject/>
  <dc:title>Roadmap to intensify action to reach the TB MDGs in Africa.  2005-2007 </dc:title>
</cp:coreProperties>
</file>