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71120" y="3931560"/>
            <a:ext cx="874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1120" y="393156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2040" y="393156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1120" y="3931560"/>
            <a:ext cx="28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27440" y="3931560"/>
            <a:ext cx="28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83760" y="3931560"/>
            <a:ext cx="2815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71120" y="393156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2040" y="393156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1120" y="3931560"/>
            <a:ext cx="874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1320" y="2133360"/>
            <a:ext cx="917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lobal Plan to Stop TB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006-15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rking Group on New Vaccin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s Aba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ay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 flipH="1">
            <a:off x="4609800" y="1890720"/>
            <a:ext cx="1260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6132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103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751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772080" y="1890720"/>
            <a:ext cx="1584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10160" y="3490920"/>
            <a:ext cx="3048120" cy="1066680"/>
          </a:xfrm>
          <a:prstGeom prst="flowChartProcess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095560" y="1890720"/>
            <a:ext cx="2232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33280" y="1890720"/>
            <a:ext cx="1908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9952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480" y="1890720"/>
            <a:ext cx="985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49320" y="13539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84520" y="1353960"/>
            <a:ext cx="6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19360" y="135396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54560" y="1353960"/>
            <a:ext cx="75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89400" y="1353960"/>
            <a:ext cx="7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40360" y="1353960"/>
            <a:ext cx="66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08520" y="1285920"/>
            <a:ext cx="668520" cy="538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26080" y="1353960"/>
            <a:ext cx="666720" cy="4017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75200" y="1285920"/>
            <a:ext cx="66852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1285920"/>
            <a:ext cx="100152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296120" y="1285920"/>
            <a:ext cx="100188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13760" y="1285920"/>
            <a:ext cx="75240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132840" y="1219320"/>
            <a:ext cx="417600" cy="536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485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961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8268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8280" y="3490920"/>
            <a:ext cx="2133360" cy="10666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cense, Laun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760" y="457200"/>
            <a:ext cx="979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sts for Vaccine Development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960" y="3490920"/>
            <a:ext cx="38862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I and Phase II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44040" y="37958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III 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33280" y="1568520"/>
            <a:ext cx="2262240" cy="1914480"/>
            <a:chOff x="233280" y="1568520"/>
            <a:chExt cx="2262240" cy="1914480"/>
          </a:xfrm>
        </p:grpSpPr>
        <p:sp>
          <p:nvSpPr>
            <p:cNvPr id="257" name=""/>
            <p:cNvSpPr/>
            <p:nvPr/>
          </p:nvSpPr>
          <p:spPr>
            <a:xfrm>
              <a:off x="233280" y="1568520"/>
              <a:ext cx="226224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Arial"/>
                </a:rPr>
                <a:t>20 candida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reclinical $14.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ilot lots $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76480" y="2830680"/>
              <a:ext cx="492120" cy="652320"/>
            </a:xfrm>
            <a:prstGeom prst="downArrow">
              <a:avLst>
                <a:gd name="adj1" fmla="val 50000"/>
                <a:gd name="adj2" fmla="val 3313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154480" y="2338560"/>
            <a:ext cx="1957680" cy="10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t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,000 sub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$2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56480" y="2478240"/>
            <a:ext cx="2131920" cy="7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tion fac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06320" y="2759040"/>
            <a:ext cx="3996000" cy="3245040"/>
            <a:chOff x="706320" y="2759040"/>
            <a:chExt cx="3996000" cy="3245040"/>
          </a:xfrm>
        </p:grpSpPr>
        <p:sp>
          <p:nvSpPr>
            <p:cNvPr id="262" name=""/>
            <p:cNvSpPr/>
            <p:nvPr/>
          </p:nvSpPr>
          <p:spPr>
            <a:xfrm>
              <a:off x="706320" y="4732200"/>
              <a:ext cx="1827360" cy="12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20 candida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 permuta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0 subject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$4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7720" y="4768920"/>
              <a:ext cx="1827360" cy="123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9 candida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6 permuta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300 subje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$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7040" y="2759040"/>
              <a:ext cx="2105280" cy="59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$14.5 trial s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7823160" y="4653000"/>
            <a:ext cx="1990800" cy="1369800"/>
            <a:chOff x="7823160" y="4653000"/>
            <a:chExt cx="1990800" cy="1369800"/>
          </a:xfrm>
        </p:grpSpPr>
        <p:sp>
          <p:nvSpPr>
            <p:cNvPr id="266" name=""/>
            <p:cNvSpPr/>
            <p:nvPr/>
          </p:nvSpPr>
          <p:spPr>
            <a:xfrm>
              <a:off x="8658360" y="4653000"/>
              <a:ext cx="492120" cy="652320"/>
            </a:xfrm>
            <a:prstGeom prst="downArrow">
              <a:avLst>
                <a:gd name="adj1" fmla="val 50000"/>
                <a:gd name="adj2" fmla="val 33138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23160" y="5427720"/>
              <a:ext cx="1990800" cy="59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Arial"/>
                </a:rPr>
                <a:t>2 vacci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205600" y="55656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 million US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71480" y="17784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ccine Budget for Global Plan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1480" y="1490760"/>
            <a:ext cx="8744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CG                                     1300                  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earch &amp; translation      1200                  4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linical development        1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Capac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15                     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ion/scale-up             192                  18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al trials                         387                  3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tion of access              1                     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G Facilitation                         6                      5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                                  3116                104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00" y="640080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*million US $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241280" y="1590840"/>
            <a:ext cx="8382240" cy="441936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2000" y="2733840"/>
            <a:ext cx="693432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317600" y="273384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2000" y="2733840"/>
            <a:ext cx="396252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32000" y="2733840"/>
            <a:ext cx="1447920" cy="3124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75240" y="5857920"/>
            <a:ext cx="5948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320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03840" y="1798560"/>
            <a:ext cx="21834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Vaccine int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13080" y="2505240"/>
            <a:ext cx="1600200" cy="304560"/>
          </a:xfrm>
          <a:prstGeom prst="wedgeRectCallout">
            <a:avLst>
              <a:gd name="adj1" fmla="val -94046"/>
              <a:gd name="adj2" fmla="val 21510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Pre-expos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75400" y="3952800"/>
            <a:ext cx="2895480" cy="838440"/>
          </a:xfrm>
          <a:prstGeom prst="wedgeRectCallout">
            <a:avLst>
              <a:gd name="adj1" fmla="val -157509"/>
              <a:gd name="adj2" fmla="val 10909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Post-exposure in a mass-vaccination paradigm (everybody!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98880" y="3114720"/>
            <a:ext cx="3429000" cy="609480"/>
          </a:xfrm>
          <a:prstGeom prst="wedgeRectCallout">
            <a:avLst>
              <a:gd name="adj1" fmla="val -81666"/>
              <a:gd name="adj2" fmla="val 950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cc"/>
                </a:solidFill>
                <a:latin typeface="Arial"/>
              </a:rPr>
              <a:t>Post-exposure (e.g. adolescent vaccination program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958280" y="605952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453960" y="3061440"/>
            <a:ext cx="60696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7400" y="2602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Vaccine Impact Post-20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37280" y="1370160"/>
            <a:ext cx="3903480" cy="1142640"/>
            <a:chOff x="6137280" y="1370160"/>
            <a:chExt cx="3903480" cy="1142640"/>
          </a:xfrm>
        </p:grpSpPr>
        <p:sp>
          <p:nvSpPr>
            <p:cNvPr id="287" name=""/>
            <p:cNvSpPr/>
            <p:nvPr/>
          </p:nvSpPr>
          <p:spPr>
            <a:xfrm>
              <a:off x="6137280" y="1370160"/>
              <a:ext cx="3903480" cy="11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5880" y="1469880"/>
              <a:ext cx="3269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66"/>
                  </a:solidFill>
                  <a:latin typeface="Arial"/>
                </a:rPr>
                <a:t>cost/benefit models f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66"/>
                  </a:solidFill>
                  <a:latin typeface="Arial"/>
                </a:rPr>
                <a:t>different epidemiological setting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akeholde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1120" y="1996560"/>
            <a:ext cx="9248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vernment R&amp;D Sponsors (NIH, MRC, E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 Public Health Institutions (C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ory Ag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ilanthropy (B&amp;M Gates: AERAS, Wellcome Tr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maceutical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Stop TB W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27200" y="21744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lobal Plan Drafting Gro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66920" y="1515960"/>
            <a:ext cx="7103880" cy="33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Iademarco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hael Brennan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erry Sadoff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ine Sizem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alie Waugh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Small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&amp;MG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i Fruth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69560" y="4913280"/>
            <a:ext cx="678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Montreux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March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Whistler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pril 2005 (cost estima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Bethesda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pril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email . . .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H="1" rot="16200000">
            <a:off x="4301280" y="1387440"/>
            <a:ext cx="1873080" cy="4730760"/>
          </a:xfrm>
          <a:prstGeom prst="ca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89840" y="3143160"/>
            <a:ext cx="22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es, EU, N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come Tr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5600" y="234648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eclinical    clinical trials     manufa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5680" y="1380960"/>
            <a:ext cx="5817960" cy="2814480"/>
            <a:chOff x="1525680" y="1380960"/>
            <a:chExt cx="5817960" cy="2814480"/>
          </a:xfrm>
        </p:grpSpPr>
        <p:sp>
          <p:nvSpPr>
            <p:cNvPr id="298" name=""/>
            <p:cNvSpPr/>
            <p:nvPr/>
          </p:nvSpPr>
          <p:spPr>
            <a:xfrm>
              <a:off x="1525680" y="1482480"/>
              <a:ext cx="1611360" cy="2712960"/>
            </a:xfrm>
            <a:custGeom>
              <a:avLst/>
              <a:gdLst>
                <a:gd name="textAreaLeft" fmla="*/ 215640 w 1611360"/>
                <a:gd name="textAreaRight" fmla="*/ 1395720 w 1611360"/>
                <a:gd name="textAreaTop" fmla="*/ 474480 h 2712960"/>
                <a:gd name="textAreaBottom" fmla="*/ 1967040 h 27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10200" y="1380960"/>
              <a:ext cx="40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romote global acc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239920" y="3565440"/>
            <a:ext cx="7086600" cy="2931840"/>
            <a:chOff x="2239920" y="3565440"/>
            <a:chExt cx="7086600" cy="2931840"/>
          </a:xfrm>
        </p:grpSpPr>
        <p:sp>
          <p:nvSpPr>
            <p:cNvPr id="301" name=""/>
            <p:cNvSpPr/>
            <p:nvPr/>
          </p:nvSpPr>
          <p:spPr>
            <a:xfrm flipH="1">
              <a:off x="7715160" y="3565440"/>
              <a:ext cx="1611360" cy="2712960"/>
            </a:xfrm>
            <a:custGeom>
              <a:avLst/>
              <a:gdLst>
                <a:gd name="textAreaLeft" fmla="*/ 215640 w 1611360"/>
                <a:gd name="textAreaRight" fmla="*/ 1395720 w 1611360"/>
                <a:gd name="textAreaTop" fmla="*/ 474480 h 2712960"/>
                <a:gd name="textAreaBottom" fmla="*/ 1967040 h 27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39920" y="5657760"/>
              <a:ext cx="404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romote global acc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1"/>
            <a:srcRect l="61642" t="7291" r="3977" b="7291"/>
            <a:stretch/>
          </p:blipFill>
          <p:spPr>
            <a:xfrm>
              <a:off x="6503760" y="5222520"/>
              <a:ext cx="1067040" cy="127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/>
          <p:cNvSpPr/>
          <p:nvPr/>
        </p:nvSpPr>
        <p:spPr>
          <a:xfrm>
            <a:off x="861840" y="458640"/>
            <a:ext cx="535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ole of the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990960"/>
            <a:ext cx="1798560" cy="493560"/>
          </a:xfrm>
          <a:prstGeom prst="rightArrow">
            <a:avLst>
              <a:gd name="adj1" fmla="val 50000"/>
              <a:gd name="adj2" fmla="val 9110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6760" y="340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orking Group Activit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5560" y="1913040"/>
            <a:ext cx="94201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717480">
              <a:lnSpc>
                <a:spcPct val="12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Scientific Bluepr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717480">
              <a:lnSpc>
                <a:spcPct val="12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aborate Economic Analy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717480">
              <a:lnSpc>
                <a:spcPct val="12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e International Regulatory Harmo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717480">
              <a:lnSpc>
                <a:spcPct val="12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Preclinical &amp; Clinic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717480">
              <a:lnSpc>
                <a:spcPct val="12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sure timely vaccine production/availa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717480">
              <a:lnSpc>
                <a:spcPct val="12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accelerated access in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9080" y="56386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$6 mill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80560" y="1081080"/>
            <a:ext cx="55818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ct new ch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view terms of re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eview memb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ofessional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41600" y="3763800"/>
            <a:ext cx="691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rgets and time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vance planning fo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ancial planning and rep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557440" y="1201680"/>
            <a:ext cx="5313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obal Plan 2000-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obal Plan 2006-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st esti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orking Group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27040" y="152280"/>
            <a:ext cx="54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Global Plan 2000-0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96120" y="106668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600" y="3111480"/>
            <a:ext cx="1010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72f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tein in adjuvan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ed, Corixa/GSK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SA/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VA-85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tb gene in vaccini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ill, Oxfor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K/Gam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BCG30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ecombinant BCG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orwitz, UCLA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52560" y="1981080"/>
            <a:ext cx="8305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080" y="5257800"/>
            <a:ext cx="1023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85B/ESAT-6     protein in adjuva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ersen, SS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-200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BCG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reCHly     recombinant BC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aufmann, Berl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3 200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4800" y="2147760"/>
            <a:ext cx="79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ive candidates in Phase I trials by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28280" y="658800"/>
            <a:ext cx="468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BCG Ques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520" y="1905120"/>
            <a:ext cx="86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tects against severe forms of childhood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and long-lived protection in some popul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32120" y="3276720"/>
            <a:ext cx="83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ising results with “prime-boost” protoco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animal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81040" y="5181480"/>
            <a:ext cx="785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new vaccine will add something to BC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3080" y="4114800"/>
            <a:ext cx="914400" cy="1447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253440 h 1447920"/>
              <a:gd name="textAreaBottom" fmla="*/ 1049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50720" y="228600"/>
            <a:ext cx="54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Global Plan 2006-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96120" y="137160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0280" y="2514600"/>
            <a:ext cx="8305560" cy="1371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240" y="4572000"/>
            <a:ext cx="850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icient production capacity available by 2015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ely distributed by 20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920" y="2666880"/>
            <a:ext cx="751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afe, effective, licensed vacc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vailable at reasonable cost by 20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609800" y="1890720"/>
            <a:ext cx="1260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6132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103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751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772080" y="1890720"/>
            <a:ext cx="1584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3162240"/>
            <a:ext cx="3048120" cy="1067040"/>
          </a:xfrm>
          <a:prstGeom prst="flowChartProcess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095560" y="1890720"/>
            <a:ext cx="2232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33280" y="1890720"/>
            <a:ext cx="19080" cy="496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29952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480" y="1890720"/>
            <a:ext cx="985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49320" y="13539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84520" y="1353960"/>
            <a:ext cx="6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19360" y="135396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54560" y="1353960"/>
            <a:ext cx="75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89400" y="1353960"/>
            <a:ext cx="7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0360" y="1353960"/>
            <a:ext cx="66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08520" y="1285920"/>
            <a:ext cx="668520" cy="538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26080" y="1353960"/>
            <a:ext cx="666720" cy="4017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75200" y="1285920"/>
            <a:ext cx="66852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61280" y="1285920"/>
            <a:ext cx="100152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96120" y="1285920"/>
            <a:ext cx="100188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13760" y="1285920"/>
            <a:ext cx="75240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32840" y="1219320"/>
            <a:ext cx="417600" cy="536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5485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9616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82680" y="189072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58280" y="3162240"/>
            <a:ext cx="213336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cense, Laun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760" y="457200"/>
            <a:ext cx="979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accine Development Time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960" y="3162240"/>
            <a:ext cx="388620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I and Phase II t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562040" y="1943280"/>
            <a:ext cx="2362320" cy="1143000"/>
          </a:xfrm>
          <a:prstGeom prst="wedgeRoundRectCallout">
            <a:avLst>
              <a:gd name="adj1" fmla="val 42069"/>
              <a:gd name="adj2" fmla="val 76666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t saf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V, latent TB, children . .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76640" y="1866960"/>
            <a:ext cx="2362320" cy="1143000"/>
          </a:xfrm>
          <a:prstGeom prst="wedgeRoundRectCallout">
            <a:avLst>
              <a:gd name="adj1" fmla="val 51476"/>
              <a:gd name="adj2" fmla="val 85000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it induce the “right” immune respon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591240" y="2171880"/>
            <a:ext cx="2286000" cy="838080"/>
          </a:xfrm>
          <a:prstGeom prst="wedgeRoundRectCallout">
            <a:avLst>
              <a:gd name="adj1" fmla="val 48194"/>
              <a:gd name="adj2" fmla="val 107763"/>
              <a:gd name="adj3" fmla="val 166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it protect against T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44040" y="346716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 III 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23960" y="4367160"/>
            <a:ext cx="4234320" cy="1828800"/>
            <a:chOff x="723960" y="4367160"/>
            <a:chExt cx="4234320" cy="1828800"/>
          </a:xfrm>
        </p:grpSpPr>
        <p:grpSp>
          <p:nvGrpSpPr>
            <p:cNvPr id="91" name=""/>
            <p:cNvGrpSpPr/>
            <p:nvPr/>
          </p:nvGrpSpPr>
          <p:grpSpPr>
            <a:xfrm>
              <a:off x="723960" y="4367160"/>
              <a:ext cx="3922560" cy="1828800"/>
              <a:chOff x="723960" y="4367160"/>
              <a:chExt cx="3922560" cy="1828800"/>
            </a:xfrm>
          </p:grpSpPr>
          <p:sp>
            <p:nvSpPr>
              <p:cNvPr id="92" name=""/>
              <p:cNvSpPr/>
              <p:nvPr/>
            </p:nvSpPr>
            <p:spPr>
              <a:xfrm>
                <a:off x="2019240" y="5586480"/>
                <a:ext cx="2627280" cy="609480"/>
              </a:xfrm>
              <a:prstGeom prst="flowChartProcess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se I/I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 rot="10800000">
                <a:off x="723960" y="5585400"/>
                <a:ext cx="1295280" cy="609480"/>
              </a:xfrm>
              <a:prstGeom prst="rect">
                <a:avLst/>
              </a:prstGeom>
              <a:solidFill>
                <a:srgbClr val="99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clinic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6200000">
                <a:off x="3008520" y="4062240"/>
                <a:ext cx="990720" cy="1600200"/>
              </a:xfrm>
              <a:custGeom>
                <a:avLst/>
                <a:gdLst>
                  <a:gd name="textAreaLeft" fmla="*/ 473040 w 990720"/>
                  <a:gd name="textAreaRight" fmla="*/ 859680 w 990720"/>
                  <a:gd name="textAreaTop" fmla="*/ 976320 h 1600200"/>
                  <a:gd name="textAreaBottom" fmla="*/ 138852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039"/>
                    </a:moveTo>
                    <a:lnTo>
                      <a:pt x="13178" y="16039"/>
                    </a:lnTo>
                    <a:lnTo>
                      <a:pt x="13178" y="10317"/>
                    </a:lnTo>
                    <a:lnTo>
                      <a:pt x="10317" y="10317"/>
                    </a:lnTo>
                    <a:lnTo>
                      <a:pt x="15959" y="0"/>
                    </a:lnTo>
                    <a:lnTo>
                      <a:pt x="21600" y="10317"/>
                    </a:lnTo>
                    <a:lnTo>
                      <a:pt x="18739" y="10317"/>
                    </a:lnTo>
                    <a:lnTo>
                      <a:pt x="1873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439160" y="46717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ffff"/>
                  </a:solidFill>
                  <a:latin typeface="Arial"/>
                </a:rPr>
                <a:t>n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flipH="1" flipV="1">
            <a:off x="5265720" y="372744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060880" y="2528640"/>
            <a:ext cx="14400" cy="7347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29400" y="2314440"/>
            <a:ext cx="1098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10480" y="2301840"/>
            <a:ext cx="0" cy="24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94000" y="2314440"/>
            <a:ext cx="1096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4000" y="2314440"/>
            <a:ext cx="0" cy="2401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73560" y="3727440"/>
            <a:ext cx="914400" cy="9144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060640" y="4937040"/>
            <a:ext cx="3664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733880" y="4937040"/>
            <a:ext cx="3668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075280" y="1458720"/>
            <a:ext cx="0" cy="68724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17840" y="4937040"/>
            <a:ext cx="127188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62360" y="5972040"/>
            <a:ext cx="8384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c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316480"/>
            <a:ext cx="571320" cy="57168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5240" y="5316480"/>
            <a:ext cx="571680" cy="57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3760" y="5316480"/>
            <a:ext cx="571320" cy="57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448240" y="5316480"/>
            <a:ext cx="571680" cy="57168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68800" y="3727440"/>
            <a:ext cx="822240" cy="9144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075200" y="3727440"/>
            <a:ext cx="822240" cy="91440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33560" y="2114640"/>
            <a:ext cx="0" cy="2516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35360" y="2101680"/>
            <a:ext cx="1401840" cy="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443400"/>
            <a:ext cx="1346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2590920"/>
            <a:ext cx="82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76440" y="1327320"/>
            <a:ext cx="360" cy="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618080" y="1066680"/>
            <a:ext cx="914400" cy="404640"/>
            <a:chOff x="4618080" y="1066680"/>
            <a:chExt cx="914400" cy="404640"/>
          </a:xfrm>
        </p:grpSpPr>
        <p:sp>
          <p:nvSpPr>
            <p:cNvPr id="120" name=""/>
            <p:cNvSpPr/>
            <p:nvPr/>
          </p:nvSpPr>
          <p:spPr>
            <a:xfrm>
              <a:off x="4618080" y="1090440"/>
              <a:ext cx="914400" cy="3808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4400" y="1066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bir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27640" y="2133720"/>
            <a:ext cx="1295280" cy="398880"/>
            <a:chOff x="4427640" y="2133720"/>
            <a:chExt cx="1295280" cy="398880"/>
          </a:xfrm>
        </p:grpSpPr>
        <p:sp>
          <p:nvSpPr>
            <p:cNvPr id="123" name=""/>
            <p:cNvSpPr/>
            <p:nvPr/>
          </p:nvSpPr>
          <p:spPr>
            <a:xfrm>
              <a:off x="4427640" y="2141640"/>
              <a:ext cx="12952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47080" y="213372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uninfect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99040" y="3276720"/>
            <a:ext cx="1752480" cy="398880"/>
            <a:chOff x="4199040" y="3276720"/>
            <a:chExt cx="1752480" cy="398880"/>
          </a:xfrm>
        </p:grpSpPr>
        <p:sp>
          <p:nvSpPr>
            <p:cNvPr id="126" name=""/>
            <p:cNvSpPr/>
            <p:nvPr/>
          </p:nvSpPr>
          <p:spPr>
            <a:xfrm>
              <a:off x="4199040" y="3288960"/>
              <a:ext cx="1752480" cy="3729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26040" y="3276720"/>
              <a:ext cx="169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infected: lat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00200" y="4738680"/>
            <a:ext cx="1752840" cy="398880"/>
            <a:chOff x="2500200" y="4738680"/>
            <a:chExt cx="1752840" cy="398880"/>
          </a:xfrm>
        </p:grpSpPr>
        <p:sp>
          <p:nvSpPr>
            <p:cNvPr id="129" name=""/>
            <p:cNvSpPr/>
            <p:nvPr/>
          </p:nvSpPr>
          <p:spPr>
            <a:xfrm>
              <a:off x="2500200" y="4751280"/>
              <a:ext cx="1752840" cy="373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9840" y="4738680"/>
              <a:ext cx="15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infectious T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659560" y="4738680"/>
            <a:ext cx="2043000" cy="398880"/>
            <a:chOff x="5659560" y="4738680"/>
            <a:chExt cx="2043000" cy="398880"/>
          </a:xfrm>
        </p:grpSpPr>
        <p:sp>
          <p:nvSpPr>
            <p:cNvPr id="132" name=""/>
            <p:cNvSpPr/>
            <p:nvPr/>
          </p:nvSpPr>
          <p:spPr>
            <a:xfrm>
              <a:off x="5689440" y="4746600"/>
              <a:ext cx="198144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59560" y="4738680"/>
              <a:ext cx="20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on-infectious T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158320" y="4738680"/>
            <a:ext cx="1218960" cy="398880"/>
            <a:chOff x="8158320" y="4738680"/>
            <a:chExt cx="1218960" cy="398880"/>
          </a:xfrm>
        </p:grpSpPr>
        <p:sp>
          <p:nvSpPr>
            <p:cNvPr id="135" name=""/>
            <p:cNvSpPr/>
            <p:nvPr/>
          </p:nvSpPr>
          <p:spPr>
            <a:xfrm>
              <a:off x="8158320" y="4759200"/>
              <a:ext cx="1218960" cy="357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64080" y="473868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TB dea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95240" y="4738680"/>
            <a:ext cx="1218960" cy="398880"/>
            <a:chOff x="795240" y="4738680"/>
            <a:chExt cx="1218960" cy="398880"/>
          </a:xfrm>
        </p:grpSpPr>
        <p:sp>
          <p:nvSpPr>
            <p:cNvPr id="138" name=""/>
            <p:cNvSpPr/>
            <p:nvPr/>
          </p:nvSpPr>
          <p:spPr>
            <a:xfrm>
              <a:off x="795240" y="4759200"/>
              <a:ext cx="1218960" cy="357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1000" y="473868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TB death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83120" y="5537160"/>
            <a:ext cx="1143000" cy="398880"/>
            <a:chOff x="5883120" y="5537160"/>
            <a:chExt cx="1143000" cy="398880"/>
          </a:xfrm>
        </p:grpSpPr>
        <p:sp>
          <p:nvSpPr>
            <p:cNvPr id="141" name=""/>
            <p:cNvSpPr/>
            <p:nvPr/>
          </p:nvSpPr>
          <p:spPr>
            <a:xfrm>
              <a:off x="5883120" y="5558040"/>
              <a:ext cx="1143000" cy="3571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25600" y="553716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relaps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160640" y="2590920"/>
            <a:ext cx="1523880" cy="398880"/>
            <a:chOff x="1160640" y="2590920"/>
            <a:chExt cx="1523880" cy="398880"/>
          </a:xfrm>
        </p:grpSpPr>
        <p:sp>
          <p:nvSpPr>
            <p:cNvPr id="144" name=""/>
            <p:cNvSpPr/>
            <p:nvPr/>
          </p:nvSpPr>
          <p:spPr>
            <a:xfrm>
              <a:off x="1160640" y="2600640"/>
              <a:ext cx="1523880" cy="377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80800" y="259092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fff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425920" y="24829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imary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5920" y="248292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  <a:ea typeface="宋体"/>
              </a:rPr>
              <a:t>primary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9720" y="343080"/>
            <a:ext cx="90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e-Exposure and Post-Exposure Vacc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34160" y="1554120"/>
            <a:ext cx="2092320" cy="434880"/>
          </a:xfrm>
          <a:prstGeom prst="wedgeRectCallout">
            <a:avLst>
              <a:gd name="adj1" fmla="val -56449"/>
              <a:gd name="adj2" fmla="val 120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17880" y="2633760"/>
            <a:ext cx="4037040" cy="434880"/>
            <a:chOff x="3017880" y="2633760"/>
            <a:chExt cx="4037040" cy="434880"/>
          </a:xfrm>
        </p:grpSpPr>
        <p:sp>
          <p:nvSpPr>
            <p:cNvPr id="151" name=""/>
            <p:cNvSpPr/>
            <p:nvPr/>
          </p:nvSpPr>
          <p:spPr>
            <a:xfrm>
              <a:off x="6516720" y="2633760"/>
              <a:ext cx="538200" cy="43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67120" y="2633760"/>
              <a:ext cx="538200" cy="43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7880" y="2633760"/>
              <a:ext cx="538200" cy="43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189840" y="2722680"/>
            <a:ext cx="2425680" cy="434880"/>
          </a:xfrm>
          <a:prstGeom prst="wedgeRectCallout">
            <a:avLst>
              <a:gd name="adj1" fmla="val -58574"/>
              <a:gd name="adj2" fmla="val 1171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-expo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88080" y="5021280"/>
            <a:ext cx="2279520" cy="434880"/>
          </a:xfrm>
          <a:prstGeom prst="wedgeRectCallout">
            <a:avLst>
              <a:gd name="adj1" fmla="val -42407"/>
              <a:gd name="adj2" fmla="val 12773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apeutic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73560" y="2525400"/>
            <a:ext cx="1619280" cy="1860480"/>
            <a:chOff x="4273560" y="2525400"/>
            <a:chExt cx="1619280" cy="1860480"/>
          </a:xfrm>
        </p:grpSpPr>
        <p:sp>
          <p:nvSpPr>
            <p:cNvPr id="157" name=""/>
            <p:cNvSpPr/>
            <p:nvPr/>
          </p:nvSpPr>
          <p:spPr>
            <a:xfrm>
              <a:off x="4273560" y="3949560"/>
              <a:ext cx="538200" cy="43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4640" y="3951000"/>
              <a:ext cx="538200" cy="434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600440" y="2525400"/>
              <a:ext cx="495360" cy="695160"/>
              <a:chOff x="4600440" y="2525400"/>
              <a:chExt cx="495360" cy="69516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4840200" y="2525400"/>
                <a:ext cx="15840" cy="695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00440" y="2757600"/>
                <a:ext cx="495360" cy="34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28760" y="228600"/>
            <a:ext cx="951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allel track strate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3080" y="1447920"/>
            <a:ext cx="10020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llel track development - pre- and postexposure: idea is to come to a fusion of both tracks around 20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2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43360" indent="-243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71880" y="4343400"/>
            <a:ext cx="4495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3760" y="3124080"/>
            <a:ext cx="4305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4560" y="4114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87040" y="2286000"/>
            <a:ext cx="5763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linical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5          2008                                          2013               20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3124080"/>
            <a:ext cx="30492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8600" y="3160800"/>
            <a:ext cx="2867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-expos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t-expos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2040" y="4952880"/>
            <a:ext cx="989172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mature to settle on one implementation scenario (modeling)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deal :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only one new vaccine for pre- and post-expos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 BCG + fusion protein boost (under EPI schedule) resulting in (life?) long-lasting prote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 same new vaccine usable for boosts in neonates &amp;  in late childhood/early adolescents (adults?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ceptable but not ideal: pre and post-exposure vaccine differ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 recombinant BCG for neonates plus subunit vaccine as booster for adolesc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90408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312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1828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65520" y="1933560"/>
            <a:ext cx="0" cy="443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2000160"/>
            <a:ext cx="0" cy="4295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2544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0680" y="2403360"/>
            <a:ext cx="0" cy="4497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60640" y="1933560"/>
            <a:ext cx="0" cy="4497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5400" y="2671920"/>
            <a:ext cx="392436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I,II, IIB  Protein I Adj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4228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240" y="1933560"/>
            <a:ext cx="9853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11560" y="4753080"/>
            <a:ext cx="2253960" cy="2016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 II Viral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78240" y="5156280"/>
            <a:ext cx="1420560" cy="268200"/>
          </a:xfrm>
          <a:prstGeom prst="flowChartProcess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400" y="4753080"/>
            <a:ext cx="1586160" cy="201600"/>
          </a:xfrm>
          <a:prstGeom prst="flowChartProcess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92080" y="1397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27280" y="1397160"/>
            <a:ext cx="6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62120" y="139716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97320" y="1397160"/>
            <a:ext cx="75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6320" y="4148280"/>
            <a:ext cx="308916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 II BCG/ viral vector 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32160" y="1397160"/>
            <a:ext cx="75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83120" y="1397160"/>
            <a:ext cx="66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98800" y="5156280"/>
            <a:ext cx="225432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 II Protein 3&amp;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9760" y="2671920"/>
            <a:ext cx="3089160" cy="1006200"/>
          </a:xfrm>
          <a:prstGeom prst="flowChartProcess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III Infa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CGprime/Protein bo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olescents - Prote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5400" y="2000160"/>
            <a:ext cx="3840120" cy="268200"/>
          </a:xfrm>
          <a:prstGeom prst="rect">
            <a:avLst/>
          </a:prstGeom>
          <a:solidFill>
            <a:srgbClr val="ff99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te Preparation &amp; Epidemiolog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5400" y="3409920"/>
            <a:ext cx="1335240" cy="26820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5400" y="3813120"/>
            <a:ext cx="1752840" cy="26820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al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4000" y="3879720"/>
            <a:ext cx="3004920" cy="10749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III Infant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BCG or rTB prim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ral Vector Bo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olescents - V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328760"/>
            <a:ext cx="668160" cy="538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8840" y="1397160"/>
            <a:ext cx="666720" cy="401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18320" y="1328760"/>
            <a:ext cx="66816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04040" y="1328760"/>
            <a:ext cx="100152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38880" y="1328760"/>
            <a:ext cx="100188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56520" y="1328760"/>
            <a:ext cx="752400" cy="403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075600" y="1262160"/>
            <a:ext cx="417600" cy="536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49168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38920" y="2000160"/>
            <a:ext cx="0" cy="4900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60640" y="2940120"/>
            <a:ext cx="2589120" cy="3366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Protein Ia Adj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 rot="10800000">
            <a:off x="725040" y="2939040"/>
            <a:ext cx="1335240" cy="33660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5400" y="2268360"/>
            <a:ext cx="3840120" cy="268560"/>
          </a:xfrm>
          <a:prstGeom prst="flowChartProcess">
            <a:avLst/>
          </a:prstGeom>
          <a:solidFill>
            <a:srgbClr val="ff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Point &amp; Immune Assay Vali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0640" y="3409920"/>
            <a:ext cx="258912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Protein 2 Adj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 rot="10800000">
            <a:off x="2477880" y="5490000"/>
            <a:ext cx="1003320" cy="26820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81560" y="5491080"/>
            <a:ext cx="217008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Viral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738920" y="3075120"/>
            <a:ext cx="2087640" cy="1611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cense, Laun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34000" y="2000160"/>
            <a:ext cx="3004920" cy="5367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ory Constr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alidation, Consistenc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 rot="10800000">
            <a:off x="2478240" y="3812040"/>
            <a:ext cx="217152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rBCG, r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60600" y="4416480"/>
            <a:ext cx="3004920" cy="270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 Develop. Viral 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 rot="10800000">
            <a:off x="2979720" y="6026760"/>
            <a:ext cx="1168560" cy="26820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48280" y="6027840"/>
            <a:ext cx="200484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Viral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2477880" y="5759280"/>
            <a:ext cx="1003320" cy="26856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81560" y="5759280"/>
            <a:ext cx="2170080" cy="20196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rBCG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 rot="10800000">
            <a:off x="3313080" y="6363360"/>
            <a:ext cx="1170000" cy="26820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clin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83080" y="6364440"/>
            <a:ext cx="1752480" cy="268200"/>
          </a:xfrm>
          <a:prstGeom prst="flowChartProcess">
            <a:avLst/>
          </a:prstGeom>
          <a:solidFill>
            <a:srgbClr val="cc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 I,II  Viral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3120" y="5289480"/>
            <a:ext cx="2922480" cy="107496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III Post Infectio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+/- rBCG  prim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ral Vector Bo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58400" y="5289480"/>
            <a:ext cx="919080" cy="10749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cen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5840" y="347760"/>
            <a:ext cx="979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Vaccine Development Timeli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9:30:25Z</dcterms:created>
  <dc:creator>mai9</dc:creator>
  <dc:description/>
  <dc:language>en-US</dc:language>
  <cp:lastModifiedBy>Young</cp:lastModifiedBy>
  <dcterms:modified xsi:type="dcterms:W3CDTF">2005-04-30T11:35:54Z</dcterms:modified>
  <cp:revision>115</cp:revision>
  <dc:subject/>
  <dc:title>Slide 1</dc:title>
</cp:coreProperties>
</file>