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ABCB-BAD8-4977-BEC8-A9CF324376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has been discussed earlier the prospect reaching for the MDG TB targets looks much more achievable in most parts of the world except for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is roadmap complements the analytical document presented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take the following activities to enhance the importance and profile of TB as one of the leading health agenda in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B should launch a Stop TB Partnership for Africa to solicit unprecedented level of political commitment and multisectoral involvement at all levels to accelerate the implementation of TB contro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gh level missions should initiate the discussion of mainstreaming TB into development strategies such as the PRS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宋体"/>
              </a:rPr>
              <a:t>TB causes an estimated  an economic loss of 4-7% of GDP annually in countries with a high burden of TB.  Likewise, the global cost of TB is estimated to be US$13 billion a yea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Therefore, it needs to be mainstreamed in the development agenda of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F9F-DADC-4A64-AD6B-65D18F46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E5E5-FDB7-4D76-AF0B-76733EAE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8F2-A859-4D12-AC9D-3089A5F9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B4E-B96E-4EB7-B081-8FCAB4F5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4E81F-1DB2-4CD2-A505-837FC800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51A9-5834-475D-8E1D-618586FA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1F36-02B5-4715-86C2-1D7067D9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BAB-C388-4D9D-BEFC-53EB45F6E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5483-FE6E-46C4-8AE1-46570DEE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9428-63BE-4AEA-AF52-30B58D49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97CF-4538-41BB-BA42-3AC96E0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96F-5C28-4C24-9768-EE963A3F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92EF7-A2AE-470C-A6F7-71B5AC2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4C215-E234-48C0-8F4A-B8E208C5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E168-0BA3-4E26-8916-7BEFEAE6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C653-2EF2-47A2-BF2E-1D7860780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0578-079A-4913-8412-20AAD38D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9457-C67F-4D9E-8FA7-74A3AFB8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244-D406-4A5D-9A10-0DB05AE0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377C-48AB-4591-8BB6-A740301BF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40208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384-6E64-452E-87E2-C961F1914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DFEE-E778-46C2-9252-60BBC531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85F6-74B7-441A-B342-78B91AD0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7F6A-9F95-4992-B22C-2F54E93F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A9B1-F793-498A-92AB-EAC70E31DD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DFD0-2D71-47F0-AF6B-1AE171AEC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Roadmap to intensify action to reach the TB MDGs in Africa.</a:t>
            </a:r>
            <a:br>
              <a:rPr sz="4400"/>
            </a:br>
            <a:r>
              <a:rPr b="1" lang="en-GB" sz="4400" spc="-1" strike="noStrike">
                <a:solidFill>
                  <a:srgbClr val="ffffff"/>
                </a:solidFill>
                <a:latin typeface="Berlin Sans FB Demi"/>
              </a:rPr>
              <a:t>2005-2007</a:t>
            </a:r>
            <a:br>
              <a:rPr sz="4400"/>
            </a:br>
            <a:br>
              <a:rPr sz="44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Draft for Discuss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 </a:t>
            </a:r>
            <a:r>
              <a:rPr b="1" lang="en-GB" sz="3600" spc="-1" strike="noStrike">
                <a:solidFill>
                  <a:srgbClr val="ffffff"/>
                </a:solidFill>
                <a:latin typeface="Berlin Sans FB Demi"/>
              </a:rPr>
              <a:t>Why the Road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Provide recommendations and the </a:t>
            </a:r>
            <a:r>
              <a:rPr b="0" lang="en-GB" sz="3200" spc="-1" strike="noStrike">
                <a:solidFill>
                  <a:srgbClr val="cc0000"/>
                </a:solidFill>
                <a:latin typeface="Berlin Sans FB Demi"/>
              </a:rPr>
              <a:t>provisional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 financial needs for TB control in Africa for 2005-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alls for enhanced efforts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B of Stop TB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African leaders and 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Donors, technical agencies and N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21164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Liaise with the AU and WHO/AFRO to make TB visible and to engage in NEPAD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dvocate for an AU TB resolution in the context of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The Chair of the CB (or his/her delegate) to regularly attend the Regional Committee (RC) of AF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erlin Sans FB Demi"/>
              </a:rPr>
              <a:t>Assign a focal point of the CB to engage in NEPAD related consul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The Coordinating Board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Create a  task force to establish the Stop TB Partnership for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high level missions to five high burden countries and meet with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heads of state</a:t>
            </a:r>
            <a:r>
              <a:rPr b="0" lang="en-GB" sz="3200" spc="-1" strike="noStrike">
                <a:solidFill>
                  <a:srgbClr val="3333cc"/>
                </a:solidFill>
                <a:latin typeface="Berlin Sans FB Dem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and </a:t>
            </a:r>
            <a:r>
              <a:rPr b="0" lang="en-GB" sz="3200" spc="-1" strike="noStrike" u="sng">
                <a:solidFill>
                  <a:srgbClr val="3333cc"/>
                </a:solidFill>
                <a:uFillTx/>
                <a:latin typeface="Berlin Sans FB Demi"/>
              </a:rPr>
              <a:t>ministers</a:t>
            </a: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lin Sans FB Demi"/>
              </a:rPr>
              <a:t>Organise the next Stop TB Partners Forum in Africa in 200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The Coordinating Board shoul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Organise an African TB financing summit to mobilise new and sustainable  financial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Reach out major institutions and bilateral agencies by meeting </a:t>
            </a:r>
            <a:r>
              <a:rPr b="0" lang="en-GB" sz="2800" spc="-1" strike="noStrike" u="sng">
                <a:solidFill>
                  <a:srgbClr val="3333cc"/>
                </a:solidFill>
                <a:uFillTx/>
                <a:latin typeface="Berlin Sans FB Demi"/>
              </a:rPr>
              <a:t>heads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of  the instit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supporting the Global Drug Fac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Berlin Sans FB Demi"/>
              </a:rPr>
              <a:t>African governments sh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Mainstream TB in their development agen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P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SW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HIP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trengthen TB control through DOTS and address health system probl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increase access to quality diagnosis and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Strengthen community involvement in TB and TB/H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engagement of NGOs and private s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Berlin Sans FB Demi"/>
              </a:rPr>
              <a:t>Enhance local drug manufacturing and procur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Implement collaborative TB/HIV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Berlin Sans FB Dem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Berlin Sans FB Demi"/>
              </a:rPr>
              <a:t>Interim Policy on Collaborative TB/HIV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Establish National Stop TB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Berlin Sans FB Demi"/>
              </a:rPr>
              <a:t>Major donors, technical agencies and NGOs  sh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Support the proposed African TB financing summ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ntinue and increase support for Stop TB Partners working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Coordinate their national leve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Berlin Sans FB Demi"/>
              </a:rPr>
              <a:t>HIV/AIDS NGOs should embrace TB as one of their main work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Berlin Sans FB Demi"/>
              </a:rPr>
              <a:t>Estimated co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the Coordinating Board= 1.5 mill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erlin Sans FB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erlin Sans FB Demi"/>
              </a:rPr>
              <a:t>For African countries=  1, 140 mill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0000"/>
                </a:solidFill>
                <a:latin typeface="Berlin Sans FB Demi"/>
              </a:rPr>
              <a:t>Provisional  figures built on the global plan II (2006-201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6600" spc="-1" strike="noStrike">
                <a:solidFill>
                  <a:srgbClr val="000000"/>
                </a:solidFill>
                <a:latin typeface="Berlin Sans FB Demi"/>
              </a:rPr>
              <a:t>THANK YO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1:13:30Z</dcterms:created>
  <dc:creator>getahunh</dc:creator>
  <dc:description/>
  <dc:language>en-US</dc:language>
  <cp:lastModifiedBy>johnsoneb</cp:lastModifiedBy>
  <dcterms:modified xsi:type="dcterms:W3CDTF">2005-05-11T07:59:49Z</dcterms:modified>
  <cp:revision>37</cp:revision>
  <dc:subject/>
  <dc:title>Roadmap to intensify action to reach the TB MDGs in Africa.  2005-2007 </dc:title>
</cp:coreProperties>
</file>