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F504-2E52-4DB3-815B-388581625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E20A-49B1-489A-B764-679500427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F011-E332-4539-BF61-95CAB4CC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00FE-0D37-4BE5-AB06-FC474679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8897-56E6-4B5A-BA55-1FDFF609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CDD-B846-4381-B3DA-87A59209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E750-60E9-46C0-833B-94301984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510C-B482-4138-BF81-A7CEF5F7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00D7-E067-4DF3-AFA4-AB564D57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EFA0-3C29-4705-8E9D-478E645A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889A-EA45-414F-B4A6-C8D11D04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3B52-ED2C-43DF-A38E-F53547A5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57F7-4BEE-4DF9-8D7B-4F4A589C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09F-99C5-4D6E-A271-CD143EC5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448B-EEE1-45F3-B9BA-DD20BE12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C318-000E-4103-A9CE-52CC414C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DC2F-8AE9-4BDE-9EAE-EFFDD8C8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9FB2-78FE-42C7-B254-47F988D8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5893-B04A-46B7-8ACB-486A364B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96D-EC91-4BEF-AF44-6B531057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898-8D08-4624-87A7-16F98CD7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2D7-79F4-4694-BEB9-43E9DE3A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071A-68CA-42B0-A974-EF153A42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F852-A409-41CD-9F16-EEFE81BC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1077-1193-49FB-B645-2DBC91D0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096-511A-4066-8C9D-875E6E40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1CD9-7A76-490B-872C-50831AD50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6C21-5E99-4D71-9932-8C0D1DE5E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Engaging all care providers to Stop T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708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4000" y="1460520"/>
            <a:ext cx="8640720" cy="472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116000" y="1844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 countries with PPM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2205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,000 patients evalu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2565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success around 80-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924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ase detection in al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3716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s the p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3480" y="335772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-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4076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burden for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Task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628640"/>
          <a:ext cx="8229600" cy="464508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1152720"/>
                <a:gridCol w="1079280"/>
                <a:gridCol w="1079640"/>
                <a:gridCol w="1066680"/>
                <a:gridCol w="1176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do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187280" y="2133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461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on by different care providers in 12 cities (Q2-4; 2004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920960"/>
          <a:ext cx="9169560" cy="40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0960"/>
                    <a:ext cx="91695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33280" y="17928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49680" y="6189840"/>
            <a:ext cx="26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r L S Chauhan, NTP,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24000" y="1098720"/>
          <a:ext cx="7848360" cy="50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98720"/>
                    <a:ext cx="7848360" cy="50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76360" y="2421000"/>
            <a:ext cx="64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crease in TB case-detection rate following DOTS expansion (2003) and PPM-DOTS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3280" y="1792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72240" y="616572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CDC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8612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46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32560" y="25092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62040" y="6189840"/>
            <a:ext cx="30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Jan Voskens, KNCV,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258920" y="1916280"/>
          <a:ext cx="748980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74898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33520" y="1413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ect on case detection trend in PPM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2209680"/>
            <a:ext cx="1295640" cy="161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+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P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648320" y="2362320"/>
            <a:ext cx="1066680" cy="914400"/>
          </a:xfrm>
          <a:prstGeom prst="line">
            <a:avLst/>
          </a:prstGeom>
          <a:ln w="41400">
            <a:solidFill>
              <a:srgbClr val="0066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0920" y="3357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2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3429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971800"/>
            <a:ext cx="10670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63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2057400"/>
            <a:ext cx="10666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71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280" y="250920"/>
            <a:ext cx="21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ilipp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6165720"/>
            <a:ext cx="28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R Vianzon, NTP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900000" y="1557360"/>
          <a:ext cx="79930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993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2920" y="250920"/>
            <a:ext cx="23248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ural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7840" y="6165720"/>
            <a:ext cx="36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Salim, Damien Foundation, Banglade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276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h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FATM) – PPM in place in Accra and Kumasi cities. 26% of TB cases being notified are diagnosed by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WHO-AFRO) – Scaling up an ongoing project which has treated over 4000 patients with satisfactory outcomes. Treatment success in 2003 cohorts 7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LRA, FIDELIS) – One ongoing pilot supported by GL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pilots in one state each supported by FIDE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gan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Assessment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blic of South Afr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O-AFRO) – Pilot in progress in Sow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Preparation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609300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. Kibuga, WHO/AF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bears the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76200" y="1778040"/>
          <a:ext cx="720756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778040"/>
                    <a:ext cx="72075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6335640" y="609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urtesy: Katherine Floyd, WHO/S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3120" y="179280"/>
            <a:ext cx="21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50160" y="234936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10160" y="3141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68720" y="32846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357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-economic Profile of Patients LSU PPMD Center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pines, May 2002-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547640" y="2205000"/>
          <a:ext cx="626436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05000"/>
                    <a:ext cx="626436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781680" y="396252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= 3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5300640"/>
            <a:ext cx="778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30, 000/ mo        15,000-30,000/m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,000-15,000/mo    &lt;5,000/mo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40$/mo                270-540$/mo                  90-270$/mo           &lt;90$/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Family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6165720"/>
            <a:ext cx="84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Based on 2002 Poverty threshold per capita per year 11,906/12 x 5  (average family siz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24720" y="602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ourtesy: Charles Yu, Phil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560" y="2509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Building local partnerships to ensure quality TB care for all who need i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erabad: since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B Bangladesh: since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al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ya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projects in India and Philippines running for 2-5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0" y="1523880"/>
            <a:ext cx="3886200" cy="892800"/>
          </a:xfrm>
          <a:prstGeom prst="rect">
            <a:avLst/>
          </a:prstGeom>
          <a:solidFill>
            <a:srgbClr val="cc33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Century Gothic"/>
              </a:rPr>
              <a:t>N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 u="sng">
                <a:solidFill>
                  <a:srgbClr val="ffccff"/>
                </a:solidFill>
                <a:uFillTx/>
                <a:latin typeface="Century Gothic"/>
              </a:rPr>
              <a:t>St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3048120" cy="716760"/>
          </a:xfrm>
          <a:prstGeom prst="rect">
            <a:avLst/>
          </a:prstGeom>
          <a:solidFill>
            <a:srgbClr val="ffffcc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entury Gothic"/>
              </a:rPr>
              <a:t>PPM DOTS Agency</a:t>
            </a:r>
            <a:r>
              <a:rPr b="0" lang="sv-SE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33"/>
                </a:solidFill>
                <a:latin typeface="Century Gothic"/>
              </a:rPr>
              <a:t>Public, Private, 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62320" y="5181480"/>
            <a:ext cx="685800" cy="3070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181480"/>
            <a:ext cx="76212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5181480"/>
            <a:ext cx="91440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1520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23880" y="4419720"/>
            <a:ext cx="1524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819160" y="441972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44197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4419720"/>
            <a:ext cx="381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4495680"/>
            <a:ext cx="76176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4419720"/>
            <a:ext cx="13716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3434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2492280"/>
            <a:ext cx="0" cy="86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0360" y="2924280"/>
            <a:ext cx="2438640" cy="33768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Century Gothic"/>
              </a:rPr>
              <a:t>Co-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285264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2819520"/>
            <a:ext cx="1447920" cy="337680"/>
          </a:xfrm>
          <a:prstGeom prst="rect">
            <a:avLst/>
          </a:prstGeom>
          <a:solidFill>
            <a:srgbClr val="ff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QC, S&amp;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30481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27672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6019920"/>
            <a:ext cx="70102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1240" y="6056280"/>
            <a:ext cx="73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entury Gothic"/>
              </a:rPr>
              <a:t>Equity in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84360" y="4581360"/>
            <a:ext cx="33829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Drugs / Incentives for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2852640"/>
            <a:ext cx="33847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Contracts with financial incen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364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2436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15636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1480" y="17928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it work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tool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willingness among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guidelines: 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tandard of TB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abl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9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ocal capacity for development, coordination, supervision and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government and NTP commi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Global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global and regional resources for technical assistance and advo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619280" y="4653000"/>
            <a:ext cx="0" cy="433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619280" y="3644640"/>
            <a:ext cx="0" cy="43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619280" y="2565360"/>
            <a:ext cx="0" cy="432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PPM Subgroup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he profile of the Subgroup within the Stop TB Partnership and strengthen support for its activiti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PPM DOTS -- linking all care providers to National TB Programmes -- a prominent part of the Second Global Plan to Stop TB, especially to improve access to quality TB care for the po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PM DOTS progress regularly during STB-CB meeting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PPM DOTS during missions to countries and important events such as the World TB Da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ze resources to strengthen capacity for PPM at global, regional and national levels to be able assist in initiating, evaluating and scaling up PPM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281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pe and objectives of PPM D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olution and evidenc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 i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s and equ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rs and barriers to scal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 of the PPM Subgroup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4653000"/>
            <a:ext cx="20876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Health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5373720"/>
            <a:ext cx="15843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619600">
            <a:off x="5362920" y="494172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360600">
            <a:off x="7201080" y="630828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247400">
            <a:off x="5725440" y="213300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51640" y="537372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805000">
            <a:off x="6010920" y="594972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840" y="40464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rivate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373720"/>
            <a:ext cx="151272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6165720"/>
            <a:ext cx="30240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619600">
            <a:off x="5147280" y="508464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60600">
            <a:off x="6877440" y="6165360"/>
            <a:ext cx="212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247400">
            <a:off x="5726880" y="214092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522936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805000">
            <a:off x="5939280" y="5733720"/>
            <a:ext cx="205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444200">
            <a:off x="176400" y="3069360"/>
            <a:ext cx="194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ers' Health Insuranc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59120" y="150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37400">
            <a:off x="1698480" y="177372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16200" y="4170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688000">
            <a:off x="1621800" y="50144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3120" y="517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8008200">
            <a:off x="874080" y="60566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m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3120" y="4170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393400">
            <a:off x="574920" y="40705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lwa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480" y="215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15600">
            <a:off x="463680" y="1940400"/>
            <a:ext cx="2656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l Colleg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9216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3840" y="55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312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393400">
            <a:off x="-1080" y="51577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son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40464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ublic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4800960"/>
            <a:ext cx="1944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rivate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4894560"/>
            <a:ext cx="1871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ublic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5734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79640" y="4149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5229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79564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084360" y="414936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084720" y="5084640"/>
            <a:ext cx="11512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4897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 of PPM 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access and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financial burden o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9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0:  Learn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1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consul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2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Regional and National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3:  Economic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:  Multiple initiatives; Analysis of succe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5:  Early scale up</a:t>
            </a: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7640" y="25092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4:57:48Z</dcterms:created>
  <dc:creator>Uplekar</dc:creator>
  <dc:description/>
  <dc:language>en-US</dc:language>
  <cp:lastModifiedBy>Uplekar</cp:lastModifiedBy>
  <dcterms:modified xsi:type="dcterms:W3CDTF">2005-05-03T04:24:46Z</dcterms:modified>
  <cp:revision>2</cp:revision>
  <dc:subject/>
  <dc:title>Public-Private Mix (Engaging all care providers to Stop TB) </dc:title>
</cp:coreProperties>
</file>