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11E7-D996-4DF2-8467-9D07EA8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110-ADF4-466B-B611-A4C83FCD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867-50DB-4750-B740-0E1909AF2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77A-9B83-4A37-917F-D8E1458B0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7D4-312B-471E-A0CB-78E4E2B04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404-DDA6-489E-B5AC-29604033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68EE-D06A-46B2-AC5C-6FFAC02E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C64-76F0-4861-856B-3955DDB3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D5A9-4DC3-4575-87FF-1648D06E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A4A-CBAC-4D66-ADE9-934C51B5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F7DA-3D28-4D3F-A36A-5629D100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C7A1-750B-480D-899A-263A868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89B2-A0D7-4429-AB84-62CC9C7B3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000" y="836280"/>
            <a:ext cx="8820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eeting of the Steering Committee for the Global Plan to Stop TB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(2006-2015)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2 May 2005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ddis Ababa</a:t>
            </a:r>
            <a:br>
              <a:rPr sz="4400"/>
            </a:br>
            <a:br>
              <a:rPr sz="4400"/>
            </a:b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800"/>
            </a:br>
            <a:br>
              <a:rPr sz="4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331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Each WG strategic plan </a:t>
            </a:r>
            <a:br>
              <a:rPr sz="4000"/>
            </a:b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– the bottom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758960"/>
            <a:ext cx="88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o does wha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 what co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th what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89308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Why do we need a Global Plan to Stop TB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vision of what we can achiev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roadmap to achieve target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As a tool for advocacy and fundrais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upport long-term national planning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To stimulate research and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econd ad hoc committee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MDGs Working Group on TB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B 2004</a:t>
            </a: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(and WHA 2005)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Stop TB Partnership Coordinating Boar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675640" cy="60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he Global Plan to Stop TB (2006-2015): who has asked for it?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onors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e.g. GFATM replenishment meeting, Stockholm, 15-16 March 2005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"better articulation of resource needs to address diseases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20" y="179244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ctober 2004: Coordinating Board requested each WG 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 its workplan (2006-2015) in contribution to the Global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y a focal point for this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identify resource needs for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ensure full engagement of all stakehold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Contribution of WGs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o development of plan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8120" y="1792440"/>
            <a:ext cx="838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tiona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The contribution of all the WGs is crucial to the successful development and implementation of the Global Pl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 builds the "buy-in" necessary for the implementation of the Global Plan by the W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Gs stand to gain from a Global Plan with wide support (political and financial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29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enefits for each WG of development of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141300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ces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s stak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larifies activities in line with strategic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ids prioritis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dentifies resource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vides a roadmap (activities, targets, timeli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ables monitoring of progress towards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lps resource mob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90298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Features of WG strategic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322280"/>
            <a:ext cx="889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lanning elements: objectives, targets, indicators, activities, timelines, milestones, budget, M &amp;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velopment of plan is informed by epidemiological and costing proj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gration of activities of different WGs to produce regional 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Likely format of Global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557360"/>
            <a:ext cx="8705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xecutive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s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chieving the targets for 2015: global and regional scenarios, R&amp;D scenarios, key strategic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nership activities to achieve the goal: WG and secretariat strategic plans, with estimated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onitoring and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5T09:27:19Z</dcterms:created>
  <dc:creator>JourdanS</dc:creator>
  <dc:description/>
  <dc:language>en-US</dc:language>
  <cp:lastModifiedBy>johnsoneb</cp:lastModifiedBy>
  <cp:lastPrinted>2003-06-23T18:01:16Z</cp:lastPrinted>
  <dcterms:modified xsi:type="dcterms:W3CDTF">2005-05-02T10:48:21Z</dcterms:modified>
  <cp:revision>119</cp:revision>
  <dc:subject/>
  <dc:title>Africa: HIV is driving the TB epidemic TB notification rates, 1980-1998</dc:title>
</cp:coreProperties>
</file>