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0AC6-1AD0-431B-B212-12B838BE3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rtners share a Vision and a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598-CF6A-4A48-8053-70C9B2CA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464-A0F2-479F-9752-5821B857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8BE-9E5D-45E8-B87E-599C7AD0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296-4DAD-4825-874F-19A45FF3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EF09-A53D-474E-88F4-85E38C8B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222C-A6BB-43B4-8F42-182F8259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CF3D-EC47-4B89-8BA9-B769FC0A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F55C-2864-4DD2-8731-EFCECEF3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3B8F-28C6-4F1A-8E72-33D2E1DB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A74D-EDA4-43E7-ACD3-F8E68862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A9CD-45E7-4258-8FEE-0734AC37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0E6-04AE-4B80-AF23-320A8380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2E59-E239-4761-A67D-E4AB46B3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1500-BAF4-4B89-9A56-ABE0244E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8D04-1C39-4440-96FB-770581D8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60AC-4D92-4EC9-980E-B2958705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EEF8-952A-4FB4-9DD1-B98A48A7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45F-8125-4C7C-B2D7-BB940230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8D3-ED28-4ABB-BED2-D3C15291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95C-6E6A-4824-9719-DF1054DB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F9B-BAA4-476D-8A0A-8ACCE0DC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5CA-6463-4696-9A53-8AA447A0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2C1-79FD-4965-9AB5-0384C5E7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E6CD-460A-4CD1-B675-FCA51831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6489-49C0-47C2-A8FC-535CA8950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9042-D004-4C95-AE8F-C43F07938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 new MOU with WH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Irene Ko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GB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we need a new M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ard is requested to discuss and decide whether a new MOU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answer is 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us quo is understood to prev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the answer is YES; the Board has 2 options to proc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a negotiating committee of Members to lead discussions with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ower the Secretariat to undertake discussions based on the attached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have an MOU with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mutual understanding of the adaptations and flexibility the Secretariat needs to carry out the CB approved work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ty for all concerned on how to address practical issues such as staffing, external correspondence (use of logo and letterhead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ed 2001 by WHO (DG) and STBCB (Chair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dresses operational aspects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D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lidity to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ly 2003 but applied until a new agreement is negotiat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S WITH 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of date - refers to "appointments as time-limited until mid 2003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addresses GD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reflect the establishment of the Trust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fully address all relevant operational and management issues – staffing, use of logo and letterhead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and political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hosted/housed by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Secretariat within STB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,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-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ruitment of Executive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limits and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Drugs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of the G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Review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aspec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ust F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C rates (6% for Trust Fund, 3% for dr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procurement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ity of the new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bakerl</cp:lastModifiedBy>
  <dcterms:modified xsi:type="dcterms:W3CDTF">2005-04-27T11:43:43Z</dcterms:modified>
  <cp:revision>35</cp:revision>
  <dc:subject/>
  <dc:title>Slide 1</dc:title>
</cp:coreProperties>
</file>