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056-C574-491A-8621-BA37CDDE6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CF1-A112-4E89-8F23-8096B206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8285-B28E-4478-B53A-5A986682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55FE-4C02-4FB8-A3FC-722F29D7A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E91-D38A-4B8C-8040-F29D373D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E44-3D81-4E9D-A42D-030CD78A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D228-DBC6-47D6-B903-12EFD0D3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8BF-D455-41B3-B7F5-40ADDAC3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811-E241-4BF8-80AD-63F60EDC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73E-244A-4F6D-88FB-669159FF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34E8-B1F5-48DC-84B9-A72F45F7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F225-316D-476B-B080-B2401AA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985F-CAC0-47BA-BF94-10D83E2E1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Elements in each WG strategic 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322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16000" y="1125360"/>
          <a:ext cx="8820000" cy="5313600"/>
        </p:xfrm>
        <a:graphic>
          <a:graphicData uri="http://schemas.openxmlformats.org/drawingml/2006/table">
            <a:tbl>
              <a:tblPr/>
              <a:tblGrid>
                <a:gridCol w="1101600"/>
                <a:gridCol w="1103400"/>
                <a:gridCol w="1101600"/>
                <a:gridCol w="1104840"/>
                <a:gridCol w="1101960"/>
                <a:gridCol w="1101600"/>
                <a:gridCol w="1103400"/>
                <a:gridCol w="11016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l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 exp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OTS-Pl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B/H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iag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rategic vi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bj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arg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imel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mpa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 vaccine by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ctivities budg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nd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/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is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"/>
              </a:rPr>
              <a:t>Revised Global Plan 2006-2015 time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1397160"/>
          <a:ext cx="6096240" cy="4965480"/>
        </p:xfrm>
        <a:graphic>
          <a:graphicData uri="http://schemas.openxmlformats.org/drawingml/2006/table">
            <a:tbl>
              <a:tblPr/>
              <a:tblGrid>
                <a:gridCol w="2057400"/>
                <a:gridCol w="4038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lest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teering Group mee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4 Ma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ordinating Board conside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WG plans and regional scen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ne-Ju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Drafting of 1</a:t>
                      </a:r>
                      <a:r>
                        <a:rPr b="0" lang="en-GB" sz="2000" spc="-1" strike="noStrike" baseline="30000">
                          <a:solidFill>
                            <a:srgbClr val="ffff00"/>
                          </a:solidFill>
                          <a:latin typeface="Arial"/>
                        </a:rPr>
                        <a:t>st</a:t>
                      </a: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full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ug-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de consultation and revi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d 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inalised Global Pl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ct-Dec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oduction of Global Plan (editing, design, translation, printing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anuary 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unch, Davos (to be confirm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7:07:22Z</dcterms:created>
  <dc:creator>maherd</dc:creator>
  <dc:description/>
  <dc:language>en-US</dc:language>
  <cp:lastModifiedBy>Karen Caines</cp:lastModifiedBy>
  <dcterms:modified xsi:type="dcterms:W3CDTF">2005-05-01T13:25:20Z</dcterms:modified>
  <cp:revision>6</cp:revision>
  <dc:subject/>
  <dc:title> Elements in each WG strategic  plan</dc:title>
</cp:coreProperties>
</file>