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E03F-0D7A-4573-BEC4-150FCC85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7508-E6E1-49BB-8145-C783C7ED2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BEB-AFD7-4F81-ABEE-B521577F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484F-4300-45EF-8287-09906446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D1B9-558E-481B-8452-407C3DA6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E2DD-5138-4685-9C3F-6CE2BA5D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4C18-6131-4980-B273-C1CA86DE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C91C-88C7-4DE3-B965-CE0DBEB1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BADF-60E5-4E81-9A11-FB560BB0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61EF-00E2-46B6-915E-DD6AB32E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19FC-F349-477D-9C90-9DFB6733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8858-AA0B-40AA-A585-51CD7D39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381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1D6B-E0C6-418D-AE8B-A6B22C96A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43280" y="1268280"/>
            <a:ext cx="540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rategic Plan </a:t>
            </a:r>
            <a:br>
              <a:rPr sz="3200"/>
            </a:b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Stop TB Working Group on DOTS-Plus for MDR-TB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of the Steering Committee for the Global Plan to Stop TB (2006-2015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s Ababa, 2 May 2005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lma E. Tupasi, MD, Acting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4830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1484280"/>
          <a:ext cx="9144000" cy="506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4000" cy="50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Total MDR-TB patients to be treated under DOTS-Plus (thousand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-39600" y="1300320"/>
          <a:ext cx="9080280" cy="514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00" y="1300320"/>
                    <a:ext cx="9080280" cy="51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Cost per MDR-TB patient trea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324000" y="1530360"/>
          <a:ext cx="8208720" cy="51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30360"/>
                    <a:ext cx="8208720" cy="51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34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country activity costs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280680" y="2371680"/>
            <a:ext cx="4672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tal: US$ 5,3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Resources needed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DOTS-Plus global coordination costs, 2006-2015, 60 mill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900000" y="2022480"/>
          <a:ext cx="7201080" cy="4430880"/>
        </p:xfrm>
        <a:graphic>
          <a:graphicData uri="http://schemas.openxmlformats.org/drawingml/2006/table">
            <a:tbl>
              <a:tblPr/>
              <a:tblGrid>
                <a:gridCol w="6164280"/>
                <a:gridCol w="1036800"/>
              </a:tblGrid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and management of the Working 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ansion and strengthening of DRS and DOTS-P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nd Regional GLC operation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y development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ion of the global supranational laboratory net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-line drug management and prequal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ocacy, communication and social mobiliz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al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</a:tbl>
          </a:graphicData>
        </a:graphic>
      </p:graphicFrame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895,000 MDR-TB patients receiving adequate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660,000 MDR-TB patient successfully t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Half a million MDR-TB deaths ave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DOTS/DOTS-Plus impa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Reduction in previously treated patients from </a:t>
            </a:r>
            <a:br>
              <a:rPr sz="2800"/>
            </a:b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19% to 15% of all confirmed TB c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808080"/>
                </a:solidFill>
                <a:latin typeface="Arial"/>
              </a:rPr>
              <a:t>Decrease in MDR-TB prevalence by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Monito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5920" y="1495440"/>
            <a:ext cx="425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O/IUATLD DRS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Laboratory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SNRL and NR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GLC and W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-line drug us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ntory of public and private sector drug use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e-qualification proj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Global coordination activities and costs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24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pidemiology and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OTS-Plus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TS-Plus recording and reporting included in DO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DR-TB notifications and DOTS-Plus outcomes part of Global Tuberculosis Control Re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 provided as one package (DOTS/DOTS-Plu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Key risk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ck of political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suse and low quality of second-line drugs resulting in the creation of strains resistant to all known anti-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DR-TB and HIV/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Qualified human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 health infrastructure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especially laboratory capa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zation and management of health care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Process for developing the </a:t>
            </a:r>
            <a:br>
              <a:rPr sz="4000"/>
            </a:b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strategic 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lanning workshop in Montreux, March 2005 discussions on epidemiological scenarios with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OTS-Expansion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Laboratory strengthening sub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808080"/>
                </a:solidFill>
                <a:latin typeface="Arial"/>
              </a:rPr>
              <a:t>Diagnostic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elephone conferences with WHO Regional Offices on epidemiological scena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iscussion on epidemiological scenarios, cost and impact at 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ad hoc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DOTS-Plus strategy meeting, 18-19 April 200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MDR-TB control – </a:t>
            </a:r>
            <a:br>
              <a:rPr sz="4000"/>
            </a:br>
            <a:r>
              <a:rPr b="1" lang="en-GB" sz="4000" spc="-1" strike="noStrike">
                <a:solidFill>
                  <a:srgbClr val="008000"/>
                </a:solidFill>
                <a:latin typeface="Arial"/>
              </a:rPr>
              <a:t>political and technical moment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1639800"/>
            <a:ext cx="80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Expanded DOTS Framework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GFATM and GLC agreement 20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2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ad ho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SimSun"/>
              </a:rPr>
              <a:t> Committee on the TB Epidemic 200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B 2004 and WHA 200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vised WHO treatment guidelin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vision of TB contro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Standards of TB 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w DOTS-Plus guide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apid expansion of DOTS-Plus as routine components of TB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98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Vision 2006-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55736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Arial"/>
              </a:rPr>
              <a:t>Drug resistance surveillance and DOTS-Plus integrated as routine components of TB control providing access to diagnosis and treatment for all TB patients and by all health care provider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497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pansion of DRSData on the global magnitude and trends of MDR-TB, and on the relationship between MDR-TB and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ansion of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equate treatment of all detected MDR-TB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 production in high MDR-TB burden countries and further reduction of prices of second-line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lobal coordination, collaboration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ST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lobally, all previously treated c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astern Europe, also all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atin America, Southeast Asia and Western Pacific, also 20% of targeted new c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619280" y="3435480"/>
          <a:ext cx="5616720" cy="331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3435480"/>
                    <a:ext cx="5616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908000" y="3573360"/>
            <a:ext cx="5040360" cy="30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ample of DST expansion - Western Pacific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2015: Treatment with quality-assured 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line drugs to all detected MDR-TB patients following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imated number of culture-positive MDR-TB patients under DOTS-Pl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05: 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0: 24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808080"/>
                </a:solidFill>
                <a:latin typeface="Arial"/>
              </a:rPr>
              <a:t>2015: 66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1 million MDR-TB patients treated under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TS-Plus, 2006-20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00"/>
                </a:solidFill>
                <a:latin typeface="Arial"/>
              </a:rPr>
              <a:t>DOTS-Plus expansion Eastern 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177920" y="1768320"/>
          <a:ext cx="6462720" cy="4692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7920" y="1768320"/>
                    <a:ext cx="6462720" cy="46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95280" y="1386000"/>
            <a:ext cx="8353440" cy="5356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00"/>
                </a:solidFill>
                <a:latin typeface="Arial"/>
              </a:rPr>
              <a:t>MDR-TB patients to be treated per year under DOTS-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244000" y="5950080"/>
            <a:ext cx="82692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2:34:42Z</dcterms:created>
  <dc:creator>Eva Nathanson</dc:creator>
  <dc:description/>
  <dc:language>en-US</dc:language>
  <cp:lastModifiedBy>johnsoneb</cp:lastModifiedBy>
  <dcterms:modified xsi:type="dcterms:W3CDTF">2005-05-02T05:31:43Z</dcterms:modified>
  <cp:revision>75</cp:revision>
  <dc:subject/>
  <dc:title>Slide 1</dc:title>
</cp:coreProperties>
</file>