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549-97F0-43E2-B822-90DC8E87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BEE-F4A7-42BB-A1D1-84D61445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399-CD24-4DC3-BC64-82768804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589-9E00-41C0-8825-A868BC11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3EC-D2D7-4D09-AF70-E314A1B1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167-7B70-4810-933D-18C97B1E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3D9-D84F-46D1-B46B-0BAB90DC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F0F-E3BC-440D-A532-924331F7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877-6D1E-4BF9-8ECF-D9EB3880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24E-4C07-4146-9626-1642EE93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895-DCF1-46D3-84F4-4B4F6D88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3DA-9221-4E61-B26F-D85232C1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6B20-C793-499D-AC62-5AA4CD62D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3280" y="126828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rategic Plan 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op TB Working Group on DOTS-Plus for MDR-TB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of the Steering Committee for the Global Plan to Stop TB (2006-2015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s Ababa, 2 May 2005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lma E. Tupasi, MD, Actin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483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1484280"/>
          <a:ext cx="914400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Total MDR-TB patients to be treated under DOTS-Plus (thous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-39600" y="1300320"/>
          <a:ext cx="908028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1300320"/>
                    <a:ext cx="90802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Cost per MDR-TB patient t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24000" y="1530360"/>
          <a:ext cx="820872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30360"/>
                    <a:ext cx="820872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country activity costs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80680" y="2371680"/>
            <a:ext cx="467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: US$ 5,3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global coordination costs, 2006-2015, 60 mill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2022480"/>
          <a:ext cx="7201080" cy="4430880"/>
        </p:xfrm>
        <a:graphic>
          <a:graphicData uri="http://schemas.openxmlformats.org/drawingml/2006/table">
            <a:tbl>
              <a:tblPr/>
              <a:tblGrid>
                <a:gridCol w="6164280"/>
                <a:gridCol w="103680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and management of the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 and strengthening of DRS and DOTS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nd Regional GLC opera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y developmen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the global supranational laboratory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line drug management and prequal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ocacy, communication and social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895,000 MDR-TB patients receiving adequat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660,000 MDR-TB patient successfully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Half a million MDR-TB deaths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/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Reduction in previously treated patients from </a:t>
            </a:r>
            <a:br>
              <a:rPr sz="2800"/>
            </a:b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19% to 15% of all confirmed TB c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ecrease in MDR-TB prevalence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5920" y="1495440"/>
            <a:ext cx="425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O/IUATLD DR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boratory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NRL and N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C and W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line drug u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ntory of public and private sector drug u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qualificatio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coordination activities and cos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 an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TS-Plus recording and reporting included in D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DR-TB notifications and DOTS-Plus outcomes part of Global Tuberculosis Contro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provided as one package (DOTS/DOTS-Pl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Key 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political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use and low quality of second-line drugs resulting in the creation of strains resistant to all known anti-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DR-TB and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fied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health infra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specially laboratory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 and management of health car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Process for developing the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strategic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anning workshop in Montreux, March 2005 discussions on epidemiological scenario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OTS-Expansion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Laboratory strengthening sub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iagnostic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lephone conferences with WHO Regional Offices on epidemiological 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cussion on epidemiological scenarios, cost and impact 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OTS-Plus strategy meeting, 18-19 April 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MDR-TB control –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olitical and technical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398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Expanded DOTS Framework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GFATM and GLC agreement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2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 ho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mmittee on the TB Epidemic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B 2004 and WHA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sed WHO treatment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vision of TB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tandards of TB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DOTS-Plu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pid expansion of DOTS-Plus as routine components of TB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Vision 2006-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ug resistance surveillance and DOTS-Plus integrated as routine components of TB control providing access to diagnosis and treatment for all TB patients and by all health care provid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ansion of DRSData on the global magnitude and trends of MDR-TB, and on the relationship between MDR-TB and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on of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treatment of all detected MDR-TB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 production in high MDR-TB burden countries and further reduction of prices of second-lin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coordination, collabor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ST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obally, all previously treated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stern Europe, also all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tin America, Southeast Asia and Western Pacific, also 20% of targeted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619280" y="3435480"/>
          <a:ext cx="5616720" cy="33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435480"/>
                    <a:ext cx="5616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908000" y="3573360"/>
            <a:ext cx="50403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ample of DST expansion - Western Pacific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 Treatment with 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s to all detected MDR-TB patients following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imated number of culture-positive MDR-TB patients under DOTS-P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05: 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0: 2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5: 6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1 million MDR-TB patients treated und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S-Plus, 2006-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 Easter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177920" y="1768320"/>
          <a:ext cx="6462720" cy="469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1768320"/>
                    <a:ext cx="646272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386000"/>
            <a:ext cx="8353440" cy="535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MDR-TB patients to be treated per year under DOTS-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34:42Z</dcterms:created>
  <dc:creator>Eva Nathanson</dc:creator>
  <dc:description/>
  <dc:language>en-US</dc:language>
  <cp:lastModifiedBy>johnsoneb</cp:lastModifiedBy>
  <dcterms:modified xsi:type="dcterms:W3CDTF">2005-05-02T05:31:43Z</dcterms:modified>
  <cp:revision>75</cp:revision>
  <dc:subject/>
  <dc:title>Slide 1</dc:title>
</cp:coreProperties>
</file>