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AB56BB-4796-4313-98D8-2C8CA9E87E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package" Target="../embeddings/oleObject3.docx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668920" y="388152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599160" y="5419800"/>
          <a:ext cx="1287720" cy="132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99160" y="5419800"/>
                    <a:ext cx="128772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346480" y="5472000"/>
            <a:ext cx="930240" cy="968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1120" y="711360"/>
            <a:ext cx="368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</a:rPr>
              <a:t>The International Standard for TB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74680" y="1247760"/>
            <a:ext cx="5087880" cy="381636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4520" y="334440"/>
            <a:ext cx="7772400" cy="15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2880" y="195264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</a:t>
            </a: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+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 culture) is essential for all patients (including children,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7800" y="2195640"/>
            <a:ext cx="4361040" cy="3917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859280" y="4167360"/>
            <a:ext cx="3997440" cy="25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668160" y="1670040"/>
          <a:ext cx="774720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6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18240" y="417996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3840" y="4309920"/>
            <a:ext cx="233280" cy="236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650440" y="4309920"/>
            <a:ext cx="318960" cy="22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81880"/>
            <a:ext cx="4108320" cy="17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2190600"/>
            <a:ext cx="4340160" cy="389124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1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3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Treatment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ovider is responsible for prescribing an adequate regimen and ensuring adher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referred regimen: 6 months with RIF through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ternative regimen: 8 months with RIF in initial phase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 approach should be developed for all patients: a treatment supporter to ensure super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Patients to be monitored for response to therap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HIV testing for all patients and ARVs if indic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of likelihood of drug resistance/consultation for patients  at risk of having disease caused by resistant </a:t>
            </a:r>
            <a:r>
              <a:rPr b="1" i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 TB</a:t>
            </a: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2540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40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895640" y="2155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1950"/>
                </a:solidFill>
                <a:latin typeface="Arial"/>
                <a:ea typeface="Arial Unicode MS"/>
              </a:rPr>
              <a:t>The provider is responsible for prescribing an adequate regimen and ensuring adh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81160" y="2376360"/>
            <a:ext cx="4387680" cy="365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71400" y="56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725400" y="1886040"/>
          <a:ext cx="7907400" cy="6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5400" y="1886040"/>
                    <a:ext cx="79074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33360" y="2395440"/>
            <a:ext cx="4326120" cy="3627360"/>
          </a:xfrm>
          <a:prstGeom prst="rect">
            <a:avLst/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43040" y="537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Treatment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66920" y="2357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A patient-centered, approach to treatment should be developed for all patients. A central element is support for adherence, including direct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bright="12000"/>
          </a:blip>
          <a:srcRect l="0" t="13812" r="0" b="0"/>
          <a:stretch/>
        </p:blipFill>
        <p:spPr>
          <a:xfrm>
            <a:off x="685800" y="2279520"/>
            <a:ext cx="3809880" cy="40039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1" name=""/>
          <p:cNvGraphicFramePr/>
          <p:nvPr/>
        </p:nvGraphicFramePr>
        <p:xfrm>
          <a:off x="882720" y="1800360"/>
          <a:ext cx="774684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82720" y="18003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334800"/>
            <a:ext cx="7859520" cy="18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</a:t>
            </a:r>
            <a:br>
              <a:rPr sz="3600"/>
            </a:b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ublic Health Responsibilities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240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to see that high-risk contacts are evalu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  <a:ea typeface="Arial Unicode MS"/>
              </a:rPr>
              <a:t>Requirement for reporting ca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600" y="2651040"/>
            <a:ext cx="3970080" cy="386424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graphicFrame>
        <p:nvGraphicFramePr>
          <p:cNvPr id="159" name=""/>
          <p:cNvGraphicFramePr/>
          <p:nvPr/>
        </p:nvGraphicFramePr>
        <p:xfrm>
          <a:off x="569880" y="2338560"/>
          <a:ext cx="7747200" cy="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9880" y="233856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International Standards for Tuberculosis Ca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1886040"/>
            <a:ext cx="7639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Goal is to develop a set of essential standards that are applicable to all provide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-chairs: Phil Hopewell &amp; Mario Raviglion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Coordinated by A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Steering Committee of 28 members from 14 different countrie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Evidence-based with 7 commissioned systematic review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Funded (Oct 1, 2004) by USAID / TBCTA (~$200,000 for 2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7960" y="1498680"/>
          <a:ext cx="799452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498680"/>
                    <a:ext cx="799452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9600" y="274680"/>
            <a:ext cx="8458200" cy="111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Progress to Dat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6160" y="197172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Steering Committee meetings h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e, content outline determined, and 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wo drafts prepared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cond draft circulating to committee curren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even systematic reviews underway or fin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5960" y="1698480"/>
          <a:ext cx="774684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960" y="1698480"/>
                    <a:ext cx="774684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the Public-Private Mix Sub group meeting, Manila, 4-6 April 2005  </a:t>
            </a:r>
            <a:br>
              <a:rPr sz="24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op TB Coordinating Board, Addis Ababa, 3 May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STAG meeting, Geneva, 20-22 June 2005 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Present to WHO regional and country advisors meeting, Geneva, 22-24 June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Courier New"/>
              </a:rPr>
              <a:t>Marketing” for broad endorsement: TBCTA partners, NTPs, medical professional societies, nursing societies, academic programs in nursing and medicine, HIV/AIDS organizations to begin in Ju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55592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5592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Next Step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9840" y="1942920"/>
            <a:ext cx="8088120" cy="50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"megameeting" of the 3 implementation working groups of the Stop TB Partnership, France,  17-19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top TB Coordinating Board meeting, fall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Draft reviewed by IUATLD international consultants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Present to special session at the IUATLD conference,  France, 20-22 October 2005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Final document by the end of the year</a:t>
            </a:r>
            <a:br>
              <a:rPr sz="2200"/>
            </a:br>
            <a:r>
              <a:rPr b="1" lang="en-US" sz="2200" spc="-1" strike="noStrike">
                <a:solidFill>
                  <a:srgbClr val="00195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100000"/>
              </a:lnSpc>
              <a:spcBef>
                <a:spcPts val="55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200" spc="-1" strike="noStrike">
                <a:solidFill>
                  <a:srgbClr val="001950"/>
                </a:solidFill>
                <a:latin typeface="Arial"/>
                <a:ea typeface="Courier New"/>
              </a:rPr>
              <a:t>Journal publication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776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787320" y="1698480"/>
          <a:ext cx="7747200" cy="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698480"/>
                    <a:ext cx="7747200" cy="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81200" y="44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 for Tuberculosis Care: </a:t>
            </a:r>
            <a:br>
              <a:rPr sz="3600"/>
            </a:br>
            <a:r>
              <a:rPr b="1" lang="en-US" sz="3600" spc="-1" strike="noStrike" u="sng">
                <a:solidFill>
                  <a:srgbClr val="cc3300"/>
                </a:solidFill>
                <a:uFillTx/>
                <a:latin typeface="Arial"/>
              </a:rPr>
              <a:t>Requests to the Coordinating Board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0200" y="2257200"/>
            <a:ext cx="8145360" cy="378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ndorse concept of internationa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process for endors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rovide input on ways to implement the standards at country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844560" y="22226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22226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30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9840" y="1743120"/>
            <a:ext cx="808812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Introductio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roviders in all sectors regardless of circum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tandards apply to all patients of all ages, smear positive and negative, extra-pulmonary, MDR, TB/HI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ll providers must recognize that they are assuming a public health function with a high degree of responsibility to the community and to the pati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Consistent with existing international guid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811080" y="1670040"/>
          <a:ext cx="774720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1080" y="1670040"/>
                    <a:ext cx="774720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431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Highlights (2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2480" y="1852560"/>
            <a:ext cx="8088480" cy="50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 u="sng">
                <a:solidFill>
                  <a:srgbClr val="001950"/>
                </a:solidFill>
                <a:uFillTx/>
                <a:latin typeface="Arial"/>
                <a:ea typeface="Arial Unicode MS"/>
              </a:rPr>
              <a:t>Diagnosis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Who should be evalu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Microbiological evaluation (smear + culture) is essential (including children extra-pulmonary, and persons with radiographic abnormalit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Specific criteria for smear-negative ca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1950"/>
                </a:solidFill>
                <a:latin typeface="Arial"/>
                <a:ea typeface="Arial Unicode MS"/>
              </a:rPr>
              <a:t>Assessment for HIV infection in persons at risk (based on epidemiological circumstances, risk group, or clinical finding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39960" y="1670040"/>
          <a:ext cx="7746840" cy="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167004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8572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International Standards for Tuberculosis Care:   </a:t>
            </a:r>
            <a:r>
              <a:rPr b="1" lang="en-GB" sz="3600" spc="-1" strike="noStrike" u="sng">
                <a:solidFill>
                  <a:srgbClr val="cc3300"/>
                </a:solidFill>
                <a:uFillTx/>
                <a:latin typeface="Arial"/>
                <a:ea typeface="Arial Unicode MS"/>
              </a:rPr>
              <a:t>Diagnosis (1)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227480" y="2195640"/>
            <a:ext cx="457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All persons with otherwise  unexplained cough lasting for 2-3 weeks or more should be evaluated for tuberculo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49200" y="2478240"/>
          <a:ext cx="3722760" cy="33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2478240"/>
                    <a:ext cx="3722760" cy="3365280"/>
                  </a:xfrm>
                  <a:prstGeom prst="rect">
                    <a:avLst/>
                  </a:prstGeom>
                  <a:ln w="5724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611280" y="1785960"/>
          <a:ext cx="7746840" cy="58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785960"/>
                    <a:ext cx="7746840" cy="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71586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769080" y="6419880"/>
          <a:ext cx="425520" cy="438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6908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47:40Z</dcterms:modified>
  <cp:revision>448</cp:revision>
  <dc:subject/>
  <dc:title>Progress in Global Tuberculosis Control 1995-97</dc:title>
</cp:coreProperties>
</file>