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4D9F-BE23-41A7-87FA-42780B21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CD80-37A8-4207-A329-09D674D6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542-36D8-4862-9C9C-269C1EB1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FFF7-CFAF-4E6B-803F-5470CEDA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A6D3-A3D4-4E6A-91AC-E09871C0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04C8-D7AF-4911-8E0C-9BD0C7F1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5157-BEFF-4D31-A860-2978EA15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7B41-90D6-4747-B43B-6C65C38E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6AD7-FA2A-4A9A-A0C4-2AB08193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7A7E-29D7-4E10-9AF2-4D57ADF1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EF74-F718-403E-97A1-6ADAB48F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9D1-E402-41DC-8C84-08696D0A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A301-4D03-443C-84FE-6ED7EB2C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FC06-71A8-487D-A714-A458B83C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AE5E-232D-4DF9-9943-69CD445E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1C70-0FDE-42D8-8205-2D3D301A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C637-52BE-4C5A-9D71-CE2F6B37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4446-ABFB-407A-A6B6-347E45AC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A87-413A-4461-BCF2-4D66AB15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DBC-B993-4879-A0ED-4880EF05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234E-2133-43A6-A619-FF89F8D7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E78-052F-4106-A47B-B516D3F1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E20-4F4D-407C-8066-C7A2078B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FF32-CB7A-480D-B509-B92AE6B2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E094-095B-4145-AFFC-B9A310C2F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147C-0C65-4959-A51C-D1B7AB1E9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THE GFATM: </a:t>
            </a:r>
            <a:br>
              <a:rPr sz="4400"/>
            </a:b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MAKING ROUND 5 COU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FATM Unit, TB Strategy and Operations, WHO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"Implementation"  Working Grou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OP TB Partnership Secretari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HOW MUCH FOR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: Bangladesh, Pakistan, Nigeria, Cambodia, Zimbabwe, Brazil, China, India Sudan, Vietnam  (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stimated TB Proposal Tota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$290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TURE DI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B components in HIV propos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ing the capacity to strongly engage with the GFATM, and to plan TA in advance (Early Warning System coord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ing implementation bottlenecks by providing support for project management, accounting, finance, logistics (HS streng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 BOARD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ard is reques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sources of fund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ontinue the GFATM focal point position in WHO in advance of Rou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o strengthen assistance to countries (technical and CCM) in the lead up to R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 the profile of TB in engaging at political level and with the GF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utting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Much for TB in R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ilable funding has increased 60% R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ever, TB funding has not incre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proposals have been modest.  30% of all approved proposals are for TB yet overall funding for TB is 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FATM reports global resource gaps for AIDS, Malaria, and TB at 77%, 17%, and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92720" y="1146600"/>
            <a:ext cx="80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  <a:ea typeface="SimSun"/>
              </a:rPr>
              <a:t>Figure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5320" y="6442200"/>
            <a:ext cx="1749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2 year budg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396720" y="6767640"/>
            <a:ext cx="59623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1413000"/>
            <a:ext cx="7072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  <a:ea typeface="SimSun"/>
              </a:rPr>
              <a:t>$583 M         $886 M        $623 M         $968 M         $30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8920" y="1793880"/>
          <a:ext cx="858852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793880"/>
                    <a:ext cx="858852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2732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27320" y="3262320"/>
            <a:ext cx="555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27320" y="3262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2690640"/>
            <a:ext cx="635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27320" y="2119320"/>
            <a:ext cx="555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2732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8968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93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205000"/>
            <a:ext cx="627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01608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80996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6888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68880" y="2282760"/>
            <a:ext cx="6984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68880" y="301608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3124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99160" y="492444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9160" y="1957320"/>
            <a:ext cx="709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31240" y="3098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99160" y="3098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31240" y="2282760"/>
            <a:ext cx="788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31240" y="1793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31240" y="1957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70080" y="1025640"/>
            <a:ext cx="482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96720" y="0"/>
            <a:ext cx="95407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Comparison across round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wo year approved budget by diseas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191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FATM Unit – TBS – WHO -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technical support throughout R5 proce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bproposalhelp@who.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S Workshop in Ca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shop "Strategic Approaches to R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95360" y="291960"/>
            <a:ext cx="835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040" y="1254240"/>
            <a:ext cx="8136000" cy="1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341360"/>
          <a:ext cx="799164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99164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4360" y="3789360"/>
            <a:ext cx="1079640" cy="28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371628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146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4038480"/>
            <a:ext cx="198144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1148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4495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8763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19051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1981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CALL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18763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RESULTS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92160" y="-208080"/>
            <a:ext cx="405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890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STRATEGIC APPROACH TO 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4572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TTING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8 countries plan to submit TB proposals in R5 (18HBC).  49 in R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8 countries are receiving technical support from Stop TB Part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6 consultants trained and deployed in th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FRICA ROUND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4 Applying (8 HBC), 13 failed in R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EY ROUND 5 PRIORITIES in AFR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igeria &amp; Zimbab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9:18:59Z</dcterms:created>
  <dc:creator>johnsoneb</dc:creator>
  <dc:description/>
  <dc:language>en-US</dc:language>
  <cp:lastModifiedBy>johnsoneb</cp:lastModifiedBy>
  <dcterms:modified xsi:type="dcterms:W3CDTF">2005-05-11T09:02:35Z</dcterms:modified>
  <cp:revision>118</cp:revision>
  <dc:subject/>
  <dc:title>Slide 1</dc:title>
</cp:coreProperties>
</file>