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7EBA-4AC0-4907-8C70-FDEB5B8B4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4FD2-B393-4E5D-9673-662E6E37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EAE0-FB48-4E86-98E0-F813A758C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E90F-DA03-4B9D-9CB1-5EC9F51EA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141D-C896-473D-A4D2-1EC00FEFF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E2E0-1142-4305-8AF6-84B5917A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19E4-2072-4CDC-B361-EB9208A6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2E85-8436-4280-AB16-F6114B8D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38E0-578F-47B0-A234-538F90F7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641AD-9B54-47C2-AC18-BDFA11B3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CE8F-813E-4508-8645-4BA30D80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8998-9F72-4222-B8C0-34680D1B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7E77-3BC0-46BC-B879-5A134642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D939-2739-4546-BDB3-D8DA0D60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93D6-877E-4F6A-B24B-CD84EB68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3997-2401-4EA1-88F9-DFFF151FF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7B2F-8286-4B0C-9858-DB50DB4BC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9433-3244-48D3-ABD3-D5B536D5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73B6-0B4D-47EF-9FE1-4209B117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8E72-370A-4551-9784-09AD7FB9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4F6B-8FDD-479F-8C3C-4C033CE8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5475-3AF0-4CEC-A555-9A8871B0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2BBE-3597-48E3-B06D-C6576294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8F80-7844-456E-9ACD-35373CAA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EF6B-F18C-49C8-AF55-DAE4617F7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B6FD-BD90-43E2-8EBC-C129FEE42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uroparl.eu.int/abc/visit/brux/default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Engaging the European Union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Jaap Broekm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op TB Coordinating Bo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ddis Abab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rd May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the EU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63640" y="2063880"/>
            <a:ext cx="5572080" cy="34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ategic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eed to raise the profile of TB within the EU to create a supportiv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political and social environ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eed to strengthen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TB control activities in Europe (particularly EE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eed for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funds to support TB contro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notably in Africa, Latin America and Asia) and research glob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s generally (including EU policy makers) consider tuberculosis to be a disease of the pa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 policy reflects this lack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progress is being made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 WHO Copenhagen declared TB a Regional Emerg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 Areas of Work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ith the 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Heath (European CD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Development (Programme of 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esearch (new framework propos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ecision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uld the Stop TB Partnership aim to proactively improve our relationship and engagement with the European Union (Commission, Council and Parliament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xt Step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pping of Partner ag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gular briefing of officials and policy makers – on Global Plan 2006-201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untry level engagement of EU missions in HB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inisterial Conference on TB and Sustainable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ngage in the process of adoption of EU proposals for 2007-2013 financing (POA, Health and Research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K Presidency – Dev. Policy Pap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vent WTBD &amp;/or Coordinating Board meeting 2006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Views of the European Parliament in Brussel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91520" y="4724280"/>
            <a:ext cx="14079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Administrator</cp:lastModifiedBy>
  <dcterms:modified xsi:type="dcterms:W3CDTF">2005-05-02T12:27:38Z</dcterms:modified>
  <cp:revision>40</cp:revision>
  <dc:subject/>
  <dc:title>Slide 1</dc:title>
</cp:coreProperties>
</file>