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7F80-DD38-4D84-9723-AB5415E4E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A6B4-B509-4BC4-AA57-D02551A6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FBA4-9832-4D80-A3BD-FAB818DBC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160A-7C56-4ABA-BCD7-C6D203E68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847B-0FB0-44DC-A0D6-39029C2E5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8CAA-C6BC-4346-BA8A-03DAEDC9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A9AF-3A7B-4F47-BE78-D23C5C1E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A8B8-2E6E-4D51-91BA-16E4DB15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C601-C314-4FC0-9436-AD1057A8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500A-C722-4FF7-986A-7D4D0838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444B-42C6-45EE-973E-8F919625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342D-5C4F-4E7D-A988-D1457E24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DE02-3AD7-48B8-B2C3-6DB0C68B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F11B-A6D6-4683-97E9-C9EC733D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CD5E-84E1-419D-A9CD-DD9158BE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29C3-A12C-4ECB-84F1-9F6357EF2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D61E-AE7B-4736-86D8-0B7851D0C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A5C2-F388-4071-8B7A-10F0D4E3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8D95-CABF-4EFE-A4C7-92102F71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5084-6FE4-453A-A2BC-A219CCEB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1D9D-B661-41D9-8D02-9CFC70E0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B98F-DFCE-4620-9527-6460F5F4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94B4-003F-48BA-BACC-C381DAEC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C580-1B1F-4DB7-8466-7D10BD3D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EEA1-7994-4D0E-B1AE-DFFD61643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ABAA-1B88-4ACA-8127-5DCDC11B6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uroparl.eu.int/abc/visit/brux/default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Engaging the European Uni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aap Broekm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op TB Coordinating 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ddis Aba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rd May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the EU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63640" y="2063880"/>
            <a:ext cx="5572080" cy="34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ategic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ed to raise the profile of TB within the EU to create a supportiv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political and social environ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ed to strengthen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TB control activities in Europe (particularly EE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ed for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funds to support TB contro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notably in Africa, Latin America and Asia) and research glob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s generally (including EU policy makers) consider tuberculosis to be a disease of the pa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 policy reflects this lack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progress is being made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 WHO Copenhagen declared TB a Regional Emerg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 Areas of Work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ith the 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Heath (European CD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Development (Programme of 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search (new framework propos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cision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ld the Stop TB Partnership aim to proactively improve our relationship and engagement with the European Union (Commission, Council and Parliament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pping of Partner a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gular briefing of officials and policy makers – on Global Plan 2006-201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untry level engagement of EU missions in HB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inisterial Conference on TB and Sustainable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ngage in the process of adoption of EU proposals for 2007-2013 financing (POA, Health and Research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K Presidency – Dev. Policy Pap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vent WTBD &amp;/or Coordinating Board meeting 2006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Views of the European Parliament in Brussel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4724280"/>
            <a:ext cx="14079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Administrator</cp:lastModifiedBy>
  <dcterms:modified xsi:type="dcterms:W3CDTF">2005-05-02T12:27:38Z</dcterms:modified>
  <cp:revision>40</cp:revision>
  <dc:subject/>
  <dc:title>Slide 1</dc:title>
</cp:coreProperties>
</file>