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8D68-D38F-45FA-A7D7-3A12024D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AEEC-2E66-453F-B833-02CA09F1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4E1C-41C1-44B2-A20C-820F019D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042D-EF16-43FF-BC19-5F0AAB88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611E-51AD-430F-B2D5-F147959F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1459-5959-44F9-857C-9D29BAB2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E572-F37D-422F-8256-73B45A58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24BC-3BE6-4584-BF73-70BDC385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4BF4-9974-4942-9B15-2C29563D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5113-0067-47CE-956F-B22F73F6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F369-4FA5-4A26-AA01-EADF4FE3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006E-B1CA-423F-A24F-6B7859D8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8157-D0A5-4D47-B441-44B8729291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ixed feelings about DOTS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MS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3/05/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irectly Observed Therapy</a:t>
            </a:r>
            <a:br>
              <a:rPr sz="40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ssential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DOT alone vs Self Administered Treatment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lack of evidence (Cochrane revie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Feasibility?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6 month regi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ARV/AIDS experience-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ctive role of the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99880" y="2444760"/>
          <a:ext cx="8668080" cy="15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444760"/>
                    <a:ext cx="866808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04920" y="502920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drugs for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2nd line drugs</a:t>
            </a:r>
            <a:r>
              <a:rPr b="0" lang="fr-FR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457200"/>
            <a:ext cx="7239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ply of essential dru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Room for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80880" y="3505320"/>
          <a:ext cx="8483760" cy="143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05320"/>
                    <a:ext cx="848376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28600" y="685800"/>
            <a:ext cx="86868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Monitoring/ Evalu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ata Collection has its own challe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819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eatment outcomes in projects supported by MS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achieved a 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evol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rand ambigu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cognise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ffff"/>
                </a:solidFill>
                <a:latin typeface="Arial"/>
              </a:rPr>
              <a:t>What we have is not enoug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agnostic tools for smear -, extra-pulmonary and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horter treatment, new 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versify adherence strate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Vac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chievements and Limita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chiev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Ambiguities with bran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Difficulties and limi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bservations and data from our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iscuss recent controversy over D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rder to Cha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egimes, procurement, repor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ocussed attention from Governments and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olitical W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OTS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®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Ambiguit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ame br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fferent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762120"/>
            <a:ext cx="858996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“at least” all smear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essential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(smear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(199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762120"/>
            <a:ext cx="85899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(QC)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X-ray, cultures and D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family, community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ll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ca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RTB 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</a:t>
            </a:r>
            <a:r>
              <a:rPr b="1" lang="en-GB" sz="2800" spc="-1" strike="noStrike">
                <a:solidFill>
                  <a:srgbClr val="00ffff"/>
                </a:solidFill>
                <a:latin typeface="Arial"/>
              </a:rPr>
              <a:t>drug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quality assured, FDC, 2</a:t>
            </a:r>
            <a:r>
              <a:rPr b="0" lang="en-GB" sz="24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nabling outcome assessment of each patients, incorporating culture and DST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</a:t>
            </a: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(200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Some of our difficulties with TB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98440" y="3346560"/>
          <a:ext cx="8601120" cy="177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3346560"/>
                    <a:ext cx="860112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33520" y="228600"/>
            <a:ext cx="8001000" cy="20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Case detec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xclus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13,323 patients in 52 projects supported by MSF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6668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oportions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80880" y="1828800"/>
          <a:ext cx="8382240" cy="44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8224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2286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andard SCC</a:t>
            </a:r>
            <a:br>
              <a:rPr sz="44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es one size fit al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21:38:51Z</dcterms:created>
  <dc:creator>MSFuser</dc:creator>
  <dc:description/>
  <dc:language>en-US</dc:language>
  <cp:lastModifiedBy>MSFUser</cp:lastModifiedBy>
  <dcterms:modified xsi:type="dcterms:W3CDTF">2005-05-04T13:03:37Z</dcterms:modified>
  <cp:revision>25</cp:revision>
  <dc:subject/>
  <dc:title>DOTS: The 5 pillars (1995)</dc:title>
</cp:coreProperties>
</file>