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312-3F55-4666-AC83-DE9C0D32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58A-E14B-4704-A96D-FB73D0C9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826-5827-4B43-90AE-FC27ACD7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BF8-3DA6-4A83-9C18-2EEE53BA0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7B9B-8D52-4235-A6FD-927A44F3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33C5-6D99-4772-A6F3-E5E2A3F0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898F-543A-4968-A43B-5005A2C3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22F9-D88C-4443-94B9-68FEFBFB3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02E1-F9CE-46FB-8337-E2BEBB03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CFF7-D11B-4268-98C7-E3F19953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4D1B-2F7D-4957-87CB-ADB6CE6E9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E22-A3D6-4BC0-83D5-F24A3BFE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4D64-A344-4292-BF98-96F85DE7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DBCA-68CC-45AF-98BB-D1F37A6C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DCB4-F2F9-4833-A2E6-2BF540DA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B9E99-6A9C-4AA6-B222-67378BB2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18186-6F7C-4015-85DA-23953F24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7E9-9FA8-4856-B89F-24C34D4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DAE-51D5-4D80-B008-B90ECC59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144-A3F3-4FC9-ACFF-CFB4CC0D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FFF-7B81-4939-85AB-C99CE71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0C6-6273-4624-AB4E-3728F914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AC2-18B0-413B-9D0D-EEBF0C6E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2A9F-C852-4975-A4D9-070A8A6A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4CAE-5B3A-46FF-9B61-EDB27CC960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9616-58CA-4A4C-AF37-0480D47AB7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DEWG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preliminary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s Ababa 2 May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DOTS expansion implementation: milestones to 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3436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Trends in additional population to be covered by different approache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476360" y="1641600"/>
            <a:ext cx="684072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treatment success rates 2002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11280" y="1628640"/>
          <a:ext cx="835344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835344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regional new smear positive case detection trends 2003-2015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403280" y="1835280"/>
          <a:ext cx="7272360" cy="447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35280"/>
                    <a:ext cx="7272360" cy="44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330033"/>
                </a:solidFill>
                <a:latin typeface="Times New Roman"/>
              </a:rPr>
              <a:t>Estimated cost for activities carried out by the DEWG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769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1. Countries that intensified DOTS implementation already in 2004-2005 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ing that sustained intensification and/or more efficient use of available resources in those countries will be sufficient to improve quality implies th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treated case in 2005 multiplied by number treated cases in a year = cost related to intensified DOTS that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cost increase proportional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2. Countries that need further intensification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a typical district with a given population size (500,000) in a typical country in the region (e.g. a rural district in Ugan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required additional inputs in terms of HR, training, supervision, transport, supplies, et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cost per 500,000 pop to be covered by intensified DOTS using country or regional cost data for abov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unit cost per population with population to be covered in country/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The Uganda / AFR example </a:t>
            </a:r>
            <a:br>
              <a:rPr sz="3400"/>
            </a:br>
            <a:r>
              <a:rPr b="0" lang="en-US" sz="2500" spc="-1" strike="noStrike">
                <a:solidFill>
                  <a:srgbClr val="330033"/>
                </a:solidFill>
                <a:latin typeface="Times New Roman"/>
              </a:rPr>
              <a:t>(DOTS intensification and community DOTS)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,000 $US per district (500,000 p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0.1 $US per capi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0 million population in AFRhig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0 million per annum for DOTS quality improvement + community invol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pproach to costing new initiatives (step 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ypical additional inputs nee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additional population to be covered by the 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between start up and running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x: Costing additional PPM and community invol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"field level", PPM and Community DOTS costs the same or less than "conventional" D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up and running costs only in relation to "support structur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icy and guidelin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/ provincial focal points an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/ national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 costs on country level and by population to be 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Objectives for DOTS Expansion 2006-2015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achieve, sustain and go beyond the "70/85"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 ensure equitable access to quality TB care for all people with TB, especially the poor (increasing acc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To reach MD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Sustain 2005 costs for DOTS quality improvement, when coverage is 100%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84360" y="1484280"/>
          <a:ext cx="79531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484280"/>
                    <a:ext cx="79531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5148360" y="3141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2708280"/>
            <a:ext cx="718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 for DOTS quality improvemen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76720" y="270828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dditional costs for DOTS quality improvement and new approach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11280" y="1440000"/>
          <a:ext cx="8026200" cy="49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000"/>
                    <a:ext cx="8026200" cy="49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00720" y="2565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00720" y="314172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2708280"/>
            <a:ext cx="1223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78136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270828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20% CD incre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205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e1"/>
                </a:solidFill>
                <a:latin typeface="Arial"/>
              </a:rPr>
              <a:t>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76720" y="2133720"/>
            <a:ext cx="64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2421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03640" y="1916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e1"/>
                </a:solidFill>
                <a:latin typeface="Arial"/>
              </a:rPr>
              <a:t>New app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Specific objectives of the planning exercis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outline the expected DOTS expansion activities in the regions and in the world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stimate the resulting changes in case detection and treatment outcomes in regions during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o provide above data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modelling of impact on TB prevalence and death rate (MD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- Estimate the regional and global cost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Pas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an/Feb 05: preparation of Montreux worksho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strategic activities to increase CD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f activities expansion (countries, reg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sultation with regions and some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imates on case detection and 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start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eb 05: Montreux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se estimates of activities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corporate TB/HIV and DOTS plus interaction with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view estimates and c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April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further consultation with regions and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workshop in EMRO with key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preparation of the draft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re group of DEWG requests special teleconference to discuss th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330033"/>
                </a:solidFill>
                <a:latin typeface="Times New Roman"/>
              </a:rPr>
              <a:t>Next steps in developing DEWG plan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35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y 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costing for countries and f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ncourage regional workshops (good preparation for cou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teleconference with co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input from sub-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mplet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n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refine estimates and cos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Global plan 2 to be presented to STAG and RA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 – Oc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articulating DOTS Expansion – TB/HIV – DOTS plus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Oct 0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- presentation of the plan to Mega meeting Versa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he DOTS Expansion scena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"Optimistic and realistic" 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 implementation of existing tools and strate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impact on case detection and treatment outcome of combined DEWG activities (DOTS coverage, DOTS quality improvement and new approach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From activities to impact and cost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1628640"/>
            <a:ext cx="4608360" cy="36946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dditional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DOTS expansion activities in countries in relation to 2005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lete DOTS coverage (after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roved DOTS quality (HR, laboratory, supervision, drug manag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PM (int stand c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Community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roduce/scale up 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crease capacity for Culture services and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1628640"/>
            <a:ext cx="2016360" cy="11754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gional level out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atment su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20000" y="1628640"/>
            <a:ext cx="2016000" cy="105984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pidemiological 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59280" y="3213000"/>
            <a:ext cx="2016360" cy="2113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untry level cost un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to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population to be cov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5661000"/>
            <a:ext cx="4608360" cy="91692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Global and regional support for DOTS expansion, monitoring and evaluation and operational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164360" y="3284640"/>
            <a:ext cx="1727280" cy="35535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cases x cost per treated c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pulation covered x unit cost per population for activities under step 1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59280" y="5661000"/>
            <a:ext cx="2016360" cy="6426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lobal level cost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2205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292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609300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51577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220500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40000" y="537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verview of relevance of different types of DEWG related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686800" y="153036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58920" y="2075040"/>
            <a:ext cx="7273800" cy="35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Estimating increased case detection and success rat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 the expansion of activities that have an effect on case detection (increasing access) and cure (strengthening DO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consultation with regions and ke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timates in high burden countries and countries with significant proportion of case load i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y average relative increase in HBCs to non-HBCs in same region and calculate regional CD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06:42:27Z</dcterms:created>
  <dc:creator>Knut Lönnroth</dc:creator>
  <dc:description/>
  <dc:language>en-US</dc:language>
  <cp:lastModifiedBy>Leopold Blanc</cp:lastModifiedBy>
  <dcterms:modified xsi:type="dcterms:W3CDTF">2005-05-02T07:56:50Z</dcterms:modified>
  <cp:revision>44</cp:revision>
  <dc:subject/>
  <dc:title>Slide 1</dc:title>
</cp:coreProperties>
</file>