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02E4D-FDBF-43FB-924A-CC17E7C29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BC3BA-A3C5-4ABB-940D-23B9405FD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0BCE9-566E-4E04-8BF0-3D9D0787D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81FAB-40BE-480E-A275-73A4A0E49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6916D-CB8F-44EC-8564-7E9C8362E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32FF4-AB1B-4292-B3CD-83FD30E2E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74B9D-C798-4BBD-927B-1CB4674A4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74E40-139D-4573-A52B-64E833F12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3968A-5D9C-449D-B685-21AF95A8C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4402080" cy="62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8C06E-DB78-4FD6-A543-F4A7B0170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142C7-23C3-4F25-9C64-CE2693E2A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38233-AB5A-4855-B84D-20BC628F9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EB7BA-17DB-40EB-A77D-631305F78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CD11B-B14E-4C36-BC74-990FAB883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A93F7-2E64-4536-8E9E-26C99A92A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5BA64-63B4-4D05-9C7C-7542D58F5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6A3A6-CD92-458B-9401-7059A1FD2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F33D8-2442-493A-ACF0-A8FDE84C1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7EA35-12C6-4C12-AB1A-5D94CE9A8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9F694-BFFA-4364-8DDF-7F41A0F4B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4402080" cy="62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85396-85FA-4047-9509-0ED3897F7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084F6-F8C6-4F0A-B58A-0AB612478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817C4-571A-49C2-AEA7-F307A6235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49EC2-89FE-4D9D-A4A6-4841DC698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1440" y="144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E7F65-1D16-4754-A0CF-4FFBF8BBF4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5A9BB-63B0-4402-9109-D14A379E08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lang="en-GB" sz="3200" spc="-1" strike="noStrike">
                <a:solidFill>
                  <a:srgbClr val="ffffcc"/>
                </a:solidFill>
                <a:latin typeface="Arial"/>
              </a:rPr>
              <a:t>Engaging World Leader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1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Jaap Broekma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top TB Coordinating Boar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ddis Abab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3rd May 200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SimSun"/>
              </a:rPr>
              <a:t>A strategy for engagement with Heads of State and World Leaders was a recommendation of the Beijing Coordinating Board Meeting in October 200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he Approa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SimSun"/>
              </a:rPr>
              <a:t>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SimSun"/>
              </a:rPr>
              <a:t>o create TB champions among leading figures – but to go beyond Heads of St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ndela: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“we can not fight HIV/AIDS without also                                    fighting TB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wo core group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igh burden countries - with special emphasis on Afric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nor/potential donor count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7238880" y="2514600"/>
            <a:ext cx="1501920" cy="18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rategic 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need to strengthen TB control activities in target countries to enable TB to maintain momentum and achieve the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llennium Development Goal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need for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und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to support TB control from the international development community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need for a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upportive political environment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450072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Arial"/>
              </a:rPr>
              <a:t>MDG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untries see achieving TB control goals as part of their wider economic development agend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Identify and inform nodal leaders and opportunities to access th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u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inancing for TB Control needs to be sustainable with sufficient funds available for Technical Assistance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orld Health Assembly: Resolution on Sustainable Financing for TB control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igh Awareness of Global Plan 2006-20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ew inter-ministerial conferenc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23600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olitical Environ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B friendly influential leaders (politicians, sports and entertainment stars etc) provide the framework to support our advocacy wo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Direct and indirect channels to reach influential leaders: WB, EU, Wise men (Sachs, Sen etc), social experts, celebrities (including Stop TB Ambassadors), UN family (WHO, UNDP et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dentify core groups of countries and leaders we MUST reach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SimSun"/>
              </a:rPr>
              <a:t>Identify opportunities to access key political and other lead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African Commission, CHOGM, APEC, UNGASS, EU summit, G8, G77, WEF, World Social Foru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rategic Planning to raise the profile of Global Plan 2006-20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Tactical 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Princip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ny champ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Joined-up strate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lear message (full need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mpli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3T15:56:53Z</dcterms:created>
  <dc:creator>Robert Hernandez</dc:creator>
  <dc:description/>
  <dc:language>en-US</dc:language>
  <cp:lastModifiedBy>johnsoneb</cp:lastModifiedBy>
  <dcterms:modified xsi:type="dcterms:W3CDTF">2005-05-03T09:24:50Z</dcterms:modified>
  <cp:revision>39</cp:revision>
  <dc:subject/>
  <dc:title>Slide 1</dc:title>
</cp:coreProperties>
</file>