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A823-F9EF-4396-AB2D-A332D1A5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8ABA-F031-458E-A209-30A7BF90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3181-D10A-4BBA-A81F-F6FE737A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46B1-E9D5-4905-B787-BB3EFDDA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0762-DF94-4B2B-9875-77ED31B1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4B63-B3FF-4E92-B122-9F38A314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EC7D-8184-46F4-B25E-679D1840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E7A0-308A-4E31-A842-D334ECEB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23FD-1AC5-4084-B913-A334BA34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44A3-AF99-4F7C-AE59-35BB47B2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9E5A-03CE-4FAA-BC85-4A5F1A80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C572-DA54-4D70-963A-B37AC031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BED8-6B05-42A0-AC75-DC59CAA9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ADDC-C51F-4A38-AC17-65D41570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B6D9-73FD-4312-99F0-8A194E86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E41F-51BB-4455-8BA6-F3EF6386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90C3-46EA-4CE9-978C-C53D5D95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90BC-895C-4BDC-B51D-21CCCED7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9031-3691-4B83-942B-5C928D5F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4178-BCC6-4FB8-8620-07CF7212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789F-8AC0-4E59-848E-99151B51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6C81-20A0-4965-AAF4-92B726B8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2689-BAF2-4CC0-A360-C97FE876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AF54-8494-43E4-99A0-FFBD92DB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916308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8200" y="0"/>
            <a:ext cx="8604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56480" y="6553080"/>
            <a:ext cx="224964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900640" y="6248160"/>
            <a:ext cx="57780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DD0D-C93E-48D3-988B-AE7C2A9547A9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23800" y="1549440"/>
            <a:ext cx="883944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680" y="320688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7680" y="148284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42360" y="1246320"/>
            <a:ext cx="84240" cy="2235240"/>
          </a:xfrm>
          <a:custGeom>
            <a:avLst/>
            <a:gdLst>
              <a:gd name="textAreaLeft" fmla="*/ 12240 w 84240"/>
              <a:gd name="textAreaRight" fmla="*/ 72000 w 8424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0791">
                <a:moveTo>
                  <a:pt x="10800" y="0"/>
                </a:moveTo>
                <a:arcTo wR="10800" hR="10800" stAng="16200000" swAng="-5400000"/>
                <a:lnTo>
                  <a:pt x="0" y="559991"/>
                </a:lnTo>
                <a:arcTo wR="10800" hR="10800" stAng="10800000" swAng="-5400000"/>
                <a:lnTo>
                  <a:pt x="10800" y="57079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1600" y="1252440"/>
            <a:ext cx="83880" cy="2235240"/>
          </a:xfrm>
          <a:custGeom>
            <a:avLst/>
            <a:gdLst>
              <a:gd name="textAreaLeft" fmla="*/ 12240 w 83880"/>
              <a:gd name="textAreaRight" fmla="*/ 71640 w 8388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3231">
                <a:moveTo>
                  <a:pt x="10800" y="0"/>
                </a:moveTo>
                <a:arcTo wR="10800" hR="10800" stAng="16200000" swAng="-5400000"/>
                <a:lnTo>
                  <a:pt x="0" y="562431"/>
                </a:lnTo>
                <a:arcTo wR="10800" hR="10800" stAng="10800000" swAng="-5400000"/>
                <a:lnTo>
                  <a:pt x="10800" y="57323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67200" y="5783400"/>
            <a:ext cx="377028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37000" y="5734080"/>
            <a:ext cx="102888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752120"/>
            <a:ext cx="842004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5489-BE96-40A8-AF0C-C19417D7C3BD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9068040" cy="2210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PATIENTS PERSPECTIVE ON THE IMPLICATIONS OF TB CONTROL IN AFRICA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4800600"/>
            <a:ext cx="6933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resenter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– Lucy Chesire.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40384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2320" y="2971800"/>
            <a:ext cx="923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</a:rPr>
              <a:t>TB is a problem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ut is a SOLUTION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o another PROBLEM.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1280" y="533520"/>
            <a:ext cx="51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64c"/>
                </a:solidFill>
                <a:latin typeface="Times New Roman"/>
              </a:rPr>
              <a:t>PARTING SHOT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.B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8839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2.3 m cases of T.B in Africa occurring yearly???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Have we lost the fight in Africa if not…what can we do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If T.B is curable, why are people still dying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 support groups ongoing but not active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tigma associated with HIV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over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Food insecuri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/HIV  infection = on average 50% of TB patients now are co-infected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842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osts in relation to work-ups to TB treatment. e.g Antibiotics, lab tests, x-ray etc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 in seeking care by TB suspects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ill burden e.g Zimbabwe 14 pills for treatment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proach to D.C.T for TB patients.</a:t>
            </a:r>
            <a:r>
              <a:rPr b="0" lang="en-US" sz="40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21896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 cont.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Health System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9067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drugs for MD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policy on the management of MDR in most health institution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ed diagnosis e.g. Arthritis Vs TB of the kne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issed TB cases due to Doctors lack of knowledge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hortage of Human resource for health e.g affects TB control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When engaged and supported appropriately patients ca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85720" y="3428640"/>
            <a:ext cx="84200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ncrease effectiveness of health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obilize the community in being the backbone of effective TB contro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rovide input on effective policy and practic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Provide support and conduct community TB led interventions (VCT, Psychosocial, TB support groups etc)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Reduce stigma and improve access to TB control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6094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 cont…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3-D’s = Better Drugs,Diagnostics, Dignit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ontinuous patient involvement in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unding for TB support group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nsure private sector involve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B/HIV collaboration (address constraints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ustained political commit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Long term financing for TB programm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18960" y="1600200"/>
            <a:ext cx="842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Quality assurance for diagnostic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obust patient tracking system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OTS plus programm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evelop M/E system to drugs adherence, especially smear-ves and extra pulmonary TB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treamline TB system to ensure follow up of patients at the TB clinic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ore  resources for DOTS expansion e.g. use of  community health workers for drugs distribution and follow-u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42640" y="5335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 cont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3:08:19Z</dcterms:created>
  <dc:creator>Kacy 1</dc:creator>
  <dc:description/>
  <dc:language>en-US</dc:language>
  <cp:lastModifiedBy>administrator</cp:lastModifiedBy>
  <dcterms:modified xsi:type="dcterms:W3CDTF">2005-05-01T15:02:01Z</dcterms:modified>
  <cp:revision>25</cp:revision>
  <dc:subject/>
  <dc:title>PATIENTS PERSPECTIVE IN THE IMPLICATIONS OF TB CONTROL IN AFRICA. </dc:title>
</cp:coreProperties>
</file>