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37F11-96FC-4167-A580-CA3FD3ACB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57503-0C8E-4B82-937F-651B737EA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FCB3A-66BF-45FF-825F-A37DB47B9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B62AF-ADAA-43C5-8768-0FECE3A94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DBD6A-13C6-49E5-9E62-A1B3A026A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6D59A-C584-490B-BBDF-53BC73745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E01A0-D085-42F1-AF7D-75CED7A50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0B7DF-1A39-4D54-B254-F41607A58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46F9B-CA3C-473A-B502-067A1EA46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4402080" cy="62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B1025-9AA3-4EBE-B25E-1EA596DB4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4083E-45C3-4247-96DA-9D6FD2ADA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9EEAB-C9F7-411B-8FE1-A3359A65F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69040-BAF5-4CCD-8CF3-40C00F972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A600A-4702-4689-AE4C-8215987B1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3599B-1C2A-4E9A-BCA2-3D5A0D8F4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E51AC-A9F6-41D4-A7F6-F8489D2FF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9C84E-BA1B-402D-892A-D05480423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E1001-EE57-415D-87E6-D8285D70F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AD65E-6788-4384-8CB4-7E838D62A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15D65-5720-4E2E-B877-6842B1829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4402080" cy="62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E3CD2-8280-446F-8460-3D9EAE648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F7B7D-3DDE-4420-9389-6D2894B04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45972-C14D-4299-A1B4-09BFF25A4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278F9-A5B9-4E2E-BFEB-C34C12219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1440" y="144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13DC3-182B-478F-A872-4465CC2F50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0D744-8BB7-4BE0-B8AC-F891AC870E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lang="en-GB" sz="3200" spc="-1" strike="noStrike">
                <a:solidFill>
                  <a:srgbClr val="ffffcc"/>
                </a:solidFill>
                <a:latin typeface="Arial"/>
              </a:rPr>
              <a:t>Engaging World Leader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1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Jaap Broekma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top TB Coordinating Boar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ddis Abab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3rd May 200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SimSun"/>
              </a:rPr>
              <a:t>A strategy for engagement with Heads of State and World Leaders was a recommendation of the Beijing Coordinating Board Meeting in October 200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he Approa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SimSun"/>
              </a:rPr>
              <a:t>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SimSun"/>
              </a:rPr>
              <a:t>o create TB champions among leading figures – but to go beyond Heads of St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ndela: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“we can not fight HIV/AIDS without also                                    fighting TB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wo core group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igh burden countries - with special emphasis on Afric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nor/potential donor count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7238880" y="2514600"/>
            <a:ext cx="1501920" cy="18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rategic 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need to strengthen TB control activities in target countries to enable TB to maintain momentum and achieve the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llennium Development Goal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need for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und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to support TB control from the international development community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need for a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upportive political environment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450072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Arial"/>
              </a:rPr>
              <a:t>MDG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untries see achieving TB control goals as part of their wider economic development agend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Identify and inform nodal leaders and opportunities to access th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u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inancing for TB Control needs to be sustainable with sufficient funds available for Technical Assistance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orld Health Assembly: Resolution on Sustainable Financing for TB control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igh Awareness of Global Plan 2006-20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ew inter-ministerial conferenc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23600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olitical Environ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B friendly influential leaders (politicians, sports and entertainment stars etc) provide the framework to support our advocacy wo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Direct and indirect channels to reach influential leaders: WB, EU, Wise men (Sachs, Sen etc), social experts, celebrities (including Stop TB Ambassadors), UN family (WHO, UNDP et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dentify core groups of countries and leaders we MUST reach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SimSun"/>
              </a:rPr>
              <a:t>Identify opportunities to access key political and other lead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African Commission, CHOGM, APEC, UNGASS, EU summit, G8, G77, WEF, World Social Foru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rategic Planning to raise the profile of Global Plan 2006-20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Tactical 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Princip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ny champ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Joined-up strate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lear message (full need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mpli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3T15:56:53Z</dcterms:created>
  <dc:creator>Robert Hernandez</dc:creator>
  <dc:description/>
  <dc:language>en-US</dc:language>
  <cp:lastModifiedBy>johnsoneb</cp:lastModifiedBy>
  <dcterms:modified xsi:type="dcterms:W3CDTF">2005-05-03T09:24:50Z</dcterms:modified>
  <cp:revision>39</cp:revision>
  <dc:subject/>
  <dc:title>Slide 1</dc:title>
</cp:coreProperties>
</file>