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1E60-9F11-4E47-8F6A-0C713946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02BB-0947-4771-A523-9326FEBC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28B-1364-4EDB-AADB-1B9707A7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BBC6-CE44-4000-998B-F4A24DDB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5CFB4-EF98-444D-8FA2-3B07AB04B1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DC619-BEFC-4AA1-A998-D1B0C2FBF3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C9249-CB6A-4AC6-A764-96CA28BAB5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B2272-4C34-4FB5-A64D-FBD7FA706A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E49BD-D1A5-4947-B7C1-5B5DDC2770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D750C-0758-4C61-8FD5-754278C050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FA1D6-E260-4E98-A1B3-7B216F8427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DC8F-68B4-4CCF-9E40-0ADFB030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38D24-8446-4B52-B947-37D6CC6837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9A70E-8D8F-4D1D-8016-759C695317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024CB-1C9D-4FCE-A7C0-6F88DF4294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6C20C-9E0B-4D15-9BDA-80F6F7DFF2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E7E78-F55D-4756-A507-7A268EF3E2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3C2-8755-4A56-AFDC-D25E5D19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1DE7-E81D-4BE7-B5C7-E2A17877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5D0D-070D-42E7-A741-1504AE10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88AA-CE04-4D09-ACA6-E062E1C5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ADFB-D572-4703-8418-F6D96A0D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4ACF-3388-442D-BBCA-C8B80F16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A82-635F-4D91-8A25-28AB1E97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547C-D825-477E-9108-BF9A554ED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995640" y="6237000"/>
            <a:ext cx="388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956720" y="6453000"/>
            <a:ext cx="7300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5E23-DD78-4A01-8DDB-546C527B03B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6"/>
          </p:nvPr>
        </p:nvSpPr>
        <p:spPr>
          <a:xfrm>
            <a:off x="2700000" y="6165720"/>
            <a:ext cx="381636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Arial"/>
              </a:rPr>
              <a:t>High Level Mission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3885840"/>
            <a:ext cx="84247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Introducing procedures for high level advo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5084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Dr. Karam Sh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Decis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opt Guiding Principles for the conduct of High Level 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Review and decide on the HLM calendar of events for 2005 - 200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ition of High Level Mission (H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ual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ing and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lenda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IGH LEVEL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Engaging prominent partners / (CB members) to represent Stop TB i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powerful political advocacy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Uses international reputation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fluences key politicians &amp; decision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Creates sustained leverage in support of Stop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Arial"/>
              </a:rPr>
              <a:t>Guidelin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making HLM more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support of countries and international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most appropriate support to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ing the most appropriate STB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ding timely to importan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ing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frame work for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Composi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 is based on the actual purpose of the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d of mission (HoM) is selected by CB on basis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ituency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level partnership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B Partnership Secretariat senior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epa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and HoM draft 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dorsement 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review preferably prior to H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prepares form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prepares confidenti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makes logistics arran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ctual vis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d of Mission (HoM) assures quality performance and best expo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ve attitude and diplomatic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ructive image of S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igned tasks for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M is HLM spokes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is HLM rappor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Reporting and follow-up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7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 re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 consensus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conclusions &amp;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ed-back to constitu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mitted to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ner(s) can be invited to provide follow-u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4818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LM Calendar 2005 -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620640"/>
          <a:ext cx="7559640" cy="5981760"/>
        </p:xfrm>
        <a:graphic>
          <a:graphicData uri="http://schemas.openxmlformats.org/drawingml/2006/table">
            <a:tbl>
              <a:tblPr/>
              <a:tblGrid>
                <a:gridCol w="3816360"/>
                <a:gridCol w="1942920"/>
                <a:gridCol w="18003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/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op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 Summit Kharto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East Asi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glad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ern Pacific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ra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zah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dvi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Commi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s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(PEPFAR, Congress, USAI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z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3:59:03Z</dcterms:created>
  <dc:creator>steenbergeng</dc:creator>
  <dc:description/>
  <dc:language>en-US</dc:language>
  <cp:lastModifiedBy>bakerl</cp:lastModifiedBy>
  <dcterms:modified xsi:type="dcterms:W3CDTF">2005-04-27T11:03:42Z</dcterms:modified>
  <cp:revision>3</cp:revision>
  <dc:subject/>
  <dc:title>High Level Missions</dc:title>
</cp:coreProperties>
</file>