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791C-98ED-40C7-A60A-2E16FFE3B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0900D-420F-4569-9EB9-FB563AB62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3836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B4EB-8F78-4F9E-AF17-2F81F9A6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1138-6B2A-47D4-84A2-41634D4F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3696-BD19-4F61-906C-40F61A45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760D-7C2E-4915-98DE-7BAED9E4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B91F-B0AA-42C5-9EE5-0CEC1BFC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CD62-4894-4E62-9914-8E4B60FB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434A-E4EF-468F-B9DB-728F1A3E7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CF10-7C1E-4C1D-9B4B-6BB8168F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C3178-71BB-4A28-AB18-9CF137BC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40A8-5993-4A06-A16C-8B0AF034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4E75-26F2-403B-9563-503B8E3B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28E9-3156-4105-8B4A-90478943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8ED8-2303-42B1-8419-81CB388D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E8F2-D81B-415A-B7AA-2CC954811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3260-E3B4-4A2B-9193-40EC98A6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8B86-A194-4DD3-B8F5-D5B50281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843A-51CF-4E7F-A59C-7F30AB97E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B311-4B8A-4A9D-80AF-9085F428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66C8-EC10-493F-8963-888ED9B6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ED24-B71A-4D98-962B-BAD4778B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134-0436-42D1-BE0E-1F6E42DD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024-F9EF-4648-B172-7A540194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3AD2-8D2B-4895-AACB-050F0905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EBC5-1334-4A5E-9FFE-1ADE8E17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64DF-CD76-4BCD-9678-6B3B63C51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E677-1A72-4C16-A93B-7D7CFB857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Engaging all care providers to Stop T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7083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24000" y="1460520"/>
            <a:ext cx="8640720" cy="472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1116000" y="1844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 countries with PPM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2205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 20,000 patients evalu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16000" y="2565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ment success around 80-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2924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ase detection in all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16000" y="371628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es the p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3480" y="3357720"/>
            <a:ext cx="17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-eff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16000" y="407664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burden for 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Task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628640"/>
          <a:ext cx="8229600" cy="4645080"/>
        </p:xfrm>
        <a:graphic>
          <a:graphicData uri="http://schemas.openxmlformats.org/drawingml/2006/table">
            <a:tbl>
              <a:tblPr/>
              <a:tblGrid>
                <a:gridCol w="1522440"/>
                <a:gridCol w="1152360"/>
                <a:gridCol w="1152720"/>
                <a:gridCol w="1079280"/>
                <a:gridCol w="1079640"/>
                <a:gridCol w="1066680"/>
                <a:gridCol w="1176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sp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doc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fer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cop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t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9900"/>
                          </a:solidFill>
                          <a:latin typeface="Arial Unicode MS"/>
                          <a:ea typeface="Arial Unicode MS"/>
                        </a:rPr>
                        <a:t>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187280" y="213372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461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on by different care providers in 12 cities (Q2-4; 2004)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0" y="1920960"/>
          <a:ext cx="9169560" cy="40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20960"/>
                    <a:ext cx="916956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233280" y="17928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49680" y="6189840"/>
            <a:ext cx="267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r L S Chauhan, NTP, In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24000" y="1098720"/>
          <a:ext cx="7848360" cy="506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98720"/>
                    <a:ext cx="7848360" cy="50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76360" y="2421000"/>
            <a:ext cx="64087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crease in TB case-detection rate following DOTS expansion (2003) and PPM-DOTS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3280" y="17928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72240" y="6165720"/>
            <a:ext cx="157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CDC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886120" y="23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1440" cy="4464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32560" y="250920"/>
            <a:ext cx="19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don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62040" y="6189840"/>
            <a:ext cx="30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Jan Voskens, KNCV, Indone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258920" y="1916280"/>
          <a:ext cx="7489800" cy="41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16280"/>
                    <a:ext cx="7489800" cy="41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533520" y="1413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ffect on case detection trend in PPM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96080" y="2209680"/>
            <a:ext cx="1295640" cy="161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ubl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+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6600"/>
                </a:solidFill>
                <a:latin typeface="Verdana"/>
                <a:ea typeface="Times New Roman"/>
              </a:rPr>
              <a:t>PPM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  <a:ea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648320" y="2362320"/>
            <a:ext cx="1066680" cy="914400"/>
          </a:xfrm>
          <a:prstGeom prst="line">
            <a:avLst/>
          </a:prstGeom>
          <a:ln w="41400">
            <a:solidFill>
              <a:srgbClr val="0066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50920" y="33577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2.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34290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Verdana"/>
                <a:ea typeface="Times New Roman"/>
              </a:rPr>
              <a:t>53.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10080" y="2971800"/>
            <a:ext cx="106704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  <a:ea typeface="Times New Roman"/>
              </a:rPr>
              <a:t>63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3600" y="2057400"/>
            <a:ext cx="10666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Verdana"/>
                <a:ea typeface="Times New Roman"/>
              </a:rPr>
              <a:t>71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280" y="250920"/>
            <a:ext cx="21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ilipp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6165720"/>
            <a:ext cx="28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R Vianzon, NTP, Philipp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900000" y="1557360"/>
          <a:ext cx="79930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557360"/>
                    <a:ext cx="7993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232920" y="250920"/>
            <a:ext cx="23248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ural 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17840" y="6165720"/>
            <a:ext cx="362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tesy: Dr Salim, Damien Foundation, Banglade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2767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ha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FATM) – PPM in place in Accra and Kumasi cities. 26% of TB cases being notified are diagnosed by the privat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ny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(WHO-AFRO) – Scaling up an ongoing project which has treated over 4000 patients with satisfactory outcomes. Treatment success in 2003 cohorts 7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LRA, FIDELIS) – One ongoing pilot supported by GL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 pilots in one state each supported by FIDE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gan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Assessment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ublic of South Afr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O-AFRO) – Pilot in progress in Sow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O-AFRO) – Preparation under 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609300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Times New Roman"/>
              </a:rPr>
              <a:t>Courtesy: D. Kibuga, WHO/AFR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148428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bears the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276200" y="1778040"/>
          <a:ext cx="7207560" cy="4416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6200" y="1778040"/>
                    <a:ext cx="72075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6335640" y="609300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urtesy: Katherine Floyd, WHO/S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03120" y="179280"/>
            <a:ext cx="21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50160" y="234936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510160" y="3141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68720" y="32846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3577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cio-economic Profile of Patients LSU PPMD Center,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ippines, May 2002-Sept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547640" y="2205000"/>
          <a:ext cx="6264360" cy="327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2205000"/>
                    <a:ext cx="6264360" cy="327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781680" y="3962520"/>
            <a:ext cx="11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= 3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26920" y="5300640"/>
            <a:ext cx="7788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30, 000/ mo        15,000-30,000/m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,000-15,000/mo    &lt;5,000/mo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40$/mo                270-540$/mo                  90-270$/mo           &lt;90$/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thly Family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4000" y="6165720"/>
            <a:ext cx="849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*Based on 2002 Poverty threshold per capita per year 11,906/12 x 5  (average family siz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624720" y="602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Times New Roman"/>
              </a:rPr>
              <a:t>Courtesy: Charles Yu, PhilT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04560" y="2509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qu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ublic-Private Mix</a:t>
            </a:r>
            <a:br>
              <a:rPr sz="44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(Building local partnerships to ensure quality TB care for all who need it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ecretariat, Subgroup on PPM for DOTS Expa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erabad: since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B Bangladesh: since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pal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ya: since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projects in India and Philippines running for 2-5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stain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0" y="1523880"/>
            <a:ext cx="3886200" cy="892800"/>
          </a:xfrm>
          <a:prstGeom prst="rect">
            <a:avLst/>
          </a:prstGeom>
          <a:solidFill>
            <a:srgbClr val="cc3300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Century Gothic"/>
              </a:rPr>
              <a:t>NT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 u="sng">
                <a:solidFill>
                  <a:srgbClr val="ffccff"/>
                </a:solidFill>
                <a:uFillTx/>
                <a:latin typeface="Century Gothic"/>
              </a:rPr>
              <a:t>Ste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666880" y="3352680"/>
            <a:ext cx="3048120" cy="716760"/>
          </a:xfrm>
          <a:prstGeom prst="rect">
            <a:avLst/>
          </a:prstGeom>
          <a:solidFill>
            <a:srgbClr val="ffffcc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entury Gothic"/>
              </a:rPr>
              <a:t>PPM DOTS Agency</a:t>
            </a:r>
            <a:r>
              <a:rPr b="0" lang="sv-SE" sz="2400" spc="-1" strike="noStrike">
                <a:solidFill>
                  <a:srgbClr val="333399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990033"/>
                </a:solidFill>
                <a:latin typeface="Century Gothic"/>
              </a:rPr>
              <a:t>Public, Private, N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62320" y="5181480"/>
            <a:ext cx="685800" cy="3070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4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581280" y="5181480"/>
            <a:ext cx="76212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19920" y="5181480"/>
            <a:ext cx="914400" cy="52056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entury Gothic"/>
              </a:rPr>
              <a:t>P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315200" y="5181480"/>
            <a:ext cx="685800" cy="39888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523880" y="4419720"/>
            <a:ext cx="1524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2819160" y="4419720"/>
            <a:ext cx="6858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441972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724280" y="4419720"/>
            <a:ext cx="38124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34120" y="4495680"/>
            <a:ext cx="761760" cy="533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67280" y="4419720"/>
            <a:ext cx="1371600" cy="6094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43434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Century Gothic"/>
              </a:rPr>
              <a:t>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2492280"/>
            <a:ext cx="0" cy="865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40360" y="2924280"/>
            <a:ext cx="2438640" cy="337680"/>
          </a:xfrm>
          <a:prstGeom prst="rect">
            <a:avLst/>
          </a:prstGeom>
          <a:solidFill>
            <a:srgbClr val="ffcc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333399"/>
                </a:solidFill>
                <a:latin typeface="Century Gothic"/>
              </a:rPr>
              <a:t>Co-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00360" y="285264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8600" y="2819520"/>
            <a:ext cx="1447920" cy="337680"/>
          </a:xfrm>
          <a:prstGeom prst="rect">
            <a:avLst/>
          </a:prstGeom>
          <a:solidFill>
            <a:srgbClr val="ff9999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entury Gothic"/>
              </a:rPr>
              <a:t>QC, S&amp;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752480" y="304812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27672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14400" y="6019920"/>
            <a:ext cx="70102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41240" y="6056280"/>
            <a:ext cx="73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Century Gothic"/>
              </a:rPr>
              <a:t>Equity in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484360" y="4581360"/>
            <a:ext cx="33829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Drugs / Incentives for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2852640"/>
            <a:ext cx="3384720" cy="580680"/>
          </a:xfrm>
          <a:prstGeom prst="rect">
            <a:avLst/>
          </a:prstGeom>
          <a:solidFill>
            <a:srgbClr val="fee4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Contracts with financial incen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220500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43640" y="3357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72436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6156360" y="220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31480" y="179280"/>
            <a:ext cx="282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it work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idenc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tools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willingness among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guidelines: synthe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Standard of TB C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nabl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scale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490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local capacity for development, coordination, supervision and monitor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k government and NTP commi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fficient Global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cc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ited global and regional resources for technical assistance and advoc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619280" y="4653000"/>
            <a:ext cx="0" cy="433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619280" y="3644640"/>
            <a:ext cx="0" cy="4316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619280" y="2565360"/>
            <a:ext cx="0" cy="43200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PPM Subgroup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 the profile of the Subgroup within the Stop TB Partnership and strengthen support for its activiti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PPM DOTS -- linking all care providers to National TB Programmes -- a prominent part of the Second Global Plan to Stop TB, especially to improve access to quality TB care for the poor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PPM DOTS progress regularly during STB-CB meeting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PPM DOTS during missions to countries and important events such as the World TB Da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ze resources to strengthen capacity for PPM at global, regional and national levels to be able assist in initiating, evaluating and scaling up PPM DO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8281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cope and objectives of PPM D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olution and evidenc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 in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sts and equ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ablers and barriers to scal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mmendations of the PPM Subgroup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N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4653000"/>
            <a:ext cx="208764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Health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51280" y="5373720"/>
            <a:ext cx="158436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619600">
            <a:off x="5362920" y="494172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360600">
            <a:off x="7201080" y="630828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247400">
            <a:off x="5725440" y="213300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51640" y="537372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20805000">
            <a:off x="6010920" y="5949720"/>
            <a:ext cx="1942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7840" y="404640"/>
            <a:ext cx="39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rivate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5373720"/>
            <a:ext cx="151272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59280" y="6165720"/>
            <a:ext cx="302400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786000">
            <a:off x="6085440" y="3213000"/>
            <a:ext cx="2448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chest physici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3496200">
            <a:off x="6383520" y="3894120"/>
            <a:ext cx="1297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G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619600">
            <a:off x="5147280" y="5084640"/>
            <a:ext cx="345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uthorised Medical Practitio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360600">
            <a:off x="6877440" y="6165360"/>
            <a:ext cx="212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Hea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365720"/>
            <a:ext cx="144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Loc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247400">
            <a:off x="5726880" y="214092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vate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21226200">
            <a:off x="6226920" y="2492280"/>
            <a:ext cx="2519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health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792000">
            <a:off x="6733440" y="1700280"/>
            <a:ext cx="1800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tional 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522936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Pharma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20805000">
            <a:off x="5939280" y="5733720"/>
            <a:ext cx="205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ps and Vend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43280" y="5734080"/>
            <a:ext cx="162000" cy="414360"/>
          </a:xfrm>
          <a:custGeom>
            <a:avLst/>
            <a:gdLst/>
            <a:ahLst/>
            <a:rect l="l" t="t" r="r" b="b"/>
            <a:pathLst>
              <a:path w="102" h="261">
                <a:moveTo>
                  <a:pt x="40" y="261"/>
                </a:moveTo>
                <a:cubicBezTo>
                  <a:pt x="37" y="253"/>
                  <a:pt x="36" y="245"/>
                  <a:pt x="32" y="237"/>
                </a:cubicBezTo>
                <a:cubicBezTo>
                  <a:pt x="28" y="229"/>
                  <a:pt x="20" y="223"/>
                  <a:pt x="16" y="214"/>
                </a:cubicBezTo>
                <a:cubicBezTo>
                  <a:pt x="9" y="199"/>
                  <a:pt x="0" y="166"/>
                  <a:pt x="0" y="166"/>
                </a:cubicBezTo>
                <a:cubicBezTo>
                  <a:pt x="11" y="135"/>
                  <a:pt x="16" y="122"/>
                  <a:pt x="48" y="111"/>
                </a:cubicBezTo>
                <a:cubicBezTo>
                  <a:pt x="64" y="114"/>
                  <a:pt x="84" y="108"/>
                  <a:pt x="95" y="119"/>
                </a:cubicBezTo>
                <a:cubicBezTo>
                  <a:pt x="102" y="126"/>
                  <a:pt x="76" y="143"/>
                  <a:pt x="71" y="135"/>
                </a:cubicBezTo>
                <a:cubicBezTo>
                  <a:pt x="59" y="114"/>
                  <a:pt x="67" y="88"/>
                  <a:pt x="63" y="64"/>
                </a:cubicBezTo>
                <a:cubicBezTo>
                  <a:pt x="60" y="42"/>
                  <a:pt x="50" y="20"/>
                  <a:pt x="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5013360"/>
            <a:ext cx="263520" cy="371520"/>
          </a:xfrm>
          <a:custGeom>
            <a:avLst/>
            <a:gdLst/>
            <a:ahLst/>
            <a:rect l="l" t="t" r="r" b="b"/>
            <a:pathLst>
              <a:path w="166" h="234">
                <a:moveTo>
                  <a:pt x="106" y="234"/>
                </a:moveTo>
                <a:cubicBezTo>
                  <a:pt x="136" y="196"/>
                  <a:pt x="166" y="158"/>
                  <a:pt x="151" y="143"/>
                </a:cubicBezTo>
                <a:cubicBezTo>
                  <a:pt x="136" y="128"/>
                  <a:pt x="30" y="150"/>
                  <a:pt x="15" y="143"/>
                </a:cubicBezTo>
                <a:cubicBezTo>
                  <a:pt x="0" y="136"/>
                  <a:pt x="53" y="121"/>
                  <a:pt x="61" y="98"/>
                </a:cubicBezTo>
                <a:cubicBezTo>
                  <a:pt x="69" y="75"/>
                  <a:pt x="61" y="14"/>
                  <a:pt x="61" y="7"/>
                </a:cubicBezTo>
                <a:cubicBezTo>
                  <a:pt x="61" y="0"/>
                  <a:pt x="54" y="53"/>
                  <a:pt x="61" y="5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444200">
            <a:off x="176400" y="3069360"/>
            <a:ext cx="1944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kers' Health Insuranc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59120" y="150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37400">
            <a:off x="1698480" y="177372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16200" y="4170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2688000">
            <a:off x="1621800" y="50144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ic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3120" y="5178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8008200">
            <a:off x="874080" y="605664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m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3120" y="4170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20393400">
            <a:off x="574920" y="40705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ilway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7480" y="2154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815600">
            <a:off x="463680" y="1940400"/>
            <a:ext cx="2656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cal College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9216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3840" y="5538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3120" y="5322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0393400">
            <a:off x="-1080" y="5157720"/>
            <a:ext cx="19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son Hospi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404640"/>
            <a:ext cx="38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"Public" of 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16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564000" y="1341360"/>
            <a:ext cx="2232000" cy="39888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inistry of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2349360"/>
            <a:ext cx="2232000" cy="368280"/>
          </a:xfrm>
          <a:prstGeom prst="rect">
            <a:avLst/>
          </a:prstGeom>
          <a:solidFill>
            <a:srgbClr val="cc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artment of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3213000"/>
            <a:ext cx="2305080" cy="368280"/>
          </a:xfrm>
          <a:prstGeom prst="rect">
            <a:avLst/>
          </a:prstGeom>
          <a:solidFill>
            <a:srgbClr val="cc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TP Central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3933720"/>
            <a:ext cx="2016000" cy="368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cial TB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4653000"/>
            <a:ext cx="1728720" cy="368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ct TB Un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5373720"/>
            <a:ext cx="1511280" cy="368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lth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32000" y="6165720"/>
            <a:ext cx="302436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ty Health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7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16360" y="2708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716360" y="177336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023840" y="2801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47840" y="476280"/>
            <a:ext cx="18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227640" y="4800960"/>
            <a:ext cx="1944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rivate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4894560"/>
            <a:ext cx="1871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ll Public Provide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328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16360" y="4365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1636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16360" y="57340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79640" y="4149720"/>
            <a:ext cx="10080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522936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87640" y="50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795640" y="501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6084360" y="4149360"/>
            <a:ext cx="107964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6084720" y="5084640"/>
            <a:ext cx="115128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48974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 of PPM D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case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 treatment outc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access and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financial burden on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999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0:  Learning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1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Global consul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2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Regional and National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3:  Economic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4:  Multiple initiatives; Analysis of succes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005:  Early scale up</a:t>
            </a: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7640" y="250920"/>
            <a:ext cx="185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4:57:48Z</dcterms:created>
  <dc:creator>Uplekar</dc:creator>
  <dc:description/>
  <dc:language>en-US</dc:language>
  <cp:lastModifiedBy>Uplekar</cp:lastModifiedBy>
  <dcterms:modified xsi:type="dcterms:W3CDTF">2005-05-03T04:24:46Z</dcterms:modified>
  <cp:revision>2</cp:revision>
  <dc:subject/>
  <dc:title>Public-Private Mix (Engaging all care providers to Stop TB) </dc:title>
</cp:coreProperties>
</file>