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1404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CF5B16A-485A-4848-A78B-C5AB449EEFB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19840" y="6324480"/>
            <a:ext cx="1810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848720" y="5867280"/>
            <a:ext cx="609480" cy="581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7761240" y="5386320"/>
          <a:ext cx="1135080" cy="116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61240" y="5386320"/>
                    <a:ext cx="1135080" cy="11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227640" y="5510160"/>
            <a:ext cx="820800" cy="854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3618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</a:rPr>
              <a:t>A proposed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</a:rPr>
              <a:t>"Global Strategy to Stop TB"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869080" y="2766960"/>
            <a:ext cx="30542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Dr Mario Raviglione</a:t>
            </a:r>
            <a:br>
              <a:rPr sz="2000"/>
            </a:b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Director, STB/WH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Addis Abeb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3 May 200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380880" y="2214720"/>
            <a:ext cx="5454720" cy="409068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"/>
              </a:rPr>
              <a:t>Process for launch 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80720" y="2332080"/>
            <a:ext cx="7304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Preparation of peer-review publication (late 2005/early 2006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Official launch date and approach – for discu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627120" y="1225440"/>
          <a:ext cx="7740720" cy="4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7120" y="1225440"/>
                    <a:ext cx="7740720" cy="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Arial"/>
                <a:ea typeface="Arial"/>
              </a:rPr>
              <a:t>Requests to the Stop TB CB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Endorse the objectives and content</a:t>
            </a:r>
            <a:br>
              <a:rPr sz="3200"/>
            </a:b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Recommend improvements</a:t>
            </a:r>
            <a:br>
              <a:rPr sz="3200"/>
            </a:b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Endorse plan for stakeholder engagement</a:t>
            </a:r>
            <a:br>
              <a:rPr sz="3200"/>
            </a:b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Consider options for launch</a:t>
            </a:r>
            <a:br>
              <a:rPr sz="3200"/>
            </a:b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Review progress at October CB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525600" y="1271520"/>
          <a:ext cx="7738920" cy="4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600" y="1271520"/>
                    <a:ext cx="7738920" cy="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  <a:ea typeface="Arial Unicode MS"/>
              </a:rPr>
              <a:t>Objective: to introduce a proposed "Global Strategy to Stop TB" which: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4000" y="1541520"/>
            <a:ext cx="8451720" cy="442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  <a:ea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Aims to ensure care for </a:t>
            </a:r>
            <a:r>
              <a:rPr b="1" lang="en-GB" sz="2400" spc="-1" strike="noStrike" u="sng">
                <a:solidFill>
                  <a:srgbClr val="000066"/>
                </a:solidFill>
                <a:uFillTx/>
                <a:latin typeface="Arial"/>
                <a:ea typeface="Arial Unicode MS"/>
              </a:rPr>
              <a:t>all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 TB pati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Pursues expansion of quality DOTS everyw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Accelerates progress and impact of TB control to meet the MD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Responds to needs expressed by a range of constituen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Reflects innovation to d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Is consistent with the Global Plan, 2006-20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Links with the growing focus on health's role in poverty alleviation and in advancing human righ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014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787320" y="1511280"/>
          <a:ext cx="7747200" cy="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11280"/>
                    <a:ext cx="7747200" cy="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6784920" y="6383160"/>
          <a:ext cx="460440" cy="474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4920" y="6383160"/>
                    <a:ext cx="4604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-57240" y="57240"/>
            <a:ext cx="923940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cc3300"/>
                </a:solidFill>
                <a:latin typeface="Arial"/>
              </a:rPr>
              <a:t>The DOTS Strategy (1995)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01880" y="1854360"/>
            <a:ext cx="780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cc3300"/>
              </a:buClr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</a:rPr>
              <a:t>Government commitment to TB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cc3300"/>
              </a:buClr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</a:rPr>
              <a:t>Case detection primarily by smear microscopy mostly on self-reporting symptomatic pati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cc3300"/>
              </a:buClr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</a:rPr>
              <a:t>Standardised short-course chemotherapy under proper case management conditions, including D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cc3300"/>
              </a:buClr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</a:rPr>
              <a:t>System of regular drug supp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cc3300"/>
              </a:buClr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</a:rPr>
              <a:t>Efficient monitoring system for programme supervision and eval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3880" y="6324480"/>
            <a:ext cx="8520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749160" y="1370160"/>
          <a:ext cx="7747200" cy="6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9160" y="1370160"/>
                    <a:ext cx="7747200" cy="6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7840" y="274320"/>
            <a:ext cx="8434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  <a:ea typeface="Arial Unicode MS"/>
              </a:rPr>
              <a:t>Evolution of the WHO-recommended DOTS Strategy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39800" y="1650600"/>
            <a:ext cx="7927920" cy="438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Framework for Effective TB Control, 199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DOTS launched in 1995 and expanded over the last decade. 182 countries adopted it; 17 million treated in 1995-2003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Near target for treatment success (82%) and proven acceleration of case detection, but still only 45% in 200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5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While DOTS is the </a:t>
            </a:r>
            <a:r>
              <a:rPr b="1" i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conditio sine qua non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 for TB control, it does not explicitly address the new challenges: TB/HIV in Africa; MDRTB; serving the "hard-to-reach"…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5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Since 2000, TB control adaptations have begun to address such special challenges and support to R&amp;D has expanded. These should be captured in the strateg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2014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87320" y="1406520"/>
          <a:ext cx="7747200" cy="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406520"/>
                    <a:ext cx="7747200" cy="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6784920" y="6383160"/>
          <a:ext cx="460440" cy="474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4920" y="6383160"/>
                    <a:ext cx="4604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09200" y="361440"/>
            <a:ext cx="7621560" cy="107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  <a:ea typeface="Arial Unicode MS"/>
              </a:rPr>
              <a:t>Policy and strategy documents since 2001 show evolution……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0120" y="1831680"/>
            <a:ext cx="7580520" cy="432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Global Plan to Stop TB, 2001-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WHO Expanded Framework to Control TB, 2002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Report of the 2nd Ad-hoc Committee on TB Control,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Millennium Project TB Control Report,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WHO EB resolution, 2004 and World Health Assembly Resolution,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Framework for the Global Plan to Stop TB, 2005-20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2014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671400" y="1549440"/>
          <a:ext cx="7747200" cy="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1400" y="1549440"/>
                    <a:ext cx="7747200" cy="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6784920" y="6383160"/>
          <a:ext cx="460440" cy="474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4920" y="6383160"/>
                    <a:ext cx="4604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88840" y="34178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3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Arial"/>
                <a:ea typeface="Arial Unicode MS"/>
              </a:rPr>
              <a:t>A proposed 2005-2015 </a:t>
            </a:r>
            <a:br>
              <a:rPr sz="4000"/>
            </a:br>
            <a:r>
              <a:rPr b="1" lang="en-GB" sz="4000" spc="-1" strike="noStrike">
                <a:solidFill>
                  <a:srgbClr val="cc3300"/>
                </a:solidFill>
                <a:latin typeface="Arial"/>
                <a:ea typeface="Arial Unicode MS"/>
              </a:rPr>
              <a:t>"Global Strategy to Stop TB"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88600" y="2109600"/>
            <a:ext cx="826452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Arial"/>
              <a:buAutoNum type="arabicPeriod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"/>
              </a:rPr>
              <a:t>Pursuing quality DOTS expansion</a:t>
            </a:r>
            <a:br>
              <a:rPr sz="3600"/>
            </a:br>
            <a:br>
              <a:rPr sz="3600"/>
            </a:br>
            <a:r>
              <a:rPr b="1" lang="en-GB" sz="2000" spc="-1" strike="noStrike" u="sng">
                <a:solidFill>
                  <a:srgbClr val="cc3300"/>
                </a:solidFill>
                <a:uFillTx/>
                <a:latin typeface="Arial"/>
                <a:ea typeface="Arial"/>
              </a:rPr>
              <a:t>throug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Addressing TB/HIV and MDR-T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3. Contributing to health system strengthe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4. Engaging all care provi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5. Empowering patients and communities</a:t>
            </a:r>
            <a:r>
              <a:rPr b="1" lang="en-GB" sz="10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6. Enabling and promoting R&amp;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787320" y="1581120"/>
          <a:ext cx="7747200" cy="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1120"/>
                    <a:ext cx="7747200" cy="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6040" y="1176120"/>
            <a:ext cx="8114040" cy="532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Font typeface="Arial"/>
              <a:buAutoNum type="arabicPeriod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  <a:ea typeface="Arial"/>
              </a:rPr>
              <a:t>Pursuing quality DOTS expansion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and improve case detection and cure through effective patient-centered care for </a:t>
            </a:r>
            <a:r>
              <a:rPr b="1" lang="en-GB" sz="16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all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, and especially the po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6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GB" sz="1600" spc="-1" strike="noStrike" u="sng">
                <a:solidFill>
                  <a:srgbClr val="cc3300"/>
                </a:solidFill>
                <a:uFillTx/>
                <a:latin typeface="Arial"/>
                <a:ea typeface="Arial"/>
              </a:rPr>
              <a:t>Throug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2.  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Addressing TB-HIV, MDR-TB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, and other special challeng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3.  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Contributing to health system strengthening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 by building capacity and mobilizing additional human and financial resources for implementation and impact evalu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4.  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Engaging all care providers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 - public, non-governmental and private - to provide the International Standard of TB Care, focusing on the poores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5.  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Empowering patients and communities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 to demand, and contribute to, effective ca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6.  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Enabling and promoting R&amp;D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for new drugs, diagnostics and vacci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87320" y="1195560"/>
          <a:ext cx="7747200" cy="6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95560"/>
                    <a:ext cx="7747200" cy="6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1187280" y="6453360"/>
            <a:ext cx="460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Draft April 8,200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89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A proposed 2005-2015 </a:t>
            </a:r>
            <a:br>
              <a:rPr sz="3600"/>
            </a:b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"Global Strategy to Stop TB"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3080" y="266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</a:rPr>
              <a:t>Pursuing Quality DOTS Expansion, 2005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95360" y="1092240"/>
          <a:ext cx="7715160" cy="4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1092240"/>
                    <a:ext cx="7715160" cy="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466560" y="1244520"/>
            <a:ext cx="860112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59000"/>
          </a:bodyPr>
          <a:p>
            <a:pPr marL="359280" indent="-3592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Political commitment with long-term planning, adequate human resources and sustainable financing to reach WHA and MDG targets</a:t>
            </a:r>
            <a:br>
              <a:rPr sz="2000"/>
            </a:b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9280" indent="-3592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Case detection through bacteriology (microscopy first, and culture/DST) and establishment of an effective laboratory network to facilitate detection of SS+, SS- and DR-  TB cases</a:t>
            </a:r>
            <a:br>
              <a:rPr sz="2000"/>
            </a:b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9280" indent="-3592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Standardized treatment under proper case management conditions, including DOT, and full patient support for all TB patients</a:t>
            </a:r>
            <a:br>
              <a:rPr sz="2000"/>
            </a:b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9280" indent="-3592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An effective and regular drug supply system </a:t>
            </a:r>
            <a:br>
              <a:rPr sz="2000"/>
            </a:b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9280" indent="-359280">
              <a:lnSpc>
                <a:spcPct val="120000"/>
              </a:lnSpc>
              <a:spcBef>
                <a:spcPts val="624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Efficient monitoring system for programme supervision and evaluation including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measurement of impa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1298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786720" y="6431040"/>
          <a:ext cx="414360" cy="426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6720" y="6431040"/>
                    <a:ext cx="41436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"/>
              </a:rPr>
              <a:t>Process for engaging stakeholders in strategy development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14480"/>
            <a:ext cx="7943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Informal dialogue and review with NTPs, staff and partners (ongo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eek input from StopTB CB (May 0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eek informal feedback at WHA (May 0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eek endorsement of WHO STAG (June 0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Obtain engagement of national and global stakeholders via DFID-financed survey &amp; interview process (summer 0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eek final endorsement of StopTB Working Groups (Oct 05) and StopTB CB (Nov 0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561960" y="1604880"/>
          <a:ext cx="7799400" cy="4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1960" y="1604880"/>
                    <a:ext cx="7799400" cy="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5:03:20Z</dcterms:created>
  <dc:creator>LamyQuiqueS</dc:creator>
  <dc:description/>
  <dc:language>en-US</dc:language>
  <cp:lastModifiedBy>bakerl</cp:lastModifiedBy>
  <cp:lastPrinted>2003-04-10T14:23:01Z</cp:lastPrinted>
  <dcterms:modified xsi:type="dcterms:W3CDTF">2005-04-27T13:35:34Z</dcterms:modified>
  <cp:revision>460</cp:revision>
  <dc:subject/>
  <dc:title>Progress in Global Tuberculosis Control 1995-97</dc:title>
</cp:coreProperties>
</file>