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F9A8-CC2A-4A10-9F1F-3B3D960C5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B38E-85AB-430C-9B53-B48EB059D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C6B9-8D5D-463E-9DA8-E8948091A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822D-C074-483C-8FEC-DE0E358FC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0154-7C6F-44B1-A07A-2555F279A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625E-4931-4BCB-A3B6-115DB3831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F481-893F-4468-9A7C-BD52E11A9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CA20-D45C-4970-A04F-5C900CF7D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BF81-089F-46A1-98BE-9B2038764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2132-839D-413A-8A06-CDC8AAA3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4C16-C8E6-4D17-B701-23B82203F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013D-2AD6-46DD-A7B0-EE3EC74CF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6DA02-0C9B-462E-850C-64948D02D7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000" y="836280"/>
            <a:ext cx="882036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Meeting of the Steering Committee for the Global Plan to Stop TB 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(2006-2015)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600"/>
            </a:br>
            <a:br>
              <a:rPr sz="3600"/>
            </a:b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2 May 2005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Addis Ababa</a:t>
            </a:r>
            <a:br>
              <a:rPr sz="4400"/>
            </a:br>
            <a:br>
              <a:rPr sz="4400"/>
            </a:b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800"/>
            </a:br>
            <a:br>
              <a:rPr sz="48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331920"/>
            <a:ext cx="90298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ach WG strategic plan </a:t>
            </a:r>
            <a:br>
              <a:rPr sz="4000"/>
            </a:b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– the bottom l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758960"/>
            <a:ext cx="889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o does wha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e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t what cos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ith what impac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8893080" cy="60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Why do we need a Global Plan to Stop TB?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As a vision of what we can achieve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As a roadmap to achieve targets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As a tool for advocacy and fundraising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To support long-term national planning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To stimulate research and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8675640" cy="60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The Global Plan to Stop TB (2006-2015): who has asked for it?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Second ad hoc committee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MDGs Working Group on TB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EB 2004</a:t>
            </a: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(and WHA 2005)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Stop TB Partnership Coordinating Boar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8675640" cy="60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The Global Plan to Stop TB (2006-2015): who has asked for it?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Donors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e.g. GFATM replenishment meeting, Stockholm, 15-16 March 2005 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"better articulation of resource needs to address diseases"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Contribution of WGs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o development of plan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8120" y="1792440"/>
            <a:ext cx="87058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ctober 2004: Coordinating Board requested each WG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 its workplan (2006-2015) in contribution to the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dentify a focal point for this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dentify resource needs for pla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nsure full engagement of all stakehold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Contribution of WGs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o development of plan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8120" y="1792440"/>
            <a:ext cx="8381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ationa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The contribution of all the WGs is crucial to the successful development and implementation of the Global Pl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cess builds the "buy-in" necessary for the implementation of the Global Plan by the W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Gs stand to gain from a Global Plan with wide support (political and financial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Benefits for each WG of development of strategic pl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1413000"/>
            <a:ext cx="9144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ces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gages stakehol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larifies activities in line with strategic di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ids prioritis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dentifies resource n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du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vides a roadmap (activities, targets, timelin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ables monitoring of progress towards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elps resource mobili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eatures of WG strategic pl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322280"/>
            <a:ext cx="8893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lanning elements: objectives, targets, indicators, activities, timelines, milestones, budget, M &amp;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ment of plan is informed by epidemiological and costing proj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tegration of activities of different WGs to produce regional scen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Likely format of Global Pl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1557360"/>
            <a:ext cx="87058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xecutive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sio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hieving the targets for 2015: global and regional scenarios, R&amp;D scenarios, key strategic mess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rtnership activities to achieve the goal: WG and secretariat strategic plans, with estimated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onitoring and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johnsoneb</cp:lastModifiedBy>
  <cp:lastPrinted>2003-06-23T18:01:16Z</cp:lastPrinted>
  <dcterms:modified xsi:type="dcterms:W3CDTF">2005-05-02T10:48:21Z</dcterms:modified>
  <cp:revision>119</cp:revision>
  <dc:subject/>
  <dc:title>Africa: HIV is driving the TB epidemic TB notification rates, 1980-1998</dc:title>
</cp:coreProperties>
</file>