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9FF9-530D-46E6-870E-032A4115C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has been discussed earlier the prospect reaching for the MDG TB targets looks much more achievable in most parts of the world except for Af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roadmap complements the analytical document presented previ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B should take the following activities to enhance the importance and profile of TB as one of the leading health agenda in the 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B should launch a Stop TB Partnership for Africa to solicit unprecedented level of political commitment and multisectoral involvement at all levels to accelerate the implementation of TB control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igh level missions should initiate the discussion of mainstreaming TB into development strategies such as the PRS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TB causes an estimated  an economic loss of 4-7% of GDP annually in countries with a high burden of TB.  Likewise, the global cost of TB is estimated to be US$13 billion a year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Therefore, it needs to be mainstreamed in the development agenda of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DA35-0331-46C2-A279-05EAE4892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FF24-CF35-4CFC-9777-8F11A376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A3C2-3A48-4E69-B082-3D670C7F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A593-A513-412C-99D2-3095CD202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41ED-F452-4F3A-A09B-DC93E9CD0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D46B-9AE7-4245-806A-0DD1D810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20D5-2E73-4210-944C-F614176F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1412-0EC6-4489-B34A-C069F6EC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C319-8DB6-4B9B-B3C9-72FA871A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4C80-A59F-4F70-88BF-50712B01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F80D-0237-47BC-8377-2E854DD4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4C0D-4DE0-4488-BBC5-E4251E9B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A7F2-C7B7-4332-B7A1-E218137D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DA1E-181A-4542-824B-BC7364AE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4701-FA77-444C-87E5-4459F684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D2F5-47FD-4874-A3B0-EDE6F24D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A23B-A5EB-4660-BF99-A5743F256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C5A1-048A-4AE2-AF77-8DD99BD9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117B-55E4-4F64-8805-F602B343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38A3-6495-4507-9B0F-CBF72AAD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4152-7969-4EE7-B41B-06B0ED5A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FE39-E80C-4A9A-8AB0-331D9958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EE70-84DD-439E-B9CF-490B517E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BD4B-0945-4CBC-87C3-3249D863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3665-14DE-4972-9FCE-6EC887494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4E64-0353-482E-A77A-BFC084FB0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Berlin Sans FB Demi"/>
              </a:rPr>
              <a:t>Roadmap to intensify action to reach the TB MDGs in Africa.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Berlin Sans FB Demi"/>
              </a:rPr>
              <a:t>2005-2007</a:t>
            </a:r>
            <a:br>
              <a:rPr sz="4400"/>
            </a:br>
            <a:br>
              <a:rPr sz="44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Draft for Discu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Berlin Sans FB Demi"/>
              </a:rPr>
              <a:t> </a:t>
            </a:r>
            <a:r>
              <a:rPr b="1" lang="en-GB" sz="3600" spc="-1" strike="noStrike">
                <a:solidFill>
                  <a:srgbClr val="ffffff"/>
                </a:solidFill>
                <a:latin typeface="Berlin Sans FB Demi"/>
              </a:rPr>
              <a:t>Why the Roadma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Provide recommendations and the </a:t>
            </a:r>
            <a:r>
              <a:rPr b="0" lang="en-GB" sz="3200" spc="-1" strike="noStrike">
                <a:solidFill>
                  <a:srgbClr val="cc0000"/>
                </a:solidFill>
                <a:latin typeface="Berlin Sans FB Demi"/>
              </a:rPr>
              <a:t>provisional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 financial needs for TB control in Africa for 2005-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Calls for enhanced efforts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B of Stop TB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African leaders and policy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Donors, technical agencies and NG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2116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The Coordinating Board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Liaise with the AU and WHO/AFRO to make TB visible and to engage in NEPAD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Advocate for an AU TB resolution in the context of MD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The Chair of the CB (or his/her delegate) to regularly attend the Regional Committee (RC) of AF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Assign a focal point of the CB to engage in NEPAD related consul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The Coordinating Board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Create a  task force to establish the Stop TB Partnership for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Organise high level missions to five high burden countries and meet with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Berlin Sans FB Demi"/>
              </a:rPr>
              <a:t>heads of state</a:t>
            </a:r>
            <a:r>
              <a:rPr b="0" lang="en-GB" sz="3200" spc="-1" strike="noStrike">
                <a:solidFill>
                  <a:srgbClr val="3333cc"/>
                </a:solidFill>
                <a:latin typeface="Berlin Sans FB Dem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and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Berlin Sans FB Demi"/>
              </a:rPr>
              <a:t>ministers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Organise the next Stop TB Partners Forum in Africa in 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Berlin Sans FB Demi"/>
              </a:rPr>
              <a:t>The Coordinating Board shou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Organise an African TB financing summit to mobilise new and sustainable  financial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Reach out major institutions and bilateral agencies by meeting </a:t>
            </a:r>
            <a:r>
              <a:rPr b="0" lang="en-GB" sz="2800" spc="-1" strike="noStrike" u="sng">
                <a:solidFill>
                  <a:srgbClr val="3333cc"/>
                </a:solidFill>
                <a:uFillTx/>
                <a:latin typeface="Berlin Sans FB Demi"/>
              </a:rPr>
              <a:t>heads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of  the instit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ntinue supporting the Global Drug Fac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African governments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Mainstream TB in their development agen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PR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SW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HIP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Strengthen TB control through DOTS and address health system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increase access to quality diagnosis and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Strengthen community involvement in TB and TB/H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Enhance engagement of NGOs and private s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Enhance local drug manufacturing and procur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Implement collaborative TB/HIV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Interim Policy on Collaborative TB/HIV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Establish National Stop TB Partner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 Demi"/>
              </a:rPr>
              <a:t>Major donors, technical agencies and NGOs  shou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Support the proposed African TB financing summ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ntinue and increase support for Stop TB Partners working in Af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ordinate their national level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HIV/AIDS NGOs should embrace TB as one of their main work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Berlin Sans FB Demi"/>
              </a:rPr>
              <a:t>Estimated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erlin Sans FB Demi"/>
              </a:rPr>
              <a:t>For the Coordinating Board= 1.5 mill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erlin Sans FB Demi"/>
              </a:rPr>
              <a:t>For African countries=  1, 140 mill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0000"/>
                </a:solidFill>
                <a:latin typeface="Berlin Sans FB Demi"/>
              </a:rPr>
              <a:t>Provisional  figures built on the global plan II (2006-201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600" spc="-1" strike="noStrike">
                <a:solidFill>
                  <a:srgbClr val="000000"/>
                </a:solidFill>
                <a:latin typeface="Berlin Sans FB Demi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1:13:30Z</dcterms:created>
  <dc:creator>getahunh</dc:creator>
  <dc:description/>
  <dc:language>en-US</dc:language>
  <cp:lastModifiedBy>johnsoneb</cp:lastModifiedBy>
  <dcterms:modified xsi:type="dcterms:W3CDTF">2005-05-11T07:59:49Z</dcterms:modified>
  <cp:revision>37</cp:revision>
  <dc:subject/>
  <dc:title>Roadmap to intensify action to reach the TB MDGs in Africa.  2005-2007 </dc:title>
</cp:coreProperties>
</file>