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2C9E-969D-4C7A-A649-1274B93B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3CA0-29B0-401F-AF41-C0C7ED4B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4343-F9DC-4100-B2E1-F97BF7D6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D9D4-4DCC-44F3-8FEA-283B162F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D09AA-F6A0-4095-9422-90CFA12685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FA766-3573-486F-B983-ED4BC56C5D9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D70CA-4AE8-4F08-B5CB-AB6C869C7F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AC4CC7-02F6-4FE0-ABA4-A18905545C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33911-2A83-41BA-9568-22A59D1FD5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CA848-C428-4053-9CE1-73C6E781E8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7D2CA-A2BA-4504-BF12-E9ADB0D8D9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48F3-83AC-47CF-8A16-12D03DCE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67F69-B9DF-4952-8DDD-26583247E1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B448B-7F6B-4752-BA27-8A93773F66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E45ED-CEAE-48D2-B797-7BAE2AC279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B16C5-6AB2-4319-8ABD-098C308274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52A78-5B4F-4A04-A713-D7FD10E32C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E7D8-5C73-41CF-ADE9-317A9242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C60F-D726-43B0-B449-6BA8727B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50A-F5A3-4FA6-B936-2CCCCCD4B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B545-6EAE-46DD-AC91-5E7D18D6A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27C-E305-424B-A068-BC3AEC83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56D7-0078-4541-A957-27810E6C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762D-CFFB-49D2-97C5-284F7C00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4733-0412-4BD2-BD68-952E0E294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995640" y="6237000"/>
            <a:ext cx="3889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956720" y="6453000"/>
            <a:ext cx="73008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E971-6705-46AA-986D-9DFA1E7ACB8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6"/>
          </p:nvPr>
        </p:nvSpPr>
        <p:spPr>
          <a:xfrm>
            <a:off x="2700000" y="6165720"/>
            <a:ext cx="381636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Stop TB Coordinating Board Meet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Times New Roman"/>
              </a:rPr>
              <a:t>Addis Ababa, 3 – 4 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Arial"/>
              </a:rPr>
              <a:t>High Level Missions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95280" y="3885840"/>
            <a:ext cx="842472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Introducing procedures for high level advoc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5084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Dr. Karam Sh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Decis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opt Guiding Principles for the conduct of High Level Mi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Review and decide on the HLM calendar of events for 2005 - 200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ition of High Level Mission (H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ual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ing and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lenda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Definition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IGH LEVEL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Engaging prominent partners / (CB members) to represent Stop TB i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powerful political advocacy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Uses international reputation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fluences key politicians &amp; decision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Creates sustained leverage in support of Stop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Arial"/>
              </a:rPr>
              <a:t>Guidelin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making HLM more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support of countries and international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most appropriate support to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ing the most appropriate STB 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ding timely to important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suring transpa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ing the frame work for follow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Composi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ition is based on the actual purpose of the miss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ead of mission (HoM) is selected by CB on basis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ituency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level partnership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B Partnership Secretariat senior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Prepa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and HoM draft 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dorsement 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review preferably prior to H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questing party prepares form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prepares confidential brie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makes logistics arran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Arial"/>
              </a:rPr>
              <a:t>Actual visi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ead of Mission (HoM) assures quality performance and best expo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pportive attitude and diplomatic ha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structive image of S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ssigned tasks for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M is HLM spokes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is HLM rappor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Reporting and follow-up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4360" y="1600200"/>
            <a:ext cx="77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l re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 consensus of HLM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conclusions &amp;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ed-back to constitu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mitted to C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ner(s) can be invited to provide follow-up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274680"/>
            <a:ext cx="64818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LM Calendar 2005 -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68360" y="620640"/>
          <a:ext cx="7559640" cy="5981760"/>
        </p:xfrm>
        <a:graphic>
          <a:graphicData uri="http://schemas.openxmlformats.org/drawingml/2006/table">
            <a:tbl>
              <a:tblPr/>
              <a:tblGrid>
                <a:gridCol w="3816360"/>
                <a:gridCol w="1942920"/>
                <a:gridCol w="18003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/ 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iop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 Summit Kharto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East Asia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glade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ern Pacific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ra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a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zahst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be advi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Commi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s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(PEPFAR, Congress, USAI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z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3:59:03Z</dcterms:created>
  <dc:creator>steenbergeng</dc:creator>
  <dc:description/>
  <dc:language>en-US</dc:language>
  <cp:lastModifiedBy>bakerl</cp:lastModifiedBy>
  <dcterms:modified xsi:type="dcterms:W3CDTF">2005-04-27T11:03:42Z</dcterms:modified>
  <cp:revision>3</cp:revision>
  <dc:subject/>
  <dc:title>High Level Missions</dc:title>
</cp:coreProperties>
</file>