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7731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66720" y="4670280"/>
            <a:ext cx="53294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773160" y="93387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CE46-AD4A-47F4-9B79-99CA1AEB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6240" y="738360"/>
            <a:ext cx="4913280" cy="3684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Partners share a Vision and a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66B-3B55-4DBA-B614-FD4DA8BA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221B-A221-4681-9950-1762531A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B7D-587D-4310-B3F8-E6F541D8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258-F04E-4C71-BC05-0C894F9B4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17BB-4719-4E66-814B-3F58AFCC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99CA-5ABD-44EB-A1A6-1506BA12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82DC-E542-4E32-994A-6CD6FA5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9CFE-4B0F-4DC3-8D40-B57B8D12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39B7-C75E-444B-8FD3-FD20766A0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3E6F-0466-4401-9596-4D8F62A0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ED11-7CBC-43F3-9BF9-5653B1E1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52A-B2AB-49C4-B7BD-B18511A3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4A88-F506-4682-AA73-66D480EA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5792-F89E-490B-B689-C7A84C50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CDAA-EB03-497F-BD42-7101536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F4C1-8B1C-4387-A3BE-FE97B494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3A61-EB21-4054-A7A2-64B6A3A0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5027-DB7B-4179-A023-DB53C52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A8B1-D26E-4A1A-943A-28958EB5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F3D-095C-4C65-9E76-1D44D7B0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4C53-DFF5-4DE9-9153-8B5FDE87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401F-91DB-455A-A835-CC2C3A0E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7B6-5B46-4AC3-9435-66A0102C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DC1-FA6A-43E9-A9B1-A94DAD13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02D5-70AA-47D5-8306-72D4786D0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FFDA-3B9C-47C9-985D-21139E911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Arial"/>
              </a:rPr>
              <a:t>A new MOU with WHO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Irene Ko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Stop TB Coordinating Bo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Addis Abab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en-GB" sz="2400" spc="-1" strike="noStrike" baseline="30000">
                <a:solidFill>
                  <a:srgbClr val="ffffcc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 May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 we need a new M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oard is requested to discuss and decide whether a new MOU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answer is N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tatus quo is understood to preva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cisions Reques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f the answer is YES; the Board has 2 options to procee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a negotiating committee of Members to lead discussions with WH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mpower the Secretariat to undertake discussions based on the attached draf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T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y have an MOU with WH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ensure mutual understanding of the adaptations and flexibility the Secretariat needs to carry out the CB approved work pl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rity for all concerned on how to address practical issues such as staffing, external correspondence (use of logo and letterhead)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79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7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igned 2001 by WHO (DG) and STBCB (Chair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ddresses operational aspects of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D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lidity to 31</a:t>
            </a:r>
            <a:r>
              <a:rPr b="0" lang="en-GB" sz="3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July 2003 but applied until a new agreement is negotiat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ERNS WITH CURRENT M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ut of date - refers to "appointments as time-limited until mid 2003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addresses GDF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reflect the establishment of the Trust F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not fully address all relevant operational and management issues – staffing, use of logo and letterhead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gal and political asp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al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retariat hosted/housed by W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o &amp; Pub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ucture of Secretariat within STB d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ministrative burd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, monitoring and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st-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ff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ruitment of Executive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act brea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 limits and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ffing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obal Drugs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ic operating princ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agement of the G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orting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Review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nder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JOR THEMES OF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W MOU 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nancial aspect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rust F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C rates (6% for Trust Fund, 3% for dru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rect procurement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alidity of the new M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5:56:53Z</dcterms:created>
  <dc:creator>Robert Hernandez</dc:creator>
  <dc:description/>
  <dc:language>en-US</dc:language>
  <cp:lastModifiedBy>bakerl</cp:lastModifiedBy>
  <dcterms:modified xsi:type="dcterms:W3CDTF">2005-04-27T11:43:43Z</dcterms:modified>
  <cp:revision>35</cp:revision>
  <dc:subject/>
  <dc:title>Slide 1</dc:title>
</cp:coreProperties>
</file>