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404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D171A6-CA1E-4C71-B9BA-94525AE029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5272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9426600"/>
            <a:ext cx="29448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9840" y="6324480"/>
            <a:ext cx="181080" cy="39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848720" y="5867280"/>
            <a:ext cx="60948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7761240" y="5386320"/>
          <a:ext cx="1135080" cy="116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240" y="5386320"/>
                    <a:ext cx="1135080" cy="11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227640" y="5510160"/>
            <a:ext cx="820800" cy="854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3618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A propose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Arial"/>
              </a:rPr>
              <a:t>"Global Strategy to Stop TB"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9080" y="2766960"/>
            <a:ext cx="30542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4d4d4d"/>
                </a:solidFill>
                <a:latin typeface="Arial"/>
              </a:rPr>
              <a:t>Dr Mario Raviglione</a:t>
            </a:r>
            <a:br>
              <a:rPr sz="2000"/>
            </a:b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Director, STB/WH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Addis Ab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d4d4d"/>
                </a:solidFill>
                <a:latin typeface="Arial"/>
              </a:rPr>
              <a:t>3 May 20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80880" y="2214720"/>
            <a:ext cx="5454720" cy="40906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cess for launch 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720" y="2332080"/>
            <a:ext cx="7304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Preparation of peer-review publication (late 2005/early 200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Official launch date and approach – for discu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627120" y="1225440"/>
          <a:ext cx="7740720" cy="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120" y="1225440"/>
                    <a:ext cx="774072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"/>
              </a:rPr>
              <a:t>Requests to the Stop TB CB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ndorse the objectives and content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commend improvements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Endorse plan for stakeholder engagement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Consider options for launch</a:t>
            </a:r>
            <a:br>
              <a:rPr sz="3200"/>
            </a:br>
            <a:r>
              <a:rPr b="1" lang="en-GB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Arial"/>
                <a:ea typeface="Arial"/>
              </a:rPr>
              <a:t>Review progress at October CB mee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25600" y="1271520"/>
          <a:ext cx="7738920" cy="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600" y="1271520"/>
                    <a:ext cx="7738920" cy="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Objective: to introduce a proposed "Global Strategy to Stop TB" which: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541520"/>
            <a:ext cx="8451720" cy="442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Aims to ensure care for </a:t>
            </a:r>
            <a:r>
              <a:rPr b="1" lang="en-GB" sz="2400" spc="-1" strike="noStrike" u="sng">
                <a:solidFill>
                  <a:srgbClr val="000066"/>
                </a:solidFill>
                <a:uFillTx/>
                <a:latin typeface="Arial"/>
                <a:ea typeface="Arial Unicode MS"/>
              </a:rPr>
              <a:t>all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 TB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Pursues expansion of quality DOTS everyw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Accelerates progress and impact of TB control to meet the MD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sponds to needs expressed by a range of constitu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flects innovation to 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Is consistent with the Global Plan, 2006-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Links with the growing focus on health's role in poverty alleviation and in advancing human righ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87320" y="151128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1128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57240" y="57240"/>
            <a:ext cx="923940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cc3300"/>
                </a:solidFill>
                <a:latin typeface="Arial"/>
              </a:rPr>
              <a:t>The DOTS Strategy (1995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01880" y="1854360"/>
            <a:ext cx="780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Government commitment to TB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Case detection primarily by smear microscopy mostly on self-reporting symptomatic pati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Standardised short-course chemotherapy under proper case management conditions, including D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System of regular drug supp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cc3300"/>
              </a:buClr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1950"/>
                </a:solidFill>
                <a:latin typeface="Arial"/>
              </a:rPr>
              <a:t>Efficient monitoring system for programme supervision and e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3880" y="6324480"/>
            <a:ext cx="8520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49160" y="137016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37016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7840" y="274320"/>
            <a:ext cx="84344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Evolution of the WHO-recommended DOTS Strateg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9800" y="1650600"/>
            <a:ext cx="7927920" cy="438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Framework for Effective TB Control, 199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DOTS launched in 1995 and expanded over the last decade. 182 countries adopted it; 17 million treated in 1995-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Near target for treatment success (82%) and proven acceleration of case detection, but still only 45% in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While DOTS is the </a:t>
            </a:r>
            <a:r>
              <a:rPr b="1" i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conditio sine qua non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 for TB control, it does not explicitly address the new challenges: TB/HIV in Africa; MDRTB; serving the "hard-to-reach"…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 Unicode MS"/>
              </a:rPr>
              <a:t>Since 2000, TB control adaptations have begun to address such special challenges and support to R&amp;D has expanded. These should be captured in the strateg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787320" y="140652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40652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09200" y="361440"/>
            <a:ext cx="7621560" cy="1070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 Unicode MS"/>
              </a:rPr>
              <a:t>Policy and strategy documents since 2001 show evolution……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0120" y="1831680"/>
            <a:ext cx="7580520" cy="432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Global Plan to Stop TB, 2001-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O Expanded Framework to Control TB, 200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Report of the 2nd Ad-hoc Committee on TB Control, 200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Millennium Project TB Control Report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WHO EB resolution, 2004 and World Health Assembly Resolution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a50021"/>
              </a:buClr>
              <a:buFont typeface="Wingdings" charset="2"/>
              <a:buChar char="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 Unicode MS"/>
              </a:rPr>
              <a:t>Framework for the Global Plan to Stop TB, 2005-2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014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71400" y="1549440"/>
          <a:ext cx="7747200" cy="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549440"/>
                    <a:ext cx="77472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784920" y="6383160"/>
          <a:ext cx="460440" cy="47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4920" y="6383160"/>
                    <a:ext cx="46044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88840" y="34178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30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A proposed 2005-2015 </a:t>
            </a:r>
            <a:br>
              <a:rPr sz="4000"/>
            </a:br>
            <a:r>
              <a:rPr b="1" lang="en-GB" sz="4000" spc="-1" strike="noStrike">
                <a:solidFill>
                  <a:srgbClr val="cc3300"/>
                </a:solidFill>
                <a:latin typeface="Arial"/>
                <a:ea typeface="Arial Unicode MS"/>
              </a:rPr>
              <a:t>"Global Strategy to Stop TB"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8600" y="2109600"/>
            <a:ext cx="826452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ursuing quality DOTS expansion</a:t>
            </a:r>
            <a:br>
              <a:rPr sz="3600"/>
            </a:br>
            <a:br>
              <a:rPr sz="3600"/>
            </a:br>
            <a:r>
              <a:rPr b="1" lang="en-GB" sz="20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throug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Addressing TB/HIV and MDR-T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3. Contributing to health system strengthe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4. Engaging all care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5. Empowering patients and communities</a:t>
            </a:r>
            <a:r>
              <a:rPr b="1" lang="en-GB" sz="1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6. Enabling and promoting R&amp;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87320" y="1581120"/>
          <a:ext cx="7747200" cy="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581120"/>
                    <a:ext cx="7747200" cy="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6040" y="1176120"/>
            <a:ext cx="8114040" cy="53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Arial"/>
              <a:buAutoNum type="arabicPeriod"/>
              <a:tabLst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  <a:ea typeface="Arial"/>
              </a:rPr>
              <a:t>Pursuing quality DOTS expansion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and improve case detection and cure through effective patient-centered care for </a:t>
            </a:r>
            <a:r>
              <a:rPr b="1" lang="en-GB" sz="16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all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, and especially the po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16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 u="sng">
                <a:solidFill>
                  <a:srgbClr val="cc3300"/>
                </a:solidFill>
                <a:uFillTx/>
                <a:latin typeface="Arial"/>
                <a:ea typeface="Arial"/>
              </a:rPr>
              <a:t>Throug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2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Addressing TB-HIV, MDR-TB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, and other special challeng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3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Contributing to health system strengthening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by building capacity and mobilizing additional human and financial resources for implementation and impact evalu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4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ngaging all care providers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- public, non-governmental and private - to provide the International Standard of TB Care, focusing on the poores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5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mpowering patients and communities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 to demand, and contribute to, effective c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552600"/>
                <a:tab algn="l" pos="1104840"/>
                <a:tab algn="l" pos="1657440"/>
                <a:tab algn="l" pos="2209680"/>
                <a:tab algn="l" pos="2762280"/>
                <a:tab algn="l" pos="3314880"/>
                <a:tab algn="l" pos="3867120"/>
                <a:tab algn="l" pos="4419720"/>
                <a:tab algn="l" pos="4971960"/>
                <a:tab algn="l" pos="5524560"/>
                <a:tab algn="l" pos="6076800"/>
                <a:tab algn="l" pos="6629400"/>
                <a:tab algn="l" pos="7182000"/>
                <a:tab algn="l" pos="7734240"/>
                <a:tab algn="l" pos="8286840"/>
                <a:tab algn="l" pos="8839080"/>
                <a:tab algn="l" pos="9391680"/>
                <a:tab algn="l" pos="9944280"/>
                <a:tab algn="l" pos="10496520"/>
              </a:tabLst>
            </a:pP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6.  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cc3300"/>
                </a:solidFill>
                <a:latin typeface="Arial"/>
                <a:ea typeface="Arial"/>
              </a:rPr>
              <a:t>Enabling and promoting R&amp;D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en-GB" sz="1600" spc="-1" strike="noStrike">
                <a:solidFill>
                  <a:srgbClr val="000066"/>
                </a:solidFill>
                <a:latin typeface="Arial"/>
                <a:ea typeface="Arial"/>
              </a:rPr>
              <a:t>for new drugs, diagnostics and vacci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87320" y="1195560"/>
          <a:ext cx="7747200" cy="6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7320" y="1195560"/>
                    <a:ext cx="7747200" cy="6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1187280" y="6453360"/>
            <a:ext cx="460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Draft April 8,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89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A proposed 2005-2015 </a:t>
            </a:r>
            <a:br>
              <a:rPr sz="3600"/>
            </a:b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 Unicode MS"/>
              </a:rPr>
              <a:t>"Global Strategy to Stop TB"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3080" y="26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Pursuing Quality DOTS Expansion, 2005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95360" y="1092240"/>
          <a:ext cx="7715160" cy="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092240"/>
                    <a:ext cx="7715160" cy="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66560" y="1244520"/>
            <a:ext cx="860112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59000"/>
          </a:bodyPr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Political commitment with long-term planning, adequate human resources and sustainable financing to reach WHA and MDG target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Case detection through bacteriology (microscopy first, and culture/DST) and establishment of an effective laboratory network to facilitate detection of SS+, SS- and DR-  TB case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Standardized treatment under proper case management conditions, including DOT, and full patient support for all TB patients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00000"/>
              </a:lnSpc>
              <a:spcBef>
                <a:spcPts val="499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An effective and regular drug supply system </a:t>
            </a:r>
            <a:br>
              <a:rPr sz="2000"/>
            </a:b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9280" indent="-359280">
              <a:lnSpc>
                <a:spcPct val="120000"/>
              </a:lnSpc>
              <a:spcBef>
                <a:spcPts val="624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Arial"/>
              </a:rPr>
              <a:t>Efficient monitoring system for programme supervision and evaluation including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 measurement of impa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2980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786720" y="6431040"/>
          <a:ext cx="414360" cy="426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6720" y="6431040"/>
                    <a:ext cx="41436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3300"/>
                </a:solidFill>
                <a:latin typeface="Arial"/>
                <a:ea typeface="Arial"/>
              </a:rPr>
              <a:t>Process for engaging stakeholders in strategy development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14480"/>
            <a:ext cx="794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Informal dialogue and review with NTPs, staff and partners (ongoin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input from StopTB CB (May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informal feedback at WHA (May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endorsement of WHO STAG (June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Obtain engagement of national and global stakeholders via DFID-financed survey &amp; interview process (summer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spcAft>
                <a:spcPts val="300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eek final endorsement of StopTB Working Groups (Oct 05) and StopTB CB (Nov 0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15840" y="6467400"/>
            <a:ext cx="190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3300"/>
                </a:solidFill>
                <a:latin typeface="Arial"/>
                <a:ea typeface="Arial"/>
              </a:rPr>
              <a:t>Stop TB Depart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61240" y="6419880"/>
          <a:ext cx="425520" cy="43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1240" y="6419880"/>
                    <a:ext cx="42552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561960" y="1604880"/>
          <a:ext cx="7799400" cy="4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1960" y="1604880"/>
                    <a:ext cx="7799400" cy="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0T15:03:20Z</dcterms:created>
  <dc:creator>LamyQuiqueS</dc:creator>
  <dc:description/>
  <dc:language>en-US</dc:language>
  <cp:lastModifiedBy>bakerl</cp:lastModifiedBy>
  <cp:lastPrinted>2003-04-10T14:23:01Z</cp:lastPrinted>
  <dcterms:modified xsi:type="dcterms:W3CDTF">2005-04-27T13:35:34Z</dcterms:modified>
  <cp:revision>460</cp:revision>
  <dc:subject/>
  <dc:title>Progress in Global Tuberculosis Control 1995-97</dc:title>
</cp:coreProperties>
</file>