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00ED-2C3C-49CB-87D9-9026F61CE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5B98-393C-4AE9-80B9-29D3C877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BB80-9547-4483-AB40-6BE491827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19FE-F412-4489-920F-D4A937F0D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0080-7B79-4456-9804-A9FDA4EE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CA63-08E8-4B76-A5C2-995FD668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3D0D-EEB9-44BD-AC86-D0E365EF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40D6-0B64-4029-A455-59913A4F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05DB-D3F1-48A9-B757-051F42A7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F065-9A2A-4485-A6BB-4133EFF1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2DE6-76A5-4C3D-86CF-9ABAF297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61D7-6A7D-4DB8-887C-6C14898A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E7F8-98E3-415D-B3BB-D1F76CB3A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43280" y="1268280"/>
            <a:ext cx="5400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Strategic Plan 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Stop TB Working Group on DOTS-Plus for MDR-TB</a:t>
            </a:r>
            <a:br>
              <a:rPr sz="3200"/>
            </a:b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ing of the Steering Committee for the Global Plan to Stop TB (2006-2015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s Ababa, 2 May 2005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lma E. Tupasi, MD, Acting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348300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0" y="1484280"/>
          <a:ext cx="9144000" cy="506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84280"/>
                    <a:ext cx="914400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Total MDR-TB patients to be treated under DOTS-Plus (thousand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-39600" y="1300320"/>
          <a:ext cx="9080280" cy="514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00" y="1300320"/>
                    <a:ext cx="908028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Cost per MDR-TB patient tre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324000" y="1530360"/>
          <a:ext cx="8208720" cy="513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530360"/>
                    <a:ext cx="8208720" cy="51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40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Resources needed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DOTS-Plus country activity costs 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2006-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280680" y="2371680"/>
            <a:ext cx="4672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otal: US$ 5,3 bil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Resources needed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DOTS-Plus global coordination costs, 2006-2015, 60 mill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900000" y="2022480"/>
          <a:ext cx="7201080" cy="4430880"/>
        </p:xfrm>
        <a:graphic>
          <a:graphicData uri="http://schemas.openxmlformats.org/drawingml/2006/table">
            <a:tbl>
              <a:tblPr/>
              <a:tblGrid>
                <a:gridCol w="6164280"/>
                <a:gridCol w="1036800"/>
              </a:tblGrid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on and management of the Working 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ansion and strengthening of DRS and DOTS-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and Regional GLC operation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y buil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cy developmen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on of the global supranational laboratory net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-line drug management and prequal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ocacy, communication and social mobil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 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DOTS-Plus impa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895,000 MDR-TB patients receiving adequate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660,000 MDR-TB patient successfully t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Half a million MDR-TB deaths ave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DOTS/DOTS-Plus impa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Reduction in previously treated patients from </a:t>
            </a:r>
            <a:br>
              <a:rPr sz="2800"/>
            </a:b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19% to 15% of all confirmed TB c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Decrease in MDR-TB prevalence by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Monito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5920" y="1495440"/>
            <a:ext cx="425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pidemiology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O/IUATLD DRS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Laboratory performanc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NRL and NR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OTS-Plus performanc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GLC and WH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-line drug us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ventory of public and private sector drug use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e-qualification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Global coordination activities and cost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king Grou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0" y="1484280"/>
            <a:ext cx="4248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pidemiology and 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OTS-Plus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TS-Plus recording and reporting included in DO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DR-TB notifications and DOTS-Plus outcomes part of Global Tuberculosis Control Re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A provided as one package (DOTS/DOTS-Plu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Key risk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ck of political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suse and low quality of second-line drugs resulting in the creation of strains resistant to all known anti-TB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DR-TB and HIV/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alified human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nci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 health infrastructure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especially laboratory capac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zation and management of health care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9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Process for developing the 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strategic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lanning workshop in Montreux, March 2005 discussions on epidemiological scenarios wit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808080"/>
                </a:solidFill>
                <a:latin typeface="Arial"/>
              </a:rPr>
              <a:t>DOTS-Expansion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808080"/>
                </a:solidFill>
                <a:latin typeface="Arial"/>
              </a:rPr>
              <a:t>Laboratory strengthening sub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808080"/>
                </a:solidFill>
                <a:latin typeface="Arial"/>
              </a:rPr>
              <a:t>Diagnostic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elephone conferences with WHO Regional Offices on epidemiological scenar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iscussion on epidemiological scenarios, cost and impact at 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ad hoc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DOTS-Plus strategy meeting, 18-19 April 200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MDR-TB control – </a:t>
            </a:r>
            <a:br>
              <a:rPr sz="4000"/>
            </a:b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political and technical moment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1639800"/>
            <a:ext cx="80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Expanded DOTS Framework 20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GFATM and GLC agreement 20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2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ad ho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Committee on the TB Epidemic 200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B 2004 and WHA 20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vised WHO treatment guideli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w vision of TB contro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ternational Standards of TB 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w DOTS-Plus guide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apid expansion of DOTS-Plus as routine components of TB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9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Vision 2006-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Drug resistance surveillance and DOTS-Plus integrated as routine components of TB control providing access to diagnosis and treatment for all TB patients and by all health care provider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97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pansion of DRSData on the global magnitude and trends of MDR-TB, and on the relationship between MDR-TB and HIV/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ansion of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equate treatment of all detected MDR-TB pat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lity-assured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line drug production in high MDR-TB burden countries and further reduction of prices of second-line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coordination, collaboration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DST expa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201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lobally, all previously treated cas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astern Europe, also all new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atin America, Southeast Asia and Western Pacific, also 20% of targeted new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1619280" y="3435480"/>
          <a:ext cx="5616720" cy="3313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3435480"/>
                    <a:ext cx="561672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908000" y="3573360"/>
            <a:ext cx="504036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xample of DST expansion - Western Pacific Reg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DOTS-Plus expa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2015: Treatment with quality-assured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line drugs to all detected MDR-TB patients following WHO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timated number of culture-positive MDR-TB patients under DOTS-Pl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808080"/>
                </a:solidFill>
                <a:latin typeface="Arial"/>
              </a:rPr>
              <a:t>2005: 4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808080"/>
                </a:solidFill>
                <a:latin typeface="Arial"/>
              </a:rPr>
              <a:t>2010: 24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808080"/>
                </a:solidFill>
                <a:latin typeface="Arial"/>
              </a:rPr>
              <a:t>2015: 66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most 1 million MDR-TB patients treated under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TS-Plus, 2006-20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DOTS-Plus expansion Eastern 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1177920" y="1768320"/>
          <a:ext cx="6462720" cy="4692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7920" y="1768320"/>
                    <a:ext cx="6462720" cy="46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5280" y="1386000"/>
            <a:ext cx="8353440" cy="53560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MDR-TB patients to be treated per year under DOTS-P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2:34:42Z</dcterms:created>
  <dc:creator>Eva Nathanson</dc:creator>
  <dc:description/>
  <dc:language>en-US</dc:language>
  <cp:lastModifiedBy>johnsoneb</cp:lastModifiedBy>
  <dcterms:modified xsi:type="dcterms:W3CDTF">2005-05-02T05:31:43Z</dcterms:modified>
  <cp:revision>75</cp:revision>
  <dc:subject/>
  <dc:title>Slide 1</dc:title>
</cp:coreProperties>
</file>