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73B-6AF1-4E2B-B130-306E01F83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229-FD1B-48CB-8807-C2A91856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5432-C334-4A86-81E1-014D42C13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9A8-6483-4261-9114-F3F8973A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F7C-DE51-4DD5-9F58-E7E682BE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5C0-F49F-4B1F-A57B-66F042A4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3B7C-7F54-4DAC-A0D2-1E5533FC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20B2-ECAF-4EF8-9E91-703ACF8D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035-C7EC-43B4-936D-13E5C1EB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C70-FB29-48C1-9498-C74366FC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F00-CE19-4DAD-AB2A-CC18EA76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DD1-8AAF-42EA-BF8B-80C25BD0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9206-C8E8-4381-BE60-CEF0AB678F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-8 Recommended Ac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pidly develop more robust number for TB funding need/gap based on GP 2 to be referenced in G-8 Commu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for communique on “closing the funding gap for TB control” and “supporting convening of Emergency African TB Financing Summit and monitoring of implementation of the Road Map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B and NGO support for above to G-8 and other don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 to Ethiopian PM to attend G-8 and  become champion for TB in Africa, make the case for intensified action for TB in Africa and financing the Road Ma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sible NGO efforts associated with ActionAid effor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Engagement of World Lead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ternational Community—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lear presentation of GP2 resource needs before June—for G-8, GFATM Repl. Mtgs. Fair shares? Country/regional focu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M plan for GP2??????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 ID set of 7-8 RM priority donor countries (and multilaterals) with 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 for CB efforts, regular support for NGO country efforts—ID targets, support adv. capacity, media, visits.  Coordinated effort on ML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ries of focused advocacy docs from GP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ID strategic TB champions and make specific requests—Mandela, Tutu, Sachs. Prioritize global leaders/for a—EU, WB, AU, Other Regional Summi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BC Country lev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oritize key HBCs—Africa, other priorities—ID core set of partners for each country, CB missions, NGO capa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ecific plan for reaching 2-3 national leaders in target HB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se for Eco Impact of TB (WB to undertak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rget Ev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 Summ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-8 (Ethiopian P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pt. GFATM Replenishment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DG Summit—ID some champions for 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F January 2006 release of GP2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a—op-ed HG/Mand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chs/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05:08:08Z</dcterms:created>
  <dc:creator>Geoff</dc:creator>
  <dc:description/>
  <dc:language>en-US</dc:language>
  <cp:lastModifiedBy>johnsoneb</cp:lastModifiedBy>
  <dcterms:modified xsi:type="dcterms:W3CDTF">2005-05-04T12:45:32Z</dcterms:modified>
  <cp:revision>4</cp:revision>
  <dc:subject/>
  <dc:title>G-8 Recommended Actions</dc:title>
</cp:coreProperties>
</file>