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43BA-50DC-4857-88C3-142494D0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E305-7B02-4E8D-A882-B6323FB9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1A0-30E1-4F61-8CE7-1F39F186F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DFE-8A24-432A-B079-3982925E3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966-980F-48A1-926C-FCE135E3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2BC-779B-42A9-B31A-73366143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DE3D-8685-4DDA-9F54-9C6C107A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F2C-432C-4F9D-A915-10B95192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FCC3-0E5F-4917-A84E-FD131E0E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89B-E294-430F-AFCC-8BAEC1D7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FFA6-79F1-4EB2-A9B8-DF063347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327C-3A55-437D-9B22-464DBBA7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5359-1E75-4099-B283-B6386163BC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ixed feelings about DOTS</a:t>
            </a:r>
            <a:br>
              <a:rPr sz="4400"/>
            </a:br>
            <a:br>
              <a:rPr sz="32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MS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3/05/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irectly Observed Therapy</a:t>
            </a:r>
            <a:br>
              <a:rPr sz="40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ssential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DOT alone vs Self Administered Treatment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lack of evidence (Cochrane review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Feasibility?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6 month regi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ARV/AIDS experience- 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Active role of the pat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99880" y="2444760"/>
          <a:ext cx="8668080" cy="154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444760"/>
                    <a:ext cx="866808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04920" y="502920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drugs for 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Arial"/>
              </a:rPr>
              <a:t>No WHO pre-qualified 2nd line drugs</a:t>
            </a:r>
            <a:r>
              <a:rPr b="0" lang="fr-FR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457200"/>
            <a:ext cx="723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Supply of essential drug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Arial"/>
              </a:rPr>
              <a:t>Room for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80880" y="3505320"/>
          <a:ext cx="8483760" cy="143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505320"/>
                    <a:ext cx="8483760" cy="14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28600" y="685800"/>
            <a:ext cx="868680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Monitoring/ Evalu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ata Collection has its own challe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28195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eatment outcomes in projects supported by MS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achieved a lo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TS has evol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B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Brand ambigu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Ex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cognise difficul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ffff"/>
                </a:solidFill>
                <a:latin typeface="Arial"/>
              </a:rPr>
              <a:t>What we have is not enough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agnostic tools for smear -, extra-pulmonary and childr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horter treatment, new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versify adherence strateg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Vacc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Achievements and Limitat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chiev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Ambiguities with brand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Arial"/>
              </a:rPr>
              <a:t>Difficulties and limitat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Observations and data from ou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Discuss recent controversy over DO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rder to Cha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egimes, procurement, repor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ocussed attention from Governments and Don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Political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DOTS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  <a:ea typeface="Arial"/>
              </a:rPr>
              <a:t>® </a:t>
            </a: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Ambiguiti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Same br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Different compon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762120"/>
            <a:ext cx="8589960" cy="57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“at least” all smear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essential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(smear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(199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762120"/>
            <a:ext cx="858996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commi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tection by sputum microscopy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(QC)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X-ray, cultures and D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ard short course chemotherapy and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der DOT by HCW,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family, community,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 all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cas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68560" indent="-71136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DRTB treat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interrupted supply of </a:t>
            </a:r>
            <a:r>
              <a:rPr b="1" lang="en-GB" sz="2800" spc="-1" strike="noStrike">
                <a:solidFill>
                  <a:srgbClr val="00ffff"/>
                </a:solidFill>
                <a:latin typeface="Arial"/>
              </a:rPr>
              <a:t>drugs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quality assured, FDC, 2</a:t>
            </a:r>
            <a:r>
              <a:rPr b="0" lang="en-GB" sz="2400" spc="-1" strike="noStrike" baseline="30000">
                <a:solidFill>
                  <a:srgbClr val="00ffff"/>
                </a:solidFill>
                <a:latin typeface="Arial"/>
              </a:rPr>
              <a:t>nd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 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cording and reporting systems </a:t>
            </a:r>
            <a:r>
              <a:rPr b="0" lang="en-GB" sz="2400" spc="-1" strike="noStrike">
                <a:solidFill>
                  <a:srgbClr val="00ffff"/>
                </a:solidFill>
                <a:latin typeface="Arial"/>
              </a:rPr>
              <a:t>enabling outcome assessment of each patients, incorporating culture and DST 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The 5 pillars </a:t>
            </a:r>
            <a:r>
              <a:rPr b="1" lang="en-GB" sz="3600" spc="-1" strike="noStrike">
                <a:solidFill>
                  <a:srgbClr val="00ffff"/>
                </a:solidFill>
                <a:latin typeface="Arial"/>
              </a:rPr>
              <a:t>(200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Some of our difficulties with TB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98440" y="3346560"/>
          <a:ext cx="8601120" cy="17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3346560"/>
                    <a:ext cx="8601120" cy="17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533520" y="228600"/>
            <a:ext cx="8001000" cy="20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00"/>
                </a:solidFill>
                <a:latin typeface="Arial"/>
              </a:rPr>
              <a:t>Case detection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Exclusio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13,323 patients in 52 projects supported by MSF 200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26668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Proportions 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1828800"/>
          <a:ext cx="8382240" cy="44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822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304920" y="22860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Standard SCC</a:t>
            </a:r>
            <a:br>
              <a:rPr sz="4400"/>
            </a:br>
            <a:r>
              <a:rPr b="1" lang="fr-FR" sz="3200" spc="-1" strike="noStrike">
                <a:solidFill>
                  <a:srgbClr val="00ffff"/>
                </a:solidFill>
                <a:latin typeface="Arial"/>
              </a:rPr>
              <a:t>Does one size fit al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1:38:51Z</dcterms:created>
  <dc:creator>MSFuser</dc:creator>
  <dc:description/>
  <dc:language>en-US</dc:language>
  <cp:lastModifiedBy>MSFUser</cp:lastModifiedBy>
  <dcterms:modified xsi:type="dcterms:W3CDTF">2005-05-04T13:03:37Z</dcterms:modified>
  <cp:revision>25</cp:revision>
  <dc:subject/>
  <dc:title>DOTS: The 5 pillars (1995)</dc:title>
</cp:coreProperties>
</file>