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png" ContentType="image/png"/>
  <Override PartName="/ppt/media/image4.jpeg" ContentType="image/jpeg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914040" y="744120"/>
            <a:ext cx="49640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07920" y="4714560"/>
            <a:ext cx="498168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B5562F0-1E53-4420-B241-B1741C38452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07920" y="4714560"/>
            <a:ext cx="49816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819840" y="6324480"/>
            <a:ext cx="181080" cy="39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7848720" y="5867280"/>
            <a:ext cx="609480" cy="581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8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7761240" y="5386320"/>
          <a:ext cx="1135080" cy="1166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61240" y="5386320"/>
                    <a:ext cx="1135080" cy="11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6227640" y="5510160"/>
            <a:ext cx="820800" cy="8542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0" y="36180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3300"/>
                </a:solidFill>
                <a:latin typeface="Arial"/>
              </a:rPr>
              <a:t>A proposed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3300"/>
                </a:solidFill>
                <a:latin typeface="Arial"/>
              </a:rPr>
              <a:t>"Global Strategy to Stop TB"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869080" y="2766960"/>
            <a:ext cx="305424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4d4d4d"/>
                </a:solidFill>
                <a:latin typeface="Arial"/>
              </a:rPr>
              <a:t>Dr Mario Raviglione</a:t>
            </a:r>
            <a:br>
              <a:rPr sz="2000"/>
            </a:br>
            <a:r>
              <a:rPr b="1" lang="en-GB" sz="1800" spc="-1" strike="noStrike">
                <a:solidFill>
                  <a:srgbClr val="4d4d4d"/>
                </a:solidFill>
                <a:latin typeface="Arial"/>
              </a:rPr>
              <a:t>Director, STB/WH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4d4d4d"/>
                </a:solidFill>
                <a:latin typeface="Arial"/>
              </a:rPr>
              <a:t>Addis Abeb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4d4d4d"/>
                </a:solidFill>
                <a:latin typeface="Arial"/>
              </a:rPr>
              <a:t>3 May 200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380880" y="2214720"/>
            <a:ext cx="5454720" cy="4090680"/>
          </a:xfrm>
          <a:prstGeom prst="rect">
            <a:avLst/>
          </a:prstGeom>
          <a:ln w="57240">
            <a:solidFill>
              <a:srgbClr val="ff99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  <a:ea typeface="Arial"/>
              </a:rPr>
              <a:t>Process for launch 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80720" y="2332080"/>
            <a:ext cx="7304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  <a:ea typeface="Arial"/>
              </a:rPr>
              <a:t>Preparation of peer-review publication (late 2005/early 2006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  <a:ea typeface="Arial"/>
              </a:rPr>
              <a:t>Official launch date and approach – for discu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15840" y="64674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  <a:ea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6861240" y="6419880"/>
          <a:ext cx="425520" cy="438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61240" y="6419880"/>
                    <a:ext cx="42552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2" name=""/>
          <p:cNvGraphicFramePr/>
          <p:nvPr/>
        </p:nvGraphicFramePr>
        <p:xfrm>
          <a:off x="627120" y="1225440"/>
          <a:ext cx="7740720" cy="42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27120" y="1225440"/>
                    <a:ext cx="7740720" cy="4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3300"/>
                </a:solidFill>
                <a:latin typeface="Arial"/>
                <a:ea typeface="Arial"/>
              </a:rPr>
              <a:t>Requests to the Stop TB CB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cc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  <a:ea typeface="Arial"/>
              </a:rPr>
              <a:t>Endorse the objectives and content</a:t>
            </a:r>
            <a:br>
              <a:rPr sz="3200"/>
            </a:b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cc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  <a:ea typeface="Arial"/>
              </a:rPr>
              <a:t>Recommend improvements</a:t>
            </a:r>
            <a:br>
              <a:rPr sz="3200"/>
            </a:b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cc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  <a:ea typeface="Arial"/>
              </a:rPr>
              <a:t>Endorse plan for stakeholder engagement</a:t>
            </a:r>
            <a:br>
              <a:rPr sz="3200"/>
            </a:b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cc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  <a:ea typeface="Arial"/>
              </a:rPr>
              <a:t>Consider options for launch</a:t>
            </a:r>
            <a:br>
              <a:rPr sz="3200"/>
            </a:b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cc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  <a:ea typeface="Arial"/>
              </a:rPr>
              <a:t>Review progress at October CB meet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215840" y="64674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  <a:ea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6861240" y="6419880"/>
          <a:ext cx="425520" cy="438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61240" y="6419880"/>
                    <a:ext cx="42552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9" name=""/>
          <p:cNvGraphicFramePr/>
          <p:nvPr/>
        </p:nvGraphicFramePr>
        <p:xfrm>
          <a:off x="525600" y="1271520"/>
          <a:ext cx="7738920" cy="44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5600" y="1271520"/>
                    <a:ext cx="7738920" cy="4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cc3300"/>
                </a:solidFill>
                <a:latin typeface="Arial"/>
                <a:ea typeface="Arial Unicode MS"/>
              </a:rPr>
              <a:t>Objective: to introduce a proposed "Global Strategy to Stop TB" which: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14000" y="1541520"/>
            <a:ext cx="8451720" cy="442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  <a:ea typeface="Arial Unicode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Wingdings" charset="2"/>
              <a:buChar char=""/>
              <a:tabLst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Aims to ensure care for </a:t>
            </a:r>
            <a:r>
              <a:rPr b="1" lang="en-GB" sz="2400" spc="-1" strike="noStrike" u="sng">
                <a:solidFill>
                  <a:srgbClr val="000066"/>
                </a:solidFill>
                <a:uFillTx/>
                <a:latin typeface="Arial"/>
                <a:ea typeface="Arial Unicode MS"/>
              </a:rPr>
              <a:t>all</a:t>
            </a: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 TB pati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Wingdings" charset="2"/>
              <a:buChar char=""/>
              <a:tabLst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Pursues expansion of quality DOTS everywhe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Wingdings" charset="2"/>
              <a:buChar char=""/>
              <a:tabLst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Accelerates progress and impact of TB control to meet the MDG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Wingdings" charset="2"/>
              <a:buChar char=""/>
              <a:tabLst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Responds to needs expressed by a range of constituenc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Wingdings" charset="2"/>
              <a:buChar char=""/>
              <a:tabLst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Reflects innovation to da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Wingdings" charset="2"/>
              <a:buChar char=""/>
              <a:tabLst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Is consistent with the Global Plan, 2006-201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Wingdings" charset="2"/>
              <a:buChar char=""/>
              <a:tabLst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Links with the growing focus on health's role in poverty alleviation and in advancing human righ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201440" y="64674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  <a:ea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787320" y="1511280"/>
          <a:ext cx="7747200" cy="4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511280"/>
                    <a:ext cx="7747200" cy="4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" name=""/>
          <p:cNvGraphicFramePr/>
          <p:nvPr/>
        </p:nvGraphicFramePr>
        <p:xfrm>
          <a:off x="6784920" y="6383160"/>
          <a:ext cx="460440" cy="474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84920" y="6383160"/>
                    <a:ext cx="460440" cy="47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-57240" y="57240"/>
            <a:ext cx="9239400" cy="11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800" spc="-1" strike="noStrike">
                <a:solidFill>
                  <a:srgbClr val="cc3300"/>
                </a:solidFill>
                <a:latin typeface="Arial"/>
              </a:rPr>
              <a:t>The DOTS Strategy (1995)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001880" y="1854360"/>
            <a:ext cx="78073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20000"/>
              </a:lnSpc>
              <a:spcBef>
                <a:spcPts val="751"/>
              </a:spcBef>
              <a:buClr>
                <a:srgbClr val="cc3300"/>
              </a:buClr>
              <a:buFont typeface="Monotype Sort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1950"/>
                </a:solidFill>
                <a:latin typeface="Arial"/>
              </a:rPr>
              <a:t>Government commitment to TB contro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51"/>
              </a:spcBef>
              <a:buClr>
                <a:srgbClr val="cc3300"/>
              </a:buClr>
              <a:buFont typeface="Monotype Sort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1950"/>
                </a:solidFill>
                <a:latin typeface="Arial"/>
              </a:rPr>
              <a:t>Case detection primarily by smear microscopy mostly on self-reporting symptomatic pati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51"/>
              </a:spcBef>
              <a:buClr>
                <a:srgbClr val="cc3300"/>
              </a:buClr>
              <a:buFont typeface="Monotype Sort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1950"/>
                </a:solidFill>
                <a:latin typeface="Arial"/>
              </a:rPr>
              <a:t>Standardised short-course chemotherapy under proper case management conditions, including DO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51"/>
              </a:spcBef>
              <a:buClr>
                <a:srgbClr val="cc3300"/>
              </a:buClr>
              <a:buFont typeface="Monotype Sort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1950"/>
                </a:solidFill>
                <a:latin typeface="Arial"/>
              </a:rPr>
              <a:t>System of regular drug supp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51"/>
              </a:spcBef>
              <a:buClr>
                <a:srgbClr val="cc3300"/>
              </a:buClr>
              <a:buFont typeface="Monotype Sort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1950"/>
                </a:solidFill>
                <a:latin typeface="Arial"/>
              </a:rPr>
              <a:t>Efficient monitoring system for programme supervision and evalu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23880" y="6324480"/>
            <a:ext cx="85201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         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749160" y="1370160"/>
          <a:ext cx="7747200" cy="60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9160" y="1370160"/>
                    <a:ext cx="7747200" cy="6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"/>
          <p:cNvSpPr/>
          <p:nvPr/>
        </p:nvSpPr>
        <p:spPr>
          <a:xfrm>
            <a:off x="7215840" y="64674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  <a:ea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6861240" y="6419880"/>
          <a:ext cx="425520" cy="4381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61240" y="6419880"/>
                    <a:ext cx="42552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7840" y="274320"/>
            <a:ext cx="84344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cc3300"/>
                </a:solidFill>
                <a:latin typeface="Arial"/>
                <a:ea typeface="Arial Unicode MS"/>
              </a:rPr>
              <a:t>Evolution of the WHO-recommended DOTS Strategy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39800" y="1650600"/>
            <a:ext cx="7927920" cy="4381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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  <a:ea typeface="Arial Unicode MS"/>
              </a:rPr>
              <a:t>Framework for Effective TB Control, 199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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  <a:ea typeface="Arial Unicode MS"/>
              </a:rPr>
              <a:t>DOTS launched in 1995 and expanded over the last decade. 182 countries adopted it; 17 million treated in 1995-2003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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  <a:ea typeface="Arial Unicode MS"/>
              </a:rPr>
              <a:t>Near target for treatment success (82%) and proven acceleration of case detection, but still only 45% in 200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5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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  <a:ea typeface="Arial Unicode MS"/>
              </a:rPr>
              <a:t>While DOTS is the </a:t>
            </a:r>
            <a:r>
              <a:rPr b="1" i="1" lang="en-GB" sz="2000" spc="-1" strike="noStrike">
                <a:solidFill>
                  <a:srgbClr val="000066"/>
                </a:solidFill>
                <a:latin typeface="Arial"/>
                <a:ea typeface="Arial Unicode MS"/>
              </a:rPr>
              <a:t>conditio sine qua non</a:t>
            </a:r>
            <a:r>
              <a:rPr b="1" lang="en-GB" sz="2000" spc="-1" strike="noStrike">
                <a:solidFill>
                  <a:srgbClr val="000066"/>
                </a:solidFill>
                <a:latin typeface="Arial"/>
                <a:ea typeface="Arial Unicode MS"/>
              </a:rPr>
              <a:t> for TB control, it does not explicitly address the new challenges: TB/HIV in Africa; MDRTB; serving the "hard-to-reach"….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5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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  <a:ea typeface="Arial Unicode MS"/>
              </a:rPr>
              <a:t>Since 2000, TB control adaptations have begun to address such special challenges and support to R&amp;D has expanded. These should be captured in the strategy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201440" y="64674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  <a:ea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787320" y="1406520"/>
          <a:ext cx="7747200" cy="4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406520"/>
                    <a:ext cx="7747200" cy="4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6784920" y="6383160"/>
          <a:ext cx="460440" cy="474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84920" y="6383160"/>
                    <a:ext cx="460440" cy="47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09200" y="361440"/>
            <a:ext cx="7621560" cy="1070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cc3300"/>
                </a:solidFill>
                <a:latin typeface="Arial"/>
                <a:ea typeface="Arial Unicode MS"/>
              </a:rPr>
              <a:t>Policy and strategy documents since 2001 show evolution……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90120" y="1831680"/>
            <a:ext cx="7580520" cy="432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Font typeface="Wingdings" charset="2"/>
              <a:buChar char="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Global Plan to Stop TB, 2001-200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a50021"/>
              </a:buClr>
              <a:buFont typeface="Wingdings" charset="2"/>
              <a:buChar char="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WHO Expanded Framework to Control TB, 2002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a50021"/>
              </a:buClr>
              <a:buFont typeface="Wingdings" charset="2"/>
              <a:buChar char="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Report of the 2nd Ad-hoc Committee on TB Control, 200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a50021"/>
              </a:buClr>
              <a:buFont typeface="Wingdings" charset="2"/>
              <a:buChar char="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Millennium Project TB Control Report, 200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a50021"/>
              </a:buClr>
              <a:buFont typeface="Wingdings" charset="2"/>
              <a:buChar char="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WHO EB resolution, 2004 and World Health Assembly Resolution, 200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a50021"/>
              </a:buClr>
              <a:buFont typeface="Wingdings" charset="2"/>
              <a:buChar char="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Framework for the Global Plan to Stop TB, 2005-201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201440" y="64674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  <a:ea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671400" y="1549440"/>
          <a:ext cx="7747200" cy="4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1400" y="1549440"/>
                    <a:ext cx="7747200" cy="4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" name=""/>
          <p:cNvGraphicFramePr/>
          <p:nvPr/>
        </p:nvGraphicFramePr>
        <p:xfrm>
          <a:off x="6784920" y="6383160"/>
          <a:ext cx="460440" cy="474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84920" y="6383160"/>
                    <a:ext cx="460440" cy="47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888840" y="34178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43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3300"/>
                </a:solidFill>
                <a:latin typeface="Arial"/>
                <a:ea typeface="Arial Unicode MS"/>
              </a:rPr>
              <a:t>A proposed 2005-2015 </a:t>
            </a:r>
            <a:br>
              <a:rPr sz="4000"/>
            </a:br>
            <a:r>
              <a:rPr b="1" lang="en-GB" sz="4000" spc="-1" strike="noStrike">
                <a:solidFill>
                  <a:srgbClr val="cc3300"/>
                </a:solidFill>
                <a:latin typeface="Arial"/>
                <a:ea typeface="Arial Unicode MS"/>
              </a:rPr>
              <a:t>"Global Strategy to Stop TB"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88600" y="2109600"/>
            <a:ext cx="8264520" cy="4190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cc3300"/>
              </a:buClr>
              <a:buFont typeface="Arial"/>
              <a:buAutoNum type="arabicPeriod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  <a:ea typeface="Arial"/>
              </a:rPr>
              <a:t>Pursuing quality DOTS expansion</a:t>
            </a:r>
            <a:br>
              <a:rPr sz="3600"/>
            </a:br>
            <a:br>
              <a:rPr sz="3600"/>
            </a:br>
            <a:r>
              <a:rPr b="1" lang="en-GB" sz="2000" spc="-1" strike="noStrike" u="sng">
                <a:solidFill>
                  <a:srgbClr val="cc3300"/>
                </a:solidFill>
                <a:uFillTx/>
                <a:latin typeface="Arial"/>
                <a:ea typeface="Arial"/>
              </a:rPr>
              <a:t>throug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AutoNum type="arabicPeriod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  <a:ea typeface="Arial"/>
              </a:rPr>
              <a:t>Addressing TB/HIV and MDR-T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  <a:ea typeface="Arial"/>
              </a:rPr>
              <a:t>3. Contributing to health system strengthen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  <a:ea typeface="Arial"/>
              </a:rPr>
              <a:t>4. Engaging all care provid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  <a:ea typeface="Arial"/>
              </a:rPr>
              <a:t>5. Empowering patients and communities</a:t>
            </a:r>
            <a:r>
              <a:rPr b="1" lang="en-GB" sz="1000" spc="-1" strike="noStrike">
                <a:solidFill>
                  <a:srgbClr val="000066"/>
                </a:solidFill>
                <a:latin typeface="Arial"/>
                <a:ea typeface="Arial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  <a:ea typeface="Arial"/>
              </a:rPr>
              <a:t>6. Enabling and promoting R&amp;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215840" y="64674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  <a:ea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787320" y="1581120"/>
          <a:ext cx="7747200" cy="6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581120"/>
                    <a:ext cx="7747200" cy="6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" name=""/>
          <p:cNvGraphicFramePr/>
          <p:nvPr/>
        </p:nvGraphicFramePr>
        <p:xfrm>
          <a:off x="6861240" y="6419880"/>
          <a:ext cx="425520" cy="4381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61240" y="6419880"/>
                    <a:ext cx="42552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536040" y="1176120"/>
            <a:ext cx="8114040" cy="532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335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cc3300"/>
              </a:buClr>
              <a:buFont typeface="Arial"/>
              <a:buAutoNum type="arabicPeriod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3200" spc="-1" strike="noStrike">
                <a:solidFill>
                  <a:srgbClr val="cc3300"/>
                </a:solidFill>
                <a:latin typeface="Arial"/>
                <a:ea typeface="Arial"/>
              </a:rPr>
              <a:t>Pursuing quality DOTS expansion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en-GB" sz="1600" spc="-1" strike="noStrike">
                <a:solidFill>
                  <a:srgbClr val="000066"/>
                </a:solidFill>
                <a:latin typeface="Arial"/>
                <a:ea typeface="Arial"/>
              </a:rPr>
              <a:t>and improve case detection and cure through effective patient-centered care for </a:t>
            </a:r>
            <a:r>
              <a:rPr b="1" lang="en-GB" sz="1600" spc="-1" strike="noStrike" u="sng">
                <a:solidFill>
                  <a:srgbClr val="000066"/>
                </a:solidFill>
                <a:uFillTx/>
                <a:latin typeface="Arial"/>
                <a:ea typeface="Arial"/>
              </a:rPr>
              <a:t>all</a:t>
            </a:r>
            <a:r>
              <a:rPr b="1" lang="en-GB" sz="1600" spc="-1" strike="noStrike">
                <a:solidFill>
                  <a:srgbClr val="000066"/>
                </a:solidFill>
                <a:latin typeface="Arial"/>
                <a:ea typeface="Arial"/>
              </a:rPr>
              <a:t>, and especially the poo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1600" spc="-1" strike="noStrike">
                <a:solidFill>
                  <a:srgbClr val="cc3300"/>
                </a:solidFill>
                <a:latin typeface="Arial"/>
                <a:ea typeface="Arial"/>
              </a:rPr>
              <a:t>	</a:t>
            </a:r>
            <a:r>
              <a:rPr b="1" lang="en-GB" sz="1600" spc="-1" strike="noStrike" u="sng">
                <a:solidFill>
                  <a:srgbClr val="cc3300"/>
                </a:solidFill>
                <a:uFillTx/>
                <a:latin typeface="Arial"/>
                <a:ea typeface="Arial"/>
              </a:rPr>
              <a:t>Through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000" spc="-1" strike="noStrike">
                <a:solidFill>
                  <a:srgbClr val="cc3300"/>
                </a:solidFill>
                <a:latin typeface="Arial"/>
                <a:ea typeface="Arial"/>
              </a:rPr>
              <a:t>2.  </a:t>
            </a:r>
            <a:r>
              <a:rPr b="1" lang="en-GB" sz="2000" spc="-1" strike="noStrike">
                <a:solidFill>
                  <a:srgbClr val="cc33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cc3300"/>
                </a:solidFill>
                <a:latin typeface="Arial"/>
                <a:ea typeface="Arial"/>
              </a:rPr>
              <a:t>Addressing TB-HIV, MDR-TB</a:t>
            </a:r>
            <a:r>
              <a:rPr b="1" lang="en-GB" sz="1600" spc="-1" strike="noStrike">
                <a:solidFill>
                  <a:srgbClr val="000066"/>
                </a:solidFill>
                <a:latin typeface="Arial"/>
                <a:ea typeface="Arial"/>
              </a:rPr>
              <a:t>, and other special challeng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000" spc="-1" strike="noStrike">
                <a:solidFill>
                  <a:srgbClr val="cc3300"/>
                </a:solidFill>
                <a:latin typeface="Arial"/>
                <a:ea typeface="Arial"/>
              </a:rPr>
              <a:t>3.  </a:t>
            </a:r>
            <a:r>
              <a:rPr b="1" lang="en-GB" sz="2000" spc="-1" strike="noStrike">
                <a:solidFill>
                  <a:srgbClr val="cc33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cc3300"/>
                </a:solidFill>
                <a:latin typeface="Arial"/>
                <a:ea typeface="Arial"/>
              </a:rPr>
              <a:t>Contributing to health system strengthening</a:t>
            </a:r>
            <a:r>
              <a:rPr b="1" lang="en-GB" sz="1600" spc="-1" strike="noStrike">
                <a:solidFill>
                  <a:srgbClr val="000066"/>
                </a:solidFill>
                <a:latin typeface="Arial"/>
                <a:ea typeface="Arial"/>
              </a:rPr>
              <a:t> by building capacity and mobilizing additional human and financial resources for implementation and impact evalua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000" spc="-1" strike="noStrike">
                <a:solidFill>
                  <a:srgbClr val="cc3300"/>
                </a:solidFill>
                <a:latin typeface="Arial"/>
                <a:ea typeface="Arial"/>
              </a:rPr>
              <a:t>4.  </a:t>
            </a:r>
            <a:r>
              <a:rPr b="1" lang="en-GB" sz="2000" spc="-1" strike="noStrike">
                <a:solidFill>
                  <a:srgbClr val="cc33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cc3300"/>
                </a:solidFill>
                <a:latin typeface="Arial"/>
                <a:ea typeface="Arial"/>
              </a:rPr>
              <a:t>Engaging all care providers</a:t>
            </a:r>
            <a:r>
              <a:rPr b="1" lang="en-GB" sz="1600" spc="-1" strike="noStrike">
                <a:solidFill>
                  <a:srgbClr val="000066"/>
                </a:solidFill>
                <a:latin typeface="Arial"/>
                <a:ea typeface="Arial"/>
              </a:rPr>
              <a:t> - public, non-governmental and private - to provide the International Standard of TB Care, focusing on the poorest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000" spc="-1" strike="noStrike">
                <a:solidFill>
                  <a:srgbClr val="cc3300"/>
                </a:solidFill>
                <a:latin typeface="Arial"/>
                <a:ea typeface="Arial"/>
              </a:rPr>
              <a:t>5.  </a:t>
            </a:r>
            <a:r>
              <a:rPr b="1" lang="en-GB" sz="2000" spc="-1" strike="noStrike">
                <a:solidFill>
                  <a:srgbClr val="cc33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cc3300"/>
                </a:solidFill>
                <a:latin typeface="Arial"/>
                <a:ea typeface="Arial"/>
              </a:rPr>
              <a:t>Empowering patients and communities</a:t>
            </a:r>
            <a:r>
              <a:rPr b="1" lang="en-GB" sz="1600" spc="-1" strike="noStrike">
                <a:solidFill>
                  <a:srgbClr val="000066"/>
                </a:solidFill>
                <a:latin typeface="Arial"/>
                <a:ea typeface="Arial"/>
              </a:rPr>
              <a:t> to demand, and contribute to, effective car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000" spc="-1" strike="noStrike">
                <a:solidFill>
                  <a:srgbClr val="cc3300"/>
                </a:solidFill>
                <a:latin typeface="Arial"/>
                <a:ea typeface="Arial"/>
              </a:rPr>
              <a:t>6.  </a:t>
            </a:r>
            <a:r>
              <a:rPr b="1" lang="en-GB" sz="2000" spc="-1" strike="noStrike">
                <a:solidFill>
                  <a:srgbClr val="cc33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cc3300"/>
                </a:solidFill>
                <a:latin typeface="Arial"/>
                <a:ea typeface="Arial"/>
              </a:rPr>
              <a:t>Enabling and promoting R&amp;D</a:t>
            </a:r>
            <a:r>
              <a:rPr b="1" lang="en-GB" sz="2000" spc="-1" strike="noStrike">
                <a:solidFill>
                  <a:srgbClr val="000066"/>
                </a:solidFill>
                <a:latin typeface="Arial"/>
                <a:ea typeface="Arial"/>
              </a:rPr>
              <a:t> </a:t>
            </a:r>
            <a:r>
              <a:rPr b="1" lang="en-GB" sz="1600" spc="-1" strike="noStrike">
                <a:solidFill>
                  <a:srgbClr val="000066"/>
                </a:solidFill>
                <a:latin typeface="Arial"/>
                <a:ea typeface="Arial"/>
              </a:rPr>
              <a:t>for new drugs, diagnostics and vaccin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215840" y="64674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  <a:ea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787320" y="1195560"/>
          <a:ext cx="7747200" cy="60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195560"/>
                    <a:ext cx="7747200" cy="6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7" name=""/>
          <p:cNvGraphicFramePr/>
          <p:nvPr/>
        </p:nvGraphicFramePr>
        <p:xfrm>
          <a:off x="6861240" y="6419880"/>
          <a:ext cx="425520" cy="4381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61240" y="6419880"/>
                    <a:ext cx="42552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"/>
          <p:cNvSpPr/>
          <p:nvPr/>
        </p:nvSpPr>
        <p:spPr>
          <a:xfrm>
            <a:off x="1187280" y="6453360"/>
            <a:ext cx="460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  <a:ea typeface="Arial"/>
              </a:rPr>
              <a:t>Draft April 8,200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189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  <a:ea typeface="Arial Unicode MS"/>
              </a:rPr>
              <a:t>A proposed 2005-2015 </a:t>
            </a:r>
            <a:br>
              <a:rPr sz="3600"/>
            </a:br>
            <a:r>
              <a:rPr b="1" lang="en-GB" sz="3600" spc="-1" strike="noStrike">
                <a:solidFill>
                  <a:srgbClr val="cc3300"/>
                </a:solidFill>
                <a:latin typeface="Arial"/>
                <a:ea typeface="Arial Unicode MS"/>
              </a:rPr>
              <a:t>"Global Strategy to Stop TB"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43080" y="266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cc3300"/>
                </a:solidFill>
                <a:latin typeface="Arial"/>
              </a:rPr>
              <a:t>Pursuing Quality DOTS Expansion, 2005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95360" y="1092240"/>
          <a:ext cx="7715160" cy="4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360" y="1092240"/>
                    <a:ext cx="7715160" cy="4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"/>
          <p:cNvSpPr/>
          <p:nvPr/>
        </p:nvSpPr>
        <p:spPr>
          <a:xfrm>
            <a:off x="466560" y="1244520"/>
            <a:ext cx="8601120" cy="247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59000"/>
          </a:bodyPr>
          <a:p>
            <a:pPr marL="359280" indent="-359280">
              <a:lnSpc>
                <a:spcPct val="100000"/>
              </a:lnSpc>
              <a:spcBef>
                <a:spcPts val="499"/>
              </a:spcBef>
              <a:buClr>
                <a:srgbClr val="99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Political commitment with long-term planning, adequate human resources and sustainable financing to reach WHA and MDG targets</a:t>
            </a:r>
            <a:br>
              <a:rPr sz="2000"/>
            </a:b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59280" indent="-359280">
              <a:lnSpc>
                <a:spcPct val="100000"/>
              </a:lnSpc>
              <a:spcBef>
                <a:spcPts val="499"/>
              </a:spcBef>
              <a:buClr>
                <a:srgbClr val="99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Case detection through bacteriology (microscopy first, and culture/DST) and establishment of an effective laboratory network to facilitate detection of SS+, SS- and DR-  TB cases</a:t>
            </a:r>
            <a:br>
              <a:rPr sz="2000"/>
            </a:b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59280" indent="-359280">
              <a:lnSpc>
                <a:spcPct val="100000"/>
              </a:lnSpc>
              <a:spcBef>
                <a:spcPts val="499"/>
              </a:spcBef>
              <a:buClr>
                <a:srgbClr val="99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Standardized treatment under proper case management conditions, including DOT, and full patient support for all TB patients</a:t>
            </a:r>
            <a:br>
              <a:rPr sz="2000"/>
            </a:b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59280" indent="-359280">
              <a:lnSpc>
                <a:spcPct val="100000"/>
              </a:lnSpc>
              <a:spcBef>
                <a:spcPts val="499"/>
              </a:spcBef>
              <a:buClr>
                <a:srgbClr val="99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An effective and regular drug supply system </a:t>
            </a:r>
            <a:br>
              <a:rPr sz="2000"/>
            </a:b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59280" indent="-359280">
              <a:lnSpc>
                <a:spcPct val="120000"/>
              </a:lnSpc>
              <a:spcBef>
                <a:spcPts val="624"/>
              </a:spcBef>
              <a:buClr>
                <a:srgbClr val="8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  <a:ea typeface="Arial"/>
              </a:rPr>
              <a:t>Efficient monitoring system for programme supervision and evaluation including</a:t>
            </a: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 measurement of impac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129800" y="64674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6786720" y="6431040"/>
          <a:ext cx="414360" cy="4269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86720" y="6431040"/>
                    <a:ext cx="414360" cy="42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  <a:ea typeface="Arial"/>
              </a:rPr>
              <a:t>Process for engaging stakeholders in strategy development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14480"/>
            <a:ext cx="7943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500"/>
              </a:spcBef>
              <a:spcAft>
                <a:spcPts val="300"/>
              </a:spcAft>
              <a:buClr>
                <a:srgbClr val="cc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"/>
              </a:rPr>
              <a:t>Informal dialogue and review with NTPs, staff and partners (ongoing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1500"/>
              </a:spcBef>
              <a:spcAft>
                <a:spcPts val="300"/>
              </a:spcAft>
              <a:buClr>
                <a:srgbClr val="cc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"/>
              </a:rPr>
              <a:t>Seek input from StopTB CB (May 05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1500"/>
              </a:spcBef>
              <a:spcAft>
                <a:spcPts val="300"/>
              </a:spcAft>
              <a:buClr>
                <a:srgbClr val="cc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"/>
              </a:rPr>
              <a:t>Seek informal feedback at WHA (May 05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1500"/>
              </a:spcBef>
              <a:spcAft>
                <a:spcPts val="300"/>
              </a:spcAft>
              <a:buClr>
                <a:srgbClr val="cc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"/>
              </a:rPr>
              <a:t>Seek endorsement of WHO STAG (June 05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1500"/>
              </a:spcBef>
              <a:spcAft>
                <a:spcPts val="300"/>
              </a:spcAft>
              <a:buClr>
                <a:srgbClr val="cc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"/>
              </a:rPr>
              <a:t>Obtain engagement of national and global stakeholders via DFID-financed survey &amp; interview process (summer 05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1500"/>
              </a:spcBef>
              <a:spcAft>
                <a:spcPts val="300"/>
              </a:spcAft>
              <a:buClr>
                <a:srgbClr val="cc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"/>
              </a:rPr>
              <a:t>Seek final endorsement of StopTB Working Groups (Oct 05) and StopTB CB (Nov 05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215840" y="64674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  <a:ea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6861240" y="6419880"/>
          <a:ext cx="425520" cy="438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61240" y="6419880"/>
                    <a:ext cx="42552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" name=""/>
          <p:cNvGraphicFramePr/>
          <p:nvPr/>
        </p:nvGraphicFramePr>
        <p:xfrm>
          <a:off x="561960" y="1604880"/>
          <a:ext cx="7799400" cy="46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1960" y="1604880"/>
                    <a:ext cx="7799400" cy="4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20T15:03:20Z</dcterms:created>
  <dc:creator>LamyQuiqueS</dc:creator>
  <dc:description/>
  <dc:language>en-US</dc:language>
  <cp:lastModifiedBy>bakerl</cp:lastModifiedBy>
  <cp:lastPrinted>2003-04-10T14:23:01Z</cp:lastPrinted>
  <dcterms:modified xsi:type="dcterms:W3CDTF">2005-04-27T13:35:34Z</dcterms:modified>
  <cp:revision>460</cp:revision>
  <dc:subject/>
  <dc:title>Progress in Global Tuberculosis Control 1995-97</dc:title>
</cp:coreProperties>
</file>