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5D4B-0847-4955-B9CB-61D48094C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8F1E-8B92-4DD3-B77F-B4A021E93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D114-83A8-46D5-B9FE-39DA4E4A8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BF60-87E7-4CCE-A50E-AE8DF7FF9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07D17-699A-4B49-A710-7DD7066C6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3C4AC-1154-4EE9-B6BC-6C2C1A2B0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910E5-EC84-46F0-AFF3-A98E2B6A4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20739-2AE2-40C2-9784-99A534D27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18065-42E2-4FEF-9AD3-30C26C428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B452E-B121-4303-B78B-D4A2C957B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AE454-6EE4-48D6-B138-242006B08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183F-A302-4403-A564-D5E3D32BB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52C3A-55FC-4FA6-8891-9AAE8867F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644E7-1787-463A-AE6D-86535595C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C4DFE-A8B4-4C52-A784-FC72862A7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94E2B-9F6C-42F8-81FC-45A6DF7B0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2ABDD-D3CB-4155-A321-3001DCF96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2A71-3CDC-4728-B146-F9E00F5CC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ADAD-7D72-4D86-967C-E7EA63EDD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7D55-9B03-42BF-B0E6-37CAD315A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54AA-06A3-45D1-891E-6F0628F52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44E8-6F83-417D-BDAC-A0ED20A29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0A92-6CCE-4E6D-8838-A04AA57B0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8DD5-3BB4-448C-BEBC-2027CA2B7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39707-9EB8-4400-81B6-37718DCC15F8}" type="slidenum"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2121A-0D69-4DBC-9CBC-6EFBFEAA54D3}" type="slidenum"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94920" y="2060640"/>
            <a:ext cx="84963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宋体"/>
              </a:rPr>
              <a:t>Advocacy and Communications Working Group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宋体"/>
              </a:rPr>
              <a:t>Plenary Discussio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  <a:ea typeface="宋体"/>
              </a:rPr>
              <a:t>Joanne Carter, Chair A.I.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  <a:ea typeface="宋体"/>
              </a:rPr>
              <a:t>15 October 2004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7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964720" cy="475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Progress since last CB meeting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Basic Framework draft (main objectives, functions, structure, main work streams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Proposed roster of initial members (65</a:t>
            </a:r>
            <a:r>
              <a:rPr b="0" lang="en-GB" sz="2400" spc="-1" strike="noStrike" u="sng">
                <a:solidFill>
                  <a:srgbClr val="720000"/>
                </a:solidFill>
                <a:uFillTx/>
                <a:latin typeface="Tahoma"/>
                <a:ea typeface="宋体"/>
              </a:rPr>
              <a:t>+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Development of new alliances – HIV/AIDS, MDGs Campaig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First formal meeting of ACWG set for Dec 04/Jan 05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Informal pre-meeting at IUATLD conference to discuss agenda and expected outcom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  <a:ea typeface="宋体"/>
              </a:rPr>
              <a:t> 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727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58560" y="1484280"/>
            <a:ext cx="8785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Proposed structural featur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1. Chair with permanent seat on C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2. Two initial sub-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Global advocacy for resource mobiliza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Country level advocacy, communication and social mobiliza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3. Focal points for all 6 technical WG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Critical to ensure close coordination in cross-cutting rol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4. Stronger representation for patients  and countr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Basic Framework to be approved and Chair/vice-chairs elected in first formal meeting of WG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608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1413000"/>
            <a:ext cx="8526600" cy="76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Key immediate prior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Resource mobi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enerate more robust numbers on funding ga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Close collaboration with Resource Mobilization Task Fo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Target key national, multilateral and private sector don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2.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Develop short-and long-term advocacy strategy aroun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2005 targets and MDG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lobal Plan I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World TB D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3.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Rapid scale up of support to countries for AC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TA for GFATM proposals/ISAC – Nov 04 worksh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uidance, tools, training for emerging national partnershi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Mobilization of new advocacy partners at regional and country lev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119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1844640"/>
            <a:ext cx="8381880" cy="39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Request for C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Feedback on formation process, structure, key prior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2.  Technical WG chairs need to assign focal points to ACW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luhanm</cp:lastModifiedBy>
  <dcterms:modified xsi:type="dcterms:W3CDTF">2004-10-19T10:55:09Z</dcterms:modified>
  <cp:revision>21</cp:revision>
  <dc:subject/>
  <dc:title>Financial situation,  Budget &amp; plans 2005</dc:title>
</cp:coreProperties>
</file>