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60916-7F35-4626-9552-BFD7D2FF853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5BE29-1300-48A8-9920-702C211402D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85572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890280" y="4714560"/>
            <a:ext cx="4887720" cy="44672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sterdam Decl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CC44-68D2-4101-8DE9-8C6E9CB58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C84A-B9EB-493F-9EEC-4BED1ADF9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F4C4-FC29-4DFD-AFA9-09682ECC5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4AB5-DC89-4868-9ED3-0ED878194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CC993-0801-4852-B9DC-175433A4E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B5881-2B11-40EC-BF75-55E6F40A9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ED819-FD2B-4316-BED8-D26C1D4C3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EE1C9-9C01-4400-9079-98C99C26A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C5758-D46B-4EDA-97D8-57E5A4BAA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2AA4A-6154-4A42-A2D3-EDE6D2536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F20E1-AD60-43F9-977C-4064F506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DDF6-F7AB-40BC-9FE4-6BEF25F58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582AF-DEB7-4568-AF8B-952265B5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F4440-5233-44FE-90D1-67DAF1BA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D9430-880E-488D-8C66-D5B53F616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9EC03-DCA4-4CA4-AA1A-7E6B4085F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67359-849F-4EDD-BBB2-A2511FBEF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65F5-C516-4C64-9E34-916E24B4B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A08F-1E64-4592-8641-F565A8C93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94D3-1B06-4A2E-8CFE-1AFABB3E6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070C-5D8E-436C-970C-0482DC7D6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819E-56DE-4EC7-9C32-84C75AC6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EF61-8C65-4C08-B2A2-73C20EBF1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C3A9-2E63-4909-A55D-CF1AB5CD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62F72-04AA-4E94-804A-A9B5547B6254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3A88E-10A8-4ABC-B3B9-B64D5091714F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920" y="1988640"/>
            <a:ext cx="864216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Global Partnership issues &amp; planning:</a:t>
            </a:r>
            <a:br>
              <a:rPr sz="2000"/>
            </a:br>
            <a:br>
              <a:rPr sz="20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-  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Global Plan II progress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-  Working groups: MDR-TB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Tahoma"/>
                <a:ea typeface="宋体"/>
              </a:rPr>
              <a:t>-  Partners Forum Evaluation</a:t>
            </a:r>
            <a:r>
              <a:rPr b="1" lang="en-US" sz="2400" spc="-1" strike="noStrike">
                <a:solidFill>
                  <a:srgbClr val="ffffcc"/>
                </a:solidFill>
                <a:latin typeface="Tahoma"/>
                <a:ea typeface="宋体"/>
              </a:rPr>
              <a:t> </a:t>
            </a:r>
            <a:br>
              <a:rPr sz="2400"/>
            </a:br>
            <a:br>
              <a:rPr sz="2000"/>
            </a:br>
            <a:br>
              <a:rPr sz="20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hair:   Giorgio Roscigno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apporteur:  Nils Billo</a:t>
            </a:r>
            <a:endParaRPr b="1" lang="en-US" sz="2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360" y="189000"/>
            <a:ext cx="4572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Global Plan to Stop TB, 2006-1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7280" y="1484280"/>
            <a:ext cx="86058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Key featur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uilds on first Global Plan (2000-05) and Progress Repor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10 years' timeframe (2006-15), leading to 2015 MD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mplementary to MDGs TB working group report (that calls for support for the Global Pla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nsistent with proposed WHA resolution in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upports national needs for long-term planning and financial sustain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evelops strategic directions set out by 2</a:t>
            </a:r>
            <a:r>
              <a:rPr b="0" lang="en-GB" sz="2400" spc="-1" strike="noStrike" baseline="30000">
                <a:solidFill>
                  <a:srgbClr val="720000"/>
                </a:solidFill>
                <a:latin typeface="Tahoma"/>
              </a:rPr>
              <a:t>nd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ad hoc Committee on the TB epidem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ased on contributions of each WG's work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10960"/>
            <a:ext cx="6300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eview of progress in developing Global Plan, 2006-2015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1557360"/>
            <a:ext cx="858816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May 2004: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WHO Executive Board approved resolution on Global Plan for 2005 World Health Assemb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2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June 2004: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WHO Strategic and Technical Advisory Group endorsed outline of Global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June 2004: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Outline sent to all partners for feed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July 2004: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Outline endorsed by Coordinating Boar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August 2004: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Steering committee endorsed by Bo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Sept 2004: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work initiated on proj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4211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ecommendations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or Board (1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1484280"/>
            <a:ext cx="870588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1. Board endor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a) key featur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b) development of projections to inform plann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2. Board requests each WG t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Develop plans (2006-2015) in contribution to the global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Identify a focal point from the W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Identify resource needs for pla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3. Board proposes launch of Global Plan in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either a) between WHA (May) and UNGASS (Sep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or b) late 2005, e.g. November Board mee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4067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ecommendations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or Board (2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1484280"/>
            <a:ext cx="870588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4. Board endorses approach of advocacy champ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Nelson Mandela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martya Sen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Kofi Ann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o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*preference to write foreword by one of the abo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5. Board endorses dissemination of Global Plan advocacy messages to key constituencies, including HIV/AI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576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DOTS Plus Working Group: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MDR-TB and GLC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Magnitude of the problem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Based on Resistance surveys in 64 countries and predictive data from 72 countries the number of new cases of MDR-TB for 2000 was estimated to be 273,000 (95% confidence limits 185,000 and 414,000)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2746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20000"/>
                </a:solidFill>
                <a:latin typeface="Tahoma"/>
              </a:rPr>
              <a:t>Dye C, Espinal MA, Watt CJ, Mbiaga C, Williams BG.  </a:t>
            </a: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2746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20000"/>
                </a:solidFill>
                <a:latin typeface="Tahoma"/>
              </a:rPr>
              <a:t>Worldwide Incidence of Multidrug-Resistant Tuberculosis.  </a:t>
            </a:r>
            <a:r>
              <a:rPr b="0" i="1" lang="en-US" sz="1200" spc="-1" strike="noStrike">
                <a:solidFill>
                  <a:srgbClr val="720000"/>
                </a:solidFill>
                <a:latin typeface="Tahoma"/>
              </a:rPr>
              <a:t>J of Infec Dis</a:t>
            </a:r>
            <a:r>
              <a:rPr b="0" lang="en-US" sz="1200" spc="-1" strike="noStrike">
                <a:solidFill>
                  <a:srgbClr val="720000"/>
                </a:solidFill>
                <a:latin typeface="Tahoma"/>
              </a:rPr>
              <a:t>; 2002;185:1197-202.</a:t>
            </a: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274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274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Important recent development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OTS-Plus not longer limited to so-called "hot spots"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274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he GLC was able to start, maintain and expand it's operations thanks to grants from different donors, including the B&amp;M Gates Found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274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unding comes to an end: mid July 2005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68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DOTS Plus Working Group: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MDR-TB and GLC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8964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he Board…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720000"/>
                </a:solidFill>
                <a:latin typeface="Tahoma"/>
              </a:rPr>
              <a:t>Acknowledges GLC plays a pivotal role in the control of MDRTB/ prevention of the emergence of resistance to 2</a:t>
            </a:r>
            <a:r>
              <a:rPr b="0" lang="en-GB" sz="2200" spc="-1" strike="noStrike" baseline="30000">
                <a:solidFill>
                  <a:srgbClr val="720000"/>
                </a:solidFill>
                <a:latin typeface="Tahoma"/>
              </a:rPr>
              <a:t>nd</a:t>
            </a:r>
            <a:r>
              <a:rPr b="0" lang="en-GB" sz="2200" spc="-1" strike="noStrike">
                <a:solidFill>
                  <a:srgbClr val="720000"/>
                </a:solidFill>
                <a:latin typeface="Tahoma"/>
              </a:rPr>
              <a:t> line drugs</a:t>
            </a:r>
            <a:endParaRPr b="0" lang="en-US" sz="2200" spc="-1" strike="noStrike">
              <a:solidFill>
                <a:srgbClr val="720000"/>
              </a:solidFill>
              <a:latin typeface="Tahoma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20000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720000"/>
                </a:solidFill>
                <a:latin typeface="Tahoma"/>
              </a:rPr>
              <a:t>Recognizes financial sustainability of GLC is at stake—donors should be mobilized to ensure the financial sustainability. </a:t>
            </a:r>
            <a:endParaRPr b="0" lang="en-US" sz="2200" spc="-1" strike="noStrike">
              <a:solidFill>
                <a:srgbClr val="720000"/>
              </a:solidFill>
              <a:latin typeface="Tahoma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Estimated budget (next 3 yrs): 5 million US$/ operations GLC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20000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720000"/>
                </a:solidFill>
                <a:latin typeface="Tahoma"/>
              </a:rPr>
              <a:t>Recognizes additional funding is required at country level </a:t>
            </a:r>
            <a:endParaRPr b="0" lang="en-US" sz="2200" spc="-1" strike="noStrike">
              <a:solidFill>
                <a:srgbClr val="720000"/>
              </a:solidFill>
              <a:latin typeface="Tahoma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laboratory capacity strengthening,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purchase of 2</a:t>
            </a:r>
            <a:r>
              <a:rPr b="0" lang="en-GB" sz="2000" spc="-1" strike="noStrike" baseline="30000">
                <a:solidFill>
                  <a:srgbClr val="720000"/>
                </a:solidFill>
                <a:latin typeface="Tahoma"/>
              </a:rPr>
              <a:t>nd</a:t>
            </a: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 line drugs,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human resource development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970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720000"/>
                </a:solidFill>
                <a:latin typeface="Tahoma"/>
              </a:rPr>
              <a:t>Endorses and supports intensified coordination/ collaboration between DOTS-Plus WG, DOTS Expansion WG and New Diagnostics WG</a:t>
            </a:r>
            <a:endParaRPr b="0" lang="en-US" sz="2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1920" y="133200"/>
            <a:ext cx="541044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op TB Partners' Forum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920" y="1484280"/>
            <a:ext cx="73454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720000"/>
                </a:solidFill>
                <a:latin typeface="Tahoma"/>
              </a:rPr>
              <a:t>Amsterdam Declaration</a:t>
            </a:r>
            <a:r>
              <a:rPr b="0" lang="en-US" sz="25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i="1" lang="en-US" sz="2500" spc="-1" strike="noStrike">
                <a:solidFill>
                  <a:srgbClr val="720000"/>
                </a:solidFill>
                <a:latin typeface="Tahoma"/>
              </a:rPr>
              <a:t>to Stop TB</a:t>
            </a:r>
            <a:r>
              <a:rPr b="0" lang="en-US" sz="25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(March, 2000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First Stop TB Partners' Forum </a:t>
            </a: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(Oct 2001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123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New Delhi 2</a:t>
            </a:r>
            <a:r>
              <a:rPr b="0" lang="en-GB" sz="2400" spc="-1" strike="noStrike" baseline="30000">
                <a:solidFill>
                  <a:srgbClr val="720000"/>
                </a:solidFill>
                <a:latin typeface="Tahoma"/>
              </a:rPr>
              <a:t>nd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Stop TB Partners Forum </a:t>
            </a: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(March 2004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1650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Forum function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ssembly of the Partnership—Inclusive, consultative meeting of partner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Consolidate and increase support &amp; commitment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Review and comment on Partnership progres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Platform of information exchange on progress, problems and challeng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7093080" y="1484280"/>
            <a:ext cx="1969920" cy="1555920"/>
            <a:chOff x="7093080" y="1484280"/>
            <a:chExt cx="1969920" cy="1555920"/>
          </a:xfrm>
        </p:grpSpPr>
        <p:pic>
          <p:nvPicPr>
            <p:cNvPr id="110" name="" descr=""/>
            <p:cNvPicPr/>
            <p:nvPr/>
          </p:nvPicPr>
          <p:blipFill>
            <a:blip r:embed="rId2"/>
            <a:srcRect l="0" t="0" r="0" b="8274"/>
            <a:stretch/>
          </p:blipFill>
          <p:spPr>
            <a:xfrm>
              <a:off x="7093080" y="1484280"/>
              <a:ext cx="1969920" cy="1555920"/>
            </a:xfrm>
            <a:prstGeom prst="rect">
              <a:avLst/>
            </a:prstGeom>
            <a:ln w="0">
              <a:noFill/>
            </a:ln>
            <a:effectLst>
              <a:outerShdw dist="89604" dir="2700000" blurRad="0" rotWithShape="0">
                <a:srgbClr val="a50021"/>
              </a:outerShdw>
            </a:effectLst>
          </p:spPr>
        </p:pic>
        <p:sp>
          <p:nvSpPr>
            <p:cNvPr id="111" name=""/>
            <p:cNvSpPr txBox="1"/>
            <p:nvPr/>
          </p:nvSpPr>
          <p:spPr>
            <a:xfrm>
              <a:off x="7093080" y="1484280"/>
              <a:ext cx="1969920" cy="155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cc66"/>
                </a:buClr>
                <a:buSzPct val="8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7093080" y="3124080"/>
            <a:ext cx="1946160" cy="1744920"/>
            <a:chOff x="7093080" y="3124080"/>
            <a:chExt cx="1946160" cy="1744920"/>
          </a:xfrm>
        </p:grpSpPr>
        <p:sp>
          <p:nvSpPr>
            <p:cNvPr id="113" name=""/>
            <p:cNvSpPr/>
            <p:nvPr/>
          </p:nvSpPr>
          <p:spPr>
            <a:xfrm>
              <a:off x="7097760" y="3124080"/>
              <a:ext cx="1941480" cy="1698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  <a:effectLst>
              <a:outerShdw dist="89604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3"/>
            <a:srcRect l="0" t="0" r="7996" b="0"/>
            <a:stretch/>
          </p:blipFill>
          <p:spPr>
            <a:xfrm>
              <a:off x="7093080" y="3150720"/>
              <a:ext cx="1929240" cy="17182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valuation Partners' Forum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ecis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he Board confirms that the Forum is an important body of the Stop TB Partnership which needs to be meeting once every 3 yea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Requests the Secretariat to conduct an online poll about the future format and date of the Forum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ased on the results of the poll, the Secretariat will propose a concept of the next Forum (eg. Constituency engagement, break-out sessions, advocacy regarding outcomes 2005 Targets, etc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steenbergeng</cp:lastModifiedBy>
  <cp:lastPrinted>2004-03-17T17:37:17Z</cp:lastPrinted>
  <dcterms:modified xsi:type="dcterms:W3CDTF">2004-10-15T05:24:24Z</dcterms:modified>
  <cp:revision>177</cp:revision>
  <dc:subject/>
  <dc:title>Secretariat, 2003 Progress Report</dc:title>
</cp:coreProperties>
</file>