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8CCE3-706A-412D-BB16-444DD38CA8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ore competitive and uncertain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cording to the Bank, health ODA in 2002 is about $ 8.1 bill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iven new health funding initiatives (GFATM, PEPFAR, MCA ), health funding is expected to continue to rise in the coming years BUT there is no grante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re are around 80 global health initiatives at this mo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V/AIDS is drawing the most significant atten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caling up resource mobilization eff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 have to do more – The estimated financial gap for Stop TB is about $25 million in 2005 and getting wider in the coming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eting the overall MDG needs requires an annual ODA average of $156 billion from 2005 through 2007 and $188 billion from 2013 through 2015. (In 2003, the total amount of ODA worldwide was $68 bill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uilding public trust and confidence on the Partner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ublic and donor expectation is high and multidimensional, including an ethical aspect of performa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ay down a set of basic princip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guidelines aim to set out minimum principles for establishing system-wide standards for resource mobilization op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ommunicate with all stakeholders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guidelines are a mean to communicate with our beneficiaries, partners, donors, supporters, and all other stakeholders to promote a better understanding of the Stop TB resource mobilization operation.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nsure resource mobilization is mission-driven and aligned with the Partnership's vision and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is a quality-control and accountability promotion measur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guidelines aim to hold our resource mobilization effort to a higher quality standard and establish it in a wider framework of the mission, vision, and values of the Stop TB Partnership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049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ccountabi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e must be accountable not only financially but also technically: be accountable for utilising the resources entrusted to it for achieving stated results and goal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cooperation with the Resource Mobilization Task Force, the Donation review committee will monitor the implementation of the Guidelines at the Secretariat level.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eview committee will be composed of 3-4 members from a community of our stakehold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rimary functions are twofold: To review donation practice at the Secretariat; and to monitor and evaluate the overall implementation process for further improve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ough a detailed implementation plan has to be prepared later, some of the key actions we need to take 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disseminate the Guidelines for comments and "buy-in" from partners engaged in resource mobilization with potential TA from the Secretari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prepare a TOR for the Donation Review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circulate the Guidelines to a wider groups of stakeholders and peer 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DA97-A6E1-4BB9-A129-EEB1870DB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714D-DCD1-4F43-B064-D085423DA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189C-98DA-43AA-8614-66F7508D1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E68F-0F16-4786-B3FE-7DE924CFF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B68C6-986E-477C-B656-FCB4F0ABD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3FEEB-BB4A-46E6-BAF2-BA29CCD78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A3495-A47A-4A54-974E-84A1796DA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5F0C0-5E01-4C38-A120-9712C6033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E0F11-A8D8-4B76-A146-2B59BC69A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F3E0D-1468-4824-AA8B-5A0289FF0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6323C-02B2-49E7-A6B4-282A04623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3F87-D953-4668-853D-D6094B911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D436E-DA4A-4ED8-9EDE-28333003A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E5FDB-5CA1-4F57-ADB2-669C98974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35263-8EB1-43D9-A5D8-4FB98EE63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52AEE-D21B-4D04-81DD-65DB614A5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A67ED-7B00-4989-8E4A-98DA19463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7814-04ED-487D-91A9-346660513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3A2A-6117-4BDB-ADF8-F7F5699CC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2259-CB77-4190-8A46-1A10BB77D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C8AC-70C7-44A7-879E-C349E481F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82A2-74BD-40DB-B990-87771FED4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A61E-F95D-4B27-B207-5F408A1E7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FC39-DE96-464D-BEDA-6C6838F59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8200E-3128-4742-BD71-72619F771EE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913A9-3E50-4243-BFD3-CFA370BB0EF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250560" y="1628640"/>
            <a:ext cx="8713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cc"/>
                </a:solidFill>
                <a:latin typeface="Tahoma"/>
              </a:rPr>
              <a:t>Ethical Guidelines for Resource Mobilization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  <a:ea typeface="宋体"/>
              </a:rPr>
              <a:t>Irene Koe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Chair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esource Mobilisation Task Force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Stop TB Partnership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7th Coordinating Board Meeting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4 October 2004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eijing, China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Overview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Arial"/>
              </a:rPr>
              <a:t>Need for Guidelin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Arial"/>
              </a:rPr>
              <a:t>Purpose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Arial"/>
              </a:rPr>
              <a:t>Key Principl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Arial"/>
              </a:rPr>
              <a:t>Implementation and Review Proces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Arial"/>
              </a:rPr>
              <a:t>What are Next Steps?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Need for Guideline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Requested by Coordinating Boar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mand for accountability and transparency  from regulatory bodies and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More competitive and uncertain environmen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Scaling up resource mobiliz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More donors from the existing donor segmen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ew Donor Segment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Building public trust and confidence on the Partnership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urpose of Ethical Guideline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Lay down a set of readily understood basic principle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Communicate the agreed principles that underpin resource mobilisation to all stakeholders  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sure resource mobilization i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mission-drive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aligned to Partnership valu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Key Principles of Ethical Guideline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Accountabilit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Compliance with legal requirements in countries where resources are being mobilised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 donations from profits resulting from illegal activities or from products that contribute to lung disease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Remaining within the scope of the mandate of the Stop TB Partnershi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Key Principles of Ethical Guidelines (Contd.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t to mislead with incorrect inform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To be open in all activities and address any conflict of interes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t to over, or understate the situation with respect to financial requirements or the burden of T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Use WHO guidelines for donations in kind, drug donations and working with the Private Secto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view Committe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915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stablish small, flexible review committee to: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Provide advice on acceptance of contributions from new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Review the guidelines on a routine basis and make recommendations to the Coordinating Board for further revis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commendations for the Coordinating Board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dorse the guidelin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Apply the endorsed guidelines with immediate effec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Circulate the Guidelines to those involved in resource mobilisation and peer bod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vijaya</cp:lastModifiedBy>
  <dcterms:modified xsi:type="dcterms:W3CDTF">2004-10-21T14:43:00Z</dcterms:modified>
  <cp:revision>70</cp:revision>
  <dc:subject/>
  <dc:title>Slide 1</dc:title>
</cp:coreProperties>
</file>