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8FB-0DF6-46C7-BA5B-10245BE5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75B-5BEA-4A90-8D8E-CC0BAB96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EC7-6302-4234-A55B-2A971A30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6DD-246C-40CD-93C5-F8482F93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827D-C8AD-446D-B4DC-1EECDBCF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EACA-1307-46AB-B745-1C3B73B7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E7B3-A40D-4892-B325-2A7F5A2F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081D-1FD0-41D0-8AAD-59637D9B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AFDF-71DE-406F-9D10-15E640CC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DCD9-8E5A-42B8-8F7A-3317D174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6B73-68B5-4F08-89A2-4EDCB70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CED-AEF8-4741-974F-794BE5C9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593A-6AE3-4FFF-AE8F-C1C98618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2D48-1D56-4AE5-A31F-473C84BA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F013-97E4-4D35-9694-9F8AAA54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4647-A7B9-47CC-9AE1-1D501B3A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4074-3A43-4F02-9245-EC488AEA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BF1-424C-4193-9336-6D95D782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0FDB-7EAB-4AD4-B8DD-824D9B80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D66-0CFA-4450-A904-3DC03B2B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064-8433-430E-907F-FE54CA11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367-48EA-45EC-A6B1-22A1BE82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8CA5-0BA6-4298-90DF-E08384D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030-812D-4973-981E-DAE80BA1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D1DD-1FDD-4D28-9B6A-1ABCF70773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6DCA-002F-4CF3-85EF-48D0A3062F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4960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  <a:ea typeface="宋体"/>
              </a:rPr>
              <a:t>Highlights 2004 &amp; Priorities 2005: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宋体"/>
              </a:rPr>
              <a:t>National partnerships, TB &amp; Pover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Second Global Plan to Stop TB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Global TB Drug Facility (GDF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Advocacy &amp; Communic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Finances &amp; Resourc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Priorities end-2004 and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ctivate Advocacy and Communication Working Grou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tensify advocacy efforts in Canada, Japan, USA, UK, European Un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funding for TB and TB/HIV in Round 5 of GFATM and incorporate AC activities into key HBC propos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talyze AC activities with HIV/AIDS groups to accelerate uptake of TB/HIV collaborative activities at country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duct 4 regional AC needs assessments/trainings (AMRO, AFRO, EURO, WPRO) and 4 at country level (Brazil, Indonesia, Pakistan, Uganda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B approved Financial Policy being applied which led to better control through  improved financial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ncial transactions of GDF streaml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ll Working Groups given resources to catalyse thei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&amp;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038480"/>
            <a:ext cx="4876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371240"/>
            <a:ext cx="836784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19890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413000"/>
            <a:ext cx="842472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lk of the contributions from Bilateral Government sources-85.5% of the total income of US$13.8mill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f the total expenditure of US$10.8 million, TB Control Drugs cost 78%, while other partnership activities cost 2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income for the whole year US$23.1 million, projected expenditure US$ 23.6 million (as per the Operational Work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Financial Performance and Resource Administration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lights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1484280"/>
            <a:ext cx="8640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ojected shortfall for 2005 is US$25 million based on Targeted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certed effort to be made for mobilising more resources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targeting more donors in the current donor seg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exploring new donor segment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Arial"/>
              </a:rPr>
              <a:t>developing new resource mobilisation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inued catalytic support to all Working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loser ties with GF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Secretariat of the Network for Action on TB and Poverty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 platform for TB control and opportunity for Poverty experts to create a synergy for coordinated action in support of countries and the poor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Guide for NTP managers on TB and Povert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5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In response to the demand from countries, endorsed by the STAG and DEWG, WHO spearheads this normative publication on how to mainstream pro-poor approaches in DOTS and TB control programm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370080">
              <a:spcBef>
                <a:spcPts val="499"/>
              </a:spcBef>
              <a:buClr>
                <a:srgbClr val="ff99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 &amp; Poverty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ational Partnerships to Stop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Uganda, Brazil, Russian Federation, (France, Croatia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Launching the WHO guide on TB and Poverty for NTP manag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panding TB Poverty related activit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(Sub-)Regional Partnerships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 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uropean Partnership to Stop TB (Stop TB Europe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2" marL="1957320" indent="-609480">
              <a:buClr>
                <a:srgbClr val="ff99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AR Sub-Regional Partnership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01800" indent="-27792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EARO / AFRO : under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000" y="138240"/>
            <a:ext cx="4427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413000"/>
            <a:ext cx="86598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ogress in first half of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rvey of partners' views on the first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ment of outline of Global Plan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stablishment of steering committee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to develop scenarios for reaching MDG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itiation of work on developing contribution of each Working Group to th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138240"/>
            <a:ext cx="471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Second Global Plan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 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4130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Key activities in second half of 2004 and in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cenarios completed for reaching MDG for TB (epidemiological forecasting and costin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tributions of each Working Group to the Plan comple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completed, reviewed widely and endorsed by Coordinating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lan finalised and published in time for UN summit on MDGs, September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Achiev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7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rugs delivered t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5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ies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3.24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million patients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100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country evaluations organized by GDF/STB Partners.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DOTS Coverage - average increase of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20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per GDF countr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Additionality -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88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GDF recipients increased expenditure on TB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Cost - Average drug cost per patient: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~$11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ocurement -  lead time met for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77%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of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Quality -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All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GDF batches passed independent QC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958160" y="5157720"/>
          <a:ext cx="1185840" cy="1700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958160" y="5157720"/>
                    <a:ext cx="11858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GDF Futur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Maintain the Gain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verage, programme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ice, quality and servi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Fill new gaps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ransitional grants, non-traditional user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vide new services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ediatrics, diagnostics, expanded monitor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mprove Drug Management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2005 Training in AFRO, SEARO, EMRO, EURO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USA Media Tour, 20-29 Sep 04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urpose: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ngage Congress for more TB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Increase media attention to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n full partners meeting for November 2004 for advocacy and legislative a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ed in collaboration with CB members, RESULTS, ATS, Global Health Council, OSI, Global Alliance for TB Drug Development and other Stop TB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Outcom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Cities in 7 days—DC,  NYC, Indianapolis and L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etings with Congressional staffers, Rep. Sherrod Brow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10 Editorial board meetings or interview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5 Media stories and count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4 Speaking engagement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Full US Partners meeting set for 14-15 November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Last minute legislative push  plann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dvocacy and Communication Achievement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rch-October 2004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Media promotion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Major TV and newspaper coverage of MDR-TB report -- Rahman appointment -- Partners Forum/WTBD -- Int'l AIDS Conference -- Lancet report on China --  TB/HIV meeting in Addis Ababa -- USA tou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720000"/>
                </a:solidFill>
                <a:latin typeface="Tahoma"/>
              </a:rPr>
              <a:t>Global coverage of the Stop TB Partnership, and regional coverage of DOTS expansion in Africa and Asia, are now at their highest levels ever in major media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Advocacy materials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Joint UNAIDS/Stop TB info pack on TB/HIV -- Progress Report on GPSTB -- 25 minute documentary film on BBC World TV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Tahoma"/>
              </a:rPr>
              <a:t>Partnership building: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Well-established alliances with UNAIDS and HIV/AIDS community -- formation of Advocacy and Communication Working Group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heitkampp</cp:lastModifiedBy>
  <dcterms:modified xsi:type="dcterms:W3CDTF">2004-10-05T09:56:54Z</dcterms:modified>
  <cp:revision>11</cp:revision>
  <dc:subject/>
  <dc:title>Financial situation,  Budget &amp; plans 2005</dc:title>
</cp:coreProperties>
</file>