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8B22-FD93-49FD-A8AD-337EB23E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3DD-B80B-4281-BF08-691C3A6F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82B-6A00-4015-A7C6-5FFF5BE6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FE3-C324-457C-96BD-F2FEB9B6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913-7255-4EFA-A910-3F801BCA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6CC5-6B16-4FDC-A460-D9A514EE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1E0-8EC6-4A01-8421-7AD3A3C0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429-BF00-4457-9F90-A22F49EB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26B-2A16-404A-9B6B-5AF07BAD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C77-55C5-4A8E-9BF6-311162A1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693-274B-4F17-8D56-E6958D2E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B6C-F5AC-4600-B70B-D5C62C66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3E06-723E-47FA-B312-E2E9DA033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hen to launch the Global Pl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125360"/>
            <a:ext cx="8705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nerate media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w how the Global Plan responds to calls to achieve the 2015 TB control targets (World Health Assembly resolution May 2005, UNGASS on MDGs 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tween WHA (May 2005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UNGASS (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ld TB Da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p TB Partners' Forum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provide a pre-publication version at UNGASS and launch the document 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ho can champion the Global Pl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120" y="1125360"/>
            <a:ext cx="8705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osed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o Stop TB?</a:t>
            </a:r>
            <a:br>
              <a:rPr sz="3600"/>
            </a:br>
            <a:br>
              <a:rPr sz="48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1970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5 (World Health Assemb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tect 70% of smear-positiv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reat successfully 85% of all such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5 (Millennium Development Go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crease TB prevalence and deaths by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ement of the impact targets (prevalenc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deaths) depends on sustained achievement of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rocess targets (case detection and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su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global plan: 2000-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d mechanisms, activities and resources needed to accelerate progress towards 200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s of action of 6 Stop TB working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-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B/H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c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76832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mbers of steering committ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12536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Adeyi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Ahmed (Bangladesh Rural Advancement Committ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Freire (Alliance for TB drug develo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Omaswa (Ministry of Health, Uga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Shah (National TB Programme, Pakist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5:51Z</dcterms:modified>
  <cp:revision>91</cp:revision>
  <dc:subject/>
  <dc:title>Africa: HIV is driving the TB epidemic TB notification rates, 1980-1998</dc:title>
</cp:coreProperties>
</file>