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3C79-C1C8-4407-B5D3-6A5F7DEFF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B9BB-0A26-43DF-8C5A-52AC3734E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ccount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e must be accountable not only financially but also technically: be accountable for utilising the resources entrusted to it for achieving stated results and goal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cooperation with the Resource Mobilization Task Force, the Donation review committee will monitor the implementation of the Guidelines at the Secretariat level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view committee will be composed of 3-4 members from a community of our stakehol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rimary functions are twofold: To review donation practice at the Secretariat; and to monitor and evaluate the overall implementation process for further improv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ough a detailed implementation plan has to be prepared later, some of the key actions we need to tak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disseminate the Guidelines for comments and "buy-in" from partners engaged in resource mobilization with potential TA from the Secretari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prepare a TOR for the Donation Review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circulate the Guidelines to a wider groups of stakeholders and peer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rsement of the Operating Principles for the Trust Fund at the WB to enable transfer of money to W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perating Principles of the Stop TB Trust Fund at WHO should be flexible enough to enable the Executive Secretary of the Stop TB Partnership to operat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dmin Fee for the Trust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9066-FC4A-4CBB-A59E-72BD31B1B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D437-FED5-44B7-B89E-E4DEF879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305F-714F-4307-BB7A-7E5E57284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DDDB-2FA6-4ADE-918B-6200C89C0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BEA4-CEEF-45E9-92CE-5688E7BF1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F825-579C-470B-AEAC-6A6B1C66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F455-7D48-4CDB-96DB-DF27601A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A15F-F71F-4BD1-8F45-B874A125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859D-220F-4B75-BC07-952A2F2B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B3BA-58B4-43AE-BF55-58300644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101F-7E74-4D12-9CE8-E920A4B3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CC04-A890-4C00-8477-A2771858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FB27-BFA7-48EE-92B1-1C8AB1CD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7AF7-8AFF-41DB-8E9B-25B8A6A6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B8A5-C734-4622-AF0E-CE01A48D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B739-6102-4D8C-B9CE-89089C0AD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6192-CFD3-4D71-9B76-44A98E72B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953A-42A4-4CB9-9344-0739817C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558B-9A83-4003-B8D5-E404A856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5E63-21A5-4377-8FED-857B0B1C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7BA2-8DEF-46F2-B01D-4938331A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4774-3CBD-4A50-B9F3-D7CE0EEF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B830-17C6-4B7D-A10E-4ED00DEF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BC43-6192-41DB-8DB1-3F89A220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B3E3-C365-48C0-B14E-C94C602DCCD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3DED-BB5F-4F5E-84D7-700ED965CBD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3640" y="148392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Resources and Administration 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Tahoma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M Ethical Guideline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rust Fund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TB and PRSP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hair:  Stefaan van der Borgh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Rapporteur:  Irene Koek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7th Coordinating Board Meeting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4-15 October 2004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ijing, China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nalysis at WB – limited attention to TB in PRSPs and very little attention to TB and Pover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eed to give MOH etc. tools for talking with Ministers of Finance – must be in terms of impact on GDP, etc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Importance of being evidence based in documentation &amp; toolkit – especially on impact of TB on macroeconomic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B and Poverty Reduction Strategy Pap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Develop toolkit – country focused, and ensure coordination with similar efforts in child health, malaria, etc.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ring toolkit effort together with Poverty Network – coordinate ac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540072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Objectiv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a set of support structures and formal process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sure donors recognise the challenge of TB control and give high priority to supporting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Increase flow of resources from the existing supporters of the Stop TB Partnership in a timely mann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Develop new fund-raising products and approach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Resource Mobilization Action Pl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mmary of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Adopt plan with following adjustments and recommendations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plit actions for $40 million and $3.7 b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ather information on domestic spending for TB using National Health Accounts, etc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amp resource mobilization directo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rongly endorse need to put more resources behind resource mobilization, and strengthen secretariat in this reg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volve RM Task Force to Advisory Grou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Accountabili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Compliance with legal requirements in countries where resources are being mobilis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 donations from profits resulting from illegal activities or from products that contribute to lung disease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Remaining within the scope of the mandate of the Stop TB Partn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Principles  (Contd.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mislead with incorrect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o be open in all activities and address any conflict of intere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ot to over, or understate the situation with respect to financial requirements or the burden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Use WHO guidelines for donations in kind, drug donations and working with the Private Sec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thical Guidelin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stablish a small flexible review committee to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Provide advice on acceptance of contributions from new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Arial"/>
              </a:rPr>
              <a:t>Review the guidelines on a routine basis and make recommendations to the Coordinating Board for further rev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Ethical Guidelin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ummary of Recommenda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opt the ethical guidelines as a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Establish a review committee – give Secretariat flexibility to call on committee as deemed necessar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larify that guidelines cover cash and in-kind contribut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dd a note to specifically state that prior to their acceptance in-kind contributions must be assured to do no harm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Endorsement of the Operating Principles for the Trust Fund at the WB to enable transfer of money to WH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 Interim Trust Fund  (urgently needed for ISAC)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The Operating Principles of the Definitive Stop TB Trust Fund at WHO 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and its Admin Fe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WB Trust Fund: 3%, must transfer  funds to a trust fund at WHO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  <a:ea typeface="宋体"/>
              </a:rPr>
              <a:t>fee for interim TF  at WHO-  6%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Next steps for negotiating team to agree on the Definitive Trust Fund at WHO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Trust Fund Issu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dorse the Operating Principles of the Stop TB Trust Fund at the W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ve ISAC money from the WB Trust Fund to WHO interim TF and allocate it to countries AS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ransfer GDF money in the WB Trust Fund directly to IAPSO at no additional fe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nd negotiating team to WHO ASAP to finalize the definitive Stop TB Trust Fund at WHO and agree an admin fee for it– ideally at no more than 6%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llow WB trust fund to e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steenbergeng</cp:lastModifiedBy>
  <dcterms:modified xsi:type="dcterms:W3CDTF">2004-10-15T07:51:17Z</dcterms:modified>
  <cp:revision>42</cp:revision>
  <dc:subject/>
  <dc:title>Financial situation,  Budget &amp; plans 2005</dc:title>
</cp:coreProperties>
</file>