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2B460-7B41-4D0C-9692-69AB78CF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5791A-F5F0-4DB7-BA8C-C342E631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2A130-C91C-4A8E-81EC-89F115D62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085DD-37D2-4C68-8319-B05F805C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3519-9F5F-4A36-9440-0F546450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DE3A-0B61-464C-A7D0-15EC747E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D032-B8B4-49BD-8441-5475D075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F876-CAA6-4E53-808E-0AC19AF9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D455-3D29-42B9-B287-6C60C8F5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5BEB-6E22-465F-8A6F-5B563192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E1A4-838E-4E31-84E0-129D8821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C6090-70DD-44EE-B55D-E87DA782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7FC9-BF1F-4544-A95E-841A304D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457F-E1D7-49AF-B784-0A969C97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A2D3-A61B-44D5-9389-C14AB97E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94A6-16CF-468C-9D89-75F4BA40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8F07-2974-4E44-963A-6A34411C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0CEF6-FF0E-4F93-AC39-66023B06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AEC23-1FFB-4215-BA9B-A937D380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E9E55-B5A9-495D-953F-EC3B9423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6AEB3-3CF7-4681-8B05-EABD09A3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7BF11-9D1B-48DF-84B9-CAEC5ABB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A251-2761-4C9D-A450-55C909F8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C0659-387F-4EF3-BB66-F2574255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1F5C-1A54-4C39-84EB-F3A7A4F93D6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6216-48AC-46B0-9F17-8BB5F9866D8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: Short summary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chael Lu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ctober 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uild political will for achieving the MD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able people's actions in holding their governments accountable to the Millennium P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ampaig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rking with coalitions and partnerships in 3 are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assroots advoca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dia and public awar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licy chan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partnershi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orth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arliamentarian Network of WB's Implementation Watch, MDG organizations in USA, UK, Italy, Spain, Ireland, Austral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SO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xfam, Amnesty Int'l, Trade Justice Movement, Social Watch, Civicus, Global Campaign for Education, People's Health Movement, World AIDS Campaign, Save the Children, Global Movement for Children, Plan Interna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Faith-based Group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Caritas, Cidse, Micah Challenge, Vatican Commission Justicia &amp; Pax, World Parliament for Relig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edi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 BBC Trust, All Africa.com, EFE, IPS, On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Event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Barcelona Forum, Rome Marathon, Olympics, Rock in 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Key Events in 200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UN Heads of State meeting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G8 meeting with development and MDGs focus, Jun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ha Round: Global Week of Action (Apr 05), Minister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meeting (Dec 0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Financing for achieving the MDGs: Lula/Chirac summit, Sep 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South-South and North-South linkages linked to World Social Forum and other initiativ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MDGs Campaig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ngagement with Stop TB Partn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High-level meetings with STB Global Ambassador Rahman in NYC, Apr 04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ampaign Director Salil Shetty to address IUATLD world conference in Paris, Oct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ahman to participate in India national MDG campaign meeting, Nov 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DG Campaign regional partners and in selected countries  to mobilize for WTBD, Mar 0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09:05:18Z</dcterms:created>
  <dc:creator>luhanm</dc:creator>
  <dc:description/>
  <dc:language>en-US</dc:language>
  <cp:lastModifiedBy>luhanm</cp:lastModifiedBy>
  <dcterms:modified xsi:type="dcterms:W3CDTF">2004-10-11T16:14:43Z</dcterms:modified>
  <cp:revision>2</cp:revision>
  <dc:subject/>
  <dc:title>MDGs Campaign: Short summary</dc:title>
</cp:coreProperties>
</file>