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0A0093-66CF-4980-B8C7-F789FA9BAD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1200" y="1314360"/>
            <a:ext cx="3084480" cy="4857840"/>
          </a:xfrm>
          <a:prstGeom prst="rect">
            <a:avLst/>
          </a:prstGeom>
          <a:ln w="63360">
            <a:solidFill>
              <a:srgbClr val="cc33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5190480" y="3567240"/>
            <a:ext cx="232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18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Beijing, Ch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14-15 Octo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713640" y="5105520"/>
          <a:ext cx="1287360" cy="132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13640" y="5105520"/>
                    <a:ext cx="128736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876920" y="5229360"/>
            <a:ext cx="930240" cy="96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11200" y="1314360"/>
            <a:ext cx="3070080" cy="4857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292640" y="1197000"/>
            <a:ext cx="421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B Care for All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volution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DOTS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put from STB-CB……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07760" y="29210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this an appropriate and effective approac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How do we build ownership in this proce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ims of this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07760" y="1891800"/>
            <a:ext cx="8057880" cy="452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set the main direction for acceleration of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outline the need for a care approach in TB, besides a public health 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o present the vision for an enhanced 2004 DO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7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Global TB Control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7440" y="1584360"/>
            <a:ext cx="82962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A (year 2005):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detect 70% of infectious TB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4" marL="2314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-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treat successfully 85% of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tected 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Okinawa - G8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50%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 reduction in prevalence and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deaths by 20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DGs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o have halted and begun to reverse 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	</a:t>
            </a:r>
            <a:r>
              <a:rPr b="0" lang="en-GB" sz="2200" spc="-1" strike="noStrike">
                <a:solidFill>
                  <a:srgbClr val="000066"/>
                </a:solidFill>
                <a:latin typeface="Arial"/>
                <a:ea typeface="Arial Unicode MS"/>
              </a:rPr>
              <a:t>the incidence of TB by 2015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87320" y="12826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784920" y="6419880"/>
          <a:ext cx="453960" cy="46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419880"/>
                    <a:ext cx="453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19240" y="971640"/>
          <a:ext cx="66769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971640"/>
                    <a:ext cx="66769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0" y="6437160"/>
          <a:ext cx="371520" cy="38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7160"/>
                    <a:ext cx="371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gress towards target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58600" y="645336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Progress towards Global Targets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70/85 by 2005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241452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rate: 43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rate: 8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Best forecast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treatment success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ase detection close, but  not achie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87040" y="64818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87320" y="172548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2548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843600" y="6434280"/>
          <a:ext cx="411120" cy="423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0" y="6434280"/>
                    <a:ext cx="4111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Main directions to accelerate DOTS expansion and adapt to reach all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56960"/>
            <a:ext cx="798660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Keep expanding and sustaining DOTS achievements, supporting countries to build capacity and to mobilise resources, within strengthened health sys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vocate for (1) DOTS, as the recognised public health strategy for TB control, and (2) the importance of individual patient care within DO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Engage all care providers, public and private, to increase access and use of a </a:t>
            </a:r>
            <a:r>
              <a:rPr b="1" lang="en-GB" sz="1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universal standard of care</a:t>
            </a: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,  especially among the poor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Promote community participation and mobilise societies to increase (1) demand for proper care and (2) involvement in 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Adapt DOTS to high HIV and MDR-TB settings, and strengthen capacity to diagnose and manage SS(neg) TB and drug resistant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trengthen M&amp;E for problem-solving and to measure achievements vis-à-vis WHA &amp; MDG targ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Sustain the Stop TB Partnership and its Working Group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87320" y="159552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9552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Quality TB care for all: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Ensure a high stand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Patient care to cure and prevent TB is the ultimate goal of DO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The foundation of DOTS is </a:t>
            </a:r>
            <a:r>
              <a:rPr b="1" lang="en-GB" sz="18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effective patient care</a:t>
            </a: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 which alleviates suffering, as well as controls and prevents TB in a commun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A standard of care for TB exists already, and is evidence-based, but needs further promotion among all care provid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Simply, each care provider, public or private, shoul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1- Diagnose TB quickly (i.e., bacteriological confirmatio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2- Treat TB properly (i.e., SCC and treatment suppor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523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  <a:ea typeface="Arial Unicode MS"/>
              </a:rPr>
              <a:t>3- Report TB cases and treatment outco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  <a:ea typeface="Arial Unicode MS"/>
              </a:rPr>
              <a:t>If all providers did the right thing, we would control T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8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E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宋体"/>
              </a:rPr>
              <a:t>nhanced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 DOTS Strategy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2880" y="1244520"/>
            <a:ext cx="8182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Government commitment with long-term planning and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ustainable financing to reach WHA and MDG targ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iagnosis through bacteriology (microscopy and 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effective drug supply system and laboratory net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An adequate recording and reporting of cases and outco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Arial"/>
              </a:rPr>
              <a:t>To do this properly, in 2004, we also need to explicitly…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 algn="ctr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ngage all care providers, public and private, in the delivery of a high standard of TB care for all cases, infectious first and non-infectio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artner with communit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3160" indent="-35316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Include TB/HIV interventions and DOTS+ for MDR-TB into national country TB control strate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Standard of care and expanded DOTS strategy: proposed next step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360" y="149220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9220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09680" y="1841400"/>
            <a:ext cx="8486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TBCTA-funded project to further document strong evidence-base for standard of care (led by ATS, with WHO and other partn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Expanded DOTS policy document outli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ronology of DOTS evolutionary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0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vision of 5 el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6720" indent="-367920">
              <a:lnSpc>
                <a:spcPct val="11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xplicit reference to the issues of standard of care by all providers and mainstreaming of TB/HIV and DOTS-Plus into comprehensive TB control 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34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ommunication strategy for new policy document in line with WHA resolution and evidence-base standard of care (supply and demand si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steenbergeng</cp:lastModifiedBy>
  <cp:lastPrinted>2003-04-10T14:23:01Z</cp:lastPrinted>
  <dcterms:modified xsi:type="dcterms:W3CDTF">2004-10-15T02:14:09Z</dcterms:modified>
  <cp:revision>404</cp:revision>
  <dc:subject/>
  <dc:title>Progress in Global Tuberculosis Control 1995-97</dc:title>
</cp:coreProperties>
</file>