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4D21-966A-433B-8130-2E80A2D66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5403-6AA4-4766-B1A8-646C5E90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2B01-F547-4494-B09A-9A05E3AE6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439B-1C6B-4FE2-B7D4-575D89FD6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7EF93-6628-4EDC-A961-A29EFCF30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664D-8574-4938-8FF0-049E90D5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A6CE-3BC2-4685-A014-885AC608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A9F24-303B-4433-AF40-87277164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2EA89-E6F0-43CD-B0BF-7229C6B8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687F3-22E9-4405-AA01-8B6DFE0F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A7E5-8546-4051-88C5-5A9E1F96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AA29-898A-46FC-9310-A1150448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9374-1F7D-4C8D-BAAC-D4541946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F0D79-63FC-446C-8B76-C8E5F33A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40C5-BCCF-4CBE-9201-D8AF9E6A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A9EE-CFBE-4430-9230-C77C6047C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FF93-4EF1-4788-A32B-6B2F7C579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F307-56B8-48E5-A2F2-C04971BD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EC02-90BD-49BF-8F83-E5303D7F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A8A7-A6C9-45B5-B44D-A9F0DAAE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9C83-B2EE-4A4C-A7B4-7692F166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D035-5E3A-413A-B23C-F7ECFD07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DD92-7D05-497E-A1CC-B2410B36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111D-3F4D-492D-9D41-473CB81D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5430-5D2F-4FF8-B0AD-0B8B5472873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4BF5-FA52-4B21-9F2C-82247A0FE3B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Highlights 2004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Establishment Secretariat of the Network for Action on TB and Poverty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A platform for TB control and opportunity for Poverty experts to create a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synergy for coordinated action in support of countries and the poor.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WHO Guide for NTP managers on TB and Poverty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In response to the demand from countries, endorsed by the STAG and DEWG, WHO spearheads this normative publication on how to mainstream pro-poor approaches in DOTS and TB control programmes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National Partnerships</a:t>
            </a: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Stop TB Pakistan (April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Arial"/>
              </a:rPr>
              <a:t>Stop TB Mexico (Sept '04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Priorities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National Partnerships to Stop TB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80000"/>
              </a:lnSpc>
              <a:spcBef>
                <a:spcPts val="349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20000"/>
                </a:solidFill>
                <a:latin typeface="Arial"/>
              </a:rPr>
              <a:t>Uganda, Brazil, Russian Federation, (France, Croatia)</a:t>
            </a: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Launching the WHO guide on TB and Poverty for NTP managers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Expanding TB Poverty related activitie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20000"/>
                </a:solidFill>
                <a:latin typeface="Arial"/>
              </a:rPr>
              <a:t>(Sub-)Regional Partnerships</a:t>
            </a:r>
            <a:r>
              <a:rPr b="0" lang="en-GB" sz="1600" spc="-1" strike="noStrike">
                <a:solidFill>
                  <a:srgbClr val="72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Arial"/>
              </a:rPr>
              <a:t>EURO :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349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20000"/>
                </a:solidFill>
                <a:latin typeface="Arial"/>
              </a:rPr>
              <a:t>European Partnership to Stop TB (Stop TB Europe)</a:t>
            </a: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349"/>
              </a:spcBef>
              <a:spcAft>
                <a:spcPts val="1749"/>
              </a:spcAft>
              <a:buClr>
                <a:srgbClr val="ff33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720000"/>
                </a:solidFill>
                <a:latin typeface="Arial"/>
              </a:rPr>
              <a:t>CAR Sub-Regional Partnership under development</a:t>
            </a: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Clr>
                <a:srgbClr val="ff33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720000"/>
                </a:solidFill>
                <a:latin typeface="Arial"/>
              </a:rPr>
              <a:t>SEARO / AFRO : under development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lnSpc>
                <a:spcPct val="80000"/>
              </a:lnSpc>
              <a:spcBef>
                <a:spcPts val="400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diazv</cp:lastModifiedBy>
  <cp:lastPrinted>2004-03-17T17:37:17Z</cp:lastPrinted>
  <dcterms:modified xsi:type="dcterms:W3CDTF">2004-10-04T14:22:13Z</dcterms:modified>
  <cp:revision>141</cp:revision>
  <dc:subject/>
  <dc:title>Secretariat, 2003 Progress Report</dc:title>
</cp:coreProperties>
</file>