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29CA7-5004-4076-9A13-6E7047063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C1A13-8D62-42C7-B097-F2AADEF98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B58F3-9497-42D5-8EB8-1F97E47F0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916E6-3147-4B1C-82DD-7095C61FA9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E0C0F-6B61-4B9E-846A-54D1826357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1E070-4D98-49DF-9C1E-C9E528A39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70463-509A-47BE-8FB6-1C6C077AEC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9D491-685B-4043-91A4-1E3EA0EBF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678A-DC88-454A-8DB7-7D7C0A1FF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9561-5DBE-40BF-8645-36B180A97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51A5-8278-4593-BB3A-E26F5F64D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317B-7693-4BCD-AC25-25131A239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3E593-D54D-4FC3-BD43-631B1F484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36996-5667-49DF-B847-A7EEA4A2A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23AB4-D047-4CA8-B07E-77A3EFCFD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406AE-0F5A-4309-BC38-F4D7F04C7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9339D-8545-4D37-9B3A-D583E98D9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D5AFC-27DE-47DC-A0DF-9F0E20389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F66F6-53DC-47F9-AB11-6B3C7F2C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C6F3-F9D7-4E76-ACF6-117113F43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6D357-2408-4EE8-9F14-4D7E2D4A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FF2CB-084E-4722-A85B-112D82E1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1D466-4E23-44CD-9EE2-1F3D056B8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C2C61-6A07-4B29-871E-B60471559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B3908-47E6-4725-B9B2-ED834B69D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D623-3316-4731-AD35-E580258D1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5AC1-CC60-4D06-B724-1AAD1DD5A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C428-7CFD-45F0-A492-341A4E4DF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5BEE-A9E8-4DC0-9138-BDB31E20F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94DE-D194-4B08-8B5D-D7BAC5A2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3E78-088D-4028-B7B5-9FE69FD5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E951-C911-492F-A874-0D7E0A6C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912C3-C939-46CB-AC60-2289C8636C9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F4488-9DCE-453C-B119-07318432184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23640" y="1483920"/>
            <a:ext cx="8064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  <a:ea typeface="宋体"/>
              </a:rPr>
              <a:t>Resource Mobilisation Action Plan 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  <a:ea typeface="宋体"/>
              </a:rPr>
              <a:t>2004-2005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  <a:ea typeface="宋体"/>
              </a:rPr>
              <a:t>Irene Koe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Chair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esource Mobilisation Task Force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Stop TB Partnership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7th Coordinating Board Meeting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4 October 2004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eijing, China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32944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Background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Based on the 2003 Resource Mobilisation Strategy and modified to reflect changes in the environ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Seeks to generate resources for the Partnership as a whole and the Secretariat-management programs in particula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eed: US$3.77 billion for the Partnership as a whole and US$40.6 million for the programs managed directly by the Secretariat (GDF, working groups, etc.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ction Plan Objectiv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a set of support structures and formal process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sure donors recognise the challenge of TB control and give high priority to supporting Stop TB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Increase flow of resources from the existing supporters of the Stop TB Partnership in a timely manne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new fund-raising products and approach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Objective 1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96472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402fc"/>
                </a:solidFill>
                <a:latin typeface="Arial"/>
              </a:rPr>
              <a:t>Develop a set of support structures &amp; formal process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omplete baseline information on donors and resources contributed by them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stablish strategic alliance between Stop TB and other development oriented institutions/initiativ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422360" indent="-5079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RBM, UNAIDS, GFATM etc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Re-examine and revamp the Resource Mobilisation Director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Use internet for fund raising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532908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Objective 2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402fc"/>
                </a:solidFill>
                <a:latin typeface="Arial"/>
              </a:rPr>
              <a:t>Increase donors recognition &amp; support for the Stop TB Partnership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ollaborate with the Communication and Advocacy working group to develop a global communication strategy that has fund raising as an integral pa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32944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Objective 3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96472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402fc"/>
                </a:solidFill>
                <a:latin typeface="Arial"/>
              </a:rPr>
              <a:t>Increase resource flow from the existing supporters in a timely manner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Build support from bilateral government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closer ties with GFATM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ultivate support from the EU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Identify several private foundations/commercial enterprises to engage as new supporters and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stablish links with fraternal organisations like the Rotary Internationa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2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xplore the possibility of securing the support of high net worth individuals</a:t>
            </a:r>
            <a:r>
              <a:rPr b="1" lang="en-GB" sz="8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Objective 4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569440" cy="43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23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402fc"/>
                </a:solidFill>
                <a:latin typeface="Arial"/>
              </a:rPr>
              <a:t>Develop new fund raising products and approach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239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23960" indent="-7239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termine the type of products that will appeal to       donors and that will make the case clearl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23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23960" indent="-7239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xplore cause-related marketing with some large multinational enterpris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23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23960" indent="-7239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xplore the concept of planned giving for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23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high-net worth individual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3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commendation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496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Convert the Resource Mobilisation Task Force into and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ad hoc</a:t>
            </a: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 advisory group available to the Secretariat and the Board on an as needed basi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Operationalise the Resource Mobilisation Action Pla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Arial"/>
              </a:rPr>
              <a:t>Allocate responsibilit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Arial"/>
              </a:rPr>
              <a:t>Agree a sequenced schedule of work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Arial"/>
              </a:rPr>
              <a:t>Agree a time line with all concern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Arial"/>
              </a:rPr>
              <a:t>Agree on resources to be allocated for the pla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Execute the Action Pla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Update the plan based on a feedback in November 2005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vijaya</cp:lastModifiedBy>
  <dcterms:modified xsi:type="dcterms:W3CDTF">2004-10-21T14:44:33Z</dcterms:modified>
  <cp:revision>33</cp:revision>
  <dc:subject/>
  <dc:title>Financial situation,  Budget &amp; plans 2005</dc:title>
</cp:coreProperties>
</file>