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B99-F44E-4954-B639-D80E7677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63A-9ADB-40FB-9EFD-589411BC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051E-EE49-437D-9266-15985F35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241-BB46-493C-A71C-AAF71883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006-A9E0-4C29-AE8E-A015F732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1FC-5E69-4552-AA74-E83E08F9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AC15-02A3-4423-BF93-CF52EDB6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393-2E7C-4468-8727-AD1186BA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1B6-F6A8-4DD8-9DA2-502ECF3D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1A8-4873-405A-843B-9C9E505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070-5B89-4155-9B8F-8DF3C942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B55-ECEA-4B41-92BD-BFB8BC2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3F53-61BE-4BC9-852E-7BC8CB737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0872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Meeting of chairpersons of Working Groups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aturday 16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3516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view of progress in developing the Global Plan 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ntribution of Working Groups to the Global Plan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imel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120" y="162864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ime 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8120" y="765000"/>
            <a:ext cx="84549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– March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scenarios and inter-active planning process with Working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ach WG should identify a focal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 – May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by each Working Group of workplan, 2006-2015, guided by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- Jun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nalisation of Global Plan, 2006-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take-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29:12Z</dcterms:modified>
  <cp:revision>93</cp:revision>
  <dc:subject/>
  <dc:title>Africa: HIV is driving the TB epidemic TB notification rates, 1980-1998</dc:title>
</cp:coreProperties>
</file>