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00555-B523-421E-92AA-6556B7D3D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6F4F5-EAAF-450D-BCD3-DA9B8ACC7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A9300-0AC2-4EED-B01B-07DA42852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92131-83C0-4F39-9E7B-058A44EF1D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0FC5B-DB39-42C0-9CD1-2F1F9CD5D6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219F9-3DB7-422A-9609-FF3F291DF8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6A310-599F-4B15-A712-D8EAF5DC9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FE4CF-7F76-4F3F-8852-1C5EE9675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1356D-6D24-4626-9212-4B49A00D0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0041F-A706-43FE-93AE-95828FA55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B31A5-9FF8-45E2-BB4E-B56D705C7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7B8C7-8A47-4E16-912D-CCC3DE209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igh Level Mission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50648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 tool of the STB Coordinating Board  for political advoc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, based on the request, the draft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finalise and the Chair of CB approves the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 with the host the detailed program, press events and provides logistical liais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ost is responsible for actual progra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rapporteur prepares joint report after the visit to full CB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report back to their respective constituenc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Discu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xpanded Purpose of HL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ot only just TB burde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cludes international and global governance attenda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asible number of HLMs per ye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lection of HLM members based on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reparation by secretaria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porting and feed back to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Who will pay for the expenses?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s of High Level Miss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General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represent the Global Stop TB Partnership (incl. its componen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enhance the profile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advocate effective TB control using international standards and strateg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highlight Stop TB achievement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pecific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generate additional support for TB control and DOTS among key decision mak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obtain political commit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High Level Missions to go where….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TB burden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 and international meetings with relevant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, international or global political governance entit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new governmental dono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(global) summi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y High Level Missions in the international and global arena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demonstrate the global solidarity of Stop TB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increase awareness about TB contro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put TB on the relevant political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generate political and macro-economic interests, resulting in additional fun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713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me NTPs meet specific constraints beyond their influence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y High Level Missions to countries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3141720"/>
            <a:ext cx="3816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330880"/>
            <a:ext cx="3745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2175120"/>
            <a:ext cx="28796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priority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TB allocation in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ing with other programs and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2176200"/>
            <a:ext cx="482436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commi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Health policy in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soci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e underlying proces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3673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When meeting and discussing with the key politicians and decision makers, the crucial issues of TB control are presented from an 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international and global perspective.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he issues are likely to be taken more seriously and with a different dimension than if it comes from a lower level voice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584320"/>
            <a:ext cx="864216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Using high level political peer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at happened up till now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igh Level Missions to countries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onl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like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dones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Banglades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Niger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Participation on basis of individual interest and availability of CB memb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prior Terms of Reference or brief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reporting back to the Coordinating Boar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roposal: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king High Level Missions effectiv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Decis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B decides on HLMs based on substantiated requests from countries or partners and selects </a:t>
            </a:r>
            <a:r>
              <a:rPr b="1" i="1" lang="en-GB" sz="2000" spc="-1" strike="noStrike">
                <a:solidFill>
                  <a:srgbClr val="720000"/>
                </a:solidFill>
                <a:latin typeface="Tahoma"/>
              </a:rPr>
              <a:t>constituencies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to participat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epar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repare TOR and determine expected outcome and results; detailed program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tailed briefing document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Actual visi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Being open, sensitive, constructive and diplomatic; demonstrate joint purpos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por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Joint report with conclusions and recommendations to the full Coordinating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B invites HLM members based on their respective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constituenc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and allows for a representative to participat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ecretariat participates in the HLM with one high level staff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M members agree on a spokesperson and a rapporteur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7T17:02:39Z</dcterms:modified>
  <cp:revision>176</cp:revision>
  <dc:subject/>
  <dc:title>Secretariat, 2003 Progress Report</dc:title>
</cp:coreProperties>
</file>