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EF9-2D06-4C33-B52E-D5DD4108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6715-4E9B-4106-AE70-73C705FB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E16-D8A3-4084-9734-EF340B5E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EFE-E562-4B35-8523-273E1080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1ADD-5320-43C5-AF90-11C6D28E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FC20-668E-4D57-B158-B0C7D10F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1D34-51F1-4F88-B758-61E6DF20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F5C-3C23-4C97-8BA2-97DDBFD8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A3DB-63F9-40AB-BF62-901CA620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ACC5-7B42-46E0-9150-2535EA57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AB18-98D8-49D5-BA81-6D776835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B34B-84FA-41BC-9A3F-24049BED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3B5D-82E5-4890-B13B-A0AF8E747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hen to launch the Global Pl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125360"/>
            <a:ext cx="87058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nerate media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ow how the Global Plan responds to calls to achieve the 2015 TB control targets (World Health Assembly resolution May 2005, UNGASS on MDGs 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tween WHA (May 2005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UNGASS (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ld TB Day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op TB Partners' Forum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provide a pre-publication version at UNGASS and launch the document  in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Who can champion the Global Pl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8120" y="1125360"/>
            <a:ext cx="8705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osed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o Stop TB?</a:t>
            </a:r>
            <a:br>
              <a:rPr sz="3600"/>
            </a:br>
            <a:br>
              <a:rPr sz="48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1970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5 (World Health Assemb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tect 70% of smear-positiv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reat successfully 85% of all such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15 (Millennium Development Go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crease TB prevalence and deaths by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ement of the impact targets (prevalenc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deaths) depends on sustained achievement of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rocess targets (case detection and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su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 global plan: 2000-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cribed mechanisms, activities and resources needed to accelerate progress towards 200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s of action of 6 Stop TB working 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-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B/H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c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76832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mbers of steering committ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12536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Adeyi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Ahmed (Bangladesh Rural Advancement Committ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Freire (Alliance for TB drug develo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Omaswa (Ministry of Health, Uga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Shah (National TB Programme, Pakist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5:51Z</dcterms:modified>
  <cp:revision>91</cp:revision>
  <dc:subject/>
  <dc:title>Africa: HIV is driving the TB epidemic TB notification rates, 1980-1998</dc:title>
</cp:coreProperties>
</file>