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9EB-8189-4DD3-AC7F-BEEF714F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95C9-E24A-4127-A1FC-63F88D04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DD7-2787-44AA-AC3E-20ADB29E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1F3-C452-4D8E-827A-4509B210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78E6-8073-40D9-B4AA-AD79137F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65F5-C21F-43D0-9728-4DDE0098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75E1-26A9-4413-A6C4-66861E4E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9040-08AD-4B32-ADB2-F53C803B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2DE4-8C4C-45ED-A0A1-A8946571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57A5-4685-4097-AE2C-024639C6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5FA1-EAE2-4B5B-B341-06D098FE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631-CDCB-4C99-8027-393F1078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6604-82DE-4C56-82B9-976C8B0F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8279-1DC3-4978-8C3B-5623C876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247B-3D83-4CCF-88F4-839A54B5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F0A6-13BD-4900-9BC9-CFE3D40D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5310-03EA-4FFD-853A-1D100E36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14E-7DFD-48A9-AC4E-6E3F27FA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106-6A73-435C-811E-A6BF1C20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A75-4F6E-4F0F-951B-D69EB3DD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31F-B339-4B51-AF95-6377779D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461-30EA-491B-ACC9-81A45BA7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770-E1C5-45AA-95BA-359FD5C2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3D2-144E-42B7-85CB-7EB3BE3C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EAC8-4002-4440-9324-987E459C722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4B6B-7F5B-4896-8B68-B949CFCC240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for Action on TB and Povert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9319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mote access to DOTS and TB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gramm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the Network Action on TB and Poverty 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platform for TB control and Poverty experts to create a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ynergy for coordinated action in support of poor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ction and output orient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ase detec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ure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vidence and performance bas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nking TB control with global and local poverty alleviation initiativ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anaged by 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ational Tuberculosis Programme of Malawi, in conjunction with the local NGO Reach Tru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ctive participation from the DOTS Expansion Working Group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hy do we need 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TB is higher among the poor than the non poo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 easy access for the poor to health services due to: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athways to diagnosis of TB patients extended due to repeated visits to different care providers, regardless of socio-economic statu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spend proportionally more on accessing TB diagno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are sometimes actively excluded from TB servic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TS can help to fight poverty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-poor access to DOTS helps reaching the TB targets of case finding and c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twork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key stakeholders to promote action on TB and Poverty prioritising the AFRO reg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case studies will be presented at the IUATLD Par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ster research to inform TB control operations and poli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te pro-poor approaches using DOTS and link up with other initiatives and funding (e.g. Fidelis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etwork Product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ve pro-poor approaches in DOTS applied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Guide on TB and Poverty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framework for mainstreaming of poverty in TB control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&amp;E on poverty mainstreaming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research on demand from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and exchanges with other health equity initiativ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ds to the demand from countries on how to mainstream TB poverty in DOTS and TB control programm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tive paper on TB and Poverty as policy guiding tool and practical roadma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strategic and practical guidance to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O Guide on TB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nd Pov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unching the WHO guide on TB and Poverty for NTP manag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ing TB Poverty related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ilitate representation for the network to the other working group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mote special features on TB and Poverty at national/regional meeting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Nils Billo</cp:lastModifiedBy>
  <cp:lastPrinted>2004-03-17T17:37:17Z</cp:lastPrinted>
  <dcterms:modified xsi:type="dcterms:W3CDTF">2004-10-14T00:25:33Z</dcterms:modified>
  <cp:revision>176</cp:revision>
  <dc:subject/>
  <dc:title>Secretariat, 2003 Progress Report</dc:title>
</cp:coreProperties>
</file>