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EC44-992C-4716-BED8-E208506BB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A06A-73D9-46C4-BFCD-1A29F0047B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1A7C-DE0C-43E6-948D-9CE11DF43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EA40-C65D-4B7E-A1B5-F71C44498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5EF9-6934-4AA0-8BDA-40FFB68E4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A98D-B97A-4AFA-B192-B27CBC5FE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E00D1-7B48-4501-8F38-BFA024F4E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229F-B4D5-4396-A963-A1CC89064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0F39F-104D-4518-AA86-D80B35ED1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A48E-2C37-4228-A4EC-B738C568E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AEE8-225F-482D-BEBE-C0EFEA57C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3A62E-E2AF-4E86-B27F-914B4D9FB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24000" y="623700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, 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59280" y="6308280"/>
            <a:ext cx="5223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ng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eijing 14 – 15 Octo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igh Level Mission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50648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 tool of the STB Coordinating Board  for political advoc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, based on the request, the draft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finalise and the Chair of CB approves the Terms of Refere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cretariat prepares with the host the detailed program, press events and provides logistical liais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ost is responsible for actual progra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rapporteur prepares joint report after the visit to full CB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HLM members report back to their respective constituenc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Discu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Expanded Purpose of HLM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Not only just TB burde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Includes international and global governance attendan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asible number of HLMs per yea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Selection of HLM members based on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reparation by secretariat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porting and feed back to constituen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Who will pay for the expenses?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urposes of High Level Miss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General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represent the Global Stop TB Partnership (incl. its componen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enhance the profile of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advocate effective TB control using international standards and strateg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highlight Stop TB achievement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pecific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generate additional support for TB control and DOTS among key decision mak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o obtain political commit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High Level Missions to go where….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TB burden countr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 and international meetings with relevant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regional, international or global political governance entiti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new governmental dono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(global) summi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Why High Level Missions in the international and global arena?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demonstrate the global solidarity of Stop TB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increase awareness about TB contro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put TB on the relevant political agenda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 generate political and macro-economic interests, resulting in additional fun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713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me NTPs meet specific constraints beyond their influence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y High Level Missions to countries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3141720"/>
            <a:ext cx="3816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30880"/>
            <a:ext cx="374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2175120"/>
            <a:ext cx="2879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priority for T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w TB allocation in bud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ing with other programs and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2176200"/>
            <a:ext cx="4824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political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Health policy indif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Lack of social 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underlying proces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367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When meeting and discussing with the key politicians and decision makers, the crucial issues of TB control are presented from an 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international and global perspective.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he issues are likely to be taken more seriously and with a different dimension than if it comes from a lower level voice.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5584320"/>
            <a:ext cx="864216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Using high level political peer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hat happened up till now?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igh Level Missions to countries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onl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like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dones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Banglades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Nigeria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Participation on basis of individual interest and availability of CB member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prior Terms of Reference or brief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No reporting back to the Coordinating Boar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posal: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king High Level Missions effect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Decis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CB decides on HLMs based on substantiated requests from countries or partners and selects </a:t>
            </a:r>
            <a:r>
              <a:rPr b="1" i="1" lang="en-GB" sz="2000" spc="-1" strike="noStrike">
                <a:solidFill>
                  <a:srgbClr val="720000"/>
                </a:solidFill>
                <a:latin typeface="Tahoma"/>
              </a:rPr>
              <a:t>constituencies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to participat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repar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Prepare TOR and determine expected outcome and results; detailed program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tailed briefing document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Actual visi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Being open, sensitive, constructive and diplomatic; demonstrate joint purpos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por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Joint report with conclusions and recommendations to the full Coordinating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roposed procedures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B invites HLM members based on their respective </a:t>
            </a:r>
            <a:r>
              <a:rPr b="1" i="1" lang="en-GB" sz="3200" spc="-1" strike="noStrike">
                <a:solidFill>
                  <a:srgbClr val="720000"/>
                </a:solidFill>
                <a:latin typeface="Tahoma"/>
              </a:rPr>
              <a:t>constituency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and allows for a representative to participat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ecretariat participates in the HLM with one high level staff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M members agree on a spokesperson and a rapporteur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diazv</cp:lastModifiedBy>
  <cp:lastPrinted>2004-03-17T17:37:17Z</cp:lastPrinted>
  <dcterms:modified xsi:type="dcterms:W3CDTF">2004-10-07T17:02:39Z</dcterms:modified>
  <cp:revision>176</cp:revision>
  <dc:subject/>
  <dc:title>Secretariat, 2003 Progress Report</dc:title>
</cp:coreProperties>
</file>