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423C-98D7-439F-9F7B-4FF7993B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10F3-0A73-4660-AD6A-9EA200F9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3784-3B30-41F5-9D4C-6C7D34200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03B6-5682-4913-B508-20E902D69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18A8-A8B2-4088-9388-1E9BDEA0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0BAA-BFDF-461E-A4FF-C0E4CA9F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C7F8-4A0B-471E-9A5D-C18ACED7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4944-7ED7-4162-9470-FC965E1B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DEBD-6E39-4864-AF9F-527AD5B7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FAE0-53A9-4FA4-A231-505E0D65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4350-448E-4971-8FE8-B55D9294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90C7-7116-44AB-AEB2-0D93D1BB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64B6-C1A4-479C-9963-002805F68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hlights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1341000"/>
            <a:ext cx="7632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B approved Financial Policy being applied which led to better control through  improved financial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transactions of GDF streaml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Working Groups given resources to catalyse thei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lk of the contributions from Bilateral Government sources-85.5% of the total income of US$13.8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total expenditure of US$10.8 million TB Control Drugs cost 78% while other partnership activities cost 23% of the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ed income for the whole year US$23.1 million, projected expenditure US$ 23.6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hlights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640" y="134136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jected shortfall for 2005 25 million based on Targeted Workp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erted effort to be made for mobilising more resources by targeting more donors in the current donor segments and by exploring new donor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inued catalytic support to all Working Grou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st draft of the Global Plan to control TB to provide overall business plan for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with GFATM to become clo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and Communication effort to be intensified considerable to increase political support and enhance public awarenes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8:56:30Z</dcterms:created>
  <dc:creator>vijaya</dc:creator>
  <dc:description/>
  <dc:language>en-US</dc:language>
  <cp:lastModifiedBy>vijaya</cp:lastModifiedBy>
  <dcterms:modified xsi:type="dcterms:W3CDTF">2004-10-04T09:49:34Z</dcterms:modified>
  <cp:revision>6</cp:revision>
  <dc:subject/>
  <dc:title>Highlights</dc:title>
</cp:coreProperties>
</file>