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DCA9-EDBC-4762-BFA2-0F5F4337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B0E-5845-4FD8-8041-78F8CBA3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6A5-0DD3-4C30-BA36-8CC3011D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E4C-1297-4C48-B8D8-0143D3F0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481E-9135-4906-A86C-05BA08FB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4001-DC8F-48F3-8A76-E7F8852D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21FD-02E6-4A2F-8DBB-91D45003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9890-DCEB-437F-9A2B-452E7D7E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ABED-7AC5-4A2F-B317-A66354A9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DE18-355D-46F3-B6FE-8CBEDBD9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FA54-77F1-4594-9C82-B5BFAEFE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606-D031-435E-91A5-D538659F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6613-AD41-453A-AB74-F379D4DD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0451-2D43-488A-A6BC-AE518B1D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8792-C85B-4A8B-88FA-C43A376E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2D0F-A934-4284-862E-21D3D98D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42D0-510C-4501-822D-B9921133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A8F5-8F1F-4B90-B0E3-494523AF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E4E-DE28-4B72-BFCE-D0CA93EC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9AD9-E13C-4CB3-B406-7444AB3F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4D5-A3E5-491A-8A2F-D2BA258E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12D-ECFF-4A34-B48D-9EC097EE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3C5-CFA4-4E8A-9061-3D844B8C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64A-F7AB-4968-9953-7A330474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91E5-28EE-46B1-B5B4-A7D5430C799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1D81-810F-4329-8A29-C754FDCCBC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for Action on TB and Povert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9319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mote access to DOTS and TB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gramm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the Network Action on TB and Poverty 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 platform for TB control and Poverty experts to create a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ynergy for coordinated action in support of poor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ction and output orient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ase detec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ure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vidence and performance bas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inking TB control with global and local poverty alleviation initiativ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Managed by t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National Tuberculosis Programme of Malawi, in conjunction with the local NGO Reach Tru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ctive participation from the DOTS Expansion Working Group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Why do we need 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istribution of TB is higher among the poor than the non poo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 easy access for the poor to health services due to: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athways to diagnosis of TB patients extended due to repeated visits to different care providers, regardless of socio-economic statu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spend proportionally more on accessing TB diagno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are sometimes actively excluded from TB servic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TS can help to fight poverty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-poor access to DOTS helps reaching the TB targets of case finding and c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twork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 key stakeholders to promote action on TB and Poverty prioritising the AFRO reg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case studies will be presented at the IUATLD Par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ster research to inform TB control operations and poli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te pro-poor approaches using DOTS and link up with other initiatives and funding (e.g. Fidelis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etwork Product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ovative pro-poor approaches in DOTS applied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Guide on TB and Poverty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framework for mainstreaming of poverty in TB control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&amp;E on poverty mainstreaming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 research on demand from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and exchanges with other health equity initiativ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ds to the demand from countries on how to mainstream TB poverty in DOTS and TB control programm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tive paper on TB and Poverty as policy guiding tool and practical roadma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strategic and practical guidance to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O Guide on TB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nd Pov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unching the WHO guide on TB and Poverty for NTP manag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anding TB Poverty related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ilitate representation for the network to the other working group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mote special features on TB and Poverty at national/regional meeting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Nils Billo</cp:lastModifiedBy>
  <cp:lastPrinted>2004-03-17T17:37:17Z</cp:lastPrinted>
  <dcterms:modified xsi:type="dcterms:W3CDTF">2004-10-14T00:25:33Z</dcterms:modified>
  <cp:revision>176</cp:revision>
  <dc:subject/>
  <dc:title>Secretariat, 2003 Progress Report</dc:title>
</cp:coreProperties>
</file>