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31D-BBC4-4D3B-8845-3F9F2840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408A-3737-45DD-B38A-DA748B5B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3A55-3C07-4F6D-9410-A9367075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3B72-8C9D-4388-9149-D25498EF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4CE8-2612-4001-97BE-3037C1F9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7EBA-5200-4E38-A997-ECB9C4CD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6A28-DD7E-40B9-BD04-9DEBD572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BB3-F946-487F-A582-7AF5A1CE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163C-7C04-401A-8299-6DA1EFBA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0BA-3FD0-445E-9A02-841493C7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F54-0771-4024-90C3-287AD38C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05BC-C2E5-440C-BD6C-7585E355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5A86-95FE-416E-8D33-54B1FABD7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0720" y="645336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5B70-FAEC-41E5-85DE-A6D2F508D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17520" y="0"/>
            <a:ext cx="8424360" cy="1124640"/>
            <a:chOff x="317520" y="0"/>
            <a:chExt cx="8424360" cy="1124640"/>
          </a:xfrm>
        </p:grpSpPr>
        <p:graphicFrame>
          <p:nvGraphicFramePr>
            <p:cNvPr id="6" name=""/>
            <p:cNvGraphicFramePr/>
            <p:nvPr/>
          </p:nvGraphicFramePr>
          <p:xfrm>
            <a:off x="3498120" y="169560"/>
            <a:ext cx="2557440" cy="67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98120" y="169560"/>
                      <a:ext cx="25574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5991120" y="169560"/>
            <a:ext cx="2750760" cy="67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91120" y="169560"/>
                      <a:ext cx="27507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" name=""/>
            <p:cNvGraphicFramePr/>
            <p:nvPr/>
          </p:nvGraphicFramePr>
          <p:xfrm>
            <a:off x="3498120" y="848880"/>
            <a:ext cx="5243400" cy="25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98120" y="848880"/>
                      <a:ext cx="5243400" cy="25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" name=""/>
            <p:cNvGraphicFramePr/>
            <p:nvPr/>
          </p:nvGraphicFramePr>
          <p:xfrm>
            <a:off x="317520" y="0"/>
            <a:ext cx="1912680" cy="806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7520" y="0"/>
                      <a:ext cx="1912680" cy="80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" name=""/>
            <p:cNvGraphicFramePr/>
            <p:nvPr/>
          </p:nvGraphicFramePr>
          <p:xfrm>
            <a:off x="317520" y="848880"/>
            <a:ext cx="1912680" cy="275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17520" y="848880"/>
                      <a:ext cx="191268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" name=""/>
            <p:cNvGraphicFramePr/>
            <p:nvPr/>
          </p:nvGraphicFramePr>
          <p:xfrm>
            <a:off x="2208600" y="848880"/>
            <a:ext cx="1289160" cy="275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08600" y="848880"/>
                      <a:ext cx="128916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" name=""/>
            <p:cNvGraphicFramePr/>
            <p:nvPr/>
          </p:nvGraphicFramePr>
          <p:xfrm>
            <a:off x="2208600" y="169560"/>
            <a:ext cx="1289160" cy="6793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208600" y="169560"/>
                      <a:ext cx="12891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ing Technology for Rapid Diagnosis of TB in HIV and MDR TB pat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Giorgio Roscig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and New DX W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-Associated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9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V infection is the greatest risk factor for the development of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ssociation with HIV, rates of TB have increased as much as 5-fold in countries in sub-Sahara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jority of HIV-associated TB cases are AFB sputum smear-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240480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roved diagnosis of smear-negative TB in HIV+ patients has been designated as a research priority for last 15 ye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number of diagnostic algorithms have been evaluated but none has proved to be adequ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novel technologies are available for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lture diagnosis, the standard of care in developed countries, is generally not available in areas impacted by TB/HIV and even when it is :  is slow ( 3 to 6 week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DR TB has been identified as a significant problem in a number of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tandardized approach (DOTS-Plus) and a mechanism to provide for low cost drugs and comprehensive package of care (Green Light Committee) has been successfully developed to provide for MDR TB treatment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280" y="126792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ajor limitation together with appropriate surveillance to the expansion of DOTS-Plus programs is the lack of capacity for drug susceptibility testing (DS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T and standardized or individualized drug treatment regimens are needed to reduce mortality rates for those with MDR TB or MDR su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any programs where DST is available the methodology is slow and cumbersome so that results do not inform treatment deci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, standardized liquid TB culture and DST systems are standard practice in EM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manufactured by Becton Dickinson is a leader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utomated and manual MGIT systems ar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could provide results in smear negative in 10 to 15 days as opposed to 3 to 6 weeks with L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systems should be demonstrated in operational research settings in National Tuberculosis Control Programs in High HIV and MDRTB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livering relevant DST results for MDR-TB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C, CDC, IUATLD, STB, WHO &amp; TDR, DOTS-plus WG,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04 Delhi partnership with DOTS-plu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04 Moscow mtg on DST (strategic plan outl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Geneva mtg (consensus agr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04 Paris mtg (site selection/logistics/launch demonstration pro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olving the smear-negative crisis in HIV 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tics WG, DOTS-expansion, CREATE, TB/HIV WG, CDC, IUATLD, STB, WHO &amp; TDR, 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plan from FIND for improved case detection in HIV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FIND demonstration network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4 STB Coordinating Board consid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30 Corporate partner agreement announ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FIND and Diagnostics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2216160"/>
            <a:ext cx="842472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ment for cooperation with Becton-Dicki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sion of technical support and training  for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ment for test kits , manual and automated machines  in the public sector (tender market) at affordable prices ( discount over 90 %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partners and implement TB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lve HIV programs in the stud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conditions for equitable and careful ac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umulate and manage data to provide for eventual policy 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.e., WHO recommendations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ical Issues to be addre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onl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vs. 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 equipment package to support MGI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ew tube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160" y="189000"/>
            <a:ext cx="85816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Recent Advances in TB Diagnos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4056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C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e hybridization species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fication-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probe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LP finger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TD transcription-mediat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TD approved by F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2001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tiferon FDA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    Ellispot approved in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NTP in demonstratio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data at different level of the public health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ence for manual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technology in HIV clin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of a GLC like Committee to carefully select sites for demonstration projects and for future introduction in N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27280" y="342900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Lack of progress in diagnostics in the developing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93640" y="557388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1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43640" y="263700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32680" y="5573880"/>
            <a:ext cx="26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97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overy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268280"/>
            <a:ext cx="193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844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argets &amp; 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84464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mpanies &amp;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11970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17733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tion &amp;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17733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1197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rket up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720" y="861840"/>
            <a:ext cx="3049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816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962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9112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1916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9400" y="10904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1880" y="6103800"/>
            <a:ext cx="762120" cy="754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05720" y="6248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HO/TDR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133720"/>
            <a:ext cx="811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20-year ol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nority of patients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ng delays = morbidity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uch over and undertreatment in HIV preval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sistance clinically diagn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tent infection tools clumsy and indiscri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125360"/>
            <a:ext cx="856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Current TB diagnostic situation in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public health sector in HB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50920" y="1341360"/>
            <a:ext cx="8641800" cy="5256000"/>
            <a:chOff x="250920" y="1341360"/>
            <a:chExt cx="8641800" cy="5256000"/>
          </a:xfrm>
        </p:grpSpPr>
        <p:sp>
          <p:nvSpPr>
            <p:cNvPr id="88" name=""/>
            <p:cNvSpPr/>
            <p:nvPr/>
          </p:nvSpPr>
          <p:spPr>
            <a:xfrm>
              <a:off x="654120" y="1341360"/>
              <a:ext cx="8163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58000" y="1379160"/>
              <a:ext cx="629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BERCULOSIS DIAGNOSTICS CURRENTLY USED I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12320" y="1659960"/>
              <a:ext cx="5365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COUNTRIES ARE NOT OPTIM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2856600"/>
              <a:ext cx="1550880" cy="6048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5040" y="308412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utum sm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363960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2280" y="386892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0920" y="4434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8360" y="466344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st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8400" y="46634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93400" y="466344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0920" y="5217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3080" y="544644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P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27520" y="2279880"/>
              <a:ext cx="1728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44480" y="244152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ensitiv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39400" y="2850480"/>
              <a:ext cx="1730160" cy="60624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1840" y="2900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0240" y="29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5640" y="29008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7600" y="3035160"/>
              <a:ext cx="1026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world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ø AIDS: ~ 60%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+ AIDS: ~ 40 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6520" y="3304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39400" y="363492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61840" y="36856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0240" y="368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5640" y="36856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27600" y="3953880"/>
              <a:ext cx="1040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ew studies don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39400" y="442944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1840" y="4480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20240" y="4480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5640" y="4480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39400" y="5212800"/>
              <a:ext cx="173016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1840" y="5263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0240" y="526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5640" y="5263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18160" y="2279880"/>
              <a:ext cx="1742760" cy="3537000"/>
              <a:chOff x="3818160" y="2279880"/>
              <a:chExt cx="1742760" cy="3537000"/>
            </a:xfrm>
          </p:grpSpPr>
          <p:sp>
            <p:nvSpPr>
              <p:cNvPr id="123" name=""/>
              <p:cNvSpPr/>
              <p:nvPr/>
            </p:nvSpPr>
            <p:spPr>
              <a:xfrm>
                <a:off x="3818160" y="2279880"/>
                <a:ext cx="1729800" cy="471960"/>
              </a:xfrm>
              <a:prstGeom prst="rect">
                <a:avLst/>
              </a:prstGeom>
              <a:solidFill>
                <a:srgbClr val="00582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35840" y="2441160"/>
                <a:ext cx="633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Specifi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31120" y="2850120"/>
                <a:ext cx="1729800" cy="60624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45360" y="2900520"/>
                <a:ext cx="298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9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17880" y="3170520"/>
                <a:ext cx="1442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uch lower in develop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18960" y="3304440"/>
                <a:ext cx="900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ld, e.g., 50%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31120" y="3634560"/>
                <a:ext cx="1729800" cy="6048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51760" y="36853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12320" y="3685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07360" y="368532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9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17880" y="3953520"/>
                <a:ext cx="1436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Depend on prevalence of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20400" y="4087800"/>
                <a:ext cx="21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32800" y="4087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68800" y="4087800"/>
                <a:ext cx="956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B Mycobacter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31120" y="4429080"/>
                <a:ext cx="1729800" cy="60480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760" y="44798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6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12320" y="447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07360" y="447984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7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16800" y="4748040"/>
                <a:ext cx="1520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based on studies in Kenya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19680" y="4881960"/>
                <a:ext cx="605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amp; Ethiop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1120" y="5212440"/>
                <a:ext cx="1729800" cy="60444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73400" y="5262840"/>
                <a:ext cx="12002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y lo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lse pos. results wi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 prior exposure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-  vaccin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8461080" y="256104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8440" y="6350760"/>
              <a:ext cx="722484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160" y="6414480"/>
              <a:ext cx="3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10160" y="6414480"/>
              <a:ext cx="314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sitivity/Specificity: Many references for smear; fewer for o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46840" y="6414480"/>
              <a:ext cx="3319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r techniques. Mostly estimates; Costs: TDR (unpublished dat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0040" y="2281320"/>
              <a:ext cx="173016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91000" y="24433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3720" y="2851920"/>
              <a:ext cx="1729800" cy="606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96800" y="3046680"/>
              <a:ext cx="126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1 h / t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- 3 days for 3 samp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3720" y="3636720"/>
              <a:ext cx="1729800" cy="604440"/>
            </a:xfrm>
            <a:prstGeom prst="rect">
              <a:avLst/>
            </a:prstGeom>
            <a:solidFill>
              <a:srgbClr val="ff9933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60400" y="386208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– 6 week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LJ medi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43720" y="4431240"/>
              <a:ext cx="172980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0880" y="4686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– 3 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43720" y="5214240"/>
              <a:ext cx="172980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20880" y="5428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day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7537680" y="2856600"/>
              <a:ext cx="1326240" cy="605880"/>
              <a:chOff x="7537680" y="2856600"/>
              <a:chExt cx="1326240" cy="605880"/>
            </a:xfrm>
          </p:grpSpPr>
          <p:sp>
            <p:nvSpPr>
              <p:cNvPr id="161" name=""/>
              <p:cNvSpPr/>
              <p:nvPr/>
            </p:nvSpPr>
            <p:spPr>
              <a:xfrm>
                <a:off x="753768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3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4360" y="2856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6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7760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537680" y="5207760"/>
              <a:ext cx="1326240" cy="605880"/>
              <a:chOff x="7537680" y="5207760"/>
              <a:chExt cx="1326240" cy="605880"/>
            </a:xfrm>
          </p:grpSpPr>
          <p:sp>
            <p:nvSpPr>
              <p:cNvPr id="165" name=""/>
              <p:cNvSpPr/>
              <p:nvPr/>
            </p:nvSpPr>
            <p:spPr>
              <a:xfrm>
                <a:off x="753768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24360" y="520776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7760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537680" y="3639600"/>
              <a:ext cx="1326240" cy="605880"/>
              <a:chOff x="7537680" y="3639600"/>
              <a:chExt cx="1326240" cy="605880"/>
            </a:xfrm>
          </p:grpSpPr>
          <p:sp>
            <p:nvSpPr>
              <p:cNvPr id="169" name=""/>
              <p:cNvSpPr/>
              <p:nvPr/>
            </p:nvSpPr>
            <p:spPr>
              <a:xfrm>
                <a:off x="753768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3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424360" y="3639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.7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7760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5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537680" y="4442760"/>
              <a:ext cx="1326240" cy="605880"/>
              <a:chOff x="7537680" y="4442760"/>
              <a:chExt cx="1326240" cy="605880"/>
            </a:xfrm>
          </p:grpSpPr>
          <p:sp>
            <p:nvSpPr>
              <p:cNvPr id="173" name=""/>
              <p:cNvSpPr/>
              <p:nvPr/>
            </p:nvSpPr>
            <p:spPr>
              <a:xfrm>
                <a:off x="753768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.3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24360" y="4442760"/>
                <a:ext cx="439560" cy="60588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.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7760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7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542720" y="2281320"/>
              <a:ext cx="1350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st (US $, 200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    medium   hig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0520" y="131112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drive diagnostics development from concept to delivery in the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83868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pharmaceu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biotech companies,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itutions, aca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65560" y="4048200"/>
            <a:ext cx="261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ate network of public and private partners to create effective tests and demonstrate their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38386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multi-lateral agencies, NGOs,health ministri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agencies like GDF and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36800" y="2219400"/>
            <a:ext cx="3495600" cy="251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1520" y="2797200"/>
            <a:ext cx="2313000" cy="927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Market access                          and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0200" y="2797200"/>
            <a:ext cx="2314440" cy="934920"/>
          </a:xfrm>
          <a:custGeom>
            <a:avLst/>
            <a:gdLst>
              <a:gd name="textAreaLeft" fmla="*/ 0 w 2314440"/>
              <a:gd name="textAreaRight" fmla="*/ 2314440 w 2314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Discover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d 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1320" y="2479680"/>
            <a:ext cx="3349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65560" y="2254320"/>
            <a:ext cx="1025640" cy="52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’s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478240"/>
            <a:ext cx="2039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69880" y="2254320"/>
            <a:ext cx="64476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2880" y="2479680"/>
            <a:ext cx="1995480" cy="1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86440" y="2254320"/>
            <a:ext cx="92880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00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74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51600" y="279576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4132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cilitat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fun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devel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6696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ulatory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b &amp; 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1160" y="5259240"/>
            <a:ext cx="2108160" cy="130176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rge-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asibility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pact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sease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40960" y="4734000"/>
            <a:ext cx="100188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734000"/>
            <a:ext cx="122256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064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of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386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24320" y="5640480"/>
            <a:ext cx="1016280" cy="457200"/>
          </a:xfrm>
          <a:prstGeom prst="rightArrow">
            <a:avLst>
              <a:gd name="adj1" fmla="val 73611"/>
              <a:gd name="adj2" fmla="val 68136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ic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1216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41016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6576840"/>
            <a:ext cx="1447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01080" y="5689440"/>
            <a:ext cx="7920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73080"/>
            <a:ext cx="82072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4960" y="1477800"/>
          <a:ext cx="8739360" cy="4651560"/>
        </p:xfrm>
        <a:graphic>
          <a:graphicData uri="http://schemas.openxmlformats.org/drawingml/2006/table">
            <a:tbl>
              <a:tblPr/>
              <a:tblGrid>
                <a:gridCol w="1138320"/>
                <a:gridCol w="2524320"/>
                <a:gridCol w="2244600"/>
                <a:gridCol w="1995480"/>
                <a:gridCol w="83664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dical n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pidemi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ealth bene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45400">
                <a:tc rowSpan="3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high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missed by sme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 Mio new cases of TB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Mio additional patients in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4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low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paucibacillary dis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extra-pulmonary and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pediatric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2 Mio HIV/TB coinfections, frequently extra-pulmon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 Mio new cases of pediatric TB annu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HIV patients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children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 susceptibility testing (MD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300.000 new MDR TB cases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out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 TB inf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2 billion LTBI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4943520" y="6237360"/>
            <a:ext cx="979560" cy="368280"/>
            <a:chOff x="4943520" y="6237360"/>
            <a:chExt cx="979560" cy="368280"/>
          </a:xfrm>
        </p:grpSpPr>
        <p:sp>
          <p:nvSpPr>
            <p:cNvPr id="208" name=""/>
            <p:cNvSpPr/>
            <p:nvPr/>
          </p:nvSpPr>
          <p:spPr>
            <a:xfrm>
              <a:off x="4943520" y="6314760"/>
              <a:ext cx="288720" cy="228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6560" y="6237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8400" y="6237360"/>
            <a:ext cx="1132920" cy="368280"/>
            <a:chOff x="6278400" y="6237360"/>
            <a:chExt cx="1132920" cy="368280"/>
          </a:xfrm>
        </p:grpSpPr>
        <p:sp>
          <p:nvSpPr>
            <p:cNvPr id="211" name=""/>
            <p:cNvSpPr/>
            <p:nvPr/>
          </p:nvSpPr>
          <p:spPr>
            <a:xfrm>
              <a:off x="6278400" y="6314760"/>
              <a:ext cx="28872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70720" y="62373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713720" y="6237360"/>
            <a:ext cx="1157760" cy="368280"/>
            <a:chOff x="7713720" y="6237360"/>
            <a:chExt cx="1157760" cy="368280"/>
          </a:xfrm>
        </p:grpSpPr>
        <p:sp>
          <p:nvSpPr>
            <p:cNvPr id="214" name=""/>
            <p:cNvSpPr/>
            <p:nvPr/>
          </p:nvSpPr>
          <p:spPr>
            <a:xfrm>
              <a:off x="7713720" y="6314760"/>
              <a:ext cx="288720" cy="22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6400" y="6237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20400" y="380880"/>
            <a:ext cx="5684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FIND priorities &amp; imp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95280" y="2336760"/>
            <a:ext cx="6769080" cy="3171960"/>
            <a:chOff x="395280" y="2336760"/>
            <a:chExt cx="6769080" cy="3171960"/>
          </a:xfrm>
        </p:grpSpPr>
        <p:sp>
          <p:nvSpPr>
            <p:cNvPr id="218" name=""/>
            <p:cNvSpPr/>
            <p:nvPr/>
          </p:nvSpPr>
          <p:spPr>
            <a:xfrm>
              <a:off x="395280" y="3387600"/>
              <a:ext cx="147168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 l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5280" y="4147920"/>
              <a:ext cx="1471680" cy="5889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5280" y="4919760"/>
              <a:ext cx="1471680" cy="58896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89080" y="234792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1. Det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Who shall be treated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patient respo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92320" y="3381480"/>
              <a:ext cx="164160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92320" y="4143240"/>
              <a:ext cx="164160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l detection g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92320" y="4914720"/>
              <a:ext cx="1641600" cy="5875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 – No answ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l monito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92600" y="338148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92600" y="4143240"/>
              <a:ext cx="164124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lve unclear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c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stance te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92600" y="4914720"/>
              <a:ext cx="164124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11960" y="338292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C procedures and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olic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in typ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1960" y="414504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11960" y="491652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5840" y="2346120"/>
              <a:ext cx="1639800" cy="9385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2. Re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hange treatment for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  failur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the strain resista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24560" y="233676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3. Surve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programs effectiv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there new strai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4640" y="2347920"/>
              <a:ext cx="1471680" cy="93672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gnostic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040" y="2344680"/>
              <a:ext cx="143208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6200000">
              <a:off x="3179880" y="4700520"/>
              <a:ext cx="552240" cy="216000"/>
            </a:xfrm>
            <a:custGeom>
              <a:avLst/>
              <a:gdLst>
                <a:gd name="textAreaLeft" fmla="*/ 86040 w 552240"/>
                <a:gd name="textAreaRight" fmla="*/ 483480 w 55224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29360" y="4881600"/>
            <a:ext cx="2003400" cy="923760"/>
            <a:chOff x="7029360" y="4881600"/>
            <a:chExt cx="2003400" cy="923760"/>
          </a:xfrm>
        </p:grpSpPr>
        <p:sp>
          <p:nvSpPr>
            <p:cNvPr id="237" name=""/>
            <p:cNvSpPr/>
            <p:nvPr/>
          </p:nvSpPr>
          <p:spPr>
            <a:xfrm>
              <a:off x="7701120" y="4881600"/>
              <a:ext cx="1331640" cy="923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 POC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de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mal skill 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29360" y="497376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016760" y="3876120"/>
            <a:ext cx="2011320" cy="918720"/>
            <a:chOff x="7016760" y="3876120"/>
            <a:chExt cx="2011320" cy="918720"/>
          </a:xfrm>
        </p:grpSpPr>
        <p:sp>
          <p:nvSpPr>
            <p:cNvPr id="240" name=""/>
            <p:cNvSpPr/>
            <p:nvPr/>
          </p:nvSpPr>
          <p:spPr>
            <a:xfrm>
              <a:off x="7016760" y="423864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5720" y="3876120"/>
              <a:ext cx="1332360" cy="91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sy &amp; robust lab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rocedur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rt for multipl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health probl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iversal platfor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03640" y="5661000"/>
            <a:ext cx="1728720" cy="863640"/>
          </a:xfrm>
          <a:prstGeom prst="wedgeEllipseCallout">
            <a:avLst>
              <a:gd name="adj1" fmla="val -22634"/>
              <a:gd name="adj2" fmla="val -114888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sensitive than sme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8360" y="5051520"/>
            <a:ext cx="1728720" cy="896760"/>
          </a:xfrm>
          <a:prstGeom prst="wedgeEllipseCallout">
            <a:avLst>
              <a:gd name="adj1" fmla="val -46416"/>
              <a:gd name="adj2" fmla="val -9637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ster than cultur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1268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G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AGNOSTIC QUEST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HEALTH SYSTEM LEV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763640" y="1268280"/>
            <a:ext cx="45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DR PORTFOLIO STRATEG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11280" y="2133720"/>
            <a:ext cx="7703640" cy="4392000"/>
            <a:chOff x="611280" y="2133720"/>
            <a:chExt cx="7703640" cy="4392000"/>
          </a:xfrm>
        </p:grpSpPr>
        <p:sp>
          <p:nvSpPr>
            <p:cNvPr id="247" name=""/>
            <p:cNvSpPr/>
            <p:nvPr/>
          </p:nvSpPr>
          <p:spPr>
            <a:xfrm>
              <a:off x="616680" y="3028320"/>
              <a:ext cx="184824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2133720"/>
              <a:ext cx="18464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targe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8520" y="2133720"/>
              <a:ext cx="29246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key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58040" y="2133720"/>
              <a:ext cx="275688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projects &amp; solu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8520" y="3028320"/>
              <a:ext cx="292464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er than cul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B species specif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f resi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zed platf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76040" y="30283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ge assay (“Fast-Plaque”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lly integrated PCR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thermal NAT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1280" y="4817520"/>
              <a:ext cx="184860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52760" y="4817520"/>
              <a:ext cx="292500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sensitive than sm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yocbacterium genus specif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day resu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or minimal instrum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70640" y="48175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in patc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eat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pstick (lateral flow) assa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sputum or urine (antigen)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- blood (antibod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9:21:58Z</dcterms:created>
  <dc:creator>Laurence Perret</dc:creator>
  <dc:description/>
  <dc:language>en-US</dc:language>
  <cp:lastModifiedBy>steenbergeng</cp:lastModifiedBy>
  <dcterms:modified xsi:type="dcterms:W3CDTF">2004-10-15T05:46:45Z</dcterms:modified>
  <cp:revision>81</cp:revision>
  <dc:subject/>
  <dc:title>Slide 1</dc:title>
</cp:coreProperties>
</file>