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662B-1651-48A1-8BE1-74E57F28C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5447-ECAE-4564-B382-456609EC2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57A7-2BFB-44F1-9D01-A25F66F65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88F1-87DD-4BD1-BECC-8F363F9EA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7D93A-F145-4879-B647-E62BF5230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08815-77FC-4C8C-A98B-6D2FB9582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87EF8-E171-4FBE-AE38-A28BD6E76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69C43-19DE-4643-AD9D-5FD045A51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53552-C0AF-4F7B-A420-7430D327F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30CBA-597A-4DB0-84C2-A64CB56B5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A1D8D-D69F-404A-8079-E05D7480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CFFB-BA52-4627-9725-7FF040E63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25FA7-24F4-4FE7-971C-5C0CDD626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A5429-09A1-4BF5-9274-998D4E66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C9766-F494-493B-A7C8-ACEE19F53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89CB6-956B-48D2-8353-EFE9F4E94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5D2F4-3829-472E-A639-83B248744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5833-D318-4D9C-B50D-418AE8EE8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5B32-2330-4848-8C69-E77324C46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D487-ECB5-45B3-8952-02007D01D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53B3-9041-4C16-83F7-34A6B84F8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6B1F-B5BB-4151-9C51-ABC36442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A51F-8AC2-40B9-94F0-9F6960C9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88D6-67D4-4C21-98E1-40C1FA7B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D237C-83A6-4831-A8D8-68D354E960F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2E9B3-D1F0-47F0-8302-9DD1424E5C7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94920" y="2060640"/>
            <a:ext cx="84963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  <a:ea typeface="宋体"/>
              </a:rPr>
              <a:t>Overview of the Advocacy and Communications Working Group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Michael Luhan, Communications Adviser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宋体"/>
              </a:rPr>
              <a:t>October 2004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7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964720" cy="475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1. Antecedents: Task Force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d hoc Task Force created in 2001 to "prioritize, plan, develop and coordinate advocacy and communication activities" to support Global Plan and six Working 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Work broadly guided by Strategic Plan for Advocacy and Communications (2002-2005) budgeted at $20 mill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-35244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F meetings held in Atlanta (May 01), Geneva (Jan 02), Newark (Apr 02), Johannesburg (Sep 03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52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727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Task Force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430920" indent="-430920">
              <a:buClr>
                <a:srgbClr val="72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Implementation hampered by unstable and HQ-centric Secretariat, inconstant partners, informal characte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-430920">
              <a:buClr>
                <a:srgbClr val="72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Lack of strategic framework, evidence base, pedagogy and specialized partners for country level communica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-430920">
              <a:buClr>
                <a:srgbClr val="72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Main achievements: Strengthened cooperation with selected partners, increased level of global advocacy focused on resource mobiliz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309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608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1484280"/>
            <a:ext cx="8526600" cy="79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Mandate to form W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ancun experts' consultation, Jun 03: Urges creation of more formal entity for strategic guidance in programme communication to support DOTS expan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Johannesburg TF meeting, Sep 03: Recommends Board upgrade TF to full WG status, establishes main work stream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xternal STB evaluation, Dec 03: Supports recommendation to create more formal entity for A&amp;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oard authorizes formation of new WG, Mar 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119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159228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Formation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J Carter elected chair of TF Core Group in Joburg meeting, Sep 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Board endorses J Carter as chair a.i. for new WG and directs Secretariat to support formation process, Mar 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rafting of Basic Framework and initial members' roster by Secretariat, review by Core Group, Sep 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irst WG meeting proposed for Dec 04 or Jan 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8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507520" cy="46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Proposed WG Framework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WG chair with permanent seat on the Boar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wo vice-chairs to lead sub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One representative from each of the other 6 WG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re funding from Secretariat ($100k/yr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One annual WG meeting, two meetings for sub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8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5075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ubgroup: Global advocacy for resource mobiliz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Analysis of funding needs; setting of strategic advocacy agenda; mapping of advocacy opportunities; coordination of planning, implementation and evaluation of activiti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ubgroup: Program communication and country suppor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Strategic framework and guidance; communication pedagogy and tools; operational research; strengthening NTP capacities; support for national partnership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90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Func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Develop strategic approaches for scaling up effective A&amp;C interventions and propagate evidence-based best practic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Empower Stop TB partners to develop, implement and evaluation A&amp;C activities at global, regional and country level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Advise the Coordinating Board on all matters pertaining to advocacy, in-country programme communication and social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72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1341360"/>
            <a:ext cx="4248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1557360"/>
            <a:ext cx="864072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  <a:ea typeface="Tahoma"/>
              </a:rPr>
              <a:t>Objec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Tahoma"/>
              </a:rPr>
              <a:t>Infuse a sense of urgency in the Stop TB movement and accelerate efforts of all stakeholders to meet the 2005 targets and 2015 MDG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Tahoma"/>
              </a:rPr>
              <a:t>Sustain the increased flow of resources into TB control and ensure that resources are appropriately targeted and utiliz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Tahoma"/>
              </a:rPr>
              <a:t>Catalyze participation of civil society and build a genuine social movement against TB at global and country lev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luhanm</cp:lastModifiedBy>
  <dcterms:modified xsi:type="dcterms:W3CDTF">2004-10-11T09:08:19Z</dcterms:modified>
  <cp:revision>18</cp:revision>
  <dc:subject/>
  <dc:title>Financial situation,  Budget &amp; plans 2005</dc:title>
</cp:coreProperties>
</file>