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93A74-625B-4A47-A8DA-33146B4B4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40006-58C8-4D64-A11F-068779E3F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62E11-DEDF-4EA6-992B-CBF1EC9CE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A324F-1470-4624-9344-C67AC8A6D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034CB-FB79-466B-9DD9-16E32B821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F2DE1-438A-4129-935F-2E5280AA5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B8681-DE48-4C8C-9403-577A1D187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CCF6C-A1D2-4E24-B750-05B9CC169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572DC-15DD-4DE8-A503-67EBD09AC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F8B40-28FA-4886-9CE8-3787F86F0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0BF19-3993-46DD-86CB-7273666FB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5B42C-DB62-4ADB-9B3E-D875E1774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6A074-FDE8-4B5E-B59A-01B5E33F85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42920" y="404280"/>
            <a:ext cx="7274160" cy="25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Stop TB Partnership</a:t>
            </a: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Coordinating Board meeting</a:t>
            </a: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14-15 October 2004</a:t>
            </a: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Beijing</a:t>
            </a:r>
            <a:br>
              <a:rPr sz="4800"/>
            </a:b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Report back on discussion of  </a:t>
            </a: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the Second Global Plan </a:t>
            </a: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to Stop TB:  2006-2015</a:t>
            </a:r>
            <a:r>
              <a:rPr b="0" lang="en-GB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800"/>
            </a:br>
            <a:br>
              <a:rPr sz="4800"/>
            </a:b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-360" y="18900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Second Global Plan to Stop TB, 2006-1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33520" y="1143000"/>
            <a:ext cx="7848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280" y="1108080"/>
            <a:ext cx="896472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Key featur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uilds on first Global Plan (2000-05) and Progress Repor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0 years' timeframe (2006-15), leading to 2015 MD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mplementary to MDGs TB working group report (that calls for support for the Global Pla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nsistent with proposed World Health Assembly resolution in 20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upports national needs for long-term planning and financial sustain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evelops strategic directions set out by 2</a:t>
            </a:r>
            <a:r>
              <a:rPr b="0" lang="en-GB" sz="28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nd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d hoc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Committee on the TB epidem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ased on contributions of each WG's workp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-360" y="11592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Review of progress in developing Global Plan, 2006-201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04920" y="1197000"/>
            <a:ext cx="858816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y 2004 - WHO Executive Board approved resolution on Global Plan for 2005 World Health Assemb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June 2004 - WHO Strategic and Technical Advisory Group endorsed outline of Global P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June 2004 - Outline sent to all partners for feedb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July 2004 - Outline endorsed by Coordinating Boar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ugust 2004 - Steering committee endorsed by Bo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eptember 2004 – work initiated on proje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-360" y="11592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Recommendations for Board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000" y="1052640"/>
            <a:ext cx="8705880" cy="77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oard endor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)  key featur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) development of projections to inform plann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. Board requests each W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o develop its plan (2006-2015) in contribution to the global p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o identify a focal point from the W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o identify resource needs for plan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3. Board proposes launch of Global Plan in 20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ither a) between WHA (May) and UNGASS (Sep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r b)  late 2005, e.g. November Board mee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-360" y="11592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Recommendations for Board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8120" y="1125360"/>
            <a:ext cx="8705880" cy="69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4. Board endorses approach of advocacy champ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elson Mandela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martya Sen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Kofi Ann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o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*preference to write foreword by one of the abo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5. Board endorses dissemination of Global Plan advocacy messages to key constituencies, including HIV/AI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5T09:27:19Z</dcterms:created>
  <dc:creator>JourdanS</dc:creator>
  <dc:description/>
  <dc:language>en-US</dc:language>
  <cp:lastModifiedBy>maherd</cp:lastModifiedBy>
  <cp:lastPrinted>2003-06-23T18:01:16Z</cp:lastPrinted>
  <dcterms:modified xsi:type="dcterms:W3CDTF">2004-10-14T10:19:41Z</dcterms:modified>
  <cp:revision>97</cp:revision>
  <dc:subject/>
  <dc:title>Africa: HIV is driving the TB epidemic TB notification rates, 1980-1998</dc:title>
</cp:coreProperties>
</file>