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6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0B26-5C32-4429-9C9B-6CD92E3F2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TS for the Health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acting demands of TB control prompt us to consider it even from the perspective of the patient, his/her relatives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may realize the need for a partnership between the H.S. and the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rinciples may guide this partnershi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DOTS coverage in 1995, yet, poor treatment outcome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5925-3861-4394-851F-A31AB156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5E5A-F7E3-464E-9F00-EA42465D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E02-2F49-4B22-813B-28386CC7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EA85-E869-4211-B66C-8448DAC9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65B2-75A6-46AD-905C-DEE21587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2891-23DF-4926-BAD7-9C4389FC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4BAA-A3FF-40A7-B6E1-DE9C4B9B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3A3C-20EE-4516-AEA5-5277111A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AF24-2750-4D43-84AE-78ECA64D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9158-E18F-422F-B4E9-5E5C2538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3BC3-C748-4D36-BBB7-2EA9AC3C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436-6955-43F3-9E2C-94D89F1F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A6CA-C476-4E44-A74C-267F89DF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05DD-877A-4FDE-8B63-DEE53484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A00E-9BDB-4085-AF6C-13715C2F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40FE-9DE1-4F47-AF74-C874F044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86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356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3944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86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356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4DEE-4391-4C50-99AF-928FFBF9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7602-1492-4743-BDD1-3A2A9437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CE1-4781-4CDE-BD3F-549AF570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10E2-9F66-4A8C-BC5F-E5CE6FB4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9440" y="609120"/>
            <a:ext cx="875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822-6627-4063-B540-B8986D60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7FA-2B1B-4739-AB9A-7037CFA9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404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886-0C4A-4E30-9F09-A95AFC73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94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404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944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C777-6B65-42AF-B63D-3F81D6C1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05480" y="4680"/>
            <a:ext cx="18998280" cy="27381240"/>
            <a:chOff x="-9105480" y="4680"/>
            <a:chExt cx="18998280" cy="273812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48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054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60912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9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3944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66CA-C874-4CF9-BC83-1D6D6C6B80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01562120" y="1463760"/>
            <a:ext cx="186315840" cy="21589560"/>
            <a:chOff x="-101562120" y="1463760"/>
            <a:chExt cx="186315840" cy="21589560"/>
          </a:xfrm>
        </p:grpSpPr>
        <p:sp>
          <p:nvSpPr>
            <p:cNvPr id="45" name=""/>
            <p:cNvSpPr/>
            <p:nvPr/>
          </p:nvSpPr>
          <p:spPr>
            <a:xfrm>
              <a:off x="3544200" y="2709720"/>
              <a:ext cx="636156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101562120" y="1463760"/>
              <a:ext cx="18631584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816320" y="644220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402920" y="6365880"/>
            <a:ext cx="4622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799040" y="6148440"/>
            <a:ext cx="20638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5885-84E8-4BD3-A6A5-679D2E62E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5440" y="404640"/>
            <a:ext cx="9001080" cy="13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GFATM Coordination at country level: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paration for Round 5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80880" y="2276280"/>
            <a:ext cx="673236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ing support for GF activ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a structural element o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TB activities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880" y="18446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SimSun"/>
              </a:rPr>
              <a:t>Estimated costing of the exercise in two phases: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60520" y="1484280"/>
          <a:ext cx="8785080" cy="4794120"/>
        </p:xfrm>
        <a:graphic>
          <a:graphicData uri="http://schemas.openxmlformats.org/drawingml/2006/table">
            <a:tbl>
              <a:tblPr/>
              <a:tblGrid>
                <a:gridCol w="2666880"/>
                <a:gridCol w="741240"/>
                <a:gridCol w="1355760"/>
                <a:gridCol w="204840"/>
                <a:gridCol w="1079640"/>
                <a:gridCol w="1382760"/>
                <a:gridCol w="135396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1 - Worksho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ra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per di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        </a:t>
                      </a: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articipa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18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Facilita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3,000 @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3,75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4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66"/>
                          </a:solidFill>
                          <a:latin typeface="Arial"/>
                          <a:ea typeface="SimSun"/>
                        </a:rPr>
                        <a:t>Conference facilities at WHO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ffee bre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,09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0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Translation (English, French, Spanis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19,96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ocuments production, statione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$ 2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$ </a:t>
                      </a:r>
                      <a:r>
                        <a:rPr b="1" lang="en-US" sz="2000" spc="-1" strike="noStrike" u="sng">
                          <a:solidFill>
                            <a:srgbClr val="ffcc66"/>
                          </a:solidFill>
                          <a:uFillTx/>
                          <a:latin typeface="Arial"/>
                          <a:ea typeface="SimSun"/>
                        </a:rPr>
                        <a:t>165,554</a:t>
                      </a:r>
                      <a:r>
                        <a:rPr b="1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SimSu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9800" y="620640"/>
            <a:ext cx="8753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2 – Country Visit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00160" y="1252440"/>
          <a:ext cx="9505800" cy="1641600"/>
        </p:xfrm>
        <a:graphic>
          <a:graphicData uri="http://schemas.openxmlformats.org/drawingml/2006/table">
            <a:tbl>
              <a:tblPr/>
              <a:tblGrid>
                <a:gridCol w="1357200"/>
                <a:gridCol w="814320"/>
                <a:gridCol w="1647720"/>
                <a:gridCol w="1195560"/>
                <a:gridCol w="1273320"/>
                <a:gridCol w="1569960"/>
                <a:gridCol w="1647720"/>
              </a:tblGrid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av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e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ulta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ge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ntr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,00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@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0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250/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$ 560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80000" y="3141720"/>
            <a:ext cx="83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SimSun"/>
              </a:rPr>
              <a:t>We are not charging countries in which WHO staff already exist and will assis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5840" y="4149720"/>
            <a:ext cx="89154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vering workshop costs already raised with partn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Funds for country missions still sou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333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80360" y="52833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45240" y="52833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53,035,87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89480" y="52833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0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4160" y="52833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1 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33680" y="5283360"/>
            <a:ext cx="1320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5283360"/>
            <a:ext cx="8938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967280"/>
            <a:ext cx="177948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45240" y="4967280"/>
            <a:ext cx="16351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,618,3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89480" y="4967280"/>
            <a:ext cx="135576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54160" y="4967280"/>
            <a:ext cx="1435320" cy="316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80360" y="464976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5240" y="464976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67,850,15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89480" y="464976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4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54160" y="464976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33680" y="4649760"/>
            <a:ext cx="13204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9800" y="4649760"/>
            <a:ext cx="893880" cy="63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80360" y="433224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45240" y="433224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,414,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89480" y="433224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54160" y="433224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4016520"/>
            <a:ext cx="177948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45240" y="4016520"/>
            <a:ext cx="16351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15,020,9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89480" y="4016520"/>
            <a:ext cx="135576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6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4160" y="4016520"/>
            <a:ext cx="1435320" cy="315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5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33680" y="4016520"/>
            <a:ext cx="13204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4016520"/>
            <a:ext cx="893880" cy="63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80360" y="369900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0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45240" y="369900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4,762,73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89480" y="369900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8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54160" y="369900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4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80360" y="3381480"/>
            <a:ext cx="177948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7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3381480"/>
            <a:ext cx="16351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96,425,4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89480" y="3381480"/>
            <a:ext cx="135576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dec" pos="417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23 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4160" y="3381480"/>
            <a:ext cx="1435320" cy="31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tabLst>
                <a:tab algn="l" pos="0"/>
                <a:tab algn="l" pos="201600"/>
                <a:tab algn="dec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2 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T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3680" y="3381480"/>
            <a:ext cx="13204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800" y="3381480"/>
            <a:ext cx="89388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80360" y="2013120"/>
            <a:ext cx="1779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B % of all approved 2-year funding 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5240" y="2013120"/>
            <a:ext cx="16351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2-yea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funding for T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(US $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89480" y="2013120"/>
            <a:ext cx="135576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TB%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l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</a:rPr>
              <a:t>component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54160" y="2013120"/>
            <a:ext cx="143532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SimSun"/>
              </a:rPr>
              <a:t>*</a:t>
            </a: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33680" y="2013120"/>
            <a:ext cx="13204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Tot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approv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component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(all disease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800" y="2013120"/>
            <a:ext cx="893880" cy="13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SimSun"/>
              </a:rPr>
              <a:t>Roun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9800" y="1486080"/>
            <a:ext cx="8420040" cy="52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Summary of GFATM approvals, rounds 1-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Number of components and Amount of funding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9800" y="14860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800" y="56008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59840" y="1486080"/>
            <a:ext cx="0" cy="411480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800" y="20131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800" y="338148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336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541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8948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4524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80360" y="2013120"/>
            <a:ext cx="0" cy="358776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9800" y="401652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54160" y="369900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9800" y="46497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33224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9800" y="5283360"/>
            <a:ext cx="842004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4160" y="4967280"/>
            <a:ext cx="620568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880" y="119844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1960" y="5877000"/>
            <a:ext cx="8712360" cy="703800"/>
          </a:xfrm>
          <a:prstGeom prst="rect">
            <a:avLst/>
          </a:prstGeom>
          <a:noFill/>
          <a:ln w="414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* TB/HIV component refers to stand alone proposals only. TB/HIV activities received approval in 28 countries in total,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he majority as part of a TB propos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1440" y="549000"/>
            <a:ext cx="8753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Situation analysis from previous round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04520" y="19065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In R4, countries receiving TA missions that lasted fewer than five days had a lower success rate (30%) than those that lasted five days or more (64%).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 WHO assisted in 35 countries, with overall success rate of 49%; w/out WHO assistance success rate was 14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TB control expenditure in HBCs too low: US$ ~850 million in 2002, vs. estimated US$ 976 – sum required to reach 70% case detection by 200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By end 2003, the GFATM approved grants (for up to 5yrs) of US$ 608 million for TB, and US$ 319 million for TB/HIV, in 56 countri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SimSun"/>
              </a:rPr>
              <a:t>First 2yrs total is US$ 294 million for TB, and US$ 90 million for TB/HIV, but only 16% had been disbursed by end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880" y="148428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8520" y="404640"/>
            <a:ext cx="87534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eparation for GFATM Round 5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1557360"/>
            <a:ext cx="8420040" cy="4789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termine, in collaboration with WHO ROs and technical partners, the list of countries intending to appl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tch those countries with appropriate individuals to provide technical assistan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old a workshop in Nov '04 to brief the persons assisting countries in all elements to consider when preparing a propos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rganize country visits, where needed, by those assisting countries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8880" y="112536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15800" y="457200"/>
            <a:ext cx="9185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untries intending to appl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6000" y="1628640"/>
            <a:ext cx="969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FR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tswana, Cap Verde, Comoros, DR Congo, Congo, Equatorial Guinea, Eritrea, Gabon, Gambia, Ghana, Mozambique, Niger, Nigeria, São Tomé and Principe, Senegal, SA, Tanzania, Zimbab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ize, Brazil, Guatemala, Mexico, Surinam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M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Iran, Morocco, Sud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bania, Armenia, Azerbaijan, Belarus, Bosnia and Herzegovina, Bulgaria, Kazakhstan, Macedonia, Turkey, Turkmenistan, 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A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a, Indonesia, Bangladesh, Myanmar, Thailand (?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P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mbodia, Pacific Islands, PNG (?), Philippines, Viet N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29528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0160" y="404280"/>
            <a:ext cx="8753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88520" y="1413000"/>
            <a:ext cx="8915400" cy="4797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va, 22 – 26 Nov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e WG with people from all technical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weekly meet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acilitators fro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/STB (conceptual framework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FATM (procedures, guidelines, appl. fo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325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rtfolio managers (case stud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0520" y="119700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88880" y="404640"/>
            <a:ext cx="875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8880" y="1484280"/>
            <a:ext cx="8915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Conten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s on conceptual frame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GFATM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5 guidelines and application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Budget prepa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esentation of case stud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(successes and fail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3319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8880" y="1197000"/>
            <a:ext cx="8956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8880" y="260280"/>
            <a:ext cx="892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TB Workshop –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2880" y="1052640"/>
            <a:ext cx="9360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444600" indent="-44460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Development of a conceptual framework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to provide a guide to countries that want to consider including a particular technical area in the proposal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Range of components/activities and their ration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Suggested budget lines by activ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Costing to be determined at country-level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Flowchart with logical sequence of ev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Main process indicato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5400" indent="331920"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orking tool for NTPs (…and TRP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990720"/>
            <a:ext cx="8956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88640"/>
            <a:ext cx="8969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SimSun"/>
              </a:rPr>
              <a:t>Technical Areas for TB: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5800" y="90792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Advocacy and commun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expan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TB/HI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OTS Plus and GL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Drug Resistance Surveill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Monitoring &amp; Evalu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lobal Drug Fac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Laboratory servi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Involving all health care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National Partn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7T12:50:58Z</dcterms:created>
  <dc:creator>Dr. Giuliano Gargioni</dc:creator>
  <dc:description/>
  <dc:language>en-US</dc:language>
  <cp:lastModifiedBy>diazv</cp:lastModifiedBy>
  <dcterms:modified xsi:type="dcterms:W3CDTF">2004-10-08T15:40:23Z</dcterms:modified>
  <cp:revision>47</cp:revision>
  <dc:subject/>
  <dc:title>Training</dc:title>
</cp:coreProperties>
</file>