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3F3-F8E6-4A0B-AB84-D365FB85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6D63-AB0B-40F3-BE84-CD2B3B67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65F7-D4FF-434B-8EAD-DF0527E1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F896-6452-4A14-9BD5-3D8826C2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B5AC-8380-493C-A23E-3977329A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C55E-8CFC-47C0-A9B1-80E5B953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B6D2-FDC3-4F09-A313-EDA57AC1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FA6A-5B56-415E-9AE2-EC3A566A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DD98-0A67-499B-8C56-B67397AD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E935-FD3F-4DEB-B2A6-C536A02A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F8B4-0855-4466-9A21-4775CEF1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0EBD-E85D-47AA-A714-38C898FD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80E5-206D-4CBF-A454-48715FFE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2623-9513-482B-AE73-4292FA45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91AD-9E23-43C2-B990-86A7D03D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2AA2-F4DC-4D3D-A165-11917992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5F38-C04A-4187-89DE-977B61E1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F46-2205-4C69-9841-3155A571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3279-BA56-4B82-9C88-51AF8480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31C-7613-4FF9-88E2-87DC5E9A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D8F-F325-4179-951D-52C3E62E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EE63-77CA-41EC-83CF-A212A614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FF3-3E2E-4539-B619-E8DC9B83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D64-94EA-4930-AAAD-84D5721D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8153-C370-48C2-BD7C-93A57BB2157F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E42E-C5EC-408F-906B-32A05AA29D1D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7:18Z</dcterms:modified>
  <cp:revision>21</cp:revision>
  <dc:subject/>
  <dc:title>Financial situation,  Budget &amp; plans 2005</dc:title>
</cp:coreProperties>
</file>