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F86-289F-4827-9A44-FCB15979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945-EF49-4ADE-BD83-FF9C27F0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CD6-8D51-4218-9325-7011A60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708-5B41-493A-989F-3BD94B14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BE47-BD5E-4751-9DA5-4A54F22F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D5DD-75BA-4973-BB1A-FB3F84F1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99D8-F5F6-4C1A-9CB6-D8C76116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A6E2-775F-4317-9664-610AD4F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3884-988D-4A84-A587-498B01FA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7526-BF13-428D-9837-4FFC08A0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8766-6B14-4082-9498-6B3FF69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3F5-B32D-41E4-BA25-8F559A8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A0A3-8E5A-48D3-BBB3-2C6A653C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1235-92C9-43B7-B8CD-5B0963D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228E-451C-4073-9E13-FBB50AA0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4BA8-8683-4D15-9A9F-ECC20CF6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FC67-8D3F-4ACB-B2DE-D1C77049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3F7-6461-4B03-AA0F-B641E850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53F-838C-4EDD-94F4-55B2FEA3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9928-EAB2-41DE-A13E-1DA88471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15BF-B996-43C2-85D3-7588554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6C8-2228-4247-9839-8A3115E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DE9-EB8D-4FAC-BCFC-29091AF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7DC-97AF-48A3-9961-2F43E38F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246B-6069-477B-A5E2-FB9A2BB73DDC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6E4B-307F-4684-81C9-EB7A8EE1D6F8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8496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Advocacy and Communications Working Group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宋体"/>
              </a:rPr>
              <a:t>Plenary Discuss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Joanne Carter, Chair A.I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15 October 2004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75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gress since last CB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draft (main objectives, functions, structure, main work stream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Proposed roster of initial members (65</a:t>
            </a:r>
            <a:r>
              <a:rPr b="0" lang="en-GB" sz="2400" spc="-1" strike="noStrike" u="sng">
                <a:solidFill>
                  <a:srgbClr val="720000"/>
                </a:solidFill>
                <a:uFillTx/>
                <a:latin typeface="Tahoma"/>
                <a:ea typeface="宋体"/>
              </a:rPr>
              <a:t>+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ment of new alliances – HIV/AIDS, MDGs Campaig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irst formal meeting of ACWG set for Dec 04/Jan 0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Informal pre-meeting at IUATLD conference to discuss agenda and expected outcom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  <a:ea typeface="宋体"/>
              </a:rPr>
              <a:t> 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560" y="1484280"/>
            <a:ext cx="8785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Proposed structural featur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1. Chair with permanent seat on C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2. Two initial sub-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advocacy for resource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ountry level advocacy, communication and social mobiliza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3. Focal points for all 6 technical W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-444600">
              <a:lnSpc>
                <a:spcPct val="90000"/>
              </a:lnSpc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  <a:ea typeface="宋体"/>
              </a:rPr>
              <a:t>Critical to ensure close coordination in cross-cutting ro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4. Stronger representation for patients  and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20000"/>
                </a:solidFill>
                <a:latin typeface="Tahoma"/>
                <a:ea typeface="宋体"/>
              </a:rPr>
              <a:t>Basic Framework to be approved and Chair/vice-chairs elected in first formal meeting of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413000"/>
            <a:ext cx="8526600" cy="76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Key immediate pri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enerate more robust numbers on funding g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Close collaboration with Resource Mobilization Task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rget key national, multilateral and private sector don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Develop short-and long-term advocacy strategy arou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2005 targets and MD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lobal Plan 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World TB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3.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Rapid scale up of support to countries for AC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TA for GFATM proposals/ISAC – Nov 04 works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Guidance, tools, training for emerging national partner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2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  <a:ea typeface="宋体"/>
              </a:rPr>
              <a:t>Mobilization of new advocacy partners at regional and country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19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vocacy and Communications Working Group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381880" cy="39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  <a:ea typeface="宋体"/>
              </a:rPr>
              <a:t>Request for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Feedback on formation process, structure, key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  <a:ea typeface="宋体"/>
              </a:rPr>
              <a:t>2.  Technical WG chairs need to assign focal points to ACW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luhanm</cp:lastModifiedBy>
  <dcterms:modified xsi:type="dcterms:W3CDTF">2004-10-19T10:55:09Z</dcterms:modified>
  <cp:revision>21</cp:revision>
  <dc:subject/>
  <dc:title>Financial situation,  Budget &amp; plans 2005</dc:title>
</cp:coreProperties>
</file>