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AE1D5-4B7D-4877-BD22-31A16FFC4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FF8E9-6CBA-44EC-88B2-D8EDC114A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1F9D9-7473-4DF0-9F3A-43D083266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9B75F-A1EC-4E90-9EB3-C54FE14C09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18DA5-DE60-4B40-B50B-6CCF5EF98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D3103-FAD5-43F1-B484-E8C8BC521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E1933-6DDB-4D7F-8175-C9D03EFA6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88379-AF95-4A78-B75E-CE417D033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6D2F8-18E2-4B2D-9B4D-0E5D82D0F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7CA54-15D1-40E5-A32D-8128B1162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133B4-7F37-47CB-8184-E383490B6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16D67-4FCE-42FB-BD58-6C88A4B7C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Country Progress</a:t>
            </a:r>
            <a:br>
              <a:rPr sz="4000"/>
            </a:b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52320"/>
            <a:ext cx="74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hair Dr. Miaka Bile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Rapporteur Dr. Karam Sh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3T23:33:41Z</dcterms:modified>
  <cp:revision>178</cp:revision>
  <dc:subject/>
  <dc:title>Secretariat, 2003 Progress Report</dc:title>
</cp:coreProperties>
</file>