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CEB-1E3B-4316-8A0F-23338CC84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Trust Fund at  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Bank levies a  3% Admin Fees on money passing   through this trust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Stop TB Interim Trust Fund at W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has a 6% reduced PSC (compared to 1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(interim programme support cost) of 6% reaso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put to increase substantially as resource mobilisation gathers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number of transactions (financial legal, and other) over a 12 month period is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82720" y="73980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duced PSC of 6% reasonable (Cont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min fees to-d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% to W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% to WHO on an exceptional basis till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 goodwill gesture by WHO while it shouldered the full burden of admin work associated with drawing up and  implementing the contracts for using funds at the WB T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verage cost per transaction US$275 at the rate of 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95320" indent="-353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y below the actual estimated cost $1,275 (Informally advised by WH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 the Operating Principles of the Stop TB Partnership Trust Fund at W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ree to the 6% PSC for the Interim Trust    Fund at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 the negotiating team to aim for agreeing with WHO a similar fixed percentage admin fees (6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956-AC17-4805-BE39-0B1F8A6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F3A-2A8E-4F0C-BDC7-F07CE79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5096-0DBE-4349-A69D-911B2435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5D3-15A6-4200-8908-6F69843B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C7D6-E4F3-41EF-84C1-D53897DE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0D43-B7AE-41CC-9ACB-20E469A0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8076-8524-4886-BC93-5A47FA2E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29F9-2D12-4A61-9650-FC593F31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2040-5DF7-46C0-B34F-15210C52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165-7E64-4A8B-900A-B952BD64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B835-25E2-4185-80B8-E946E2A9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B61-FABB-46ED-B582-13DB07E3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FF2C-16E4-4843-86F3-B626D4E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06BF-DA5A-4747-A9C0-D2576A6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B7B-4554-4F17-B089-CBB4C6DF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BA70-5C62-4425-99CD-080016FF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62CA-DE15-471D-B7A1-F17ECE3B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78B-4582-41E4-AA36-2549536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C90-15C6-4ABD-9CF5-93EA5EB4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A67-9686-4BAF-A281-1901F940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EBC-3681-4FE9-9051-1D88C6CD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EA8-4241-442F-8189-336D787B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CF6-A82D-4B05-94B2-9FA8A26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FB5-E1D6-4D23-98A9-14DFE1D0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172-AC77-46E0-BA61-D1C1B478FC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409D-F6C1-4B18-BB6C-2B9BF09E49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Stop TB Partnership Trust Fund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Current Statu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Two Trust Funds at Pres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Trust Fund at  the World Bank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e Bank levies a  3% admin fees on money passing through this trust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Stop TB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his was set up as an interim measure by WHO to receive money directly from donors and from the Trust Fund at the W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0000" indent="-36504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It has a 6% reduced PSC (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s opposed to its usu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13%)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e.g. DFID contribution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the WB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duced PSC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Final Trust Fund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f 6% reasonable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expected throughput at least US$23 million per year (Based on 2004 financial figure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unding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to increa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e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substantially as resource mobilisation gathers moment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number of transactions (financi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, contractual, administrative 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legal,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logistical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and other) over a 12 month period is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aro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5,000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Issues of TF at WHO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duced PSC of 6% reasonable (Contd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dmin fees to-dat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3% to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0% to WHO on an exceptional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interim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basis 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since      February 2003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verage cost per transaction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with WHO Trust Fund</a:t>
            </a: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 US$275 at the rate of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Operating Principles of the Stop TB Partnership Trust Fund at WB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transfer of funds every six months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interest accrues to the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procurement policies of WHO app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standard WB and WHO repor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                   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-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6% PSC for the Interim Trust Fund at WH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irect the negotiating team to aim for agreeing with WHO a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n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ppropriate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fixed  admin fees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for the definitive Trust Fund including a mechanism for adapting the fee to changing throughpu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1:16Z</dcterms:modified>
  <cp:revision>82</cp:revision>
  <dc:subject/>
  <dc:title>Slide 1</dc:title>
</cp:coreProperties>
</file>