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93DD-8E08-4151-9686-1A0BF58E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9F08-E7D9-4E7C-AE8D-C64FD317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E3E7-7257-4B60-A942-A81A2142D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4C2B-AA1F-4A71-8667-A29BFED3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BF55-DE46-479A-A115-4F942135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0225-15C2-4D48-8871-96526643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9FFA-D600-4C70-9FDA-75C9B5AF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F237-48A9-40E4-9E19-C5281C68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96F7-7EA7-4387-8227-5A94CE01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F6F6-0FC9-40E9-B9FF-73C17A4A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6B0C-0725-4307-8A89-6A4443F2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89CF-1FE0-4253-8BE8-2F2986EE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1E6D-5C69-49B0-B84D-0F575DCAE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0:08Z</dcterms:modified>
  <cp:revision>92</cp:revision>
  <dc:subject/>
  <dc:title>Africa: HIV is driving the TB epidemic TB notification rates, 1980-1998</dc:title>
</cp:coreProperties>
</file>