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382E-D2B7-4CB3-90DB-BAF6C50593C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03CC-2BE0-4F05-86BC-09B64E2789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99A9-869D-4E1A-AC6C-DCA8A318B9E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9F4-2B30-4C17-9F88-9610E10F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0C0-AD93-484D-9991-D2B5F929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C49-0801-4546-8AFD-FC003A37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5C8-3F3B-44F8-AC73-F44EFB84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DF5E-5325-4D59-B3B3-842DE4EB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AD79-DDDB-4E87-A231-2734AF88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743D-C1BA-4F34-9404-14E6B932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AEC7-17A1-489D-AF0E-14DE134B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91F6-A5F0-48FA-B8E8-9C293760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3072-3F9C-4F9E-BA91-AA6E0C0F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8DE26-684E-43FD-8DCC-A3DAFF3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89E-F8E3-4FB9-A494-256FCC86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8FA8-D87B-4212-8165-2BFC82C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8732-E087-4C27-8611-D5FFBB0F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FDFD-7240-4D2C-B8A4-0A754551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0B7B-42A1-487A-AC50-3F2B9805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3716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4632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E828-B6DD-469E-A03D-A2B9E323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B2D-B945-42E3-A444-CE2C7EB7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27A-A0AD-45EF-AC67-60A554D2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8AA-F34C-4FA8-82A5-5276C1BB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5DE-E422-4F1B-88F1-32B35F41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0A2D-11B0-4FAB-A484-3E516160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4632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B01-C800-47B8-AC84-E573E641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3716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4632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64B-E8A9-46DC-B1AB-9A00C89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630F-7E55-4BAF-B286-965A35AFFFF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FBE1-D3B9-455D-AF15-9A035598506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Expanding Regional, National and sub-national Partnership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124720" y="2202840"/>
            <a:ext cx="471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gress Report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" y="4046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asks for 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gain additional social &amp; political support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hance public and political perception of TB-DO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TB awareness throughout Pakistan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engage non-traditional partners in the fight against TB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build alliances with other health and development initiatives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049760" y="5734080"/>
            <a:ext cx="73602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TO GET TB ON THE AGENDA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: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HO Pakistan has offered support to host organiz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ACC members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n the future: Associations/institutions named by at least 2 members     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sues to be addressed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o reach the targe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52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community involvemen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advocacy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Weak integration with other programm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Still limited Public-public mix and private-public mix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human resources at al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commitment at District level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Lack of structured supply management system at all level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DOTS yet to be implemented in urban areas and at peripheral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STOP TB PAKISTA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52872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kistan's own national enhanced response to the challenge of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 further support initiatives for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'Communication Handbook'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eds Assessment Program : Uganda, Brazil, Indonesia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kistan + ISAC countrie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/ISAC Country-level Partnership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randing Partnership IT Package (web services, online discussion forum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uidance on Resource Mobilization (ethical guidelines, link with CCMs and the business sector, innovative approaches for fund rais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rengthen relationships with all Stop TB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Regional Partnerships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an Partnership to Stop TB (Stop TB Europe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 Sub-Regional Partnership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9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ARO / AFRO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oost the Advocacy, Communication and Social Mobiliz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 a strategy plan and join forces with other partnerships (GFATM, 3by5, RBM..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political forums to empower global, national and regional partnerships building (ASEAN, SAARC, ADEAN, African Union, NEPAD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1546200"/>
            <a:ext cx="77216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Stop TB Pakistan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86920" y="2707920"/>
            <a:ext cx="6913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The answer to a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broader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and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cc66"/>
                </a:solidFill>
                <a:uFillTx/>
                <a:latin typeface="Tahoma"/>
              </a:rPr>
              <a:t>more intensified</a:t>
            </a: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Tahoma"/>
              </a:rPr>
              <a:t>collaboration involving other partner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4000" y="2806560"/>
            <a:ext cx="1425600" cy="14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ghting TB requires more than just the NTP and the IACC collaborating partn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kistan has many and diverse resources that have not yet been tapp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 increase case detection and treatment success diverse and additional partners are need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265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National TB Programme Managers Meeting, Lahore, 29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 April 2004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01880" y="2657520"/>
            <a:ext cx="5413320" cy="3724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00" y="178200"/>
            <a:ext cx="412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Milestone for STOP T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akistan 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" y="115560"/>
            <a:ext cx="44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dded valu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 Pakista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7884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Political advocacy and social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nnovative approaches and interven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road participation from Pakistani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Sharing inform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sletters and information materia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ata base on activities &amp;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Resource mobilis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ew and other expertise/experie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human resources from new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financial resources from other initia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14T00:29:22Z</dcterms:modified>
  <cp:revision>252</cp:revision>
  <dc:subject/>
  <dc:title>Secretariat, 2003 Progress Report</dc:title>
</cp:coreProperties>
</file>