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087-39C1-467A-AD0D-38F13D95EF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3E1-9790-46B7-A3F7-47F62316D3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sterdam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714-EF2B-4FE7-8AC7-85508989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2FB-DC1F-4204-9541-8515E3C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CB5-E2FD-4836-A19D-B3787999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4D7-E400-4541-A8EF-8A7DF105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1CC7-EF7F-4CF1-B0FF-0B2DA1D4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61ED-9AF4-4BF5-9506-11167A3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4DB3-A7E4-4C1C-94E2-9EF3C0F1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0177-E3EA-4180-AE84-7801B602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15E-6683-4832-B56C-3DFFC2E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49DE-2FD8-486D-8869-6F7867CE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EA5D-A797-44EB-AFDB-78F15CE0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214-1FA3-4CB3-ABE2-CD164603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4DF4-63C2-4FCF-90B6-3745A162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2C6-D1F4-44B5-8BFF-0784C3B6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C667-3C8C-4408-8FE0-22D4314C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FF29-1E34-4750-9194-7CF1EA63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BE32-74F7-43EE-9DF7-8DE0AC4E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BF4C-8B5A-42FF-8470-A0E073EB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C2B5-C6A4-4503-97D4-C9185BB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197-0A25-4933-9F0A-3C87DC6D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632-C891-4A55-BDAB-12D1FA9D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733-9C9E-42E0-8866-2786B73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D7B-3378-401E-9556-5746728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01B-9F50-4FB1-86B7-32CDEDE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3160-DB28-4D2D-8179-2E8EB9B0C7A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A8AB-9149-4B2B-9354-0C2E8853C7A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98864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lobal Partnership issues &amp; planning:</a:t>
            </a:r>
            <a:br>
              <a:rPr sz="2000"/>
            </a:br>
            <a:br>
              <a:rPr sz="20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lobal Plan II progress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-  Working groups: MDR-TB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  <a:ea typeface="宋体"/>
              </a:rPr>
              <a:t>-  Partners Forum Evaluation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宋体"/>
              </a:rPr>
              <a:t> 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hair:   Giorgio Roscigno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apporteur:  Nils Billo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360" y="1890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Global Plan to Stop TB, 2006-1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7280" y="1484280"/>
            <a:ext cx="8605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ey feat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uilds on first Global Plan (2000-05) and Progress Re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10 years' timeframe (2006-15), leading to 2015 MD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mplementary to MDGs TB working group report (that calls for support for the Global Pl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nsistent with proposed WHA resolutio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pports national needs for long-term planning and financial sus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velops strategic directions set out by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ad hoc Committee on the TB epidem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contributions of each WG's work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0960"/>
            <a:ext cx="6300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view of progress in developing Global Plan, 2006-201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557360"/>
            <a:ext cx="85881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Ma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Executive Board approved resolution on Global Plan for 2005 World Health Assemb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Strategic and Technical Advisory Group endorsed outline of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ne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sent to all partners for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July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utline endorsed by Coordinating Bo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Augus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teering committee endorsed by 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ept 2004: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 initiated on proj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4211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484280"/>
            <a:ext cx="87058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1. Board endor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) key feat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) development of projections to inform plan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2. Board requests each WG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velop plans (2006-2015) in contribution to the globa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a focal point from the 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dentify resource needs for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3. Board proposes launch of Global Plan in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ither a) between WHA (May) and UNGASS (Sep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 b) late 2005, e.g. November Board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commendation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Boar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484280"/>
            <a:ext cx="87058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4. Board endorses approach of advocacy champ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lson Mandela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martya Sen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*preference to write foreword by one of th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5. Board endorses dissemination of Global Plan advocacy messages to key constituencies, including HIV/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agnitude of the proble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Dye C, Espinal MA, Watt CJ, Mbiaga C, Williams BG.  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Worldwide Incidence of Multidrug-Resistant Tuberculosis.  </a:t>
            </a:r>
            <a:r>
              <a:rPr b="0" i="1" lang="en-US" sz="1200" spc="-1" strike="noStrike">
                <a:solidFill>
                  <a:srgbClr val="720000"/>
                </a:solidFill>
                <a:latin typeface="Tahoma"/>
              </a:rPr>
              <a:t>J of Infec Dis</a:t>
            </a:r>
            <a:r>
              <a:rPr b="0" lang="en-US" sz="1200" spc="-1" strike="noStrike">
                <a:solidFill>
                  <a:srgbClr val="720000"/>
                </a:solidFill>
                <a:latin typeface="Tahoma"/>
              </a:rPr>
              <a:t>; 2002;185:1197-202.</a:t>
            </a: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Important recent development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OTS-Plus not longer limited to so-called "hot spots"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GLC was able to start, maintain and expand it's operations thanks to grants from different donors, including the B&amp;M Gates Found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74680" indent="-2746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comes to an end: mid July 20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DOTS Plus Working Group: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MDR-TB and GL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…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Acknowledges GLC plays a pivotal role in the control of MDRTB/ prevention of the emergence of resistance to 2</a:t>
            </a:r>
            <a:r>
              <a:rPr b="0" lang="en-GB" sz="22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 line drugs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financial sustainability of GLC is at stake—donors should be mobilized to ensure the financial sustainability.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stimated budget (next 3 yrs): 5 million US$/ operations GL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Recognizes additional funding is required at country level 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laboratory capacity strengthening,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urchase of 2</a:t>
            </a:r>
            <a:r>
              <a:rPr b="0" lang="en-GB" sz="20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line drugs,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human resource develop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720000"/>
                </a:solidFill>
                <a:latin typeface="Tahoma"/>
              </a:rPr>
              <a:t>Endorses and supports intensified coordination/ collaboration between DOTS-Plus WG, DOTS Expansion WG and New Diagnostics WG</a:t>
            </a:r>
            <a:endParaRPr b="0" lang="en-US" sz="2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133200"/>
            <a:ext cx="54104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920" y="148428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Amsterdam Declaration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i="1" lang="en-US" sz="2500" spc="-1" strike="noStrike">
                <a:solidFill>
                  <a:srgbClr val="720000"/>
                </a:solidFill>
                <a:latin typeface="Tahoma"/>
              </a:rPr>
              <a:t>to Stop TB</a:t>
            </a:r>
            <a:r>
              <a:rPr b="0" lang="en-US" sz="25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March, 2000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rst Stop TB Partners' Forum </a:t>
            </a: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(Oct 2001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23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ew Delhi 2</a:t>
            </a:r>
            <a:r>
              <a:rPr b="0" lang="en-GB" sz="2400" spc="-1" strike="noStrike" baseline="30000">
                <a:solidFill>
                  <a:srgbClr val="720000"/>
                </a:solidFill>
                <a:latin typeface="Tahoma"/>
              </a:rPr>
              <a:t>nd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Stop TB Partners Forum 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(March 2004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650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um funct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ssembly of the Partnership—Inclusive, consultative meeting of partn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onsolidate and increase support &amp; commit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Review and comment on Partnership progres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latform of information exchange on progress, problems and challeng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093080" y="1484280"/>
            <a:ext cx="1969920" cy="1555920"/>
            <a:chOff x="7093080" y="1484280"/>
            <a:chExt cx="1969920" cy="15559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rcRect l="0" t="0" r="0" b="8274"/>
            <a:stretch/>
          </p:blipFill>
          <p:spPr>
            <a:xfrm>
              <a:off x="7093080" y="1484280"/>
              <a:ext cx="1969920" cy="1555920"/>
            </a:xfrm>
            <a:prstGeom prst="rect">
              <a:avLst/>
            </a:prstGeom>
            <a:ln w="0">
              <a:noFill/>
            </a:ln>
            <a:effectLst>
              <a:outerShdw dist="89604" dir="2700000" blurRad="0" rotWithShape="0">
                <a:srgbClr val="a50021"/>
              </a:outerShdw>
            </a:effectLst>
          </p:spPr>
        </p:pic>
        <p:sp>
          <p:nvSpPr>
            <p:cNvPr id="111" name=""/>
            <p:cNvSpPr txBox="1"/>
            <p:nvPr/>
          </p:nvSpPr>
          <p:spPr>
            <a:xfrm>
              <a:off x="7093080" y="1484280"/>
              <a:ext cx="1969920" cy="155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cc66"/>
                </a:buClr>
                <a:buSzPct val="8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7093080" y="3124080"/>
            <a:ext cx="1946160" cy="1744920"/>
            <a:chOff x="7093080" y="3124080"/>
            <a:chExt cx="1946160" cy="1744920"/>
          </a:xfrm>
        </p:grpSpPr>
        <p:sp>
          <p:nvSpPr>
            <p:cNvPr id="113" name=""/>
            <p:cNvSpPr/>
            <p:nvPr/>
          </p:nvSpPr>
          <p:spPr>
            <a:xfrm>
              <a:off x="7097760" y="3124080"/>
              <a:ext cx="1941480" cy="1698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89604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3"/>
            <a:srcRect l="0" t="0" r="7996" b="0"/>
            <a:stretch/>
          </p:blipFill>
          <p:spPr>
            <a:xfrm>
              <a:off x="7093080" y="3150720"/>
              <a:ext cx="1929240" cy="1718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valuation Partners' Foru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he Board confirms that the Forum is an important body of the Stop TB Partnership which needs to be meeting once every 3 yea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quests the Secretariat to conduct an online poll about the future format and date of the Forum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ased on the results of the poll, the Secretariat will propose a concept of the next Forum (eg. Constituency engagement, break-out sessions, advocacy regarding outcomes 2005 Targets, etc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5T05:24:24Z</dcterms:modified>
  <cp:revision>177</cp:revision>
  <dc:subject/>
  <dc:title>Secretariat, 2003 Progress Report</dc:title>
</cp:coreProperties>
</file>