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8CB-9B6A-42EB-8D22-05B05BEC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564-CDD3-4551-84CA-77CB44BC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3C5-FA66-40E3-8BCF-339AD949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ADC9-576A-4BB4-9CD5-1DC60223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FA0-4967-445E-BD5E-A9C2621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41A-F7FC-41DB-BA21-D5C3E729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C6-E71B-49C6-9CF8-25A6564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52C-0C61-403A-AF52-96460F4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C2B-F34D-47C5-AC19-345F43FA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C16-ABFD-48FD-ABE8-465A1CCA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740-65C7-4EB9-85BA-01751CE2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0DF-0101-49EB-8BF0-1CAAF0B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AC73-BE84-498B-A968-67086A26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2:30:08Z</dcterms:modified>
  <cp:revision>92</cp:revision>
  <dc:subject/>
  <dc:title>Africa: HIV is driving the TB epidemic TB notification rates, 1980-1998</dc:title>
</cp:coreProperties>
</file>