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D697-0CB1-4306-B2CA-DF8928D3F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D060-922B-4466-82AB-CA32E466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237E-3FFB-40C1-9306-DEE34CCF3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98D8-5222-443B-99F0-2A6BEAAD5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BC93-4966-417F-8190-78B834D8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02B9-58A5-46DD-AB0C-D2AD57CC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627E-929D-4A10-8422-10204857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7F37-018F-446E-9F4B-024B4ABE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D8D9-9142-4864-BB3D-A30068AB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18F9-294C-4942-B3F8-CF9748D7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CDA9-1CBC-495F-A101-ADF54690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989A-58D7-4205-A6C8-D40F7BF1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EDCB-65C9-4555-A328-FD1A78C8F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maherd@who.ch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, 15-15 October 2004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Millennium Development Goals Project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quest to Coordinating Board to endors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2920" y="126828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recommendations of the working group on TB (Working Group report, p9-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inclusion of "TB" in MDG 6, thus "combat HIV/AIDS, TB, malaria and other diseases" (overall MDGs report, p3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raft General Assembly resolution point 37 "to request a revision of the targets and indicators for monitoring the MDGs to make them consistent with the technical recommendations of the UN Millennium Project Task Forces and other experts, by mid-2006" (overall MDGs report, p3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evelopment of advocacy strategy by WG on A &amp; C (in collaboration with MDGs Campaign) to push main TB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) launch of MDGs report in January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) UN special summit on MDGs in September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oordination with second Global Plan to Stop TB (2006-2015) (WHA May 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overall report 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"Global Plan to achieve the MDGs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2920" y="2554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comments@unmillenniumproject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illennium Development Goal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125360"/>
            <a:ext cx="858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dopted at the UN Millennium Summit, September 200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radicate extreme poverty and hu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chieve universal primary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mote gender equality and empower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Reduce child mort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mprove matern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bat HIV/AIDS, malaria and other dis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environment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 global partnership fo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UN summit Sept 2005 will review progress towards MDG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DGs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2920" y="1125360"/>
            <a:ext cx="889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Key featur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aunched by UN Sec-Gen to recommend the best strategies for achieving the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ject runs from 2002 –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directed by J Sachs (Special Adviser to the UN Sec-Gen on the 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overall report "Global Plan to achieve the MDGs" for launch in Jan 2005 (unmillenniumproject.org) and endorsement at special UN summit in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 task forces, including 2 on heal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) Task force 4: child and maternal health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i) Task force 5: HIV, malaria, TB, other major diseases and access to essential medi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embers of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620640"/>
            <a:ext cx="8381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 w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king group chair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Evans (Global Programme on Evidence for Policy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Floyd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 Harries (Malaw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Maher 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Perelman (TB Institute, Mosc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Schwalbe (Open Society Institute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Weil (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cretariat: J Paluzzi (Partners in Health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riter: K C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628640"/>
            <a:ext cx="858816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 of rep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lines strategies to reach 2015 global TB control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flects overall MDGs theme of poverty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recommendations of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s ongoing work to develop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Global Plan to Stop TB (2006-201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628640"/>
            <a:ext cx="85881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Finalisation of report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 February 2004 – interim report posted on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8 October 2004 – deadline for comments from revie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 November 2004 – submission of final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nuary 2005 – launch of task force reports with overall MDGs project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he report of the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" y="1700280"/>
            <a:ext cx="88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Introduction to the MD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Global TB epidemic and status of TB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overty, gender, children and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oving forward to achieve the 2015 TB tar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Fin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eeting the TB target in MDG project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nnexes: including country case studies (Cambodia, Dominican Republic, Ethiopia, Keny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8224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commendations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2920" y="1700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romote access for all to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ddress the TB/HIV emergency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Engage all primary care providers in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artner with communities to stop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ccelerate the development of critically needed new tools and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upport the Global Plan to Stop TB 2006-20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the TB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2920" y="255420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mments p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to Dermot Maher (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aherd@who.ch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) to compile and send to Task Force secretariat by Friday 22 Octo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30:08Z</dcterms:modified>
  <cp:revision>92</cp:revision>
  <dc:subject/>
  <dc:title>Africa: HIV is driving the TB epidemic TB notification rates, 1980-1998</dc:title>
</cp:coreProperties>
</file>