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6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2ABF-E144-4D97-8C65-AFA3FA136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TS for the Health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acting demands of TB control prompt us to consider it even from the perspective of the patient, his/her relatives and the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may realize the need for a partnership between the H.S. and the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rinciples may guide this partnershi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DOTS coverage in 1995, yet, poor treatment outcome indic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A476-6E9F-4685-82CB-282F95895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E204-9CDE-40A2-B317-66C159B1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CE08-5961-4682-A0EA-5F93B66C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6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356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3944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6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356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C493-58E5-4F0B-BDD6-5CFD6EED1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8F98-06E5-4C62-9425-4075701A2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1469-B0FD-42F9-9A52-C04F2B4D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5C61-5046-443F-AE92-91DD8DB2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8135-C8A0-46C4-96D4-78B1C352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D2A1-893E-479F-9F22-0141120B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39440" y="609120"/>
            <a:ext cx="875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9D79-D061-4BCA-AFC5-1AEB7556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5F9A-7E2F-4BC3-83F6-1EEF9D58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B1B7-2357-44AB-9A89-4FC3CC64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F4D8-BF87-42BC-95C6-1F084D51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2CAE-AE4E-45DD-AC42-477A1AF1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41EA-BCB8-401D-B21E-982FE3BA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9FEB-8DC9-41C5-8D4F-A56D21B25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86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356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3944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86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356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1749-1929-4B58-904D-23C3A1F6C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2D81-9AD3-445B-BB94-846D2C3C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C01C-A816-4421-8F6C-C4B04BC7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52D5-DB99-4FF5-96D3-97A3DF79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39440" y="609120"/>
            <a:ext cx="875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62E1-0402-426D-A923-E5A398DA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2C14-201F-4246-BE19-8E99A3F3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2774-221A-4D72-86F3-F975535C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CC63-9509-4E22-A71E-38119A8A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105480" y="4680"/>
            <a:ext cx="18998280" cy="27381240"/>
            <a:chOff x="-9105480" y="4680"/>
            <a:chExt cx="18998280" cy="27381240"/>
          </a:xfrm>
        </p:grpSpPr>
        <p:sp>
          <p:nvSpPr>
            <p:cNvPr id="1" name=""/>
            <p:cNvSpPr/>
            <p:nvPr/>
          </p:nvSpPr>
          <p:spPr>
            <a:xfrm>
              <a:off x="5836320" y="1585800"/>
              <a:ext cx="405648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1054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816320" y="644220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39440" y="6365880"/>
            <a:ext cx="4622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799040" y="614844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2EC1-EB9B-4052-9016-D896D2FF79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101562120" y="1463760"/>
            <a:ext cx="186315840" cy="21589560"/>
            <a:chOff x="-101562120" y="1463760"/>
            <a:chExt cx="186315840" cy="21589560"/>
          </a:xfrm>
        </p:grpSpPr>
        <p:sp>
          <p:nvSpPr>
            <p:cNvPr id="45" name=""/>
            <p:cNvSpPr/>
            <p:nvPr/>
          </p:nvSpPr>
          <p:spPr>
            <a:xfrm>
              <a:off x="3544200" y="2709720"/>
              <a:ext cx="636156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101562120" y="1463760"/>
              <a:ext cx="18631584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1480" y="761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816320" y="644220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402920" y="6365880"/>
            <a:ext cx="4622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799040" y="614844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985B-BB11-40A6-B572-AA01B2051B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5440" y="404640"/>
            <a:ext cx="9001080" cy="13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GFATM Coordination at country level: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preparation for Round 5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80880" y="2276280"/>
            <a:ext cx="6732360" cy="26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king support for GF activ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a structural element o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STB activities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8880" y="184464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31440" y="549000"/>
            <a:ext cx="87534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  <a:ea typeface="SimSun"/>
              </a:rPr>
              <a:t>Estimated costing of the exercise in two phases: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60520" y="1484280"/>
          <a:ext cx="8785080" cy="4794120"/>
        </p:xfrm>
        <a:graphic>
          <a:graphicData uri="http://schemas.openxmlformats.org/drawingml/2006/table">
            <a:tbl>
              <a:tblPr/>
              <a:tblGrid>
                <a:gridCol w="2666880"/>
                <a:gridCol w="741240"/>
                <a:gridCol w="1355760"/>
                <a:gridCol w="204840"/>
                <a:gridCol w="1079640"/>
                <a:gridCol w="1382760"/>
                <a:gridCol w="135396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1 - Worksho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N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tra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day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per di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Participa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3,000 @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118,75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Facilitat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3,000 @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3,75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4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Conference facilities at WHO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coffee brea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1,094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76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Translation (English, French, Spanis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19,96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Documents production, statione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,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ea typeface="SimSu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ea typeface="SimSun"/>
                        </a:rPr>
                        <a:t>$ </a:t>
                      </a:r>
                      <a:r>
                        <a:rPr b="1" lang="en-US" sz="20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ea typeface="SimSun"/>
                        </a:rPr>
                        <a:t>165,554</a:t>
                      </a: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9800" y="620640"/>
            <a:ext cx="875340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2 – Country Visit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00160" y="1252440"/>
          <a:ext cx="9505800" cy="1641600"/>
        </p:xfrm>
        <a:graphic>
          <a:graphicData uri="http://schemas.openxmlformats.org/drawingml/2006/table">
            <a:tbl>
              <a:tblPr/>
              <a:tblGrid>
                <a:gridCol w="1357200"/>
                <a:gridCol w="814320"/>
                <a:gridCol w="1647720"/>
                <a:gridCol w="1195560"/>
                <a:gridCol w="1273320"/>
                <a:gridCol w="1569960"/>
                <a:gridCol w="1647720"/>
              </a:tblGrid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rav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y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e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sult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e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rge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unt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5,000 @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 @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200/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250/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560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180000" y="3141720"/>
            <a:ext cx="83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SimSun"/>
              </a:rPr>
              <a:t>We are not charging countries in which WHO staff already exist and will assis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5840" y="4149720"/>
            <a:ext cx="89154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unds for covering workshop costs already raised with partn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unds for country missions still sough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1440" y="33300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Situation analysis from previous round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80360" y="528336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5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45240" y="528336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53,035,87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89480" y="528336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0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54160" y="528336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1 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33680" y="5283360"/>
            <a:ext cx="1320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7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9800" y="5283360"/>
            <a:ext cx="8938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80360" y="4967280"/>
            <a:ext cx="177948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45240" y="4967280"/>
            <a:ext cx="163512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6,618,38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89480" y="4967280"/>
            <a:ext cx="135576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54160" y="4967280"/>
            <a:ext cx="143532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80360" y="464976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8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45240" y="464976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67,850,15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89480" y="464976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4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54160" y="464976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8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33680" y="4649760"/>
            <a:ext cx="1320480" cy="633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7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9800" y="4649760"/>
            <a:ext cx="893880" cy="633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80360" y="433224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45240" y="433224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8,414,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89480" y="433224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54160" y="433224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4016520"/>
            <a:ext cx="177948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8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45240" y="4016520"/>
            <a:ext cx="163512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15,020,9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89480" y="4016520"/>
            <a:ext cx="135576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6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4160" y="4016520"/>
            <a:ext cx="143532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5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33680" y="4016520"/>
            <a:ext cx="1320480" cy="63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9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9800" y="4016520"/>
            <a:ext cx="893880" cy="63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80360" y="369900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0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45240" y="369900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54,762,73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89480" y="369900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8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54160" y="369900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4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80360" y="338148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7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45240" y="338148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96,425,4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89480" y="338148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3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54160" y="338148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2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33680" y="3381480"/>
            <a:ext cx="1320480" cy="635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5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9800" y="3381480"/>
            <a:ext cx="893880" cy="635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80360" y="2013120"/>
            <a:ext cx="177948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TB % of all approved 2-year funding (all diseases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45240" y="2013120"/>
            <a:ext cx="163512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Approved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2-year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funding for TB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(US $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89480" y="2013120"/>
            <a:ext cx="135576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TB% o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al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approv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component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54160" y="2013120"/>
            <a:ext cx="143532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Number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o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approv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components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SimSun"/>
              </a:rPr>
              <a:t>*</a:t>
            </a: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33680" y="2013120"/>
            <a:ext cx="132048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Tot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number o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approv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components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(all diseases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9800" y="2013120"/>
            <a:ext cx="89388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Roun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800" y="1486080"/>
            <a:ext cx="8420040" cy="527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Summary of GFATM approvals, rounds 1-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Number of components and Amount of funding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9800" y="148608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800" y="560088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9800" y="1486080"/>
            <a:ext cx="0" cy="411480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59840" y="1486080"/>
            <a:ext cx="0" cy="411480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9800" y="201312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9800" y="338148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3368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5416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8948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4524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8036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9800" y="401652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54160" y="3699000"/>
            <a:ext cx="620568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9800" y="464976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54160" y="4332240"/>
            <a:ext cx="620568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9800" y="528336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54160" y="4967280"/>
            <a:ext cx="620568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8880" y="119844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1960" y="5877000"/>
            <a:ext cx="8712360" cy="703800"/>
          </a:xfrm>
          <a:prstGeom prst="rect">
            <a:avLst/>
          </a:prstGeom>
          <a:noFill/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* TB/HIV component refers to stand alone proposals only. TB/HIV activities received approval in 28 countries in total,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the majority as part of a TB propos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31440" y="54900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Situation analysis from previous round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04520" y="19065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In R4, countries receiving TA missions that lasted fewer than five days had a lower success rate (30%) than those that lasted five days or more (64%).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 WHO assisted in 35 countries, with overall success rate of 49%; w/out WHO assistance success rate was 14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TB control expenditure in HBCs too low: US$ ~850 million in 2002, vs. estimated US$ 976 – sum required to reach 70% case detection by 200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By end 2003, the GFATM approved grants (for up to 5yrs) of US$ 608 million for TB, and US$ 319 million for TB/HIV, in 56 countr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First 2yrs total is US$ 294 million for TB, and US$ 90 million for TB/HIV, but only 16% had been disbursed by end 200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8880" y="148428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8520" y="404640"/>
            <a:ext cx="87534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eparation for GFATM Round 5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04520" y="1557360"/>
            <a:ext cx="8420040" cy="478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etermine, in collaboration with WHO ROs and technical partners, the list of countries intending to appl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atch those countries with appropriate individuals to provide technical assistan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old a workshop in Nov '04 to brief the persons assisting countries in all elements to consider when preparing a propos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rganize country visits, where needed, by those assisting countries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8880" y="112536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15800" y="457200"/>
            <a:ext cx="918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untries intending to apply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6000" y="1628640"/>
            <a:ext cx="96901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FR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tswana, Cap Verde, Comoros, DR Congo, Congo, Equatorial Guinea, Eritrea, Gabon, Gambia, Ghana, Mozambique, Niger, Nigeria, São Tomé and Principe, Senegal, SA, Tanzania, Zimbabw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M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lize, Brazil, Guatemala, Mexico, Surina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MR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Iran, Morocco, Sud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U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bania, Armenia, Azerbaijan, Belarus, Bosnia and Herzegovina, Bulgaria, Kazakhstan, Macedonia, Turkey, Turkmenistan, Ukra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A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a, Indonesia, Bangladesh, Myanmar, Thailand (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P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mbodia, Pacific Islands, PNG (?), Philippines, Viet N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295280"/>
            <a:ext cx="8956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60160" y="404280"/>
            <a:ext cx="8753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B Workshop – 1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88520" y="1413000"/>
            <a:ext cx="8915400" cy="4797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eneva, 22 – 26 Nov 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re WG with people from all technical ar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(weekly mee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acilitators fro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325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HO/STB (conceptual framework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325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FATM (procedures, guidelines, appl. for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325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Portfolio managers (case studi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0520" y="1197000"/>
            <a:ext cx="8956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88880" y="404640"/>
            <a:ext cx="875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B Workshop –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8880" y="1484280"/>
            <a:ext cx="8915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onte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resentations on conceptual frame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GFATM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5 guidelines and application 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Budget prepa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resentation of case stu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(successes and failur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8880" y="119700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88880" y="260280"/>
            <a:ext cx="8928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B Workshop –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2880" y="1052640"/>
            <a:ext cx="93600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444600" indent="-44460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Development of a conceptual framework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SimSun"/>
              </a:rPr>
              <a:t>to provide a guide to countries that want to consider including a particular technical area in the proposal</a:t>
            </a: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Range of components/activities and their rationa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Suggested budget lines by activit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SimSun"/>
              </a:rPr>
              <a:t>Costing to be determined at country-level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Flowchart with logical sequence of eve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Main process indicato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Working tool for NTPs (…and TRP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990720"/>
            <a:ext cx="8956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5440" y="188640"/>
            <a:ext cx="8969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  <a:ea typeface="SimSun"/>
              </a:rPr>
              <a:t>Technical Areas for TB: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15800" y="90792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Advocacy and commun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DOTS expans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DOTS Plus and GL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Drug Resistance Surveil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Monitoring &amp; Evalu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Global Drug Fac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Laboratory servic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uman re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Involving all health care provi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National Partner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7T12:50:58Z</dcterms:created>
  <dc:creator>Dr. Giuliano Gargioni</dc:creator>
  <dc:description/>
  <dc:language>en-US</dc:language>
  <cp:lastModifiedBy>diazv</cp:lastModifiedBy>
  <dcterms:modified xsi:type="dcterms:W3CDTF">2004-10-08T15:40:23Z</dcterms:modified>
  <cp:revision>47</cp:revision>
  <dc:subject/>
  <dc:title>Training</dc:title>
</cp:coreProperties>
</file>