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F255-0811-40F8-8C53-631A5E34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ED8C-8964-4147-B4F0-C5E902DB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C1CE-28CE-4E20-BEA0-CAE310466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F928-00C3-4069-9387-4C84731CC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93AF-B5D3-4481-918C-EA03E115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847C-95E5-41AB-BE3A-3C86B211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51D0-D79B-4996-BEF8-97D2E613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0950-C501-489F-A97A-F5C856C4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95B6-D4A2-41E0-8441-1E7AA135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7CDC-58F5-4D80-AD94-4DBE7C4B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81D9-6EAE-448C-BBF6-14C48B38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75AB-BC35-4D83-A203-ACE5426D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6322-C488-4B9C-A4FF-2D774D968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uccess of the Global Plan depends on the contribution of the Working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orking Group needs to indicate how it will make its contribution to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he secretariat in each case  should facilitate each Working Group's con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veloping the road map to reach the 2015 global TB control targ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ruction of possible scenarios for how the regions individually and the world overall can reach the targets, i.e. development of epidemiological and costing proj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G to use the projections as the basis for developing their own long-term workplan in contribution to achieving the targe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lestones and timelines for expected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hen to launch the Global Pl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8120" y="1125360"/>
            <a:ext cx="870588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i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enerate media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ow how the Global Plan responds to calls to achieve the 2015 TB control targets (World Health Assembly resolution May 2005, UNGASS on MDGs Sept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unch o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tween WHA (May 2005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UNGASS (Sept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orld TB Day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op TB Partners' Forum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provide a pre-publication version at UNGASS and launch the document  in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Who can champion the Global Pl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8120" y="1125360"/>
            <a:ext cx="8705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posed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Why do we need a Global Plan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o Stop TB?</a:t>
            </a:r>
            <a:br>
              <a:rPr sz="3600"/>
            </a:br>
            <a:br>
              <a:rPr sz="48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roadmap to achieve target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tool for advocacy and fundrais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upport long-term national plan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lobal TB control targ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19700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05 (World Health Assemb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tect 70% of smear-positiv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treat successfully 85% of all such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15 (Millennium Development Go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crease TB prevalence and deaths by ha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.B.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hievement of the impact targets (prevalence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deaths) depends on sustained achievement of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process targets (case detection and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eatment suc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41300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rst global plan: 2000-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scribed mechanisms, activities and resources needed to accelerate progress towards 200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s of action of 6 Stop TB working grou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TS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TS-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B/H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agno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ac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05264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ads to 2015 Millennium Development Goals (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onds to country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 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5698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cess for developing the Second Global Plan to Stop TB: 2006-20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76832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ordinated by Stop TB Partnership secretari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ded by steering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d by feedback from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the 7 Stop TB Partnership Working Groups (DOTS Expansion, DOTS-Plus, TB/HIV, drugs, diagnostics, vaccines, and advocacy &amp; communic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iven by 201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mbers of steering committ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8120" y="112536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 Adeyi (World Ban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 Ahmed (Bangladesh Rural Advancement Committ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Freire (Alliance for TB drug develop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 Omaswa (Ministry of Health, Ugan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Shah (National TB Programme, Pakist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8120" y="179244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ccessful development of plan depends on contribution of all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5:51Z</dcterms:modified>
  <cp:revision>91</cp:revision>
  <dc:subject/>
  <dc:title>Africa: HIV is driving the TB epidemic TB notification rates, 1980-1998</dc:title>
</cp:coreProperties>
</file>