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E054-DA42-4C04-A816-BFFE18A50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616C-6D8E-4EEA-A4E7-82A837935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9091-E390-4E67-9D0D-C955D8C70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7539-3BC6-41CD-9974-12E170624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F9393-9CFC-47F8-97CC-D30C90243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5BD5E-488C-4A76-855A-B2EE752C1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A8F21-2F31-4E47-9FA2-B4C12AEFC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FE615-63D7-4B1E-9115-BCB8FCCA7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BBF76-86CD-4B9C-8672-90C56FC66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5EB8A-E4B9-401E-AD64-6D4CE242E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3D0F2-AB39-4738-809B-C918C6E93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C139-24E0-4D37-BAB1-AFBFE8A1B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D0E8C-B547-4303-BC6B-327C70D2E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FBCA6-DBB3-4A44-8793-69ED16156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3D18C-BD2E-42FA-AB03-CFDF59A8D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DC491-2A3D-4828-B060-E9BE350C6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3C897-F368-44D5-A435-5EA2EE90D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8ABD-A239-4199-B2F9-B4E789283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2E00-1A88-48B4-A37B-A9CAC68BF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AB0A-2DAF-48DA-B528-2E14AD355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4C11-6DC7-4C35-9571-54B9901A0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52C7-F244-47D6-84DE-0E4D62F1D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9D0E-7ED8-42F6-A12C-DADA7EA9D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BE84-25AA-4571-85EA-64D354869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26EBB-833B-499B-98CB-05074AAB868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B3F01-709A-4028-AA97-2F0927B78042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394920" y="2060640"/>
            <a:ext cx="849636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  <a:ea typeface="宋体"/>
              </a:rPr>
              <a:t>Overview of the Advocacy and Communications Working Group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  <a:ea typeface="宋体"/>
              </a:rPr>
              <a:t>Michael Luhan, Communications Adviser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  <a:ea typeface="宋体"/>
              </a:rPr>
              <a:t>October 2004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73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1484280"/>
            <a:ext cx="8964720" cy="475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</a:rPr>
              <a:t>1. Antecedents: Task Force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524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352440" indent="-352440"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Ad hoc Task Force created in 2001 to "prioritize, plan, develop and coordinate advocacy and communication activities" to support Global Plan and six Working Group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-352440"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Work broadly guided by Strategic Plan for Advocacy and Communications (2002-2005) budgeted at $20 mill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-352440"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F meetings held in Atlanta (May 01), Geneva (Jan 02), Newark (Apr 02), Johannesburg (Sep 03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727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785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30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</a:rPr>
              <a:t>Task Force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430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430920" indent="-430920">
              <a:buClr>
                <a:srgbClr val="72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Tahoma"/>
              </a:rPr>
              <a:t>Implementation hampered by unstable and HQ-centric Secretariat, inconstant partners, informal character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30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30920" indent="-430920">
              <a:buClr>
                <a:srgbClr val="72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Tahoma"/>
              </a:rPr>
              <a:t>Lack of strategic framework, evidence base, pedagogy and specialized partners for country level communication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309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30920" indent="-430920">
              <a:buClr>
                <a:srgbClr val="72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Tahoma"/>
              </a:rPr>
              <a:t>Main achievements: Strengthened cooperation with selected partners, increased level of global advocacy focused on resource mobilizat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30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30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309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608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179280" y="1484280"/>
            <a:ext cx="8526600" cy="79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Mandate to form W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Cancun experts' consultation, Jun 03: Urges creation of more formal entity for strategic guidance in programme communication to support DOTS expan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Johannesburg TF meeting, Sep 03: Recommends Board upgrade TF to full WG status, establishes main work stream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External STB evaluation, Dec 03: Supports recommendation to create more formal entity for A&amp;C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Board authorizes formation of new WG, Mar 0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119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5280" y="159228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Formation 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J Carter elected chair of TF Core Group in Joburg meeting, Sep 0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Board endorses J Carter as chair a.i. for new WG and directs Secretariat to support formation process, Mar 0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Drafting of Basic Framework and initial members' roster by Secretariat, review by Core Group, Sep 0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First WG meeting proposed for Dec 04 or Jan 0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8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507520" cy="461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</a:rPr>
              <a:t>Proposed WG Framework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WG chair with permanent seat on the Board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wo vice-chairs to lead subgroup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One representative from each of the other 6 WG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Core funding from Secretariat ($100k/yr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One annual WG meeting, two meetings for subgroup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8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50752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Structure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Subgroup: Global advocacy for resource mobilizat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    </a:t>
            </a: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Analysis of funding needs; setting of strategic advocacy agenda; mapping of advocacy opportunities; coordination of planning, implementation and evaluation of activitie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Subgroup: Program communication and country suppor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    </a:t>
            </a: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Strategic framework and guidance; communication pedagogy and tools; operational research; strengthening NTP capacities; support for national partnership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90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Function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Develop strategic approaches for scaling up effective A&amp;C interventions and propagate evidence-based best practice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Empower Stop TB partners to develop, implement and evaluation A&amp;C activities at global, regional and country level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Advise the Coordinating Board on all matters pertaining to advocacy, in-country programme communication and social mobilizatio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72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2627280" y="1341360"/>
            <a:ext cx="42483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9280" y="1557360"/>
            <a:ext cx="864072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  <a:ea typeface="Tahoma"/>
              </a:rPr>
              <a:t>Objecti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Tahoma"/>
              </a:rPr>
              <a:t>Infuse a sense of urgency in the Stop TB movement and accelerate efforts of all stakeholders to meet the 2005 targets and 2015 MDG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Tahoma"/>
              </a:rPr>
              <a:t>Sustain the increased flow of resources into TB control and ensure that resources are appropriately targeted and utilize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Tahoma"/>
              </a:rPr>
              <a:t>Catalyze participation of civil society and build a genuine social movement against TB at global and country leve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15:56:53Z</dcterms:created>
  <dc:creator>Robert Hernandez</dc:creator>
  <dc:description/>
  <dc:language>en-US</dc:language>
  <cp:lastModifiedBy>luhanm</cp:lastModifiedBy>
  <dcterms:modified xsi:type="dcterms:W3CDTF">2004-10-11T09:08:19Z</dcterms:modified>
  <cp:revision>18</cp:revision>
  <dc:subject/>
  <dc:title>Financial situation,  Budget &amp; plans 2005</dc:title>
</cp:coreProperties>
</file>