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0FE3-7E57-4E14-BBCE-5A1A1C4A7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competitive and uncertai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rding to the Bank, health ODA in 2002 is about $ 8.1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n new health funding initiatives (GFATM, PEPFAR, MCA ), health funding is expected to continue to rise in the coming years BUT there is no grant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round 80 global health initiatives at this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/AIDS is drawing the most significant atten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aling up resource mobilization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do more – The estimated financial gap for Stop TB is about $25 million in 2005 and getting wider in the coming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eting the overall MDG needs requires an annual ODA average of $156 billion from 2005 through 2007 and $188 billion from 2013 through 2015. (In 2003, the total amount of ODA worldwide was $68 b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ilding public trust and confidence on the Part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ublic and donor expectation is high and multidimensional, including an ethical aspect of perform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 down a set of basic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set out minimum principles for establishing system-wide standards for resource mobilization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unicate with all stakeholder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re a mean to communicate with our beneficiaries, partners, donors, supporters, and all other stakeholders to promote a better understanding of the Stop TB resource mobilization operation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ure resource mobilization is mission-driven and aligned with the Partnership's vision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a quality-control and accountability promotion meas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hold our resource mobilization effort to a higher quality standard and establish it in a wider framework of the mission, vision, and values of the Stop TB Partnership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AB16-0E9A-4B7A-8B53-5F081039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2FB-89DA-454C-B699-BA4E76C3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41A-6534-4456-85C0-CD076618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9D4-294F-428D-A968-84B18B8A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5579-FA1F-4910-A5DD-B174ED49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1481-1EF6-443D-8759-9CAA07E3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44F1-8A97-4CBE-ADF7-C9466FEA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8AAD-598E-4985-9717-35BC324C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0EE4-A8E4-4FA6-A949-ABEC4D50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6EFB-88E0-4880-9707-054BEF14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44C1-9006-4480-A0A6-16C70187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8DA-477E-4C40-BE96-C62DEDD0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5DC9-313E-4D54-AFBE-534B7DAD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5BB1-6D56-4ADB-8A08-81A36EFD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1989-5E70-4C01-9A47-09DFC0B5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B712-CE6D-494E-8AC7-EF1A5BE3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0FFF-E799-4D63-BBF1-420976E2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FBE-763F-4204-BC6A-FAB56200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CA60-7627-4FEA-A4F1-CD1F37DF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551-593B-4878-A245-76E3C254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34A-F19F-4350-952A-983AEA43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AE9-ADA6-4EDB-A619-342F1D07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8DD-2531-4D57-9F16-3AB59798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80D7-35B1-4694-908F-E82C926A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9D27-5536-42CF-A719-71C9B28D162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851D-79EF-47DA-A6BE-142D5249319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Ethical Guidelines for Resource Mobiliz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Need for Guidelin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Implementation and Review Proces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What are Next Steps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ed for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quested by Coordinating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mand for accountability and transparency  from regulatory bodie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competitive and uncertain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caling up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donors from the existing donor seg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w Donor Segment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public trust and confidence on the Partnership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Lay down a set of readily understood basic principl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municate the agreed principles that underpin resource mobilisation to all stakeholders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resource mobilization 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mission-drive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ligned to Partnership valu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view Committe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mall,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 for the Coordinating Boar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guid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pply the endorsed guidelines with immediate effec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irculate the Guidelines to those involved in resource mobilisation and peer bod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3:00Z</dcterms:modified>
  <cp:revision>70</cp:revision>
  <dc:subject/>
  <dc:title>Slide 1</dc:title>
</cp:coreProperties>
</file>