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gif" ContentType="image/gif"/>
  <Override PartName="/ppt/media/image16.png" ContentType="image/png"/>
  <Override PartName="/ppt/media/image9.png" ContentType="image/pn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99DA-7E1F-45C0-B6A9-A426805464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ng HIV/AIDS and TB Efforts: The Challenge for the President's AIDS Initiative.  Results educational fund.  Network Public Health Programmes.  Open Society Instit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F0C1-572E-4773-97CA-DDD21560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3A8-3EB8-4719-AF20-4B2EB79C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E4C-8D38-4A2A-8D4D-D1F7C621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028-6E6E-403D-BE79-0CFB3B21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FDB1-C30E-4411-A6D7-1031A5C3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7B2-6780-4862-9257-F5901454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75A-5B7F-450D-A1ED-7AB5FBD7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FFA-8CA3-41BC-AFFC-A0A87186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01B-C7D8-4264-AB75-36D642B7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1F0-1A0A-4C99-975E-509413B4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E77-9A4B-4BBB-91A3-46E2E3DF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C10-8603-4BC6-BBE7-91204BC4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E66C-FD8D-4E3F-A0CA-74E762D61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66680" cy="6858000"/>
            <a:chOff x="0" y="0"/>
            <a:chExt cx="1066680" cy="68580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90720" cy="68580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0" y="0"/>
              <a:ext cx="1066680" cy="6858000"/>
              <a:chOff x="0" y="0"/>
              <a:chExt cx="1066680" cy="6858000"/>
            </a:xfrm>
          </p:grpSpPr>
          <p:graphicFrame>
            <p:nvGraphicFramePr>
              <p:cNvPr id="8" name=""/>
              <p:cNvGraphicFramePr/>
              <p:nvPr/>
            </p:nvGraphicFramePr>
            <p:xfrm>
              <a:off x="0" y="5791320"/>
              <a:ext cx="1066680" cy="106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0" y="5791320"/>
                        <a:ext cx="106668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990720" cy="571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248520" y="0"/>
            <a:ext cx="289548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624852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5497560"/>
          <a:ext cx="1447920" cy="136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497560"/>
                    <a:ext cx="1447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52280" y="609480"/>
            <a:ext cx="59436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STOP TB  Coordinating Board Meeting, Beijing, October 14-15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B/HIV Working Group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486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Gijs Elzing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"/>
              </a:rPr>
              <a:t>Paul Nu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400800" y="58672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05720" y="58672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Haettenschweiler"/>
              </a:rPr>
              <a:t>GLOBAL PARTNERSHIP TO STOP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Partnership - Collabor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537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cessful TB/HIV Working Group Meet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involvement HIV activ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ner-partner collaboration exp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of region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setting cor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V/TB Task Force in WHO HIV Dept/S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484360" cy="3240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51280" y="5516640"/>
            <a:ext cx="3240000" cy="1003320"/>
          </a:xfrm>
          <a:prstGeom prst="ellipse">
            <a:avLst/>
          </a:prstGeom>
          <a:solidFill>
            <a:srgbClr val="3333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V-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805360"/>
            <a:ext cx="18716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5516640"/>
            <a:ext cx="3600360" cy="100332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454600">
            <a:off x="2482200" y="5541480"/>
            <a:ext cx="3394800" cy="332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49" y="411"/>
                </a:moveTo>
                <a:arcTo wR="10800" hR="10800" stAng="-6351581" swAng="4071902"/>
                <a:lnTo>
                  <a:pt x="10800" y="10800"/>
                </a:lnTo>
                <a:close/>
              </a:path>
              <a:path fill="none" w="21600" h="21600">
                <a:moveTo>
                  <a:pt x="7849" y="411"/>
                </a:moveTo>
                <a:arcTo wR="10800" hR="10800" stAng="-6351581" swAng="4071902"/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537372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Heavy traffic across TB/HIV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60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– to increase visibility of TB and TB/HIV, with ACWG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Britain (G8 host, EU President, Africa Commission, commitment to increase ODA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dia push in Africa (AU, NEPAD, formation and support of national advocates at country level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Meeting being planned with Peter Piot, UNAIDS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inclusion in G8 planning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– promoting engagement of HIV community in TB/HIV and to create better strategies and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UNAIDS, PEPFAR, Global Fund, World Bank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WHO/HIV Dept., Research community, PATH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DC – GAP and DTBE (HIV surveillance meeting Oct 2004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w Diagnostics – FIND; New Drugs – GATB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Development of community based care delivery strateg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Need corporate sector plan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rategy for moving forwar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ry Support – to deliver patient-centr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Resource mobilisation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Health workforce strengthening a must 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Expanded delivery joint TB/HIV-AIDS service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Co-ordination of technical assistance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shortcomings in implementation of DOTS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ddress HIV MDR-TB interaction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nclusions at Brasilia - 2003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84548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DOTS necessary, but not sufficient, to meet the TB targets in HIV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better HIV/AIDS control, meeting the TB targets will not cause TB to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will fall only through patient centered, country-wide TB &amp; HIV collaborati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y not only bring the TB targets in SSA within reach, but also support provision of ARVs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llion HIV-AIDS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BCB is uniquely poised to mobilize the forces and resources to trigger 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he WG has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WG's strategy for moving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Analysis &amp; Policy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 rot="20563200">
            <a:off x="1403280" y="1341000"/>
            <a:ext cx="1676520" cy="2230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 rot="20595000">
            <a:off x="5363640" y="1341360"/>
            <a:ext cx="1555920" cy="208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 rot="20558400">
            <a:off x="3419280" y="1341000"/>
            <a:ext cx="1601640" cy="20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1740000">
            <a:off x="3962160" y="4495680"/>
            <a:ext cx="1122120" cy="1557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 rot="9785400">
            <a:off x="7235280" y="1267920"/>
            <a:ext cx="1538280" cy="211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38960" y="364500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Interim policy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M&amp;E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   Surveillance         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9880" y="6237360"/>
            <a:ext cx="80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Tahoma"/>
              </a:rPr>
              <a:t>ProTEST lessons  TBHIV Clinical         HIV testing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 rot="1967400">
            <a:off x="1547280" y="4365720"/>
            <a:ext cx="1276560" cy="1666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6443640" y="4508640"/>
            <a:ext cx="246528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rot="19678800">
            <a:off x="1546920" y="2257920"/>
            <a:ext cx="7062840" cy="2287440"/>
          </a:xfrm>
          <a:prstGeom prst="rect">
            <a:avLst/>
          </a:prstGeom>
          <a:solidFill>
            <a:srgbClr val="00ff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cc"/>
                </a:solidFill>
                <a:latin typeface="STHupo"/>
                <a:ea typeface="STHupo"/>
              </a:rPr>
              <a:t>Minimum Essential Set of Policy Guidance Is Now Availa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What has the WG achieved since Brasilia? – Country progres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8 countries pledged GFATM support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13 countries receiving (3 in 2003)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The Presidential AIDS Initiative and WB MAPs include TB/HIV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Completed for 34 high HIV burden countries - $300 million annuall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2002-3 baseline established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Annual system now in place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"/>
              </a:rPr>
              <a:t>Global to national level training under way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Country progress – Sept 2004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ing commitment is no longer the bottleneck – dispersal mechanism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B/HIV activities in most reg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/33 countries surveyed have coordination mechanism, 50% doing joint planning, but implementation still low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rge human resource g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ing and reporting gap at peripher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5688360" cy="65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87640" y="1341360"/>
            <a:ext cx="3311640" cy="2521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87280" y="1341360"/>
            <a:ext cx="180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v (W1)"/>
                <a:ea typeface="Arial"/>
              </a:rPr>
              <a:t>Mandela urges action to fight TB</a:t>
            </a:r>
            <a:br>
              <a:rPr sz="2400"/>
            </a:br>
            <a:r>
              <a:rPr b="0" i="1" lang="en-US" sz="1400" spc="-1" strike="noStrike">
                <a:solidFill>
                  <a:srgbClr val="000000"/>
                </a:solidFill>
                <a:latin typeface="Antique Olv (W1)"/>
                <a:ea typeface="Arial"/>
              </a:rPr>
              <a:t>By Chris Hogg 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BC Bangk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3170160" cy="70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360" y="5589720"/>
            <a:ext cx="60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dela sounds alarm on TB "death sentence" in AIDS war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Darren Schuett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4043520"/>
            <a:ext cx="2268720" cy="30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NGKOK (Reuters)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lobal war on AIDS could be lost if the world ignores tuberculosis, often a "death sentence" for people infected with HIV, former South African president Nelson Mandela said on Thursd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516720" y="1484280"/>
            <a:ext cx="2448000" cy="70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00720" y="2421000"/>
            <a:ext cx="259236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NGKOK: by Lawrence K. Altman –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lson Mandela came to the 15th International AIDS Conference here Thursday to lend his prestige to the battles against tuberculosis and AIDS, two deadly diseases that are intricately link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Advocacy – as at October 2004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553760"/>
            <a:ext cx="77724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shift in environment in pa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recognition in HIV community of TB as part of th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olvement of HIV advocac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dia material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n Union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ing interest in TB Community and DE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1:14Z</dcterms:created>
  <dc:creator>Nunn</dc:creator>
  <dc:description/>
  <dc:language>en-US</dc:language>
  <cp:lastModifiedBy>Paul Nunn</cp:lastModifiedBy>
  <dcterms:modified xsi:type="dcterms:W3CDTF">2004-10-15T04:48:54Z</dcterms:modified>
  <cp:revision>46</cp:revision>
  <dc:subject/>
  <dc:title>No Slide Title</dc:title>
</cp:coreProperties>
</file>