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DE4-65B0-4B37-88A6-766B7D76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200-1B76-4799-B021-600995F2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1F9-8D0F-4061-9FE0-7588EED9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51D-FF6D-493E-A117-06521544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365F-C52D-4FE6-8B06-352499F3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8CB-7579-4DC3-A378-DBFCCFAF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46C-D755-4E28-9464-B977CBE0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8BB-08D2-4B4A-9A93-3D912652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98E-1412-4BAF-96EE-4629B53F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880-196D-43B6-9616-F5B300A4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095-8D4F-43F6-B677-41F917C0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7ED-3A70-4661-A585-E86823EA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4E3E-ED9C-4709-92C4-436B59810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4 – 15 October, 2004,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 Kitty Lambregts-van Weezenb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O HQ/STOP TB/T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7924680" y="228600"/>
          <a:ext cx="990720" cy="99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8600"/>
                    <a:ext cx="9907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380880"/>
          <a:ext cx="7621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880"/>
                    <a:ext cx="762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55640" y="191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top TB Coordinating Board Mee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LD reality in a letter from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…….One national pharmaceutical Company; of Lahore has started manufacturing on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ne Anti-TB drug only but its perhaps commercially not that profitable hence they have adopted unethical practices &amp; introduced this drug to general practitioners, especially in the rural areas &amp; other speciality consultants promoting it as a new Anti-TB drug thus by producing more Drug resistant cases.  I am afraid this drug will also be lost soon for TB patients.  Its criminal…..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 Abdullah Jan Pathan, Chest Physician, Hydera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4320"/>
            <a:ext cx="9144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027840" y="3505320"/>
            <a:ext cx="19980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292720" y="234936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724360" y="3357720"/>
            <a:ext cx="446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795640" y="3284640"/>
            <a:ext cx="270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99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3130920" y="5734080"/>
            <a:ext cx="228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916360" y="5734080"/>
            <a:ext cx="104760" cy="11592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916360" y="5516640"/>
            <a:ext cx="104760" cy="11592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130560" y="5526000"/>
            <a:ext cx="210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916360" y="5950080"/>
            <a:ext cx="104760" cy="11592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2000" y="5950080"/>
            <a:ext cx="201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508720" y="3429000"/>
            <a:ext cx="17280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916360" y="6165720"/>
            <a:ext cx="104760" cy="115920"/>
          </a:xfrm>
          <a:prstGeom prst="ellipse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916360" y="6381720"/>
            <a:ext cx="104760" cy="115920"/>
          </a:xfrm>
          <a:prstGeom prst="ellipse">
            <a:avLst/>
          </a:prstGeom>
          <a:solidFill>
            <a:srgbClr val="ff99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32000" y="6165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widely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32000" y="6381720"/>
            <a:ext cx="223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econdline drugs NOT  avail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66760" y="619200"/>
            <a:ext cx="64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HB countries: Nationwide drug resistance surveillance data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  HB countries: Sub-national (Russian Federation, China, and In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  HB countries: N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1187280" y="549360"/>
            <a:ext cx="705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is far more complicated than 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4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boratory capacity:  diagnosis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eatment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 during 18-24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of (frequent) side-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ten difficult patien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ug procurement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recording &amp; repor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nking Independent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028960" y="1628640"/>
            <a:ext cx="2506680" cy="221004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535640" y="1628640"/>
            <a:ext cx="2506680" cy="213372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348000" y="3573360"/>
            <a:ext cx="2778120" cy="2286000"/>
          </a:xfrm>
          <a:prstGeom prst="ellipse">
            <a:avLst/>
          </a:prstGeom>
          <a:solidFill>
            <a:srgbClr val="71aa1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857760" y="2771640"/>
            <a:ext cx="1577880" cy="1521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789c3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780000" y="2924280"/>
            <a:ext cx="1728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00"/>
                </a:solidFill>
                <a:latin typeface="Arial"/>
              </a:rPr>
              <a:t>G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00"/>
                </a:solidFill>
                <a:latin typeface="Arial"/>
              </a:rPr>
              <a:t>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165400" y="2085840"/>
            <a:ext cx="209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ACCESS: Price &amp;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03680" y="2085840"/>
            <a:ext cx="237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RATIONAL    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857760" y="4371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02384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51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164360" y="1557360"/>
            <a:ext cx="914400" cy="8431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chn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s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948360" y="213372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524720" y="2637000"/>
            <a:ext cx="934920" cy="647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948360" y="3429000"/>
            <a:ext cx="93528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709308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804000" y="342864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012000" y="5589720"/>
            <a:ext cx="1081080" cy="1058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uid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40000" y="5589720"/>
            <a:ext cx="1079640" cy="107928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27672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3132000" y="530028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6011640" y="53006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1700280"/>
            <a:ext cx="1008000" cy="9367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qual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84360" y="2924280"/>
            <a:ext cx="100800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oo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763640" y="213372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763640" y="3141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0" y="183960"/>
            <a:ext cx="91440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Arial"/>
              </a:rPr>
              <a:t>WHO-GLC DOTS-Plus projects by October  200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2050920" y="1635120"/>
            <a:ext cx="114480" cy="1000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119320" y="1714680"/>
            <a:ext cx="419040" cy="55548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19200" y="1504800"/>
            <a:ext cx="152280" cy="1303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9800" y="1562040"/>
            <a:ext cx="227160" cy="23184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85920" y="3713040"/>
            <a:ext cx="158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216160" y="3776760"/>
            <a:ext cx="936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220920" y="2187720"/>
            <a:ext cx="20016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394000" y="1346040"/>
            <a:ext cx="404640" cy="2890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29040" y="1555920"/>
            <a:ext cx="131760" cy="648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82920" y="3535200"/>
            <a:ext cx="39384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868560" y="4159080"/>
            <a:ext cx="130320" cy="14940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90880" y="4159080"/>
            <a:ext cx="42840" cy="270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3679920" y="3594240"/>
            <a:ext cx="3348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841920" y="4186080"/>
            <a:ext cx="792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4141800" y="255744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84560" y="2898720"/>
            <a:ext cx="84240" cy="17136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129200" y="2994120"/>
            <a:ext cx="52200" cy="7596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865680" y="3868560"/>
            <a:ext cx="17604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4216320" y="3341520"/>
            <a:ext cx="281160" cy="2876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125960" y="2830680"/>
            <a:ext cx="187200" cy="14436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99080" y="44863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4478400" y="3276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4889520" y="3571920"/>
            <a:ext cx="936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211640" y="143676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516640" y="251316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925960" y="3581280"/>
            <a:ext cx="212760" cy="44604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5986440" y="3516480"/>
            <a:ext cx="18576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02784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57880" y="4003560"/>
            <a:ext cx="211320" cy="1825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537160" y="3929040"/>
            <a:ext cx="46080" cy="10476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95960" y="23544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5446800" y="3209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443560" y="318600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5443200" y="31683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5843520" y="332532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5640" y="3462480"/>
            <a:ext cx="334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6305400" y="347040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094440" y="4124160"/>
            <a:ext cx="31680" cy="399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361200" y="404496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929200" y="4033800"/>
            <a:ext cx="23832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481800" y="4159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762600" y="394344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481800" y="2903400"/>
            <a:ext cx="7776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638760" y="3036960"/>
            <a:ext cx="446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1554120" y="3787920"/>
            <a:ext cx="55440" cy="3960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936960" y="4665600"/>
            <a:ext cx="298440" cy="32868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7513560" y="42260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433760" y="3629160"/>
            <a:ext cx="127080" cy="2174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578480" y="3591000"/>
            <a:ext cx="50760" cy="55440"/>
          </a:xfrm>
          <a:custGeom>
            <a:avLst/>
            <a:gdLst/>
            <a:ahLst/>
            <a:rect l="l" t="t" r="r" b="b"/>
            <a:pathLst>
              <a:path w="35" h="36">
                <a:moveTo>
                  <a:pt x="0" y="0"/>
                </a:moveTo>
                <a:lnTo>
                  <a:pt x="29" y="12"/>
                </a:lnTo>
                <a:lnTo>
                  <a:pt x="35" y="36"/>
                </a:lnTo>
                <a:lnTo>
                  <a:pt x="1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5243400" y="3084480"/>
            <a:ext cx="64152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200560" y="3103560"/>
            <a:ext cx="185760" cy="42372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6124680" y="3394080"/>
            <a:ext cx="279360" cy="169920"/>
          </a:xfrm>
          <a:custGeom>
            <a:avLst/>
            <a:gdLst/>
            <a:ahLst/>
            <a:rect l="l" t="t" r="r" b="b"/>
            <a:pathLst>
              <a:path w="198" h="110">
                <a:moveTo>
                  <a:pt x="0" y="72"/>
                </a:moveTo>
                <a:lnTo>
                  <a:pt x="8" y="86"/>
                </a:lnTo>
                <a:lnTo>
                  <a:pt x="30" y="98"/>
                </a:lnTo>
                <a:lnTo>
                  <a:pt x="56" y="90"/>
                </a:lnTo>
                <a:lnTo>
                  <a:pt x="56" y="106"/>
                </a:lnTo>
                <a:lnTo>
                  <a:pt x="72" y="110"/>
                </a:lnTo>
                <a:lnTo>
                  <a:pt x="78" y="90"/>
                </a:lnTo>
                <a:lnTo>
                  <a:pt x="114" y="70"/>
                </a:lnTo>
                <a:lnTo>
                  <a:pt x="122" y="60"/>
                </a:lnTo>
                <a:lnTo>
                  <a:pt x="128" y="70"/>
                </a:lnTo>
                <a:lnTo>
                  <a:pt x="172" y="38"/>
                </a:lnTo>
                <a:lnTo>
                  <a:pt x="198" y="0"/>
                </a:lnTo>
                <a:cubicBezTo>
                  <a:pt x="177" y="9"/>
                  <a:pt x="162" y="22"/>
                  <a:pt x="140" y="22"/>
                </a:cubicBezTo>
                <a:lnTo>
                  <a:pt x="110" y="28"/>
                </a:lnTo>
                <a:lnTo>
                  <a:pt x="64" y="72"/>
                </a:lnTo>
                <a:lnTo>
                  <a:pt x="36" y="68"/>
                </a:lnTo>
                <a:lnTo>
                  <a:pt x="8" y="86"/>
                </a:lnTo>
                <a:lnTo>
                  <a:pt x="24" y="96"/>
                </a:lnTo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7907400" y="5181480"/>
            <a:ext cx="91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 Narrow"/>
              </a:rPr>
              <a:t>Source: WHO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934000" y="5792760"/>
            <a:ext cx="365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Applications under review by the G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901960" y="5824440"/>
            <a:ext cx="174600" cy="189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322960" y="3316320"/>
            <a:ext cx="172800" cy="19044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5362560" y="2311560"/>
            <a:ext cx="173160" cy="188640"/>
          </a:xfrm>
          <a:prstGeom prst="ellipse">
            <a:avLst/>
          </a:pr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901960" y="5484960"/>
            <a:ext cx="174600" cy="1872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135960" y="5451480"/>
            <a:ext cx="33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GLC-approved DOTS-Plu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4114800" y="2509920"/>
            <a:ext cx="189000" cy="792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66ff3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52840" y="2287440"/>
            <a:ext cx="17460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057640" y="259236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901960" y="6145200"/>
            <a:ext cx="174600" cy="187200"/>
          </a:xfrm>
          <a:prstGeom prst="ellipse">
            <a:avLst/>
          </a:prstGeom>
          <a:solidFill>
            <a:srgbClr val="cc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130560" y="6145200"/>
            <a:ext cx="601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Countries prepar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043520" y="4815000"/>
            <a:ext cx="36972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386240" y="2065320"/>
            <a:ext cx="173160" cy="1890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37160" y="339732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452840" y="4556160"/>
            <a:ext cx="108000" cy="9828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513480" y="3745080"/>
            <a:ext cx="122400" cy="12348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201680" y="3471840"/>
            <a:ext cx="17460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100240" y="4572000"/>
            <a:ext cx="173160" cy="1890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40280" y="2863800"/>
            <a:ext cx="111240" cy="15084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502160" y="4156200"/>
            <a:ext cx="101520" cy="1080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4470480" y="4351320"/>
            <a:ext cx="82440" cy="7632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4662360" y="2287440"/>
            <a:ext cx="173160" cy="190800"/>
          </a:xfrm>
          <a:prstGeom prst="ellipse">
            <a:avLst/>
          </a:prstGeom>
          <a:solidFill>
            <a:srgbClr val="66ff33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267080" y="3352680"/>
            <a:ext cx="133560" cy="14760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867280" y="2637000"/>
            <a:ext cx="173160" cy="18864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435640" y="3500280"/>
            <a:ext cx="173160" cy="18900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219640" y="3141720"/>
            <a:ext cx="144360" cy="117360"/>
          </a:xfrm>
          <a:prstGeom prst="ellipse">
            <a:avLst/>
          </a:prstGeom>
          <a:solidFill>
            <a:srgbClr val="cc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Recent Develop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om pilot phase to expansio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not longer limited to so-called "hot spot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t 4 regimens recognised as the standard of care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DR-TB (STAG decision, June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litics:  EB resolution 114.R1,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TS-Plus Guidelines are under revision/trai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D are used almost everyw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417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B resolution May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1042920" y="141300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COURAGES ALL MEMBER STAT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To ensure that all tuberculosis patients have access to the universal standard of care that is based on the proper diagnostics, treatment and reporting consistent with DOTS strategy…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QUESTS THE DIRECTOR GENERAL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Implement and strengthen strategies for the effective control and management of persons with drug-resistant tuberculosi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1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80720" y="151920"/>
            <a:ext cx="877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aboration agreed with the GFT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552240" y="1879560"/>
            <a:ext cx="794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To help contain resistance to second-line anti-TB drugs and consistent with the policies of other international funding sources, all procurement of medications to treat MDR-TB must be conducted through the Green Light Committee (GLC)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ird Board Meeting, 10-11 October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Global Fund to Fight AIDS, Tuberculosis and Mal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66560" y="790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8099280" y="57456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ALLENGES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476360" y="1773360"/>
            <a:ext cx="6400800" cy="40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/ consultant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demands for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ug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-line drugs outside DOTS-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8213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8908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 of Action DOTS + Working Group</a:t>
            </a:r>
            <a:br>
              <a:rPr sz="28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lose collaboration with DEWG, the New Diagnostics WG and the Stop TBP Secretari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capacity ↑ (DE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 ↑(DEWG, 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grading GLC operations (GLC member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urce Mobilization (Stop TB part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al research /policy development (New Diagnostics W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1835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CONTENT OF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nitude of the MDR-TB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second-line drug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: statu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9396000" y="-5234040"/>
            <a:ext cx="289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y IV regimens have been recommended for cases of drug resistance for a number of years by the WHO.  Programs without access to them are operating in “DOTS-minu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T'S  MOVE  FROM  “DOTS MINUS” TO  FULL  DO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nitude of th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Resistance surveys in 64 countries and predictive data from 72 countries the number of new cases of MDR-TB for 2000 was estimated to be 273,000 (95% confidence limits 185,000 and 414,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e C, Espinal MA, Watt CJ, Mbiaga C, Williams BG.  Worldwide Incidence of Multidrug-Resistant Tuberculosis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 of Infec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2002;185:1197-20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9168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imated incidence of new MDR-TB cases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date of Dye C, Espinal M, Watt C, et al. Worldwide Incidence of Multidrug-Resistant Tuberculosis. JID 2002, 185:1197-2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5320" y="216216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000" y="4481640"/>
            <a:ext cx="284400" cy="37764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1040" y="420048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400" y="415620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36800" y="385452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28760" y="388296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385452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38480" y="385452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1633680"/>
            <a:ext cx="114480" cy="10152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01760" y="182556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95600" y="140796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84520" y="144288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81360" y="135720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21040" y="135720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14560" y="148104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12720" y="367668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32120" y="161604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5840" y="2711520"/>
            <a:ext cx="14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9320" y="171612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23920" y="203976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16684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6680" y="1998720"/>
            <a:ext cx="92160" cy="8424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63760" y="245592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9200" y="1504800"/>
            <a:ext cx="152280" cy="12888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9800" y="156204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3560" y="154944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7680" y="140004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9360" y="199872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74640" y="373680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9680" y="366552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04960" y="352728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33400" y="357516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94040" y="364500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1400" y="3676680"/>
            <a:ext cx="46080" cy="2232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27080" y="363852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4640" y="347652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358452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961640" y="353700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01760" y="373680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95560" y="3673440"/>
            <a:ext cx="25200" cy="2556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84480" y="3686040"/>
            <a:ext cx="6120" cy="1296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0080" y="370188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689280"/>
            <a:ext cx="17640" cy="972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87720" y="371304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114280" y="357192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44880" y="357840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180880" y="359100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225160" y="3722760"/>
            <a:ext cx="55800" cy="55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28760" y="382104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32000" y="379404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16160" y="377676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75912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234880" y="380376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46400" y="3760920"/>
            <a:ext cx="41040" cy="37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16160" y="3686040"/>
            <a:ext cx="55440" cy="74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3200" y="3648240"/>
            <a:ext cx="507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197080" y="362268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94000" y="405612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28760" y="3962520"/>
            <a:ext cx="114480" cy="21276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3640" y="403380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79680" y="4189320"/>
            <a:ext cx="28440" cy="2088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4520" y="2523960"/>
            <a:ext cx="38160" cy="1620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1120" y="2576520"/>
            <a:ext cx="9360" cy="3348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92680" y="258912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58960" y="132876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19480" y="2187720"/>
            <a:ext cx="201600" cy="14436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249552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94000" y="1346040"/>
            <a:ext cx="404640" cy="28764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3120" y="1598760"/>
            <a:ext cx="144360" cy="17748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9040" y="155412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98880" y="1652760"/>
            <a:ext cx="25560" cy="2196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5840" y="376704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97320" y="398628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0400" y="3916440"/>
            <a:ext cx="13176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946680"/>
            <a:ext cx="73080" cy="9036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387180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1680" y="3871800"/>
            <a:ext cx="74880" cy="4788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8800" y="383220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8160" y="3470400"/>
            <a:ext cx="270000" cy="35388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82920" y="353520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43480" y="380988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43160" y="381168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67120" y="300996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20960" y="309708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70400" y="3040200"/>
            <a:ext cx="58680" cy="13788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2200" y="2489040"/>
            <a:ext cx="157320" cy="29556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5200" y="2481120"/>
            <a:ext cx="14400" cy="3204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5080" y="3198960"/>
            <a:ext cx="495360" cy="50796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8160" y="346392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43360" y="3195720"/>
            <a:ext cx="96840" cy="18900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81520" y="330660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68560" y="4159080"/>
            <a:ext cx="13500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90880" y="415908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95760" y="388944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3440" y="3919680"/>
            <a:ext cx="38160" cy="12528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92440" y="391968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79920" y="3594240"/>
            <a:ext cx="336600" cy="30132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76560" y="3586320"/>
            <a:ext cx="247680" cy="43308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41920" y="4187880"/>
            <a:ext cx="79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3181320"/>
            <a:ext cx="3348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8640" y="313524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62440" y="306396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89520" y="2887560"/>
            <a:ext cx="102960" cy="9216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0720" y="2992320"/>
            <a:ext cx="1800" cy="504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6480" y="2556000"/>
            <a:ext cx="196920" cy="19836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9720" y="268128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08320" y="253512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9400" y="291780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65560" y="2955960"/>
            <a:ext cx="120600" cy="8424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84560" y="289872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29200" y="299412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98880" y="3919680"/>
            <a:ext cx="293760" cy="24444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7800" y="4108320"/>
            <a:ext cx="1188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46640" y="424008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62680" y="250992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68560" y="3868560"/>
            <a:ext cx="176400" cy="29880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70240" y="3594240"/>
            <a:ext cx="395280" cy="56484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46640" y="427680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0240" y="442440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43440" y="436896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25840" y="4457880"/>
            <a:ext cx="71640" cy="23328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46680" y="407520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43440" y="4334040"/>
            <a:ext cx="25200" cy="2844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67400" y="4543560"/>
            <a:ext cx="169560" cy="37620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73560" y="499752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67160" y="4500720"/>
            <a:ext cx="231840" cy="45072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35400" y="462276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62520" y="47307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6320" y="334152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40240" y="327672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64000" y="323676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71920" y="314784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59160" y="300996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49800" y="3009960"/>
            <a:ext cx="61920" cy="5724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60760" y="327672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06960" y="3219480"/>
            <a:ext cx="61920" cy="172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53000" y="298296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279720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0600" y="292104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1320" y="300024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60920" y="306216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76600" y="332712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92600" y="3390840"/>
            <a:ext cx="82440" cy="2880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68640" y="2887560"/>
            <a:ext cx="58680" cy="5580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43360" y="255276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57560" y="2025720"/>
            <a:ext cx="219240" cy="40968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87760" y="275256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73280" y="2971800"/>
            <a:ext cx="279720" cy="22716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272556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54440" y="266544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260676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70400" y="260676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277956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22840" y="287496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13120" y="284796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3680" y="255744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793960"/>
            <a:ext cx="165240" cy="9864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08600" y="277020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27320" y="282420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08320" y="253512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7280" y="2624040"/>
            <a:ext cx="192240" cy="23364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40200" y="2733840"/>
            <a:ext cx="101520" cy="9036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19480" y="283212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08320" y="3019320"/>
            <a:ext cx="41400" cy="8280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7120" y="302256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95960" y="321624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65800" y="327348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38800" y="335916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40240" y="337500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44920" y="3384720"/>
            <a:ext cx="64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52840" y="340524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465800" y="339048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468680" y="3371760"/>
            <a:ext cx="32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471920" y="3351240"/>
            <a:ext cx="18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7800" y="423720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99080" y="448632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120" y="43084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11840" y="373392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21320" y="388944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40240" y="384984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1840" y="388620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18000" y="373068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0280" y="3691080"/>
            <a:ext cx="250920" cy="16668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18160" y="373392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51280" y="3745080"/>
            <a:ext cx="1764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776840" y="373680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803840" y="372276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834080" y="370512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98880" y="370188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06800" y="371952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94400" y="3726000"/>
            <a:ext cx="15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60760" y="3303720"/>
            <a:ext cx="498600" cy="45540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40320" y="314784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47976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667400" y="374760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673520" y="3742920"/>
            <a:ext cx="32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673520" y="372744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476600" y="3308040"/>
            <a:ext cx="180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476600" y="3293640"/>
            <a:ext cx="180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478400" y="328428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4471920" y="327312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465800" y="327312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970520" y="351756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75120" y="3476520"/>
            <a:ext cx="10476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9760" y="3076560"/>
            <a:ext cx="46368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98880" y="350352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0800" y="3459240"/>
            <a:ext cx="12960" cy="172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870440" y="3688920"/>
            <a:ext cx="2376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4902120" y="366192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21200" y="3641760"/>
            <a:ext cx="1584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943520" y="362268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1440" y="360000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940280" y="3584160"/>
            <a:ext cx="6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4911840" y="3574800"/>
            <a:ext cx="158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90960" y="357192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4871520" y="3560760"/>
            <a:ext cx="32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46680" y="3535200"/>
            <a:ext cx="6480" cy="8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859280" y="354960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1440" y="356076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59360" y="353988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0440" y="2979720"/>
            <a:ext cx="187200" cy="13176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83200" y="308124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16440" y="2946240"/>
            <a:ext cx="29700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94200" y="2863800"/>
            <a:ext cx="308160" cy="23832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0440" y="285264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79880" y="351000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29040" y="344952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32440" y="306396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26040" y="1450800"/>
            <a:ext cx="2946240" cy="157356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2240" y="161604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64240" y="222732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68760" y="183996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13120" y="239724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99080" y="1930320"/>
            <a:ext cx="39600" cy="4788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62480" y="132876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40440" y="129528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08680" y="140328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979960" y="137304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56280" y="137628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91200" y="204948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186680" y="212724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24320" y="2732040"/>
            <a:ext cx="1270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18320" y="2346480"/>
            <a:ext cx="42840" cy="13788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07200" y="3209760"/>
            <a:ext cx="612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313056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2760" y="2532240"/>
            <a:ext cx="689040" cy="35856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5321160" y="308772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05320" y="3121200"/>
            <a:ext cx="648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05320" y="314784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21160" y="31687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40240" y="3203640"/>
            <a:ext cx="111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54640" y="320652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369040" y="318564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68680" y="316188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57880" y="313848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5347800" y="3123720"/>
            <a:ext cx="32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5335200" y="310788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42040" y="3102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64000" y="3114720"/>
            <a:ext cx="972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16560" y="314784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32400" y="3156120"/>
            <a:ext cx="111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378400" y="323532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386320" y="320652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25960" y="3581280"/>
            <a:ext cx="23508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04040" y="331164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00600" y="335916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88000" y="3413160"/>
            <a:ext cx="123840" cy="16524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9240" y="333360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79960" y="3516480"/>
            <a:ext cx="192240" cy="24732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31080" y="350532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66000" y="375912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57880" y="400356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06960" y="400356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56240" y="397188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403960" y="40672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5960" y="236700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80120" y="358128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19800" y="322272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430960" y="3222720"/>
            <a:ext cx="1260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45000" y="320976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443560" y="31860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 flipV="1">
            <a:off x="5443560" y="31683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769000" y="3354120"/>
            <a:ext cx="158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5797440" y="332748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823000" y="334008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845320" y="332532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861160" y="332568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39084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394320" y="444024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5320" y="4500720"/>
            <a:ext cx="52560" cy="3168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1520" y="4087800"/>
            <a:ext cx="241200" cy="28116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406224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72320" y="422604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481800" y="417816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67520" y="438624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0080" y="448452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65720" y="425448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81800" y="360036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43720" y="389268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37160" y="385452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553080" y="386064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97720" y="379872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0480" y="383220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86560" y="3857760"/>
            <a:ext cx="11160" cy="205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2040" y="377820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34240" y="349884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62600" y="394344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18240" y="431172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681960" y="429408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657840" y="412596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496200" y="4457880"/>
            <a:ext cx="71280" cy="3168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912000" y="444024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81800" y="290340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413400" y="273204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0" y="275256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99240" y="2581200"/>
            <a:ext cx="109440" cy="1684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89800" y="304812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40560" y="303696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08120" y="378144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8200" y="3922560"/>
            <a:ext cx="1461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41600" y="388152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54120" y="378936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023920" y="469908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80068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043000" y="5451480"/>
            <a:ext cx="15840" cy="3636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41720" y="590868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070000" y="481176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47840" y="581652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7280" y="503568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14520" y="572760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82840" y="572760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0920" y="551484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0920" y="565776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57480" y="586260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4920" y="5803920"/>
            <a:ext cx="22320" cy="2556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16160" y="474984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35000" y="405612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781440" y="197496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936960" y="466416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362480" y="491328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119480" y="4694400"/>
            <a:ext cx="217440" cy="24912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65800" y="457992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34240" y="564660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232760" y="578016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486560" y="5522760"/>
            <a:ext cx="13644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0800" y="471816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489800" y="50306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674120" y="480384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743960" y="487692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746840" y="4927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32720" y="457200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466040" y="505944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921360" y="3605040"/>
            <a:ext cx="32040" cy="43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4720" y="397656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12160" y="384804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73960" y="452448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01040" y="416088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38920" y="442764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04160" y="4300560"/>
            <a:ext cx="210960" cy="27792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82000" y="436572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43920" y="430200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616880" y="439884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40720" y="451476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43960" y="45720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746840" y="463068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15360" y="422604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419960" y="4449600"/>
            <a:ext cx="3024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85040" y="441324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399440" y="4464000"/>
            <a:ext cx="23760" cy="3672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50200" y="446400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35800" y="4500720"/>
            <a:ext cx="20520" cy="3168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531800" y="356076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433760" y="362736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99cc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83040" y="469728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8440" y="1863720"/>
            <a:ext cx="33480" cy="270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2240" y="1897200"/>
            <a:ext cx="74520" cy="3780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84240" y="246852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95320" y="206676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92080" y="2222640"/>
            <a:ext cx="23760" cy="396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00360" y="383868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32040" y="255276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74760" y="140796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25560" y="154944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92200" y="267804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340000" y="280836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05280" y="207972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28880" y="3844800"/>
            <a:ext cx="270000" cy="26064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60760" y="4095720"/>
            <a:ext cx="187560" cy="2462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68960" y="309708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0560" y="310356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009800" y="315108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09800" y="314496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48040" y="5424480"/>
            <a:ext cx="142920" cy="13500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01840" y="540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More than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51040" y="41940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7806800">
            <a:off x="3877200" y="414720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38560" y="2428920"/>
            <a:ext cx="157320" cy="8424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81800" y="359424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43720" y="388620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37160" y="3849840"/>
            <a:ext cx="44640" cy="9360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00e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3080" y="385452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97720" y="379260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40480" y="382572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86560" y="385272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12040" y="3772080"/>
            <a:ext cx="9360" cy="2052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41600" y="38750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043520" y="4815000"/>
            <a:ext cx="368280" cy="35244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71760" y="3219480"/>
            <a:ext cx="274680" cy="25092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99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07000" y="3552840"/>
            <a:ext cx="173160" cy="1890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41560" y="5659560"/>
            <a:ext cx="142920" cy="1346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5899320"/>
            <a:ext cx="142920" cy="134640"/>
          </a:xfrm>
          <a:prstGeom prst="ellipse">
            <a:avLst/>
          </a:prstGeom>
          <a:solidFill>
            <a:srgbClr val="99cc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46240" y="6135840"/>
            <a:ext cx="142920" cy="13464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48040" y="6375240"/>
            <a:ext cx="142920" cy="135000"/>
          </a:xfrm>
          <a:prstGeom prst="ellipse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5080" y="564516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 000 to 50 0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1840" y="6361200"/>
            <a:ext cx="177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Less than 100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05080" y="5881680"/>
            <a:ext cx="21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 000 to 9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05080" y="6111720"/>
            <a:ext cx="21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66"/>
                </a:solidFill>
                <a:latin typeface="Arial"/>
              </a:rPr>
              <a:t>From 100 to 999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tion of retreatment cases among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mear-positiv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25600" y="652140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For Russia, all cases are included not only smear-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684360" y="1006560"/>
          <a:ext cx="7561080" cy="566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06560"/>
                    <a:ext cx="756108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268200"/>
            <a:ext cx="7318440" cy="459288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gradFill rotWithShape="0">
            <a:gsLst>
              <a:gs pos="0">
                <a:srgbClr val="465e75"/>
              </a:gs>
              <a:gs pos="100000">
                <a:srgbClr val="99ccff">
                  <a:alpha val="0"/>
                </a:srgbClr>
              </a:gs>
            </a:gsLst>
            <a:lin ang="135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94360" y="322200"/>
            <a:ext cx="24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akhst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60680" y="2522520"/>
            <a:ext cx="187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13240" y="3913200"/>
            <a:ext cx="5630760" cy="294480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99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93080" y="3233880"/>
            <a:ext cx="20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rgyz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222880" y="4135320"/>
            <a:ext cx="3362400" cy="2379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87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52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6.4%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f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26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retreated cases c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 surv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4.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1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t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non-nat'l-CR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03320" y="1154160"/>
            <a:ext cx="3529080" cy="3018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9,706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,900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3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survey indicates 4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4.2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new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6.4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DR among re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71.8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resistant to all drugs te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st 11,025 MDR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3920" y="235080"/>
            <a:ext cx="8496360" cy="616572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gradFill rotWithShape="0">
            <a:gsLst>
              <a:gs pos="0">
                <a:srgbClr val="171746"/>
              </a:gs>
              <a:gs pos="100000">
                <a:srgbClr val="333399">
                  <a:alpha val="9019"/>
                </a:srgbClr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262240" y="800280"/>
            <a:ext cx="12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90840" y="3189240"/>
            <a:ext cx="23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325600" y="2546280"/>
            <a:ext cx="5505480" cy="298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67,414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notified new ss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8,881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ified retreatment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treatmen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5.7%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of ss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0% DOTS vs. 30% non-D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/ 31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provinces surve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new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.1% – 10.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DR among rtmt rang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7.5 – 36.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MDR-TB CASES INFLUENCING THE EPI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ture Medicine, 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epidemics of multidrug-resistan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M tuberculos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heterogeneous fitness (Ted Cohen &amp; Megan Murr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ling the emergence of the "hot zones":  tuberculosis and the amplification dynamics of drug resistance (Sally M Blower &amp; Tom Ch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LLOW-UP OF CHRONIC TUBERCULOSIS PATIENTS IN HO CHI MINH CITY, VIETNAM,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Quy et al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9% 2 year surv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6% and 69% culture/smear positive (M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mission to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2002 Sales by Country</a:t>
            </a:r>
            <a:br>
              <a:rPr sz="3600"/>
            </a:br>
            <a:br>
              <a:rPr sz="3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reomycin (units = vials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 Cycloserin (units = capsu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2166840" y="2338560"/>
          <a:ext cx="614520" cy="69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6840" y="233856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388200" y="2397240"/>
          <a:ext cx="56340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88200" y="2397240"/>
                    <a:ext cx="563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2166840" y="4686480"/>
          <a:ext cx="614520" cy="699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66840" y="4686480"/>
                    <a:ext cx="614520" cy="69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5292720" y="2133720"/>
          <a:ext cx="3630600" cy="3311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2133720"/>
                    <a:ext cx="36306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84360" y="2133720"/>
          <a:ext cx="3733560" cy="3311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4360" y="2133720"/>
                    <a:ext cx="373356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836784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76200" y="38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296200" y="1112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2200" y="182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919840" y="1477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9:07:40Z</dcterms:created>
  <dc:creator>smythc</dc:creator>
  <dc:description/>
  <dc:language>en-US</dc:language>
  <cp:lastModifiedBy>smythc</cp:lastModifiedBy>
  <dcterms:modified xsi:type="dcterms:W3CDTF">2004-10-06T11:24:38Z</dcterms:modified>
  <cp:revision>13</cp:revision>
  <dc:subject/>
  <dc:title>    </dc:title>
</cp:coreProperties>
</file>