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986E-0E81-428A-8464-751CEF449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B7B4-CE59-4137-9552-787857A3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F80E-10D9-4B19-8002-1D165A651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686B-1B30-4E05-A1C8-2D359EF0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02E9-A2BE-45F4-B002-34B002004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71A5-A8CE-4BCF-9710-AEF3856B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DF76-F2EB-4F71-9B7D-580BAC3C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D801-E632-4669-BC35-116B3ADC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0850-8752-4B43-B356-274D51BB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7908-F89B-42BB-9B0F-7CEE2043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1238-5A6B-4EB1-9049-CC56832A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94F6-1094-4A83-97E2-9ABBAD2F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B854-28E8-485B-A2AE-8DCEB706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2348-8CF4-4505-9D0F-6C38769F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C48B-BC9D-4E34-9E1B-28881704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32C1-A454-47A2-849B-5A5462B44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2068-ABBF-4EEC-9D73-2C361EDE7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897C-A004-4566-95A5-5124D920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4B4E-C75D-4001-8D48-EC7DF051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946A-6C3A-4C19-9B3D-C651A0C2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C6FB-9107-46D5-A3E3-2D7AB364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3146-7181-4EB8-BBD9-514FDBFD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958A-1E5B-499A-90A7-82D2FEF0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364B-2B31-4A70-BCC7-517C7C68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5975-F864-4AF8-AA41-2A2B6868A68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7CAD-F3CE-4900-9D2C-F0761A392BB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for Action on TB and Poverty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393192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romote access to DOTS and TB contro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rogrammes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at is the Network Action on TB and Poverty 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8893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A platform for TB control and Poverty experts to create a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synergy for coordinated action in support of poor countr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Action and output orient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551960" indent="-2214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Increase case detect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3" marL="1551960" indent="-2214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Increase cure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Evidence and performance bas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Linking TB control with global and local poverty alleviation initiative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Managed by th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National Tuberculosis Programme of Malawi, in conjunction with the local NGO Reach Trus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Active participation from the DOTS Expansion Working Group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Why do we need .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5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istribution of TB is higher among the poor than the non poor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 algn="just">
              <a:lnSpc>
                <a:spcPct val="12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Not easy access for the poor to health services due to: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athways to diagnosis of TB patients extended due to repeated visits to different care providers, regardless of socio-economic statu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The poor spend proportionally more on accessing TB diagnos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The poor are sometimes actively excluded from TB service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OTS can help to fight poverty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ro-poor access to DOTS helps reaching the TB targets of case finding and cur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etwork Operation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40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age key stakeholders to promote action on TB and Poverty prioritising the AFRO reg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case studies will be presented at the IUATLD Pari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eting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ster research to inform TB control operations and poli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ocate pro-poor approaches using DOTS and link up with other initiatives and funding (e.g. Fidelis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Network Product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novative pro-poor approaches in DOTS applied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Guide on TB and Poverty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framework for mainstreaming of poverty in TB control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&amp;E on poverty mainstreaming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rational research on demand from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ks and exchanges with other health equity initiativ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ponds to the demand from countries on how to mainstream TB poverty in DOTS and TB control programm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tive paper on TB and Poverty as policy guiding tool and practical roadma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s strategic and practical guidance to countr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WHO Guide on TB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nd Povert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aunching the WHO guide on TB and Poverty for NTP manager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panding TB Poverty related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acilitate representation for the network to the other working group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mote special features on TB and Poverty at national/regional meeting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Nils Billo</cp:lastModifiedBy>
  <cp:lastPrinted>2004-03-17T17:37:17Z</cp:lastPrinted>
  <dcterms:modified xsi:type="dcterms:W3CDTF">2004-10-14T00:25:33Z</dcterms:modified>
  <cp:revision>176</cp:revision>
  <dc:subject/>
  <dc:title>Secretariat, 2003 Progress Report</dc:title>
</cp:coreProperties>
</file>