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9814-48E1-4574-B694-7B75B3F4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you can see, some very practical improvements in TB control have been achieved through the work of the GD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me just highlight that 100 country evaluations is an amazing amount of work for a small t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evaluations are one of the reasons why the GDF should not be thought of as another drug wholesal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country receiving grants is examined to ensure they are able to use the drugs properly and then examined to ensure they did use the drugs proper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e process any area of weakness in the programme is identified and appeals made, on behalf of the country, to technical partners for help in making improv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untry ends up with a better program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2B9-34B0-4E49-AEFC-964B04BC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7C0-700F-43F5-A0E4-C4D1D850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A3F-8744-40CA-AC49-B3ABDB29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3DF8-0B3F-4CDD-9CC6-6ED66150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97A-B513-4653-BC82-C513A9BD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83F-CC41-4917-AE2E-F9D07F9B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2A7A-0F3B-42CB-876B-8860A9C6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E0C-9DB0-44A9-88B9-A87DF47B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D62-DFB0-4D17-AFB7-53A7A7D1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EC3-493F-4B2F-AC08-18E33B23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4B51-0684-4638-B7DC-A1E935A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A6E-B60A-4084-845A-38C9BDE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5E4B-1F16-4BEE-83B1-777E973A6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5280" y="260280"/>
            <a:ext cx="838836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delivered 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untrie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llion pati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evaluations organized by GDF/STB Partn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TS Coverage - average increas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DF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ity -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8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recipients increased expenditure on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- Average drug cost per patient: ~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$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urement -  lead time met for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7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cou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DF batches passed independent Q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164360" y="4005360"/>
          <a:ext cx="1830240" cy="22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005360"/>
                    <a:ext cx="1830240" cy="22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971640" y="404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GDF Achiev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Arial"/>
              </a:rPr>
              <a:t>GDF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Maintain the Gai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coverage, programm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price, quality an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Fill new g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transitional grants, non-traditional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vide new serv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ediatrics, diagnostics, expanded monit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Improve Drug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 2005 Training in AFRO, SEARO, EMRO,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812000" y="5084640"/>
          <a:ext cx="1332000" cy="177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5084640"/>
                    <a:ext cx="133200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1:49:27Z</dcterms:created>
  <dc:creator>evansp</dc:creator>
  <dc:description/>
  <dc:language>en-US</dc:language>
  <cp:lastModifiedBy>heitkampp</cp:lastModifiedBy>
  <dcterms:modified xsi:type="dcterms:W3CDTF">2004-10-04T13:46:13Z</dcterms:modified>
  <cp:revision>9</cp:revision>
  <dc:subject/>
  <dc:title>Slide 1</dc:title>
</cp:coreProperties>
</file>