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C45A4-B3E7-49E2-AC98-CF90DE6005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s you can see, some very practical improvements in TB control have been achieved through the work of the GD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t me just highlight that 100 country evaluations is an amazing amount of work for a small tea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evaluations are one of the reasons why the GDF should not be thought of as another drug wholesal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ach country receiving grants is examined to ensure they are able to use the drugs properly and then examined to ensure they did use the drugs properl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the process any area of weakness in the programme is identified and appeals made, on behalf of the country, to technical partners for help in making improve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country ends up with a better program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169C-5566-4DB7-81AC-0BFC35D64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545C-27E9-4C8D-825D-70838B598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A6F0-1725-4863-AB2F-5D5567098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63D5-9FD5-4E27-99A5-FD41E48D8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4A33-1B33-48A1-A64D-044E2551B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B847-5330-4D6E-AA07-4BAEA271A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93F1-87E3-45DC-933A-048228263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3930-B865-4B1F-880A-785C90A47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0C5E-6879-49D6-98C3-77E72582F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7789-5AEE-4A2F-B8DD-82E4122AC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0D41-33BC-47F7-A0F3-B695EFF55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59B7-E8D4-4C1A-AA80-D67571BE8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8AB8B-2005-4114-8376-4867665E37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755280" y="260280"/>
            <a:ext cx="83883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rugs delivered to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5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ountries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3.2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illion pati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100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untry evaluations organized by GDF/STB Partner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TS Coverage - average increase of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20%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er GDF coun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itionality - 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88%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DF recipients increased expenditure on T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st - Average drug cost per patient: ~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$1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urement -  lead time met for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77%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countr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ality 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Al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DF batches passed independent Q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7164360" y="4005360"/>
          <a:ext cx="1830240" cy="2200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4360" y="4005360"/>
                    <a:ext cx="1830240" cy="22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971640" y="404640"/>
            <a:ext cx="66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cc"/>
                </a:solidFill>
                <a:latin typeface="Arial"/>
              </a:rPr>
              <a:t>GDF Achievement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cc"/>
                </a:solidFill>
                <a:latin typeface="Arial"/>
              </a:rPr>
              <a:t>GDF Fu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cc"/>
                </a:solidFill>
                <a:latin typeface="Arial"/>
              </a:rPr>
              <a:t>Maintain the Gain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- coverage, programme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- price, quality and 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cc"/>
                </a:solidFill>
                <a:latin typeface="Arial"/>
              </a:rPr>
              <a:t>Fill new gap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- transitional grants, non-traditional us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cc"/>
                </a:solidFill>
                <a:latin typeface="Arial"/>
              </a:rPr>
              <a:t>Provide new service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aediatrics, diagnostics, expanded monito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cc"/>
                </a:solidFill>
                <a:latin typeface="Arial"/>
              </a:rPr>
              <a:t>Improve Drug Manage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- 2005 Training in AFRO, SEARO, EMRO, E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7812000" y="5084640"/>
          <a:ext cx="1332000" cy="1773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12000" y="5084640"/>
                    <a:ext cx="1332000" cy="177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11:49:27Z</dcterms:created>
  <dc:creator>evansp</dc:creator>
  <dc:description/>
  <dc:language>en-US</dc:language>
  <cp:lastModifiedBy>heitkampp</cp:lastModifiedBy>
  <dcterms:modified xsi:type="dcterms:W3CDTF">2004-10-04T13:46:13Z</dcterms:modified>
  <cp:revision>9</cp:revision>
  <dc:subject/>
  <dc:title>Slide 1</dc:title>
</cp:coreProperties>
</file>