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2CB-B1C1-4ACF-9E7F-93194646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B0B-17D7-4FEC-8179-3F639639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ABC-9E10-48C3-8432-A309C7FF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E03-045F-49D7-92D7-6A887507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AEA4-F184-4ED1-801A-17C680F0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A783-34A1-466D-8C03-DD398998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666D-D785-47F2-8F18-94472D01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ADE4-98F9-40E7-8098-69B5A65C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DDA7-F4DA-4D42-96A6-3871158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2A98-DF24-4DE2-B878-FD82E57E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5110-17C5-4044-95A0-6D3C5F29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74BC-6192-4E97-A9D5-CE1BA8A2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4FCB-977D-4C4E-A143-5A80CD80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0523-5665-467B-B210-DB7C0334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765A-5A24-4E8C-AEA7-284883A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8441-9066-4221-B747-DA0C278B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4FBF-1024-41A1-AE09-709E20D2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FB6-DB6E-4983-A83C-706C4CBE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12E0-5F22-4D0E-A291-995542BF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6F1-6833-4BC8-8D17-8B36F3E7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933-82D4-4892-A949-E67844B9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0C0-D390-4DD6-A838-B8BDB2A2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444-8D29-4BA5-AC78-B257F9DF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EFC-1DD3-4D41-9614-9659CF0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36F3-657E-4844-8709-FB3AC86D939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181B-7B33-4ADA-9F5B-F35D66495DE3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7:18Z</dcterms:modified>
  <cp:revision>21</cp:revision>
  <dc:subject/>
  <dc:title>Financial situation,  Budget &amp; plans 2005</dc:title>
</cp:coreProperties>
</file>