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gif" ContentType="image/gif"/>
  <Override PartName="/ppt/media/image16.png" ContentType="image/png"/>
  <Override PartName="/ppt/media/image9.png" ContentType="image/png"/>
  <Override PartName="/ppt/media/image17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A2FC-3FD7-4E5E-A50F-338C992CFA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ng HIV/AIDS and TB Efforts: The Challenge for the President's AIDS Initiative.  Results educational fund.  Network Public Health Programmes.  Open Society Instit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E03A-52C8-46A1-8E78-6224EFA7F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8597-8C80-4403-818A-D805AE1A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1298-AF59-4A66-B225-4D9B57716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4D15-CCC8-4049-A73E-35FD1A5BF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B427-A889-4D3E-BEBE-CEE43099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DF80-F4AC-4246-8389-ABB05F4B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76E7-E7BB-4C75-B453-8C9525E3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E987-F6D2-4B5D-ADE6-EB581C16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8960" y="53316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80AF-6ACB-458C-BD03-6F470AA1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DA71-B1B1-40A6-BF28-E0689FFD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8A24-0BEB-42A4-BBEB-051B40BA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5B56-B4D5-485A-8FDB-E189596C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1DE4-1B46-4BB2-A822-A105B60EC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990720" cy="68580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0" y="0"/>
              <a:ext cx="1066680" cy="6858000"/>
              <a:chOff x="0" y="0"/>
              <a:chExt cx="1066680" cy="6858000"/>
            </a:xfrm>
          </p:grpSpPr>
          <p:graphicFrame>
            <p:nvGraphicFramePr>
              <p:cNvPr id="8" name=""/>
              <p:cNvGraphicFramePr/>
              <p:nvPr/>
            </p:nvGraphicFramePr>
            <p:xfrm>
              <a:off x="0" y="5791320"/>
              <a:ext cx="1066680" cy="10666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0" y="5791320"/>
                        <a:ext cx="1066680" cy="106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90720" cy="571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248520" y="0"/>
            <a:ext cx="289548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6248520" y="0"/>
            <a:ext cx="2895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5497560"/>
          <a:ext cx="1447920" cy="136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497560"/>
                    <a:ext cx="144792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52280" y="609480"/>
            <a:ext cx="59436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STOP TB  Coordinating Board Meeting, Beijing, October 14-15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B/HIV Working Group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79640" y="4869000"/>
            <a:ext cx="374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Gijs Elzing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Paul Nu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400800" y="58672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705720" y="586728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Haettenschweiler"/>
              </a:rPr>
              <a:t>GLOBAL PARTNERSHIP TO STOP 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Partnership - Collabor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537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cessful TB/HIV Working Group Meet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involvement HIV activ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ner-partner collaboration exp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sion of regional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y setting cor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V/TB Task Force in WHO HIV Dept/S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443640" y="1628640"/>
            <a:ext cx="2484360" cy="3240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51280" y="5516640"/>
            <a:ext cx="3240000" cy="1003320"/>
          </a:xfrm>
          <a:prstGeom prst="ellipse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V-A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5805360"/>
            <a:ext cx="187164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5516640"/>
            <a:ext cx="3600360" cy="100332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0454600">
            <a:off x="2482200" y="5541480"/>
            <a:ext cx="3394800" cy="332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49" y="411"/>
                </a:moveTo>
                <a:arcTo wR="10800" hR="10800" stAng="-6351581" swAng="4071902"/>
                <a:lnTo>
                  <a:pt x="10800" y="10800"/>
                </a:lnTo>
                <a:close/>
              </a:path>
              <a:path fill="none" w="21600" h="21600">
                <a:moveTo>
                  <a:pt x="7849" y="411"/>
                </a:moveTo>
                <a:arcTo wR="10800" hR="10800" stAng="-6351581" swAng="4071902"/>
              </a:path>
            </a:pathLst>
          </a:custGeom>
          <a:noFill/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93080" y="537372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Heavy traffic across TB/HIV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600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ocacy – to increase visibility of TB and TB/HIV, with ACWG and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Britain (G8 host, EU President, Africa Commission, commitment to increase ODA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Africa (AU, NEPAD, formation and support of national advocates at country level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eting being planned with Peter Piot, UNAIDS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inclusion in G8 planning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boration – promoting engagement of HIV community in TB/HIV and to create better strategies and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UNAIDS, PEPFAR, Global Fund, World Bank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WHO/HIV Dept., Research community, PATH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DC – GAP and DTBE (HIV surveillance meeting Oct 2004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w Diagnostics – FIND; New Drugs – GATB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Development of community based care delivery strateg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corporate sector plan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ntry Support – to deliver patient-centred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Resource mobilisation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Health workforce strengthening a must 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Expanded delivery joint TB/HIV-AIDS service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Co-ordination of technical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shortcomings in implementation of DOT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HIV MDR-TB interaction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nclusions at Brasilia - 2003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784548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ing DOTS necessary, but not sufficient, to meet the TB targets in HIV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better HIV/AIDS control, meeting the TB targets will not cause TB to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will fall only through patient centered, country-wide TB &amp; HIV collaborative servic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y not only bring the TB targets in SSA within reach, but also support provision of ARVs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llion HIV-AIDS patient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BCB is uniquely poised to mobilize the forces and resources to trigger 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the WG ha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WG's strategy for moving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rot="19678800">
            <a:off x="1546920" y="2257920"/>
            <a:ext cx="7062840" cy="2287440"/>
          </a:xfrm>
          <a:prstGeom prst="rect">
            <a:avLst/>
          </a:prstGeom>
          <a:solidFill>
            <a:srgbClr val="00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cc"/>
                </a:solidFill>
                <a:latin typeface="STHupo"/>
                <a:ea typeface="STHupo"/>
              </a:rPr>
              <a:t>Minimum Essential Set of Policy Guidance Is Now Availa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Country progres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8 countries pledged GFATM support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13 countries receiving (3 in 2003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The Presidential AIDS Initiative and WB MAPs include TB/HIV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ompleted for 34 high HIV burden countries - $300 million annuall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 and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002-3 baseline established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Annual system now in place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Global to national level training under wa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untry progress – Sept 2004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ding commitment is no longer the bottleneck – dispersal mechanism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B/HIV activities in most reg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3/33 countries surveyed have coordination mechanism, 50% doing joint planning, but implementation still low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rge human resource g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rding and reporting gap at peripher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5688360" cy="65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987640" y="1341360"/>
            <a:ext cx="3311640" cy="2521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87280" y="1341360"/>
            <a:ext cx="180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v (W1)"/>
                <a:ea typeface="Arial"/>
              </a:rPr>
              <a:t>Mandela urges action to fight TB</a:t>
            </a:r>
            <a:br>
              <a:rPr sz="2400"/>
            </a:br>
            <a:r>
              <a:rPr b="0" i="1" lang="en-US" sz="1400" spc="-1" strike="noStrike">
                <a:solidFill>
                  <a:srgbClr val="000000"/>
                </a:solidFill>
                <a:latin typeface="Antique Olv (W1)"/>
                <a:ea typeface="Arial"/>
              </a:rPr>
              <a:t>By Chris Hogg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BC Bangk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635280" y="4797360"/>
            <a:ext cx="3170160" cy="70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492360" y="5589720"/>
            <a:ext cx="605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dela sounds alarm on TB "death sentence" in AIDS war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Darren Schuett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4043520"/>
            <a:ext cx="2268720" cy="30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NGKOK (Reuters)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global war on AIDS could be lost if the world ignores tuberculosis, often a "death sentence" for people infected with HIV, former South African president Nelson Mandela said on Thursda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516720" y="1484280"/>
            <a:ext cx="2448000" cy="701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300720" y="2421000"/>
            <a:ext cx="259236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NGKOK: by Lawrence K. Altman –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lson Mandela came to the 15th International AIDS Conference here Thursday to lend his prestige to the battles against tuberculosis and AIDS, two deadly diseases that are intricately link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Advocacy – as at October 2004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920" y="1553760"/>
            <a:ext cx="77724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shift in environment in pas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recognition in HIV community of TB as part of th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volvement of HIV advocacy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dia material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rican Union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interest in TB Community and DE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21:14Z</dcterms:created>
  <dc:creator>Nunn</dc:creator>
  <dc:description/>
  <dc:language>en-US</dc:language>
  <cp:lastModifiedBy>Paul Nunn</cp:lastModifiedBy>
  <dcterms:modified xsi:type="dcterms:W3CDTF">2004-10-15T04:48:54Z</dcterms:modified>
  <cp:revision>46</cp:revision>
  <dc:subject/>
  <dc:title>No Slide Title</dc:title>
</cp:coreProperties>
</file>