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EC0D38E-2491-4002-AD4B-A38F8D816C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diazv</cp:lastModifiedBy>
  <cp:lastPrinted>2004-01-30T14:19:50Z</cp:lastPrinted>
  <dcterms:modified xsi:type="dcterms:W3CDTF">2004-10-08T15:51:24Z</dcterms:modified>
  <cp:revision>527</cp:revision>
  <dc:subject/>
  <dc:title>Progress in Global Tuberculosis Control 1995-97</dc:title>
</cp:coreProperties>
</file>