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BD3-A410-4AC0-9EFF-C324D507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E0A3-EE14-4FC4-BCA1-70D9E76E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0200-9F44-4353-91E4-DE882FB7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B0B-B8F4-487C-A207-A32839C1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A41-96B6-4ADA-BC2E-355EBA70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55B7-303C-4E2C-9CDF-FAB01D60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B0D-8CBE-4B5A-8F2B-954F6BD1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8CA-8DE0-4DCA-9B9F-122B936C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E73-16E6-4681-ACB9-93F55257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9E1-FD08-4E29-A2D2-536BF7A4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109-646B-4998-B055-A1FB2A50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4CB-1F3C-4395-A581-5A41D2BF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00AC-3968-4BB8-8778-AACEC0584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27416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14-15 October 2004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Report back on discussion of 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Second Global Plan 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o Stop TB:  2006-2015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Second Global Plan to Stop TB, 2006-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108080"/>
            <a:ext cx="89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first Global Plan (2000-05) and Progress Re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years' timeframe (2006-15), leading to 2015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ary to MDGs TB working group report (that calls for support for the Global Pl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sistent with proposed World Health Assembly resolutio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pports national needs for long-term planning and financi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s strategic directions set out by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 on the TB epidem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ed on contributions of each WG's work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view of progress in developing Global Plan, 2006-20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197000"/>
            <a:ext cx="85881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y 2004 - WHO Executive Board approved resolution on Global Plan for 2005 World Health Assemb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WHO Strategic and Technical Advisory Group endorsed outline of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ne 2004 - Outline sent to all partners for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uly 2004 - Outline endorsed by Coordinating Boa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ugust 2004 - Steering committee endorsed by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ptember 2004 – work initiated on proj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7058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ard endo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 key fe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development of projections to inform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Board requests each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develop its 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a focal point from the W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Board proposes launch of Global Plan in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ither a) between WHA (May) and UNGASS (Se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 b)  late 2005, e.g. November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Recommendations for Boa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120" y="1125360"/>
            <a:ext cx="87058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Board endorses approach of advocacy champ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lson Mandel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artya Sen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fi An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*preference to write foreword by one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 Board endorses dissemination of Global Plan advocacy messages to key constituencies, including HIV/A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14T10:19:41Z</dcterms:modified>
  <cp:revision>97</cp:revision>
  <dc:subject/>
  <dc:title>Africa: HIV is driving the TB epidemic TB notification rates, 1980-1998</dc:title>
</cp:coreProperties>
</file>