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BE7A-A602-465F-930C-41B1B736D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2BBB-D6E6-4D27-8D22-88A898561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4676-48BF-475E-B6DB-712AE663C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098A-CE9C-46E3-B239-E2F9B0CC3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0F4B-3215-4532-9528-81F5B7AC1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C13E-5182-46FD-A3E0-C28086074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E062-9243-4E86-BCBD-BDCA0B5FF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DE62-BC0B-4E09-BA84-A26F93A69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1E5A-37E9-4828-A609-CABDEE1EE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0CDB-7B2B-4E22-A460-AF1F160D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71B7-A56F-47DA-8A59-95542D36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7A7D-BD93-4648-A4FC-1B6C5730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FF685-CB8A-4A65-A686-702A35DF8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ighlights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1341000"/>
            <a:ext cx="76327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B approved Financial Policy being applied which led to better control through  improved financial mana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ancial transactions of GDF streaml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Working Groups given resources to catalyse their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lk of the contributions from Bilateral Government sources-85.5% of the total income of US$13.8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the total expenditure of US$10.8 million TB Control Drugs cost 78% while other partnership activities cost 23% of the to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jected income for the whole year US$23.1 million, projected expenditure US$ 23.6 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ighlights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55640" y="1341360"/>
            <a:ext cx="7704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jected shortfall for 2005 25 million based on Targeted Workpl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certed effort to be made for mobilising more resources by targeting more donors in the current donor segments and by exploring new donor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inued catalytic support to all Working Grou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rst draft of the Global Plan to control TB to provide overall business plan for 2006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llaboration with GFATM to become clo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vocacy and Communication effort to be intensified considerable to increase political support and enhance public awarenes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08:56:30Z</dcterms:created>
  <dc:creator>vijaya</dc:creator>
  <dc:description/>
  <dc:language>en-US</dc:language>
  <cp:lastModifiedBy>vijaya</cp:lastModifiedBy>
  <dcterms:modified xsi:type="dcterms:W3CDTF">2004-10-04T09:49:34Z</dcterms:modified>
  <cp:revision>6</cp:revision>
  <dc:subject/>
  <dc:title>Highlights</dc:title>
</cp:coreProperties>
</file>