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A83A0-A058-44FF-87F8-6A373BCA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71E00-C595-4A62-976E-2D091396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091F9-1108-4E01-8F90-5537DE06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C0B82-2FF7-44FD-9269-31554778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BB15F-4C7C-47FC-B6B4-7A099201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89946-C9B1-4788-8E9E-BB3EC7A0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1720C-E305-4ED1-B2E9-EDF1B4ED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6FFDE-9E4C-40F3-98BC-3B4D017C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A28BD-D293-4D7B-BB08-0FAAAC00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1820F-981F-4132-A038-88685421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DD6BB-A72C-4E8E-8B5C-DDD4B2E6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B9CE7-914D-4566-B6CD-0E50B1EB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16360" y="624852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4"/>
          </p:nvPr>
        </p:nvSpPr>
        <p:spPr>
          <a:xfrm>
            <a:off x="2843280" y="6165720"/>
            <a:ext cx="3184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op TB Coordination Boar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4 October Beij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AC5E-2ECC-4837-B8B7-75B2A39BD3F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349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national and regional initiativ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039320" y="2202840"/>
            <a:ext cx="68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artnerships to Stop TB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xisting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artnership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ational Partnershi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Canada (Feb' 01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Indonesia (Jan' 0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Pakistan (April' 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-711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p TB Mexico (Sept '04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1168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nergize Partnerships in countries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retariat develops support products for countri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dvocacy &amp; Communicati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mmunication Handboo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B Control and DOTS Expansion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eds Assessment : Uganda, Brazil, Indonesia, Pakistan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DF &amp; ISAC country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ship IT product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et, online discussion etc.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Tahom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obilization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ical guidelines, how link with CCMs, donors and business sector, innovative approache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000000"/>
              </a:buClr>
              <a:buFont typeface="Tahoma"/>
              <a:buChar char="—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gaging non-traditional partners </a:t>
            </a: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ccelerate Progress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004-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Nat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ganda, Nigeria, Brazil, Russian Federation, France and Croatia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Sub-) Regional Partnerships to Stop TB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Partnership to Stop TB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op TB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879560" indent="-50796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sian Republics Sub-Regional Partnership under development with stakeholder analys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spcAft>
                <a:spcPts val="225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outh East Asia and Afric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under develop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Future Plan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teraction of the Advocacy and Communication Working Group with the various partnership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onal Workshop on Advocacy and Communic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ffective use of the Stop TB '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hampion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'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oin forces with other initiatives and partnerships (GFATM, 3by5, RBM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se national and international political platforms to get TB on the agenda (European Union, ASEAN, SAARC, ADEAN, African Union, NEPAD etc.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eenbergeng</cp:lastModifiedBy>
  <cp:lastPrinted>2004-03-17T17:37:17Z</cp:lastPrinted>
  <dcterms:modified xsi:type="dcterms:W3CDTF">2004-10-07T11:32:42Z</dcterms:modified>
  <cp:revision>206</cp:revision>
  <dc:subject/>
  <dc:title>Secretariat, 2003 Progress Report</dc:title>
</cp:coreProperties>
</file>