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CCC3-5EB1-4D8A-AB44-630D83FD1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Trust Fund at  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Bank levies a  3% Admin Fees on money passing   through this trust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Interim Trust Fund at W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has a 6% reduced PSC (compared to 13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(interim programme support cost) of 6% reaso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put to increase substantially as resource mobilisation gathers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number of transactions (financial legal, and other) over a 12 month period is 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82720" y="73980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of 6% reasonable (Cont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min fees to-d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% to W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% to WHO on an exceptional basis till n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 goodwill gesture by WHO while it shouldered the full burden of admin work associated with drawing up and  implementing the contracts for using funds at the WB T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cost per transaction US$275 at the rate of 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y below the actual estimated cost $1,275 (Informally advised by WH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 the Operating Principles of the Stop TB Partnership Trust Fund at 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ree to the 6% PSC for the Interim Trust    Fund at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rect the negotiating team to aim for agreeing with WHO a similar fixed percentage admin fees (6%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45FF-1C19-43BC-9299-9BDF8DCB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EF07-3F92-41FA-A27C-0A8FA998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76EB-C776-47D6-80AC-72F36AC4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8125-234D-4BE1-97B3-48C18F7C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53C4-BD38-46B4-A2E1-741FDA5C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E2EA-B902-4F2C-A426-A2B4F21B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1593-936F-42E3-BB31-2DCE6F70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4BF2-EC89-415F-8D02-3E2361CE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50ED-19C9-43DB-8A1C-52A5C709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0614-E32D-4815-AFAA-79EC228D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E361-CBA2-4954-877D-7B77CC75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4857-1CB7-4668-BC87-5DB1D892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8152-18F1-4AD2-92C8-CD2D6B4D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4272-D825-4F43-ABEB-ABBC95C3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9276-EBAD-4520-BB58-51CF309E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7C0A-5143-44A9-A609-59A06C43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FACE-E189-4BBE-9C47-852DDA43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659C-66D1-494B-A044-6B653EE6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4249-A7CA-436E-8EFD-A9D98BE3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8574-4391-4073-80AB-D9C28701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651A-F6CB-47A2-A472-186F7CA9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4561-7EE5-41F9-99AA-C1373D4E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8D1A-23FA-4DDE-AA7E-DE7F8D9C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4C78-F6FC-409B-B20F-4B341326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39D7-4C33-4AAE-9520-734D7959D07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CBE0-85F1-41D8-96F4-8D2E18C273D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Stop TB Partnership Trust Fund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urrent Statu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Two Trust Funds at Pres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Trust Fund at  the World Bank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e Bank levies a  3% admin fees on money passing through this trust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It has a 6% reduced PSC (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s opposed to its usu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13%)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e.g. DFID contribution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the WB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duced PSC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Final Trust Fund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f 6% reasonable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unding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o increa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e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substantially as resource mobilisation gathers moment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number of transactions (financi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, contractual, administrative 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legal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logistic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and other) over a 12 month period i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aro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5,000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duced PSC of 6% reasonable (Contd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dmin fees to-dat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3% to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0% to WHO on an exception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interim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basis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since      February 2003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cost per transaction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with WHO Trust F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US$275 at the rate of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Operating Principles of the Stop TB Partnership Trust Fund at WB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transfer of funds every six months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interest accrues to the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procurement policies of WHO app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standard WB and WHO repor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6% PSC for the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irect the negotiating team to aim for agreeing with WHO a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n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ppropriate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fixed  admin fees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the definitive Trust Fund including a mechanism for adapting the fee to changing throughpu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1:16Z</dcterms:modified>
  <cp:revision>82</cp:revision>
  <dc:subject/>
  <dc:title>Slide 1</dc:title>
</cp:coreProperties>
</file>