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516-420E-4D6F-AB2E-5A2C10BD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E3D-1AE1-44D4-98F1-B33A82BE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C93-07E5-4755-8138-885C5DDC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F2C-B5A0-4D3C-B0E4-4904312C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D77-6040-471E-B709-8539C0C3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6A28-0A3F-42EE-BDE7-E30BAF39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455-15ED-4628-A04F-B509DAD2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13D-A27E-4080-9710-D5C3A9E0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03D-E11F-48AA-9385-1F7603EA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E30-8BE8-443A-A85B-48E0993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0DC-ED0C-4892-BB55-E4C099CC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0162-7BBF-4BA0-8479-5DDA800E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1A5-FBD5-4EFB-8681-60A88EEFF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maherd@who.ch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Stop TB Partnership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Coordinating Board meeting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Beijing, 15-15 October 2004</a:t>
            </a:r>
            <a:br>
              <a:rPr sz="4800"/>
            </a:b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Times New Roman"/>
              </a:rPr>
              <a:t>The Millennium Development Goals Project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quest to Coordinating Board to endorse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2920" y="1268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recommendations of the working group on TB (Working Group report, p9-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inclusion of "TB" in MDG 6, thus "combat HIV/AIDS, TB, malaria and other diseases" (overall MDGs report, p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raft General Assembly resolution point 37 "to request a revision of the targets and indicators for monitoring the MDGs to make them consistent with the technical recommendations of the UN Millennium Project Task Forces and other experts, by mid-2006" (overall MDGs report, p3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Development of advocacy strategy by WG on A &amp; C (in collaboration with MDGs Campaign) to push main TB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) launch of MDGs report in January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) UN special summit on MDGs in September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Coordination with second Global Plan to Stop TB (2006-2015) (WHA May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overall report </a:t>
            </a: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"Global Plan to achieve the MDGs"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920" y="2554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comments@unmillenniumproject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illennium Development Goa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125360"/>
            <a:ext cx="858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dopted at the UN Millennium Summit, September 200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radicate extreme poverty and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chieve universal primary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mote gender equality and empower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Reduce child mort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mprove maternal h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bat HIV/AIDS, malaria and other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environmental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A global partnership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UN summit Sept 2005 will review progress towards MDG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MDGs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2920" y="1125360"/>
            <a:ext cx="8893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Key featur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launched by UN Sec-Gen to recommend the best strategies for achieving the MD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Project runs from 2002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directed by J Sachs (Special Adviser to the UN Sec-Gen on the MD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overall report "Global Plan to achieve the MDGs" for launch in Jan 2005 (unmillenniumproject.org) and endorsement at special UN summit in September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 task forces, including 2 on heal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) Task force 4: child and maternal health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i) Task force 5: HIV, malaria, TB, other major diseases and access to essential medic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243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Members of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62064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Billo (IUAT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 Broekmans (KNCV) w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rking group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Castro (CDC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Espinal (Stop TB Partnership secretari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Evans (Global Programme on Evidence for Policy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 Floyd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 Harries (Malaw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 Hopewell (San Francisco General Hospital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Maher (Stop TB Department, W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 Narayanan (TB Research Centre, Chennai, In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Perelman (TB Institute, Mosco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 Raviglione (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 Schwalbe (Open Society Institute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Tapia (Ministry of Health, Mex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 Weil (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HO Stop TB Depar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ecretariat: J Paluzzi (Partners in Health, 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Writer: K C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628640"/>
            <a:ext cx="858816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ey features of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s strategies to reach 2015 global TB control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flects overall MDGs theme of poverty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ilds on recommendations of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 hoc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s ongoing work to develop 2</a:t>
            </a:r>
            <a:r>
              <a:rPr b="0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lobal Plan to Stop TB (2006-201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working group on TB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(part of task force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628640"/>
            <a:ext cx="85881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Finalisation of report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February 2004 – interim report posted on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 October 2004 – deadline for comments from review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 November 2004 – submission of final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anuary 2005 – launch of task force reports with overall MDGs project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The report of the Working Group on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" y="1700280"/>
            <a:ext cx="88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Introduction to the MD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Global TB epidemic and status of TB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overty, gender, children and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oving forward to achieve the 2015 TB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Meeting the TB target in MDG projec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nnexes: including country case studies (Cambodia, Dominican Republic, Ethiopia, Keny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2240"/>
            <a:ext cx="91440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commendations of the Working Group on T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920" y="170028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romote access for all to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ddress the TB/HIV emergency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Engage all primary care providers in high quality TB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Partner with communities to stop T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Accelerate the development of critically needed new tools and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upport the Global Plan to Stop TB 2006-20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omments on the TB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2920" y="2554200"/>
            <a:ext cx="88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Comments p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to Dermot Maher (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aherd@who.ch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) to compile and send to Task Force secretariat by Friday 22 Octo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maherd</cp:lastModifiedBy>
  <cp:lastPrinted>2003-06-23T18:01:16Z</cp:lastPrinted>
  <dcterms:modified xsi:type="dcterms:W3CDTF">2004-10-08T16:17:39Z</dcterms:modified>
  <cp:revision>92</cp:revision>
  <dc:subject/>
  <dc:title>Africa: HIV is driving the TB epidemic TB notification rates, 1980-1998</dc:title>
</cp:coreProperties>
</file>