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F3A4-F273-4047-8659-942A82075F8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93AD-5E0A-4458-ADEA-BD603CEFD5A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sterdam 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1771-CFAB-4B68-8250-797D21FD7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D19E-F457-4468-93D5-69A78F3B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FB95-61B5-4760-9771-EFBEE9B5E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660E-A525-4C85-ADF2-B3B3DEDB5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019F-A54F-4627-BBAF-795FC37D8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8A20-738E-472A-93F4-AA3475DF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5ED5-61DF-4E10-B4F6-9AA6C94F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3B28-C151-4213-98EB-F65667DD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5330-3860-49F1-BDCA-419E60EF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0F1B-7BE9-48A4-B3F6-B4BB1CC6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8383-3BF6-4807-9EFA-E827A3B2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14F5-BAB2-4AEA-854D-86F84539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0F00-234D-465A-8D89-7CF33FE3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DDB2-954E-4D87-B038-AEC15541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1614-F477-4011-9110-D8ED7B22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CA84-8B29-4537-9A0E-6E26F6C4C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C618-C152-4E4B-8861-50CAA2DA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CEDE-43CC-4919-872F-6EC24E4D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D7A6-DFBE-452B-8CA3-24848070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3E48-3064-4B11-BA90-727706CB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3F37-B54E-4030-B8C0-4CC34539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1058-5CB1-4948-B713-7F9C59E6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E257-5E8B-43B4-AD26-B9F9C3D5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E57C-21D0-4502-857F-6FA18DEE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E24A-11CD-440F-A3DC-7E5C9AA2050E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49F2-BDFA-4577-882F-D6CF2094C2AB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1988640"/>
            <a:ext cx="86421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lobal Partnership issues &amp; planning:</a:t>
            </a:r>
            <a:br>
              <a:rPr sz="2000"/>
            </a:br>
            <a:br>
              <a:rPr sz="20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Global Plan II progress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-  Working groups: MDR-TB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  <a:ea typeface="宋体"/>
              </a:rPr>
              <a:t>-  Partners Forum Evaluation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  <a:ea typeface="宋体"/>
              </a:rPr>
              <a:t> </a:t>
            </a:r>
            <a:br>
              <a:rPr sz="2400"/>
            </a:b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hair:   Giorgio Roscigno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apporteur:  Nils Billo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360" y="1890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Global Plan to Stop TB, 2006-1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7280" y="1484280"/>
            <a:ext cx="86058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Key featur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uilds on first Global Plan (2000-05) and Progress Repo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10 years' timeframe (2006-15), leading to 2015 MD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mplementary to MDGs TB working group report (that calls for support for the Global Pl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sistent with proposed WHA resolution in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pports national needs for long-term planning and financial sustain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velops strategic directions set out by 2</a:t>
            </a:r>
            <a:r>
              <a:rPr b="0" lang="en-GB" sz="24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ad hoc Committee on the TB epidem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ased on contributions of each WG's work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10960"/>
            <a:ext cx="6300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view of progress in developing Global Plan, 2006-2015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557360"/>
            <a:ext cx="85881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May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HO Executive Board approved resolution on Global Plan for 2005 World Health Assemb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June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HO Strategic and Technical Advisory Group endorsed outline of Globa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June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utline sent to all partners for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July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utline endorsed by Coordinating Boar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August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teering committee endorsed by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Sept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 initiated on proj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4211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commendation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r Board (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1484280"/>
            <a:ext cx="870588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1. Board endor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) key featu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) development of projections to inform plann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2. Board requests each WG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evelop plans (2006-2015) in contribution to the globa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dentify a focal point from the W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dentify resource needs for pl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3. Board proposes launch of Global Plan in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ither a) between WHA (May) and UNGASS (Sep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r b) late 2005, e.g. November Board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4067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commendation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r Board (2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1484280"/>
            <a:ext cx="870588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4. Board endorses approach of advocacy champ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elson Mandela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martya Sen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Kofi Ann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*preference to write foreword by one of the abo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5. Board endorses dissemination of Global Plan advocacy messages to key constituencies, including HIV/A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DOTS Plus Working Group: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DR-TB and GL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Magnitude of the problem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Based on Resistance surveys in 64 countries and predictive data from 72 countries the number of new cases of MDR-TB for 2000 was estimated to be 273,000 (95% confidence limits 185,000 and 414,000)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2746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0000"/>
                </a:solidFill>
                <a:latin typeface="Tahoma"/>
              </a:rPr>
              <a:t>Dye C, Espinal MA, Watt CJ, Mbiaga C, Williams BG.  </a:t>
            </a: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2746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0000"/>
                </a:solidFill>
                <a:latin typeface="Tahoma"/>
              </a:rPr>
              <a:t>Worldwide Incidence of Multidrug-Resistant Tuberculosis.  </a:t>
            </a:r>
            <a:r>
              <a:rPr b="0" i="1" lang="en-US" sz="1200" spc="-1" strike="noStrike">
                <a:solidFill>
                  <a:srgbClr val="720000"/>
                </a:solidFill>
                <a:latin typeface="Tahoma"/>
              </a:rPr>
              <a:t>J of Infec Dis</a:t>
            </a:r>
            <a:r>
              <a:rPr b="0" lang="en-US" sz="1200" spc="-1" strike="noStrike">
                <a:solidFill>
                  <a:srgbClr val="720000"/>
                </a:solidFill>
                <a:latin typeface="Tahoma"/>
              </a:rPr>
              <a:t>; 2002;185:1197-202.</a:t>
            </a: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Important recent development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OTS-Plus not longer limited to so-called "hot spots"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he GLC was able to start, maintain and expand it's operations thanks to grants from different donors, including the B&amp;M Gates Found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unding comes to an end: mid July 20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DOTS Plus Working Group: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DR-TB and GL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he Board…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Acknowledges GLC plays a pivotal role in the control of MDRTB/ prevention of the emergence of resistance to 2</a:t>
            </a:r>
            <a:r>
              <a:rPr b="0" lang="en-GB" sz="22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 line drugs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Recognizes financial sustainability of GLC is at stake—donors should be mobilized to ensure the financial sustainability. 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stimated budget (next 3 yrs): 5 million US$/ operations GLC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Recognizes additional funding is required at country level 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laboratory capacity strengthening,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urchase of 2</a:t>
            </a:r>
            <a:r>
              <a:rPr b="0" lang="en-GB" sz="20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line drugs,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human resource develop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Endorses and supports intensified coordination/ collaboration between DOTS-Plus WG, DOTS Expansion WG and New Diagnostics WG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33200"/>
            <a:ext cx="54104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rtners' Foru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920" y="1484280"/>
            <a:ext cx="7345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720000"/>
                </a:solidFill>
                <a:latin typeface="Tahoma"/>
              </a:rPr>
              <a:t>Amsterdam Declaration</a:t>
            </a:r>
            <a:r>
              <a:rPr b="0" lang="en-US" sz="25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i="1" lang="en-US" sz="2500" spc="-1" strike="noStrike">
                <a:solidFill>
                  <a:srgbClr val="720000"/>
                </a:solidFill>
                <a:latin typeface="Tahoma"/>
              </a:rPr>
              <a:t>to Stop TB</a:t>
            </a:r>
            <a:r>
              <a:rPr b="0" lang="en-US" sz="25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(March, 2000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First Stop TB Partners' Forum </a:t>
            </a: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(Oct 2001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23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ew Delhi 2</a:t>
            </a:r>
            <a:r>
              <a:rPr b="0" lang="en-GB" sz="24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Stop TB Partners Forum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(March 2004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65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orum function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ssembly of the Partnership—Inclusive, consultative meeting of partner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onsolidate and increase support &amp; commit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Review and comment on Partnership progres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latform of information exchange on progress, problems and challeng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7093080" y="1484280"/>
            <a:ext cx="1969920" cy="1555920"/>
            <a:chOff x="7093080" y="1484280"/>
            <a:chExt cx="1969920" cy="155592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rcRect l="0" t="0" r="0" b="8274"/>
            <a:stretch/>
          </p:blipFill>
          <p:spPr>
            <a:xfrm>
              <a:off x="7093080" y="1484280"/>
              <a:ext cx="1969920" cy="1555920"/>
            </a:xfrm>
            <a:prstGeom prst="rect">
              <a:avLst/>
            </a:prstGeom>
            <a:ln w="0">
              <a:noFill/>
            </a:ln>
            <a:effectLst>
              <a:outerShdw dist="89604" dir="2700000" blurRad="0" rotWithShape="0">
                <a:srgbClr val="a50021"/>
              </a:outerShdw>
            </a:effectLst>
          </p:spPr>
        </p:pic>
        <p:sp>
          <p:nvSpPr>
            <p:cNvPr id="111" name=""/>
            <p:cNvSpPr txBox="1"/>
            <p:nvPr/>
          </p:nvSpPr>
          <p:spPr>
            <a:xfrm>
              <a:off x="7093080" y="1484280"/>
              <a:ext cx="1969920" cy="155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cc66"/>
                </a:buClr>
                <a:buSzPct val="8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7093080" y="3124080"/>
            <a:ext cx="1946160" cy="1744920"/>
            <a:chOff x="7093080" y="3124080"/>
            <a:chExt cx="1946160" cy="1744920"/>
          </a:xfrm>
        </p:grpSpPr>
        <p:sp>
          <p:nvSpPr>
            <p:cNvPr id="113" name=""/>
            <p:cNvSpPr/>
            <p:nvPr/>
          </p:nvSpPr>
          <p:spPr>
            <a:xfrm>
              <a:off x="7097760" y="3124080"/>
              <a:ext cx="1941480" cy="169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89604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3"/>
            <a:srcRect l="0" t="0" r="7996" b="0"/>
            <a:stretch/>
          </p:blipFill>
          <p:spPr>
            <a:xfrm>
              <a:off x="7093080" y="3150720"/>
              <a:ext cx="1929240" cy="1718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valuation Partners' Foru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c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he Board confirms that the Forum is an important body of the Stop TB Partnership which needs to be meeting once every 3 yea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quests the Secretariat to conduct an online poll about the future format and date of the Foru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ased on the results of the poll, the Secretariat will propose a concept of the next Forum (eg. Constituency engagement, break-out sessions, advocacy regarding outcomes 2005 Targets, etc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15T05:24:24Z</dcterms:modified>
  <cp:revision>177</cp:revision>
  <dc:subject/>
  <dc:title>Secretariat, 2003 Progress Report</dc:title>
</cp:coreProperties>
</file>