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16F2-D9A8-4A94-8587-D50B4A3A5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8349-CF61-45B1-BD95-BE5FA2B27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5315-9F2D-4554-907E-4B660DA8A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5C2E-1447-43A9-B4CC-076062E22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3DB78-6DE7-48E8-8354-E4ABC02DA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91395-98DD-4674-B200-F15D3D0D7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8394B-613F-47D9-9BE2-CCA88E1FB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35638-E560-4585-B86D-F4727DE06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26158-190A-4B29-B989-BBC6D671E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BCAA7-7F5B-4D06-8B8F-0D4D7C832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16C28-7DD5-4F8F-9C61-28DC3A0FF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541D-AF7D-4BEB-AE87-8B4FEC36B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C5B90-16F7-4111-B719-5C3554A6A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D39B6-E2A4-4DA0-A5B8-FE2A7C85F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AF38B-A9A3-44DB-9DEE-C20EFB1B3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312AB-B90D-4006-9888-57674DB19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74CDE-A974-4448-BCB0-2E9B60A7C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AF2D-43E2-4F58-9E6A-C705836DD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0A49-C60A-4474-A781-3C4471F0C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27F7-047A-4ACC-88F6-70B5B1737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AC91-FE89-4759-B6FB-B162EFF5F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AE44-2EBA-44BC-84D5-B1709C302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3F1D-017C-4A02-AE55-02D109AF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8495-406A-4C40-BDAA-7D9BD8E18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B6333-9C68-4912-937F-4C390CE419E1}" type="slidenum"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846AF-6180-40F8-B37F-1E6336B1F4DA}" type="slidenum"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94920" y="2060640"/>
            <a:ext cx="84963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宋体"/>
              </a:rPr>
              <a:t>Advocacy and Communications Working Group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宋体"/>
              </a:rPr>
              <a:t>Plenary Discussio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宋体"/>
              </a:rPr>
              <a:t>Joanne Carter, Chair A.I.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宋体"/>
              </a:rPr>
              <a:t>15 October 2004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7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964720" cy="475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Progress since last CB meeting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Basic Framework draft (main objectives, functions, structure, main work stream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Proposed roster of initial members (65</a:t>
            </a:r>
            <a:r>
              <a:rPr b="0" lang="en-GB" sz="2400" spc="-1" strike="noStrike" u="sng">
                <a:solidFill>
                  <a:srgbClr val="720000"/>
                </a:solidFill>
                <a:uFillTx/>
                <a:latin typeface="Tahoma"/>
                <a:ea typeface="宋体"/>
              </a:rPr>
              <a:t>+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Development of new alliances – HIV/AIDS, MDGs Campaig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First formal meeting of ACWG set for Dec 04/Jan 05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Informal pre-meeting at IUATLD conference to discuss agenda and expected outcom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  <a:ea typeface="宋体"/>
              </a:rPr>
              <a:t> 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727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58560" y="1484280"/>
            <a:ext cx="8785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Proposed structural featur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1. Chair with permanent seat on C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2. Two initial sub-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Global advocacy for resource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Country level advocacy, communication and social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3. Focal points for all 6 technical WG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Critical to ensure close coordination in cross-cutting rol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4. Stronger representation for patients  and countr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Basic Framework to be approved and Chair/vice-chairs elected in first formal meeting of WG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608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1413000"/>
            <a:ext cx="8526600" cy="76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Key immediate prior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Resource mobi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enerate more robust numbers on funding ga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Close collaboration with Resource Mobilization Task Fo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Target key national, multilateral and private sector don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2.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Develop short-and long-term advocacy strategy aroun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2005 targets and MDG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lobal Plan I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World TB D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3.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Rapid scale up of support to countries for AC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TA for GFATM proposals/ISAC – Nov 04 worksh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uidance, tools, training for emerging national partnershi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Mobilization of new advocacy partners at regional and country lev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119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1844640"/>
            <a:ext cx="8381880" cy="39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Request for C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Feedback on formation process, structure, key prior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2.  Technical WG chairs need to assign focal points to ACW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luhanm</cp:lastModifiedBy>
  <dcterms:modified xsi:type="dcterms:W3CDTF">2004-10-19T10:57:18Z</dcterms:modified>
  <cp:revision>21</cp:revision>
  <dc:subject/>
  <dc:title>Financial situation,  Budget &amp; plans 2005</dc:title>
</cp:coreProperties>
</file>