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3E5-F8BA-4C5E-8E43-FA865886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5FD-3290-4030-B1E6-66F1F73F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FA5-4B94-4B0F-9438-89F1F48A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841-80F0-4622-BFCA-21D08F32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2845-36C6-46D1-8BB9-DFA815D0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441C-71D4-449C-BC26-B99C0198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6236-EDAA-4F87-A55E-60E7D366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133D-DFD0-45B2-A719-095E2D15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49EF-D040-4885-8216-3664A268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AA91-60B9-4AF2-8F9D-9CDE3006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434C-DE96-42CC-8DC9-89AFCBE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2A7-1C15-4D5D-BAF8-84F53278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17F4-DE72-4A05-A744-A42B9DC7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8D80-886A-4F0C-883C-CE1E7684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43DB-3386-4CC9-9575-4DB57306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ACD7-93B9-4922-8DA8-FB70EFEC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7F6D-3942-4D5D-9FCA-A15A297E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1C5-37C7-4372-B782-6192B056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27EE-9BA3-4DD8-8074-BE78E235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576-B980-46C0-828D-BC925DCC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152-ADDE-4274-9EF2-E15384F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0A2-8A01-470F-AA14-F132F115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956-79F4-41F3-9FA4-A2AD8B74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99B-988B-49D3-A58B-32B673FC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04E5-67F0-4919-B60D-9FCFE39E56A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507D-46AF-457C-BD1B-2EE4198DDE4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for Action on TB and Povert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93192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mote access to DOTS and TB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programme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the Network Action on TB and Poverty 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 platform for TB control and Poverty experts to create a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synergy for coordinated action in support of poor countrie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ction and output orient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ase detect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3" marL="1551960" indent="-2214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Tahoma"/>
              </a:rPr>
              <a:t>Increase cure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vidence and performance base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08440" indent="-2214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Linking TB control with global and local poverty alleviation initiativ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Managed by th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National Tuberculosis Programme of Malawi, in conjunction with the local NGO Reach Tru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Active participation from the DOTS Expansion Working Group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Why do we need .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istribution of TB is higher among the poor than the non poor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 algn="just">
              <a:lnSpc>
                <a:spcPct val="12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 easy access for the poor to health services due to: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athways to diagnosis of TB patients extended due to repeated visits to different care providers, regardless of socio-economic statu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spend proportionally more on accessing TB diagno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 algn="just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The poor are sometimes actively excluded from TB service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OTS can help to fight poverty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Pro-poor access to DOTS helps reaching the TB targets of case finding and c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Network Operation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age key stakeholders to promote action on TB and Poverty prioritising the AFRO reg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rican case studies will be presented at the IUATLD Par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ster research to inform TB control operations and poli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te pro-poor approaches using DOTS and link up with other initiatives and funding (e.g. Fidelis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etwork Product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novative pro-poor approaches in DOTS applied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Guide on TB and Poverty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framework for mainstreaming of poverty in TB control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&amp;E on poverty mainstreaming in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 research on demand from countr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and exchanges with other health equity initiativ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ponds to the demand from countries on how to mainstream TB poverty in DOTS and TB control programm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tive paper on TB and Poverty as policy guiding tool and practical roadma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s strategic and practical guidance to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O Guide on TB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nd Pove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unching the WHO guide on TB and Poverty for NTP manag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anding TB Poverty related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acilitate representation for the network to the other working group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-78012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Clr>
                <a:srgbClr val="ff3300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mote special features on TB and Poverty at national/regional meeting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80120" indent="0">
              <a:lnSpc>
                <a:spcPct val="10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Nils Billo</cp:lastModifiedBy>
  <cp:lastPrinted>2004-03-17T17:37:17Z</cp:lastPrinted>
  <dcterms:modified xsi:type="dcterms:W3CDTF">2004-10-14T00:25:33Z</dcterms:modified>
  <cp:revision>176</cp:revision>
  <dc:subject/>
  <dc:title>Secretariat, 2003 Progress Report</dc:title>
</cp:coreProperties>
</file>