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0300-808B-45D2-9B26-C182C4BE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re competitive and uncertai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rding to the Bank, health ODA in 2002 is about $ 8.1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ven new health funding initiatives (GFATM, PEPFAR, MCA ), health funding is expected to continue to rise in the coming years BUT there is no grant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around 80 global health initiatives at this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/AIDS is drawing the most significant atten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caling up resource mobilization eff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have to do more – The estimated financial gap for Stop TB is about $25 million in 2005 and getting wider in the coming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eting the overall MDG needs requires an annual ODA average of $156 billion from 2005 through 2007 and $188 billion from 2013 through 2015. (In 2003, the total amount of ODA worldwide was $68 bill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ilding public trust and confidence on the Part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ublic and donor expectation is high and multidimensional, including an ethical aspect of perform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y down a set of basic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set out minimum principles for establishing system-wide standards for resource mobilization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unicate with all stakeholder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re a mean to communicate with our beneficiaries, partners, donors, supporters, and all other stakeholders to promote a better understanding of the Stop TB resource mobilization operation.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sure resource mobilization is mission-driven and aligned with the Partnership's vision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a quality-control and accountability promotion measu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aim to hold our resource mobilization effort to a higher quality standard and establish it in a wider framework of the mission, vision, and values of the Stop TB Partnership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616-AAE4-4FB7-81A2-18EEF7C5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4660-1DA7-4917-AD39-07F2C694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738-22E6-45BA-9F49-B059C7B7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467-1297-4873-BB6C-786277CD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C435-C52C-4E6B-94B1-8FB2DB18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5C23-1B54-4791-90E4-86628A59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9AED-4620-4882-84F7-1CF6A985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DA8B-5F40-4A7B-BB4E-8C80798D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F278-E47A-4604-BA0F-76B5DBF0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B870-13D6-45B6-92AF-B7E5138E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03C7-82F0-4C69-AE34-025581AE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C1A-7FB7-461F-BCF7-770A9DFF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5279-9D22-4985-8100-56309B5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75E2-D1BA-415D-89D6-84390BD2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B5D4-78EE-46E8-B83D-13919215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21A2-00EC-4DE7-949D-DAC4EA81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1394-0124-4582-A032-7F56E11C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870-6344-47A4-93AC-E83F7AB3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8C7-0E30-4C2E-A820-5AD40F39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E6F-78A8-4C88-B0D2-C1ADA6CC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790-2864-4269-9911-7DCBE9D6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438-1AA0-4AB1-A735-8238975D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A8F-C544-4960-9E28-974FA85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883-77CF-467E-8F36-55B87F3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BB8-A806-4E99-9127-BEB7855DAD1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2F81-E53A-4A1B-81C9-C4C4710FDF1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</a:rPr>
              <a:t>Ethical Guidelines for Resource Mobiliz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宋体"/>
              </a:rPr>
              <a:t>Irene Koe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sation Task Force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Overview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Need for Guidelin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Implementation and Review Proces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What are Next Steps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ed for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quested by Coordinating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mand for accountability and transparency  from regulatory bodies and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competitive and uncertain environ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caling up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More donors from the existing donor seg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w Donor Segment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public trust and confidence on the Partnership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Lay down a set of readily understood basic principl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municate the agreed principles that underpin resource mobilisation to all stakeholders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resource mobilization 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mission-drive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aligned to Partnership valu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ey Principles of Ethical Guidelines (Contd.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view Committe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small,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commendations for the Coordinating Board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 the guid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pply the endorsed guidelines with immediate effec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irculate the Guidelines to those involved in resource mobilisation and peer bod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vijaya</cp:lastModifiedBy>
  <dcterms:modified xsi:type="dcterms:W3CDTF">2004-10-21T14:43:00Z</dcterms:modified>
  <cp:revision>70</cp:revision>
  <dc:subject/>
  <dc:title>Slide 1</dc:title>
</cp:coreProperties>
</file>