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FA6AE-A805-46CA-83A5-6E18FF32A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7E141-8561-4705-B404-4B16C6838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3F01B-6603-416B-8A65-37DD1CEF3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3BF2F-1D1F-4BC5-BE4C-20DA490CF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D2B23-C6F2-434E-9F0A-97D201B43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BFF9D-1461-473D-9C28-4F5A05E32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52674-A02E-466F-94DD-617FDFE13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C744C-54C2-4E10-9D86-214FBEA03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C351B-B667-4CD9-A7C5-7AA9E5EB2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17B05-B74A-4181-ADF0-C62FAC246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7A927-F34E-41ED-A454-02CDE79BE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1DF0D-54DF-4187-BFE3-151095642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D204C-3E9F-4B5D-A914-DA7916ED3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FAAF5-D352-47ED-A4F7-A6F1FECA3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D0A3A-A78D-4C5B-BFBC-90418CA3A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6F709-7CA5-4ECD-9BC2-AECF0E184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7E0C6-8889-4AAE-9B3F-6F0A2301A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B9436-53AC-4F01-8DE2-D048BF542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20A67-332B-4397-9F5F-05BEC5603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DE440-5D49-418F-80D7-440185253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F4D41-D21D-4E71-8F9D-72E7C3E01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76FA9-AC55-4AAE-9B67-1923469A4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F2A4E-7AC2-417F-B025-BBDDEC759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28109-3464-4CE8-8FF6-AEC98EA74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ahoma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ahoma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B53BF-12A9-4959-9DC4-981140B56876}" type="slidenum">
              <a:rPr b="0" lang="zh-CN" sz="1200" spc="-1" strike="noStrike">
                <a:solidFill>
                  <a:srgbClr val="ffffff"/>
                </a:solidFill>
                <a:latin typeface="Tahoma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ahoma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ahoma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1A0EE-E93A-48E5-B396-7157A2D1A334}" type="slidenum">
              <a:rPr b="0" lang="zh-CN" sz="1200" spc="-1" strike="noStrike">
                <a:solidFill>
                  <a:srgbClr val="ffffff"/>
                </a:solidFill>
                <a:latin typeface="Tahoma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72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394920" y="2060640"/>
            <a:ext cx="849636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  <a:ea typeface="宋体"/>
              </a:rPr>
              <a:t>Advocacy and Communications Working Group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  <a:ea typeface="宋体"/>
              </a:rPr>
              <a:t>Plenary Discussion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  <a:ea typeface="宋体"/>
              </a:rPr>
              <a:t>Joanne Carter, Chair A.I.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  <a:ea typeface="宋体"/>
              </a:rPr>
              <a:t>15 October 2004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6732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vocacy and Communications Working Group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9280" y="1628280"/>
            <a:ext cx="8964720" cy="475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  <a:ea typeface="宋体"/>
              </a:rPr>
              <a:t>Progress since last CB meeting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Basic Framework draft (main objectives, functions, structure, main work streams)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Proposed roster of initial members (65</a:t>
            </a:r>
            <a:r>
              <a:rPr b="0" lang="en-GB" sz="2400" spc="-1" strike="noStrike" u="sng">
                <a:solidFill>
                  <a:srgbClr val="720000"/>
                </a:solidFill>
                <a:uFillTx/>
                <a:latin typeface="Tahoma"/>
                <a:ea typeface="宋体"/>
              </a:rPr>
              <a:t>+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)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8c00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Development of new alliances – HIV/AIDS, MDGs Campaig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8c00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First formal meeting of ACWG set for Dec 04/Jan 05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8c00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Informal pre-meeting at IUATLD conference to discuss agenda and expected outcom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720000"/>
                </a:solidFill>
                <a:latin typeface="Tahoma"/>
                <a:ea typeface="宋体"/>
              </a:rPr>
              <a:t>  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-360" y="115560"/>
            <a:ext cx="727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vocacy and Communications Working Group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58560" y="1484280"/>
            <a:ext cx="87850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  <a:ea typeface="宋体"/>
              </a:rPr>
              <a:t>Proposed structural feature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  <a:ea typeface="宋体"/>
              </a:rPr>
              <a:t>1. Chair with permanent seat on CB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  <a:ea typeface="宋体"/>
              </a:rPr>
              <a:t>2. Two initial sub-group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44600" indent="-444600">
              <a:lnSpc>
                <a:spcPct val="90000"/>
              </a:lnSpc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  <a:ea typeface="宋体"/>
              </a:rPr>
              <a:t>Global advocacy for resource mobilization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444600" indent="-444600">
              <a:lnSpc>
                <a:spcPct val="90000"/>
              </a:lnSpc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  <a:ea typeface="宋体"/>
              </a:rPr>
              <a:t>Country level advocacy, communication and social mobilization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  <a:ea typeface="宋体"/>
              </a:rPr>
              <a:t>3. Focal points for all 6 technical WG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44600" indent="-444600">
              <a:lnSpc>
                <a:spcPct val="90000"/>
              </a:lnSpc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  <a:ea typeface="宋体"/>
              </a:rPr>
              <a:t>Critical to ensure close coordination in cross-cutting role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  <a:ea typeface="宋体"/>
              </a:rPr>
              <a:t>4. Stronger representation for patients  and countri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720000"/>
                </a:solidFill>
                <a:latin typeface="Tahoma"/>
                <a:ea typeface="宋体"/>
              </a:rPr>
              <a:t>Basic Framework to be approved and Chair/vice-chairs elected in first formal meeting of WG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608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vocacy and Communications Working Group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179280" y="1413000"/>
            <a:ext cx="8526600" cy="76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  <a:ea typeface="宋体"/>
              </a:rPr>
              <a:t>Key immediate prior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Resource mobiliz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Generate more robust numbers on funding ga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Close collaboration with Resource Mobilization Task For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Target key national, multilateral and private sector dono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2. 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Develop short-and long-term advocacy strategy around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2005 targets and MDG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Global Plan I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World TB Da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3. 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Rapid scale up of support to countries for ACS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TA for GFATM proposals/ISAC – Nov 04 worksho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Guidance, tools, training for emerging national partnership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Mobilization of new advocacy partners at regional and country leve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119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vocacy and Communications Working Group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68360" y="1844640"/>
            <a:ext cx="8381880" cy="39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  <a:ea typeface="宋体"/>
              </a:rPr>
              <a:t>Request for C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2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Feedback on formation process, structure, key priorit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2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2.  Technical WG chairs need to assign focal points to ACW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3T15:56:53Z</dcterms:created>
  <dc:creator>Robert Hernandez</dc:creator>
  <dc:description/>
  <dc:language>en-US</dc:language>
  <cp:lastModifiedBy>luhanm</cp:lastModifiedBy>
  <dcterms:modified xsi:type="dcterms:W3CDTF">2004-10-19T10:55:09Z</dcterms:modified>
  <cp:revision>21</cp:revision>
  <dc:subject/>
  <dc:title>Financial situation,  Budget &amp; plans 2005</dc:title>
</cp:coreProperties>
</file>