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9711-D11D-4993-8453-855846880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7918-A99D-4D61-8462-32FF25A16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D127-0F04-462B-97D2-62CDC4B2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2079-9443-4DBF-8A78-7E7131F8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1703-BDC9-4EE7-AB70-1829686D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FF8F-1927-45BD-B19A-AA16F3C0A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CB17-3391-4B6E-B18D-BDCFC62C9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6890-A6FB-4E40-8FEE-AAF76BAC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3D86-7338-4374-8752-A2B7F11B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090E-DD69-4A83-8231-F065955A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6FEC-53E8-4A4F-9936-2C593585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03AF-36BB-4EC3-B3EA-9F03D6AB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64D0-64F7-428C-951F-91932EBB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C656-CDF5-4175-9AF2-6520557C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29BD-29D7-498C-8679-4A3F7133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3694-B02D-4B99-AB6D-0D039C83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2842-A101-442F-B706-BEE2FBD2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4980-D062-476B-8431-D76EBAEC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D324-4E2B-41D3-A14C-789FB726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1AEB-58A7-4778-A09B-FE519C6B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0061-E9DC-4426-B3FE-70E72922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DD9D-B2D0-4281-A6FA-4CC63474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EF89-61B1-4788-8552-3808F6BF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C507-DC7D-4133-9248-1E521060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8136-F739-402E-9E62-9D44E143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D070-38AF-4779-A89F-2D89EAAD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B4C6-E9C4-44AE-BB3C-758B01CA97D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CF78-7D79-4D33-9D60-EFC6EF29B91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s and Administratio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M Ethical Guideline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rust Fund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B and PRSP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:  Stefaan van der Borgh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apporteur:  Irene Koek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-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nalysis at WB – limited attention to TB in PRSPs and very little attention to TB and Pover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eed to give MOH etc. tools for talking with Ministers of Finance – must be in terms of impact on GDP, etc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Importance of being evidence based in documentation &amp; toolkit – especially on impact of TB on macroeconomic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Develop toolkit – country focused, and ensure coordination with similar efforts in child health, malaria, etc.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ring toolkit effort together with Poverty Network – coordinate ac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mmary of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dopt plan with following adjustments and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plit actions for $40 million and $3.7 b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ather information on domestic spending for TB using National Health Accounts,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amp resource mobiliz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rongly endorse need to put more resources behind resource mobilization, and strengthen secretariat in this reg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volve RM Task Force to Advisory Grou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  (Contd.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a small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ummary of Recommenda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opt the ethical guidelines as a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stablish a review committee – give Secretariat flexibility to call on committee as deemed necessar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larify that guidelines cover cash and in-kind contribu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d a note to specifically state that prior to their acceptance in-kind contributions must be assured to do no harm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Definitiv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WB Trust Fund: 3%, must transfer  funds to a trust fund at WHO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fee for interim TF  at WHO-  6%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xt steps for negotiating team to agree on the Definitive Trust Fund at WHO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dorse the Operating Principles of the Stop TB Trust Fund at the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ve ISAC money from the WB Trust Fund to WHO interim TF and allocate it to countries AS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fer GDF money in the WB Trust Fund directly to IAPSO at no additional fe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nd negotiating team to WHO ASAP to finalize the definitive Stop TB Trust Fund at WHO and agree an admin fee for it– ideally at no more than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ow WB trust fund to e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steenbergeng</cp:lastModifiedBy>
  <dcterms:modified xsi:type="dcterms:W3CDTF">2004-10-15T07:51:17Z</dcterms:modified>
  <cp:revision>42</cp:revision>
  <dc:subject/>
  <dc:title>Financial situation,  Budget &amp; plans 2005</dc:title>
</cp:coreProperties>
</file>