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FD77C-20B7-47D5-9AE2-0BDB6408FC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506E4-473B-4069-9D0F-2A89DBACCD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F7E3C-1B7E-4048-B4B4-E5737C16EB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6724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3156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40328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6724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73156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B2858-B8AF-4CEC-B722-80F581F9AB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F88FA-AABD-4033-A1A2-55AD5A08B5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6724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73156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40328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6724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73156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678E1-7D72-4D15-9B80-2AE3214145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C73C7-09CF-47A4-867D-A2B918B720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41F3A-A516-47A1-97A2-5E9B4E9D15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5D624-3468-4232-A629-21B6849CEF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0C817-DA15-451D-9834-62200FF709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FF518-93B1-42A0-951E-468A60BA8F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DF35E-22D3-4BBA-9E26-A25CC27EC6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124000" y="6237000"/>
            <a:ext cx="5688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op TB Coordinating Board Meeting, Beijing 14 – 15 October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459280" y="6308280"/>
            <a:ext cx="52236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#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op TB Coordinating Board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eijing 14 – 15 October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Country Progress</a:t>
            </a:r>
            <a:br>
              <a:rPr sz="4000"/>
            </a:b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"/>
          <p:cNvSpPr/>
          <p:nvPr/>
        </p:nvSpPr>
        <p:spPr>
          <a:xfrm>
            <a:off x="684360" y="4252320"/>
            <a:ext cx="748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Chair Dr. Miaka Bile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Rapporteur Dr. Karam Sh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steenbergeng</cp:lastModifiedBy>
  <cp:lastPrinted>2004-03-17T17:37:17Z</cp:lastPrinted>
  <dcterms:modified xsi:type="dcterms:W3CDTF">2004-10-13T23:33:41Z</dcterms:modified>
  <cp:revision>178</cp:revision>
  <dc:subject/>
  <dc:title>Secretariat, 2003 Progress Report</dc:title>
</cp:coreProperties>
</file>