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39674CD-EC48-42E7-B179-821D0B75C7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78960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410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Intensified Support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&amp; Action Countries </a:t>
            </a: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(ISAC)</a:t>
            </a:r>
            <a:br>
              <a:rPr sz="4800"/>
            </a:b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A StopTB initiative to be implemented through the DOTS Expansion W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840" y="-17640"/>
            <a:ext cx="888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Budget Requir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68280" y="9208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9208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1306440"/>
          <a:ext cx="9029880" cy="5262480"/>
        </p:xfrm>
        <a:graphic>
          <a:graphicData uri="http://schemas.openxmlformats.org/drawingml/2006/table">
            <a:tbl>
              <a:tblPr/>
              <a:tblGrid>
                <a:gridCol w="1579680"/>
                <a:gridCol w="1479600"/>
                <a:gridCol w="1477800"/>
                <a:gridCol w="1600200"/>
                <a:gridCol w="1425600"/>
                <a:gridCol w="1467000"/>
              </a:tblGrid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Year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ledged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Ga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53,500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4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93,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3,3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10,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073,8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Keny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8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18,3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akist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3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5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87,8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er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N/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411,1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9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24,7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86,4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Russian Fe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,0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33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7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Uga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681,000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1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,885,6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876,5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,694,8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,571,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,314,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4520" y="1650600"/>
            <a:ext cx="821052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GFATM – Principal recipient (China, Indonesia, Roman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USAID (global bureau and country miss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CIDA (grant to Stop T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taly government and region of Lomb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Japan, DFID, Nor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ctivities and estimate potential outcomes (at 6 and 12 month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confirm the list of 2</a:t>
            </a:r>
            <a:r>
              <a:rPr b="1" lang="en-GB" sz="26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 year ISAC activit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Review and start tier 2 countries (September 04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Phase out ISAC and incorporate technical support to countries as part of plans to scale up TB control (during 2005 for 2006 implementati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"/>
              </a:rPr>
              <a:t>Keep ISAC as an emergency mechanism to intensify actions in special cases in the fu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– Next step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2nd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577880" y="1959120"/>
            <a:ext cx="610236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2nd Tier (for discussion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24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Banglades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DR Cong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Ethi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66ff"/>
                </a:solidFill>
                <a:latin typeface="Arial"/>
              </a:rPr>
              <a:t>Hait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Mozambi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Myanm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w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Tanz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Zamb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ff9900"/>
                </a:solidFill>
                <a:latin typeface="Arial"/>
              </a:rPr>
              <a:t>Sri Lank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5840" y="1600200"/>
            <a:ext cx="810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467160" y="374652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67160" y="459756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8960" y="4286160"/>
            <a:ext cx="88920" cy="311400"/>
          </a:xfrm>
          <a:prstGeom prst="upDownArrow">
            <a:avLst>
              <a:gd name="adj1" fmla="val 50000"/>
              <a:gd name="adj2" fmla="val 69716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67160" y="3200400"/>
            <a:ext cx="1854000" cy="52020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095800">
            <a:off x="2793600" y="322560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79760" y="5562720"/>
            <a:ext cx="1841400" cy="646560"/>
          </a:xfrm>
          <a:prstGeom prst="rect">
            <a:avLst/>
          </a:prstGeom>
          <a:noFill/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3399"/>
                </a:solidFill>
                <a:latin typeface="Times New Roman"/>
              </a:rPr>
              <a:t>I S A C</a:t>
            </a: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</a:rPr>
              <a:t>(additional capacity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0033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SAC increases absorptive capacit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510800">
            <a:off x="5413680" y="3346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ina: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rogress Since Partner’s Forum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Council meeting on TB; commitment to reach 60% CDR by end of 2004, 70% by end of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entral government increased TB budget from $5 million to $35 million for 2004-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ound 4 GFATM TB project approved ($56 mill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w policies to facilitate increase in case-detection being plan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inued DOTS expansion – expected to reach 95% population coverage by end of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ase-notification rate exceeding 2003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 Existing Constrain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sufficient human resource capacity in NTP, starting at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management of NT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adequate technical guidance provided by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ical elements of DOTS weak in many provinces; quality of DOTS a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orptive capacity a problem at periphe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hina: ISAC Proposal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National part: GF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ire and place 24 staffs into 24 provi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DC-WHO training programme for provincial staffs (2-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ational consul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quipment, vehicles, set-up of training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International part: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Help train and manage 24 staff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Provide training and mentoring for train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3 international staffs; 2 national staffs; and short-term consultants to provide technical assis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Purpos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 special emergency initiative to accelerate DOTS expansion and reach the 2005 targets, within the Global Plan to Stop TB, and ultimately the 2015 MD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14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A key Clarific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645804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87320" y="143496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3496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15200" cy="4191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DEWG (and WHO) is fully committed to continue its regular efforts to support all 22 HBCs and other countries in ne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SAC is an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EXTRAORDINARY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a50021"/>
                </a:solidFill>
                <a:latin typeface="Arial"/>
              </a:rPr>
              <a:t>ADDITIONAL</a:t>
            </a:r>
            <a:r>
              <a:rPr b="1" lang="en-GB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ffort to accelerate TB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6040" y="13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Objectiv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69644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dentify countries for immediate acceleration of TB control efforts through a variety of interven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Actively and intensively support such countries to achieve the 2005 targ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34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riteria for Country Selec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Burden of disease and/or of TB/HIV dual infection (absolute number and/or rat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resence of, or desire to have, in-country WHO or Stop TB partners’ staff and intensified sup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lear commitment and potential capacity to implement at country level and enabling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Availability of funding for TB or TB/HIV control activities from GFATM, bilaterals and bank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otential for collaboration with GDF for drug procure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</a:t>
            </a: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87320" y="12826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2826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Countries </a:t>
            </a:r>
            <a:br>
              <a:rPr sz="3600"/>
            </a:b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1st tier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63840" y="1958760"/>
            <a:ext cx="5889600" cy="459396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 u="sng">
                <a:solidFill>
                  <a:srgbClr val="000066"/>
                </a:solidFill>
                <a:uFillTx/>
                <a:latin typeface="Arial"/>
              </a:rPr>
              <a:t>1st Tier</a:t>
            </a: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ia (already ISAC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Ch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Indones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Keny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akista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oman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Russian Feder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Ugan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Peru*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Arial"/>
              </a:rPr>
              <a:t>*plan not yet 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29800" y="655308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ssive increase in managerial capacity at district level (more than 100 additional qualified staff: WHO local consulta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HO intensified support to strengthening and implement PPM DOTS program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Ind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assive increase in managerial capacity (additional qualified staff) at central and provincial units of NTP (WHO-CDC on the job train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O intensified support to strengthening link with hospitals and implement PPM DOTS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creasing WHO technical support to prepare and implement training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0" y="14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-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04520" y="163800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Establish National STB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and expand monitoring and supervision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Strengthen technical capacity to expand community based TB care and  laborator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Increase WHO technical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87320" y="114948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4948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14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ISAC - Key Actions – Ugan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29800" y="647712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Leopold Blanc</cp:lastModifiedBy>
  <cp:lastPrinted>2004-01-30T14:19:50Z</cp:lastPrinted>
  <dcterms:modified xsi:type="dcterms:W3CDTF">2004-10-14T00:25:45Z</dcterms:modified>
  <cp:revision>528</cp:revision>
  <dc:subject/>
  <dc:title>Progress in Global Tuberculosis Control 1995-97</dc:title>
</cp:coreProperties>
</file>