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18A1D-22FC-4DB0-8AFC-93BE867A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BB8B4-06E0-4751-983A-9EEC3106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02E2-22F4-4AC5-AC8D-17438CE9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CEFCE-A171-4E61-861C-B3562E5D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4E49-1BC1-420F-BBE5-65E45643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1DB8-81C6-4642-87CD-8ADD20E5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9E66-9331-4EBD-BA7D-E94D8170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5CA0-B40D-45A2-B9CA-E54004D2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DE37-1772-467F-8DDB-621EF9BD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8CA2-15B4-46B5-ADCF-4A13D771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B63C-906F-47C7-B1E9-5DEF24BD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AB7CD-40AD-49E9-B77B-02890CBB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6FFE-F566-490F-AC86-BF1F49A9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FBAB-45B9-48C9-857B-96EA00CC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FECA-5A29-4227-A4FC-C807BC99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985C-5A6E-460F-B35A-B1537CDB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5FB0-116D-40FF-8D3A-D06AFCD1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9B164-B84E-433C-B807-19AB6846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2D095-2698-493A-BF5B-0A448FAD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4487-39D0-46A4-BB82-D1294D83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1F762-2957-472F-B2DB-37512718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837A8-825E-4072-9EB1-2D69E7B6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8F187-E3F8-4A8F-82EA-732A919E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674CC-B39E-40CF-B7E6-804CE2C9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67F8-EA92-4788-A1B2-AF453BC9640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F5B7-150B-4723-A1E8-8C189C02F5D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: Short summar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chael Lu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ctober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uild political will for achieving the MD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able people's actions in holding their governments accountable to the Millennium P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ampaig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orking with coalitions and partnerships in 3 are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assroots advoc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dia and public awar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licy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partnershi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orth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arliamentarian Network of WB's Implementation Watch, MDG organizations in USA, UK, Italy, Spain, Ireland, Austra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SO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xfam, Amnesty Int'l, Trade Justice Movement, Social Watch, Civicus, Global Campaign for Education, People's Health Movement, World AIDS Campaign, Save the Children, Global Movement for Children, Plan Internat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Faith-based Group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Caritas, Cidse, Micah Challenge, Vatican Commission Justicia &amp; Pax, World Parliament for Relig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edi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 BBC Trust, All Africa.com, EFE, IPS, On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Even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Barcelona Forum, Rome Marathon, Olympics, Rock in 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Events in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UN Heads of State meeting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G8 meeting with development and MDGs focus, Jun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oha Round: Global Week of Action (Apr 05), Minister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eeting (Dec 0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inancing for achieving the MDGs: Lula/Chirac summit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uth-South and North-South linkages linked to World Social Forum and other initiativ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ngagement with Stop TB Partn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gh-level meetings with STB Global Ambassador Rahman in NYC, Apr 04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ampaign Director Salil Shetty to address IUATLD world conference in Paris, Oct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ahman to participate in India national MDG campaign meeting, Nov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DG Campaign regional partners and in selected countries  to mobilize for WTBD, Mar 0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9:05:18Z</dcterms:created>
  <dc:creator>luhanm</dc:creator>
  <dc:description/>
  <dc:language>en-US</dc:language>
  <cp:lastModifiedBy>luhanm</cp:lastModifiedBy>
  <dcterms:modified xsi:type="dcterms:W3CDTF">2004-10-11T16:14:43Z</dcterms:modified>
  <cp:revision>2</cp:revision>
  <dc:subject/>
  <dc:title>MDGs Campaign: Short summary</dc:title>
</cp:coreProperties>
</file>