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7CED-F83A-4E43-9974-925420E8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A052-7920-4850-BECF-86902602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896-E09A-4EB4-944D-869EA866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574-247D-4D7C-9D58-1F4534F7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A48-0237-47F1-9305-59D32E5B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1BA-9BCF-46BB-AD67-EFC3C58A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840-43AD-45FB-A8A5-AD2C1172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902-FA41-4E95-AC2F-B03A4BD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6B2-2632-4A27-B757-6B9F64E3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D9E4-2550-48CF-8926-013C7B2B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15C-CA9A-4704-A56C-7A63A074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4C7-2C3C-4657-B58B-9D8B3E64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1B3-D558-4362-88B4-38EA0D407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ess in first half of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vey of partners' views on the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outline of Global Plan 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ment of steering committe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dorsed by 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nitiation of work to develop scenarios for reaching MDG for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itiation of work on developing contribution of each Working Group to the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econd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4130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activities in second half of 2004 and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cenarios completed for reaching MDG for TB (epidemiological forecasting and cost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ibutions of each Working Group to the Pla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completed, reviewed widely and endorsed by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ordinating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 finalised and published in time for UN summit on MDGs,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heitkampp</cp:lastModifiedBy>
  <cp:lastPrinted>2003-06-23T18:01:16Z</cp:lastPrinted>
  <dcterms:modified xsi:type="dcterms:W3CDTF">2004-09-20T13:25:51Z</dcterms:modified>
  <cp:revision>86</cp:revision>
  <dc:subject/>
  <dc:title>Africa: HIV is driving the TB epidemic TB notification rates, 1980-1998</dc:title>
</cp:coreProperties>
</file>