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DF60-3F69-412A-BD3A-9765B8E59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B97E-2B88-4052-9741-C37FAFBE6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5763-5149-487A-924B-18033D5B4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1B3A-5442-4F42-AE2B-502BCBCE8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2D5A5-1ADC-4C09-B581-31D78DE37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12A71-E69B-4735-AA69-7FDA58DCA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5050D-D11E-44E9-A8A9-3FFEF6091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CDAC4-D6E6-4B9E-8FA9-30F727670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35C36-C2E8-4C84-91B9-FF3ADF608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4960B-6B10-4113-B90D-9C9BD2257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C0860-EB20-4095-99B6-1211884A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4437-0E54-4E01-84C8-CA42CF793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05CE2-5C86-4DCD-896F-4B75E12E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0F9D5-BA42-485A-986F-38FE549C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E0E0C-C9C9-4046-AD20-26FEF4844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18C91-5D87-4B38-AECC-1C7781682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4FD5F-4FC0-4831-932F-7E6C0D8AA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71E7-B282-4387-9AFD-E4E990494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F503-5120-43A1-A9A1-32732C06E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7892-3BFA-4B30-B57E-46071C6E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E173-0A75-4826-937A-D7F8CB7EC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F6D6-7BBA-46DB-80A7-7A682493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D623-79F3-45C1-B294-595F2D51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A824-E5C9-4D3D-9EB4-814F12BA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85729-3A22-4276-98B7-B6F022013EC6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43FCE-307D-4512-BD30-AE9C6CB9C1F4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4920" y="2060640"/>
            <a:ext cx="8496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宋体"/>
              </a:rPr>
              <a:t>Advocacy and Communications Working Group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宋体"/>
              </a:rPr>
              <a:t>Plenary Discussio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Joanne Carter, Chair A.I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15 October 2004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7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964720" cy="475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Progress since last CB meeting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Basic Framework draft (main objectives, functions, structure, main work stream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Proposed roster of initial members (65</a:t>
            </a:r>
            <a:r>
              <a:rPr b="0" lang="en-GB" sz="2400" spc="-1" strike="noStrike" u="sng">
                <a:solidFill>
                  <a:srgbClr val="720000"/>
                </a:solidFill>
                <a:uFillTx/>
                <a:latin typeface="Tahoma"/>
                <a:ea typeface="宋体"/>
              </a:rPr>
              <a:t>+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Development of new alliances – HIV/AIDS, MDGs Campaig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First formal meeting of ACWG set for Dec 04/Jan 05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Informal pre-meeting at IUATLD conference to discuss agenda and expected outcom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  <a:ea typeface="宋体"/>
              </a:rPr>
              <a:t> 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58560" y="1484280"/>
            <a:ext cx="8785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Proposed structural featur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1. Chair with permanent seat on C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2. Two initial sub-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Global advocacy for resource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Country level advocacy, communication and social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3. Focal points for all 6 technical W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Critical to ensure close coordination in cross-cutting rol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4. Stronger representation for patients  and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Basic Framework to be approved and Chair/vice-chairs elected in first formal meeting of W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608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1413000"/>
            <a:ext cx="8526600" cy="76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Key immediate prior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Resource mob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enerate more robust numbers on funding g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Close collaboration with Resource Mobilization Task Fo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Target key national, multilateral and private sector don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2.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Develop short-and long-term advocacy strategy aroun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2005 targets and MDG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lobal Plan 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World TB 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3.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Rapid scale up of support to countries for AC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TA for GFATM proposals/ISAC – Nov 04 worksh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uidance, tools, training for emerging national partnershi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Mobilization of new advocacy partners at regional and country lev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119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1844640"/>
            <a:ext cx="8381880" cy="39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Request for C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Feedback on formation process, structure, key prior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2.  Technical WG chairs need to assign focal points to ACW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luhanm</cp:lastModifiedBy>
  <dcterms:modified xsi:type="dcterms:W3CDTF">2004-10-19T10:55:09Z</dcterms:modified>
  <cp:revision>21</cp:revision>
  <dc:subject/>
  <dc:title>Financial situation,  Budget &amp; plans 2005</dc:title>
</cp:coreProperties>
</file>