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034-EB7D-4D62-AF63-0C467F04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660-7220-4151-947F-85F22E47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B5E-931A-4058-8248-976B5FE0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1DEA-6112-4D64-875E-5B334B74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6BC-0A9D-44C6-B40B-FE92FBEB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E8B-14EA-4F45-A500-7C207115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3C9-2423-4809-A767-6269A120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1D5-DB76-4999-9039-3947CF11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8B4-BF92-475F-9E4A-DAACE87D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F61-DE5D-4A73-B520-F4B18549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A6A-37DE-4817-9C87-92DBA3C9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71F-CDC9-45FB-9DAA-809C839E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142E-17D7-49F6-8E20-E6D42B19C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0720" y="645336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3101-B654-4BAE-B991-D2710ACE7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17520" y="0"/>
            <a:ext cx="8424360" cy="1124640"/>
            <a:chOff x="317520" y="0"/>
            <a:chExt cx="8424360" cy="1124640"/>
          </a:xfrm>
        </p:grpSpPr>
        <p:graphicFrame>
          <p:nvGraphicFramePr>
            <p:cNvPr id="6" name=""/>
            <p:cNvGraphicFramePr/>
            <p:nvPr/>
          </p:nvGraphicFramePr>
          <p:xfrm>
            <a:off x="3498120" y="169560"/>
            <a:ext cx="2557440" cy="679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98120" y="169560"/>
                      <a:ext cx="25574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" name=""/>
            <p:cNvGraphicFramePr/>
            <p:nvPr/>
          </p:nvGraphicFramePr>
          <p:xfrm>
            <a:off x="5991120" y="169560"/>
            <a:ext cx="2750760" cy="679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991120" y="169560"/>
                      <a:ext cx="27507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" name=""/>
            <p:cNvGraphicFramePr/>
            <p:nvPr/>
          </p:nvGraphicFramePr>
          <p:xfrm>
            <a:off x="3498120" y="848880"/>
            <a:ext cx="5243400" cy="25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498120" y="848880"/>
                      <a:ext cx="5243400" cy="25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" name=""/>
            <p:cNvGraphicFramePr/>
            <p:nvPr/>
          </p:nvGraphicFramePr>
          <p:xfrm>
            <a:off x="317520" y="0"/>
            <a:ext cx="1912680" cy="806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17520" y="0"/>
                      <a:ext cx="1912680" cy="80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" name=""/>
            <p:cNvGraphicFramePr/>
            <p:nvPr/>
          </p:nvGraphicFramePr>
          <p:xfrm>
            <a:off x="317520" y="848880"/>
            <a:ext cx="1912680" cy="275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17520" y="848880"/>
                      <a:ext cx="191268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" name=""/>
            <p:cNvGraphicFramePr/>
            <p:nvPr/>
          </p:nvGraphicFramePr>
          <p:xfrm>
            <a:off x="2208600" y="848880"/>
            <a:ext cx="1289160" cy="275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7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208600" y="848880"/>
                      <a:ext cx="1289160" cy="27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" name=""/>
            <p:cNvGraphicFramePr/>
            <p:nvPr/>
          </p:nvGraphicFramePr>
          <p:xfrm>
            <a:off x="2208600" y="169560"/>
            <a:ext cx="1289160" cy="6793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2208600" y="169560"/>
                      <a:ext cx="12891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ving Technology for Rapid Diagnosis of TB in HIV and MDR TB pati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32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r. Giorgio Roscig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and New DX W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V-Associated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229600" cy="39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V infection is the greatest risk factor for the development of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ssociation with HIV, rates of TB have increased as much as 5-fold in countries in sub-Sahara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jority of HIV-associated TB cases are AFB sputum smear-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80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240480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roved diagnosis of smear-negative TB in HIV+ patients has been designated as a research priority for last 15 yea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number of diagnostic algorithms have been evaluated but none has proved to be adequa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HIV-Associated TB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novel technologies are available for implem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lture diagnosis, the standard of care in developed countries, is generally not available in areas impacted by TB/HIV and even when it is :  is slow ( 3 to 6 week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DR TB has been identified as a significant problem in a number of count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standardized approach (DOTS-Plus) and a mechanism to provide for low cost drugs and comprehensive package of care (Green Light Committee) has been successfully developed to provide for MDR TB treatment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ground/Scope of the Proble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DR TB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528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imitation together with appropriate surveillance to the expansion of DOTS-Plus programs is the lack of capacity for drug susceptibility testing (DS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T and standardized or individualized drug treatment regimens are needed to reduce mortality rates for those with MDR TB or MDR sup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any programs where DST is available the methodology is slow and cumbersome so that results do not inform treatment deci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, standardized liquid TB culture and DST systems are standard practice in EM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manufactured by Becton Dickinson is a leader 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utomated and manual MGIT system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GIT system could provide results in smear negative in 10 to 15 days as opposed to 3 to 6 weeks with L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systems should be demonstrated in operational research settings in National Tuberculosis Control Programs in High HIV and MDRTB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livering relevant DST results for MDR-TB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C, CDC, IUATLD, STB, WHO &amp; TDR, DOTS-plus WG,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04 Delhi partnership with DOTS-plus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-04 Moscow mtg on DST (strategic plan outli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Geneva mtg (consensus agre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04 Paris mtg (site selection/logistics/launch demonstration projec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olving the smear-negative crisis in HIV 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tics WG, DOTS-expansion, CREATE, TB/HIV WG, CDC, IUATLD, STB, WHO &amp; TDR,  NT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plan from FIND for improved case detection in HIV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04 FIND demonstration network estab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4 STB Coordinating Board consid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-30 Corporate partner agreement announc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9280" y="1267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FIND and Diagnostics W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216160"/>
            <a:ext cx="842472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ement for cooperation with Becton-Dickin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sion of technical support and training  for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ment for test kits , manual and automated machines  in the public sector (tender market) at affordable prices ( discount over 90 %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partners and implement TB demonstration projec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 HIV programs in the stud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conditions for equitable and careful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umulate and manage data to provide for eventual policy chan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.e., WHO recommendations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chnical Issues to be addres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 onl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vs. 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tic equipment package to support MGI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new tube 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160" y="189000"/>
            <a:ext cx="858168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Recent Advances in TB Diagnostic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4056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C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e hybridization specie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fication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8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uprobe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FLP finger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TD transcription-mediated ampl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R Ampli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MTD approved by F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lain" startAt="2001"/>
              <a:tabLst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ntiferon FDA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    Ellispot approved in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0"/>
            <a:ext cx="8353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ESS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 NTP in demonstrat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 data at different level of the public health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ence for manual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technology in HIV clin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on of a GLC like Committee to carefully select sites for demonstration projects and for future introduction in NT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27280" y="3429000"/>
            <a:ext cx="342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Times New Roman"/>
                <a:ea typeface="Arial"/>
              </a:rPr>
              <a:t>Lack of progress in diagnostics in the developing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93640" y="55738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1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43640" y="2637000"/>
            <a:ext cx="1619280" cy="2895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32680" y="557388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undamental diagnostic: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970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scovery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268280"/>
            <a:ext cx="193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844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argets &amp; 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184464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mpanies &amp;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3640" y="11970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17733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ion &amp;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1773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&amp;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119700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rket up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90720" y="861840"/>
            <a:ext cx="3049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816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96240" y="861840"/>
            <a:ext cx="30456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84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91120" y="109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1916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9400" y="10904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1880" y="6103800"/>
            <a:ext cx="762120" cy="75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705720" y="62485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HO/TDR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2133720"/>
            <a:ext cx="8116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120-year ol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nority of patients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ng delays = morbidity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uch over and undertreatment in HIV prevalent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istance clinically diagn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49"/>
              </a:spcBef>
              <a:buClr>
                <a:srgbClr val="cc0099"/>
              </a:buClr>
              <a:buSzPct val="45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atent infection tools clumsy and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125360"/>
            <a:ext cx="8569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Current TB diagnostic situation in t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ff"/>
                </a:solidFill>
                <a:latin typeface="Arial"/>
                <a:ea typeface="Arial"/>
              </a:rPr>
              <a:t>public health sector in HB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250920" y="1341360"/>
            <a:ext cx="8641800" cy="5256000"/>
            <a:chOff x="250920" y="1341360"/>
            <a:chExt cx="8641800" cy="5256000"/>
          </a:xfrm>
        </p:grpSpPr>
        <p:sp>
          <p:nvSpPr>
            <p:cNvPr id="88" name=""/>
            <p:cNvSpPr/>
            <p:nvPr/>
          </p:nvSpPr>
          <p:spPr>
            <a:xfrm>
              <a:off x="654120" y="1341360"/>
              <a:ext cx="816336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58000" y="1379160"/>
              <a:ext cx="629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UBERCULOSIS DIAGNOSTICS CURRENTLY USED I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2320" y="1659960"/>
              <a:ext cx="5365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COUNTRIES ARE NOT OPTIMAL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0920" y="2856600"/>
              <a:ext cx="1550880" cy="6048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5040" y="30841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utum sme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0920" y="363960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2280" y="386892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0920" y="4434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8360" y="466344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st 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8400" y="4663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3400" y="466344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0920" y="5217480"/>
              <a:ext cx="1550880" cy="60624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080" y="544644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P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27520" y="2279880"/>
              <a:ext cx="1728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44480" y="2441520"/>
              <a:ext cx="63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ensitiv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9400" y="2850480"/>
              <a:ext cx="1730160" cy="60624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61840" y="29008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0240" y="2900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5640" y="2900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7600" y="3035160"/>
              <a:ext cx="10263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ing world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ø AIDS: ~ 60%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+ AIDS: ~ 40 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6520" y="3304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9400" y="363492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1840" y="36856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20240" y="368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15640" y="36856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27600" y="3953880"/>
              <a:ext cx="1040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ew studies done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9400" y="4429440"/>
              <a:ext cx="173016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1840" y="4480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20240" y="4480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5640" y="4480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4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39400" y="5212800"/>
              <a:ext cx="173016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61840" y="526320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0240" y="52632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15640" y="526320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99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818160" y="2279880"/>
              <a:ext cx="1742760" cy="3537000"/>
              <a:chOff x="3818160" y="2279880"/>
              <a:chExt cx="1742760" cy="3537000"/>
            </a:xfrm>
          </p:grpSpPr>
          <p:sp>
            <p:nvSpPr>
              <p:cNvPr id="123" name=""/>
              <p:cNvSpPr/>
              <p:nvPr/>
            </p:nvSpPr>
            <p:spPr>
              <a:xfrm>
                <a:off x="3818160" y="2279880"/>
                <a:ext cx="1729800" cy="471960"/>
              </a:xfrm>
              <a:prstGeom prst="rect">
                <a:avLst/>
              </a:prstGeom>
              <a:solidFill>
                <a:srgbClr val="00582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335840" y="2441160"/>
                <a:ext cx="63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cc"/>
                    </a:solidFill>
                    <a:latin typeface="Arial"/>
                    <a:ea typeface="Arial"/>
                  </a:rPr>
                  <a:t>Specific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831120" y="2850120"/>
                <a:ext cx="1729800" cy="60624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45360" y="2900520"/>
                <a:ext cx="298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95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17880" y="3170520"/>
                <a:ext cx="144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much lower in developed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18960" y="3304440"/>
                <a:ext cx="900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orld, e.g., 50%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1120" y="3634560"/>
                <a:ext cx="1729800" cy="60480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51760" y="36853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4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12320" y="3685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07360" y="368532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9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17880" y="3953520"/>
                <a:ext cx="143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Depend on prevalence of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20400" y="40878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32800" y="4087800"/>
                <a:ext cx="3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68800" y="4087800"/>
                <a:ext cx="956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B Mycobacter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31120" y="4429080"/>
                <a:ext cx="1729800" cy="60480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760" y="4479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6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12320" y="44798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07360" y="4479840"/>
                <a:ext cx="230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7%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16800" y="4748040"/>
                <a:ext cx="1520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based on studies in Kenya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919680" y="4881960"/>
                <a:ext cx="605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amp; Ethiopi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1120" y="5212440"/>
                <a:ext cx="1729800" cy="60444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73400" y="5262840"/>
                <a:ext cx="12002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ry low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alse pos. results wi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  prior exposure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-  vaccin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8461080" y="256104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8440" y="6350760"/>
              <a:ext cx="7224840" cy="2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160" y="6414480"/>
              <a:ext cx="39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0160" y="6414480"/>
              <a:ext cx="3147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sitivity/Specificity: Many references for smear; fewer for o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46840" y="6414480"/>
              <a:ext cx="331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r techniques. Mostly estimates; Costs: TDR (unpublished da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30040" y="2281320"/>
              <a:ext cx="173016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91000" y="24433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Spe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3720" y="2851920"/>
              <a:ext cx="1729800" cy="6062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96800" y="3046680"/>
              <a:ext cx="1265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1 h / t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- 3 days for 3 samp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3720" y="3636720"/>
              <a:ext cx="1729800" cy="604440"/>
            </a:xfrm>
            <a:prstGeom prst="rect">
              <a:avLst/>
            </a:prstGeom>
            <a:solidFill>
              <a:srgbClr val="ff9933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60400" y="386208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– 6 weeks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LJ medi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43720" y="4431240"/>
              <a:ext cx="1729800" cy="604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20880" y="4686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– 3 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43720" y="5214240"/>
              <a:ext cx="1729800" cy="6048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20880" y="5428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day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537680" y="2856600"/>
              <a:ext cx="1326240" cy="605880"/>
              <a:chOff x="7537680" y="2856600"/>
              <a:chExt cx="1326240" cy="605880"/>
            </a:xfrm>
          </p:grpSpPr>
          <p:sp>
            <p:nvSpPr>
              <p:cNvPr id="161" name=""/>
              <p:cNvSpPr/>
              <p:nvPr/>
            </p:nvSpPr>
            <p:spPr>
              <a:xfrm>
                <a:off x="753768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3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4360" y="2856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.6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77600" y="2856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9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7537680" y="5207760"/>
              <a:ext cx="1326240" cy="605880"/>
              <a:chOff x="7537680" y="5207760"/>
              <a:chExt cx="1326240" cy="605880"/>
            </a:xfrm>
          </p:grpSpPr>
          <p:sp>
            <p:nvSpPr>
              <p:cNvPr id="165" name=""/>
              <p:cNvSpPr/>
              <p:nvPr/>
            </p:nvSpPr>
            <p:spPr>
              <a:xfrm>
                <a:off x="753768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424360" y="520776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2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77600" y="5207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7537680" y="3639600"/>
              <a:ext cx="1326240" cy="605880"/>
              <a:chOff x="7537680" y="3639600"/>
              <a:chExt cx="1326240" cy="605880"/>
            </a:xfrm>
          </p:grpSpPr>
          <p:sp>
            <p:nvSpPr>
              <p:cNvPr id="169" name=""/>
              <p:cNvSpPr/>
              <p:nvPr/>
            </p:nvSpPr>
            <p:spPr>
              <a:xfrm>
                <a:off x="753768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3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424360" y="3639600"/>
                <a:ext cx="43956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.79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77600" y="363960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5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537680" y="4442760"/>
              <a:ext cx="1326240" cy="605880"/>
              <a:chOff x="7537680" y="4442760"/>
              <a:chExt cx="1326240" cy="605880"/>
            </a:xfrm>
          </p:grpSpPr>
          <p:sp>
            <p:nvSpPr>
              <p:cNvPr id="173" name=""/>
              <p:cNvSpPr/>
              <p:nvPr/>
            </p:nvSpPr>
            <p:spPr>
              <a:xfrm>
                <a:off x="753768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.3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424360" y="4442760"/>
                <a:ext cx="439560" cy="605880"/>
              </a:xfrm>
              <a:prstGeom prst="rect">
                <a:avLst/>
              </a:prstGeom>
              <a:solidFill>
                <a:srgbClr val="ff9933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.2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77600" y="4442760"/>
                <a:ext cx="439920" cy="605880"/>
              </a:xfrm>
              <a:prstGeom prst="rect">
                <a:avLst/>
              </a:prstGeom>
              <a:solidFill>
                <a:srgbClr val="ffffcc"/>
              </a:solidFill>
              <a:ln w="11160">
                <a:solidFill>
                  <a:srgbClr val="cbd47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.7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542720" y="2281320"/>
              <a:ext cx="1350000" cy="4723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ost (US $, 2003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low    medium   hig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0520" y="1311120"/>
            <a:ext cx="856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ll drive diagnostics development from concept to delivery in the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838680"/>
            <a:ext cx="243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pharmaceut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biotech companies,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itutions, acade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65560" y="4048200"/>
            <a:ext cx="261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reate network of public and private partners to create effective tests and demonstrate their 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383868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e with funders, multi-lateral agencies, NGOs,health ministri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agencies like GDF and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6800" y="2219400"/>
            <a:ext cx="349560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21520" y="2797200"/>
            <a:ext cx="2313000" cy="927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Market access                          and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0200" y="2797200"/>
            <a:ext cx="2314440" cy="934920"/>
          </a:xfrm>
          <a:custGeom>
            <a:avLst/>
            <a:gdLst>
              <a:gd name="textAreaLeft" fmla="*/ 0 w 2314440"/>
              <a:gd name="textAreaRight" fmla="*/ 2314440 w 23144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00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Discover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</a:rPr>
              <a:t>and 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11320" y="2479680"/>
            <a:ext cx="3349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65560" y="2254320"/>
            <a:ext cx="1025640" cy="52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’s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478240"/>
            <a:ext cx="203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69880" y="2254320"/>
            <a:ext cx="64476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92880" y="2479680"/>
            <a:ext cx="1995480" cy="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86440" y="2254320"/>
            <a:ext cx="928800" cy="52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00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97440" y="279720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51600" y="2795760"/>
            <a:ext cx="1257120" cy="93492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4132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9800" rIns="273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cilitat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fun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-devel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66960" y="5261040"/>
            <a:ext cx="2108520" cy="1301760"/>
          </a:xfrm>
          <a:custGeom>
            <a:avLst/>
            <a:gdLst>
              <a:gd name="textAreaLeft" fmla="*/ 0 w 2108520"/>
              <a:gd name="textAreaRight" fmla="*/ 2108880 w 2108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e5af1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gulatory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b &amp; 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1160" y="5259240"/>
            <a:ext cx="2108160" cy="1301760"/>
          </a:xfrm>
          <a:custGeom>
            <a:avLst/>
            <a:gdLst>
              <a:gd name="textAreaLeft" fmla="*/ 0 w 2108160"/>
              <a:gd name="textAreaRight" fmla="*/ 2108520 w 21081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2" y="0"/>
                </a:lnTo>
                <a:lnTo>
                  <a:pt x="21600" y="10800"/>
                </a:lnTo>
                <a:lnTo>
                  <a:pt x="19872" y="21600"/>
                </a:lnTo>
                <a:lnTo>
                  <a:pt x="0" y="21600"/>
                </a:lnTo>
                <a:lnTo>
                  <a:pt x="1728" y="10800"/>
                </a:lnTo>
                <a:close/>
              </a:path>
            </a:pathLst>
          </a:custGeom>
          <a:solidFill>
            <a:srgbClr val="f0d89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6160" rIns="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rge-s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pact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isease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740960" y="4734000"/>
            <a:ext cx="100188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4734000"/>
            <a:ext cx="1222560" cy="525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of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3864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24320" y="5640480"/>
            <a:ext cx="1016280" cy="457200"/>
          </a:xfrm>
          <a:prstGeom prst="rightArrow">
            <a:avLst>
              <a:gd name="adj1" fmla="val 73611"/>
              <a:gd name="adj2" fmla="val 68136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ic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12160" y="5640480"/>
            <a:ext cx="1015920" cy="457200"/>
          </a:xfrm>
          <a:prstGeom prst="rightArrow">
            <a:avLst>
              <a:gd name="adj1" fmla="val 73611"/>
              <a:gd name="adj2" fmla="val 68112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410160"/>
            <a:ext cx="12193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6576840"/>
            <a:ext cx="1447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5689440"/>
            <a:ext cx="792000" cy="337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68360" y="73080"/>
            <a:ext cx="820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64960" y="1477800"/>
          <a:ext cx="8739360" cy="4651560"/>
        </p:xfrm>
        <a:graphic>
          <a:graphicData uri="http://schemas.openxmlformats.org/drawingml/2006/table">
            <a:tbl>
              <a:tblPr/>
              <a:tblGrid>
                <a:gridCol w="1138320"/>
                <a:gridCol w="2524320"/>
                <a:gridCol w="2244600"/>
                <a:gridCol w="1995480"/>
                <a:gridCol w="836640"/>
              </a:tblGrid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urp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Medical n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Epidemi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Health benef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Prior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00"/>
                    </a:solidFill>
                  </a:tcPr>
                </a:tc>
              </a:tr>
              <a:tr h="545400">
                <a:tc rowSpan="3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det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high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missed by sme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 Mio new cases of TB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Mio additional patients in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4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pulmonary TB with low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bacterial load (paucibacillary dis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extra-pulmonary and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pediatric T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2 Mio HIV/TB coinfections, frequently extra-pulmon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1 Mio new cases of pediatric TB annu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HIV patients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0.5 Mio more children in treatment / ye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 susceptibility testing (MD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 300.000 new MDR TB cases annuall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outc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MDR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8760">
                <a:tc rowSpan="2">
                  <a:txBody>
                    <a:bodyPr lIns="54000" rIns="54000" tIns="90000" b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 TB inf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surveill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2 billion LTBI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90000" b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 disse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 LTBI for treat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grpSp>
        <p:nvGrpSpPr>
          <p:cNvPr id="207" name=""/>
          <p:cNvGrpSpPr/>
          <p:nvPr/>
        </p:nvGrpSpPr>
        <p:grpSpPr>
          <a:xfrm>
            <a:off x="4943520" y="6237360"/>
            <a:ext cx="979560" cy="368280"/>
            <a:chOff x="4943520" y="6237360"/>
            <a:chExt cx="979560" cy="368280"/>
          </a:xfrm>
        </p:grpSpPr>
        <p:sp>
          <p:nvSpPr>
            <p:cNvPr id="208" name=""/>
            <p:cNvSpPr/>
            <p:nvPr/>
          </p:nvSpPr>
          <p:spPr>
            <a:xfrm>
              <a:off x="4943520" y="6314760"/>
              <a:ext cx="288720" cy="2282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6560" y="6237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278400" y="6237360"/>
            <a:ext cx="1132920" cy="368280"/>
            <a:chOff x="6278400" y="6237360"/>
            <a:chExt cx="1132920" cy="368280"/>
          </a:xfrm>
        </p:grpSpPr>
        <p:sp>
          <p:nvSpPr>
            <p:cNvPr id="211" name=""/>
            <p:cNvSpPr/>
            <p:nvPr/>
          </p:nvSpPr>
          <p:spPr>
            <a:xfrm>
              <a:off x="6278400" y="6314760"/>
              <a:ext cx="28872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570720" y="623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713720" y="6237360"/>
            <a:ext cx="1157760" cy="368280"/>
            <a:chOff x="7713720" y="6237360"/>
            <a:chExt cx="1157760" cy="368280"/>
          </a:xfrm>
        </p:grpSpPr>
        <p:sp>
          <p:nvSpPr>
            <p:cNvPr id="214" name=""/>
            <p:cNvSpPr/>
            <p:nvPr/>
          </p:nvSpPr>
          <p:spPr>
            <a:xfrm>
              <a:off x="7713720" y="6314760"/>
              <a:ext cx="288720" cy="228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06400" y="62373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120400" y="380880"/>
            <a:ext cx="5684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  <a:ea typeface="Arial"/>
              </a:rPr>
              <a:t>FIND priorities &amp; impa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395280" y="2336760"/>
            <a:ext cx="6769080" cy="3171960"/>
            <a:chOff x="395280" y="2336760"/>
            <a:chExt cx="6769080" cy="3171960"/>
          </a:xfrm>
        </p:grpSpPr>
        <p:sp>
          <p:nvSpPr>
            <p:cNvPr id="218" name=""/>
            <p:cNvSpPr/>
            <p:nvPr/>
          </p:nvSpPr>
          <p:spPr>
            <a:xfrm>
              <a:off x="395280" y="3387600"/>
              <a:ext cx="147168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ntral la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5280" y="4147920"/>
              <a:ext cx="1471680" cy="588960"/>
            </a:xfrm>
            <a:prstGeom prst="rect">
              <a:avLst/>
            </a:prstGeom>
            <a:solidFill>
              <a:srgbClr val="ffff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5280" y="4919760"/>
              <a:ext cx="1471680" cy="588960"/>
            </a:xfrm>
            <a:prstGeom prst="rect">
              <a:avLst/>
            </a:prstGeom>
            <a:solidFill>
              <a:srgbClr val="ff99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89080" y="234792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1. Det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Who shall be treated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patient respo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92320" y="3381480"/>
              <a:ext cx="164160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92320" y="4143240"/>
              <a:ext cx="164160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l detection g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92320" y="4914720"/>
              <a:ext cx="1641600" cy="5875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– No answ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cal monitor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92600" y="338148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92600" y="4143240"/>
              <a:ext cx="1641240" cy="5875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lve unclear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c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istance tes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92600" y="4914720"/>
              <a:ext cx="1641240" cy="587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11960" y="3382920"/>
              <a:ext cx="1641240" cy="5889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C procedures and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olic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rain typ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1960" y="414504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11960" y="4916520"/>
              <a:ext cx="1641240" cy="58716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5840" y="2346120"/>
              <a:ext cx="1639800" cy="93852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2. Re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Change treatment for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  failur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Is the strain resista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24560" y="2336760"/>
              <a:ext cx="1639800" cy="93816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Arial"/>
                  <a:ea typeface="Arial"/>
                </a:rPr>
                <a:t>3. Surveill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programs effectiv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ffff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 </a:t>
              </a:r>
              <a:r>
                <a:rPr b="0" i="1" lang="en-US" sz="1000" spc="-1" strike="noStrike">
                  <a:solidFill>
                    <a:srgbClr val="ffffcc"/>
                  </a:solidFill>
                  <a:latin typeface="Arial"/>
                  <a:ea typeface="Arial"/>
                </a:rPr>
                <a:t>Are there new strains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4640" y="2347920"/>
              <a:ext cx="1471680" cy="93672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gnos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s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stem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040" y="2344680"/>
              <a:ext cx="143208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rot="16200000">
              <a:off x="3179880" y="4700520"/>
              <a:ext cx="552240" cy="216000"/>
            </a:xfrm>
            <a:custGeom>
              <a:avLst/>
              <a:gdLst>
                <a:gd name="textAreaLeft" fmla="*/ 86040 w 552240"/>
                <a:gd name="textAreaRight" fmla="*/ 483480 w 55224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029360" y="4881600"/>
            <a:ext cx="2003400" cy="923760"/>
            <a:chOff x="7029360" y="4881600"/>
            <a:chExt cx="2003400" cy="923760"/>
          </a:xfrm>
        </p:grpSpPr>
        <p:sp>
          <p:nvSpPr>
            <p:cNvPr id="237" name=""/>
            <p:cNvSpPr/>
            <p:nvPr/>
          </p:nvSpPr>
          <p:spPr>
            <a:xfrm>
              <a:off x="7701120" y="4881600"/>
              <a:ext cx="1331640" cy="923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 POC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dev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nimal skill  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require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29360" y="497376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016760" y="3876120"/>
            <a:ext cx="2011320" cy="918720"/>
            <a:chOff x="7016760" y="3876120"/>
            <a:chExt cx="2011320" cy="918720"/>
          </a:xfrm>
        </p:grpSpPr>
        <p:sp>
          <p:nvSpPr>
            <p:cNvPr id="240" name=""/>
            <p:cNvSpPr/>
            <p:nvPr/>
          </p:nvSpPr>
          <p:spPr>
            <a:xfrm>
              <a:off x="7016760" y="4238640"/>
              <a:ext cx="581040" cy="485640"/>
            </a:xfrm>
            <a:prstGeom prst="rightArrow">
              <a:avLst>
                <a:gd name="adj1" fmla="val 62093"/>
                <a:gd name="adj2" fmla="val 4903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95720" y="3876120"/>
              <a:ext cx="1332360" cy="91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sy &amp; robust lab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procedur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rt for multipl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health proble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iversal platform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203640" y="5661000"/>
            <a:ext cx="1728720" cy="863640"/>
          </a:xfrm>
          <a:prstGeom prst="wedgeEllipseCallout">
            <a:avLst>
              <a:gd name="adj1" fmla="val -22634"/>
              <a:gd name="adj2" fmla="val -114888"/>
            </a:avLst>
          </a:prstGeom>
          <a:solidFill>
            <a:srgbClr val="ff99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han sme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48360" y="5051520"/>
            <a:ext cx="1728720" cy="896760"/>
          </a:xfrm>
          <a:prstGeom prst="wedgeEllipseCallout">
            <a:avLst>
              <a:gd name="adj1" fmla="val -46416"/>
              <a:gd name="adj2" fmla="val -9637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ster than cultur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G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AGNOSTIC QUESTIO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HEALTH SYSTEM LEV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763640" y="1268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DR PORTFOLIO STRATEG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11280" y="2133720"/>
            <a:ext cx="7703640" cy="4392000"/>
            <a:chOff x="611280" y="2133720"/>
            <a:chExt cx="7703640" cy="4392000"/>
          </a:xfrm>
        </p:grpSpPr>
        <p:sp>
          <p:nvSpPr>
            <p:cNvPr id="247" name=""/>
            <p:cNvSpPr/>
            <p:nvPr/>
          </p:nvSpPr>
          <p:spPr>
            <a:xfrm>
              <a:off x="616680" y="3028320"/>
              <a:ext cx="184824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080" y="2133720"/>
              <a:ext cx="18464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target seg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8520" y="2133720"/>
              <a:ext cx="292464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key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58040" y="2133720"/>
              <a:ext cx="2756880" cy="813600"/>
            </a:xfrm>
            <a:prstGeom prst="rect">
              <a:avLst/>
            </a:prstGeom>
            <a:solidFill>
              <a:srgbClr val="00582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  <a:ea typeface="Arial"/>
                </a:rPr>
                <a:t>projects &amp; solu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58520" y="3028320"/>
              <a:ext cx="292464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ster than cul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TB species specif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f resist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ndardized platfor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76040" y="30283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ge assay (“Fast-Plaque”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lly integrated PCR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thermal NAT syste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1280" y="4817520"/>
              <a:ext cx="1848600" cy="1708200"/>
            </a:xfrm>
            <a:prstGeom prst="rect">
              <a:avLst/>
            </a:prstGeom>
            <a:solidFill>
              <a:srgbClr val="cbd478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lth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lin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52760" y="4817520"/>
              <a:ext cx="292500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sensitive than sm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yocbacterium genus specif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-day resul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or minimal instru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70640" y="4817520"/>
              <a:ext cx="2738880" cy="170820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cbd4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kin patc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th t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pstick (lateral flow) assay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sputum or urine (antigen)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- blood (antibod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9:21:58Z</dcterms:created>
  <dc:creator>Laurence Perret</dc:creator>
  <dc:description/>
  <dc:language>en-US</dc:language>
  <cp:lastModifiedBy>steenbergeng</cp:lastModifiedBy>
  <dcterms:modified xsi:type="dcterms:W3CDTF">2004-10-15T05:46:45Z</dcterms:modified>
  <cp:revision>81</cp:revision>
  <dc:subject/>
  <dc:title>Slide 1</dc:title>
</cp:coreProperties>
</file>