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40A8-032F-4D7E-B148-755A8B6AE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79B1-5348-43C9-9BD4-3BAAF46C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CDE7-9133-4721-8632-2F43B5B2C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A67A-236E-45BC-BA23-B91F24205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01BE-98A4-4042-A530-36A3BF21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18AA-ECED-4E74-97D7-DA51F45D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D1C6-838E-42D3-AA33-492E0488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E3A4-83E8-43C4-90D9-F228099B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500E-780A-454E-854B-CE259DE3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5D48-276B-4773-9783-06DE2F94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72D2-5379-4BDE-A30F-25808343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0C02-54F2-4148-A30B-9431EAC3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C576-C092-4B98-9DA9-6CE9A48F5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aherd@who.ch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, 15-15 October 2004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Millennium Development Goals Project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quest to Coordinating Board to endors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2920" y="126828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recommendations of the working group on TB (Working Group report, p9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inclusion of "TB" in MDG 6, thus "combat HIV/AIDS, TB, malaria and other diseases" (overall MDGs report, p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raft General Assembly resolution point 37 "to request a revision of the targets and indicators for monitoring the MDGs to make them consistent with the technical recommendations of the UN Millennium Project Task Forces and other experts, by mid-2006" (overall MDGs report, p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evelopment of advocacy strategy by WG on A &amp; C (in collaboration with MDGs Campaign) to push main TB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) launch of MDGs report in Januar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) UN special summit on MDGs in Sept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ordination with second Global Plan to Stop TB (2006-2015) (WHA May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overall report 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"Global Plan to achieve the MDGs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920" y="2554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comments@unmillenniumproject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illennium Development Goa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125360"/>
            <a:ext cx="858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dopted at the UN Millennium Summit, September 20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radicate extreme poverty and hu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chieve universal primary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mote gender equality and empower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Reduce child mort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mprove matern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bat HIV/AIDS, malaria and other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environment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 global partnership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UN summit Sept 2005 will review progress towards MDG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DGs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2920" y="1125360"/>
            <a:ext cx="88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ey featu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aunched by UN Sec-Gen to recommend the best strategies for achieving the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ject runs from 2002 –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directed by J Sachs (Special Adviser to the UN Sec-Gen on the 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overall report "Global Plan to achieve the MDGs" for launch in Jan 2005 (unmillenniumproject.org) and endorsement at special UN summit in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 task forces, including 2 on heal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) Task force 4: child and maternal health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i) Task force 5: HIV, malaria, TB, other major diseases and access to essential medi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embers of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620640"/>
            <a:ext cx="838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 w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king group chair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Evans (Global Programme on Evidence for Policy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Floyd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Harries (Malaw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Maher 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Perelman (TB Institute, Mosc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Schwalbe (Open Society Institute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Weil (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cretariat: J Paluzzi (Partners in Health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riter: K C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628640"/>
            <a:ext cx="85881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 of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s strategies to reach 2015 global TB control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flects overall MDGs theme of poverty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recommendations of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s ongoing work to develop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Global Plan to Stop TB (2006-20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28640"/>
            <a:ext cx="85881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inalisation of report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February 2004 – interim report posted on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8 October 2004 – deadline for comments from revie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 November 2004 – submission of final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nuary 2005 – launch of task force reports with overall MDGs project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report of the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" y="170028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Introduction to the MD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Global TB epidemic and status of TB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overty, gender, children and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oving forward to achieve the 2015 TB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Fin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eeting the TB target in MDG projec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nnexes: including country case studies (Cambodia, Dominican Republic, Ethiopia, Keny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8224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commendations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920" y="1700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romote access for all to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ddress the TB/HIV emergency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Engage all primary care providers in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artner with communities to stop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ccelerate the development of critically needed new tools and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upport the Global Plan to Stop TB 2006-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the TB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2920" y="255420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mments p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to Dermot Maher (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herd@who.c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 to compile and send to Task Force secretariat by Friday 22 Octo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30:08Z</dcterms:modified>
  <cp:revision>92</cp:revision>
  <dc:subject/>
  <dc:title>Africa: HIV is driving the TB epidemic TB notification rates, 1980-1998</dc:title>
</cp:coreProperties>
</file>