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A6F9-29BC-4119-95A5-67D3C42E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50E-7328-462E-BB9F-EC4BC155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0CD9-9736-4EBC-A298-AAA661B1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4A59-8F5F-4A97-9719-34974BE2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D643-609C-42AE-83AB-7BA3F49F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021-ACDF-498D-95B2-E3CCB9FE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FA6-BCB4-4988-813E-1D55B077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F99-B8F3-404F-94F4-65C1DAAE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356-8FA3-4EB7-BDA2-DE2E8235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0EC-26D8-430D-B412-379808B9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BCD-2C65-42FC-A571-928A8392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C34-82F3-44D0-89CF-C7EC90FF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2565-1C07-4B3E-BA27-B891F5618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uccess of the Global Plan depends on the contribution of the Working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orking Group needs to indicate how it will make its contribution to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secretariat in each case  should facilitate each Working Group's contrib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veloping the road map to reach the 2015 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truction of possible scenarios for how the regions individually and the world overall can reach the targets, i.e. development of epidemiological and costing proje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ach WG to use the projections as the basis for developing their own long-term workplan in contribution to achieving the targe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ilestones and timelines for expected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hen to launch the Global Pl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125360"/>
            <a:ext cx="870588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m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nerate media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 how the Global Plan responds to calls to achieve the 2015 TB control targets (World Health Assembly resolution May 2005, UNGASS on MDGs 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unch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ween WHA (May 2005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UNGASS (Sept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ld TB Day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op TB Partners' Forum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provide a pre-publication version at UNGASS and launch the document  in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Who can champion the Global Pl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8120" y="1125360"/>
            <a:ext cx="8705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osed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 Stop TB?</a:t>
            </a:r>
            <a:br>
              <a:rPr sz="3600"/>
            </a:br>
            <a:br>
              <a:rPr sz="48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 TB control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1970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05 (World Health Assemb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tect 70% of smear-positiv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reat successfully 85% of all such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015 (Millennium Development Go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crease TB prevalence and deaths by ha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ement of the impact targets (prevalence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deaths) depends on sustained achievement of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process targets (case detection and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suc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Global Plan to Stop T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41300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global plan: 2000-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d mechanisms, activities and resources needed to accelerate progress towards 200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s of action of 6 Stop TB working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TS-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B/H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c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05264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ads to 2015 Millennium Development Goals (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onds to country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 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698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cess for developing the Second Global Plan to Stop TB: 2006-20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768320"/>
            <a:ext cx="8381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ed by Stop TB Partnership secretari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uided by steering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ed by feedback from first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the 7 Stop TB Partnership Working Groups (DOTS Expansion, DOTS-Plus, TB/HIV, drugs, diagnostics, vaccines, and advocacy &amp; communic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riven by 2015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mbers of steering committ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20" y="112536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Adeyi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Ahmed (Bangladesh Rural Advancement Committ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Freire (Alliance for TB drug develop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Omaswa (Ministry of Health, Ugan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Shah (National TB Programme, Pakist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s of Working Groups (WGs) to development of plan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8120" y="179244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ccessful development of plan depends on contribution of all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5:51Z</dcterms:modified>
  <cp:revision>91</cp:revision>
  <dc:subject/>
  <dc:title>Africa: HIV is driving the TB epidemic TB notification rates, 1980-1998</dc:title>
</cp:coreProperties>
</file>