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6C14-03D8-4C79-8FA4-59D2F61C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886-171F-4A21-9C68-30439A61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9DA5-F91E-4FC5-964D-74DD2F0E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004-6256-4A9A-8724-2D50BE844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F29C-A6C8-4F37-A432-649037C1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E72-9EAB-4F4E-A7F9-3C063116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6062-6343-46B5-914C-A2592EA0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3746-D408-4C61-B28D-99957630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B923-781D-474D-A60B-2E5D525F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70DF-4A75-42E8-8475-D80DF2E3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C45D-787E-4498-8321-87B86C1E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CCA4-E9AA-4A8C-A278-E1AC9460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92E3-68AB-4807-8EBE-E463898F9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hen to launch the Global Pl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120" y="1125360"/>
            <a:ext cx="87058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nerate media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ow how the Global Plan responds to calls to achieve the 2015 TB control targets (World Health Assembly resolution May 2005, UNGASS on MDGs 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tween WHA (May 2005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UNGASS (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ld TB Day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op TB Partners' Forum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provide a pre-publication version at UNGASS and launch the document  in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Who can champion the Global Pl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8120" y="1125360"/>
            <a:ext cx="8705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osed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o Stop TB?</a:t>
            </a:r>
            <a:br>
              <a:rPr sz="3600"/>
            </a:br>
            <a:br>
              <a:rPr sz="48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19700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5 (World Health Assemb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tect 70% of smear-positiv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reat successfully 85% of all such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15 (Millennium Development Go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crease TB prevalence and deaths by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ement of the impact targets (prevalenc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deaths) depends on sustained achievement of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rocess targets (case detection and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su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 global plan: 2000-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cribed mechanisms, activities and resources needed to accelerate progress towards 200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s of action of 6 Stop TB working gr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-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B/H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c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76832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mbers of steering committ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12536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Adeyi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Ahmed (Bangladesh Rural Advancement Committ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Freire (Alliance for TB drug develo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Omaswa (Ministry of Health, Uga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Shah (National TB Programme, Pakist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5:51Z</dcterms:modified>
  <cp:revision>91</cp:revision>
  <dc:subject/>
  <dc:title>Africa: HIV is driving the TB epidemic TB notification rates, 1980-1998</dc:title>
</cp:coreProperties>
</file>