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46C70-76D8-42F8-B200-83791AF63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6D5C6-AB2C-41B4-9341-03A5D53E52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029A8-F8B3-4E9F-92AC-D15BCB17D2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40427-C13F-4688-B351-45789A1F6E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5CC90-E871-4C56-9AD0-B91BE3442F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6A4A1-1A56-467D-A915-45D9C6FFB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0377D-D4EB-4CF5-B403-63C6323049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C347F-2D9B-421E-A314-F32DDA727A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D7A85-D9E4-43C8-8C41-8F60F2A886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2F7F0-36ED-452A-8F94-4B645918E5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FE1EC-1B38-42D5-9847-B098FCD93E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1B4B5-D8A4-4793-8CF0-72A3974B96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24000" y="6237000"/>
            <a:ext cx="568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, 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59280" y="6308280"/>
            <a:ext cx="5223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Country Progress</a:t>
            </a:r>
            <a:br>
              <a:rPr sz="4000"/>
            </a:b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252320"/>
            <a:ext cx="74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hair Dr. Miaka Bile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Rapporteur Dr. Karam Sh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3T23:33:41Z</dcterms:modified>
  <cp:revision>178</cp:revision>
  <dc:subject/>
  <dc:title>Secretariat, 2003 Progress Report</dc:title>
</cp:coreProperties>
</file>