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F5F3B-408F-489D-81F0-A715C707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1BD68-4390-414E-B0D9-0AEB932E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A6B48-07B2-460B-B785-FEA2EA45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A2696-A7EC-4D7C-83A4-5B64B92E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CD43-1F48-451A-8E00-8A21FE35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DD05-207B-462B-A21A-64D04A30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603E-B8E4-47F8-BEE1-B6DF1ABB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34B3-1BF4-4B02-B241-66270D37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BF76-286A-4469-BFEE-B4CE1DD5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0A62-3325-4764-9772-8BF8FBD5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BD7F-4107-4356-9F92-994D7943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30AF9-9DD8-4188-A3DB-21EB34DD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E3C8-A80E-4F87-8EAC-156359B0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DFE5-1110-4104-94D3-FD4D7D92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DF92-A6F7-4B48-A3C9-9F5DE72C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B9A8-458A-4179-B345-BD120935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357C-AC9F-450D-AA6C-AF50622B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AEECF-2782-4DCE-AD3C-26695AA1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239B8-2DD4-45E2-BA25-764BF7F6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D47EB-2E31-4981-B227-A778DC78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67EC7-B8DC-4C29-B27E-CB02A917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0EA3B-B2AB-4968-9C2C-B811CCAB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89E91-1A78-42DA-BFEA-306B4188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2D2F5-3171-4B71-9B56-B77FEBE0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4503-2B38-445B-B250-14436E37D2B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087B-240B-4EA9-B8E1-607A4079603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: Short summary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chael Lu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ctober 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uild political will for achieving the MD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able people's actions in holding their governments accountable to the Millennium P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ampaig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ppr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orking with coalitions and partnerships in 3 are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assroots advoc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dia and public awar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licy 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partnershi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North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arliamentarian Network of WB's Implementation Watch, MDG organizations in USA, UK, Italy, Spain, Ireland, Austra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CSOs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xfam, Amnesty Int'l, Trade Justice Movement, Social Watch, Civicus, Global Campaign for Education, People's Health Movement, World AIDS Campaign, Save the Children, Global Movement for Children, Plan Internat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Faith-based Group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Caritas, Cidse, Micah Challenge, Vatican Commission Justicia &amp; Pax, World Parliament for Relig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edi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 BBC Trust, All Africa.com, EFE, IPS, One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Event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Barcelona Forum, Rome Marathon, Olympics, Rock in 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Events in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UN Heads of State meeting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G8 meeting with development and MDGs focus, Jun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oha Round: Global Week of Action (Apr 05), Minister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eeting (Dec 0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inancing for achieving the MDGs: Lula/Chirac summit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uth-South and North-South linkages linked to World Social Forum and other initiativ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ngagement with Stop TB Partn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gh-level meetings with STB Global Ambassador Rahman in NYC, Apr 04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ampaign Director Salil Shetty to address IUATLD world conference in Paris, Oct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ahman to participate in India national MDG campaign meeting, Nov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DG Campaign regional partners and in selected countries  to mobilize for WTBD, Mar 0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9:05:18Z</dcterms:created>
  <dc:creator>luhanm</dc:creator>
  <dc:description/>
  <dc:language>en-US</dc:language>
  <cp:lastModifiedBy>luhanm</cp:lastModifiedBy>
  <dcterms:modified xsi:type="dcterms:W3CDTF">2004-10-11T16:14:43Z</dcterms:modified>
  <cp:revision>2</cp:revision>
  <dc:subject/>
  <dc:title>MDGs Campaign: Short summary</dc:title>
</cp:coreProperties>
</file>