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9B26-75C1-4021-9C71-685235E7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83F-4C0D-41BD-A82C-00761094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4E5-F6CA-4F85-9672-A0BC3DF0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EC2-F140-4D2F-AA89-B877C170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C33F-8C07-4D02-BCC1-AD635BAF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B52-5502-4830-A440-B022463E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403C-B2A8-48DB-AA06-48E51A67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4CB-1114-47CB-92BA-F869DEF5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12B-B871-4D21-B4C9-BF6994EA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8BC5-35CE-4359-B232-E4273CB3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F15A-2F72-4064-B889-90C72D85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70A-2CEB-4B97-8743-8C7D8A4C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D876-7AA6-4A6F-B052-0BC81F9A4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1341000"/>
            <a:ext cx="76327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approved Financial Policy being applied which led to better control through  improved financial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transactions of GDF streaml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Working Groups given resources to catalyse thei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lk of the contributions from Bilateral Government sources-85.5% of the total income of US$13.8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total expenditure of US$10.8 million TB Control Drugs cost 78% while other partnership activities cost 23% of the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ed income for the whole year US$23.1 million, projected expenditure US$ 23.6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ghlights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1341360"/>
            <a:ext cx="770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ed shortfall for 2005 25 million based on Targeted Work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ted effort to be made for mobilising more resources by targeting more donors in the current donor segments and by exploring new dono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inued catalytic support to all Working Grou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 draft of the Global Plan to control TB to provide overall business plan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aboration with GFATM to become cl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ocacy and Communication effort to be intensified considerable to increase political support and enhance public awarenes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8:56:30Z</dcterms:created>
  <dc:creator>vijaya</dc:creator>
  <dc:description/>
  <dc:language>en-US</dc:language>
  <cp:lastModifiedBy>vijaya</cp:lastModifiedBy>
  <dcterms:modified xsi:type="dcterms:W3CDTF">2004-10-04T09:49:34Z</dcterms:modified>
  <cp:revision>6</cp:revision>
  <dc:subject/>
  <dc:title>Highlights</dc:title>
</cp:coreProperties>
</file>