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5A48-6F0B-4127-908A-9678B7C53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1358-42D2-415C-9DC1-A7DECFCCE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53C4-2813-4913-93F8-1EFCBC9C7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303F-0E44-4528-8FAA-6E72BC6A3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34306-10D6-4A2E-94AD-E6024DAEA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85BAB-D414-45EF-AAB8-B58FFA98F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6FEB5-D03E-431F-9571-7A3487EFB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BCF20-059E-45FF-B934-2CA71ED7C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402C2-80E5-4777-B506-D588C6C08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8A98E-4ECB-4116-A4C9-F57D508B2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666CD-0349-4CB6-94D1-6AF4C154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A212-6CCA-4399-95C4-B394DDBE0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2F2A2-8620-4A36-8F76-92EFD6B9B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E3331-0E39-4A9E-B0D6-A3A49063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A6991-688E-4241-BFC9-8542DC50A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F53F0-6FD2-4166-9BC1-5BCEFEAE2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C9050-2592-48BF-A4A0-52B3816B8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4349-6F80-4EA1-97AC-8A59530BA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4DCE-95FC-48CC-BC5C-292A00E66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A13C-37DF-40CA-A83A-C756A9B68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93EF-DCB4-40B4-B83B-2B0DE6843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5328-087B-4492-AE79-E351716AA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C633-D849-4E72-8CD4-0CAFF81F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F02D-BC8B-4560-B6EC-6C6AFEE3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AD34B-0BDB-4353-A9B2-4BCD68CCE0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F76C2-628A-47FE-BAB8-4A5CA762FC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1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8505C-6352-43C4-B8CE-9F50CD5CFA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BACTEC MGIT 960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DST quality control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0089C-92C9-4455-9D1E-162CCF4A7F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3B8ED-91CE-4224-9827-09B67FE39B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Why QC reagents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D thoroughly tests all BACTEC MGIT 960 DST products prior to rel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why test at your facil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 may be mishandled during sh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biotic potency may decr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s ability of laboratory to perform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gent sto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gent prep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m prep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C1168-CA97-43C0-81A3-249A415F78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ACTEC™ MGIT™ 960 DST </a:t>
            </a:r>
            <a:br>
              <a:rPr sz="4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r quality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shipment or lot number of drug kits before use with patient isol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kly SIRE and PZA DST Q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validated, otherwise set up a QC DST set each time DSTs are inocul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C organis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. tuberculo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CC 27294 (H37R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RE drug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 concentrations tested should be the same as those used for routine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concentrations of INH used for patients; QC both concentr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58D42-C8DB-45B8-89A6-3E6EA6B2A2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QC organism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e culture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. tuberculo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CC 27294 (H37RV) or well-characterized pan-susceptible MTB s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nies from solid medi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4 days 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GIT 960 tub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days after flagged positive by instru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al organisms may be tested to supplement BD QC recommend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want to inoculate a known mono-resistant strain of M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23624-D723-4240-AADE-AB31143249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200" spc="-1" strike="noStrike">
                <a:solidFill>
                  <a:srgbClr val="ffffff"/>
                </a:solidFill>
                <a:latin typeface="Arial"/>
              </a:rPr>
              <a:t>Drug and organism prepar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e should be taken to ensure proper reconstitution of lyophilized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ong drug concen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per preparation significantly impacts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er dilution of organism for drug and growth control tube is crit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pension must be well mixed and homogeneous without clu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e QC organism suspension in the same way as patient isolate susp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oculate SIRE and PZA DS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hydrate drugs with sterile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liquots of prepared drugs from freez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expiration 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 inoculum and di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id s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quid s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640ED-7AFA-4765-BDDB-0ED14BD6BA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ECED0-CA95-45BE-92E9-FD0AA46891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IRE and PZA QC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try of tubes into MGIT 9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n DST set carrier into the BACTEC MGIT 960 instr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pretation of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ment will interpret results between         days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should read susceptible for all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proper results are not observed, repeat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DA474-AF5B-4E02-B4CE-3035F91732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IRE and PZA QC rec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lot numbers of MGIT 960 tubes, drugs and drug supple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QC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 for a minimum of two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FA808-CCC7-4D6F-93EE-95395B89F0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QC summa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C of DST is critical to ensure test is functioning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be performed on all new lots or new shipment of SIRE and PZA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C organism suspension can be prepared from MGIT tube or solid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 suspensio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u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 homogeneous, i.e. without clu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rile tubes and pipettes must be us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calibrated pipettes to inoculate drugs to media tubes, not disposable transfer pipet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14:48:26Z</dcterms:created>
  <dc:creator>hellmann</dc:creator>
  <dc:description/>
  <dc:language>en-US</dc:language>
  <cp:lastModifiedBy>Philip</cp:lastModifiedBy>
  <dcterms:modified xsi:type="dcterms:W3CDTF">2012-01-26T09:48:44Z</dcterms:modified>
  <cp:revision>26</cp:revision>
  <dc:subject/>
  <dc:title>BACTEC MGIT 960 DST Quality Control</dc:title>
</cp:coreProperties>
</file>