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05272-1349-497B-BD73-D9EBE8807BE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42CCA-9C97-4FCE-8A86-4C935C825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2B0D-8A8B-42FB-AC67-7BC3851EE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3623-D097-48C1-B6A6-B0638D92F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C60A-F636-4D1A-AE12-0FC3CD970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4D88-84AE-4FBF-86A2-525D87180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573E6-89B8-4AA3-9F25-A131FB2E7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124F0-FA3E-4DBA-877C-0F345F4D5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096AD-9340-4A18-9306-CA8D28336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92706-A364-4AED-85E6-3BDF27541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FDE7C-E8F1-4C84-A251-83F7E3B01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BAB67-E736-4D43-B9D8-7D752B9F7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FB223-4DBD-48C4-87E3-3184B900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6D5A-98F5-4187-86D5-B5960DA3B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4F440-9B36-41F5-B68B-45C12EE8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9E152-882B-4D08-AA6C-62079BC5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DDACF-354D-4D9D-9637-9BC26C717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53948-F8D7-4E77-9A23-6A79EFC12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F754C-A78C-4C1C-9799-EC3CEC93B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39607-63EB-40C8-951E-3A98536DB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19655-526A-4092-B08C-ABD748C58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C3429-70DE-47F7-B8DF-5BE59D5A0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4F767-28C8-41F9-AED8-C709D3E03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C986B-E915-40A5-A8D4-2828C46F8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E5DB-45B0-4079-8961-AA04E8150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7A870-63A5-4613-B90D-34A2E0D85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61375-2C6E-4218-AE9F-58E0B319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2769C-9B6D-46D5-97D6-43F498EB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D530E-0C7E-4C26-B0FB-56E536FA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E2334-CAA6-4BBE-8378-FD691DF6B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2DD2E-1C85-446C-93F9-A7B09B2C7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E4F06-6BD8-4235-86A7-843033245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F4CC-99E2-440E-8F5A-2298ED9EC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3EEA-63A0-48A8-BC4D-D0602B85B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BDED-18B6-4A10-B360-62661C196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BCAD-25D7-4791-BB76-158BE792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B4B7-5277-4286-9019-6BF1435C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9DB6-56E1-4AA5-BEA0-494FCD22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F72B0-B6C0-4BCF-823F-1314DC68EA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05FD8-DDDD-40F2-9976-E0112C50EF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9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4CE0A-43F7-4AB2-B8DD-20288E25DD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nciples of drug resistance to antituberculosis dru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4"/>
          <p:cNvSpPr/>
          <p:nvPr/>
        </p:nvSpPr>
        <p:spPr>
          <a:xfrm>
            <a:off x="457200" y="1555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urrent four-drug TB therapy </a:t>
            </a: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irst-line, most effective dru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380880" y="1523880"/>
            <a:ext cx="8305920" cy="47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s for effective 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atment with multiple antibio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 therapy – 6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two months with RMP, INH and PZA and either EMB or S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four months with RMP and IN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regim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antibacterial ac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hibits development of resist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s persisting 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bjectives of antituberculosis thera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ckly kill large numbers of rapidly growing bacilli in the infected t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e the patient and increase chances of survi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 the infectiousness of pat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 the emergence of drug-resistant mu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rilization (elimination) of the dormant but still viable bacilli from the infected t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void therapeutic failure and rela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reduce the chance of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tmentalization o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. tuberculos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the infected tissue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number of rapidly dividing bacilli in pulmonary ca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illi multiplying less rapidly due to local adverse conditions (most often acid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rmant but still viable bacilli (often sequestered in granulom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i-TB drugs act on different populations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143320" y="1395360"/>
            <a:ext cx="3809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s that kill Population A are considered to have rapi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tericidal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tericidal Acti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measured by rapidity of sputum and culture conversion (from + to -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drugs are most effective in preventing the emergence of drug resistant cells that arise in the large pop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6"/>
          <p:cNvSpPr/>
          <p:nvPr/>
        </p:nvSpPr>
        <p:spPr>
          <a:xfrm>
            <a:off x="571680" y="1371600"/>
            <a:ext cx="1447560" cy="3733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7"/>
          <p:cNvSpPr/>
          <p:nvPr/>
        </p:nvSpPr>
        <p:spPr>
          <a:xfrm rot="5400000">
            <a:off x="1104480" y="3504960"/>
            <a:ext cx="914400" cy="1981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8"/>
          <p:cNvSpPr/>
          <p:nvPr/>
        </p:nvSpPr>
        <p:spPr>
          <a:xfrm rot="5400000">
            <a:off x="2438280" y="3009960"/>
            <a:ext cx="533520" cy="4114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9"/>
          <p:cNvSpPr/>
          <p:nvPr/>
        </p:nvSpPr>
        <p:spPr>
          <a:xfrm>
            <a:off x="647640" y="55627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3"/>
          <p:cNvSpPr/>
          <p:nvPr/>
        </p:nvSpPr>
        <p:spPr>
          <a:xfrm flipV="1">
            <a:off x="2400480" y="5486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1944000" y="559908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th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5"/>
          <p:cNvSpPr/>
          <p:nvPr/>
        </p:nvSpPr>
        <p:spPr>
          <a:xfrm>
            <a:off x="4287240" y="557676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th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6"/>
          <p:cNvSpPr/>
          <p:nvPr/>
        </p:nvSpPr>
        <p:spPr>
          <a:xfrm>
            <a:off x="586440" y="2781360"/>
            <a:ext cx="14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880200" y="4341960"/>
            <a:ext cx="142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erilizing effec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9600" y="1599840"/>
            <a:ext cx="4191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s that are more effective against Populations B and C are regarded 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riliz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tency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riliz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ity is reflected by a high cure rate with limited relapses in patients completing 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3"/>
          <p:cNvSpPr/>
          <p:nvPr/>
        </p:nvSpPr>
        <p:spPr>
          <a:xfrm>
            <a:off x="4583160" y="1371600"/>
            <a:ext cx="1447920" cy="3733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14"/>
          <p:cNvSpPr/>
          <p:nvPr/>
        </p:nvSpPr>
        <p:spPr>
          <a:xfrm rot="5400000">
            <a:off x="5115960" y="3504960"/>
            <a:ext cx="914400" cy="1981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15"/>
          <p:cNvSpPr/>
          <p:nvPr/>
        </p:nvSpPr>
        <p:spPr>
          <a:xfrm rot="5400000">
            <a:off x="6450120" y="3009960"/>
            <a:ext cx="533520" cy="4114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6"/>
          <p:cNvSpPr/>
          <p:nvPr/>
        </p:nvSpPr>
        <p:spPr>
          <a:xfrm>
            <a:off x="4659480" y="55627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7"/>
          <p:cNvSpPr/>
          <p:nvPr/>
        </p:nvSpPr>
        <p:spPr>
          <a:xfrm flipV="1">
            <a:off x="6411960" y="5486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5955840" y="559908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th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8013240" y="557676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th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0"/>
          <p:cNvSpPr/>
          <p:nvPr/>
        </p:nvSpPr>
        <p:spPr>
          <a:xfrm>
            <a:off x="4598280" y="2781360"/>
            <a:ext cx="14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4891680" y="4341960"/>
            <a:ext cx="142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5"/>
          <p:cNvSpPr/>
          <p:nvPr/>
        </p:nvSpPr>
        <p:spPr>
          <a:xfrm>
            <a:off x="5143680" y="714240"/>
            <a:ext cx="3857400" cy="600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Object 2"/>
          <p:cNvGraphicFramePr/>
          <p:nvPr/>
        </p:nvGraphicFramePr>
        <p:xfrm>
          <a:off x="304920" y="762120"/>
          <a:ext cx="4690800" cy="563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762120"/>
                    <a:ext cx="4690800" cy="563868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7" name="Text Box 6"/>
          <p:cNvSpPr/>
          <p:nvPr/>
        </p:nvSpPr>
        <p:spPr>
          <a:xfrm>
            <a:off x="293400" y="6477120"/>
            <a:ext cx="434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ed from: Somoskovi et al. Respir Res 2001, 2: 164-16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-9360" y="152280"/>
            <a:ext cx="97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-line antituberculosis drugs and their mechanisms of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5257800" y="837720"/>
            <a:ext cx="3733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-drug, must be activated by catalase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a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mary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ctericid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ru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ocks the synthesis of cell wall, acts on other targets in c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st effective anti-TB drug with both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ctericid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riliz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ctiv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hibits bacterial RNA transcription by binding to RNA polymer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cellen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riliz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ffect on Population B (in an acidic environm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-drug, must be activated by pyrazinamid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eres with fatty acid synthe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ural drug resistance in the MTB comple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9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TB complex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ommon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. tuberculosis, M. bov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ccine strain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. bov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C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rely seen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. africanum, M. canettii, M. microti, M. caprae, M. pinniped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 resistance to antibio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ophobic cell envelope (permeability barrier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 efflux systems and drug-modifying enzy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mp toxic substances out of cell and produce enzymes to change the drug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ZA resistance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. canettii, M.bov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BCG (other members are usually susceptible to PZ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on types of resistance to first-line drugs – WHO classif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ug resistance in newly identified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iously defined 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imary drug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ug resistance in previously treated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iously defined 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quired drug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resistance between different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s are chemically related (similar struct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s have the same or similar target within the bacterial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famycins, aminoglycosides, fluoroquinol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sistance in TB to more than one dru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y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ins of TB resistant to more than one antituberculosis dr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drug resistant TB (MDR-T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ins of TB resistant at least to INH and R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in treatment failure and fatal outcomes more often than with resistance to other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vely drug resistant TB (XDR-T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R-TB also resistant to any of the fluoroquinolones and to at least one injectable dr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untrea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3"/>
          <p:cNvSpPr/>
          <p:nvPr/>
        </p:nvSpPr>
        <p:spPr>
          <a:xfrm>
            <a:off x="0" y="1428840"/>
            <a:ext cx="8929800" cy="542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-142920" y="30960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lection of drug resistant mutants in T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214200" y="1428840"/>
            <a:ext cx="860580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ntaneous mutations occur in the DNA of all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tations can change the structure of a protein that is a drug ta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still functions, but is no longer inactivated by the dr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s, TB can grow in the presence of the dr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stance is linked to large bacterial pop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tants resistant to any drug occur on average once in every 100 million (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B in the lung, cavities often contain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cavitary lesions contain about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76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using two antibiotics, chances for both targets to be mutated is extremely small (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25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otherapy led to selection of drug-resistant populations in cavitary disease more often than in cases with non-cavitary le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the rationale for treatment regimens with more than one dr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the objectives and rationale of combined antituberculosis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 the basic definitions of drug resistance in 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 how drug resistance devel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 the rationale for using a critical concentration of drug in laboratory ass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ing the rationale for determining the  proportion of resistant bacteria that is clinically significa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128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factors influencing the development of drug resi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880" y="1366560"/>
            <a:ext cx="83059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etabolism of bacilli shifted to dorma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mpaired/decreased drug uptake by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etration of drugs to various body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optimal concentration of drugs at some 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ired drug absorption due to underlying host conditions such as HIV/A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ment with inappropriate drugs, combinations or do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ion or irregular treat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plete trea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d number of doses not taken (patient non-complia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allenges for TB drug susceptibility t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termine the critical concentrations of drugs necessary to eliminate the growth of susceptible (wild type) strains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susceptibilit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termine what proportion of cells in a population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ould need to be resistant to a drug in order for that strain to be interpreted as resis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70920"/>
            <a:ext cx="868680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itical concentra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drugs used for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B drug susceptibility te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89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itical concent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concentration of drug that inhibits the growth of wild type strains without appreciably affecting the growth of resistant cel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itical concentr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drugs were found to vary dependent upon the media used (especially solid vs liqu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56760" y="31680"/>
            <a:ext cx="8247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ation of clinically significant proportion of resistant bac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nically significant propor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 vitr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of resistant cells in the presence of the critical concentration of the drug that is equal to or greater than 1% of the growth of the total population in the absence of the dr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esence of 1% resistant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s a significant increase in resistanc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assays are based on this as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85840" y="14256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portion method for determining drug resistance in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. tubercul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7600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oratory assay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growth of a 1:100 dilution of the TB isolate on media without drug (Growth Control) to the growth of the undiluted suspension on media containing each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undiluted suspension grows faster or more abundantly in the presence of the drug than the Growth Control, the isolate is considered to contain a resistant population of greater than 1%, and is reported as resista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ke home messages (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52400"/>
            <a:ext cx="83818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d antituberculosis therapy is the cornerstone of effective treatment and prevention of drug resist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rst-line antituberculosis drugs are INH, RMP, PZA and sometimes EMB and 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y exhibit natural resistance to certain antibiotics and may develop resistance to antituberculosis agents due to spontaneous mutations in genes encoding drug targets or drug-activating enzy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tomical, metabolic compartmentalization, mutation rates and increase in the bacterial load in the lesion may also highly influence the emergence of drug resist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ke home messages (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recommends use of the phrase “drug resistance among new cases” instead of primary resistance, and “drug resistance among previously treated patients” instead of acquired resist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 concentration is the amount of drug in the medium that inhibits the growth of susceptible organisms but not that of the resistant mu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inically significant proportion of resistant mutants (determined to be greater than 1% of the population) indicates the magnitude of drug resistant cells that either predict or reflect therapeutic fail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8E414-BFF7-4102-B7EF-A86C67D3F18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ntent outl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320" y="1514520"/>
            <a:ext cx="87627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y and objectives of antituberculosis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tmentalization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cted 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ricidal and sterilizing activity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-line antituberculosis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definitions of drug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and genetic basis of drug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onship of critical concentrations and proportion of resistant bacteria to prediction of treatment fail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5714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valence of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DR and XDR tuberculosis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aviglio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M.C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and Smi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I.M., 2007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g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35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656-9</a:t>
            </a:r>
            <a:br>
              <a:rPr sz="28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1676520" y="1579680"/>
            <a:ext cx="5715000" cy="405900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sp>
        <p:nvSpPr>
          <p:cNvPr id="151" name="Rectangle 6"/>
          <p:cNvSpPr/>
          <p:nvPr/>
        </p:nvSpPr>
        <p:spPr>
          <a:xfrm>
            <a:off x="457200" y="27468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-resistant tuberculosis is present world wide wherever treatment is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istribution of MDR TB in new cases, 1994-2009 (WHO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7920000" cy="4419720"/>
          </a:xfrm>
          <a:prstGeom prst="rect">
            <a:avLst/>
          </a:prstGeom>
          <a:ln w="0">
            <a:noFill/>
          </a:ln>
        </p:spPr>
      </p:pic>
      <p:sp>
        <p:nvSpPr>
          <p:cNvPr id="15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537F5-89AD-4A90-A802-2A2C696375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ribution of MDR TB  among previously treated TB cases, 1994-2009 (WH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539640" y="1600200"/>
            <a:ext cx="8353440" cy="4419720"/>
          </a:xfrm>
          <a:prstGeom prst="rect">
            <a:avLst/>
          </a:prstGeom>
          <a:ln w="0">
            <a:noFill/>
          </a:ln>
        </p:spPr>
      </p:pic>
      <p:sp>
        <p:nvSpPr>
          <p:cNvPr id="15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61105-4600-4994-889C-1AFACC52CF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istribution of XDR TB - WHO 2010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647960" y="1599840"/>
            <a:ext cx="3886200" cy="4419720"/>
          </a:xfrm>
          <a:prstGeom prst="rect">
            <a:avLst/>
          </a:prstGeom>
          <a:ln w="0">
            <a:noFill/>
          </a:ln>
        </p:spPr>
      </p:pic>
      <p:pic>
        <p:nvPicPr>
          <p:cNvPr id="160" name="Content Placeholder 4" descr=""/>
          <p:cNvPicPr/>
          <p:nvPr/>
        </p:nvPicPr>
        <p:blipFill>
          <a:blip r:embed="rId2"/>
          <a:stretch/>
        </p:blipFill>
        <p:spPr>
          <a:xfrm>
            <a:off x="609480" y="1676520"/>
            <a:ext cx="7925040" cy="4419360"/>
          </a:xfrm>
          <a:prstGeom prst="rect">
            <a:avLst/>
          </a:prstGeom>
          <a:ln w="0">
            <a:noFill/>
          </a:ln>
        </p:spPr>
      </p:pic>
      <p:sp>
        <p:nvSpPr>
          <p:cNvPr id="16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BB5C1-B2F7-45A3-A2D3-0AD89A3AA0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468360" y="189000"/>
            <a:ext cx="82296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story of antituberculosis therap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228600" y="1371600"/>
            <a:ext cx="85345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drugs introduced for TB therapy in 194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ptomycin (SM)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minosalicylic acid (P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either SM or PAS alone in treatment of TB was initially found to reduce deaths among treated 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on, it was found that single drug therapy resulted in emergence of drug resistant strains in ~70% of the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combining SM + PAS the resistance rate was reduced to 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214200" y="712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roduction of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e effective antituberculosis dr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380880" y="1928880"/>
            <a:ext cx="8458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niazid (INH), more potent drug,19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 therapy – SM + PAS + INH (1950s) proved highly effective in preventing emergence of re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, 18-months of treatment required to ensure adequate c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yrazinamide (PZA), Ethambutol (EMB) and Rifampin (RM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ZA (1952), EMB (1962) and RMP (1963) effectively combined with INH for combination thera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kos Somoskovi</dc:creator>
  <dc:description/>
  <dc:language>en-US</dc:language>
  <cp:lastModifiedBy>Philip</cp:lastModifiedBy>
  <dcterms:modified xsi:type="dcterms:W3CDTF">2012-01-26T09:46:46Z</dcterms:modified>
  <cp:revision>147</cp:revision>
  <dc:subject/>
  <dc:title>PowerPoint Presentation</dc:title>
</cp:coreProperties>
</file>