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20.png" ContentType="image/pn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0745-6CA0-4A1D-8C3F-3273C989A2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8EFE-B775-458D-AA95-881C3076B8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8B19-2254-4C9B-8D21-5E86992799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Place absorbent paper towelling on the work surface to minimize the potential of exposure to infectious material or cross contamination in case of a s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cking the grill disrupts the integrity of the cabinet air barrier and  can compromise both staff and product prot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ing clean materials at least 12 cm away from aerosol-generating activities will minimise the potential for cross-contam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82E-838B-4F62-ADD7-D7C6BA2C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991-2A28-4910-8A9C-08F714A4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C72-F796-41CE-A1B9-B1B02CCD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44B-126A-4844-9D38-520635EB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3A9B-3E55-4071-A70E-EBCDFB29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5492-1240-44C7-A783-2B48AF8E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6859-027A-46AD-8465-869766E4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3E76-4403-4C69-8893-15D906BE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70EB-2F97-4C88-A7B2-2FD7F26B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6F3F-18BF-4DBE-9A04-737E496D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2A76-EECD-413F-97D9-CC59D223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CC09-D19E-4E32-9EAA-CAB3F6D0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032B-BD2F-4AC5-A403-7C05F38B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170E-69DB-44F1-AC83-E5AE12AC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150C-6C36-497F-9DFC-0DD43A52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9982-49F3-47F4-8D4F-E7B5D5CC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D4E9-7C0B-4DA9-921A-902C7675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42DF-3180-404E-AF9E-E960E357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B3D-54CF-475B-BF81-4E100E6B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78D-FD11-4F9F-AA8B-12FD3495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E17-00A4-4509-8A04-5A3CC9FA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0B7-8F26-4B52-BE02-A54ABCB6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050-4F30-407D-A6C4-3F37CABD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72CE-E1E3-4852-8E22-BFDE45BB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C339-968C-4415-A5E9-58AAEAEE91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9E69-6A37-4A58-B602-EA232AD61F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5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pecimen prepar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20" y="282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quid cultur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914560" y="1413000"/>
            <a:ext cx="5473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 1.5 ml screw-cap conical tubes (not the caps) for each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ortex liquid culture tube to homogenize sample for 1 minute. Let tube stand for 10 minutes before opening to allow aerosol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1 ml of liqui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. tuberculosis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lture into 1.5 ml conical tubes; change transfer pipettes between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biohazardsign"/>
          <p:cNvPicPr/>
          <p:nvPr/>
        </p:nvPicPr>
        <p:blipFill>
          <a:blip r:embed="rId1"/>
          <a:stretch/>
        </p:blipFill>
        <p:spPr>
          <a:xfrm>
            <a:off x="7596360" y="26028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9" name="Picture 10" descr="LogoColour"/>
          <p:cNvPicPr/>
          <p:nvPr/>
        </p:nvPicPr>
        <p:blipFill>
          <a:blip r:embed="rId2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3"/>
          <a:stretch/>
        </p:blipFill>
        <p:spPr>
          <a:xfrm>
            <a:off x="971640" y="2205000"/>
            <a:ext cx="1222200" cy="31892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71" name="Picture 13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extrac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DNA in BSL3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n a dry oven at 80 °C for 1 hour or incubate for 15min at 95°C in a water b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amples to BSL2 lab for DNA extraction and remainder of LPA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NA extraction: Option 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465200"/>
            <a:ext cx="79200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llet bacteria by centrifuging specimen for 15 min at 10,000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 table top centrifuge with an aerosol-tight ro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 the BSL3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rk the top side of the tubes as they are placed in the rotor. Pellet is located on the bottom of the tube, opposite to mark on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t the vials stand in the rack for 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min to avoid aerosol generation when opening tubes under a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refully aspirate the supernatant (without removing the pellet) with a 1 ml pipette with filtered tips; change tips between sampl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00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µl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ysis buffer (A-Lys) to pellet using a 20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 pipette with filtered tips;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tubes until pellet is completely resuspen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60" y="785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iohazardsign"/>
          <p:cNvPicPr/>
          <p:nvPr/>
        </p:nvPicPr>
        <p:blipFill>
          <a:blip r:embed="rId1"/>
          <a:stretch/>
        </p:blipFill>
        <p:spPr>
          <a:xfrm>
            <a:off x="752472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9" name="Picture 16" descr="LogoColour"/>
          <p:cNvPicPr/>
          <p:nvPr/>
        </p:nvPicPr>
        <p:blipFill>
          <a:blip r:embed="rId2"/>
          <a:stretch/>
        </p:blipFill>
        <p:spPr>
          <a:xfrm>
            <a:off x="7792920" y="6248520"/>
            <a:ext cx="1008360" cy="506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5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"/>
          <p:cNvPicPr/>
          <p:nvPr/>
        </p:nvPicPr>
        <p:blipFill>
          <a:blip r:embed="rId6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grpSp>
        <p:nvGrpSpPr>
          <p:cNvPr id="184" name="Gruppieren 6"/>
          <p:cNvGrpSpPr/>
          <p:nvPr/>
        </p:nvGrpSpPr>
        <p:grpSpPr>
          <a:xfrm>
            <a:off x="1671480" y="4444920"/>
            <a:ext cx="3811320" cy="1722960"/>
            <a:chOff x="1671480" y="4444920"/>
            <a:chExt cx="3811320" cy="1722960"/>
          </a:xfrm>
        </p:grpSpPr>
        <p:pic>
          <p:nvPicPr>
            <p:cNvPr id="185" name="Grafik 4" descr="Ein Bild, das Tisch, klein, weiß, sitzend enthält.&#10;&#10;Automatisch generierte Beschreibung"/>
            <p:cNvPicPr/>
            <p:nvPr/>
          </p:nvPicPr>
          <p:blipFill>
            <a:blip r:embed="rId7"/>
            <a:srcRect l="0" t="0" r="0" b="15521"/>
            <a:stretch/>
          </p:blipFill>
          <p:spPr>
            <a:xfrm>
              <a:off x="1671480" y="4444920"/>
              <a:ext cx="2443320" cy="170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uppieren 5"/>
            <p:cNvGrpSpPr/>
            <p:nvPr/>
          </p:nvGrpSpPr>
          <p:grpSpPr>
            <a:xfrm>
              <a:off x="3971160" y="5331240"/>
              <a:ext cx="1511640" cy="836640"/>
              <a:chOff x="3971160" y="5331240"/>
              <a:chExt cx="1511640" cy="836640"/>
            </a:xfrm>
          </p:grpSpPr>
          <p:sp>
            <p:nvSpPr>
              <p:cNvPr id="187" name="Text Box 10"/>
              <p:cNvSpPr/>
              <p:nvPr/>
            </p:nvSpPr>
            <p:spPr>
              <a:xfrm>
                <a:off x="4284360" y="58608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ll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1"/>
              <p:cNvSpPr/>
              <p:nvPr/>
            </p:nvSpPr>
            <p:spPr>
              <a:xfrm>
                <a:off x="4284000" y="5331240"/>
                <a:ext cx="119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pernata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2"/>
              <p:cNvSpPr/>
              <p:nvPr/>
            </p:nvSpPr>
            <p:spPr>
              <a:xfrm flipH="1" flipV="1">
                <a:off x="3971160" y="5343480"/>
                <a:ext cx="287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9"/>
              <p:cNvSpPr/>
              <p:nvPr/>
            </p:nvSpPr>
            <p:spPr>
              <a:xfrm>
                <a:off x="4087080" y="5946480"/>
                <a:ext cx="215640" cy="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981080" y="1499760"/>
            <a:ext cx="66247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ipe tubes with disinfectant before removing them from the BS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Incubate tubes in a heat block or water bath at 95 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 for 5 min to kill MTBC and disrupt cell 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Always check temperature before incubation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ater bath temperature is more accurate than temperature in heat block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Heat block diminishes the chance of contamination from the wa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Discard water after each u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lean water bath with 1.5% freshly prepared bleach (20 min) followed by 70% alcoh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MTB in drops inside vial caps may remain viable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Use of a small oven may be the best and safest solution (80 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Arial"/>
              </a:rPr>
              <a:t>°C for 1h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If heat-kill was properly carried out, specimen is considered non-infectious after this po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40000" y="34401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biohazardsign"/>
          <p:cNvPicPr/>
          <p:nvPr/>
        </p:nvPicPr>
        <p:blipFill>
          <a:blip r:embed="rId1"/>
          <a:stretch/>
        </p:blipFill>
        <p:spPr>
          <a:xfrm>
            <a:off x="7451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6" name="Picture 13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99" name="Grafik 2" descr="Ein Bild, das Tisch, Anzeige, Telefon enthält.&#10;&#10;Automatisch generierte Beschreibung"/>
          <p:cNvPicPr/>
          <p:nvPr/>
        </p:nvPicPr>
        <p:blipFill>
          <a:blip r:embed="rId5"/>
          <a:srcRect l="0" t="16495" r="0" b="14154"/>
          <a:stretch/>
        </p:blipFill>
        <p:spPr>
          <a:xfrm>
            <a:off x="468360" y="1503360"/>
            <a:ext cx="14810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015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riefly spin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100 µl Neutralization Buffer (A-NB) and vortex sample for 5 se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pin down for 5 min at full speed in a table top centrifu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table top centrifuge with an aerosol-tight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ransfer supernatant containing DNA to new 1.5 ml screw-cap vials using a 1 ml pipette with filtered tips; change tip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stir up pellet – cell debris to dis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reeze leftover specimens at -20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pecimens may be kept at 4 °C for 24 - 48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NA ready for addition to master mi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5"/>
          <p:cNvSpPr/>
          <p:nvPr/>
        </p:nvSpPr>
        <p:spPr>
          <a:xfrm>
            <a:off x="4646520" y="4813200"/>
            <a:ext cx="2232000" cy="763560"/>
          </a:xfrm>
          <a:prstGeom prst="rect">
            <a:avLst/>
          </a:prstGeom>
          <a:solidFill>
            <a:srgbClr val="d9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Always use screw-cap, not flip-cap, vials in order to avoid cont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06" name="Grafik 2" descr="Ein Bild, das Tisch, klein, Mann, blau enthält.&#10;&#10;Automatisch generierte Beschreibung"/>
          <p:cNvPicPr/>
          <p:nvPr/>
        </p:nvPicPr>
        <p:blipFill>
          <a:blip r:embed="rId4"/>
          <a:srcRect l="0" t="0" r="0" b="13783"/>
          <a:stretch/>
        </p:blipFill>
        <p:spPr>
          <a:xfrm>
            <a:off x="1128600" y="4665600"/>
            <a:ext cx="34164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388944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econtaminate any materials (vials, tubes, etc.) before removal from the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ean pipettes, racks, instruments and the BSC with freshly diluted 1.5% bleach (20 minutes), followed by 70% alcohol w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take anything from this area to Reagent Preparation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sider performing specimen preparation on a separate day to enable unidirectional workflow betwee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77920" y="2476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orking in a BSC (Clean-up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biohazardsign"/>
          <p:cNvPicPr/>
          <p:nvPr/>
        </p:nvPicPr>
        <p:blipFill>
          <a:blip r:embed="rId1"/>
          <a:stretch/>
        </p:blipFill>
        <p:spPr>
          <a:xfrm>
            <a:off x="7524720" y="27936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0" name="Picture 7" descr="IMG_4057"/>
          <p:cNvPicPr/>
          <p:nvPr/>
        </p:nvPicPr>
        <p:blipFill>
          <a:blip r:embed="rId2"/>
          <a:stretch/>
        </p:blipFill>
        <p:spPr>
          <a:xfrm>
            <a:off x="4572000" y="1989000"/>
            <a:ext cx="3887640" cy="324648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211" name="Picture 9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NA extraction: Option Tw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-kill samples in BSL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DNA supernatant to new 1.5 ml conical screw cap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ze DNA until ready to add to maste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used here have to be labelled accordingly and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should no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the Reagent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may only take the PCR tubes in an aluminum foil-covered beaker to Amplification/Detection Ar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bring this beaker back to Specimen or Reagent Preparation Area. Wash and autoclave before re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use 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try to put cotton plugs into un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Do not use flip-cap tubes, always use screw-cap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detection 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, use BSC only for DNA ex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only for molecula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by speci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70% alcohol instead of distilled water for cleaning to avoid contamination of distilled water st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iquot sterile molecular grade water into 15 ml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an Eppendorf repeat pipette with individually wrapped, sterile combi-tips for aliquoting,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Working in a Biological Safety Cabinet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Specimen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8119-8BCB-46C3-A855-66E2BC01A87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mal PCR laboratory lay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553080" cy="526752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>
            <a:off x="1116000" y="4581360"/>
            <a:ext cx="1224000" cy="216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844640" y="27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388360" y="6478560"/>
            <a:ext cx="755640" cy="379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3456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4067280" y="1539720"/>
          <a:ext cx="5618160" cy="49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39720"/>
                    <a:ext cx="5618160" cy="49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ppropriate BSL3 PPE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have solid front and can be tied in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ng-sleeved with elastic c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be either autoclavable/washable (soak in bleach) or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pi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-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5154480" y="1434960"/>
            <a:ext cx="3430440" cy="2590920"/>
            <a:chOff x="5154480" y="1434960"/>
            <a:chExt cx="3430440" cy="2590920"/>
          </a:xfrm>
        </p:grpSpPr>
        <p:pic>
          <p:nvPicPr>
            <p:cNvPr id="127" name="Picture 5" descr="camice"/>
            <p:cNvPicPr/>
            <p:nvPr/>
          </p:nvPicPr>
          <p:blipFill>
            <a:blip r:embed="rId1"/>
            <a:srcRect l="15999" t="0" r="10264" b="0"/>
            <a:stretch/>
          </p:blipFill>
          <p:spPr>
            <a:xfrm>
              <a:off x="5154480" y="1752120"/>
              <a:ext cx="1541160" cy="19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surgical gown2"/>
            <p:cNvPicPr/>
            <p:nvPr/>
          </p:nvPicPr>
          <p:blipFill>
            <a:blip r:embed="rId2"/>
            <a:stretch/>
          </p:blipFill>
          <p:spPr>
            <a:xfrm>
              <a:off x="6854760" y="1434960"/>
              <a:ext cx="173016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7" descr="masks"/>
          <p:cNvPicPr/>
          <p:nvPr/>
        </p:nvPicPr>
        <p:blipFill>
          <a:blip r:embed="rId3"/>
          <a:srcRect l="14273" t="20464" r="14538" b="14125"/>
          <a:stretch/>
        </p:blipFill>
        <p:spPr>
          <a:xfrm>
            <a:off x="5003640" y="3932280"/>
            <a:ext cx="2681280" cy="225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LogoColour"/>
          <p:cNvPicPr/>
          <p:nvPr/>
        </p:nvPicPr>
        <p:blipFill>
          <a:blip r:embed="rId6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/>
          <p:cNvPicPr/>
          <p:nvPr/>
        </p:nvPicPr>
        <p:blipFill>
          <a:blip r:embed="rId7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"/>
          <p:cNvPicPr/>
          <p:nvPr/>
        </p:nvPicPr>
        <p:blipFill>
          <a:blip r:embed="rId8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2760" y="228600"/>
            <a:ext cx="696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SL 3 PPE is suitable fo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ipulating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ntrifu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oculation of D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smears from cultures and processed speci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ochemical testing to identify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aring samples for PCR (before heat-k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360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ntaminate the BSC with freshly diluted 1.5% bleach (20 min), followed by 70%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he working area with paper towels and use suitable disinfe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discard container with a plastic bag and freshly diluted 1.5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O NOT block the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erform all operations at least 12 cm away from the front grill on the work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lace all materials and aerosol-generating equipment away from the front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MG_4028"/>
          <p:cNvPicPr/>
          <p:nvPr/>
        </p:nvPicPr>
        <p:blipFill>
          <a:blip r:embed="rId1"/>
          <a:stretch/>
        </p:blipFill>
        <p:spPr>
          <a:xfrm>
            <a:off x="4140360" y="1916280"/>
            <a:ext cx="4392360" cy="329544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143" name="Picture 6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760" y="43920"/>
            <a:ext cx="8337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ical specimens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1360440" cy="3211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48" name="Text Box 16"/>
          <p:cNvSpPr/>
          <p:nvPr/>
        </p:nvSpPr>
        <p:spPr>
          <a:xfrm>
            <a:off x="2914560" y="1989000"/>
            <a:ext cx="54738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bel 1.5 ml screw-cap conical tubes (</a:t>
            </a:r>
            <a:r>
              <a:rPr b="0" i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aps) for each speci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ortex decontaminated clinical specimen for 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cess only one specimen at a time; do not leave open containers or centrifuge tubes in the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nsfer 500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 decontaminated clinical specimen into 1.5 ml conical screw-capped vial; change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 flipH="1">
            <a:off x="1835280" y="3068640"/>
            <a:ext cx="107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682560" y="134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nical specimens have to be decontaminated by N-acetyl-L-cysteine/NaOH method before specime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2" descr="biohazardsign"/>
          <p:cNvPicPr/>
          <p:nvPr/>
        </p:nvPicPr>
        <p:blipFill>
          <a:blip r:embed="rId2"/>
          <a:stretch/>
        </p:blipFill>
        <p:spPr>
          <a:xfrm>
            <a:off x="7596360" y="33336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23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176480" cy="2933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preparation of isolates on solid cul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986200" y="1596960"/>
            <a:ext cx="547344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bel 1.5 ml screw cap conical tubes (not the caps) for each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llect bacteria with an inoculation loop and suspend in 100 μl of Lysis Buffer (A-LYS); change loops between sample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crape the surface of the medium since components of egg-based medium can inhibit PCR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suspension for 1 minute to break up clu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ifuge for 15 min at 10,000 x g or 1 ml liquid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1834920" y="3789360"/>
            <a:ext cx="11761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biohazardsign"/>
          <p:cNvPicPr/>
          <p:nvPr/>
        </p:nvPicPr>
        <p:blipFill>
          <a:blip r:embed="rId2"/>
          <a:stretch/>
        </p:blipFill>
        <p:spPr>
          <a:xfrm>
            <a:off x="7667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2" name="Picture 8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09:52:40Z</dcterms:modified>
  <cp:revision>394</cp:revision>
  <dc:subject/>
  <dc:title>PowerPoint Presentation</dc:title>
</cp:coreProperties>
</file>