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9FA9-269C-48CC-9420-F7704D3351A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6C38-DDC1-41C8-B591-B6FF4E39635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4621-BA16-4D81-87F8-877CAFEE06A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AA89-9392-4CA9-A70A-602643773BE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10C7-53F1-4FA7-887D-438ACC66D78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4E9A-E68E-4A99-ABFC-D8BE7FF1E70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12C1-8C37-46BE-8D4F-300DF8448D6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D466-82C8-4C1D-B4BF-E4B802D503C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843D-9965-41B8-81DB-DE2B04E255D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528E-4D7B-483B-9239-A36455D904E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967-D0EF-4099-9A62-F9404241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F09-11DA-4221-86DC-6ECCF5CC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14CB-2F02-4EFA-A84D-974BB28D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A24-6669-4BF5-9C23-DFAFF2EA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8750-DDC1-452B-A7A1-55B9F8DC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DC3B-2061-43C5-A030-687EFC1D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BEDA-A0DA-4FC3-B622-93B2E180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3B85-90DF-4A5C-9966-76738D73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5387-65E9-447C-9E40-B9968BC1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6274-6CAC-45EE-839E-0AAA8C6B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4EC4-B0D9-4175-80DB-8D63B5EA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F81-00C2-4A0A-806D-79A1D9CC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0CC2-A72F-4D44-B31F-3144BFC3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B4A9-923C-43E4-95E5-04D30580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65A8-7407-466F-A3E6-E18EBAD3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24E6-1AC3-402D-9C2F-F5ED29E3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C9C0-B721-4811-9527-AC184296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1951-D24C-4513-BF97-803E1F2E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5189-B695-4166-9F38-2D0204D4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1AB-3B8C-4D7B-A2FD-49464EC6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DFA9-A96C-425B-B2A6-20B100AB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699-436A-4BAE-82A1-7742679A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892-37A5-4869-8AAC-F1ACC67D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BB0-4930-4C2F-B377-F1E39714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DBC4-5E61-48ED-A3D4-99988A56A4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DCEF-3C37-4FD4-9C36-B8C736E569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-line drug preparation for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AA04-CBF3-4170-A955-AE26BA15FB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X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040M1313V: 100% purity (no potency-adjustment necess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vent &amp; diluent: sterile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DST tubes contain 8.4 ml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4 ml × 2 µg/ml = 16.8 µg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1 ml ×168 µg/ml added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95 ml sterile d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× 168 µg/ml = 1000 µ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6DE0-1DE1-45D0-AE7E-80F92F8B1E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86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 available: cellulose acetate, 0.2 or 0.22 µ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ach syringe filter to a 10 ml syringe; filter-sterilize into sterile cryovials and freeze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w just prior to use and do not re-freeze; discard any leftov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3680-9D81-4A0E-A607-707FB0C8CAA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9609-E816-48C5-B3DD-765F5BBE9D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eral drug preparation conside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may be prepared in stock solutions that are stored frozen and later thawed and diluted for use; solvents are not always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 solutions must be sterile-filtered prior to addition to MGIT tubes, ei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ck solutions or diluted work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s must be compatible with final drug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D4A2-C387-4913-A491-C24193BDBB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832360" cy="4641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8B0D-72E4-4CE6-B28A-0EC61F8EE8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24000" y="1622520"/>
            <a:ext cx="5832360" cy="100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832360" cy="207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468360" y="3429000"/>
            <a:ext cx="7920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prepared in a non-aqueous solvent but diluted in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may be filtered through a membrane compatible with water but not the initial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filter membranes in the above tables are compatible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802B-864D-4C0B-8236-7D5FB5A90D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tency/pu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571760"/>
            <a:ext cx="79596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re purchased as powders that vary in activity from lot to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ctivity of a specific drug lot is listed as potency or pur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the Certificate of Analysis (C of A) supplied by the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t or near 100% potency may be weighed out without adjustment (it can be assumed that 10 mg powder = 10 mg active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var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es may not be close to 100%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ther materials in the powder, such as impurities, preservatives or solubil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cy standards may be decades old and drug manufacturing processes have changed since the standards wer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adjus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otency of a given drug is 74.5% (or 0.7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g/ml), how would you prep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 ml of a 1%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 gra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10 ml = 0.1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tency adjustment: 0.1 grams/0.745 = 0.134 grams pow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igh out 0.134 grams powder and dissolve in 10 ml for a 1% potency-adjust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57DF-2906-4FCA-8D06-6A95AF9BBF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day’s second-line drug prepa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itical concentrations for MGIT96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-line anti-TB drug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ulations are from NHLS Diagnostic Media Products (D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ionamide (ETH): Sigma E6005, critical concentration = 5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loxacin (OFX): Sigma O8757,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42B6-3D35-428F-9F82-4C45F1AEE0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82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53:02Z</dcterms:modified>
  <cp:revision>345</cp:revision>
  <dc:subject/>
  <dc:title>PowerPoint Presentation</dc:title>
</cp:coreProperties>
</file>