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1CE6-169C-4EC5-8226-2D9A91C81D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710E-47DB-4135-877F-A6802DA02E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written checklists avoids the unnecessary interruption of work in the BSC that can compromise the quality of the specimen testing or the biosafety of laboratory sta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A7F7-DCB8-4A10-8188-92F49CEFA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8F2C-E910-4DFB-B257-C54A50D9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5F27-C5C7-4BCF-BCE6-73A378261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D95A-8170-48EA-A9EB-F9B8A529B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2F94-6347-4E78-9FD2-0D123E15A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2E0A-2765-4F87-86D0-96482FD0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5450-E425-4B57-BA35-E4FC1AAC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CF9D-2D88-4719-A050-55562422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4867-2A8A-4F84-9D5F-BA24A588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F92E-851C-443F-83D6-9E0667EA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4171-DFD8-4E73-955A-4CE4B988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B117-637F-47DB-95A3-A0D202A7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84A4-D6F2-4330-97F2-F3787D21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5BDA-EB5C-4AEC-AC22-C4049E91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16CA-1A61-40C1-9C00-A84CDF60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DA7C-5022-4F64-9687-949D289A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8721-809C-4DBD-A82E-FBA6C5B70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CE17-9CC7-4D37-A06D-E0834D3A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166A-0514-44C6-BD27-0531A381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5B67-38E1-4C4F-92C5-3723C82F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0413-3115-4167-98F7-6D8DDF73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0807-855C-4C80-8C66-396FEE55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2797-3924-4CBF-AFBE-A89742A5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7646-C00E-4A1B-A515-267F49C7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39B9-A407-4079-B5AE-4FCC8FC063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B667-3DDF-4E23-A420-C739ACC98C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120" y="1413000"/>
            <a:ext cx="8915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GenoType</a:t>
            </a:r>
            <a:r>
              <a:rPr b="0" lang="en-US" sz="3600" spc="-1" strike="noStrike" baseline="30000">
                <a:solidFill>
                  <a:srgbClr val="ffff99"/>
                </a:solidFill>
                <a:latin typeface="Arial"/>
              </a:rPr>
              <a:t>®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MTBDR</a:t>
            </a:r>
            <a:r>
              <a:rPr b="0" i="1" lang="en-US" sz="3600" spc="-1" strike="noStrike">
                <a:solidFill>
                  <a:srgbClr val="ffff99"/>
                </a:solidFill>
                <a:latin typeface="Arial"/>
              </a:rPr>
              <a:t>plus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VER 2.0</a:t>
            </a: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GenoType</a:t>
            </a:r>
            <a:r>
              <a:rPr b="0" lang="en-US" sz="3600" spc="-1" strike="noStrike" baseline="30000">
                <a:solidFill>
                  <a:srgbClr val="ffff99"/>
                </a:solidFill>
                <a:latin typeface="Arial"/>
              </a:rPr>
              <a:t>®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MTBDR</a:t>
            </a:r>
            <a:r>
              <a:rPr b="0" i="1" lang="en-US" sz="3600" spc="-1" strike="noStrike">
                <a:solidFill>
                  <a:srgbClr val="ffff99"/>
                </a:solidFill>
                <a:latin typeface="Arial"/>
              </a:rPr>
              <a:t>sl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VER 2.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Reagent preparation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ent preparation are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412640"/>
            <a:ext cx="7707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ols and instruments that are used here have to be labelled accordingly and cannot be used else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CR tubes can only be taken to specimen preparation area in an aluminum foil-covered beak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bring back this beaker to reagent preparation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0.5 ml or 0.2 ml individual PCR tubes instead of 0.2 ml str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 PCR hood with U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laboratory pract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ange shoes or use shoe cover before entering clean room  Autoclave and calibrate pipettes regula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fter you have finished working in the specimen preparation area, do not come back and clean the reagent preparation area work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ent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6481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876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prepare fresh Na-hypochlorite 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heck undiluted bleach concen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nal concentration of hypochlorite should not fall below 1.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orking solutions of 5 g/l are necessary for dealing with biohazard sp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ontainers containing bleach CANNOT be autoclave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o avoid contamination of distilled water stocks, use 70% alcohol instead of distilled water for clea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 an Eppendorf repeat pipettor with individually wrapped sterile combi tips for aliquoting, if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876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lea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properly clean the work area after completing the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stablish a regular (e.g. weekly) and thorough laboratory cleaning protocol (floors, doors, wa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6688080" y="2133720"/>
            <a:ext cx="2033640" cy="236520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pic>
        <p:nvPicPr>
          <p:cNvPr id="159" name="Picture 5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rganize your work (use check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rk unidirectionally (laboratory lay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velop and follow SOP for procedure and instrument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ep tools and workplace cle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32E7-24A0-4CB9-89AB-CDB93E3B796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3440" y="12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99"/>
                </a:solidFill>
                <a:latin typeface="Arial"/>
              </a:rPr>
              <a:t>Content outl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416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PCR laboratory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Check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Calculation of volume of master mix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Personal protective equipment (P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Reagent preparation for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Optimal PCR laboratory layou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553080" cy="5267160"/>
          </a:xfrm>
          <a:prstGeom prst="rect">
            <a:avLst/>
          </a:prstGeom>
          <a:ln w="0">
            <a:noFill/>
          </a:ln>
        </p:spPr>
      </p:pic>
      <p:sp>
        <p:nvSpPr>
          <p:cNvPr id="110" name="Oval 4"/>
          <p:cNvSpPr/>
          <p:nvPr/>
        </p:nvSpPr>
        <p:spPr>
          <a:xfrm rot="5400000">
            <a:off x="1943640" y="224640"/>
            <a:ext cx="2592360" cy="4968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414160" y="4797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“dirty”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078640" y="285264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f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221880" y="501336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plicon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ty”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LogoColour"/>
          <p:cNvPicPr/>
          <p:nvPr/>
        </p:nvPicPr>
        <p:blipFill>
          <a:blip r:embed="rId2"/>
          <a:stretch/>
        </p:blipFill>
        <p:spPr>
          <a:xfrm>
            <a:off x="8532720" y="6551640"/>
            <a:ext cx="611280" cy="306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3"/>
          <a:stretch/>
        </p:blipFill>
        <p:spPr>
          <a:xfrm>
            <a:off x="0" y="6554880"/>
            <a:ext cx="841320" cy="303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4"/>
          <a:stretch/>
        </p:blipFill>
        <p:spPr>
          <a:xfrm>
            <a:off x="4284720" y="6566040"/>
            <a:ext cx="43164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1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ation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3959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Prepare a written checklist of materials and tool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pare a worksheet with list of specimens (identifiers) to be tes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orksheets used in Specimen Preparation area shoul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be brought over to this are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pare a worksheet to calculate the volume master mix ingred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8"/>
          <p:cNvGraphicFramePr/>
          <p:nvPr/>
        </p:nvGraphicFramePr>
        <p:xfrm>
          <a:off x="4552920" y="1657440"/>
          <a:ext cx="3921120" cy="416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2920" y="1657440"/>
                    <a:ext cx="3921120" cy="41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20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1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2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2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ion of component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0" y="1628640"/>
            <a:ext cx="3960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termine the number of specimens and controls (number of samples to be analyzed plus control samp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0µl AM-A; 35µl AM-B; 5 µl DNA (after DNA extraction with GenoLyse) or 10µl DNA (after DNA extraction with GXT DNA/RNA Extraction K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nal volume: 50µl (GenoLyse) or 55 µl (GXT DNA/R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volume of master mix is 45 µl per speci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29" name="Grafik 2" descr="Ein Bild, das Tasse, Zahnbürste, klein, Tisch enthält.&#10;&#10;Automatisch generierte Beschreibung"/>
          <p:cNvPicPr/>
          <p:nvPr/>
        </p:nvPicPr>
        <p:blipFill>
          <a:blip r:embed="rId4"/>
          <a:stretch/>
        </p:blipFill>
        <p:spPr>
          <a:xfrm>
            <a:off x="520560" y="2266920"/>
            <a:ext cx="40514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3)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ting up workplac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ut on gloves and laboratory c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contaminate work area with freshly diluted 1.5% bleach (20 min), followed by 70%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ver the work area with clean paper tow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4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ter mix preparation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1327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tore molecular grade water, and other reagents, in the DNA-fre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mpletely thaw all re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ipette calculated amount of different components of master mix into 1.5 ml conical screw-cap vial using filtered t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hange tips between re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ways use a new aliquot of molecular grade water for negativ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pare a master mix containing AM-A and AM-B and mix carefully but thoroughly (do not vorte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ways open only one reagent vial at a time, and place vials back in mini cooler after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lease note that the master mix needs to be prepared freshly each time and needs to be processed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5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ensing master mix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4220640"/>
            <a:ext cx="7920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Label PCR tubes in line with numbers of specimens and controls on your work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lace PCR tubes onto the PCR tube 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pense 45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µ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master mix into each PCR tube using filtered t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5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µ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of same sterile, molecular grade water used to prepare master mix into negative control PCR tu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lose PCR tubes with PCR tube caps and place them in a sterile tube 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45" name="Grafik 2" descr="Ein Bild, das Essen, Messer enthält.&#10;&#10;Automatisch generierte Beschreibung"/>
          <p:cNvPicPr/>
          <p:nvPr/>
        </p:nvPicPr>
        <p:blipFill>
          <a:blip r:embed="rId4"/>
          <a:stretch/>
        </p:blipFill>
        <p:spPr>
          <a:xfrm>
            <a:off x="1476360" y="1436760"/>
            <a:ext cx="56167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6)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n-up of workplac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2104920"/>
            <a:ext cx="792468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19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fter each use, clean pipettes, racks, instruments and the workstation with freshly diluted 1.5% bleach (20 minutes), followed by 70% alcohol and UV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9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 area-dedicated wash bottles or beakers (separate beakers for surface cleaning and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gliani Elisa</cp:lastModifiedBy>
  <dcterms:modified xsi:type="dcterms:W3CDTF">2020-06-12T10:04:15Z</dcterms:modified>
  <cp:revision>374</cp:revision>
  <dc:subject/>
  <dc:title>PowerPoint Presentation</dc:title>
</cp:coreProperties>
</file>