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133A-EFC4-4F22-8578-48E361A0A4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732F-0BE8-4159-A22B-2B32307431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BA4-9D0C-4537-AFC5-AA5622F2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080-66D3-4571-BAD8-AB07D9CD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1133-5EC2-4376-A5E3-75019AA5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1556-9C3C-47EE-A6C9-E94C912A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D2FA-71F2-4103-B6AF-ECD5EC68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A5D2-1FA8-40F4-9F3E-E24A7D2D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4CE9-80F5-457C-850B-E95413E2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7CBC-882F-4D31-9536-ED3BD3E3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3AF6-E4BE-4041-B5A4-98544B97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6C84-C2F2-45C1-AB60-AA14A294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DF19-4507-416B-A5CE-4F76623B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A5B-0C87-44FA-9154-BCAA1610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3474-A0AA-4A3E-99B7-6169FF92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8191-168D-4BE1-B82D-1C0BFE37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842C-ABC8-41C5-B1F3-F3D84730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F822-6CAA-4E7C-AB8F-A6FF0A64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B4D9-8446-4B79-9B1D-3BFF5A60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773-B043-4E7E-9EA0-9E1CE3E0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8AE-C842-4BAB-91A4-9676F10F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FE2-10AF-4676-8DE0-930DD68D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6C0-70BE-4D08-BEDF-CD77BF64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5E0-F986-4914-B653-223520D4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C0D-9439-4387-8BD9-8459E3CB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FC1-F0AA-4389-B6AE-AA52F139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0925-88AB-4FA3-B964-A84A691B52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A25C-2979-4976-AAEE-5E5A7318E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141300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plus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 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688080" y="2133720"/>
            <a:ext cx="2033640" cy="2365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59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1F1A-FC21-4A0D-A24D-932A2D4FE2C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552920" y="1657440"/>
          <a:ext cx="3921120" cy="41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2920" y="1657440"/>
                    <a:ext cx="39211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number of specimens and controls (number of samples to be analyzed plus control s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µl AM-A; 35µl AM-B; 5 µl DNA (after DNA extraction with GenoLyse) or 10µl DNA (after DNA extraction with GXT DNA/RNA Extraction K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volume: 50µl (GenoLyse) or 55 µl (GXT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olume of master mix is 45 µl per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2" descr="Ein Bild, das Tasse, Zahnbürste, klein, Tisch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520560" y="2266920"/>
            <a:ext cx="4051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32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use a new aliquot of molecular grade water for negativ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master mix containing AM-A and AM-B and mix carefully but thoroughly (do not vo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ease note that the master mix needs to be prepared freshly each time and needs to be process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2" descr="Ein Bild, das Essen, Messer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1476360" y="1436760"/>
            <a:ext cx="5616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workstation with freshly diluted 1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10:04:15Z</dcterms:modified>
  <cp:revision>374</cp:revision>
  <dc:subject/>
  <dc:title>PowerPoint Presentation</dc:title>
</cp:coreProperties>
</file>