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987-A512-47C5-8192-1B4BCD5A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FFA4-95B3-475A-8D0E-940EF1C8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EAA8-162D-4491-B1E2-91DA43A1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663F-146E-4F2D-BC06-275174BC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C462-06E1-4734-B290-011D003F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F6F3-9AFC-449A-AB0E-214E5DBB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DBAE-C384-49B0-99ED-AE18F33C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0C51-A5C8-48F1-819A-117C3B0B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FD5E-C52D-40FF-8505-1B84E85C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D6D4-ED9D-4DCF-A79A-89B80051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562E-6CF9-4965-94CD-88763953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5533-F274-4B9D-8C77-058E2AA3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389C-75F6-40E7-9D2E-E8029478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E8A1-E45D-463D-AD14-F6C76062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6872-D5B3-4E33-B84F-C5F312BC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3EE6-E340-449C-B8D2-F91A614A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9220-0896-448B-9838-181487EA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BB8-9AC5-46B5-A04C-45C0C45D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AFEB-935F-432A-8BCB-3E0D9BBC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D3BC-E8A3-46C5-A3D5-612161C1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1F1-4408-41D7-BCC7-7E60F196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F1D0-05DB-4C88-866D-710A2A10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0A5-ECC6-49DA-BA1B-29C077F1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0E8-483A-49FF-87E9-4E71566A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B075-8965-41EE-80AB-292512BDD4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B959-9B96-48BB-8E7C-90157378B4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CR laboratory layou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ractice for placing laboratory equipment for molecul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would you designate each spac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0 PCR Laboratory with Answers empty"/>
          <p:cNvPicPr/>
          <p:nvPr/>
        </p:nvPicPr>
        <p:blipFill>
          <a:blip r:embed="rId1"/>
          <a:stretch/>
        </p:blipFill>
        <p:spPr>
          <a:xfrm>
            <a:off x="1676520" y="1523880"/>
            <a:ext cx="5521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rea 1: Reagent preparation 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0 a PCR Laboratory with Answers w defines spaces"/>
          <p:cNvPicPr/>
          <p:nvPr/>
        </p:nvPicPr>
        <p:blipFill>
          <a:blip r:embed="rId1"/>
          <a:stretch/>
        </p:blipFill>
        <p:spPr>
          <a:xfrm>
            <a:off x="1905120" y="1523880"/>
            <a:ext cx="56386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 2: Specimen preparation roo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2" descr="Area 1 reagent prep"/>
          <p:cNvPicPr/>
          <p:nvPr/>
        </p:nvPicPr>
        <p:blipFill>
          <a:blip r:embed="rId1"/>
          <a:stretch/>
        </p:blipFill>
        <p:spPr>
          <a:xfrm>
            <a:off x="1600200" y="1432080"/>
            <a:ext cx="59436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3: Amplification/detection ro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Area 2 specimen prep"/>
          <p:cNvPicPr/>
          <p:nvPr/>
        </p:nvPicPr>
        <p:blipFill>
          <a:blip r:embed="rId1"/>
          <a:stretch/>
        </p:blipFill>
        <p:spPr>
          <a:xfrm>
            <a:off x="1523880" y="1447920"/>
            <a:ext cx="58676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te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Area 3 amplification-detection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are the major pieces of laboratory equipment necessary to run molecular assays for TB iden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Anteroom"/>
          <p:cNvPicPr/>
          <p:nvPr/>
        </p:nvPicPr>
        <p:blipFill>
          <a:blip r:embed="rId1"/>
          <a:stretch/>
        </p:blipFill>
        <p:spPr>
          <a:xfrm>
            <a:off x="1676520" y="1447920"/>
            <a:ext cx="5867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…movement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e dir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samples and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14400" y="1600200"/>
            <a:ext cx="5334120" cy="11430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gent preparation room / Clea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990720" y="3124080"/>
            <a:ext cx="5181480" cy="1219320"/>
          </a:xfrm>
          <a:prstGeom prst="rect">
            <a:avLst/>
          </a:prstGeom>
          <a:noFill/>
          <a:ln w="9360">
            <a:solidFill>
              <a:srgbClr val="707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epar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295280" y="3657600"/>
            <a:ext cx="11430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men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905120" y="213372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124080" y="2133720"/>
            <a:ext cx="1143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19720" y="2133720"/>
            <a:ext cx="12189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Mix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743200" y="3657600"/>
            <a:ext cx="10666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343400" y="3657600"/>
            <a:ext cx="1523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samples to master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6"/>
          <p:cNvCxnSpPr>
            <a:stCxn id="108" idx="3"/>
            <a:endCxn id="112" idx="1"/>
          </p:cNvCxnSpPr>
          <p:nvPr/>
        </p:nvCxnSpPr>
        <p:spPr>
          <a:xfrm>
            <a:off x="2437920" y="392436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8"/>
          <p:cNvCxnSpPr>
            <a:stCxn id="112" idx="3"/>
            <a:endCxn id="113" idx="1"/>
          </p:cNvCxnSpPr>
          <p:nvPr/>
        </p:nvCxnSpPr>
        <p:spPr>
          <a:xfrm>
            <a:off x="3809880" y="3924360"/>
            <a:ext cx="534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Rectangle 19"/>
          <p:cNvSpPr/>
          <p:nvPr/>
        </p:nvSpPr>
        <p:spPr>
          <a:xfrm>
            <a:off x="990720" y="4800600"/>
            <a:ext cx="5333760" cy="1066680"/>
          </a:xfrm>
          <a:prstGeom prst="rect">
            <a:avLst/>
          </a:pr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1447920" y="5257800"/>
            <a:ext cx="144756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plification (P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4419720" y="52578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1224000" y="480060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fication and detec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24"/>
          <p:cNvCxnSpPr>
            <a:stCxn id="117" idx="3"/>
            <a:endCxn id="118" idx="1"/>
          </p:cNvCxnSpPr>
          <p:nvPr/>
        </p:nvCxnSpPr>
        <p:spPr>
          <a:xfrm>
            <a:off x="2895480" y="5524560"/>
            <a:ext cx="152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Down Arrow 28"/>
          <p:cNvSpPr/>
          <p:nvPr/>
        </p:nvSpPr>
        <p:spPr>
          <a:xfrm>
            <a:off x="4267080" y="281952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29"/>
          <p:cNvSpPr/>
          <p:nvPr/>
        </p:nvSpPr>
        <p:spPr>
          <a:xfrm>
            <a:off x="4343400" y="4419720"/>
            <a:ext cx="3808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Up Arrow 30"/>
          <p:cNvSpPr/>
          <p:nvPr/>
        </p:nvSpPr>
        <p:spPr>
          <a:xfrm>
            <a:off x="2209680" y="28195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Up Arrow 31"/>
          <p:cNvSpPr/>
          <p:nvPr/>
        </p:nvSpPr>
        <p:spPr>
          <a:xfrm>
            <a:off x="2286000" y="44197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rved Right Arrow 41"/>
          <p:cNvSpPr/>
          <p:nvPr/>
        </p:nvSpPr>
        <p:spPr>
          <a:xfrm flipH="1" flipV="1">
            <a:off x="6324480" y="1828800"/>
            <a:ext cx="1447920" cy="373392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797760 h 3733920"/>
              <a:gd name="textAreaBottom" fmla="*/ 275544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30" stAng="-5400000" swAng="-5400000"/>
                <a:lnTo>
                  <a:pt x="0" y="11324"/>
                </a:lnTo>
                <a:arcTo wR="21600" hR="9230" stAng="10800000" swAng="-3531405"/>
                <a:lnTo>
                  <a:pt x="16200" y="21307"/>
                </a:lnTo>
                <a:lnTo>
                  <a:pt x="21600" y="19506"/>
                </a:lnTo>
                <a:lnTo>
                  <a:pt x="16200" y="17119"/>
                </a:lnTo>
                <a:lnTo>
                  <a:pt x="16200" y="18166"/>
                </a:lnTo>
                <a:arcTo wR="21600" hR="9230" stAng="7268595" swAng="3363820"/>
                <a:lnTo>
                  <a:pt x="139" y="10277"/>
                </a:lnTo>
                <a:arcTo wR="21600" hR="9230" stAng="-10632415" swAng="5232415"/>
                <a:close/>
              </a:path>
              <a:path fill="darkenLess" w="21600" h="21600">
                <a:moveTo>
                  <a:pt x="21600" y="0"/>
                </a:moveTo>
                <a:arcTo wR="21600" hR="9230" stAng="-5400000" swAng="-5400000"/>
                <a:lnTo>
                  <a:pt x="0" y="9230"/>
                </a:lnTo>
                <a:arcTo wR="21600" hR="9230" stAng="10800000" swAng="-167585"/>
                <a:lnTo>
                  <a:pt x="139" y="10277"/>
                </a:lnTo>
                <a:arcTo wR="21600" hR="9230" stAng="-10632415" swAng="523241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ave 42"/>
          <p:cNvSpPr/>
          <p:nvPr/>
        </p:nvSpPr>
        <p:spPr>
          <a:xfrm>
            <a:off x="7162920" y="13716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EFED-08A5-44D2-8393-9F7D7DF379D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9:10:40Z</dcterms:created>
  <dc:creator>kyle tholen</dc:creator>
  <dc:description/>
  <dc:language>en-US</dc:language>
  <cp:lastModifiedBy>Philip</cp:lastModifiedBy>
  <dcterms:modified xsi:type="dcterms:W3CDTF">2012-01-26T09:50:10Z</dcterms:modified>
  <cp:revision>13</cp:revision>
  <dc:subject/>
  <dc:title>PCR Laboratory Layout</dc:title>
</cp:coreProperties>
</file>