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D3B8-1A46-4ED3-96B7-217EF7D1E9B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6C00-751B-4384-BA98-C28A1BDEF9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6CBD-831E-4A5D-978F-401A62EA3C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812-4DB6-4CEF-9C79-AEEC9D30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F87C-8501-4B2A-A726-2C52E105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0B69-5428-4E82-9839-E1F44E51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90A9-DCE8-4ADE-995B-940AA6CA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89AB-1A66-4FCA-9E27-DA3D3A4E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3FAE-6C22-4E3D-A79E-B3A4446D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DCF0-E685-4383-90BA-51BC78D8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FAC9-85C4-4FF6-A5C8-35E53842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C3D1-FB41-433F-9535-E6AE91F1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F7B8-728B-4AC6-8F20-FAC5256A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E2AD-39E7-4C77-9D2D-59997AFB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495D-8EE3-4B98-B99A-8AD75732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5C4E-E319-4A95-B87A-C0AD4260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AD30-B3CB-4B59-B13D-F1DFB8ED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AA0D-6EA3-4B12-A497-C3B64B3B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A4B7-0910-400D-8707-AD90F8C8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3393-4D5A-4BEE-8C1C-46716105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D3BD-B704-4C67-A8F6-D10129C5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EA41-DD1C-4348-A817-DD79C88A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E0D2-B3B0-434B-980D-5F075C57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4FED-73D5-4E5C-991E-4579A26C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CD90-7A12-4B82-BF1D-45FCE09B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AE0-01EC-44C6-92B1-53CCE9EA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0237-8BA4-4E3A-8617-8C6FE67D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2EC6-42EA-486F-A87A-91C92D5070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F7E0-6ED2-4844-B9E9-814E35A455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500120"/>
            <a:ext cx="9001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for submission, acceptance and processing of isolates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guidance for all count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carriage of Category A infectious substances should be strictly prohibited on air c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packages containing infectious substances should not be consolidated with unrelated types of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pers of infectious substances should ensure that packages are prepared so they arrive in good condition and present no hazard during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FD19-2CB0-4590-84EA-CA78D7D5B8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86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iteria for rejection of an isol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process; contact the submitter to resubmit isolate for the following rea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abel on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or leaking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 overgrown with conta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Opening tube with mould can contaminate BSC and other speci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may be processed if minor questions can be cla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pellings between tube and request s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submitter to clarify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5548-E7AE-44EA-9898-B5312D091D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paration of isolate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0040" y="1599840"/>
            <a:ext cx="8143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isolate as belonging 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the TB isolate is not conta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molecular or liquid medium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DST in liquid broth in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1ECF-8CE7-4633-A2E5-5B027BDDC6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14200" y="7632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solate must be identified as MTBC before performing D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5"/>
          <p:cNvSpPr/>
          <p:nvPr/>
        </p:nvSpPr>
        <p:spPr>
          <a:xfrm>
            <a:off x="565308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4"/>
          <p:cNvSpPr/>
          <p:nvPr/>
        </p:nvSpPr>
        <p:spPr>
          <a:xfrm>
            <a:off x="5940360" y="387504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5"/>
          <p:cNvSpPr/>
          <p:nvPr/>
        </p:nvSpPr>
        <p:spPr>
          <a:xfrm>
            <a:off x="5940360" y="459432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0"/>
          <p:cNvSpPr/>
          <p:nvPr/>
        </p:nvSpPr>
        <p:spPr>
          <a:xfrm>
            <a:off x="3276720" y="3514680"/>
            <a:ext cx="23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3"/>
          <p:cNvSpPr/>
          <p:nvPr/>
        </p:nvSpPr>
        <p:spPr>
          <a:xfrm>
            <a:off x="5005440" y="3154320"/>
            <a:ext cx="2303280" cy="43200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1"/>
          <p:cNvSpPr/>
          <p:nvPr/>
        </p:nvSpPr>
        <p:spPr>
          <a:xfrm>
            <a:off x="2629080" y="1785960"/>
            <a:ext cx="3600360" cy="720720"/>
          </a:xfrm>
          <a:prstGeom prst="ellipse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4"/>
          <p:cNvSpPr/>
          <p:nvPr/>
        </p:nvSpPr>
        <p:spPr>
          <a:xfrm>
            <a:off x="327672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0"/>
          <p:cNvSpPr/>
          <p:nvPr/>
        </p:nvSpPr>
        <p:spPr>
          <a:xfrm>
            <a:off x="1692360" y="3154320"/>
            <a:ext cx="2303280" cy="4320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9"/>
          <p:cNvSpPr/>
          <p:nvPr/>
        </p:nvSpPr>
        <p:spPr>
          <a:xfrm>
            <a:off x="971640" y="459432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8"/>
          <p:cNvSpPr/>
          <p:nvPr/>
        </p:nvSpPr>
        <p:spPr>
          <a:xfrm>
            <a:off x="971640" y="387504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2"/>
          <p:cNvSpPr/>
          <p:nvPr/>
        </p:nvSpPr>
        <p:spPr>
          <a:xfrm>
            <a:off x="2413080" y="5170320"/>
            <a:ext cx="587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0"/>
          <p:cNvSpPr/>
          <p:nvPr/>
        </p:nvSpPr>
        <p:spPr>
          <a:xfrm>
            <a:off x="3708360" y="3083040"/>
            <a:ext cx="720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8"/>
          <p:cNvSpPr/>
          <p:nvPr/>
        </p:nvSpPr>
        <p:spPr>
          <a:xfrm>
            <a:off x="2556000" y="19051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ulture positive for AF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4500720" y="2506680"/>
            <a:ext cx="0" cy="1008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1"/>
          <p:cNvSpPr/>
          <p:nvPr/>
        </p:nvSpPr>
        <p:spPr>
          <a:xfrm>
            <a:off x="3924360" y="2793960"/>
            <a:ext cx="1152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611280" y="26020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lony and Cellular morph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3"/>
          <p:cNvSpPr/>
          <p:nvPr/>
        </p:nvSpPr>
        <p:spPr>
          <a:xfrm>
            <a:off x="5076720" y="263376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owth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 flipH="1">
            <a:off x="291600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7"/>
          <p:cNvSpPr/>
          <p:nvPr/>
        </p:nvSpPr>
        <p:spPr>
          <a:xfrm flipH="1">
            <a:off x="291600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H="1">
            <a:off x="565272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 flipH="1">
            <a:off x="565272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973080" y="39402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Biochemical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971640" y="46674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ntigen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013440" y="39909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ne-probe 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300720" y="46674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NA 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1692360" y="31543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ventional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5221440" y="31543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olecula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9"/>
          <p:cNvSpPr/>
          <p:nvPr/>
        </p:nvSpPr>
        <p:spPr>
          <a:xfrm>
            <a:off x="1143000" y="5572080"/>
            <a:ext cx="6858000" cy="642600"/>
          </a:xfrm>
          <a:prstGeom prst="rect">
            <a:avLst/>
          </a:prstGeom>
          <a:noFill/>
          <a:ln w="19080">
            <a:solidFill>
              <a:srgbClr val="3d3d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uberculous mycobacteria can be resistant to anti-TB drugs, and testing can result in inappropriate patient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FCDE-7286-4CCE-9AFB-CFF942141EC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on solid medi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6360" y="1447920"/>
            <a:ext cx="8239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J medium contains bacteriostatic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chite green inhibits most environmental and normal fl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remove liquid in bottom of LJ before inoculation. Loosen cap fo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ek of incub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exposure to malachite green, so contaminants may eventually grow in this liqu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ted LJ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ontamination is slight, attempt to isolate TB colonies; transfer to new L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tally contaminated, request a new spec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DDED-501A-4246-AD45-0E5E9A39A74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in MGIT tub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2160" y="1447920"/>
            <a:ext cx="686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ed MGIT tubes usually become positive very ear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– 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growers such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-intracellul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(MAC) may be positive in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obser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ogeneous turb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cid-fast bacteria may be seen in AFB smear of MGIT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or without AF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lture to blood agar p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in 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rcRect l="0" t="0" r="50031" b="0"/>
          <a:stretch/>
        </p:blipFill>
        <p:spPr>
          <a:xfrm>
            <a:off x="7162920" y="2274840"/>
            <a:ext cx="761760" cy="2568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ST performed using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roblems with egg-based media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cy of drugs may be diminished during inspis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the eggs (phospholipids, proteins) affect som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agar with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DC i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-to-lot variations in quality have been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on solid media requires 3 to 4 weeks of incu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2A0C-59CA-47AD-884F-C131697824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ld standard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r proportion method using Middlebrook 7H10 with quality assured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the standard method for TB DST in the USA and many Europe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first- and second-line drugs can be accurately tested for susceptibility or resistance using thi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because of the long turn-around time, the method is more appropriate for surveillance than for individual patient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33DB-FD55-45D4-81A6-7264A29905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5144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vantages of molecula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liquid medium DS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57120" y="1356840"/>
            <a:ext cx="84297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erformed within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TB is included in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MDR TB is quite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results may be obtained even with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not all drugs are current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dium DST using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ready within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validated for all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 including PZA and som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EE14-D2C0-4700-A3E3-A90069BDB8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cells for molecular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28400" y="1428480"/>
            <a:ext cx="84294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suspension of cells in steril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on solid medium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cells from slant with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suspension in 300 µl of steril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in liquid medium (MGIT bro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1 ml portion of the suspension to a micro-centrifug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ifuge for 15 min and resuspend pellet in 300 µl of sterile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3FC2-029C-43C3-9CAD-C8EE1FD4F1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submission process for isolates receiv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criteria for acceptance or rejection of iso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how TB isolates are prepar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or molecular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99840"/>
            <a:ext cx="7429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20 min in a 9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water bath (kills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15 min in an ultrasonic water bath (optional for isol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 and use approximately 5 µl of the supernatant for PC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90D6-9739-4D08-BF4C-220DF66402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isolates for MGIT DST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can be grown either on solid or liquid media prior to being tested in the MGIT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healthy cells in logarithmic phase of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airly light inoculum so that drug concentrations are not overwhel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should be AFB-positive and identified as a pure culture of the MTB complex before furthe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E46C-66C6-4BD6-A5DE-E89A9C1700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oculum from the MGIT tu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ing to the following recommended timeframe is important for accu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ay a MGIT tube is positive by the instrument is consider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ube should be kept incubated for at least one more day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before D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be incubated in a separate incubator at 37 ºC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ositive tube may be used for DST up to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tube that has been positive for more than 5 days should be subcultured into a fresh MGIT tube and incubated until it is positive;  use this tube from 1 to 5 days of instrument positivity as described ab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n a tube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use the supernatant undiluted for inoculation of the drug s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3, 4 or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then dilute 1.0 ml of the positive broth with 4.0 ml of sterile saline.  This will be a 1:5 dilution.  Use this well-mixed diluted culture for inocul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89EB-339C-4360-8FBF-D38E8F8B0C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920" y="228600"/>
            <a:ext cx="8067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oculum from growth on solid medi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2920" y="1428480"/>
            <a:ext cx="8391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rowth on solid medium within 15 days of appearance of positive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a large amount of growth into a tube with broth or saline and glass beads; vortex the tube for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inutes to break the clumps – the turbidity should be &gt; McFarland #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suspension stand undisturbed for 20 minutes, then transfer the supernatant into another sterile tub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is tube stand undisturbed for another 15 minutes then transfer the supernatant into another sterile tube – the turbidity should &gt; McFarland #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the turbidity of this suspension down to McFarland #0.5 by adding sterile saline; do not make it below this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ute the above suspension 1:5 by adding 1.0 ml of the suspension to 4.0 ml of sterile saline;  mix well and use it as the inoculum for drug susceptibilit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E7BC-FAA0-4EA4-935D-21CD2D7353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: Isolates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13840" y="1481040"/>
            <a:ext cx="86439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can either be grown in the DST testing laboratory or referred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of isolates to the DST testing laboratory must be safe, timely, efficient and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should not be tested if they are unlabelled, leaked, or overgrown with m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using molecular or MGIT system methods have much shorter turn-around times than DST using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henotypic DST, growth should be AFB-positive, and identified as a pure culture of the MTB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9DC0-51A4-42DE-8D13-AD624C6220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DC1A-6CFB-418A-AD9F-E8B70CC342F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499760"/>
            <a:ext cx="80010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of isol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red to DST testing laboratory from another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n in DST testing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o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for acceptance or rejection of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ling, lea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ing the isolate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lecular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qu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Ex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referred to DST testing laboratory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to process sputum specimens and perform culture in laboratories near to where specimen is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minants may overgrow TB in sputum specimens during transport time and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lates more likely to survive transportation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ever, biosafety requirements must be strictly followed to transport iso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identification and DST are best performed at National TB Reference Laboratory or other Quality Assured referral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time and need to re-grow isolate delays DST report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s and relevant and patient information must be accurately transcribed and transported to the NTRL for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8F87-F4E1-4E6E-BA05-EF65D57AE6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In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grown in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on patient has already been documented when specimen received for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database or log books provide information on previous tests performed on this same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mear results on current iso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 on tests performed on specimens from this 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issues seen with previous specimens or isolates can be add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34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growth found only on either liquid or solid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er turn-around time for reporting DS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es contained within same laboratory; biosafety issues easier to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EA08-3578-41AC-B3A8-09AB9C528C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portation to DST testing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s suspected of being TB must be transported to the DST testing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ly – protect transport agents from risk of in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y – ensure viable isolates fo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ly – delivery to appropriate labora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ly – according to national and international transportatio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6D50-CD3A-4C6E-9E4B-65634F1898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portation guid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Guidance on Regulations for the Transport of Infectious Substances 2009-20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ycobacterium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lassified as Infectious substance, Category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causing life-threatening or fatal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name is UN2814 – INFECTIOUS SUBSTANCE AFFECTING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395F-A7C7-47FD-8CF0-F926BF570B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000760" y="6357960"/>
            <a:ext cx="31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/HSE/EPR/2008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triple packaging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920" y="1571760"/>
            <a:ext cx="4929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recep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ly marked and labelled with appropriate shipping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BA43-E9BB-42CA-9AF7-FA80A1ABD1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rcRect l="7491" t="12002" r="3884" b="0"/>
          <a:stretch/>
        </p:blipFill>
        <p:spPr>
          <a:xfrm>
            <a:off x="3714840" y="1714680"/>
            <a:ext cx="5286240" cy="3276360"/>
          </a:xfrm>
          <a:prstGeom prst="rect">
            <a:avLst/>
          </a:prstGeom>
          <a:ln w="9360">
            <a:solidFill>
              <a:srgbClr val="3d3dd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t all countries have adopted the United Nations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499760"/>
            <a:ext cx="792504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uidelines apply whenever the UN system for the transport of infectious substances has been ado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encourages all countries to adopt thi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e principles described are not intended to supersede national or loc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440D-388F-4B18-B074-BBDF7AEA7F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7:48Z</dcterms:modified>
  <cp:revision>175</cp:revision>
  <dc:subject/>
  <dc:title>PowerPoint Presentation</dc:title>
</cp:coreProperties>
</file>