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5A713-1B32-4FF5-9016-291F0D6A4F36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C0AB9-ACA7-4213-B471-C7D1EC9B2F39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02F86-1246-431B-A168-7CA5F9B1B79D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9DA78-D2BF-41D2-9382-34ED353BA03E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E0A8C-9F5A-40EF-BBAC-25B02442DCA0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FFCC4-8DA3-4DCD-BA33-66C83CDF32AF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3ACBC-B77C-41B7-8FC3-FC8CB6A99BCF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B62F9-1347-4DF2-8B22-BCB79C7385AC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250E0-D51E-4554-809E-DA53E15202FC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FC697-C09F-4507-81A4-C8F8B67EE77D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58C9B-671A-4553-A0D2-C7826A930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F1407-9C92-4CD3-BB33-EA14C7B35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6A164-F502-4E3E-AA31-D285C0048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653B5-DD5E-445D-B240-0EB56CB61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AD206-7DA8-44EC-8722-26A46A1EA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5D942-B3AA-46C8-917F-043BF6F8B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07F34-6DAC-4E91-86FD-E1BCF540F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A9E2D-A47F-44E2-BF76-F23FFCB09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A48A6-7660-49E2-B38F-DC9837185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2ECF1-E821-4955-BBA7-CF85D3A72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A67E7-ABC8-40B0-B627-8174E1BE3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1A5E3-B8F0-42CB-BEE4-54BAA98D7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760FC-D838-4B63-82CA-422D74291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A3FAD-F64F-455F-99F3-9D7F5BB27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9F322-8386-4B3C-9C4F-C8E9DF517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2CFF3-A60C-44B8-9B00-473BDBF2B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10D93-881B-454B-BF8D-E3C81B586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4E988-4761-4B07-B121-E8C5E28C5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03035-8403-452E-852A-FD1B5F432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67A5A-168A-45B5-A1CA-9C9650462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E0F4F-091A-4B4A-AFC7-C6331B373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1D866-B22F-44F7-AE95-3D5FB590C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463B0-85E8-4FF1-8A58-6889F6A17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DDB5E-EA94-423C-A213-DDA36E979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B8E41-5038-4C1D-8C82-1E105CD283D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00158-2698-4F37-AC3F-30C6DE6C773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57280" y="928800"/>
            <a:ext cx="7943760" cy="19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2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econd-line drug preparation for MGIT 960 DS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0B421-1D12-4B7B-8454-D9E5783AA70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79280" y="285480"/>
            <a:ext cx="8307360" cy="91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floxacin preparation: DMP formul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Rectangle 3"/>
          <p:cNvSpPr/>
          <p:nvPr/>
        </p:nvSpPr>
        <p:spPr>
          <a:xfrm>
            <a:off x="500040" y="1571760"/>
            <a:ext cx="7929720" cy="45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FX critical concentration = 2 µg/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t 040M1313V: 100% purity (no potency-adjustment necessar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lvent &amp; diluent: sterile distilled 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GIT DST tubes contain 8.4 ml to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8.4 ml × 2 µg/ml = 16.8 µg per MGIT tu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0.1 ml ×168 µg/ml added per MGIT tu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5.95 ml sterile d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 × 168 µg/ml = 1000 µg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901A2-BF13-45C5-971B-B0494CAFFF0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848664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floxacin preparation: DMP formul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Rectangle 3"/>
          <p:cNvSpPr/>
          <p:nvPr/>
        </p:nvSpPr>
        <p:spPr>
          <a:xfrm>
            <a:off x="500040" y="1571760"/>
            <a:ext cx="7929720" cy="45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ilter membrane available: cellulose acetate, 0.2 or 0.22 µ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ttach syringe filter to a 10 ml syringe; filter-sterilize into sterile cryovials and freeze immediat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aw just prior to use and do not re-freeze; discard any leftover so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"/>
              </a:rPr>
              <a:t>Acknowledge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5EB5B-32D8-45B7-8BB1-702A38A74D51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6" descr=""/>
          <p:cNvPicPr/>
          <p:nvPr/>
        </p:nvPicPr>
        <p:blipFill>
          <a:blip r:embed="rId1"/>
          <a:stretch/>
        </p:blipFill>
        <p:spPr>
          <a:xfrm>
            <a:off x="1258920" y="1413000"/>
            <a:ext cx="4102200" cy="14731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7" descr=""/>
          <p:cNvPicPr/>
          <p:nvPr/>
        </p:nvPicPr>
        <p:blipFill>
          <a:blip r:embed="rId2"/>
          <a:stretch/>
        </p:blipFill>
        <p:spPr>
          <a:xfrm>
            <a:off x="1187280" y="2924280"/>
            <a:ext cx="2089440" cy="15127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5" descr="LogoColour"/>
          <p:cNvPicPr/>
          <p:nvPr/>
        </p:nvPicPr>
        <p:blipFill>
          <a:blip r:embed="rId3"/>
          <a:stretch/>
        </p:blipFill>
        <p:spPr>
          <a:xfrm>
            <a:off x="2340000" y="4869000"/>
            <a:ext cx="2808360" cy="10825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2" descr=""/>
          <p:cNvPicPr/>
          <p:nvPr/>
        </p:nvPicPr>
        <p:blipFill>
          <a:blip r:embed="rId4"/>
          <a:stretch/>
        </p:blipFill>
        <p:spPr>
          <a:xfrm>
            <a:off x="4859280" y="2924280"/>
            <a:ext cx="302580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76755-CB68-4E96-B6C2-6ADE7CD2F3C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-360" y="285480"/>
            <a:ext cx="8604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neral drug preparation considerati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Rectangle 3"/>
          <p:cNvSpPr/>
          <p:nvPr/>
        </p:nvSpPr>
        <p:spPr>
          <a:xfrm>
            <a:off x="500040" y="1571760"/>
            <a:ext cx="7929720" cy="45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rugs may be prepared in stock solutions that are stored frozen and later thawed and diluted for use; solvents are not always distilled 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rug solutions must be sterile-filtered prior to addition to MGIT tubes, either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the 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ock solutions or diluted working sol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ilter membranes must be compatible with final drug solv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CB782-45EB-44F2-B340-035895A5926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285480"/>
            <a:ext cx="8486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 membrane guide (1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Picture 5" descr=""/>
          <p:cNvPicPr/>
          <p:nvPr/>
        </p:nvPicPr>
        <p:blipFill>
          <a:blip r:embed="rId1"/>
          <a:stretch/>
        </p:blipFill>
        <p:spPr>
          <a:xfrm>
            <a:off x="395280" y="1341360"/>
            <a:ext cx="5832360" cy="46418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6" descr=""/>
          <p:cNvPicPr/>
          <p:nvPr/>
        </p:nvPicPr>
        <p:blipFill>
          <a:blip r:embed="rId2"/>
          <a:stretch/>
        </p:blipFill>
        <p:spPr>
          <a:xfrm>
            <a:off x="6227640" y="1341360"/>
            <a:ext cx="2657520" cy="20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2EFFD-EEA1-424E-B7EB-FC045CB9CA7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 Membrane Guide (2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Picture 5" descr=""/>
          <p:cNvPicPr/>
          <p:nvPr/>
        </p:nvPicPr>
        <p:blipFill>
          <a:blip r:embed="rId1"/>
          <a:stretch/>
        </p:blipFill>
        <p:spPr>
          <a:xfrm>
            <a:off x="6227640" y="1341360"/>
            <a:ext cx="2657520" cy="20192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6" descr=""/>
          <p:cNvPicPr/>
          <p:nvPr/>
        </p:nvPicPr>
        <p:blipFill>
          <a:blip r:embed="rId2"/>
          <a:stretch/>
        </p:blipFill>
        <p:spPr>
          <a:xfrm>
            <a:off x="324000" y="1622520"/>
            <a:ext cx="5832360" cy="10047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8" descr=""/>
          <p:cNvPicPr/>
          <p:nvPr/>
        </p:nvPicPr>
        <p:blipFill>
          <a:blip r:embed="rId3"/>
          <a:stretch/>
        </p:blipFill>
        <p:spPr>
          <a:xfrm>
            <a:off x="324000" y="1413000"/>
            <a:ext cx="5832360" cy="20772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3"/>
          <p:cNvSpPr/>
          <p:nvPr/>
        </p:nvSpPr>
        <p:spPr>
          <a:xfrm>
            <a:off x="468360" y="3429000"/>
            <a:ext cx="79200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rugs prepared in a non-aqueous solvent but diluted in distilled 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 may be filtered through a membrane compatible with water but not the initial solv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ll filter membranes in the above tables are compatible with w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2CF60-78A9-4328-8221-122A25D8C4A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79280" y="285480"/>
            <a:ext cx="8307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otency/purit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Rectangle 3"/>
          <p:cNvSpPr/>
          <p:nvPr/>
        </p:nvSpPr>
        <p:spPr>
          <a:xfrm>
            <a:off x="500040" y="1571760"/>
            <a:ext cx="7959600" cy="41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rugs are purchased as powders that vary in activity from lot to l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activity of a specific drug lot is listed as potency or purity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n the Certificate of Analysis (C of A) supplied by the vend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rugs at or near 100% potency may be weighed out without adjustment (it can be assumed that 10 mg powder = 10 mg active dru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otency variabilit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tencies may not be close to 100% becaus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are other materials in the powder, such as impurities, preservatives or solubiliz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tency standards may be decades old and drug manufacturing processes have changed since the standards were establish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otency adjust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the potency of a given drug is 74.5% (or 0.745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µg/ml), how would you prepa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10 ml of a 1% solu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.01 gram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× 10 ml = 0.1 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otency adjustment: 0.1 grams/0.745 = 0.134 grams pow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eigh out 0.134 grams powder and dissolve in 10 ml for a 1% potency-adjusted so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E9F23-F9F5-41C0-AD60-59454256FE3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79280" y="285480"/>
            <a:ext cx="8307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day’s second-line drug preparati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500040" y="1571760"/>
            <a:ext cx="7929720" cy="45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ritical concentrations for MGIT960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cond-line anti-TB drugs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re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rom WHO guidel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ormulations are from NHLS Diagnostic Media Products (DM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498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thionamide (ETH): Sigma E6005, critical concentration = 5 µg/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498"/>
              </a:lnSpc>
              <a:spcBef>
                <a:spcPts val="2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floxacin (OFX): Sigma O8757, critical concentration = 2 µg/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A5533-24B0-401D-9A4A-17ADD26F821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5" descr=""/>
          <p:cNvPicPr/>
          <p:nvPr/>
        </p:nvPicPr>
        <p:blipFill>
          <a:blip r:embed="rId1"/>
          <a:stretch/>
        </p:blipFill>
        <p:spPr>
          <a:xfrm>
            <a:off x="971640" y="189000"/>
            <a:ext cx="682128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kos Somoskovi</dc:creator>
  <dc:description/>
  <dc:language>en-US</dc:language>
  <cp:lastModifiedBy>Philip</cp:lastModifiedBy>
  <dcterms:modified xsi:type="dcterms:W3CDTF">2012-01-26T09:53:02Z</dcterms:modified>
  <cp:revision>345</cp:revision>
  <dc:subject/>
  <dc:title>PowerPoint Presentation</dc:title>
</cp:coreProperties>
</file>