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04E452C-0702-4AC2-A3F1-52C8DD3590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8679CDD-58B6-4A5F-94CD-82F6393FCBD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AD9B85F-B3F8-45B5-BEC1-FC172702EBC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39E-E8AE-4D58-9385-148B0F5E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C02-37A4-4DB2-B9B1-FE3947A7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419-5369-4D1D-9AEF-24F35D1C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83A9-7E95-43DA-B84D-8E793E14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8FF1-4065-411C-B30D-6132F1C7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C913-7813-40AF-B1E2-76485B8D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3DDA-B018-45B0-9E44-D3436284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F7AD-02A0-41C2-A2CA-850A7007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9564-E587-4A38-9730-A14F310F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F19D-8E84-429E-A5B2-A5F95128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EBBB-16D3-420A-8814-05E724AB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FE8-3952-4D00-811F-E2528626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F369-DF34-4DEF-BF80-955BA770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429A-2A5E-4346-AA7F-EBC15951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9219-39C6-46C0-B00A-C0543F46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4BB4-C5F1-462B-977B-6B92734C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9552-1582-470C-86EE-991184FC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1DE-195C-4E96-983D-534270A3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A36-1605-48D0-972B-11236814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13C-A567-407B-BC9D-FAF6D30E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0B3-38FB-450F-B57C-29A28A68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995-8C40-4DD8-9342-9BE2ED15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300A-93D3-4996-B3E0-4E1B3136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01A-1D8C-4AB1-9377-E2BCC45B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4A51-CC32-4A68-85BF-61877B6694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3CD3-55E8-4D19-8555-FB7B5E94C9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sheets and labelling for BACTEC™ MGIT™ 960 drug susceptibility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0" y="5443560"/>
            <a:ext cx="8512200" cy="1338120"/>
            <a:chOff x="0" y="5443560"/>
            <a:chExt cx="8512200" cy="1338120"/>
          </a:xfrm>
        </p:grpSpPr>
        <p:sp>
          <p:nvSpPr>
            <p:cNvPr id="100" name="Text Box 7"/>
            <p:cNvSpPr/>
            <p:nvPr/>
          </p:nvSpPr>
          <p:spPr>
            <a:xfrm>
              <a:off x="1949400" y="6189840"/>
              <a:ext cx="6562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a15d70"/>
                  </a:solidFill>
                  <a:latin typeface="Arial"/>
                </a:rPr>
                <a:t>Content adapted from standardized Becton Dickinson, WHO, GLI, CDC and NHLS Training Materials for use by the African Centre for Integrated Laboratory Training, 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443560"/>
              <a:ext cx="1981080" cy="133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8037-082B-49FF-91DF-0A135A3416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55640" y="1536840"/>
            <a:ext cx="7202520" cy="4000320"/>
          </a:xfrm>
          <a:prstGeom prst="rect">
            <a:avLst/>
          </a:prstGeom>
          <a:ln w="0">
            <a:noFill/>
          </a:ln>
        </p:spPr>
      </p:pic>
      <p:sp>
        <p:nvSpPr>
          <p:cNvPr id="190" name="Oval 9"/>
          <p:cNvSpPr/>
          <p:nvPr/>
        </p:nvSpPr>
        <p:spPr>
          <a:xfrm>
            <a:off x="5105520" y="3556080"/>
            <a:ext cx="1130040" cy="124452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4088160" y="4881600"/>
            <a:ext cx="1387080" cy="3909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in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7"/>
          <p:cNvCxnSpPr/>
          <p:nvPr/>
        </p:nvCxnSpPr>
        <p:spPr>
          <a:xfrm flipV="1">
            <a:off x="4685400" y="4469760"/>
            <a:ext cx="17820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3BB0-AE28-45CA-A02B-4008631762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96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98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9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00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6413400" y="3708360"/>
            <a:ext cx="20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Will a 1:5 dilution need to be made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6311880" y="4788000"/>
            <a:ext cx="210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the seed tube is 1 - 2 days old, no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seed tube is 3 - 5 days old, 1:5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25"/>
          <p:cNvCxnSpPr>
            <a:stCxn id="215" idx="1"/>
          </p:cNvCxnSpPr>
          <p:nvPr/>
        </p:nvCxnSpPr>
        <p:spPr>
          <a:xfrm flipH="1" flipV="1">
            <a:off x="4736880" y="3644640"/>
            <a:ext cx="1676880" cy="294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E0C6-FFDB-4D41-BCD7-74C79C3D3D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23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4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25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521240" y="3530520"/>
            <a:ext cx="3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4533840" y="3720960"/>
            <a:ext cx="33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6324480" y="3594240"/>
            <a:ext cx="212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If  a PZA drug set is inoculated, a 1:10 dilution is needed to inoculate the PZA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 flipH="1" flipV="1">
            <a:off x="5104800" y="3657240"/>
            <a:ext cx="1168920" cy="534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784680" y="25401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Look here to see if PZA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29"/>
          <p:cNvCxnSpPr>
            <a:stCxn id="244" idx="1"/>
          </p:cNvCxnSpPr>
          <p:nvPr/>
        </p:nvCxnSpPr>
        <p:spPr>
          <a:xfrm flipH="1">
            <a:off x="3782160" y="2676960"/>
            <a:ext cx="2520" cy="305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F1D8-04DF-4DCF-9886-E4EC69E8CD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49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51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2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53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4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2"/>
          <p:cNvSpPr/>
          <p:nvPr/>
        </p:nvSpPr>
        <p:spPr>
          <a:xfrm>
            <a:off x="4559400" y="3556080"/>
            <a:ext cx="27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4572000" y="37465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4965840" y="33526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5"/>
          <p:cNvSpPr/>
          <p:nvPr/>
        </p:nvSpPr>
        <p:spPr>
          <a:xfrm>
            <a:off x="4965840" y="37083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6"/>
          <p:cNvSpPr/>
          <p:nvPr/>
        </p:nvSpPr>
        <p:spPr>
          <a:xfrm>
            <a:off x="7061040" y="358128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7"/>
          <p:cNvSpPr/>
          <p:nvPr/>
        </p:nvSpPr>
        <p:spPr>
          <a:xfrm>
            <a:off x="4978440" y="355608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set-up and label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hecklist to gather suppl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9480" y="1447920"/>
          <a:ext cx="7543800" cy="4635360"/>
        </p:xfrm>
        <a:graphic>
          <a:graphicData uri="http://schemas.openxmlformats.org/drawingml/2006/table">
            <a:tbl>
              <a:tblPr/>
              <a:tblGrid>
                <a:gridCol w="1052640"/>
                <a:gridCol w="5438880"/>
                <a:gridCol w="1052280"/>
              </a:tblGrid>
              <a:tr h="389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heck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lling and se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code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ured dot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arriers (5 and 2 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Transport 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anent marker fine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ne blanks (9.9 ml, 4.5 ml and 4.0 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 agar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H10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ZA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E4EE-08E7-45D3-B0BD-BD490356F8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itions for set-up and lab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Content Placeholder 7" descr="DSCN0714.jpg"/>
          <p:cNvPicPr/>
          <p:nvPr/>
        </p:nvPicPr>
        <p:blipFill>
          <a:blip r:embed="rId1"/>
          <a:srcRect l="0" t="0" r="3467" b="34659"/>
          <a:stretch/>
        </p:blipFill>
        <p:spPr>
          <a:xfrm>
            <a:off x="609480" y="1419120"/>
            <a:ext cx="3137040" cy="1592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59BE-0BAE-4978-B7EB-CE9FFF3491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DSCN0718.jpg"/>
          <p:cNvPicPr/>
          <p:nvPr/>
        </p:nvPicPr>
        <p:blipFill>
          <a:blip r:embed="rId2"/>
          <a:srcRect l="1394" t="17522" r="13489" b="32869"/>
          <a:stretch/>
        </p:blipFill>
        <p:spPr>
          <a:xfrm>
            <a:off x="5423040" y="2387520"/>
            <a:ext cx="3079440" cy="134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DSCN0720.jpg"/>
          <p:cNvPicPr/>
          <p:nvPr/>
        </p:nvPicPr>
        <p:blipFill>
          <a:blip r:embed="rId3"/>
          <a:srcRect l="5095" t="9410" r="63534" b="30002"/>
          <a:stretch/>
        </p:blipFill>
        <p:spPr>
          <a:xfrm>
            <a:off x="685800" y="3138480"/>
            <a:ext cx="104148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DSCN0722.jpg"/>
          <p:cNvPicPr/>
          <p:nvPr/>
        </p:nvPicPr>
        <p:blipFill>
          <a:blip r:embed="rId4"/>
          <a:srcRect l="0" t="22671" r="3002" b="30676"/>
          <a:stretch/>
        </p:blipFill>
        <p:spPr>
          <a:xfrm>
            <a:off x="4533840" y="4343400"/>
            <a:ext cx="4048200" cy="1460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3695760" y="1765440"/>
            <a:ext cx="41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1892160" y="326376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1739880" y="428004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code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1854360" y="5118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set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DST log sheet to determine which sets (SIRE and/or PZA) to ino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needed DST carriers on the transport r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 and PZA tubes in th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testing requires the use of PZA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Content Placeholder 5" descr="DSCN0740.jpg"/>
          <p:cNvPicPr/>
          <p:nvPr/>
        </p:nvPicPr>
        <p:blipFill>
          <a:blip r:embed="rId1"/>
          <a:srcRect l="0" t="14797" r="0" b="18814"/>
          <a:stretch/>
        </p:blipFill>
        <p:spPr>
          <a:xfrm>
            <a:off x="5054760" y="1587600"/>
            <a:ext cx="3060720" cy="152388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A502-B62A-4F61-8D98-297C572ED3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DSCN0742.jpg"/>
          <p:cNvPicPr/>
          <p:nvPr/>
        </p:nvPicPr>
        <p:blipFill>
          <a:blip r:embed="rId2"/>
          <a:srcRect l="0" t="22261" r="0" b="0"/>
          <a:stretch/>
        </p:blipFill>
        <p:spPr>
          <a:xfrm>
            <a:off x="4952880" y="3479760"/>
            <a:ext cx="359424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el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ST set is given 1 barcode l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bel is placed vertically on the Growth Control (GC)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D10C-7C32-4E7C-B1A5-5A278E07D8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DSCN0720.jpg"/>
          <p:cNvPicPr/>
          <p:nvPr/>
        </p:nvPicPr>
        <p:blipFill>
          <a:blip r:embed="rId1"/>
          <a:stretch/>
        </p:blipFill>
        <p:spPr>
          <a:xfrm>
            <a:off x="4660920" y="2946240"/>
            <a:ext cx="223848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decod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Content Placeholder 4" descr="dot definitions.jpg"/>
          <p:cNvPicPr/>
          <p:nvPr/>
        </p:nvPicPr>
        <p:blipFill>
          <a:blip r:embed="rId1"/>
          <a:stretch/>
        </p:blipFill>
        <p:spPr>
          <a:xfrm>
            <a:off x="4368960" y="523800"/>
            <a:ext cx="3603600" cy="571176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0567-8A18-4573-9401-370D3531FB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0312-0A2D-45C6-864C-4E7838CD79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T work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 the age of a MGIT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what dilutions need to be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rcode and Dot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lab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9440" y="17049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pecimen ID number on each growth control dot label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irst initial of each drug and set serial number on the appropriate coloured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serial number is found in the far left column of the MTB MGIT DST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ots to the tops of the MGIT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ntent Placeholder 8" descr="DSCN0726.jpg"/>
          <p:cNvPicPr/>
          <p:nvPr/>
        </p:nvPicPr>
        <p:blipFill>
          <a:blip r:embed="rId1"/>
          <a:srcRect l="43441" t="0" r="0" b="487"/>
          <a:stretch/>
        </p:blipFill>
        <p:spPr>
          <a:xfrm>
            <a:off x="5956200" y="1352520"/>
            <a:ext cx="2286000" cy="301644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D473-5D9D-4695-8FC9-0CBCE1EF0C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DSCN0729.jpg"/>
          <p:cNvPicPr/>
          <p:nvPr/>
        </p:nvPicPr>
        <p:blipFill>
          <a:blip r:embed="rId2"/>
          <a:stretch/>
        </p:blipFill>
        <p:spPr>
          <a:xfrm>
            <a:off x="4521240" y="38926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IRE DST sets will need a 9.9 ml saline blank (1:10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ZA DST sets will need a 4.5 ml saline blank (1:1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seed tubes that are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days old will need a 4.0 saline blank (1:5 dilution) (check worksh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0F3E-B345-4CF4-9B93-1AE06BEE36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DSCN0731.jpg"/>
          <p:cNvPicPr/>
          <p:nvPr/>
        </p:nvPicPr>
        <p:blipFill>
          <a:blip r:embed="rId1"/>
          <a:srcRect l="17506" t="-902" r="10565" b="0"/>
          <a:stretch/>
        </p:blipFill>
        <p:spPr>
          <a:xfrm>
            <a:off x="5803920" y="1092240"/>
            <a:ext cx="2679840" cy="28195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DSCN0736.jpg"/>
          <p:cNvPicPr/>
          <p:nvPr/>
        </p:nvPicPr>
        <p:blipFill>
          <a:blip r:embed="rId2"/>
          <a:srcRect l="16993" t="11654" r="-1950" b="9919"/>
          <a:stretch/>
        </p:blipFill>
        <p:spPr>
          <a:xfrm>
            <a:off x="4584600" y="3681360"/>
            <a:ext cx="334008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48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saline blank or dilution tube with the Specimen ID number and the dilu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in a rack as shown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the front row empty for the seed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0D88-602D-424E-9ECD-94846FCC8B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Content Placeholder 6" descr="dilution diagram.jpg"/>
          <p:cNvPicPr/>
          <p:nvPr/>
        </p:nvPicPr>
        <p:blipFill>
          <a:blip r:embed="rId1"/>
          <a:stretch/>
        </p:blipFill>
        <p:spPr>
          <a:xfrm>
            <a:off x="4432320" y="1746360"/>
            <a:ext cx="4049640" cy="2025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3251160" y="3936960"/>
            <a:ext cx="1917720" cy="824040"/>
          </a:xfrm>
          <a:prstGeom prst="rect">
            <a:avLst/>
          </a:prstGeom>
          <a:noFill/>
          <a:ln w="38160">
            <a:solidFill>
              <a:srgbClr val="304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0 ml saline blank is used to prepare the 1:5 dilution needed if the MGIT seed tube is 3-5 days ol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**This tube is not needed if the MGIT seed tube is 1-2 days 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9"/>
          <p:cNvCxnSpPr/>
          <p:nvPr/>
        </p:nvCxnSpPr>
        <p:spPr>
          <a:xfrm flipV="1">
            <a:off x="4102200" y="3301560"/>
            <a:ext cx="660600" cy="635760"/>
          </a:xfrm>
          <a:prstGeom prst="straightConnector1">
            <a:avLst/>
          </a:prstGeom>
          <a:ln w="38160">
            <a:solidFill>
              <a:srgbClr val="3044b5"/>
            </a:solidFill>
            <a:miter/>
            <a:tailEnd len="med" type="arrow" w="med"/>
          </a:ln>
        </p:spPr>
      </p:cxnSp>
      <p:sp>
        <p:nvSpPr>
          <p:cNvPr id="317" name="TextBox 10"/>
          <p:cNvSpPr/>
          <p:nvPr/>
        </p:nvSpPr>
        <p:spPr>
          <a:xfrm>
            <a:off x="4216320" y="4902120"/>
            <a:ext cx="2146320" cy="6112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5 ml saline blank is needed to prepare the 1:10 diluti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ll be used to inoculate the PZA growth control (GC) tu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12"/>
          <p:cNvCxnSpPr/>
          <p:nvPr/>
        </p:nvCxnSpPr>
        <p:spPr>
          <a:xfrm flipH="1" flipV="1">
            <a:off x="4978080" y="2577600"/>
            <a:ext cx="699120" cy="23378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19" name="TextBox 15"/>
          <p:cNvSpPr/>
          <p:nvPr/>
        </p:nvSpPr>
        <p:spPr>
          <a:xfrm>
            <a:off x="5816520" y="3962520"/>
            <a:ext cx="2197080" cy="703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9.9 ml saline blank is needed to prepare the 1:100 dilution that will be used to inoculate the SIRE growth control (GC)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7"/>
          <p:cNvCxnSpPr/>
          <p:nvPr/>
        </p:nvCxnSpPr>
        <p:spPr>
          <a:xfrm flipH="1" flipV="1">
            <a:off x="5016240" y="2133360"/>
            <a:ext cx="1257840" cy="18165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ABCE-CDE7-4E14-BFED-E16DE69FC9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4680" y="1612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formation on the Unloaded Positives Report to fill out the DST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/PZA tubes in carriers in the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he appropriate barcode label on each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drug tube and GC tube with the correct do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and place the necessary saline blanks in a rack; refer to the DST worksheet to determine which dilutions a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61C2-F05E-4A33-AC4C-B6E3800A9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BA52-7FED-4D0C-9B1A-C661FC8EDC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008D-941D-4B28-BE8A-ECB9D40AAF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085760" y="1436760"/>
            <a:ext cx="611532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581880" y="1576440"/>
            <a:ext cx="22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Enter the date inoculated and init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7"/>
          <p:cNvCxnSpPr>
            <a:stCxn id="115" idx="1"/>
          </p:cNvCxnSpPr>
          <p:nvPr/>
        </p:nvCxnSpPr>
        <p:spPr>
          <a:xfrm flipH="1" flipV="1">
            <a:off x="6152400" y="1675800"/>
            <a:ext cx="429480" cy="100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0BAC-6852-4050-A7C4-7E8484C3ED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5529240" y="1457280"/>
            <a:ext cx="10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06440" y="3678120"/>
            <a:ext cx="98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List laboratory serial numbers for D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7"/>
          <p:cNvCxnSpPr/>
          <p:nvPr/>
        </p:nvCxnSpPr>
        <p:spPr>
          <a:xfrm flipV="1">
            <a:off x="1042920" y="3642840"/>
            <a:ext cx="629280" cy="2008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5" name="Straight Arrow Connector 9"/>
          <p:cNvCxnSpPr/>
          <p:nvPr/>
        </p:nvCxnSpPr>
        <p:spPr>
          <a:xfrm flipV="1">
            <a:off x="1042560" y="3857040"/>
            <a:ext cx="615240" cy="315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0189-3666-4AC8-833B-E061B88E6E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071720" y="1407960"/>
            <a:ext cx="6114960" cy="4692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6200" y="3532320"/>
            <a:ext cx="11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533600" y="3728880"/>
            <a:ext cx="10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14360" y="3943440"/>
            <a:ext cx="1042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dditional information – TB register no., referred from another laborat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 flipV="1">
            <a:off x="1269720" y="3696480"/>
            <a:ext cx="1033920" cy="90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0E44-73EE-4784-814B-1624AEDDDC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551600" y="35640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539000" y="37227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flipV="1" rot="10800000">
            <a:off x="6172200" y="3700800"/>
            <a:ext cx="21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Indicate what type of media the seed inoculum is growing on, usually MGIT or 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1"/>
          <p:cNvCxnSpPr>
            <a:stCxn id="146" idx="3"/>
          </p:cNvCxnSpPr>
          <p:nvPr/>
        </p:nvCxnSpPr>
        <p:spPr>
          <a:xfrm flipH="1" flipV="1">
            <a:off x="3228480" y="3571560"/>
            <a:ext cx="2944080" cy="546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1D36-1958-41D8-B9A8-1EA2C2B06E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5498640" y="150660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77160" y="35514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564560" y="37353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771640" y="3586320"/>
            <a:ext cx="57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767680" y="339264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2781720" y="376380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386400" y="3743280"/>
            <a:ext cx="13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ick test(s) to be ino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15"/>
          <p:cNvCxnSpPr/>
          <p:nvPr/>
        </p:nvCxnSpPr>
        <p:spPr>
          <a:xfrm flipH="1" flipV="1">
            <a:off x="3499560" y="3485520"/>
            <a:ext cx="2915640" cy="10580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3" name="Straight Arrow Connector 16"/>
          <p:cNvCxnSpPr>
            <a:stCxn id="161" idx="1"/>
          </p:cNvCxnSpPr>
          <p:nvPr/>
        </p:nvCxnSpPr>
        <p:spPr>
          <a:xfrm flipH="1" flipV="1">
            <a:off x="3857760" y="3466440"/>
            <a:ext cx="2529000" cy="872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4353-651B-43C7-BBA1-361E5C27A1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67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0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1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Box 24"/>
          <p:cNvSpPr/>
          <p:nvPr/>
        </p:nvSpPr>
        <p:spPr>
          <a:xfrm>
            <a:off x="6286680" y="3606840"/>
            <a:ext cx="223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Record age of MGIT seed tubes. Use the Unloaded Positives Report to determine the age of each MGIT and write it in the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5"/>
          <p:cNvSpPr/>
          <p:nvPr/>
        </p:nvSpPr>
        <p:spPr>
          <a:xfrm>
            <a:off x="5867280" y="5448240"/>
            <a:ext cx="2146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Arial"/>
              </a:rPr>
              <a:t>***Remember that the day the MGIT instrument indicated that it is positive is day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 flipH="1" flipV="1">
            <a:off x="4355280" y="3682800"/>
            <a:ext cx="2019960" cy="1156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Philip</cp:lastModifiedBy>
  <cp:lastPrinted>2001-02-05T14:45:01Z</cp:lastPrinted>
  <dcterms:modified xsi:type="dcterms:W3CDTF">2012-01-26T09:48:23Z</dcterms:modified>
  <cp:revision>475</cp:revision>
  <dc:subject>Growth and Detection: Marketing Overview and DATA</dc:subject>
  <dc:title>BACTEC® MGIT 960 System</dc:title>
</cp:coreProperties>
</file>