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457E-7B80-4087-8912-7768A94F797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F18A-EE65-4C1D-89ED-DCA1F2A409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745C-0860-45A9-867D-C7971C94E7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CE2-95C7-4383-A152-A55C8CE1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C03-05EA-4757-82CE-6FA2077F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02B-2970-4AD5-98C7-D4F6DBC9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9C9-8885-4C17-9844-8014B313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D366-D65B-4B2B-8903-5B43FD69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3629-6F6F-406D-8D39-852FA062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2761-203A-4F41-AD16-0D3F1D10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0A68-FD45-44A2-A34B-8EC4951F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B973-F86A-4ECF-B6F7-9704EF3C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09FE-E437-423F-8204-868CCCCE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8B00-0D45-468C-B174-3ABC195F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818-7CC3-4641-85D1-8E35E9BA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0633-0A00-4F6C-A628-2D4F624B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0ABF-2850-4481-817D-A23CB7CA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A30F-DFBF-46EA-9C11-66CB36B7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667D-EACF-48FB-A428-5488779D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CDDA-C6B7-42FE-8699-30BB50B7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19F-8D51-4C86-940F-350AB4D4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7EE-B68D-400C-B7F2-726AA607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2E6-F692-405A-9820-76B5366E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3D6-495B-4066-9F0C-3A585F1C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466-5989-44DF-9793-702BB4E7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751-4EF4-4ED2-88B4-E2F66CD4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548-859B-42F6-9E5C-3EDB90C0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B9D1-00DA-4AE0-ACC6-BFF3941E50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E819-B2A9-455A-A6A1-51D243E4A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0012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for submission, acceptance and processing of isolates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guidance for all count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carriage of Category A infectious substances should be strictly prohibited on air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packages containing infectious substances should not be consolidated with unrelated type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ers of infectious substances should ensure that packages are prepared so they arrive in good condition and present no hazard during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40B3-E929-4354-8584-4C8BCE4769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eria for rejection of an iso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rocess; contact the submitter to resubmit isolate for the following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bel 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or leaking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overgrown with conta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Opening tube with mould can contaminate BSC and other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may be processed if minor questions can be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ings between tube and reques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ubmitter to clarif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E087-5495-4153-A0D7-EB5D47BFA0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ation of isolate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599840"/>
            <a:ext cx="814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isolate as belonging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 TB isolate is not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molecular or liquid medium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DST in liquid broth in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7302-2DE7-469C-BD26-8A838AA00D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4200" y="763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solate must be identified as MTBC before performing D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65308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4"/>
          <p:cNvSpPr/>
          <p:nvPr/>
        </p:nvSpPr>
        <p:spPr>
          <a:xfrm>
            <a:off x="5940360" y="387504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5"/>
          <p:cNvSpPr/>
          <p:nvPr/>
        </p:nvSpPr>
        <p:spPr>
          <a:xfrm>
            <a:off x="5940360" y="459432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0"/>
          <p:cNvSpPr/>
          <p:nvPr/>
        </p:nvSpPr>
        <p:spPr>
          <a:xfrm>
            <a:off x="3276720" y="3514680"/>
            <a:ext cx="23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5005440" y="3154320"/>
            <a:ext cx="2303280" cy="43200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1"/>
          <p:cNvSpPr/>
          <p:nvPr/>
        </p:nvSpPr>
        <p:spPr>
          <a:xfrm>
            <a:off x="2629080" y="1785960"/>
            <a:ext cx="3600360" cy="7207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327672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1692360" y="3154320"/>
            <a:ext cx="2303280" cy="4320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9"/>
          <p:cNvSpPr/>
          <p:nvPr/>
        </p:nvSpPr>
        <p:spPr>
          <a:xfrm>
            <a:off x="971640" y="459432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8"/>
          <p:cNvSpPr/>
          <p:nvPr/>
        </p:nvSpPr>
        <p:spPr>
          <a:xfrm>
            <a:off x="971640" y="387504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2413080" y="5170320"/>
            <a:ext cx="58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3708360" y="3083040"/>
            <a:ext cx="72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2556000" y="1905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ulture positive for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4500720" y="2506680"/>
            <a:ext cx="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3924360" y="27939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11280" y="2602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ony and Cellular 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5076720" y="26337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wth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>
            <a:off x="291600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 flipH="1">
            <a:off x="291600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H="1">
            <a:off x="565272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 flipH="1">
            <a:off x="565272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973080" y="3940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ochemica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971640" y="466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tige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013440" y="3990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-prob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300720" y="46674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1692360" y="31543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ventio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221440" y="3154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a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1143000" y="5572080"/>
            <a:ext cx="6858000" cy="642600"/>
          </a:xfrm>
          <a:prstGeom prst="rect">
            <a:avLst/>
          </a:prstGeom>
          <a:noFill/>
          <a:ln w="19080">
            <a:solidFill>
              <a:srgbClr val="3d3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uberculous mycobacteria can be resistant to anti-TB drugs, and testing can result in inappropriate patient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38DC-F520-42F0-A2BE-5DF8819AC2F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on solid med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360" y="1447920"/>
            <a:ext cx="823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 medium contains bacteriosta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hite green inhibits most environmental and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move liquid in bottom of LJ before inoculation. Loosen cap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xposure to malachite green, so contaminants may eventually grow in this liqu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ted LJ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amination is slight, attempt to isolate TB colonies; transfer to new 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tally contaminated, request a new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F222-B1C0-4AF8-85C5-79B7B27464D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in MGIT tub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2160" y="1447920"/>
            <a:ext cx="68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ed MGIT tubes usually become positive very e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–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er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-intracellul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(MAC) may be positive i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eous tu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cid-fast bacteria may be seen in AFB smear of MGIT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r without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lture to blood agar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 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0" t="0" r="50031" b="0"/>
          <a:stretch/>
        </p:blipFill>
        <p:spPr>
          <a:xfrm>
            <a:off x="7162920" y="2274840"/>
            <a:ext cx="761760" cy="2568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ST performed using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blems with egg-based media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y of drugs may be diminished during inspis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the eggs (phospholipids, proteins) affect som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agar with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C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-to-lot variations in quality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on solid media requires 3 to 4 weeks of inc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F93C-EBBC-4D78-AAAB-6C309C7519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standard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r proportion method using Middlebrook 7H10 with quality assured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he standard method for TB DST in the USA and many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irst- and second-line drugs can be accurately tested for susceptibility or resistance using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ecause of the long turn-around time, the method is more appropriate for surveillance than for individual patient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5F10-9861-4410-8B32-0F54682A6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5144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molecul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liquid medium D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356840"/>
            <a:ext cx="84297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erformed withi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TB is included in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MDR TB is quite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results may be obtained even with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t all drug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dium DST using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ady within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validated for al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 including PZA and som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57B4-3F99-49DD-8C31-A1FFF594F5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cells for molecular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428480"/>
            <a:ext cx="8429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uspension of cells in steril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on solid medium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cells from slant wit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uspension in 300 µl of steri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in liquid medium (MGIT br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1 ml portion of the suspension to a micro-centrifug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 for 15 min and resuspend pellet in 300 µl of sterile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76A4-BF87-4FC9-9705-3635BAD5EE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ubmission process for isolates receiv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riteria for acceptance or rejection of iso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B isolates are prepar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molecular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99840"/>
            <a:ext cx="742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20 min in a 9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ater bath (kills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15 min in an ultrasonic water bath (optional for iso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 and use approximately 5 µl of the supernatant for P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13BA-7939-4982-94B0-A3894DD517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isolates for MGIT D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can be grown either on solid or liquid media prior to being tested in the MGIT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ealthy cells in logarithmic phas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airly light inoculum so that drug concentrations are not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should be AFB-positive and identified as a pure culture of the MTB complex before furthe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8BE0-AD0F-4BEF-85D2-AB03F40803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culum from the MGIT tu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ng to the following recommended timeframe is important for accu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y a MGIT tube is positive by the instrument is consider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ube should be kept incubated for at least one more da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before D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be incubated in a separate incubator at 37 ºC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sitive tube may be used for DST up to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ube that has been positive for more than 5 days should be subcultured into a fresh MGIT tube and incubated until it is positive;  use this tube from 1 to 5 days of instrument positivity as describ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n a tube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use the supernatant undiluted for inoculation of the drug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3, 4 or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then dilute 1.0 ml of the positive broth with 4.0 ml of sterile saline.  This will be a 1:5 dilution.  Use this well-mixed diluted culture for ino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D197-0BB3-43F2-A55A-758507DE70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06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oculum from growth on solid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480"/>
            <a:ext cx="8391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owth on solid medium within 15 days of appearance of posi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 large amount of growth into a tube with broth or saline and glass beads; vortex the tube f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nutes to break the clumps – the turbidity should be &gt; McFarland #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uspension stand undisturbed for 20 minutes, then transfer the supernatant into another sterile tub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is tube stand undisturbed for another 15 minutes then transfer the supernatant into another sterile tube – the turbidity should &gt; McFarland #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turbidity of this suspension down to McFarland #0.5 by adding sterile saline; do not make it below thi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the above suspension 1:5 by adding 1.0 ml of the suspension to 4.0 ml of sterile saline;  mix well and use it as the inoculum for drug suscepti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C709-D7D3-4F80-B96A-926A1606E0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: Isolates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1481040"/>
            <a:ext cx="86439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can either be grown in the DST testing laboratory or referred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of isolates to the DST testing laboratory must be safe, timely, efficient an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should not be tested if they are unlabelled, leaked, or overgrown with m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using molecular or MGIT system methods have much shorter turn-around times than DST using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enotypic DST, growth should be AFB-positive, and identified as a pure culture of the MTB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611D-39BF-4051-9FCB-13CE7D55B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A3F3-EB60-4A0D-8568-C4F4178B07A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isol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red to DST testing laboratory from another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DST testing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acceptance or rejection of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ling, lea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ing the isolate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ar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Ex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referred to DST testing laboratory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o process sputum specimens and perform culture in laboratories near to where specimen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nts may overgrow TB in sputum specimens during transport time and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s more likely to survive transportatio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biosafety requirements must be strictly followed to transport iso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identification and DST are best performed at National TB Reference Laboratory or other Quality Assured referral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time and need to re-grow isolate delays DST report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s and relevant and patient information must be accurately transcribed and transported to the NTRL for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34F4-387F-430E-B957-8B55A997AD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In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grown in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patient has already been documented when specimen received for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atabase or log books provide information on previous tests performed on this sam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mear results on current is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n tests performed on specimens from this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issues seen with previous specimens or isolates can b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growth found only on either liquid or solid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turn-around time for reporting D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s contained within same laboratory; biosafety issues easier to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2DCA-3644-40E0-A31C-6FF8693388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portation to DST testing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suspected of being TB must be transported to the DST testing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ly – protect transport agents from risk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– ensure viable isolates fo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– delivery to appropriate 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ly – according to national and international transport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BAFA-239A-4FA1-91D3-89880A89DE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portation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uidance on Regulations for the Transport of Infectious Substances 2009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cobacterium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ssified as Infectious substance, Categor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causing life-threatening or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name is UN2814 – INFECTIOUS SUBSTANCE AFFECTING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8FEB-BF74-40A8-94DD-4C254EE3FB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00760" y="63579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/HSE/EPR/200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triple packaging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571760"/>
            <a:ext cx="492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ly marked and labelled with appropriate shipp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8AC4-6BEA-4692-949C-085F8498B8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rcRect l="7491" t="12002" r="3884" b="0"/>
          <a:stretch/>
        </p:blipFill>
        <p:spPr>
          <a:xfrm>
            <a:off x="3714840" y="1714680"/>
            <a:ext cx="5286240" cy="3276360"/>
          </a:xfrm>
          <a:prstGeom prst="rect">
            <a:avLst/>
          </a:prstGeom>
          <a:ln w="9360">
            <a:solidFill>
              <a:srgbClr val="3d3d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 all countries have adopted the United Nation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uidelines apply whenever the UN system for the transport of infectious substances has been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ncourages all countries to adopt th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principles described are not intended to supersede national or loc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45AA-2D3B-4CDF-A7F5-41E1C27A3D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7:48Z</dcterms:modified>
  <cp:revision>175</cp:revision>
  <dc:subject/>
  <dc:title>PowerPoint Presentation</dc:title>
</cp:coreProperties>
</file>