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9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18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1800" y="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973320" y="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90520" y="705960"/>
            <a:ext cx="4632480" cy="347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180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B89E3199-6EF4-4A68-A4F4-3A04D880723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94C7075-3F32-4FB8-99DD-E117B391604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CC6AECF-8963-4E24-BE00-8DEFBCB4EEF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2A4E-247E-486D-9168-DD3969C43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7068-C0FB-4E18-8553-135BBC83F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04B7-9ED7-4924-AE2E-6DF12C5A0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D7CC-691B-4244-8DF0-89198078E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15954-0BEA-47A8-9F43-7890AB316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7E070-4782-43B3-9B4C-4168951CA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3A149-DF41-462D-B42E-9E0AF9D20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07B6D-DD08-4324-B697-289F754E7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B2730-9F53-43B1-80C4-0F1A146B0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C62F8-AB49-4231-9474-758676C5A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C71E9-411C-4A08-A55D-3EBEF93BE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CA3E-EA7B-472A-BCB7-A414BB880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6715E-4048-40DF-9CEA-A85C06888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831E6-62B1-427F-AE2A-194FBF793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F7DDF-55CC-4F09-9C86-2BC904876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A5B08-A4DC-4A40-9257-1C5648B80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FEE79-BE7D-417A-8ACA-BF05C3E4C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5C11-D8B9-483C-809B-B58DDE429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FBC1-082B-4557-B745-6B5C6E48D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3C1B-B9A1-4904-85D1-C01A1D6FC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6F21-299B-425D-9C07-078660E9E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1A11-4060-483B-9C93-A04627ACA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2A8C-1C02-443D-B57C-1183F0C5F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6EF7-C01E-4520-9D30-FDB1B8D63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1FA0A-6253-492F-9ABA-B9186F6143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B6102-91F0-438B-B151-E62716AB6B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.wmf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orksheets and labelling for BACTEC™ MGIT™ 960 drug susceptibility tes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" name="Group 6"/>
          <p:cNvGrpSpPr/>
          <p:nvPr/>
        </p:nvGrpSpPr>
        <p:grpSpPr>
          <a:xfrm>
            <a:off x="0" y="5443560"/>
            <a:ext cx="8512200" cy="1338120"/>
            <a:chOff x="0" y="5443560"/>
            <a:chExt cx="8512200" cy="1338120"/>
          </a:xfrm>
        </p:grpSpPr>
        <p:sp>
          <p:nvSpPr>
            <p:cNvPr id="100" name="Text Box 7"/>
            <p:cNvSpPr/>
            <p:nvPr/>
          </p:nvSpPr>
          <p:spPr>
            <a:xfrm>
              <a:off x="1949400" y="6189840"/>
              <a:ext cx="6562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a15d70"/>
                  </a:solidFill>
                  <a:latin typeface="Arial"/>
                </a:rPr>
                <a:t>Content adapted from standardized Becton Dickinson, WHO, GLI, CDC and NHLS Training Materials for use by the African Centre for Integrated Laboratory Training, 20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443560"/>
              <a:ext cx="1981080" cy="13381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nloaded positives repor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F6092-C0CF-4E5A-BF76-071EFE1E64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755640" y="1536840"/>
            <a:ext cx="7202520" cy="4000320"/>
          </a:xfrm>
          <a:prstGeom prst="rect">
            <a:avLst/>
          </a:prstGeom>
          <a:ln w="0">
            <a:noFill/>
          </a:ln>
        </p:spPr>
      </p:pic>
      <p:sp>
        <p:nvSpPr>
          <p:cNvPr id="190" name="Oval 9"/>
          <p:cNvSpPr/>
          <p:nvPr/>
        </p:nvSpPr>
        <p:spPr>
          <a:xfrm>
            <a:off x="5105520" y="3556080"/>
            <a:ext cx="1130040" cy="124452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5"/>
          <p:cNvSpPr/>
          <p:nvPr/>
        </p:nvSpPr>
        <p:spPr>
          <a:xfrm>
            <a:off x="4088160" y="4881600"/>
            <a:ext cx="1387080" cy="390960"/>
          </a:xfrm>
          <a:prstGeom prst="ellipse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e in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Straight Arrow Connector 7"/>
          <p:cNvCxnSpPr/>
          <p:nvPr/>
        </p:nvCxnSpPr>
        <p:spPr>
          <a:xfrm flipV="1">
            <a:off x="4685400" y="4469760"/>
            <a:ext cx="178200" cy="3690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</p:spTree>
  </p:cSld>
  <p:transition spd="med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ing the TB MGIT DST log she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F9ED0-E077-4D04-93E6-2FA7639CAC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21"/>
          <p:cNvGrpSpPr/>
          <p:nvPr/>
        </p:nvGrpSpPr>
        <p:grpSpPr>
          <a:xfrm>
            <a:off x="750960" y="1422360"/>
            <a:ext cx="6435720" cy="4692600"/>
            <a:chOff x="750960" y="1422360"/>
            <a:chExt cx="6435720" cy="4692600"/>
          </a:xfrm>
        </p:grpSpPr>
        <p:pic>
          <p:nvPicPr>
            <p:cNvPr id="196" name="Picture 7" descr=""/>
            <p:cNvPicPr/>
            <p:nvPr/>
          </p:nvPicPr>
          <p:blipFill>
            <a:blip r:embed="rId1"/>
            <a:stretch/>
          </p:blipFill>
          <p:spPr>
            <a:xfrm>
              <a:off x="1071360" y="1422360"/>
              <a:ext cx="6115320" cy="469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7" name="Group 19"/>
            <p:cNvGrpSpPr/>
            <p:nvPr/>
          </p:nvGrpSpPr>
          <p:grpSpPr>
            <a:xfrm>
              <a:off x="750960" y="1506240"/>
              <a:ext cx="5380920" cy="3213000"/>
              <a:chOff x="750960" y="1506240"/>
              <a:chExt cx="5380920" cy="3213000"/>
            </a:xfrm>
          </p:grpSpPr>
          <p:sp>
            <p:nvSpPr>
              <p:cNvPr id="198" name="Rectangle 5"/>
              <p:cNvSpPr/>
              <p:nvPr/>
            </p:nvSpPr>
            <p:spPr>
              <a:xfrm>
                <a:off x="5498640" y="1506240"/>
                <a:ext cx="633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9/03/20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199" name="Content Placeholder 4"/>
              <p:cNvGraphicFramePr/>
              <p:nvPr/>
            </p:nvGraphicFramePr>
            <p:xfrm>
              <a:off x="750960" y="2899800"/>
              <a:ext cx="3602160" cy="181944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200" name="Content Placeholder 4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750960" y="2899800"/>
                        <a:ext cx="3602160" cy="1819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01" name="Rectangle 6"/>
              <p:cNvSpPr/>
              <p:nvPr/>
            </p:nvSpPr>
            <p:spPr>
              <a:xfrm>
                <a:off x="1564560" y="3563640"/>
                <a:ext cx="744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1148201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Rectangle 7"/>
              <p:cNvSpPr/>
              <p:nvPr/>
            </p:nvSpPr>
            <p:spPr>
              <a:xfrm>
                <a:off x="1564560" y="3735360"/>
                <a:ext cx="744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1148201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TextBox 8"/>
              <p:cNvSpPr/>
              <p:nvPr/>
            </p:nvSpPr>
            <p:spPr>
              <a:xfrm>
                <a:off x="2157480" y="3571560"/>
                <a:ext cx="728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6-241-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Rectangle 9"/>
              <p:cNvSpPr/>
              <p:nvPr/>
            </p:nvSpPr>
            <p:spPr>
              <a:xfrm>
                <a:off x="2178360" y="3735360"/>
                <a:ext cx="586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2-483-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TextBox 10"/>
              <p:cNvSpPr/>
              <p:nvPr/>
            </p:nvSpPr>
            <p:spPr>
              <a:xfrm>
                <a:off x="2772000" y="3585600"/>
                <a:ext cx="5713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11"/>
              <p:cNvSpPr/>
              <p:nvPr/>
            </p:nvSpPr>
            <p:spPr>
              <a:xfrm>
                <a:off x="2767680" y="3392280"/>
                <a:ext cx="43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ectangle 12"/>
              <p:cNvSpPr/>
              <p:nvPr/>
            </p:nvSpPr>
            <p:spPr>
              <a:xfrm>
                <a:off x="2782080" y="3763800"/>
                <a:ext cx="43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Box 13"/>
              <p:cNvSpPr/>
              <p:nvPr/>
            </p:nvSpPr>
            <p:spPr>
              <a:xfrm>
                <a:off x="3329280" y="3385800"/>
                <a:ext cx="2714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14"/>
              <p:cNvSpPr/>
              <p:nvPr/>
            </p:nvSpPr>
            <p:spPr>
              <a:xfrm>
                <a:off x="3318480" y="357804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15"/>
              <p:cNvSpPr/>
              <p:nvPr/>
            </p:nvSpPr>
            <p:spPr>
              <a:xfrm>
                <a:off x="3318480" y="373536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Rectangle 16"/>
              <p:cNvSpPr/>
              <p:nvPr/>
            </p:nvSpPr>
            <p:spPr>
              <a:xfrm>
                <a:off x="3647160" y="337788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17"/>
              <p:cNvSpPr/>
              <p:nvPr/>
            </p:nvSpPr>
            <p:spPr>
              <a:xfrm>
                <a:off x="3632760" y="373536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3" name="TextBox 20"/>
          <p:cNvSpPr/>
          <p:nvPr/>
        </p:nvSpPr>
        <p:spPr>
          <a:xfrm>
            <a:off x="4089240" y="3530520"/>
            <a:ext cx="3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21"/>
          <p:cNvSpPr/>
          <p:nvPr/>
        </p:nvSpPr>
        <p:spPr>
          <a:xfrm>
            <a:off x="4102200" y="3746520"/>
            <a:ext cx="291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22"/>
          <p:cNvSpPr/>
          <p:nvPr/>
        </p:nvSpPr>
        <p:spPr>
          <a:xfrm>
            <a:off x="6413400" y="3708360"/>
            <a:ext cx="2095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Will a 1:5 dilution need to be made?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23"/>
          <p:cNvSpPr/>
          <p:nvPr/>
        </p:nvSpPr>
        <p:spPr>
          <a:xfrm>
            <a:off x="6311880" y="4788000"/>
            <a:ext cx="21081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Arial"/>
              </a:rPr>
              <a:t>If the seed tube is 1 - 2 days old, no dilution is nee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Arial"/>
              </a:rPr>
              <a:t>If seed tube is 3 - 5 days old, 1:5 dilution is nee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7" name="Straight Arrow Connector 25"/>
          <p:cNvCxnSpPr>
            <a:stCxn id="215" idx="1"/>
          </p:cNvCxnSpPr>
          <p:nvPr/>
        </p:nvCxnSpPr>
        <p:spPr>
          <a:xfrm flipH="1" flipV="1">
            <a:off x="4736880" y="3644640"/>
            <a:ext cx="1676880" cy="29448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ing the TB MGIT DST log she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78494-D16A-4E0F-8B42-3868C7AFDF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21"/>
          <p:cNvGrpSpPr/>
          <p:nvPr/>
        </p:nvGrpSpPr>
        <p:grpSpPr>
          <a:xfrm>
            <a:off x="750960" y="1422360"/>
            <a:ext cx="6435720" cy="4692600"/>
            <a:chOff x="750960" y="1422360"/>
            <a:chExt cx="6435720" cy="4692600"/>
          </a:xfrm>
        </p:grpSpPr>
        <p:pic>
          <p:nvPicPr>
            <p:cNvPr id="221" name="Picture 7" descr=""/>
            <p:cNvPicPr/>
            <p:nvPr/>
          </p:nvPicPr>
          <p:blipFill>
            <a:blip r:embed="rId1"/>
            <a:stretch/>
          </p:blipFill>
          <p:spPr>
            <a:xfrm>
              <a:off x="1071360" y="1422360"/>
              <a:ext cx="6115320" cy="469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2" name="Group 19"/>
            <p:cNvGrpSpPr/>
            <p:nvPr/>
          </p:nvGrpSpPr>
          <p:grpSpPr>
            <a:xfrm>
              <a:off x="750960" y="1506240"/>
              <a:ext cx="5380920" cy="3213000"/>
              <a:chOff x="750960" y="1506240"/>
              <a:chExt cx="5380920" cy="3213000"/>
            </a:xfrm>
          </p:grpSpPr>
          <p:sp>
            <p:nvSpPr>
              <p:cNvPr id="223" name="Rectangle 5"/>
              <p:cNvSpPr/>
              <p:nvPr/>
            </p:nvSpPr>
            <p:spPr>
              <a:xfrm>
                <a:off x="5498640" y="1506240"/>
                <a:ext cx="633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9/03/20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224" name="Content Placeholder 4"/>
              <p:cNvGraphicFramePr/>
              <p:nvPr/>
            </p:nvGraphicFramePr>
            <p:xfrm>
              <a:off x="750960" y="2899800"/>
              <a:ext cx="3602160" cy="181944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225" name="Content Placeholder 4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750960" y="2899800"/>
                        <a:ext cx="3602160" cy="1819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26" name="Rectangle 6"/>
              <p:cNvSpPr/>
              <p:nvPr/>
            </p:nvSpPr>
            <p:spPr>
              <a:xfrm>
                <a:off x="1564560" y="3563640"/>
                <a:ext cx="744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1148201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Rectangle 7"/>
              <p:cNvSpPr/>
              <p:nvPr/>
            </p:nvSpPr>
            <p:spPr>
              <a:xfrm>
                <a:off x="1564560" y="3735360"/>
                <a:ext cx="744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1148201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TextBox 8"/>
              <p:cNvSpPr/>
              <p:nvPr/>
            </p:nvSpPr>
            <p:spPr>
              <a:xfrm>
                <a:off x="2157480" y="3571560"/>
                <a:ext cx="728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6-241-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Rectangle 9"/>
              <p:cNvSpPr/>
              <p:nvPr/>
            </p:nvSpPr>
            <p:spPr>
              <a:xfrm>
                <a:off x="2178360" y="3735360"/>
                <a:ext cx="586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2-483-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TextBox 10"/>
              <p:cNvSpPr/>
              <p:nvPr/>
            </p:nvSpPr>
            <p:spPr>
              <a:xfrm>
                <a:off x="2772000" y="3585600"/>
                <a:ext cx="5713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Rectangle 11"/>
              <p:cNvSpPr/>
              <p:nvPr/>
            </p:nvSpPr>
            <p:spPr>
              <a:xfrm>
                <a:off x="2767680" y="3392280"/>
                <a:ext cx="43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Rectangle 12"/>
              <p:cNvSpPr/>
              <p:nvPr/>
            </p:nvSpPr>
            <p:spPr>
              <a:xfrm>
                <a:off x="2782080" y="3763800"/>
                <a:ext cx="43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TextBox 13"/>
              <p:cNvSpPr/>
              <p:nvPr/>
            </p:nvSpPr>
            <p:spPr>
              <a:xfrm>
                <a:off x="3329280" y="3385800"/>
                <a:ext cx="2714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Rectangle 14"/>
              <p:cNvSpPr/>
              <p:nvPr/>
            </p:nvSpPr>
            <p:spPr>
              <a:xfrm>
                <a:off x="3318480" y="357804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Rectangle 15"/>
              <p:cNvSpPr/>
              <p:nvPr/>
            </p:nvSpPr>
            <p:spPr>
              <a:xfrm>
                <a:off x="3318480" y="373536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Rectangle 16"/>
              <p:cNvSpPr/>
              <p:nvPr/>
            </p:nvSpPr>
            <p:spPr>
              <a:xfrm>
                <a:off x="3647160" y="337788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Rectangle 17"/>
              <p:cNvSpPr/>
              <p:nvPr/>
            </p:nvSpPr>
            <p:spPr>
              <a:xfrm>
                <a:off x="3632760" y="373536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8" name="TextBox 20"/>
          <p:cNvSpPr/>
          <p:nvPr/>
        </p:nvSpPr>
        <p:spPr>
          <a:xfrm>
            <a:off x="4089240" y="3530520"/>
            <a:ext cx="3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21"/>
          <p:cNvSpPr/>
          <p:nvPr/>
        </p:nvSpPr>
        <p:spPr>
          <a:xfrm>
            <a:off x="4102200" y="3746520"/>
            <a:ext cx="291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22"/>
          <p:cNvSpPr/>
          <p:nvPr/>
        </p:nvSpPr>
        <p:spPr>
          <a:xfrm>
            <a:off x="4521240" y="3530520"/>
            <a:ext cx="35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23"/>
          <p:cNvSpPr/>
          <p:nvPr/>
        </p:nvSpPr>
        <p:spPr>
          <a:xfrm>
            <a:off x="4533840" y="3720960"/>
            <a:ext cx="33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24"/>
          <p:cNvSpPr/>
          <p:nvPr/>
        </p:nvSpPr>
        <p:spPr>
          <a:xfrm>
            <a:off x="6324480" y="3594240"/>
            <a:ext cx="2121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If  a PZA drug set is inoculated, a 1:10 dilution is needed to inoculate the PZA growth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3" name="Straight Arrow Connector 26"/>
          <p:cNvCxnSpPr/>
          <p:nvPr/>
        </p:nvCxnSpPr>
        <p:spPr>
          <a:xfrm flipH="1" flipV="1">
            <a:off x="5104800" y="3657240"/>
            <a:ext cx="1168920" cy="53424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244" name="TextBox 27"/>
          <p:cNvSpPr/>
          <p:nvPr/>
        </p:nvSpPr>
        <p:spPr>
          <a:xfrm>
            <a:off x="3784680" y="2540160"/>
            <a:ext cx="281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Look here to see if PZA is nee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Straight Arrow Connector 29"/>
          <p:cNvCxnSpPr>
            <a:stCxn id="244" idx="1"/>
          </p:cNvCxnSpPr>
          <p:nvPr/>
        </p:nvCxnSpPr>
        <p:spPr>
          <a:xfrm flipH="1">
            <a:off x="3782160" y="2676960"/>
            <a:ext cx="2520" cy="30564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ing the TB MGIT DST log she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D17E9-47E6-4AF1-A7FE-FD56951B99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Group 21"/>
          <p:cNvGrpSpPr/>
          <p:nvPr/>
        </p:nvGrpSpPr>
        <p:grpSpPr>
          <a:xfrm>
            <a:off x="750960" y="1422360"/>
            <a:ext cx="6435720" cy="4692600"/>
            <a:chOff x="750960" y="1422360"/>
            <a:chExt cx="6435720" cy="4692600"/>
          </a:xfrm>
        </p:grpSpPr>
        <p:pic>
          <p:nvPicPr>
            <p:cNvPr id="249" name="Picture 7" descr=""/>
            <p:cNvPicPr/>
            <p:nvPr/>
          </p:nvPicPr>
          <p:blipFill>
            <a:blip r:embed="rId1"/>
            <a:stretch/>
          </p:blipFill>
          <p:spPr>
            <a:xfrm>
              <a:off x="1071360" y="1422360"/>
              <a:ext cx="6115320" cy="469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0" name="Group 19"/>
            <p:cNvGrpSpPr/>
            <p:nvPr/>
          </p:nvGrpSpPr>
          <p:grpSpPr>
            <a:xfrm>
              <a:off x="750960" y="1506240"/>
              <a:ext cx="5380920" cy="3213000"/>
              <a:chOff x="750960" y="1506240"/>
              <a:chExt cx="5380920" cy="3213000"/>
            </a:xfrm>
          </p:grpSpPr>
          <p:sp>
            <p:nvSpPr>
              <p:cNvPr id="251" name="Rectangle 5"/>
              <p:cNvSpPr/>
              <p:nvPr/>
            </p:nvSpPr>
            <p:spPr>
              <a:xfrm>
                <a:off x="5498640" y="1506240"/>
                <a:ext cx="633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9/03/20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252" name="Content Placeholder 4"/>
              <p:cNvGraphicFramePr/>
              <p:nvPr/>
            </p:nvGraphicFramePr>
            <p:xfrm>
              <a:off x="750960" y="2899800"/>
              <a:ext cx="3602160" cy="181944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253" name="Content Placeholder 4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750960" y="2899800"/>
                        <a:ext cx="3602160" cy="1819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54" name="Rectangle 6"/>
              <p:cNvSpPr/>
              <p:nvPr/>
            </p:nvSpPr>
            <p:spPr>
              <a:xfrm>
                <a:off x="1564560" y="3563640"/>
                <a:ext cx="744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1148201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Rectangle 7"/>
              <p:cNvSpPr/>
              <p:nvPr/>
            </p:nvSpPr>
            <p:spPr>
              <a:xfrm>
                <a:off x="1564560" y="3735360"/>
                <a:ext cx="744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1148201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TextBox 8"/>
              <p:cNvSpPr/>
              <p:nvPr/>
            </p:nvSpPr>
            <p:spPr>
              <a:xfrm>
                <a:off x="2157480" y="3571560"/>
                <a:ext cx="728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6-241-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Rectangle 9"/>
              <p:cNvSpPr/>
              <p:nvPr/>
            </p:nvSpPr>
            <p:spPr>
              <a:xfrm>
                <a:off x="2178360" y="3735360"/>
                <a:ext cx="586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2-483-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TextBox 10"/>
              <p:cNvSpPr/>
              <p:nvPr/>
            </p:nvSpPr>
            <p:spPr>
              <a:xfrm>
                <a:off x="2772000" y="3585600"/>
                <a:ext cx="5713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Rectangle 11"/>
              <p:cNvSpPr/>
              <p:nvPr/>
            </p:nvSpPr>
            <p:spPr>
              <a:xfrm>
                <a:off x="2767680" y="3392280"/>
                <a:ext cx="43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Rectangle 12"/>
              <p:cNvSpPr/>
              <p:nvPr/>
            </p:nvSpPr>
            <p:spPr>
              <a:xfrm>
                <a:off x="2782080" y="3763800"/>
                <a:ext cx="43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TextBox 13"/>
              <p:cNvSpPr/>
              <p:nvPr/>
            </p:nvSpPr>
            <p:spPr>
              <a:xfrm>
                <a:off x="3329280" y="3385800"/>
                <a:ext cx="2714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Rectangle 14"/>
              <p:cNvSpPr/>
              <p:nvPr/>
            </p:nvSpPr>
            <p:spPr>
              <a:xfrm>
                <a:off x="3318480" y="357804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Rectangle 15"/>
              <p:cNvSpPr/>
              <p:nvPr/>
            </p:nvSpPr>
            <p:spPr>
              <a:xfrm>
                <a:off x="3318480" y="373536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Rectangle 16"/>
              <p:cNvSpPr/>
              <p:nvPr/>
            </p:nvSpPr>
            <p:spPr>
              <a:xfrm>
                <a:off x="3647160" y="337788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Rectangle 17"/>
              <p:cNvSpPr/>
              <p:nvPr/>
            </p:nvSpPr>
            <p:spPr>
              <a:xfrm>
                <a:off x="3632760" y="373536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6" name="TextBox 20"/>
          <p:cNvSpPr/>
          <p:nvPr/>
        </p:nvSpPr>
        <p:spPr>
          <a:xfrm>
            <a:off x="4089240" y="3530520"/>
            <a:ext cx="3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21"/>
          <p:cNvSpPr/>
          <p:nvPr/>
        </p:nvSpPr>
        <p:spPr>
          <a:xfrm>
            <a:off x="4102200" y="3746520"/>
            <a:ext cx="291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22"/>
          <p:cNvSpPr/>
          <p:nvPr/>
        </p:nvSpPr>
        <p:spPr>
          <a:xfrm>
            <a:off x="4559400" y="3556080"/>
            <a:ext cx="279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23"/>
          <p:cNvSpPr/>
          <p:nvPr/>
        </p:nvSpPr>
        <p:spPr>
          <a:xfrm>
            <a:off x="4572000" y="3746520"/>
            <a:ext cx="266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24"/>
          <p:cNvSpPr/>
          <p:nvPr/>
        </p:nvSpPr>
        <p:spPr>
          <a:xfrm>
            <a:off x="4965840" y="3352680"/>
            <a:ext cx="25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25"/>
          <p:cNvSpPr/>
          <p:nvPr/>
        </p:nvSpPr>
        <p:spPr>
          <a:xfrm>
            <a:off x="4965840" y="3708360"/>
            <a:ext cx="22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26"/>
          <p:cNvSpPr/>
          <p:nvPr/>
        </p:nvSpPr>
        <p:spPr>
          <a:xfrm>
            <a:off x="7061040" y="3581280"/>
            <a:ext cx="184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27"/>
          <p:cNvSpPr/>
          <p:nvPr/>
        </p:nvSpPr>
        <p:spPr>
          <a:xfrm>
            <a:off x="4978440" y="3556080"/>
            <a:ext cx="21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DST set-up and labelling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se the checklist to gather suppli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609480" y="1447920"/>
          <a:ext cx="7543800" cy="4635360"/>
        </p:xfrm>
        <a:graphic>
          <a:graphicData uri="http://schemas.openxmlformats.org/drawingml/2006/table">
            <a:tbl>
              <a:tblPr/>
              <a:tblGrid>
                <a:gridCol w="1052640"/>
                <a:gridCol w="5438880"/>
                <a:gridCol w="1052280"/>
              </a:tblGrid>
              <a:tr h="389880"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IT DST Check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9360"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4040"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belling and set-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c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kshe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rcode lab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ured dot lab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IT DST carriers (5 and 2 tub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IT DST Transport rac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manent marker fine po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line blanks (9.9 ml, 4.5 ml and 4.0 m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lood agar pl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H10 pl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IT tub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ZA Tub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8E367-ACD2-4A55-A4CA-7C11224E5B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finitions for set-up and labell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Content Placeholder 7" descr="DSCN0714.jpg"/>
          <p:cNvPicPr/>
          <p:nvPr/>
        </p:nvPicPr>
        <p:blipFill>
          <a:blip r:embed="rId1"/>
          <a:srcRect l="0" t="0" r="3467" b="34659"/>
          <a:stretch/>
        </p:blipFill>
        <p:spPr>
          <a:xfrm>
            <a:off x="609480" y="1419120"/>
            <a:ext cx="3137040" cy="1592280"/>
          </a:xfrm>
          <a:prstGeom prst="rect">
            <a:avLst/>
          </a:prstGeom>
          <a:ln w="0">
            <a:noFill/>
          </a:ln>
        </p:spPr>
      </p:pic>
      <p:sp>
        <p:nvSpPr>
          <p:cNvPr id="28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F24A1-A2FD-4358-B7D8-CFFF360C02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8" descr="DSCN0718.jpg"/>
          <p:cNvPicPr/>
          <p:nvPr/>
        </p:nvPicPr>
        <p:blipFill>
          <a:blip r:embed="rId2"/>
          <a:srcRect l="1394" t="17522" r="13489" b="32869"/>
          <a:stretch/>
        </p:blipFill>
        <p:spPr>
          <a:xfrm>
            <a:off x="5423040" y="2387520"/>
            <a:ext cx="3079440" cy="13464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9" descr="DSCN0720.jpg"/>
          <p:cNvPicPr/>
          <p:nvPr/>
        </p:nvPicPr>
        <p:blipFill>
          <a:blip r:embed="rId3"/>
          <a:srcRect l="5095" t="9410" r="63534" b="30002"/>
          <a:stretch/>
        </p:blipFill>
        <p:spPr>
          <a:xfrm>
            <a:off x="685800" y="3138480"/>
            <a:ext cx="1041480" cy="26812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0" descr="DSCN0722.jpg"/>
          <p:cNvPicPr/>
          <p:nvPr/>
        </p:nvPicPr>
        <p:blipFill>
          <a:blip r:embed="rId4"/>
          <a:srcRect l="0" t="22671" r="3002" b="30676"/>
          <a:stretch/>
        </p:blipFill>
        <p:spPr>
          <a:xfrm>
            <a:off x="4533840" y="4343400"/>
            <a:ext cx="4048200" cy="1460520"/>
          </a:xfrm>
          <a:prstGeom prst="rect">
            <a:avLst/>
          </a:prstGeom>
          <a:ln w="0">
            <a:noFill/>
          </a:ln>
        </p:spPr>
      </p:pic>
      <p:sp>
        <p:nvSpPr>
          <p:cNvPr id="285" name="TextBox 11"/>
          <p:cNvSpPr/>
          <p:nvPr/>
        </p:nvSpPr>
        <p:spPr>
          <a:xfrm>
            <a:off x="3695760" y="1765440"/>
            <a:ext cx="41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T or AST Transport R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12"/>
          <p:cNvSpPr/>
          <p:nvPr/>
        </p:nvSpPr>
        <p:spPr>
          <a:xfrm>
            <a:off x="1892160" y="3263760"/>
            <a:ext cx="34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T or AST 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13"/>
          <p:cNvSpPr/>
          <p:nvPr/>
        </p:nvSpPr>
        <p:spPr>
          <a:xfrm>
            <a:off x="1739880" y="4280040"/>
            <a:ext cx="311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code la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14"/>
          <p:cNvSpPr/>
          <p:nvPr/>
        </p:nvSpPr>
        <p:spPr>
          <a:xfrm>
            <a:off x="1854360" y="5118120"/>
            <a:ext cx="27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t 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ST set-u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DST log sheet to determine which sets (SIRE and/or PZA) to inocu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the needed DST carriers on the transport rac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MGIT and PZA tubes in the c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ZA testing requires the use of PZA me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Content Placeholder 5" descr="DSCN0740.jpg"/>
          <p:cNvPicPr/>
          <p:nvPr/>
        </p:nvPicPr>
        <p:blipFill>
          <a:blip r:embed="rId1"/>
          <a:srcRect l="0" t="14797" r="0" b="18814"/>
          <a:stretch/>
        </p:blipFill>
        <p:spPr>
          <a:xfrm>
            <a:off x="5054760" y="1587600"/>
            <a:ext cx="3060720" cy="1523880"/>
          </a:xfrm>
          <a:prstGeom prst="rect">
            <a:avLst/>
          </a:prstGeom>
          <a:ln w="0">
            <a:noFill/>
          </a:ln>
        </p:spPr>
      </p:pic>
      <p:sp>
        <p:nvSpPr>
          <p:cNvPr id="29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39FCF-C265-4728-9941-042BA67902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6" descr="DSCN0742.jpg"/>
          <p:cNvPicPr/>
          <p:nvPr/>
        </p:nvPicPr>
        <p:blipFill>
          <a:blip r:embed="rId2"/>
          <a:srcRect l="0" t="22261" r="0" b="0"/>
          <a:stretch/>
        </p:blipFill>
        <p:spPr>
          <a:xfrm>
            <a:off x="4952880" y="3479760"/>
            <a:ext cx="3594240" cy="20955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abell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DST set is given 1 barcode lab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label is placed vertically on the Growth Control (GC) 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61861-EDC5-47AB-9849-1CBCD84515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7" descr="DSCN0720.jpg"/>
          <p:cNvPicPr/>
          <p:nvPr/>
        </p:nvPicPr>
        <p:blipFill>
          <a:blip r:embed="rId1"/>
          <a:stretch/>
        </p:blipFill>
        <p:spPr>
          <a:xfrm>
            <a:off x="4660920" y="2946240"/>
            <a:ext cx="2238480" cy="29847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ot decode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Content Placeholder 4" descr="dot definitions.jpg"/>
          <p:cNvPicPr/>
          <p:nvPr/>
        </p:nvPicPr>
        <p:blipFill>
          <a:blip r:embed="rId1"/>
          <a:stretch/>
        </p:blipFill>
        <p:spPr>
          <a:xfrm>
            <a:off x="4368960" y="523800"/>
            <a:ext cx="3603600" cy="5711760"/>
          </a:xfrm>
          <a:prstGeom prst="rect">
            <a:avLst/>
          </a:prstGeom>
          <a:ln w="0">
            <a:noFill/>
          </a:ln>
        </p:spPr>
      </p:pic>
      <p:sp>
        <p:nvSpPr>
          <p:cNvPr id="30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99B63-CABB-4166-8F11-CDAFB9E4BD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0E94F-4E6F-4640-9493-C807D79F71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raining outl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ST workshe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ing  the age of a MGIT seed 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ing what dilutions need to be prepa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arcode and Dot lab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ot label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69440" y="17049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specimen ID number on each growth control dot label (yello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first initial of each drug and set serial number on the appropriate coloured d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et serial number is found in the far left column of the MTB MGIT DST worksh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y dots to the tops of the MGIT tub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Content Placeholder 8" descr="DSCN0726.jpg"/>
          <p:cNvPicPr/>
          <p:nvPr/>
        </p:nvPicPr>
        <p:blipFill>
          <a:blip r:embed="rId1"/>
          <a:srcRect l="43441" t="0" r="0" b="487"/>
          <a:stretch/>
        </p:blipFill>
        <p:spPr>
          <a:xfrm>
            <a:off x="5956200" y="1352520"/>
            <a:ext cx="2286000" cy="3016440"/>
          </a:xfrm>
          <a:prstGeom prst="rect">
            <a:avLst/>
          </a:prstGeom>
          <a:ln w="0">
            <a:noFill/>
          </a:ln>
        </p:spPr>
      </p:pic>
      <p:sp>
        <p:nvSpPr>
          <p:cNvPr id="30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19A3F-EE97-4C05-A54A-C24673345B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5" descr="DSCN0729.jpg"/>
          <p:cNvPicPr/>
          <p:nvPr/>
        </p:nvPicPr>
        <p:blipFill>
          <a:blip r:embed="rId2"/>
          <a:stretch/>
        </p:blipFill>
        <p:spPr>
          <a:xfrm>
            <a:off x="4521240" y="3892680"/>
            <a:ext cx="3022560" cy="22669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line dilution tub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SIRE DST sets will need a 9.9 ml saline blank (1:100 dilut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PZA DST sets will need a 4.5 ml saline blank (1:10 dilut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ly seed tubes that are 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 days old will need a 4.0 saline blank (1:5 dilution) (check workshee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7550A-696D-4DB6-9422-1EEB3D9432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6" descr="DSCN0731.jpg"/>
          <p:cNvPicPr/>
          <p:nvPr/>
        </p:nvPicPr>
        <p:blipFill>
          <a:blip r:embed="rId1"/>
          <a:srcRect l="17506" t="-902" r="10565" b="0"/>
          <a:stretch/>
        </p:blipFill>
        <p:spPr>
          <a:xfrm>
            <a:off x="5803920" y="1092240"/>
            <a:ext cx="2679840" cy="2819520"/>
          </a:xfrm>
          <a:prstGeom prst="rect">
            <a:avLst/>
          </a:prstGeom>
          <a:ln w="0">
            <a:noFill/>
          </a:ln>
        </p:spPr>
      </p:pic>
      <p:pic>
        <p:nvPicPr>
          <p:cNvPr id="310" name="Content Placeholder 5" descr="DSCN0736.jpg"/>
          <p:cNvPicPr/>
          <p:nvPr/>
        </p:nvPicPr>
        <p:blipFill>
          <a:blip r:embed="rId2"/>
          <a:srcRect l="16993" t="11654" r="-1950" b="9919"/>
          <a:stretch/>
        </p:blipFill>
        <p:spPr>
          <a:xfrm>
            <a:off x="4584600" y="3681360"/>
            <a:ext cx="3340080" cy="2313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aline dilution tub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609480" y="1599840"/>
            <a:ext cx="2819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el each saline blank or dilution tube with the Specimen ID number and the dilutio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in a rack as shown in the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ve the front row empty for the seed tu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565E6-C1FE-4FB0-8CBB-6986FD224B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Content Placeholder 6" descr="dilution diagram.jpg"/>
          <p:cNvPicPr/>
          <p:nvPr/>
        </p:nvPicPr>
        <p:blipFill>
          <a:blip r:embed="rId1"/>
          <a:stretch/>
        </p:blipFill>
        <p:spPr>
          <a:xfrm>
            <a:off x="4432320" y="1746360"/>
            <a:ext cx="4049640" cy="2025720"/>
          </a:xfrm>
          <a:prstGeom prst="rect">
            <a:avLst/>
          </a:prstGeom>
          <a:ln w="0">
            <a:noFill/>
          </a:ln>
        </p:spPr>
      </p:pic>
      <p:sp>
        <p:nvSpPr>
          <p:cNvPr id="315" name="TextBox 7"/>
          <p:cNvSpPr/>
          <p:nvPr/>
        </p:nvSpPr>
        <p:spPr>
          <a:xfrm>
            <a:off x="3251160" y="3936960"/>
            <a:ext cx="1917720" cy="824040"/>
          </a:xfrm>
          <a:prstGeom prst="rect">
            <a:avLst/>
          </a:prstGeom>
          <a:noFill/>
          <a:ln w="38160">
            <a:solidFill>
              <a:srgbClr val="3044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4.0 ml saline blank is used to prepare the 1:5 dilution needed if the MGIT seed tube is 3-5 days ol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***This tube is not needed if the MGIT seed tube is 1-2 days o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6" name="Straight Arrow Connector 9"/>
          <p:cNvCxnSpPr/>
          <p:nvPr/>
        </p:nvCxnSpPr>
        <p:spPr>
          <a:xfrm flipV="1">
            <a:off x="4102200" y="3301560"/>
            <a:ext cx="660600" cy="635760"/>
          </a:xfrm>
          <a:prstGeom prst="straightConnector1">
            <a:avLst/>
          </a:prstGeom>
          <a:ln w="38160">
            <a:solidFill>
              <a:srgbClr val="3044b5"/>
            </a:solidFill>
            <a:miter/>
            <a:tailEnd len="med" type="arrow" w="med"/>
          </a:ln>
        </p:spPr>
      </p:cxnSp>
      <p:sp>
        <p:nvSpPr>
          <p:cNvPr id="317" name="TextBox 10"/>
          <p:cNvSpPr/>
          <p:nvPr/>
        </p:nvSpPr>
        <p:spPr>
          <a:xfrm>
            <a:off x="4216320" y="4902120"/>
            <a:ext cx="2146320" cy="611280"/>
          </a:xfrm>
          <a:prstGeom prst="rect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4.5 ml saline blank is needed to prepare the 1:10 dilution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will be used to inoculate the PZA growth control (GC) tu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8" name="Straight Arrow Connector 12"/>
          <p:cNvCxnSpPr/>
          <p:nvPr/>
        </p:nvCxnSpPr>
        <p:spPr>
          <a:xfrm flipH="1" flipV="1">
            <a:off x="4978080" y="2577600"/>
            <a:ext cx="699120" cy="233784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319" name="TextBox 15"/>
          <p:cNvSpPr/>
          <p:nvPr/>
        </p:nvSpPr>
        <p:spPr>
          <a:xfrm>
            <a:off x="5816520" y="3962520"/>
            <a:ext cx="2197080" cy="70308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9.9 ml saline blank is needed to prepare the 1:100 dilution that will be used to inoculate the SIRE growth control (GC) tu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0" name="Straight Arrow Connector 17"/>
          <p:cNvCxnSpPr/>
          <p:nvPr/>
        </p:nvCxnSpPr>
        <p:spPr>
          <a:xfrm flipH="1" flipV="1">
            <a:off x="5016240" y="2133360"/>
            <a:ext cx="1257840" cy="1816560"/>
          </a:xfrm>
          <a:prstGeom prst="straightConnector1">
            <a:avLst/>
          </a:prstGeom>
          <a:ln w="38160">
            <a:solidFill>
              <a:srgbClr val="ff00ff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A132C-3D56-47C7-98E2-98C98CE45C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34680" y="16124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information on the Unloaded Positives Report to fill out the DST work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MGIT/PZA tubes in carriers in the transport r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ck the appropriate barcode label on each growth control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el each drug tube and GC tube with the correct dot la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el and place the necessary saline blanks in a rack; refer to the DST worksheet to determine which dilutions are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838E8-DF33-43FE-9640-D28A828BD3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B MGIT DST log she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6364F-BAD3-4BB7-B321-05E2EB1012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Content Placeholder 4"/>
          <p:cNvGraphicFramePr/>
          <p:nvPr/>
        </p:nvGraphicFramePr>
        <p:xfrm>
          <a:off x="1536840" y="1782720"/>
          <a:ext cx="3987720" cy="20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Content Placeholder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6840" y="1782720"/>
                    <a:ext cx="3987720" cy="20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Picture 7" descr=""/>
          <p:cNvPicPr/>
          <p:nvPr/>
        </p:nvPicPr>
        <p:blipFill>
          <a:blip r:embed="rId3"/>
          <a:stretch/>
        </p:blipFill>
        <p:spPr>
          <a:xfrm>
            <a:off x="1071720" y="1422360"/>
            <a:ext cx="6114960" cy="46926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B MGIT DST log she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CFE8A-A6C6-4777-B91A-1E55D4CF39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Content Placeholder 4"/>
          <p:cNvGraphicFramePr/>
          <p:nvPr/>
        </p:nvGraphicFramePr>
        <p:xfrm>
          <a:off x="1536840" y="1782720"/>
          <a:ext cx="3987720" cy="20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Content Placeholder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6840" y="1782720"/>
                    <a:ext cx="3987720" cy="20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4" name="Picture 7" descr=""/>
          <p:cNvPicPr/>
          <p:nvPr/>
        </p:nvPicPr>
        <p:blipFill>
          <a:blip r:embed="rId3"/>
          <a:stretch/>
        </p:blipFill>
        <p:spPr>
          <a:xfrm>
            <a:off x="1085760" y="1436760"/>
            <a:ext cx="6115320" cy="4692600"/>
          </a:xfrm>
          <a:prstGeom prst="rect">
            <a:avLst/>
          </a:prstGeom>
          <a:ln w="0">
            <a:noFill/>
          </a:ln>
        </p:spPr>
      </p:pic>
      <p:sp>
        <p:nvSpPr>
          <p:cNvPr id="115" name="TextBox 5"/>
          <p:cNvSpPr/>
          <p:nvPr/>
        </p:nvSpPr>
        <p:spPr>
          <a:xfrm>
            <a:off x="6581880" y="1576440"/>
            <a:ext cx="223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b050"/>
                </a:solidFill>
                <a:latin typeface="Arial"/>
              </a:rPr>
              <a:t>Enter the date inoculated and initi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Straight Arrow Connector 7"/>
          <p:cNvCxnSpPr>
            <a:stCxn id="115" idx="1"/>
          </p:cNvCxnSpPr>
          <p:nvPr/>
        </p:nvCxnSpPr>
        <p:spPr>
          <a:xfrm flipH="1" flipV="1">
            <a:off x="6152400" y="1675800"/>
            <a:ext cx="429480" cy="10044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B MGIT DST log she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9CA8F-5FAE-4BEA-B4CE-33AC622A9F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Content Placeholder 4"/>
          <p:cNvGraphicFramePr/>
          <p:nvPr/>
        </p:nvGraphicFramePr>
        <p:xfrm>
          <a:off x="1536840" y="1782720"/>
          <a:ext cx="3987720" cy="20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Content Placeholder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6840" y="1782720"/>
                    <a:ext cx="3987720" cy="20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Picture 7" descr=""/>
          <p:cNvPicPr/>
          <p:nvPr/>
        </p:nvPicPr>
        <p:blipFill>
          <a:blip r:embed="rId3"/>
          <a:stretch/>
        </p:blipFill>
        <p:spPr>
          <a:xfrm>
            <a:off x="1071720" y="1422360"/>
            <a:ext cx="6114960" cy="4692600"/>
          </a:xfrm>
          <a:prstGeom prst="rect">
            <a:avLst/>
          </a:prstGeom>
          <a:ln w="0">
            <a:noFill/>
          </a:ln>
        </p:spPr>
      </p:pic>
      <p:sp>
        <p:nvSpPr>
          <p:cNvPr id="122" name="TextBox 5"/>
          <p:cNvSpPr/>
          <p:nvPr/>
        </p:nvSpPr>
        <p:spPr>
          <a:xfrm>
            <a:off x="5529240" y="1457280"/>
            <a:ext cx="102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/03/20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406440" y="3678120"/>
            <a:ext cx="98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50"/>
                </a:solidFill>
                <a:latin typeface="Arial"/>
              </a:rPr>
              <a:t>List laboratory serial numbers for D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Straight Arrow Connector 7"/>
          <p:cNvCxnSpPr/>
          <p:nvPr/>
        </p:nvCxnSpPr>
        <p:spPr>
          <a:xfrm flipV="1">
            <a:off x="1042920" y="3642840"/>
            <a:ext cx="629280" cy="20088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25" name="Straight Arrow Connector 9"/>
          <p:cNvCxnSpPr/>
          <p:nvPr/>
        </p:nvCxnSpPr>
        <p:spPr>
          <a:xfrm flipV="1">
            <a:off x="1042560" y="3857040"/>
            <a:ext cx="615240" cy="31500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ing the TB MGIT DST log she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58ACB-80C6-43FE-8855-13EDDF3197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Content Placeholder 4"/>
          <p:cNvGraphicFramePr/>
          <p:nvPr/>
        </p:nvGraphicFramePr>
        <p:xfrm>
          <a:off x="1536840" y="1782720"/>
          <a:ext cx="3987720" cy="20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Content Placeholder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6840" y="1782720"/>
                    <a:ext cx="3987720" cy="20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0" name="Picture 7" descr=""/>
          <p:cNvPicPr/>
          <p:nvPr/>
        </p:nvPicPr>
        <p:blipFill>
          <a:blip r:embed="rId3"/>
          <a:stretch/>
        </p:blipFill>
        <p:spPr>
          <a:xfrm>
            <a:off x="1071720" y="1407960"/>
            <a:ext cx="6114960" cy="469296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5"/>
          <p:cNvSpPr/>
          <p:nvPr/>
        </p:nvSpPr>
        <p:spPr>
          <a:xfrm>
            <a:off x="5498280" y="1506600"/>
            <a:ext cx="63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/03/2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6"/>
          <p:cNvSpPr/>
          <p:nvPr/>
        </p:nvSpPr>
        <p:spPr>
          <a:xfrm>
            <a:off x="1546200" y="3532320"/>
            <a:ext cx="115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114820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7"/>
          <p:cNvSpPr/>
          <p:nvPr/>
        </p:nvSpPr>
        <p:spPr>
          <a:xfrm>
            <a:off x="1533600" y="3728880"/>
            <a:ext cx="1006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1148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414360" y="3943440"/>
            <a:ext cx="104292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50"/>
                </a:solidFill>
                <a:latin typeface="Arial"/>
              </a:rPr>
              <a:t>Additional information – TB register no., referred from another laboratory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Straight Arrow Connector 9"/>
          <p:cNvCxnSpPr/>
          <p:nvPr/>
        </p:nvCxnSpPr>
        <p:spPr>
          <a:xfrm flipV="1">
            <a:off x="1269720" y="3696480"/>
            <a:ext cx="1033920" cy="90108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ing the TB MGIT DST log she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A6716-41E8-472E-8C52-60ADCBE425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Content Placeholder 4"/>
          <p:cNvGraphicFramePr/>
          <p:nvPr/>
        </p:nvGraphicFramePr>
        <p:xfrm>
          <a:off x="1536840" y="1782720"/>
          <a:ext cx="3987720" cy="20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Content Placeholder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6840" y="1782720"/>
                    <a:ext cx="3987720" cy="20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0" name="Picture 7" descr=""/>
          <p:cNvPicPr/>
          <p:nvPr/>
        </p:nvPicPr>
        <p:blipFill>
          <a:blip r:embed="rId3"/>
          <a:stretch/>
        </p:blipFill>
        <p:spPr>
          <a:xfrm>
            <a:off x="1071720" y="1422360"/>
            <a:ext cx="6114960" cy="46926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5"/>
          <p:cNvSpPr/>
          <p:nvPr/>
        </p:nvSpPr>
        <p:spPr>
          <a:xfrm>
            <a:off x="5498280" y="1506600"/>
            <a:ext cx="63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/03/2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1551600" y="3564000"/>
            <a:ext cx="74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114820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1539000" y="3722760"/>
            <a:ext cx="74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1148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8"/>
          <p:cNvSpPr/>
          <p:nvPr/>
        </p:nvSpPr>
        <p:spPr>
          <a:xfrm>
            <a:off x="2157480" y="3571920"/>
            <a:ext cx="728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-241-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9"/>
          <p:cNvSpPr/>
          <p:nvPr/>
        </p:nvSpPr>
        <p:spPr>
          <a:xfrm>
            <a:off x="2178720" y="3735360"/>
            <a:ext cx="58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-483-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0"/>
          <p:cNvSpPr/>
          <p:nvPr/>
        </p:nvSpPr>
        <p:spPr>
          <a:xfrm flipV="1" rot="10800000">
            <a:off x="6172200" y="3700800"/>
            <a:ext cx="2114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50"/>
                </a:solidFill>
                <a:latin typeface="Arial"/>
              </a:rPr>
              <a:t>Indicate what type of media the seed inoculum is growing on, usually MGIT or L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Straight Arrow Connector 11"/>
          <p:cNvCxnSpPr>
            <a:stCxn id="146" idx="3"/>
          </p:cNvCxnSpPr>
          <p:nvPr/>
        </p:nvCxnSpPr>
        <p:spPr>
          <a:xfrm flipH="1" flipV="1">
            <a:off x="3228480" y="3571560"/>
            <a:ext cx="2944080" cy="54648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ing the TB MGIT DST log she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B620E-E32F-457D-87F9-077EE24916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Content Placeholder 4"/>
          <p:cNvGraphicFramePr/>
          <p:nvPr/>
        </p:nvGraphicFramePr>
        <p:xfrm>
          <a:off x="1536840" y="1782720"/>
          <a:ext cx="3987720" cy="20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Content Placeholder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6840" y="1782720"/>
                    <a:ext cx="3987720" cy="20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2" name="Picture 7" descr=""/>
          <p:cNvPicPr/>
          <p:nvPr/>
        </p:nvPicPr>
        <p:blipFill>
          <a:blip r:embed="rId3"/>
          <a:stretch/>
        </p:blipFill>
        <p:spPr>
          <a:xfrm>
            <a:off x="1071720" y="1422360"/>
            <a:ext cx="6114960" cy="46926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5"/>
          <p:cNvSpPr/>
          <p:nvPr/>
        </p:nvSpPr>
        <p:spPr>
          <a:xfrm>
            <a:off x="5498640" y="1506600"/>
            <a:ext cx="689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/03/20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1577160" y="3551400"/>
            <a:ext cx="74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114820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564560" y="3735360"/>
            <a:ext cx="74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1148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8"/>
          <p:cNvSpPr/>
          <p:nvPr/>
        </p:nvSpPr>
        <p:spPr>
          <a:xfrm>
            <a:off x="2157480" y="3571920"/>
            <a:ext cx="728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-241-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2178720" y="3735360"/>
            <a:ext cx="58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-483-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0"/>
          <p:cNvSpPr/>
          <p:nvPr/>
        </p:nvSpPr>
        <p:spPr>
          <a:xfrm>
            <a:off x="2771640" y="3586320"/>
            <a:ext cx="571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G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1"/>
          <p:cNvSpPr/>
          <p:nvPr/>
        </p:nvSpPr>
        <p:spPr>
          <a:xfrm>
            <a:off x="2767680" y="3392640"/>
            <a:ext cx="43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G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2781720" y="3763800"/>
            <a:ext cx="43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G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3"/>
          <p:cNvSpPr/>
          <p:nvPr/>
        </p:nvSpPr>
        <p:spPr>
          <a:xfrm>
            <a:off x="6386400" y="3743280"/>
            <a:ext cx="13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Tick test(s) to be inocu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Straight Arrow Connector 15"/>
          <p:cNvCxnSpPr/>
          <p:nvPr/>
        </p:nvCxnSpPr>
        <p:spPr>
          <a:xfrm flipH="1" flipV="1">
            <a:off x="3499560" y="3485520"/>
            <a:ext cx="2915640" cy="105804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63" name="Straight Arrow Connector 16"/>
          <p:cNvCxnSpPr>
            <a:stCxn id="161" idx="1"/>
          </p:cNvCxnSpPr>
          <p:nvPr/>
        </p:nvCxnSpPr>
        <p:spPr>
          <a:xfrm flipH="1" flipV="1">
            <a:off x="3857760" y="3466440"/>
            <a:ext cx="2529000" cy="87228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ing the TB MGIT DST log she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93FE0-7FB6-4A39-B8F2-594B9AE8CC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21"/>
          <p:cNvGrpSpPr/>
          <p:nvPr/>
        </p:nvGrpSpPr>
        <p:grpSpPr>
          <a:xfrm>
            <a:off x="750960" y="1422360"/>
            <a:ext cx="6435720" cy="4692600"/>
            <a:chOff x="750960" y="1422360"/>
            <a:chExt cx="6435720" cy="4692600"/>
          </a:xfrm>
        </p:grpSpPr>
        <p:pic>
          <p:nvPicPr>
            <p:cNvPr id="167" name="Picture 7" descr=""/>
            <p:cNvPicPr/>
            <p:nvPr/>
          </p:nvPicPr>
          <p:blipFill>
            <a:blip r:embed="rId1"/>
            <a:stretch/>
          </p:blipFill>
          <p:spPr>
            <a:xfrm>
              <a:off x="1071360" y="1422360"/>
              <a:ext cx="6115320" cy="469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8" name="Group 19"/>
            <p:cNvGrpSpPr/>
            <p:nvPr/>
          </p:nvGrpSpPr>
          <p:grpSpPr>
            <a:xfrm>
              <a:off x="750960" y="1506240"/>
              <a:ext cx="5380920" cy="3213000"/>
              <a:chOff x="750960" y="1506240"/>
              <a:chExt cx="5380920" cy="3213000"/>
            </a:xfrm>
          </p:grpSpPr>
          <p:sp>
            <p:nvSpPr>
              <p:cNvPr id="169" name="Rectangle 5"/>
              <p:cNvSpPr/>
              <p:nvPr/>
            </p:nvSpPr>
            <p:spPr>
              <a:xfrm>
                <a:off x="5498640" y="1506240"/>
                <a:ext cx="633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9/03/20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170" name="Content Placeholder 4"/>
              <p:cNvGraphicFramePr/>
              <p:nvPr/>
            </p:nvGraphicFramePr>
            <p:xfrm>
              <a:off x="750960" y="2899800"/>
              <a:ext cx="3602160" cy="181944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171" name="Content Placeholder 4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750960" y="2899800"/>
                        <a:ext cx="3602160" cy="1819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72" name="Rectangle 6"/>
              <p:cNvSpPr/>
              <p:nvPr/>
            </p:nvSpPr>
            <p:spPr>
              <a:xfrm>
                <a:off x="1564560" y="3563640"/>
                <a:ext cx="744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1148201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Rectangle 7"/>
              <p:cNvSpPr/>
              <p:nvPr/>
            </p:nvSpPr>
            <p:spPr>
              <a:xfrm>
                <a:off x="1564560" y="3735360"/>
                <a:ext cx="744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1148201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Box 8"/>
              <p:cNvSpPr/>
              <p:nvPr/>
            </p:nvSpPr>
            <p:spPr>
              <a:xfrm>
                <a:off x="2157480" y="3571560"/>
                <a:ext cx="728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6-241-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Rectangle 9"/>
              <p:cNvSpPr/>
              <p:nvPr/>
            </p:nvSpPr>
            <p:spPr>
              <a:xfrm>
                <a:off x="2178360" y="3735360"/>
                <a:ext cx="586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2-483-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Box 10"/>
              <p:cNvSpPr/>
              <p:nvPr/>
            </p:nvSpPr>
            <p:spPr>
              <a:xfrm>
                <a:off x="2772000" y="3585600"/>
                <a:ext cx="5713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Rectangle 11"/>
              <p:cNvSpPr/>
              <p:nvPr/>
            </p:nvSpPr>
            <p:spPr>
              <a:xfrm>
                <a:off x="2767680" y="3392280"/>
                <a:ext cx="43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Rectangle 12"/>
              <p:cNvSpPr/>
              <p:nvPr/>
            </p:nvSpPr>
            <p:spPr>
              <a:xfrm>
                <a:off x="2782080" y="3763800"/>
                <a:ext cx="43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Box 13"/>
              <p:cNvSpPr/>
              <p:nvPr/>
            </p:nvSpPr>
            <p:spPr>
              <a:xfrm>
                <a:off x="3329280" y="3385800"/>
                <a:ext cx="2714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14"/>
              <p:cNvSpPr/>
              <p:nvPr/>
            </p:nvSpPr>
            <p:spPr>
              <a:xfrm>
                <a:off x="3318480" y="357804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15"/>
              <p:cNvSpPr/>
              <p:nvPr/>
            </p:nvSpPr>
            <p:spPr>
              <a:xfrm>
                <a:off x="3318480" y="373536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16"/>
              <p:cNvSpPr/>
              <p:nvPr/>
            </p:nvSpPr>
            <p:spPr>
              <a:xfrm>
                <a:off x="3647160" y="337788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17"/>
              <p:cNvSpPr/>
              <p:nvPr/>
            </p:nvSpPr>
            <p:spPr>
              <a:xfrm>
                <a:off x="3632760" y="373536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4" name="TextBox 24"/>
          <p:cNvSpPr/>
          <p:nvPr/>
        </p:nvSpPr>
        <p:spPr>
          <a:xfrm>
            <a:off x="6286680" y="3606840"/>
            <a:ext cx="22348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Arial"/>
              </a:rPr>
              <a:t>Record age of MGIT seed tubes. Use the Unloaded Positives Report to determine the age of each MGIT and write it in the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25"/>
          <p:cNvSpPr/>
          <p:nvPr/>
        </p:nvSpPr>
        <p:spPr>
          <a:xfrm>
            <a:off x="5867280" y="5448240"/>
            <a:ext cx="21463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c00000"/>
                </a:solidFill>
                <a:latin typeface="Arial"/>
              </a:rPr>
              <a:t>***Remember that the day the MGIT instrument indicated that it is positive is day 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" name="Straight Arrow Connector 27"/>
          <p:cNvCxnSpPr/>
          <p:nvPr/>
        </p:nvCxnSpPr>
        <p:spPr>
          <a:xfrm flipH="1" flipV="1">
            <a:off x="4355280" y="3682800"/>
            <a:ext cx="2019960" cy="115632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7-25T18:39:00Z</dcterms:created>
  <dc:creator>Susan Meade</dc:creator>
  <dc:description>Formatting cleaned up for WW distribution  [SVM]</dc:description>
  <dc:language>en-US</dc:language>
  <cp:lastModifiedBy>Philip</cp:lastModifiedBy>
  <cp:lastPrinted>2001-02-05T14:45:01Z</cp:lastPrinted>
  <dcterms:modified xsi:type="dcterms:W3CDTF">2012-01-26T09:48:23Z</dcterms:modified>
  <cp:revision>475</cp:revision>
  <dc:subject>Growth and Detection: Marketing Overview and DATA</dc:subject>
  <dc:title>BACTEC® MGIT 960 System</dc:title>
</cp:coreProperties>
</file>