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jpeg" ContentType="image/jpeg"/>
  <Override PartName="/ppt/media/image9.jpeg" ContentType="image/jpeg"/>
  <Override PartName="/ppt/media/image10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86D3-F210-4B14-B61C-DCAC7140860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2C0D-3D27-441A-80A8-4396AD3586C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8D0D-CBCB-4DF7-8353-E83BAE7FC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2866-D58E-4843-BB7D-00BC943E3B0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8805-AADD-4C67-855C-714B61519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F3B9-1584-42DF-9B2B-6D9644B2D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DDB2-041C-4853-B0E5-82B35F8DA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74B1-ECFB-4A7C-BD26-A3564D928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643F-7FEA-43FD-82E0-A694ACADFC0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5FA9-D36C-456E-836E-52706C352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47F7-640D-4CA2-ACCA-5517CE88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2010-FAC0-4DF3-AC93-5AE5AD7F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2F57-1E77-4E4C-8847-74470CC1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3B07-9E07-455B-A452-176389BF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38F6-2761-4FFB-910E-8BB43B2D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00FA-0530-4687-AAA2-2B3E5FFA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8596-F158-4504-820A-4F83968F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3F67-6AFC-4865-AFB9-60F6E206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F582-8778-418C-8A5E-93F099C7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207F-4EF8-481E-A4FA-6FB967C1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5754-42B0-4408-8255-0D5A11A6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D7AD-BEF4-4B50-853C-4C829694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D733-428B-4DB1-8462-E7CE3127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B7D9-1C7F-46D5-B454-627A6531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411D-A03F-4514-8807-D8EB2D59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0EAE-30A1-4ADC-AA0D-6926EC9C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831A-2A0A-4D55-A648-7FD33F154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C3A7-4B80-4F02-ADD3-97BBAF8C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2A07-6983-43AF-BA21-08B1BD02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BC7A-2BD3-4CE9-A902-01AE91F5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BF13-A00B-4D2F-95F7-B3F53B26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7C2A-F8F9-4E1A-A7EA-8EE9A49E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B68A-F838-4ACE-87AE-68E6BF43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B3D1-C793-46C0-8699-2493DC17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26E8-EAFC-4C8F-AFFB-B399FF3007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39C6-AC47-459C-9C9A-3D660A8E60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s9(PZAchart)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49016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noculum and drug preparation for the MGIT 960 DST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795760" y="3141720"/>
            <a:ext cx="3078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455040" y="1576440"/>
            <a:ext cx="3798360" cy="4365360"/>
            <a:chOff x="455040" y="1576440"/>
            <a:chExt cx="3798360" cy="4365360"/>
          </a:xfrm>
        </p:grpSpPr>
        <p:grpSp>
          <p:nvGrpSpPr>
            <p:cNvPr id="124" name="Group 5"/>
            <p:cNvGrpSpPr/>
            <p:nvPr/>
          </p:nvGrpSpPr>
          <p:grpSpPr>
            <a:xfrm>
              <a:off x="1552320" y="1576440"/>
              <a:ext cx="226800" cy="1287360"/>
              <a:chOff x="1552320" y="1576440"/>
              <a:chExt cx="226800" cy="1287360"/>
            </a:xfrm>
          </p:grpSpPr>
          <p:sp>
            <p:nvSpPr>
              <p:cNvPr id="125" name="AutoShape 6"/>
              <p:cNvSpPr/>
              <p:nvPr/>
            </p:nvSpPr>
            <p:spPr>
              <a:xfrm>
                <a:off x="1552320" y="1576440"/>
                <a:ext cx="226800" cy="2696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7"/>
              <p:cNvSpPr/>
              <p:nvPr/>
            </p:nvSpPr>
            <p:spPr>
              <a:xfrm>
                <a:off x="1570680" y="2685960"/>
                <a:ext cx="189720" cy="17784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8"/>
              <p:cNvSpPr/>
              <p:nvPr/>
            </p:nvSpPr>
            <p:spPr>
              <a:xfrm flipV="1">
                <a:off x="1570680" y="1834920"/>
                <a:ext cx="0" cy="85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9"/>
              <p:cNvSpPr/>
              <p:nvPr/>
            </p:nvSpPr>
            <p:spPr>
              <a:xfrm flipV="1">
                <a:off x="1760400" y="183492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10"/>
            <p:cNvGrpSpPr/>
            <p:nvPr/>
          </p:nvGrpSpPr>
          <p:grpSpPr>
            <a:xfrm>
              <a:off x="3706560" y="2301120"/>
              <a:ext cx="226440" cy="1288080"/>
              <a:chOff x="3706560" y="2301120"/>
              <a:chExt cx="226440" cy="1288080"/>
            </a:xfrm>
          </p:grpSpPr>
          <p:sp>
            <p:nvSpPr>
              <p:cNvPr id="130" name="AutoShape 11"/>
              <p:cNvSpPr/>
              <p:nvPr/>
            </p:nvSpPr>
            <p:spPr>
              <a:xfrm>
                <a:off x="3706560" y="2301120"/>
                <a:ext cx="226440" cy="270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2"/>
              <p:cNvSpPr/>
              <p:nvPr/>
            </p:nvSpPr>
            <p:spPr>
              <a:xfrm>
                <a:off x="3724920" y="3410640"/>
                <a:ext cx="189360" cy="17856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3"/>
              <p:cNvSpPr/>
              <p:nvPr/>
            </p:nvSpPr>
            <p:spPr>
              <a:xfrm flipV="1">
                <a:off x="3724920" y="2559960"/>
                <a:ext cx="0" cy="85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4"/>
              <p:cNvSpPr/>
              <p:nvPr/>
            </p:nvSpPr>
            <p:spPr>
              <a:xfrm flipV="1">
                <a:off x="3914280" y="255960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Line 15"/>
            <p:cNvSpPr/>
            <p:nvPr/>
          </p:nvSpPr>
          <p:spPr>
            <a:xfrm>
              <a:off x="2186280" y="2157480"/>
              <a:ext cx="126648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6"/>
            <p:cNvSpPr/>
            <p:nvPr/>
          </p:nvSpPr>
          <p:spPr>
            <a:xfrm>
              <a:off x="3526920" y="3610440"/>
              <a:ext cx="7264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7"/>
            <p:cNvSpPr/>
            <p:nvPr/>
          </p:nvSpPr>
          <p:spPr>
            <a:xfrm>
              <a:off x="1649520" y="3360600"/>
              <a:ext cx="4788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8"/>
            <p:cNvSpPr/>
            <p:nvPr/>
          </p:nvSpPr>
          <p:spPr>
            <a:xfrm flipH="1">
              <a:off x="2050920" y="3583800"/>
              <a:ext cx="1269720" cy="92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19"/>
            <p:cNvGrpSpPr/>
            <p:nvPr/>
          </p:nvGrpSpPr>
          <p:grpSpPr>
            <a:xfrm>
              <a:off x="1151280" y="2249640"/>
              <a:ext cx="303120" cy="347040"/>
              <a:chOff x="1151280" y="2249640"/>
              <a:chExt cx="303120" cy="347040"/>
            </a:xfrm>
          </p:grpSpPr>
          <p:sp>
            <p:nvSpPr>
              <p:cNvPr id="139" name="Text Box 20"/>
              <p:cNvSpPr/>
              <p:nvPr/>
            </p:nvSpPr>
            <p:spPr>
              <a:xfrm>
                <a:off x="1174320" y="22881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21"/>
              <p:cNvSpPr/>
              <p:nvPr/>
            </p:nvSpPr>
            <p:spPr>
              <a:xfrm>
                <a:off x="1151280" y="2249640"/>
                <a:ext cx="303120" cy="347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22"/>
            <p:cNvGrpSpPr/>
            <p:nvPr/>
          </p:nvGrpSpPr>
          <p:grpSpPr>
            <a:xfrm>
              <a:off x="1774440" y="3621240"/>
              <a:ext cx="303120" cy="347760"/>
              <a:chOff x="1774440" y="3621240"/>
              <a:chExt cx="303120" cy="347760"/>
            </a:xfrm>
          </p:grpSpPr>
          <p:sp>
            <p:nvSpPr>
              <p:cNvPr id="142" name="Text Box 23"/>
              <p:cNvSpPr/>
              <p:nvPr/>
            </p:nvSpPr>
            <p:spPr>
              <a:xfrm>
                <a:off x="1797480" y="36687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24"/>
              <p:cNvSpPr/>
              <p:nvPr/>
            </p:nvSpPr>
            <p:spPr>
              <a:xfrm>
                <a:off x="1774440" y="3621240"/>
                <a:ext cx="303120" cy="347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5"/>
            <p:cNvGrpSpPr/>
            <p:nvPr/>
          </p:nvGrpSpPr>
          <p:grpSpPr>
            <a:xfrm>
              <a:off x="3141720" y="2942280"/>
              <a:ext cx="303120" cy="345240"/>
              <a:chOff x="3141720" y="2942280"/>
              <a:chExt cx="303120" cy="345240"/>
            </a:xfrm>
          </p:grpSpPr>
          <p:sp>
            <p:nvSpPr>
              <p:cNvPr id="145" name="Text Box 26"/>
              <p:cNvSpPr/>
              <p:nvPr/>
            </p:nvSpPr>
            <p:spPr>
              <a:xfrm>
                <a:off x="3159360" y="29930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27"/>
              <p:cNvSpPr/>
              <p:nvPr/>
            </p:nvSpPr>
            <p:spPr>
              <a:xfrm>
                <a:off x="3141720" y="2942280"/>
                <a:ext cx="303120" cy="345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28"/>
            <p:cNvSpPr/>
            <p:nvPr/>
          </p:nvSpPr>
          <p:spPr>
            <a:xfrm>
              <a:off x="999720" y="289368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9"/>
            <p:cNvSpPr/>
            <p:nvPr/>
          </p:nvSpPr>
          <p:spPr>
            <a:xfrm>
              <a:off x="3202200" y="1857960"/>
              <a:ext cx="1825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0"/>
            <p:cNvSpPr/>
            <p:nvPr/>
          </p:nvSpPr>
          <p:spPr>
            <a:xfrm>
              <a:off x="455040" y="366624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31"/>
            <p:cNvGrpSpPr/>
            <p:nvPr/>
          </p:nvGrpSpPr>
          <p:grpSpPr>
            <a:xfrm>
              <a:off x="1663920" y="4654080"/>
              <a:ext cx="1688400" cy="1287720"/>
              <a:chOff x="1663920" y="4654080"/>
              <a:chExt cx="1688400" cy="1287720"/>
            </a:xfrm>
          </p:grpSpPr>
          <p:grpSp>
            <p:nvGrpSpPr>
              <p:cNvPr id="151" name="Group 32"/>
              <p:cNvGrpSpPr/>
              <p:nvPr/>
            </p:nvGrpSpPr>
            <p:grpSpPr>
              <a:xfrm>
                <a:off x="1663920" y="4654080"/>
                <a:ext cx="226440" cy="1287720"/>
                <a:chOff x="1663920" y="4654080"/>
                <a:chExt cx="226440" cy="1287720"/>
              </a:xfrm>
            </p:grpSpPr>
            <p:sp>
              <p:nvSpPr>
                <p:cNvPr id="152" name="AutoShape 33"/>
                <p:cNvSpPr/>
                <p:nvPr/>
              </p:nvSpPr>
              <p:spPr>
                <a:xfrm>
                  <a:off x="1663920" y="4654080"/>
                  <a:ext cx="226440" cy="2700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34"/>
                <p:cNvSpPr/>
                <p:nvPr/>
              </p:nvSpPr>
              <p:spPr>
                <a:xfrm>
                  <a:off x="1682280" y="5763960"/>
                  <a:ext cx="189360" cy="177840"/>
                </a:xfrm>
                <a:custGeom>
                  <a:avLst/>
                  <a:gdLst>
                    <a:gd name="textAreaLeft" fmla="*/ 0 w 189360"/>
                    <a:gd name="textAreaRight" fmla="*/ 189720 w 189360"/>
                    <a:gd name="textAreaTop" fmla="*/ 0 h 177840"/>
                    <a:gd name="textAreaBottom" fmla="*/ 178200 h 17784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35"/>
                <p:cNvSpPr/>
                <p:nvPr/>
              </p:nvSpPr>
              <p:spPr>
                <a:xfrm flipV="1">
                  <a:off x="1682280" y="4912920"/>
                  <a:ext cx="0" cy="85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36"/>
                <p:cNvSpPr/>
                <p:nvPr/>
              </p:nvSpPr>
              <p:spPr>
                <a:xfrm flipV="1">
                  <a:off x="1871640" y="4912560"/>
                  <a:ext cx="0" cy="85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Text Box 37"/>
              <p:cNvSpPr/>
              <p:nvPr/>
            </p:nvSpPr>
            <p:spPr>
              <a:xfrm>
                <a:off x="2362320" y="552600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Text Box 40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inoculum from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248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must b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days old from time of visible grow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42960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4"/>
          <p:cNvGrpSpPr/>
          <p:nvPr/>
        </p:nvGrpSpPr>
        <p:grpSpPr>
          <a:xfrm>
            <a:off x="5105520" y="2514600"/>
            <a:ext cx="3744000" cy="2286000"/>
            <a:chOff x="5105520" y="2514600"/>
            <a:chExt cx="3744000" cy="2286000"/>
          </a:xfrm>
        </p:grpSpPr>
        <p:sp>
          <p:nvSpPr>
            <p:cNvPr id="164" name="Oval 6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9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0"/>
            <p:cNvSpPr/>
            <p:nvPr/>
          </p:nvSpPr>
          <p:spPr>
            <a:xfrm>
              <a:off x="5857200" y="2651040"/>
              <a:ext cx="299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1 ml culture suspension 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.0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07440" y="58132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388800" y="4267080"/>
            <a:ext cx="322200" cy="1560240"/>
            <a:chOff x="388800" y="4267080"/>
            <a:chExt cx="322200" cy="1560240"/>
          </a:xfrm>
        </p:grpSpPr>
        <p:sp>
          <p:nvSpPr>
            <p:cNvPr id="171" name="AutoShape 4"/>
            <p:cNvSpPr/>
            <p:nvPr/>
          </p:nvSpPr>
          <p:spPr>
            <a:xfrm rot="16200000">
              <a:off x="508320" y="5655960"/>
              <a:ext cx="82800" cy="259920"/>
            </a:xfrm>
            <a:custGeom>
              <a:avLst/>
              <a:gdLst>
                <a:gd name="textAreaLeft" fmla="*/ 12240 w 82800"/>
                <a:gd name="textAreaRight" fmla="*/ 59400 w 82800"/>
                <a:gd name="textAreaTop" fmla="*/ 61200 h 259920"/>
                <a:gd name="textAreaBottom" fmla="*/ 198720 h 25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554" y="2782"/>
                    <a:pt x="15507" y="5080"/>
                    <a:pt x="15507" y="10800"/>
                  </a:cubicBezTo>
                  <a:cubicBezTo>
                    <a:pt x="15507" y="16520"/>
                    <a:pt x="18554" y="188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5"/>
            <p:cNvSpPr/>
            <p:nvPr/>
          </p:nvSpPr>
          <p:spPr>
            <a:xfrm>
              <a:off x="419760" y="4861800"/>
              <a:ext cx="259920" cy="655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>
              <a:off x="388800" y="4267080"/>
              <a:ext cx="322200" cy="246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83838"/>
                </a:gs>
                <a:gs pos="50000">
                  <a:srgbClr val="b2b2b2"/>
                </a:gs>
                <a:gs pos="100000">
                  <a:srgbClr val="383838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7"/>
            <p:cNvSpPr/>
            <p:nvPr/>
          </p:nvSpPr>
          <p:spPr>
            <a:xfrm>
              <a:off x="417600" y="4464360"/>
              <a:ext cx="266400" cy="13626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362600"/>
                <a:gd name="textAreaBottom" fmla="*/ 1362960 h 136260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8"/>
          <p:cNvSpPr/>
          <p:nvPr/>
        </p:nvSpPr>
        <p:spPr>
          <a:xfrm>
            <a:off x="1580400" y="581328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      I       R     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1614600" y="4267080"/>
            <a:ext cx="1712160" cy="1559520"/>
            <a:chOff x="1614600" y="4267080"/>
            <a:chExt cx="1712160" cy="1559520"/>
          </a:xfrm>
        </p:grpSpPr>
        <p:grpSp>
          <p:nvGrpSpPr>
            <p:cNvPr id="177" name="Group 10"/>
            <p:cNvGrpSpPr/>
            <p:nvPr/>
          </p:nvGrpSpPr>
          <p:grpSpPr>
            <a:xfrm>
              <a:off x="1614600" y="4267080"/>
              <a:ext cx="320760" cy="1559520"/>
              <a:chOff x="1614600" y="4267080"/>
              <a:chExt cx="320760" cy="1559520"/>
            </a:xfrm>
          </p:grpSpPr>
          <p:sp>
            <p:nvSpPr>
              <p:cNvPr id="178" name="AutoShape 11"/>
              <p:cNvSpPr/>
              <p:nvPr/>
            </p:nvSpPr>
            <p:spPr>
              <a:xfrm rot="16200000">
                <a:off x="17330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2"/>
              <p:cNvSpPr/>
              <p:nvPr/>
            </p:nvSpPr>
            <p:spPr>
              <a:xfrm>
                <a:off x="16452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13"/>
              <p:cNvSpPr/>
              <p:nvPr/>
            </p:nvSpPr>
            <p:spPr>
              <a:xfrm>
                <a:off x="16146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6434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5"/>
            <p:cNvGrpSpPr/>
            <p:nvPr/>
          </p:nvGrpSpPr>
          <p:grpSpPr>
            <a:xfrm>
              <a:off x="2078280" y="4267080"/>
              <a:ext cx="320760" cy="1559520"/>
              <a:chOff x="2078280" y="4267080"/>
              <a:chExt cx="320760" cy="1559520"/>
            </a:xfrm>
          </p:grpSpPr>
          <p:sp>
            <p:nvSpPr>
              <p:cNvPr id="183" name="AutoShape 16"/>
              <p:cNvSpPr/>
              <p:nvPr/>
            </p:nvSpPr>
            <p:spPr>
              <a:xfrm rot="16200000">
                <a:off x="219672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17"/>
              <p:cNvSpPr/>
              <p:nvPr/>
            </p:nvSpPr>
            <p:spPr>
              <a:xfrm>
                <a:off x="210888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18"/>
              <p:cNvSpPr/>
              <p:nvPr/>
            </p:nvSpPr>
            <p:spPr>
              <a:xfrm>
                <a:off x="207828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9"/>
              <p:cNvSpPr/>
              <p:nvPr/>
            </p:nvSpPr>
            <p:spPr>
              <a:xfrm>
                <a:off x="210708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0"/>
            <p:cNvGrpSpPr/>
            <p:nvPr/>
          </p:nvGrpSpPr>
          <p:grpSpPr>
            <a:xfrm>
              <a:off x="2541960" y="4267080"/>
              <a:ext cx="320760" cy="1559520"/>
              <a:chOff x="2541960" y="4267080"/>
              <a:chExt cx="320760" cy="1559520"/>
            </a:xfrm>
          </p:grpSpPr>
          <p:sp>
            <p:nvSpPr>
              <p:cNvPr id="188" name="AutoShape 21"/>
              <p:cNvSpPr/>
              <p:nvPr/>
            </p:nvSpPr>
            <p:spPr>
              <a:xfrm rot="16200000">
                <a:off x="266040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22"/>
              <p:cNvSpPr/>
              <p:nvPr/>
            </p:nvSpPr>
            <p:spPr>
              <a:xfrm>
                <a:off x="257256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23"/>
              <p:cNvSpPr/>
              <p:nvPr/>
            </p:nvSpPr>
            <p:spPr>
              <a:xfrm>
                <a:off x="254196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>
                <a:off x="257076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25"/>
            <p:cNvGrpSpPr/>
            <p:nvPr/>
          </p:nvGrpSpPr>
          <p:grpSpPr>
            <a:xfrm>
              <a:off x="3006000" y="4267080"/>
              <a:ext cx="320760" cy="1559520"/>
              <a:chOff x="3006000" y="4267080"/>
              <a:chExt cx="320760" cy="1559520"/>
            </a:xfrm>
          </p:grpSpPr>
          <p:sp>
            <p:nvSpPr>
              <p:cNvPr id="193" name="AutoShape 26"/>
              <p:cNvSpPr/>
              <p:nvPr/>
            </p:nvSpPr>
            <p:spPr>
              <a:xfrm rot="16200000">
                <a:off x="31244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27"/>
              <p:cNvSpPr/>
              <p:nvPr/>
            </p:nvSpPr>
            <p:spPr>
              <a:xfrm>
                <a:off x="30366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28"/>
              <p:cNvSpPr/>
              <p:nvPr/>
            </p:nvSpPr>
            <p:spPr>
              <a:xfrm>
                <a:off x="30060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30348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ion of SI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038120" y="1295280"/>
            <a:ext cx="495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5 MGIT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MGI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8 ml SIRE sup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1 ml of corresponding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inoculum to drug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1:100 dilution GC suspension to GC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times by 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in proper DST carrier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MGIT 960 instru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2"/>
          <p:cNvSpPr/>
          <p:nvPr/>
        </p:nvSpPr>
        <p:spPr>
          <a:xfrm flipH="1">
            <a:off x="532800" y="1981080"/>
            <a:ext cx="1066680" cy="3124440"/>
          </a:xfrm>
          <a:custGeom>
            <a:avLst/>
            <a:gdLst>
              <a:gd name="textAreaLeft" fmla="*/ 156240 w 1066680"/>
              <a:gd name="textAreaRight" fmla="*/ 910440 w 1066680"/>
              <a:gd name="textAreaTop" fmla="*/ 457560 h 3124440"/>
              <a:gd name="textAreaBottom" fmla="*/ 2666880 h 3124440"/>
            </a:gdLst>
            <a:ahLst/>
            <a:rect l="textAreaLeft" t="textAreaTop" r="textAreaRight" b="textAreaBottom"/>
            <a:pathLst>
              <a:path w="21600" h="21600">
                <a:moveTo>
                  <a:pt x="20770" y="11391"/>
                </a:moveTo>
                <a:cubicBezTo>
                  <a:pt x="20782" y="11194"/>
                  <a:pt x="20788" y="10997"/>
                  <a:pt x="20788" y="10800"/>
                </a:cubicBezTo>
                <a:cubicBezTo>
                  <a:pt x="20788" y="5283"/>
                  <a:pt x="16316" y="812"/>
                  <a:pt x="10800" y="812"/>
                </a:cubicBezTo>
                <a:cubicBezTo>
                  <a:pt x="9721" y="811"/>
                  <a:pt x="8650" y="986"/>
                  <a:pt x="7628" y="1328"/>
                </a:cubicBezTo>
                <a:lnTo>
                  <a:pt x="7370" y="558"/>
                </a:lnTo>
                <a:cubicBezTo>
                  <a:pt x="8476" y="188"/>
                  <a:pt x="963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013"/>
                  <a:pt x="21593" y="11226"/>
                  <a:pt x="21581" y="11440"/>
                </a:cubicBezTo>
                <a:lnTo>
                  <a:pt x="24276" y="11600"/>
                </a:lnTo>
                <a:lnTo>
                  <a:pt x="20990" y="14516"/>
                </a:lnTo>
                <a:lnTo>
                  <a:pt x="18075" y="11231"/>
                </a:lnTo>
                <a:lnTo>
                  <a:pt x="20770" y="1139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3"/>
          <p:cNvGrpSpPr/>
          <p:nvPr/>
        </p:nvGrpSpPr>
        <p:grpSpPr>
          <a:xfrm>
            <a:off x="1752480" y="1981080"/>
            <a:ext cx="2438640" cy="3124440"/>
            <a:chOff x="1752480" y="1981080"/>
            <a:chExt cx="2438640" cy="3124440"/>
          </a:xfrm>
        </p:grpSpPr>
        <p:sp>
          <p:nvSpPr>
            <p:cNvPr id="201" name="AutoShape 34"/>
            <p:cNvSpPr/>
            <p:nvPr/>
          </p:nvSpPr>
          <p:spPr>
            <a:xfrm flipH="1">
              <a:off x="17524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35"/>
            <p:cNvSpPr/>
            <p:nvPr/>
          </p:nvSpPr>
          <p:spPr>
            <a:xfrm flipH="1">
              <a:off x="22096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36"/>
            <p:cNvSpPr/>
            <p:nvPr/>
          </p:nvSpPr>
          <p:spPr>
            <a:xfrm flipH="1">
              <a:off x="26668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37"/>
            <p:cNvSpPr/>
            <p:nvPr/>
          </p:nvSpPr>
          <p:spPr>
            <a:xfrm flipH="1">
              <a:off x="31240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IRE inoculation over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23760" y="1643040"/>
            <a:ext cx="9048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ing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D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susceptibility tes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is active only at low p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in vit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test must be performed in low p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 for PZA testing has pH of 5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is pH, many strains grow poorly or not at 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C PZA medium is around pH 5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supplement required to enhance ability of organisms to grown at this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741240" y="6099120"/>
            <a:ext cx="4351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CLSI, M24-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BACTEC PZA package ins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medium is a modified 7H9 broth with a reduced pH of 5.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ement is enri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from SIRE AST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t drug concentration 100 µg/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terpretable after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with BACTEC 460 Gold Standard (CLSI recommend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dru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62120" y="2209680"/>
          <a:ext cx="7772400" cy="177012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Approx. lyophilized drug/v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Pyrazinamide (PZ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exposure to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quid-based DST sys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thods incorporate a means of quantifying growth in the presence of a drug compared to a growth control with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haracteristics in the medium are used as the basis for evaluation (dru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growth characteristic is observed for the entire organism population and for 1% of the organism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PZA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5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constitution of lyophilized dru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6" descr="PZA"/>
          <p:cNvPicPr/>
          <p:nvPr/>
        </p:nvPicPr>
        <p:blipFill>
          <a:blip r:embed="rId1"/>
          <a:stretch/>
        </p:blipFill>
        <p:spPr>
          <a:xfrm>
            <a:off x="5943600" y="2362320"/>
            <a:ext cx="2503440" cy="266688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37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8"/>
          <p:cNvGrpSpPr/>
          <p:nvPr/>
        </p:nvGrpSpPr>
        <p:grpSpPr>
          <a:xfrm>
            <a:off x="621000" y="1576440"/>
            <a:ext cx="3748680" cy="4517640"/>
            <a:chOff x="621000" y="1576440"/>
            <a:chExt cx="3748680" cy="4517640"/>
          </a:xfrm>
        </p:grpSpPr>
        <p:grpSp>
          <p:nvGrpSpPr>
            <p:cNvPr id="224" name="Group 39"/>
            <p:cNvGrpSpPr/>
            <p:nvPr/>
          </p:nvGrpSpPr>
          <p:grpSpPr>
            <a:xfrm>
              <a:off x="1712880" y="1576440"/>
              <a:ext cx="225000" cy="1332360"/>
              <a:chOff x="1712880" y="1576440"/>
              <a:chExt cx="225000" cy="1332360"/>
            </a:xfrm>
          </p:grpSpPr>
          <p:sp>
            <p:nvSpPr>
              <p:cNvPr id="225" name="AutoShape 40"/>
              <p:cNvSpPr/>
              <p:nvPr/>
            </p:nvSpPr>
            <p:spPr>
              <a:xfrm>
                <a:off x="1712880" y="1576440"/>
                <a:ext cx="225000" cy="279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1"/>
              <p:cNvSpPr/>
              <p:nvPr/>
            </p:nvSpPr>
            <p:spPr>
              <a:xfrm>
                <a:off x="1731240" y="2724840"/>
                <a:ext cx="188280" cy="18396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42"/>
              <p:cNvSpPr/>
              <p:nvPr/>
            </p:nvSpPr>
            <p:spPr>
              <a:xfrm flipV="1">
                <a:off x="1731240" y="184392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43"/>
              <p:cNvSpPr/>
              <p:nvPr/>
            </p:nvSpPr>
            <p:spPr>
              <a:xfrm flipV="1">
                <a:off x="1919520" y="184428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44"/>
            <p:cNvGrpSpPr/>
            <p:nvPr/>
          </p:nvGrpSpPr>
          <p:grpSpPr>
            <a:xfrm>
              <a:off x="3850560" y="2326320"/>
              <a:ext cx="224640" cy="1333080"/>
              <a:chOff x="3850560" y="2326320"/>
              <a:chExt cx="224640" cy="1333080"/>
            </a:xfrm>
          </p:grpSpPr>
          <p:sp>
            <p:nvSpPr>
              <p:cNvPr id="230" name="AutoShape 45"/>
              <p:cNvSpPr/>
              <p:nvPr/>
            </p:nvSpPr>
            <p:spPr>
              <a:xfrm>
                <a:off x="3850560" y="2326320"/>
                <a:ext cx="224640" cy="27972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6"/>
              <p:cNvSpPr/>
              <p:nvPr/>
            </p:nvSpPr>
            <p:spPr>
              <a:xfrm>
                <a:off x="3868920" y="3474720"/>
                <a:ext cx="187920" cy="18468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47"/>
              <p:cNvSpPr/>
              <p:nvPr/>
            </p:nvSpPr>
            <p:spPr>
              <a:xfrm flipV="1">
                <a:off x="3868920" y="259380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48"/>
              <p:cNvSpPr/>
              <p:nvPr/>
            </p:nvSpPr>
            <p:spPr>
              <a:xfrm flipV="1">
                <a:off x="4056840" y="259416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Line 49"/>
            <p:cNvSpPr/>
            <p:nvPr/>
          </p:nvSpPr>
          <p:spPr>
            <a:xfrm>
              <a:off x="2341800" y="2177640"/>
              <a:ext cx="125676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50"/>
            <p:cNvSpPr/>
            <p:nvPr/>
          </p:nvSpPr>
          <p:spPr>
            <a:xfrm>
              <a:off x="3695040" y="370476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 -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1"/>
            <p:cNvSpPr/>
            <p:nvPr/>
          </p:nvSpPr>
          <p:spPr>
            <a:xfrm>
              <a:off x="1801080" y="3425760"/>
              <a:ext cx="63720" cy="11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52"/>
            <p:cNvSpPr/>
            <p:nvPr/>
          </p:nvSpPr>
          <p:spPr>
            <a:xfrm flipH="1">
              <a:off x="2211120" y="3663360"/>
              <a:ext cx="1253160" cy="9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53"/>
            <p:cNvGrpSpPr/>
            <p:nvPr/>
          </p:nvGrpSpPr>
          <p:grpSpPr>
            <a:xfrm>
              <a:off x="1315080" y="2273040"/>
              <a:ext cx="300600" cy="359280"/>
              <a:chOff x="1315080" y="2273040"/>
              <a:chExt cx="300600" cy="359280"/>
            </a:xfrm>
          </p:grpSpPr>
          <p:sp>
            <p:nvSpPr>
              <p:cNvPr id="239" name="Text Box 54"/>
              <p:cNvSpPr/>
              <p:nvPr/>
            </p:nvSpPr>
            <p:spPr>
              <a:xfrm>
                <a:off x="1338120" y="2319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55"/>
              <p:cNvSpPr/>
              <p:nvPr/>
            </p:nvSpPr>
            <p:spPr>
              <a:xfrm>
                <a:off x="1315080" y="2273040"/>
                <a:ext cx="300600" cy="359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56"/>
            <p:cNvGrpSpPr/>
            <p:nvPr/>
          </p:nvGrpSpPr>
          <p:grpSpPr>
            <a:xfrm>
              <a:off x="1933200" y="3692880"/>
              <a:ext cx="300600" cy="360000"/>
              <a:chOff x="1933200" y="3692880"/>
              <a:chExt cx="300600" cy="360000"/>
            </a:xfrm>
          </p:grpSpPr>
          <p:sp>
            <p:nvSpPr>
              <p:cNvPr id="242" name="Text Box 57"/>
              <p:cNvSpPr/>
              <p:nvPr/>
            </p:nvSpPr>
            <p:spPr>
              <a:xfrm>
                <a:off x="1954800" y="37450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58"/>
              <p:cNvSpPr/>
              <p:nvPr/>
            </p:nvSpPr>
            <p:spPr>
              <a:xfrm>
                <a:off x="1933200" y="3692880"/>
                <a:ext cx="300600" cy="360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59"/>
            <p:cNvGrpSpPr/>
            <p:nvPr/>
          </p:nvGrpSpPr>
          <p:grpSpPr>
            <a:xfrm>
              <a:off x="3290040" y="2989800"/>
              <a:ext cx="300600" cy="357120"/>
              <a:chOff x="3290040" y="2989800"/>
              <a:chExt cx="300600" cy="357120"/>
            </a:xfrm>
          </p:grpSpPr>
          <p:sp>
            <p:nvSpPr>
              <p:cNvPr id="245" name="Text Box 60"/>
              <p:cNvSpPr/>
              <p:nvPr/>
            </p:nvSpPr>
            <p:spPr>
              <a:xfrm>
                <a:off x="3306240" y="3048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61"/>
              <p:cNvSpPr/>
              <p:nvPr/>
            </p:nvSpPr>
            <p:spPr>
              <a:xfrm>
                <a:off x="3290040" y="2989800"/>
                <a:ext cx="300600" cy="357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Text Box 62"/>
            <p:cNvSpPr/>
            <p:nvPr/>
          </p:nvSpPr>
          <p:spPr>
            <a:xfrm>
              <a:off x="1116000" y="2946240"/>
              <a:ext cx="139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3"/>
            <p:cNvSpPr/>
            <p:nvPr/>
          </p:nvSpPr>
          <p:spPr>
            <a:xfrm>
              <a:off x="3347640" y="1873800"/>
              <a:ext cx="1832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64"/>
            <p:cNvSpPr/>
            <p:nvPr/>
          </p:nvSpPr>
          <p:spPr>
            <a:xfrm>
              <a:off x="621000" y="374580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65"/>
            <p:cNvGrpSpPr/>
            <p:nvPr/>
          </p:nvGrpSpPr>
          <p:grpSpPr>
            <a:xfrm>
              <a:off x="1823400" y="4761360"/>
              <a:ext cx="1661760" cy="1332720"/>
              <a:chOff x="1823400" y="4761360"/>
              <a:chExt cx="1661760" cy="1332720"/>
            </a:xfrm>
          </p:grpSpPr>
          <p:grpSp>
            <p:nvGrpSpPr>
              <p:cNvPr id="251" name="Group 66"/>
              <p:cNvGrpSpPr/>
              <p:nvPr/>
            </p:nvGrpSpPr>
            <p:grpSpPr>
              <a:xfrm>
                <a:off x="1823400" y="4761360"/>
                <a:ext cx="224640" cy="1332720"/>
                <a:chOff x="1823400" y="4761360"/>
                <a:chExt cx="224640" cy="1332720"/>
              </a:xfrm>
            </p:grpSpPr>
            <p:sp>
              <p:nvSpPr>
                <p:cNvPr id="252" name="AutoShape 67"/>
                <p:cNvSpPr/>
                <p:nvPr/>
              </p:nvSpPr>
              <p:spPr>
                <a:xfrm>
                  <a:off x="1823400" y="4761360"/>
                  <a:ext cx="224640" cy="27936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68"/>
                <p:cNvSpPr/>
                <p:nvPr/>
              </p:nvSpPr>
              <p:spPr>
                <a:xfrm>
                  <a:off x="1841760" y="5910120"/>
                  <a:ext cx="187920" cy="183960"/>
                </a:xfrm>
                <a:custGeom>
                  <a:avLst/>
                  <a:gdLst>
                    <a:gd name="textAreaLeft" fmla="*/ 0 w 187920"/>
                    <a:gd name="textAreaRight" fmla="*/ 188280 w 18792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69"/>
                <p:cNvSpPr/>
                <p:nvPr/>
              </p:nvSpPr>
              <p:spPr>
                <a:xfrm flipV="1">
                  <a:off x="1841760" y="5028840"/>
                  <a:ext cx="0" cy="88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70"/>
                <p:cNvSpPr/>
                <p:nvPr/>
              </p:nvSpPr>
              <p:spPr>
                <a:xfrm flipV="1">
                  <a:off x="2029680" y="5028840"/>
                  <a:ext cx="0" cy="88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Text Box 71"/>
              <p:cNvSpPr/>
              <p:nvPr/>
            </p:nvSpPr>
            <p:spPr>
              <a:xfrm>
                <a:off x="2533320" y="56692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um from solid medi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)  Use growth on solid medium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)  Make suspension &gt;1.0 McFarland turbidity standard in MGIT broth containing 8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0 glass b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)  Vortex for 2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4)  Allow to sit 20 minutes for large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5)  Transfer supernatant fluid to another sterile tube and allow to sit for anoth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6)  Transfer supernatant fluid to another sterile tube and adjust turbidity to 0.5 McFarland turbidit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)  Dilute 1 ml of final suspension in 4 ml sterile saline and m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PZ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5638680"/>
            <a:ext cx="858600" cy="9144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4"/>
          <p:cNvGrpSpPr/>
          <p:nvPr/>
        </p:nvGrpSpPr>
        <p:grpSpPr>
          <a:xfrm>
            <a:off x="5105520" y="2514600"/>
            <a:ext cx="3677760" cy="2286000"/>
            <a:chOff x="5105520" y="2514600"/>
            <a:chExt cx="3677760" cy="2286000"/>
          </a:xfrm>
        </p:grpSpPr>
        <p:sp>
          <p:nvSpPr>
            <p:cNvPr id="263" name="Oval 5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6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7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5857920" y="2651040"/>
              <a:ext cx="292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 ml culture susp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.5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9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ading DST 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72840" y="1455480"/>
            <a:ext cx="60418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DST sets to the instrument in the DST transport 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desired drawer and scan DST Set Carrier’s barcode label and isolate label on firs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DST set definition on instrument display and change if 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insert the tube set into the indicated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n the left-most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all the tubes AND carriers are fully seated in th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2"/>
          <p:cNvPicPr/>
          <p:nvPr/>
        </p:nvPicPr>
        <p:blipFill>
          <a:blip r:embed="rId1"/>
          <a:stretch/>
        </p:blipFill>
        <p:spPr>
          <a:xfrm>
            <a:off x="6572160" y="2928960"/>
            <a:ext cx="2386080" cy="2451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ummary poi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480" y="13669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ly label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add the exact volume of SIRE supplement, drugs and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hydrate drugs with the correct diluent and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add any drug to the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pur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for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ultures not older than 5 (for MGIT) and 14 (for solid) d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clumps, mix suspensions and inoculated vials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5CAA-1610-48CC-A518-EE27C968DCD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cultures from TB patients are subjected to growth in the presence of known concentration of a test dr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ciple of MGIT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SIRE vials"/>
          <p:cNvPicPr/>
          <p:nvPr/>
        </p:nvPicPr>
        <p:blipFill>
          <a:blip r:embed="rId1"/>
          <a:stretch/>
        </p:blipFill>
        <p:spPr>
          <a:xfrm>
            <a:off x="1168560" y="3656160"/>
            <a:ext cx="1498320" cy="160164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6" name="Picture 5" descr="PZA"/>
          <p:cNvPicPr/>
          <p:nvPr/>
        </p:nvPicPr>
        <p:blipFill>
          <a:blip r:embed="rId2"/>
          <a:stretch/>
        </p:blipFill>
        <p:spPr>
          <a:xfrm>
            <a:off x="5489640" y="3657600"/>
            <a:ext cx="1501560" cy="16002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3048120" y="3675240"/>
            <a:ext cx="1981080" cy="15825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susceptibility testing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A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A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each critical concentration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constitution of SIRE lyophilized drug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SIRE vials"/>
          <p:cNvPicPr/>
          <p:nvPr/>
        </p:nvPicPr>
        <p:blipFill>
          <a:blip r:embed="rId1"/>
          <a:stretch/>
        </p:blipFill>
        <p:spPr>
          <a:xfrm>
            <a:off x="6095880" y="2209680"/>
            <a:ext cx="2495520" cy="26607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drug critical concent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371600"/>
          <a:ext cx="7772400" cy="418608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Critical Concent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Streptomycin (ST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Isoniazid (IN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.1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Rifampin (RIF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Ethambutol (EM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 MGIT 960 SIRE ki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vials of MGIT 960 SIRE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xchange with MGIT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concentrations of S, I, R, E drug in lyophilize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of tests/kit = maximum of 100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rganism inoculum for MGIT 960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IT 960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tubes from cul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subculture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of seeds from day of po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1 to day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0.5 McFarland organ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02AF-E730-4B63-ABC3-A83A14AF45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8:05Z</dcterms:modified>
  <cp:revision>212</cp:revision>
  <dc:subject/>
  <dc:title>PowerPoint Presentation</dc:title>
</cp:coreProperties>
</file>