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7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B105-CED6-4DBF-8495-8DFCA0242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983A-F133-46D9-94F8-1893D7914E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E0C7-860D-4EE6-9FD6-6296061E99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D9EC-B390-49F0-A2D0-DC4D1EA610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3780-5569-4CEE-9CDD-A52DD98E66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3198-17D9-4B85-AAAD-0B115AE352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EF63-903E-4209-945A-F0B5A9D1AB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3A2D-B08D-4C3B-8D68-C2A4A89630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FAE9-1645-4F86-90AF-9A6ECB259D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98A0-ADF5-4A6B-AC22-86D2948F59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D186-AD87-48B8-A916-E7B2907913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5F4C-88A0-4E72-941A-3425DF00A1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F2E5-5DDB-4D67-B4AC-75BE50FB00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9D8C-EC5B-4A51-B441-FA14FA8D77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A033-1DDE-4949-BD24-D40353DE2A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267D-B509-4EAF-BF1D-4B9B9944E1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3330-7515-44C9-A67E-5BA9DF84EE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F84-86BF-4349-9E1F-3F58F8FC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4750-63C3-40A4-A008-0277D1F8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241-0A90-4F92-BF82-ABF0471B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04E-EA1C-4E93-91A9-44321B91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2E4D-B153-423E-A556-4B65B0B5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BC66-76D1-4A91-BF1A-CCC29156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82C6-7D09-4489-9F4B-CADA8657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AFFB-CF2A-4B2A-BEEF-48B84A32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F060-2C9B-4DA9-BB7B-7A5BD359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A104-E8ED-4660-BAE8-7CECFC37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83F9-2538-4B10-AF40-10D9A675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F744-3BC1-4B48-98F6-BF22AF18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E20C-30E2-40E6-9BD3-EBAFB540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4001-C4DF-4614-B092-0C9189CB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BF6F-1D29-4695-8246-1C470E09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D077-3A81-4E7D-99D0-14C4EB95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4BBD-BE01-4900-9CD8-AE7D5B26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169-1598-4444-AE0F-0EC2BB6E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D15-4B2E-4637-A2E2-D5ACFE71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6B1D-60AE-4E86-840D-A5406171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439-37A7-45D0-8AB5-39E205CF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AF3-DBA8-4AF6-B760-BD9BF967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150-1DC6-46AC-8DA8-D1D6EB49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AF88-345B-432C-BB72-F293A928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FC97-4A57-477B-AA35-3C7DEB0ADF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AC5F-95FC-4DAC-A85E-0C6310A181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osafety in the molecular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1481040"/>
            <a:ext cx="81532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 with a clean cloth afte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use on the log sheet provided by the individual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maintenanc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24CE-6898-4F77-A17D-CE0C8D3BA54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337440" y="1429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6191280" y="3197160"/>
            <a:ext cx="2502000" cy="3033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80960" y="1357200"/>
            <a:ext cx="84772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contents uniform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x reag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Title 2" descr=""/>
          <p:cNvPicPr/>
          <p:nvPr/>
        </p:nvPicPr>
        <p:blipFill>
          <a:blip r:embed="rId3"/>
          <a:stretch/>
        </p:blipFill>
        <p:spPr>
          <a:xfrm>
            <a:off x="487440" y="28591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33" name="Content Placeholder 1"/>
          <p:cNvSpPr/>
          <p:nvPr/>
        </p:nvSpPr>
        <p:spPr>
          <a:xfrm>
            <a:off x="380880" y="4000680"/>
            <a:ext cx="84772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emperature stability for liqui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t is crucial to heat samples 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rder to totally lyse cells an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activate living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62A5-7D6E-430E-8578-9F3C702E7CD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6840" y="1481040"/>
            <a:ext cx="8015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rtex must be disinfected on a regular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n the waterbath must be replaced wee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with mild deter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e heating element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 and water bat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E49F-A6DC-457F-9648-EB7067C88DB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emperature with calibrated thermometer in an oil filled tu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several tubes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the heating bl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70% ethanol af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ating bloc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581800" y="3063960"/>
            <a:ext cx="3348000" cy="357984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1A91-1906-4B3F-AB5A-8B48B5DFA17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y ov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°C for 1 hour to kill tubercle bac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use instead of heating block and 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thermometer to record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specimen racks inside oven and do not remove once temperature is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pecimen tubes to heated 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s required with 1%-1.5% bleach and 70% alcohol (turn off before clea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C49B-A7F1-4374-8D18-6DFC6C7FEE8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187632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48104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the ‘clean room’/DNA-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eparation of the “master mi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NA in thi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943600" y="3301920"/>
            <a:ext cx="2176560" cy="283068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B235-176C-4C73-8CE8-8FA350D3DFB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66480" y="1481040"/>
            <a:ext cx="83962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before and after with bleach (prepared dail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itch on the UV light after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sure the UV light is switched off while working in the PCR h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cate equipment for the “clean room” and DO NOT USE IN OTHER RO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not enter the clean room after DNA extraction/entering of amplification ro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3850-B0C6-4D73-8164-71549987749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7120" y="1481040"/>
            <a:ext cx="8406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the amplification of the specific gene target by polymerase chai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ccuracy – amplification profiles can be modified to optimi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ing rate (2.2°C/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off and unplug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outside hous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anol and wipe clean afte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rmocycl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193840" cy="23083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951E-F543-4633-83C6-7EAE1CD136D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33520" y="1481040"/>
            <a:ext cx="82533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use with DNA strips in reverse hybridization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proced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or the Hain molecular diagnostic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incubation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water b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12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5003" t="1247" r="21877" b="8750"/>
          <a:stretch/>
        </p:blipFill>
        <p:spPr>
          <a:xfrm>
            <a:off x="6324480" y="4076640"/>
            <a:ext cx="1986120" cy="1833480"/>
          </a:xfrm>
          <a:prstGeom prst="rect">
            <a:avLst/>
          </a:prstGeom>
          <a:ln w="0">
            <a:noFill/>
          </a:ln>
        </p:spPr>
      </p:pic>
      <p:sp>
        <p:nvSpPr>
          <p:cNvPr id="1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15BE-B1A4-446E-B871-5671E0B895D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481040"/>
            <a:ext cx="50292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fter use (when in regular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off and unplug before clea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outside housing with 70% ethanol, wipe 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5659560" y="2154240"/>
            <a:ext cx="2939760" cy="39607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646E-20FF-41D8-9D86-DBBE0BDBDF7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9AB6-60B9-489B-B931-5354E78C467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Which BSL for TB laboratory activities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1 – AFB smear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countertop if airflow is directed away from  laboratory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exhaust fan to draw air away fro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C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– Specimen processing for TB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centrifuge cups opened only in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SL2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Molecula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ree areas with separate ai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LIVE MTB; dead cell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and/or BSL3 – MTB Culture: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and air exhaust needed for manipulating large quantities of live M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47400" y="142848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T-Blot 48 is a fully automated system for hybrid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of assay (programm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rcRect l="1403" t="5622" r="12813" b="13748"/>
          <a:stretch/>
        </p:blipFill>
        <p:spPr>
          <a:xfrm>
            <a:off x="2438280" y="3276720"/>
            <a:ext cx="3857760" cy="271944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6C30-E65F-4515-A17B-1AFA1485F2F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07440" y="176040"/>
            <a:ext cx="840132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nner: The strips can be scanned and interpreted in less than 1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785960" y="1447920"/>
            <a:ext cx="5572080" cy="47242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C9BB-A398-4D9E-A68D-88AC3E5E793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797120"/>
            <a:ext cx="86439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machine after use (when in regular us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ove reagents after the last run of the day – wash, take “connectors” out of water at the b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 not leave the connectors in wat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outside housing with ethan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trays first with soapy and then again only with water after each ru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D73C-A904-4D4A-B40B-C420143A2C6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LABORATORY PRACTICE AT ALL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KE CARE OF YOUR MACH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DD23-5358-4867-BB36-4817757AA39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2D76-C5AE-4930-A080-379CA09E660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B culture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5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 all biosafety protocols for work in the MTB culture 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sample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infect outside of tubes before removing from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f DNA extraction occurs in the moderate-risk TB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54DA-52F8-4B30-8E00-CAB98C57598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laborat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parate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ixing of air between the three 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haring of supplies, laboratory coats and 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laboratory pract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aerosol generation – cross 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infect areas with freshly prepared 1%-1.5% concentration of bl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concentration of hypochlorite in bl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BE90-521D-4FF8-A146-DB1699F0D24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C217-CE96-4840-B1A8-E8182B5D548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3354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laboratory areas with PPE stored in each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-clo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sle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able cloth or dispo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x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Elom and Mosun staining"/>
          <p:cNvPicPr/>
          <p:nvPr/>
        </p:nvPicPr>
        <p:blipFill>
          <a:blip r:embed="rId1"/>
          <a:stretch/>
        </p:blipFill>
        <p:spPr>
          <a:xfrm>
            <a:off x="4162320" y="1366920"/>
            <a:ext cx="36068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infecta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ly prepared 1%-1.5% bl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by a 70% ethanol wash inside the BSC and where metal surfac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6B10-96F4-4167-BCDC-B456708B988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oType MTBDRplus VER 2.0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ing block/dry 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525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 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cyc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nC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T-Blot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CA44-1AC3-45BB-8CDA-5F1572065C1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447920"/>
            <a:ext cx="81756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by centripet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(revolutions per minute) or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= the number of full rotations completed in one 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g = centrifug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of cells is to one side of the tube – </a:t>
            </a:r>
            <a:r>
              <a:rPr b="0" lang="en-US" sz="2800" spc="-1" strike="noStrike" u="sng">
                <a:solidFill>
                  <a:srgbClr val="192626"/>
                </a:solidFill>
                <a:uFillTx/>
                <a:latin typeface="Arial"/>
              </a:rPr>
              <a:t>mark tube for pellet orientation before centrifu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izes: microcentrifuge/picofuge        (0.2 ml – 2.0 ml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16879" r="49376" b="15632"/>
          <a:stretch/>
        </p:blipFill>
        <p:spPr>
          <a:xfrm>
            <a:off x="5486400" y="2933640"/>
            <a:ext cx="831960" cy="99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622520" cy="190476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6A1A-ACEA-4D25-A1EA-EF5B8FBCD32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3:26:37Z</dcterms:created>
  <dc:creator>Linda Parsons</dc:creator>
  <dc:description/>
  <dc:language>en-US</dc:language>
  <cp:lastModifiedBy>Tagliani Elisa</cp:lastModifiedBy>
  <dcterms:modified xsi:type="dcterms:W3CDTF">2020-06-12T10:11:24Z</dcterms:modified>
  <cp:revision>58</cp:revision>
  <dc:subject/>
  <dc:title>Slide 1</dc:title>
</cp:coreProperties>
</file>