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8C15-8E1F-4CD7-A358-743347CE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A710-97FC-4C32-8FC8-A400F772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6D13-5FD0-44A1-9054-CC74928C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E559-2EFC-42CF-9D2F-D329F876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B9D2-B40F-4C2E-BDAF-16F5A3EE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D2E3-FD9D-4CE5-B742-A84CBF17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60E5-3EAF-4F1A-A86B-7059713F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9826-90AF-4089-A483-70F20AC0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47D6-9518-4CCF-A688-6FA3760A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D351-1873-494F-A171-194CBF1F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9239-0C23-48D9-A48B-4176C46E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F532-C0E0-4039-96C3-2FE70D89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FC99-68D4-46EF-9050-B00371D14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lements in each WG strategic 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32228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16000" y="1125360"/>
          <a:ext cx="8820000" cy="5313600"/>
        </p:xfrm>
        <a:graphic>
          <a:graphicData uri="http://schemas.openxmlformats.org/drawingml/2006/table">
            <a:tbl>
              <a:tblPr/>
              <a:tblGrid>
                <a:gridCol w="1101600"/>
                <a:gridCol w="1103400"/>
                <a:gridCol w="1101600"/>
                <a:gridCol w="1104840"/>
                <a:gridCol w="1101960"/>
                <a:gridCol w="1101600"/>
                <a:gridCol w="1103400"/>
                <a:gridCol w="11016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TS exp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TS-Pl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B/H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agn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acc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rategic 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bj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ar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imel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mp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 vaccine by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ies budg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u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is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vised Global Plan 2006-2015 time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965480"/>
        </p:xfrm>
        <a:graphic>
          <a:graphicData uri="http://schemas.openxmlformats.org/drawingml/2006/table">
            <a:tbl>
              <a:tblPr/>
              <a:tblGrid>
                <a:gridCol w="2057400"/>
                <a:gridCol w="4038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les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 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eering Group mee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 Ma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ordinating Board consid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d 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inalised WG plans and regional scen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une-Ju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afting of 1</a:t>
                      </a:r>
                      <a:r>
                        <a:rPr b="0" lang="en-GB" sz="2000" spc="-1" strike="noStrike" baseline="30000">
                          <a:solidFill>
                            <a:srgbClr val="ffff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full Global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ug-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de consultation and re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d 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inalised Global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ct-Dec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duction of Global Plan (editing, design, translation, printing et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anuary 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unch, Davos (to be confirm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7:07:22Z</dcterms:created>
  <dc:creator>maherd</dc:creator>
  <dc:description/>
  <dc:language>en-US</dc:language>
  <cp:lastModifiedBy>Karen Caines</cp:lastModifiedBy>
  <dcterms:modified xsi:type="dcterms:W3CDTF">2005-05-01T13:25:20Z</dcterms:modified>
  <cp:revision>6</cp:revision>
  <dc:subject/>
  <dc:title> Elements in each WG strategic  plan</dc:title>
</cp:coreProperties>
</file>