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EB02-BAFE-4613-9CDD-A7D0B5C0C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EDFD-9893-42D6-9BDB-C903C3FCB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176A-1D7A-4E83-8AB4-987B19F0A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1461-BE84-472D-A447-C8A8DE575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8077-BB42-4919-A23E-1C506DA57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BD07-05C7-4064-AACE-ACE86360A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EB6E-652B-442B-BF78-FD44FE1DF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755C-2B71-4B74-B0D9-5F9CAB5E0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AC78-FD49-4A37-8161-D773A5337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D4A1-61D9-4815-A8E2-20F49A720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0472-DA0C-4091-A2FD-69D9E6F6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6623-A118-4A2A-990C-D3C3232E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B5159-F0EB-409F-BCA5-1D39E8A238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Mixed feelings about DOTS</a:t>
            </a:r>
            <a:br>
              <a:rPr sz="4400"/>
            </a:br>
            <a:br>
              <a:rPr sz="32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MS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fffff"/>
                </a:solidFill>
                <a:latin typeface="Arial"/>
              </a:rPr>
              <a:t>Addis Abab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fffff"/>
                </a:solidFill>
                <a:latin typeface="Arial"/>
              </a:rPr>
              <a:t>3/05/0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Directly Observed Therapy</a:t>
            </a:r>
            <a:br>
              <a:rPr sz="4000"/>
            </a:br>
            <a:r>
              <a:rPr b="1" lang="fr-FR" sz="3200" spc="-1" strike="noStrike">
                <a:solidFill>
                  <a:srgbClr val="00ffff"/>
                </a:solidFill>
                <a:latin typeface="Arial"/>
              </a:rPr>
              <a:t>Essential?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Arial"/>
              </a:rPr>
              <a:t>DOT alone vs Self Administered Treatment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lack of evidence (Cochrane review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Arial"/>
              </a:rPr>
              <a:t>Feasibility?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6 month regim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Arial"/>
              </a:rPr>
              <a:t>ARV/AIDS experience- 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Active role of the pati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299880" y="2444760"/>
          <a:ext cx="8668080" cy="1549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880" y="2444760"/>
                    <a:ext cx="8668080" cy="15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304920" y="5029200"/>
            <a:ext cx="7086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Arial"/>
              </a:rPr>
              <a:t>No WHO pre-qualified drugs for childr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Arial"/>
              </a:rPr>
              <a:t>No WHO pre-qualified 2nd line drugs</a:t>
            </a:r>
            <a:r>
              <a:rPr b="0" lang="fr-FR" sz="24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457200"/>
            <a:ext cx="72392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pply of essential drug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Arial"/>
              </a:rPr>
              <a:t>Room for Improv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380880" y="3505320"/>
          <a:ext cx="8483760" cy="143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505320"/>
                    <a:ext cx="8483760" cy="14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228600" y="685800"/>
            <a:ext cx="868680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Monitoring/ Evalu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Arial"/>
              </a:rPr>
              <a:t>Data Collection has its own challen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14400" y="28195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Treatment outcomes in projects supported by MS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NCLUSION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Arial"/>
              </a:rPr>
              <a:t>DOTS has achieved a l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Arial"/>
              </a:rPr>
              <a:t>DOTS has evolv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Arial"/>
              </a:rPr>
              <a:t>B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Brand ambigu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Exclu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DR-T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Recognise difficul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ffff"/>
                </a:solidFill>
                <a:latin typeface="Arial"/>
              </a:rPr>
              <a:t>What we have is not enough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Diagnostic tools for smear -, extra-pulmonary and childr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Shorter treatment, new med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Diversify adherence strateg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Vacc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chievements and Limitation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Achievem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ffff"/>
                </a:solidFill>
                <a:latin typeface="Arial"/>
              </a:rPr>
              <a:t>Ambiguities with brand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ffff"/>
                </a:solidFill>
                <a:latin typeface="Arial"/>
              </a:rPr>
              <a:t>Difficulties and limita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Observations and data from our pro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Discuss recent controversy over DO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Achievem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Order to Cha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Regimes, procurement, repor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Focussed attention from Governments and Dono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Political Wi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DOTS </a:t>
            </a:r>
            <a:r>
              <a:rPr b="1" lang="fr-FR" sz="4000" spc="-1" strike="noStrike">
                <a:solidFill>
                  <a:srgbClr val="ffff00"/>
                </a:solidFill>
                <a:latin typeface="Arial"/>
                <a:ea typeface="Arial"/>
              </a:rPr>
              <a:t>® </a:t>
            </a: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Ambiguiti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Same bran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Different compon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762120"/>
            <a:ext cx="8589960" cy="57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litical commit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tection by sputum microsco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andard short course chemotherap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68560" indent="-711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nder DOT by HC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68560" indent="-711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o “at least” all smear 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68560" indent="-711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ninterrupted supply of essential dru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cording and reporting systems (smear+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5 pillars (199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8600" y="762120"/>
            <a:ext cx="858996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litical commit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tection by sputum microscopy 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(QC)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X-ray, cultures and D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andard short course chemotherapy an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68560" indent="-711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nder DOT by HCW, 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family, community,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68560" indent="-711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o all 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cas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68560" indent="-71136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DRTB treat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ninterrupted supply of </a:t>
            </a:r>
            <a:r>
              <a:rPr b="1" lang="en-GB" sz="2800" spc="-1" strike="noStrike">
                <a:solidFill>
                  <a:srgbClr val="00ffff"/>
                </a:solidFill>
                <a:latin typeface="Arial"/>
              </a:rPr>
              <a:t>drugs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quality assured, FDC, 2</a:t>
            </a:r>
            <a:r>
              <a:rPr b="0" lang="en-GB" sz="2400" spc="-1" strike="noStrike" baseline="30000">
                <a:solidFill>
                  <a:srgbClr val="00ffff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 l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cording and reporting systems 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enabling outcome assessment of each patients, incorporating culture and DST resul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5 pillars </a:t>
            </a:r>
            <a:r>
              <a:rPr b="1" lang="en-GB" sz="3600" spc="-1" strike="noStrike">
                <a:solidFill>
                  <a:srgbClr val="00ffff"/>
                </a:solidFill>
                <a:latin typeface="Arial"/>
              </a:rPr>
              <a:t>(2004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Some of our difficulties with TB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298440" y="3346560"/>
          <a:ext cx="8601120" cy="1776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440" y="3346560"/>
                    <a:ext cx="8601120" cy="17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533520" y="228600"/>
            <a:ext cx="8001000" cy="20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Case detection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Arial"/>
              </a:rPr>
              <a:t>Exclusio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(13,323 patients in 52 projects supported by MSF 2004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52680" y="266688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Proportions 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380880" y="1828800"/>
          <a:ext cx="8382240" cy="44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8382240" cy="44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304920" y="22860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Standard SCC</a:t>
            </a:r>
            <a:br>
              <a:rPr sz="4400"/>
            </a:br>
            <a:r>
              <a:rPr b="1" lang="fr-FR" sz="3200" spc="-1" strike="noStrike">
                <a:solidFill>
                  <a:srgbClr val="00ffff"/>
                </a:solidFill>
                <a:latin typeface="Arial"/>
              </a:rPr>
              <a:t>Does one size fit all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21:38:51Z</dcterms:created>
  <dc:creator>MSFuser</dc:creator>
  <dc:description/>
  <dc:language>en-US</dc:language>
  <cp:lastModifiedBy>MSFUser</cp:lastModifiedBy>
  <dcterms:modified xsi:type="dcterms:W3CDTF">2005-05-04T13:03:37Z</dcterms:modified>
  <cp:revision>25</cp:revision>
  <dc:subject/>
  <dc:title>DOTS: The 5 pillars (1995)</dc:title>
</cp:coreProperties>
</file>