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FD10-670B-47DD-8C87-9C2B280A8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842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2680" y="4093920"/>
            <a:ext cx="842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BAA1-DABE-447C-91A7-AF8FC0998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426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572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7D6C-3F69-44B2-A1DE-BAE253B5D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9920" y="190476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6800" y="190476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42680" y="409392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9920" y="409392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6800" y="409392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9DBC-EF84-4DDE-A528-E67DCA760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28D45-6F5A-4E86-8A56-EE76F50D0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ACB33-1FE0-450C-8F14-5FC9DA46A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82F38-1A29-478F-A4C2-6B08365AB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8CA0A-43D6-4B45-840C-154292290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F3EC9-272B-47B8-AA75-E1D9E2A67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84040" y="28368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B3F09-1B3D-47FD-8CF7-A78C3F388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426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180AB-9DCF-4F93-817F-48A9FDD5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7121-9B77-43E3-B994-FD136AE0B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572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665AD-6EF9-4194-B0DD-D01EA26C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42680" y="4093920"/>
            <a:ext cx="842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7326E-BC78-4F96-A68E-0DDC7285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842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742680" y="4093920"/>
            <a:ext cx="842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2B307-526C-4207-8E96-7E23C1BA4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426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572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5BFBA-423D-438B-A2F6-BC2CD623C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89920" y="190476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6800" y="190476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742680" y="409392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89920" y="409392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6800" y="409392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A09CF-B54F-4834-B95F-EC4DA8545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41FF-A31D-42F9-A7CB-E53851899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3384-D4B3-4D0F-8D65-F6EBB2E3E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B217-B194-482D-9693-4F5EEA084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84040" y="28368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806B-38C3-48F1-AC06-F56D2687E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426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6DFF-5862-47E9-A5A8-A23751F2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572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BB20-0AA6-493A-915F-57B28B2F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42680" y="4093920"/>
            <a:ext cx="842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6669-97E2-4743-8948-AE26704D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512720"/>
            <a:ext cx="916308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68200" y="0"/>
            <a:ext cx="8604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56480" y="6553080"/>
            <a:ext cx="224964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900640" y="6248160"/>
            <a:ext cx="57780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0F8D6-9B74-4F52-96C6-BD127C12B4B8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23800" y="1549440"/>
            <a:ext cx="883944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7680" y="3206880"/>
            <a:ext cx="941076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7680" y="1482840"/>
            <a:ext cx="941076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342360" y="1246320"/>
            <a:ext cx="84240" cy="2235240"/>
          </a:xfrm>
          <a:custGeom>
            <a:avLst/>
            <a:gdLst>
              <a:gd name="textAreaLeft" fmla="*/ 12240 w 84240"/>
              <a:gd name="textAreaRight" fmla="*/ 72000 w 84240"/>
              <a:gd name="textAreaTop" fmla="*/ 12240 h 2235240"/>
              <a:gd name="textAreaBottom" fmla="*/ 2223000 h 2235240"/>
            </a:gdLst>
            <a:ahLst/>
            <a:rect l="textAreaLeft" t="textAreaTop" r="textAreaRight" b="textAreaBottom"/>
            <a:pathLst>
              <a:path w="21600" h="570791">
                <a:moveTo>
                  <a:pt x="10800" y="0"/>
                </a:moveTo>
                <a:arcTo wR="10800" hR="10800" stAng="16200000" swAng="-5400000"/>
                <a:lnTo>
                  <a:pt x="0" y="559991"/>
                </a:lnTo>
                <a:arcTo wR="10800" hR="10800" stAng="10800000" swAng="-5400000"/>
                <a:lnTo>
                  <a:pt x="10800" y="57079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71600" y="1252440"/>
            <a:ext cx="83880" cy="2235240"/>
          </a:xfrm>
          <a:custGeom>
            <a:avLst/>
            <a:gdLst>
              <a:gd name="textAreaLeft" fmla="*/ 12240 w 83880"/>
              <a:gd name="textAreaRight" fmla="*/ 71640 w 83880"/>
              <a:gd name="textAreaTop" fmla="*/ 12240 h 2235240"/>
              <a:gd name="textAreaBottom" fmla="*/ 2223000 h 2235240"/>
            </a:gdLst>
            <a:ahLst/>
            <a:rect l="textAreaLeft" t="textAreaTop" r="textAreaRight" b="textAreaBottom"/>
            <a:pathLst>
              <a:path w="21600" h="573231">
                <a:moveTo>
                  <a:pt x="10800" y="0"/>
                </a:moveTo>
                <a:arcTo wR="10800" hR="10800" stAng="16200000" swAng="-5400000"/>
                <a:lnTo>
                  <a:pt x="0" y="562431"/>
                </a:lnTo>
                <a:arcTo wR="10800" hR="10800" stAng="10800000" swAng="-5400000"/>
                <a:lnTo>
                  <a:pt x="10800" y="57323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67200" y="5783400"/>
            <a:ext cx="377028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37000" y="5734080"/>
            <a:ext cx="102888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1752120"/>
            <a:ext cx="8420040" cy="11430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64413-D2A6-4E1B-9C38-0FBAF305003C}" type="slidenum"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9068040" cy="22100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e9"/>
                </a:solidFill>
                <a:latin typeface="Times New Roman"/>
                <a:ea typeface="Times New Roman"/>
              </a:rPr>
              <a:t>PATIENTS PERSPECTIVE ON THE IMPLICATIONS OF TB CONTROL IN AFRICA</a:t>
            </a:r>
            <a:r>
              <a:rPr b="0" lang="en-US" sz="4400" spc="-1" strike="noStrike">
                <a:solidFill>
                  <a:srgbClr val="ffffe9"/>
                </a:solidFill>
                <a:latin typeface="Times New Roman"/>
                <a:ea typeface="Times New Roman"/>
              </a:rPr>
              <a:t>.</a:t>
            </a: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560" y="4800600"/>
            <a:ext cx="6933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Presenter</a:t>
            </a:r>
            <a:r>
              <a:rPr b="0" lang="en-US" sz="4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– Lucy Chesire.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143000" y="403848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2320" y="2971800"/>
            <a:ext cx="923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64c"/>
                </a:solidFill>
                <a:latin typeface="Times New Roman"/>
              </a:rPr>
              <a:t>TB is a problem </a:t>
            </a:r>
            <a:r>
              <a:rPr b="0" lang="en-US" sz="4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but is a SOLUTION</a:t>
            </a:r>
            <a:endParaRPr b="0" lang="en-US" sz="4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to another PROBLEM.</a:t>
            </a:r>
            <a:endParaRPr b="0" lang="en-US" sz="4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01280" y="533520"/>
            <a:ext cx="511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64c"/>
                </a:solidFill>
                <a:latin typeface="Times New Roman"/>
              </a:rPr>
              <a:t>PARTING SHOT</a:t>
            </a:r>
            <a:endParaRPr b="0" lang="en-US" sz="5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                   </a:t>
            </a: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T.B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2666880"/>
            <a:ext cx="883944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2.3 m cases of T.B in Africa occurring yearly?????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Have we lost the fight in Africa if not…what can we do?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If T.B is curable, why are people still dying??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Patient Centered factors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42640" y="2209680"/>
            <a:ext cx="842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TB support groups ongoing but not active.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Stigma associated with HIV.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Poverty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Food insecurity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TB/HIV  infection = on average 50% of TB patients now are co-infected.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1600200"/>
            <a:ext cx="8420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Costs in relation to work-ups to TB treatment. e.g Antibiotics, lab tests, x-ray etc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Delay in seeking care by TB suspects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Pill burden e.g Zimbabwe 14 pills for treatment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Approach to D.C.T for TB patients.</a:t>
            </a:r>
            <a:r>
              <a:rPr b="0" lang="en-US" sz="40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1218960" y="38088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Patient Centered factors cont..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Health System Factors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9067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Lack of drugs for MDR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Lack of policy on the management of MDR in most health institution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Delayed diagnosis e.g. Arthritis Vs TB of the kne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Missed TB cases due to Doctors lack of knowledge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Shortage of Human resource for health e.g affects TB control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22860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Times New Roman"/>
              </a:rPr>
              <a:t>TB Patients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When engaged and supported appropriately patients can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85720" y="3428640"/>
            <a:ext cx="84200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Increase effectiveness of health car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Mobilize the community in being the backbone of effective TB contro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Provide input on effective policy and practic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066680" y="1905120"/>
            <a:ext cx="842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</a:rPr>
              <a:t>Provide support and conduct community TB led interventions (VCT, Psychosocial, TB support groups etc).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</a:rPr>
              <a:t>Reduce stigma and improve access to TB control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0200" y="609480"/>
            <a:ext cx="556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Times New Roman"/>
              </a:rPr>
              <a:t>TB Patients cont…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Times New Roman"/>
              </a:rPr>
              <a:t>Way Forward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3-D’s = Better Drugs,Diagnostics, Dignity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ontinuous patient involvement in car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unding for TB support group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Ensure private sector involvemen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B/HIV collaboration (address constraints)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ustained political commitmen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Long term financing for TB programme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218960" y="1600200"/>
            <a:ext cx="8420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Quality assurance for diagnostic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Robust patient tracking system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DOTS plus programme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Develop M/E system to drugs adherence, especially smear-ves and extra pulmonary TB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Streamline TB system to ensure follow up of patients at the TB clinics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More  resources for DOTS expansion e.g. use of  community health workers for drugs distribution and follow-up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142640" y="533520"/>
            <a:ext cx="8420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Times New Roman"/>
              </a:rPr>
              <a:t>Way Forward cont…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30T13:08:19Z</dcterms:created>
  <dc:creator>Kacy 1</dc:creator>
  <dc:description/>
  <dc:language>en-US</dc:language>
  <cp:lastModifiedBy>administrator</cp:lastModifiedBy>
  <dcterms:modified xsi:type="dcterms:W3CDTF">2005-05-01T15:02:01Z</dcterms:modified>
  <cp:revision>25</cp:revision>
  <dc:subject/>
  <dc:title>PATIENTS PERSPECTIVE IN THE IMPLICATIONS OF TB CONTROL IN AFRICA. </dc:title>
</cp:coreProperties>
</file>