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517-D370-4488-814A-D838AF3D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F8A-B0A2-46F1-8E9E-ACBD9D1D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3E9-5EA8-43BD-B537-71BF34C2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C4DC-BEF6-4C78-830A-219DA5B2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CFE3-C382-4730-B393-A6D86348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3FAD-2B40-415B-A736-3761C6CE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9FD-429F-4A9B-AA8F-BD7586DC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AAE0-7801-40E4-B0C0-A31A0375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C4A-DAEE-4743-A1F4-71FF40B7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748-1EE9-430D-8F4C-D8AD156C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8F2-92C0-4AA7-9811-072D98A1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7BD-401A-4C6C-84D1-42B054C9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57BA-8417-46AA-AF52-5E5AE3D05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 of the Steering Committee for the Global Pl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006-2015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TB Diagnos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Giorgio Roscig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Objectives and Key Activities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 To develop new, improved tools for the detec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uberculosis disease, drug resistance and latent inf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use an evidence-based approach to determin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erformance characteristics of new, improved diagnostic tools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tection of tuberculosis disease, drug resistance and latent inf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demonstrate the epidemiological and economic impa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, improved diagnostic tools under programmatic conditions in devel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oun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In collaboration with the STOP TB Partnership &amp; 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ograms, to delineate a strategy for the introduction and adoption of prom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B diagnostics into resource-constrained set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5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 comprehensive advocacy and information strateg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 and improved TB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argets for Test Introduction Leading to Sustainable Adoption: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Resource needs for enabling infrastructure (2006-2015) totals 1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ference material bank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linical Trial Training and Lab Strengthening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Pre-qualification Projec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4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gulatory Harmoniz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Analysis Updat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1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entry schemes based on situ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52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nalys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WG secretariat/coordination and meetin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5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dvocacy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65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 towards Finalizing the Diagnostics WG Strategic Plan &amp; the WGs’ Contribution to the Global Plan II to STOP TB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52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rculation of the Draft Strategic Plan to all WG members for comment and direct input into Table 2, Key activities and Figure 5 (Targets for Test Introdu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aptation of existing mathematical model to better represent impact of new diagnostic tools o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ies of meetings with implementation working group representatives to determine which diagnostic test scenarios (Figure 5)  should be incorporated into core regional strategies and estimate their implementation cos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STOP TB Working Group on Diagnostics - Stakehol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00000" y="1916280"/>
            <a:ext cx="7488000" cy="4033440"/>
            <a:chOff x="900000" y="1916280"/>
            <a:chExt cx="7488000" cy="4033440"/>
          </a:xfrm>
        </p:grpSpPr>
        <p:sp>
          <p:nvSpPr>
            <p:cNvPr id="46" name=""/>
            <p:cNvSpPr/>
            <p:nvPr/>
          </p:nvSpPr>
          <p:spPr>
            <a:xfrm flipH="1" flipV="1">
              <a:off x="5171400" y="3984840"/>
              <a:ext cx="108288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065760" y="4255920"/>
              <a:ext cx="90252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171400" y="2847240"/>
              <a:ext cx="84168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509720" y="4538880"/>
              <a:ext cx="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983600" y="3908880"/>
              <a:ext cx="1382760" cy="3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5171400" y="3603240"/>
              <a:ext cx="660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7560" y="2375640"/>
              <a:ext cx="1143000" cy="204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20160" y="4604760"/>
              <a:ext cx="1744200" cy="661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59400" y="2847240"/>
              <a:ext cx="2013840" cy="564120"/>
            </a:xfrm>
            <a:prstGeom prst="rect">
              <a:avLst/>
            </a:prstGeom>
            <a:solidFill>
              <a:srgbClr val="fee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research instit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00000" y="4822200"/>
              <a:ext cx="2044440" cy="816480"/>
            </a:xfrm>
            <a:prstGeom prst="rect">
              <a:avLst/>
            </a:prstGeom>
            <a:solidFill>
              <a:srgbClr val="b76a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TB Programs/Reference Labora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72840" y="2565000"/>
              <a:ext cx="2315160" cy="5648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ade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7920" y="5385600"/>
              <a:ext cx="763560" cy="56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0360" y="4138560"/>
              <a:ext cx="672480" cy="32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n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52240" y="3755880"/>
              <a:ext cx="2068200" cy="64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ational  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7920" y="2910960"/>
              <a:ext cx="781920" cy="973440"/>
            </a:xfrm>
            <a:prstGeom prst="ellipse">
              <a:avLst/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e W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27080" y="1916280"/>
              <a:ext cx="1591200" cy="389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ing 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987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ion of the Stop TB WG on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o develop and introduce cost-effecti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new diagnostic tools that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wards control of the global 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 in the quality of patient c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dvocate and sponsor increased investment from the public and private sector in basic science that supports the development of diagnostic technolog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ontinuous mapping of landscape for promising technologies and regular dialogue with diagnostic technology and test develop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Facilitation of improved public and private sector stakeholder collaboration leading towards accelerated diagnostic tool development, evaluation, demonstration and market entry (test introduction and sustainable adop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argeted investment and management of product development in priority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Improve understanding, development and regulation of the diagnostics market in high burden countries aimed at encouraging application of potential new technologies to TB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easure the epidemiological and economic impact of new diagnostic tools in National TB Program set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ssistance to  governments and public health agencies in developing countries to evaluate the utility and cost-effectiveness or local appropriateness of new diagnostics and develop effective implementation schemes that maximize patient accessibil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Diagnostics Tools for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50600" y="1271520"/>
            <a:ext cx="7565760" cy="4678200"/>
            <a:chOff x="750600" y="1271520"/>
            <a:chExt cx="7565760" cy="4678200"/>
          </a:xfrm>
        </p:grpSpPr>
        <p:grpSp>
          <p:nvGrpSpPr>
            <p:cNvPr id="69" name=""/>
            <p:cNvGrpSpPr/>
            <p:nvPr/>
          </p:nvGrpSpPr>
          <p:grpSpPr>
            <a:xfrm>
              <a:off x="750600" y="1271520"/>
              <a:ext cx="2106720" cy="4678200"/>
              <a:chOff x="750600" y="1271520"/>
              <a:chExt cx="2106720" cy="4678200"/>
            </a:xfrm>
          </p:grpSpPr>
          <p:sp>
            <p:nvSpPr>
              <p:cNvPr id="70" name=""/>
              <p:cNvSpPr/>
              <p:nvPr/>
            </p:nvSpPr>
            <p:spPr>
              <a:xfrm>
                <a:off x="750600" y="1271520"/>
                <a:ext cx="210672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Purpo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0600" y="1929240"/>
                <a:ext cx="210672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Case Det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Drug Susceptibility Testing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Latent TB Infec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791800" y="1271520"/>
              <a:ext cx="5524560" cy="4678200"/>
              <a:chOff x="2791800" y="1271520"/>
              <a:chExt cx="5524560" cy="4678200"/>
            </a:xfrm>
          </p:grpSpPr>
          <p:sp>
            <p:nvSpPr>
              <p:cNvPr id="73" name=""/>
              <p:cNvSpPr/>
              <p:nvPr/>
            </p:nvSpPr>
            <p:spPr>
              <a:xfrm>
                <a:off x="2791800" y="1271520"/>
                <a:ext cx="552456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Test Indic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91800" y="1929240"/>
                <a:ext cx="552456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high bacterial load   (SS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low bacterial load   (SS -, Cx 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extra-pulmonary and pediatric T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down of estimated TB cases by AFB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628640"/>
          <a:ext cx="6912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6912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Diagnostics Development Pipeline: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7:45:05Z</dcterms:created>
  <dc:creator>Giorgio</dc:creator>
  <dc:description/>
  <dc:language>en-US</dc:language>
  <cp:lastModifiedBy>johnsoneb</cp:lastModifiedBy>
  <dcterms:modified xsi:type="dcterms:W3CDTF">2005-05-02T10:36:36Z</dcterms:modified>
  <cp:revision>32</cp:revision>
  <dc:subject/>
  <dc:title>Slide 1</dc:title>
</cp:coreProperties>
</file>