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FACA-6BB6-4D23-81A7-2D8F6B7006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52720" y="9426600"/>
            <a:ext cx="2943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9426600"/>
            <a:ext cx="2943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0B9C-4AE1-4EBF-87E6-03DAC0C0F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C780-8BAB-4E8E-9760-1ABA2D54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FEE7-FEA6-41D9-9B9A-C9AA3B62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A223-093F-4CA4-8921-5C2E49A5F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67CA-9ECA-4F80-ACD1-FD264048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172E-0E98-4AA5-8187-A533F581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F208-E4FC-471E-B10A-973A1F74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A20A-B821-4098-98B0-E7444192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C553-FEAF-45E3-BA34-252AFCBC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3101-E9B6-4302-90DC-F73BDD64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C503-6266-4F06-A4C8-17374631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0086-090A-4BCD-834D-25CC3DE3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6900-A92A-48D8-AA25-9B1FA0066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280" y="76320"/>
            <a:ext cx="88394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THE NEW GLOBAL PLAN TO STOP T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Times New Roman"/>
              </a:rPr>
              <a:t>ANALYSES OF IMPLEMENTATION, COST &amp; IMPAC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536724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ORKING GROUPS OF THE STOP TB PARTN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Times New Roman"/>
              </a:rPr>
              <a:t>WORLD HEALTH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24360" y="692280"/>
            <a:ext cx="3419640" cy="2162160"/>
          </a:xfrm>
          <a:prstGeom prst="irregularSeal2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9800000">
            <a:off x="6300720" y="1557000"/>
            <a:ext cx="20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ovisiona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38160" y="1374840"/>
            <a:ext cx="6639120" cy="425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38160" y="1374840"/>
            <a:ext cx="6639120" cy="4259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38160" y="1374840"/>
            <a:ext cx="1800" cy="425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41320" y="563400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41320" y="509760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41320" y="457848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41320" y="404172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41320" y="350532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41320" y="296856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41320" y="244800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41320" y="191124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41320" y="137484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38160" y="5634000"/>
            <a:ext cx="66391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83816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173400" y="5634000"/>
            <a:ext cx="144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9100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82444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14204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8477280" y="5634000"/>
            <a:ext cx="144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88040" y="1374840"/>
            <a:ext cx="747720" cy="1861920"/>
          </a:xfrm>
          <a:custGeom>
            <a:avLst/>
            <a:gdLst/>
            <a:ahLst/>
            <a:rect l="l" t="t" r="r" b="b"/>
            <a:pathLst>
              <a:path w="46" h="111">
                <a:moveTo>
                  <a:pt x="0" y="111"/>
                </a:moveTo>
                <a:lnTo>
                  <a:pt x="33" y="32"/>
                </a:lnTo>
                <a:lnTo>
                  <a:pt x="46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38160" y="1911240"/>
            <a:ext cx="6639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73400" y="3236760"/>
            <a:ext cx="2114640" cy="1810080"/>
          </a:xfrm>
          <a:custGeom>
            <a:avLst/>
            <a:gdLst/>
            <a:ahLst/>
            <a:rect l="l" t="t" r="r" b="b"/>
            <a:pathLst>
              <a:path w="130" h="108">
                <a:moveTo>
                  <a:pt x="0" y="108"/>
                </a:moveTo>
                <a:lnTo>
                  <a:pt x="16" y="92"/>
                </a:lnTo>
                <a:lnTo>
                  <a:pt x="32" y="84"/>
                </a:lnTo>
                <a:lnTo>
                  <a:pt x="49" y="73"/>
                </a:lnTo>
                <a:lnTo>
                  <a:pt x="65" y="67"/>
                </a:lnTo>
                <a:lnTo>
                  <a:pt x="81" y="54"/>
                </a:lnTo>
                <a:lnTo>
                  <a:pt x="98" y="40"/>
                </a:lnTo>
                <a:lnTo>
                  <a:pt x="114" y="24"/>
                </a:lnTo>
                <a:lnTo>
                  <a:pt x="13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73400" y="2984400"/>
            <a:ext cx="2114640" cy="704880"/>
          </a:xfrm>
          <a:custGeom>
            <a:avLst/>
            <a:gdLst/>
            <a:ahLst/>
            <a:rect l="l" t="t" r="r" b="b"/>
            <a:pathLst>
              <a:path w="130" h="42">
                <a:moveTo>
                  <a:pt x="0" y="42"/>
                </a:moveTo>
                <a:lnTo>
                  <a:pt x="16" y="30"/>
                </a:lnTo>
                <a:lnTo>
                  <a:pt x="32" y="30"/>
                </a:lnTo>
                <a:lnTo>
                  <a:pt x="49" y="29"/>
                </a:lnTo>
                <a:lnTo>
                  <a:pt x="65" y="24"/>
                </a:lnTo>
                <a:lnTo>
                  <a:pt x="81" y="25"/>
                </a:lnTo>
                <a:lnTo>
                  <a:pt x="98" y="21"/>
                </a:lnTo>
                <a:lnTo>
                  <a:pt x="114" y="15"/>
                </a:lnTo>
                <a:lnTo>
                  <a:pt x="13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79800" y="1558800"/>
            <a:ext cx="6297480" cy="4075200"/>
          </a:xfrm>
          <a:custGeom>
            <a:avLst/>
            <a:gdLst/>
            <a:ahLst/>
            <a:rect l="l" t="t" r="r" b="b"/>
            <a:pathLst>
              <a:path w="387" h="243">
                <a:moveTo>
                  <a:pt x="0" y="243"/>
                </a:moveTo>
                <a:lnTo>
                  <a:pt x="354" y="21"/>
                </a:lnTo>
                <a:lnTo>
                  <a:pt x="387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90960" y="4962600"/>
            <a:ext cx="1634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1240" y="4694400"/>
            <a:ext cx="1634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11520" y="4560840"/>
            <a:ext cx="16344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9440" y="4376880"/>
            <a:ext cx="162000" cy="1666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49720" y="4275000"/>
            <a:ext cx="16200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0000" y="4057560"/>
            <a:ext cx="16200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86480" y="3822840"/>
            <a:ext cx="1616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46760" y="3554280"/>
            <a:ext cx="16164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07040" y="3152880"/>
            <a:ext cx="162000" cy="1666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90960" y="36050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1240" y="34034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11520" y="34034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9440" y="3387600"/>
            <a:ext cx="16200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49720" y="3303720"/>
            <a:ext cx="16200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0000" y="3319560"/>
            <a:ext cx="16200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86480" y="3252960"/>
            <a:ext cx="16164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46760" y="3152880"/>
            <a:ext cx="16164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07040" y="2900520"/>
            <a:ext cx="16200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4400" y="201600"/>
            <a:ext cx="6243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17m DOTS patients since 199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22240" y="720720"/>
            <a:ext cx="3339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  <a:ea typeface="Arial"/>
              </a:rPr>
              <a:t>≈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US$ 5 bn 2001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32080" y="546588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68640" y="49291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68640" y="441000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68640" y="387360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68640" y="333684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68640" y="280044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68640" y="22795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68640" y="17431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68640" y="120636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1380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86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662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000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176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15256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33000" y="6321600"/>
            <a:ext cx="66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-1163880" y="3355200"/>
            <a:ext cx="2983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se detection r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-924840" y="3318840"/>
            <a:ext cx="3254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ear-positive cas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837000" y="3384720"/>
            <a:ext cx="476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33840" y="4141800"/>
            <a:ext cx="2848320" cy="75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98640" y="4175280"/>
            <a:ext cx="1969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verage rate of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97920" y="4527720"/>
            <a:ext cx="2486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gress 1995-20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53480" y="2011320"/>
            <a:ext cx="2768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ccelerated progres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53840" y="2363760"/>
            <a:ext cx="1405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arget 200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36080" y="1459080"/>
            <a:ext cx="1422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arget 70%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18160" y="4241880"/>
            <a:ext cx="167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OTS begi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82960" y="4611600"/>
            <a:ext cx="129960" cy="1005120"/>
          </a:xfrm>
          <a:custGeom>
            <a:avLst/>
            <a:gdLst/>
            <a:ahLst/>
            <a:rect l="l" t="t" r="r" b="b"/>
            <a:pathLst>
              <a:path w="82" h="633">
                <a:moveTo>
                  <a:pt x="41" y="10"/>
                </a:moveTo>
                <a:lnTo>
                  <a:pt x="51" y="581"/>
                </a:lnTo>
                <a:lnTo>
                  <a:pt x="51" y="591"/>
                </a:lnTo>
                <a:lnTo>
                  <a:pt x="41" y="591"/>
                </a:lnTo>
                <a:lnTo>
                  <a:pt x="41" y="591"/>
                </a:lnTo>
                <a:lnTo>
                  <a:pt x="41" y="581"/>
                </a:lnTo>
                <a:lnTo>
                  <a:pt x="31" y="10"/>
                </a:lnTo>
                <a:lnTo>
                  <a:pt x="31" y="0"/>
                </a:lnTo>
                <a:lnTo>
                  <a:pt x="41" y="0"/>
                </a:lnTo>
                <a:lnTo>
                  <a:pt x="41" y="0"/>
                </a:lnTo>
                <a:lnTo>
                  <a:pt x="41" y="10"/>
                </a:lnTo>
                <a:lnTo>
                  <a:pt x="41" y="10"/>
                </a:lnTo>
                <a:close/>
                <a:moveTo>
                  <a:pt x="82" y="538"/>
                </a:moveTo>
                <a:lnTo>
                  <a:pt x="51" y="633"/>
                </a:lnTo>
                <a:lnTo>
                  <a:pt x="0" y="549"/>
                </a:lnTo>
                <a:lnTo>
                  <a:pt x="82" y="538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22680" y="2414520"/>
            <a:ext cx="927360" cy="217440"/>
          </a:xfrm>
          <a:custGeom>
            <a:avLst/>
            <a:gdLst/>
            <a:ahLst/>
            <a:rect l="l" t="t" r="r" b="b"/>
            <a:pathLst>
              <a:path w="584" h="137">
                <a:moveTo>
                  <a:pt x="11" y="0"/>
                </a:moveTo>
                <a:lnTo>
                  <a:pt x="533" y="95"/>
                </a:lnTo>
                <a:lnTo>
                  <a:pt x="543" y="95"/>
                </a:lnTo>
                <a:lnTo>
                  <a:pt x="543" y="106"/>
                </a:lnTo>
                <a:lnTo>
                  <a:pt x="543" y="106"/>
                </a:lnTo>
                <a:lnTo>
                  <a:pt x="533" y="106"/>
                </a:lnTo>
                <a:lnTo>
                  <a:pt x="0" y="11"/>
                </a:lnTo>
                <a:lnTo>
                  <a:pt x="0" y="11"/>
                </a:lnTo>
                <a:lnTo>
                  <a:pt x="0" y="0"/>
                </a:lnTo>
                <a:lnTo>
                  <a:pt x="0" y="0"/>
                </a:lnTo>
                <a:lnTo>
                  <a:pt x="11" y="0"/>
                </a:lnTo>
                <a:lnTo>
                  <a:pt x="11" y="0"/>
                </a:lnTo>
                <a:close/>
                <a:moveTo>
                  <a:pt x="502" y="53"/>
                </a:moveTo>
                <a:lnTo>
                  <a:pt x="584" y="116"/>
                </a:lnTo>
                <a:lnTo>
                  <a:pt x="492" y="137"/>
                </a:lnTo>
                <a:lnTo>
                  <a:pt x="502" y="53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94480" y="3403440"/>
            <a:ext cx="554040" cy="621000"/>
          </a:xfrm>
          <a:custGeom>
            <a:avLst/>
            <a:gdLst/>
            <a:ahLst/>
            <a:rect l="l" t="t" r="r" b="b"/>
            <a:pathLst>
              <a:path w="349" h="391">
                <a:moveTo>
                  <a:pt x="338" y="391"/>
                </a:moveTo>
                <a:lnTo>
                  <a:pt x="21" y="32"/>
                </a:lnTo>
                <a:lnTo>
                  <a:pt x="21" y="32"/>
                </a:lnTo>
                <a:lnTo>
                  <a:pt x="21" y="21"/>
                </a:lnTo>
                <a:lnTo>
                  <a:pt x="31" y="21"/>
                </a:lnTo>
                <a:lnTo>
                  <a:pt x="31" y="21"/>
                </a:lnTo>
                <a:lnTo>
                  <a:pt x="349" y="380"/>
                </a:lnTo>
                <a:lnTo>
                  <a:pt x="349" y="391"/>
                </a:lnTo>
                <a:lnTo>
                  <a:pt x="349" y="391"/>
                </a:lnTo>
                <a:lnTo>
                  <a:pt x="349" y="391"/>
                </a:lnTo>
                <a:lnTo>
                  <a:pt x="338" y="391"/>
                </a:lnTo>
                <a:lnTo>
                  <a:pt x="338" y="391"/>
                </a:lnTo>
                <a:close/>
                <a:moveTo>
                  <a:pt x="21" y="85"/>
                </a:moveTo>
                <a:lnTo>
                  <a:pt x="0" y="0"/>
                </a:lnTo>
                <a:lnTo>
                  <a:pt x="82" y="32"/>
                </a:lnTo>
                <a:lnTo>
                  <a:pt x="21" y="85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orking groups of the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top TB Partner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73520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OTS Expa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OTS-P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B/H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iagno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acc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7. Advocacy, Communication &amp; Social Mobi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643280" y="1844640"/>
            <a:ext cx="3889440" cy="3673440"/>
            <a:chOff x="4643280" y="1844640"/>
            <a:chExt cx="3889440" cy="3673440"/>
          </a:xfrm>
        </p:grpSpPr>
        <p:sp>
          <p:nvSpPr>
            <p:cNvPr id="163" name=""/>
            <p:cNvSpPr/>
            <p:nvPr/>
          </p:nvSpPr>
          <p:spPr>
            <a:xfrm>
              <a:off x="4643280" y="1844640"/>
              <a:ext cx="3889440" cy="36734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56000" y="2781360"/>
              <a:ext cx="2159280" cy="2160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14560" y="335772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</a:rPr>
                <a:t>GP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14920" y="3213000"/>
              <a:ext cx="165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nalysis of costs and benefi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604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The New Strategy to Stop TB</a:t>
            </a:r>
            <a:br>
              <a:rPr sz="4000"/>
            </a:br>
            <a:r>
              <a:rPr b="1" i="1" lang="en-GB" sz="4400" spc="-1" strike="noStrike">
                <a:solidFill>
                  <a:srgbClr val="ffcc00"/>
                </a:solidFill>
                <a:latin typeface="Times New Roman"/>
                <a:ea typeface="Arial Unicode MS"/>
              </a:rPr>
              <a:t>Access to Effective Care for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2160360"/>
            <a:ext cx="910908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Consolidate D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Adapt D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Engage all provi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Mobilise commun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Promote R&amp;D for new to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Implementation of </a:t>
            </a:r>
            <a:br>
              <a:rPr sz="40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DOTS,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DOTS+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TB-H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484280"/>
            <a:ext cx="91440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TS enh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Expand DOTS, improve quality and effe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Community care, public-private or public-public mix (PPM), practical approach to lung health (P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New labs for culture and drug susceptibility testing (D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TS-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DST (new and retrea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Treatment (new) or retreatment (previous) MDR-T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B-H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Active search for TB among HIV-infected, with TB treatment or isoniazid preventive therapy (I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HIV testing for TB patients, with antiretroviral therapy (ART) and/or cotrimoxazole (CPT) + TB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vocacy, communication, social mob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323640"/>
            <a:ext cx="669780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Costing principles for GP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 for cost analysis designed to match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lans defined by W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pidemiological and demographic data in GP2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vailable unit cost dat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pective: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OTS provid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costs: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US$ 2006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s estimated each year 2006-2015 using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ngredients approach 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quantities of servic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it cost of the servi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quantities of services defined by W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nit costs defined per patient, per 500,000 population, per countr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eighted average at regional level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5661000"/>
            <a:ext cx="882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90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22233" t="36600" r="11763" b="24708"/>
          <a:stretch/>
        </p:blipFill>
        <p:spPr>
          <a:xfrm>
            <a:off x="0" y="1413000"/>
            <a:ext cx="8964720" cy="5229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0920" y="3716280"/>
            <a:ext cx="360360" cy="69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3932280"/>
            <a:ext cx="360360" cy="6984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148280"/>
            <a:ext cx="360360" cy="69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4363920"/>
            <a:ext cx="360360" cy="69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4579920"/>
            <a:ext cx="360360" cy="69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4795920"/>
            <a:ext cx="360360" cy="6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5011560"/>
            <a:ext cx="360360" cy="702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5227560"/>
            <a:ext cx="360360" cy="698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5443560"/>
            <a:ext cx="360360" cy="730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645000"/>
            <a:ext cx="10080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AFR high H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3832200"/>
            <a:ext cx="10080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AFR low H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4048200"/>
            <a:ext cx="1295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Central Eur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4264200"/>
            <a:ext cx="1295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astern Eur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4479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stablished Market Econom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4695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M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4911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L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12748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534348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W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46200" y="274680"/>
            <a:ext cx="626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Nine Epidemiological Regions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55640" y="765000"/>
            <a:ext cx="7632720" cy="59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11592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Times New Roman"/>
              </a:rPr>
              <a:t>A MODEL OF ADULT TUBERCUL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6920" y="6192720"/>
            <a:ext cx="280836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TB-HIV i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16360" y="6192720"/>
            <a:ext cx="360072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No MDR trans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378080" y="-100080"/>
          <a:ext cx="664992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8080" y="-100080"/>
                    <a:ext cx="66499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77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6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GLOBAL  PLAN 2006-15  </a:t>
            </a:r>
            <a:br>
              <a:rPr sz="4000"/>
            </a:br>
            <a:r>
              <a:rPr b="1" lang="en-GB" sz="3600" spc="-1" strike="noStrike">
                <a:solidFill>
                  <a:srgbClr val="cc0000"/>
                </a:solidFill>
                <a:latin typeface="Times New Roman"/>
              </a:rPr>
              <a:t>COST AND IMP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S/DOTS+/TB-HIV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otal ≈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30b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2.2 – 3.4 bn/year 2006-15 (cf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≈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2 bn in 2004-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st extra $$ for basic DOTS, b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DOTS+ E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TB-HIV Af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sts &gt;US$5bn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E Europe, Africa (60% S Africa), SE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DGs could be met in 4/7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less likely in Africa (both regions), E Eur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eware optimistic impact, underestimating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52560"/>
            <a:ext cx="9144000" cy="675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2565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" spc="-1" strike="noStrike">
                <a:solidFill>
                  <a:srgbClr val="ffffff"/>
                </a:solidFill>
                <a:latin typeface="Times New Roman"/>
              </a:rPr>
              <a:t>Global targets for TB control</a:t>
            </a:r>
            <a:br>
              <a:rPr sz="3700"/>
            </a:br>
            <a:r>
              <a:rPr b="1" lang="en-GB" sz="3700" spc="-1" strike="noStrike">
                <a:solidFill>
                  <a:srgbClr val="cc0000"/>
                </a:solidFill>
                <a:latin typeface="Times New Roman"/>
              </a:rPr>
              <a:t>MILLENNIUM DEVELOPMENT GOALS</a:t>
            </a:r>
            <a:br>
              <a:rPr sz="3700"/>
            </a:br>
            <a:r>
              <a:rPr b="1" lang="en-GB" sz="3700" spc="-1" strike="noStrike">
                <a:solidFill>
                  <a:srgbClr val="ffffff"/>
                </a:solidFill>
                <a:latin typeface="Times New Roman"/>
              </a:rPr>
              <a:t>"to have halted and begun to reverse incidence.."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914400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Times New Roman"/>
              </a:rPr>
              <a:t>Implemen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333399"/>
                </a:solidFill>
                <a:latin typeface="Times New Roman"/>
              </a:rPr>
              <a:t>Indicator 24 (target year 2005)  </a:t>
            </a: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Case detection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70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Treatment success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8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Times New Roman"/>
              </a:rPr>
              <a:t>Im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Times New Roman"/>
              </a:rPr>
              <a:t>Indicator 23 (target year 2015)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Prevalence (baseline 1990)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halve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Deaths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halve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68360" y="1292400"/>
          <a:ext cx="8280360" cy="5376600"/>
        </p:xfrm>
        <a:graphic>
          <a:graphicData uri="http://schemas.openxmlformats.org/drawingml/2006/table">
            <a:tbl>
              <a:tblPr/>
              <a:tblGrid>
                <a:gridCol w="4211640"/>
                <a:gridCol w="2454120"/>
                <a:gridCol w="1614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os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G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. DOTS expa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225 (4600 HB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5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. Adapting and improving DOTS (1+2 </a:t>
                      </a: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→ DOTS 2.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7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4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DR-T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8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. R&amp;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0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agno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ru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c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. Partner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. 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9126 (1825/y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37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539640" y="115920"/>
            <a:ext cx="806472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LOBAL PLA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IVE-YEAR BUDGET 2001-5 (US$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68360" y="1292400"/>
          <a:ext cx="8280360" cy="5376600"/>
        </p:xfrm>
        <a:graphic>
          <a:graphicData uri="http://schemas.openxmlformats.org/drawingml/2006/table">
            <a:tbl>
              <a:tblPr/>
              <a:tblGrid>
                <a:gridCol w="4211640"/>
                <a:gridCol w="2454120"/>
                <a:gridCol w="1614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os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. DOTS expa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760 (1425 HB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+515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. Adapting and improving DOTS (1+2 </a:t>
                      </a: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→ DOTS 2.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-12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8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DR-T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91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125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. R&amp;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48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+28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agno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8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3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ru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78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9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c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16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. Partner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-3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. 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239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15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39640" y="115920"/>
            <a:ext cx="80647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LOBAL PLA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cc00"/>
                </a:solidFill>
                <a:latin typeface="Times New Roman"/>
              </a:rPr>
              <a:t>UPDATED ANNUAL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BUDGET 2004-5 (US$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503208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35640" y="404640"/>
            <a:ext cx="3384360" cy="56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Data from 200 countries annual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80+ million patients since 198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17 million patients on DO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and '000s of provinces, districts, counties, oblas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≈</a:t>
            </a:r>
            <a:r>
              <a:rPr b="1" lang="en-GB" sz="3000" spc="-1" strike="noStrike">
                <a:solidFill>
                  <a:srgbClr val="ffcc00"/>
                </a:solidFill>
                <a:latin typeface="Times New Roman"/>
              </a:rPr>
              <a:t>US$ 5 bn 2001-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-69840"/>
            <a:ext cx="9144000" cy="7004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21:19:52Z</dcterms:created>
  <dc:creator>Dye</dc:creator>
  <dc:description/>
  <dc:language>en-US</dc:language>
  <cp:lastModifiedBy>Administrator</cp:lastModifiedBy>
  <cp:lastPrinted>2002-12-10T12:46:21Z</cp:lastPrinted>
  <dcterms:modified xsi:type="dcterms:W3CDTF">2005-05-01T06:59:07Z</dcterms:modified>
  <cp:revision>1064</cp:revision>
  <dc:subject/>
  <dc:title>No Slide Title</dc:title>
</cp:coreProperties>
</file>