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CFE-A432-4C47-9678-ACC1A83B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217-F28E-465E-9D9A-68BC7104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5BD-D1E8-4F14-81F4-B1912A8A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485-9323-4A67-BB8C-DA173EDA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4BBD9-833F-4A75-B7A8-96703C1830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88307-593C-4D7D-8A88-78737CC48F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60211-EC47-434C-AFDA-94CE5036BF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4E73F-0BCD-4B3A-AD4E-C712773049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D50F5-8BB2-4AEA-9E86-2BB474BB75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C500C-BA87-4C32-BD2C-24A3239C6E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B3E72-64AF-4FC7-9E44-99886700DA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A2CF-C5A8-49F8-B9ED-EA97029C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2DEF3-695C-4587-9A7A-8955956E4A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B3F45-DA4A-4745-8192-F930967D7B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25BFB-8FF8-4677-865D-CA19CD9524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D1830-7155-4118-AA57-4307FE39F6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4B3D1-1690-4E9F-B7C1-E64EC324F0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E1D-8EFA-441F-8075-407BF40C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B19-BF0C-4602-808D-B27D8DB6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D67-A1C8-48C2-8AC3-BA0BABAB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819-7C5D-4190-A8EF-1A71E615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610-687E-41B5-8311-A1190E3C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D3D-469C-481F-A768-111421D8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0B2-44C0-4185-BCAD-1A0DCC25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50A6-6AA4-4E02-912F-36329CF2D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99564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956720" y="6453000"/>
            <a:ext cx="730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0930-0A56-492A-A75B-A587D678228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6"/>
          </p:nvPr>
        </p:nvSpPr>
        <p:spPr>
          <a:xfrm>
            <a:off x="2700000" y="6165720"/>
            <a:ext cx="38163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High Level Mi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3885840"/>
            <a:ext cx="84247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troducing procedures for high level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0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Dr. Karam Sh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Dec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opt Guiding Principles for the conduct of High Level 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Review and decide on the HLM calendar of events for 2005 - 200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 of High Level Mission (H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ing and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enda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IGH LEVEL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gaging prominent partners / (CB members) to represent Stop TB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powerful political advocacy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rnational reputation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fluences key politicians &amp;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reates sustained leverage in support of Stop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making HLM mor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upport of countries and internation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most appropriate support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most appropriate STB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imely to import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ing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frame work for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 is based on the actual purpose of the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of mission (HoM) is selected by CB on basis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ituenc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level partnershi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B Partnership Secretariat senio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and HoM draft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orsement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review preferably prior to 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prepares form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prepares confidenti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makes logistics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ctual vis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d of Mission (HoM) assures quality performance and best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ve attitude and diplomatic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ctive image of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ed tasks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 is HLM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is HLM rappor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Reporting and follow-u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nsensus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conclusions &amp;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-back to 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to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(s) can be invited to provide follow-u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4818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LM Calendar 2005 -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7559640" cy="5981760"/>
        </p:xfrm>
        <a:graphic>
          <a:graphicData uri="http://schemas.openxmlformats.org/drawingml/2006/table">
            <a:tbl>
              <a:tblPr/>
              <a:tblGrid>
                <a:gridCol w="3816360"/>
                <a:gridCol w="1942920"/>
                <a:gridCol w="18003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Summit Kharto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East Asi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 Pacific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d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(PEPFAR, Congress, USA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3:59:03Z</dcterms:created>
  <dc:creator>steenbergeng</dc:creator>
  <dc:description/>
  <dc:language>en-US</dc:language>
  <cp:lastModifiedBy>bakerl</cp:lastModifiedBy>
  <dcterms:modified xsi:type="dcterms:W3CDTF">2005-04-27T11:03:42Z</dcterms:modified>
  <cp:revision>3</cp:revision>
  <dc:subject/>
  <dc:title>High Level Missions</dc:title>
</cp:coreProperties>
</file>